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4.png" ContentType="image/png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png" ContentType="image/png"/>
  <Override PartName="/ppt/media/image35.png" ContentType="image/png"/>
  <Override PartName="/ppt/media/image8.wmf" ContentType="image/x-wmf"/>
  <Override PartName="/ppt/media/image17.wmf" ContentType="image/x-wmf"/>
  <Override PartName="/ppt/media/image13.wmf" ContentType="image/x-wmf"/>
  <Override PartName="/ppt/media/image38.png" ContentType="image/png"/>
  <Override PartName="/ppt/media/image41.wmf" ContentType="image/x-wmf"/>
  <Override PartName="/ppt/media/image39.wmf" ContentType="image/x-wmf"/>
  <Override PartName="/ppt/media/image40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43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508-F14E-4E48-AD79-9D66DAB0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13B-79AF-4978-A78C-AC332A16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6F4-31DF-4FD3-A0E6-287E986C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03E-4317-4227-9D7A-B74B2D7F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548F-6417-4D90-95E0-DC32A1BD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E89C-6AA5-405E-A209-7EDDF443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B428-61B1-4A55-B9A9-792784D8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CE99-1F09-4AA0-AF9A-41C8CBB0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7F96-005B-4DE6-8B9E-DA245E12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733C-0B3A-44F1-8AEB-AB49B68C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4D41-CA5E-449D-B9A1-EC1AA6CC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065-A8C4-4EF5-B5A6-22F2DD7D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1612-B925-4666-A973-8A7E8CCA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A41A-5FBC-4857-BB50-805E821C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834A-C290-440D-8423-F7A0ED09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6259-ABA6-4A48-82D4-44EA0082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0355-465D-489E-AEAE-F1F7D589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74A4-B448-4513-9FC8-0D883E9A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FB9C-B600-4268-A7CD-2705A643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FA79A-0EBB-4AEE-B4B1-62EA54AC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09061-5DF8-42EA-AF58-EA16FBDB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B365F-7A7D-4729-BBB3-A59019F2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0F5-AFF4-47C6-B6FD-DE1475DC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796D9-B4E0-4EF3-8CF3-3884DA5D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84ED-76D0-4F96-B291-CA3FB37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8B3C-8749-4773-8BE8-9EE98CAB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0457-30B5-464A-8F41-7AC1EC68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78EE-F3A1-485C-8E98-6DCCE66A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72AA-63E5-42D7-B0DD-9AADDCA5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A691-C466-46D5-B449-93D8FE8D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CCF-A931-448B-8AE6-F19F8BFD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A0E-4B1A-4D87-8915-F6B64747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88B-1B30-4AD9-9521-2EF0AF2D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90A-3BE1-46DA-BA0B-0365480E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E12-050A-4CA7-A0E9-AAD2CCE1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0AD-04B8-4815-9B8C-6FBEF01A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1B67-3175-4ACE-8F34-C7BBF0EB2A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FCC6-BEF1-4543-B7A4-211065CA69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C6DF-B587-4371-A09A-71E9C271EB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8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讲练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3880" y="1963800"/>
          <a:ext cx="6096240" cy="293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63800"/>
                    <a:ext cx="609624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8760" y="52552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8960" y="1197000"/>
          <a:ext cx="8447040" cy="534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97000"/>
                    <a:ext cx="844704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1312920" y="1052640"/>
            <a:ext cx="21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典型思想方法分析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8960" y="1930320"/>
          <a:ext cx="844704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1065960" y="105264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训练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18960" y="1930320"/>
          <a:ext cx="8447040" cy="42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05280" y="1881360"/>
            <a:ext cx="3133440" cy="30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18960" y="1330200"/>
          <a:ext cx="844704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30200"/>
                    <a:ext cx="844704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18960" y="1241280"/>
          <a:ext cx="8447040" cy="535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241280"/>
                    <a:ext cx="8447040" cy="535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1063440" y="105264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训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18960" y="1930320"/>
          <a:ext cx="844704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516360" y="26215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90640" y="2100240"/>
            <a:ext cx="736272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18960" y="1341360"/>
          <a:ext cx="844704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41360"/>
                    <a:ext cx="84470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8240400" y="144036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18960" y="3005280"/>
          <a:ext cx="8447040" cy="452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960" y="3005280"/>
                    <a:ext cx="8447040" cy="45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3016800" y="35582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063440" y="105264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训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8960" y="1930320"/>
          <a:ext cx="844704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294000" y="1793880"/>
          <a:ext cx="1422360" cy="84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4000" y="1793880"/>
                    <a:ext cx="142236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1063440" y="105264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训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18960" y="1930320"/>
          <a:ext cx="844704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511960" y="2448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780000" y="3573360"/>
            <a:ext cx="3105000" cy="218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18960" y="1341360"/>
          <a:ext cx="844704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41360"/>
                    <a:ext cx="84470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093080" y="1700280"/>
          <a:ext cx="696960" cy="69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1700280"/>
                    <a:ext cx="6969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18960" y="1335240"/>
          <a:ext cx="8447040" cy="48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35240"/>
                    <a:ext cx="844704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900000" y="1989000"/>
          <a:ext cx="696960" cy="69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989000"/>
                    <a:ext cx="6969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18960" y="1335240"/>
          <a:ext cx="8447040" cy="48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35240"/>
                    <a:ext cx="844704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18960" y="1335240"/>
          <a:ext cx="8447040" cy="48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335240"/>
                    <a:ext cx="844704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1063440" y="105264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训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18960" y="1930320"/>
          <a:ext cx="844704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66960" y="2286000"/>
            <a:ext cx="7210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18960" y="590400"/>
          <a:ext cx="84470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590400"/>
                    <a:ext cx="84470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18960" y="1268280"/>
          <a:ext cx="844704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268280"/>
                    <a:ext cx="84470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110040" y="1504800"/>
            <a:ext cx="2923920" cy="384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18960" y="1930320"/>
          <a:ext cx="8447040" cy="42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219640" y="1773360"/>
          <a:ext cx="1393920" cy="82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773360"/>
                    <a:ext cx="139392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18960" y="1020600"/>
          <a:ext cx="844704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20600"/>
                    <a:ext cx="844704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/>
          <p:nvPr/>
        </p:nvSpPr>
        <p:spPr>
          <a:xfrm>
            <a:off x="1063440" y="105264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训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18960" y="1930320"/>
          <a:ext cx="844704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52480" y="1595520"/>
            <a:ext cx="5639040" cy="366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18960" y="1052640"/>
          <a:ext cx="844704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2640"/>
                    <a:ext cx="844704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18960" y="981000"/>
          <a:ext cx="844704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981000"/>
                    <a:ext cx="84470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18960" y="1125360"/>
          <a:ext cx="8447040" cy="515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125360"/>
                    <a:ext cx="844704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46440" y="179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阶段综合测试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月考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黑体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18960" y="1279440"/>
          <a:ext cx="844704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279440"/>
                    <a:ext cx="84470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2938680" cy="257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1063440" y="105264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训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18960" y="1930320"/>
          <a:ext cx="8447040" cy="43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570840" y="2865960"/>
            <a:ext cx="21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cos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α</a:t>
            </a: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，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sin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α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8960" y="1268280"/>
          <a:ext cx="8447040" cy="47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268280"/>
                    <a:ext cx="8447040" cy="47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403280" y="1873080"/>
          <a:ext cx="1393920" cy="827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873080"/>
                    <a:ext cx="1393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1063440" y="1052640"/>
            <a:ext cx="13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针对训练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】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18960" y="1930320"/>
          <a:ext cx="844704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930320"/>
                    <a:ext cx="84470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90920" y="2000160"/>
            <a:ext cx="39621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8960" y="1052640"/>
          <a:ext cx="8447040" cy="534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2640"/>
                    <a:ext cx="84470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384720" cy="191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62760" y="1792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8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440000"/>
            <a:ext cx="889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小刚同学在綦江南州广场上观测新华书店楼房墙上的电子屏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小刚的眼睛，测得屏幕下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的仰角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然后他正对屏幕方向前进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到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，又测得该屏幕上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的仰角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延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楼房垂直相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测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请你帮小刚求出该屏幕上端与下端之间的距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果保留根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s</cp:lastModifiedBy>
  <dcterms:modified xsi:type="dcterms:W3CDTF">2012-07-21T02:40:39Z</dcterms:modified>
  <cp:revision>539</cp:revision>
  <dc:subject/>
  <dc:title>幻灯片 1</dc:title>
</cp:coreProperties>
</file>