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7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10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15.wmf" ContentType="image/x-wmf"/>
  <Override PartName="/ppt/media/image32.png" ContentType="image/png"/>
  <Override PartName="/ppt/media/image2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7.wmf" ContentType="image/x-wmf"/>
  <Override PartName="/ppt/media/image18.png" ContentType="image/png"/>
  <Override PartName="/ppt/media/image20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86E-2F3F-477D-960A-FE29F9F0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EAD-F61C-4723-9AD3-0126A3CA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8E0-6B83-4799-B505-25B936A1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62E-87B8-41E2-B038-EFA72D82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80F2-83F0-4BB3-9D08-CE2DE062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E338-455F-4240-B6B9-78A27FDE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8A95-345E-4334-BA81-58A1BBD1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B41C-30EC-4772-85D8-F49D641B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A16-E4DB-4C54-9B0E-6D641705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DC87-B587-4253-9329-4C9658CF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3F8F-F843-4FA9-9CB0-12D17783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783-CAD8-47DB-957F-2B9B8171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399E-6014-42A8-B24A-D69D2299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3908-83B8-4C01-BF12-3C37E371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58FE-17F8-47A6-AB5A-393A2DC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B1CC-0643-4389-85B5-A2A433F9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EC79-3351-4802-9027-1C81E208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40DC-E86A-499E-AF3B-BEBC0F34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5F8C-9E50-4474-853F-22C9EBFD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4F2C-87F9-4E7D-A495-D1290EBE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C4EA-3BFF-45C4-9F38-ED27615C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B943-DE81-4BEA-B650-E8C242F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849-01E2-4CA2-8D27-6D12EB60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7995-D1F5-4089-BD72-300CECEF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B549-2108-4B2C-BE8F-9D51D7EB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AAF5-1FF7-4C21-A6BB-4BA7EB2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CE14-4736-47B3-92C7-7273C48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C124-D9C1-4487-B557-349039D7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ECAA8-48A5-4302-8E54-B735F423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B03C-A017-4107-B6BD-C75F4CC4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0EA-0BF9-4134-AF13-873B2926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F97-6645-4146-88F3-F1B168A4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D71-8FEA-46BD-BC3E-A0627423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1B8-8F98-4A71-8413-372C723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5D3-02FB-4920-9B0E-8D03C38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062-A26A-4C47-BA79-709BFC6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553-0C8D-4C21-B546-EF85C30899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F4CD-1961-48FB-A647-F4C9D2EF56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E675-B8A6-458D-9DB2-0A40D4BAA8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7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1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28840" cy="221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6400" y="1289160"/>
          <a:ext cx="8071200" cy="847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89160"/>
                    <a:ext cx="8071200" cy="84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6400" y="1052640"/>
          <a:ext cx="8071200" cy="847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052640"/>
                    <a:ext cx="8071200" cy="84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86800" y="179280"/>
            <a:ext cx="28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065960" y="105264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70028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有一块三角形土地，它的底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某单位要沿着底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修一座底面是矩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大楼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若大楼的宽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求这个矩形的面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11640" y="3284640"/>
            <a:ext cx="458136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6400" y="1706400"/>
          <a:ext cx="8071200" cy="51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706400"/>
                    <a:ext cx="807120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268280"/>
            <a:ext cx="828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块锐角三角形余料，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要把它加工成矩形零件，使一边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其余两个顶点分别在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这个矩形是正方形，那么边长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这个矩形的长是宽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，则边长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52840" y="1819440"/>
            <a:ext cx="3838320" cy="321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36400" y="1700280"/>
          <a:ext cx="8071200" cy="36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700280"/>
                    <a:ext cx="80712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268280"/>
            <a:ext cx="828036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块直角三角形木板的一条直角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工人师傅要把它加工成一个面积最大的正方形桌面，请甲、乙两位同学进行设计加工方案，甲的设计方案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乙的设计方案如图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认为哪位同学设计的方案较好？试说明理由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工损耗忽略不计，计算结果中可保留分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00320" y="1467000"/>
            <a:ext cx="6543360" cy="39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86800" y="179280"/>
            <a:ext cx="28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065960" y="105264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在方格纸中，每个小格的顶点称为格点，以格点连线为边的三角形叫格点三角形．在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方格中，作格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似比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824480" y="306756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(4,0)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(3,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5120" y="1052640"/>
          <a:ext cx="831528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052640"/>
                    <a:ext cx="8315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5120" y="1201680"/>
          <a:ext cx="8315280" cy="49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01680"/>
                    <a:ext cx="831528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86800" y="179280"/>
            <a:ext cx="28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312920" y="1052640"/>
            <a:ext cx="21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典型思想方法分析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18960" y="1930320"/>
          <a:ext cx="844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86800" y="179280"/>
            <a:ext cx="28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1065960" y="105264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18960" y="1930320"/>
          <a:ext cx="844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5120" y="1273320"/>
          <a:ext cx="8229600" cy="49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73320"/>
                    <a:ext cx="82296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14440" y="1828800"/>
            <a:ext cx="6315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5120" y="1557360"/>
          <a:ext cx="8229600" cy="34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557360"/>
                    <a:ext cx="82296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5120" y="1227240"/>
          <a:ext cx="8359920" cy="52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27240"/>
                    <a:ext cx="835992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08720" y="3284640"/>
            <a:ext cx="270648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95280" y="1341360"/>
          <a:ext cx="835992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35992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7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19440" y="1623960"/>
            <a:ext cx="370512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36120" y="1792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1065960" y="105264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84464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若使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顶点的三角形与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顶点的三角形相似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777960" y="32691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5.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306684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18960" y="1131840"/>
          <a:ext cx="8447040" cy="42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31840"/>
                    <a:ext cx="844704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06440" y="1197000"/>
          <a:ext cx="849132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97000"/>
                    <a:ext cx="849132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364000" y="2492280"/>
            <a:ext cx="224820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06440" y="1268280"/>
          <a:ext cx="849132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68280"/>
                    <a:ext cx="849132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27622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36120" y="1792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065960" y="105264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84464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在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方格纸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个小方格的边长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以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位似中心，把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缩小为原来的一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改变方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得到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用适当的方式描述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位置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33680" y="1300320"/>
            <a:ext cx="5876640" cy="425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341360"/>
            <a:ext cx="864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连接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OA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OB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OC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在网格上分别找它们的中点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′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B′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C′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连接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′B′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B′C′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′C′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则△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′B′C′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为符合条件的三角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本题答案不唯一，可以点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B′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为原点建立如图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27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21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所示的直角坐标系，则三点的坐标分别为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′(1,2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B′(0,0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C′(3,0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1341360"/>
            <a:ext cx="864216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三个顶点坐标分别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0,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1,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3,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在第三象限内画出以原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位似中心，将这个三角形放大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写出变换后得到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各个顶点的坐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48080" cy="426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81280" y="5410800"/>
            <a:ext cx="6893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30000">
                <a:solidFill>
                  <a:srgbClr val="145bf8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(0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－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B</a:t>
            </a:r>
            <a:r>
              <a:rPr b="1" lang="en-US" sz="2400" spc="-1" strike="noStrike" baseline="-30000">
                <a:solidFill>
                  <a:srgbClr val="145bf8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－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4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C</a:t>
            </a:r>
            <a:r>
              <a:rPr b="1" lang="en-US" sz="2400" spc="-1" strike="noStrike" baseline="-30000">
                <a:solidFill>
                  <a:srgbClr val="145bf8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－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画图略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1341360"/>
            <a:ext cx="864216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图中的小方格都是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正方形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关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位似中心的位似图形，它们的顶点都在小正方形的顶点上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出位似中心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位似比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位似中心，再画一个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使它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位似比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05264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格纸中的格点，为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∽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点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3258720" y="20595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92360" y="3139920"/>
            <a:ext cx="4998960" cy="28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728720" y="1276200"/>
            <a:ext cx="5686560" cy="430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84464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提示：位似中心在各组对应点连线的交点处．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位似比为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1∶2.(3)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略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36120" y="1792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1117080" y="1052640"/>
            <a:ext cx="22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1844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甲、乙两盏路灯底部间的距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一天晚上，当小华走到距路灯乙底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处时，发现自己的身影顶部正好接触路灯乙的底部．已知小华的身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那么路灯甲的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828360" y="3240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341360"/>
            <a:ext cx="864216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小玲用下面的方法来测量学校教学大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高度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水平地面上放一面平面镜，镜子与教学大楼的距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当她与镜子的距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时，她刚好能从镜子中看到教学大楼的顶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她的眼睛距离地面高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．请你帮助小玲计算出教学大楼的高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注意：根据光的反射定律，反射角等于入射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38560" y="1757520"/>
            <a:ext cx="4466880" cy="334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2040" y="1197000"/>
          <a:ext cx="8201160" cy="50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97000"/>
                    <a:ext cx="820116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341360"/>
            <a:ext cx="828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正方格中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顶点都在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小正方形的顶点上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填空：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相似，并证明你的结论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6400" y="1262160"/>
          <a:ext cx="8331480" cy="47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62160"/>
                    <a:ext cx="8331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86800" y="179280"/>
            <a:ext cx="28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1117080" y="1052640"/>
            <a:ext cx="22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70028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等边三角形，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证：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P∽△PD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40000" y="2997360"/>
            <a:ext cx="4219560" cy="234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111320"/>
            <a:ext cx="8280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黑体"/>
              </a:rPr>
              <a:t>证明：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∵△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PCD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是等边三角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PCD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PDC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PCA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PDB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120°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PC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＋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6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∵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PB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120°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PC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＋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BPD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＋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DPC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120°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PC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＋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BPD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BP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∴△</a:t>
            </a:r>
            <a:r>
              <a:rPr b="1" lang="en-US" sz="2400" spc="-1" strike="noStrike">
                <a:solidFill>
                  <a:srgbClr val="145bf8"/>
                </a:solidFill>
                <a:latin typeface="Times New Roman"/>
                <a:ea typeface="仿宋_GB2312"/>
              </a:rPr>
              <a:t>ACP∽△PD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341360"/>
            <a:ext cx="82803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运动．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试确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满足怎样的关系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间的函数关系式还成立？试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</cp:lastModifiedBy>
  <dcterms:modified xsi:type="dcterms:W3CDTF">2012-07-21T02:35:30Z</dcterms:modified>
  <cp:revision>539</cp:revision>
  <dc:subject/>
  <dc:title>幻灯片 1</dc:title>
</cp:coreProperties>
</file>