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3.wmf" ContentType="image/x-wmf"/>
  <Override PartName="/ppt/media/image27.wmf" ContentType="image/x-wmf"/>
  <Override PartName="/ppt/media/image4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F35-4D61-480B-BA5D-9DD5FC6F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39E-0152-4DA1-8569-CE4C9969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ED2-FE4C-4A88-B346-EC8E23F9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202-3E35-432A-9FBD-C1D3ECA1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66AB-7A2E-47D7-A510-4B1C7A91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BD58-4BF0-471F-9808-4A88408D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42F5-912D-484D-A483-D542B35D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BC45-B00B-4FC9-BEC5-D736A1F2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7DAD-1729-4C5F-ACBD-AACDEF4F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B91D-D940-4C46-9D7F-5CA1952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0277-EC4F-45C3-A82C-6F47680C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4E0-39DB-47A7-8EB3-11834C61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F686-193B-453E-A330-F605B60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7A89-B0B6-4DAC-BA57-CCA10321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FC74-57F2-4B3C-BA6A-71E54D4E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2C8F-4BAA-4D65-BF8C-CA15E591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0E8B-9AFE-4427-A737-B6E965D8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6918-BD96-4205-9154-09BEAF52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178B-C68E-4408-957C-027FD588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2C9E-2483-4C33-804F-8B8B4B56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8453C-79D6-4FCC-86A8-474BCD1F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5F19-E1F3-4C65-84C2-D35F5F9B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54A-57DD-4CED-AE6E-925E8767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96A6C-CFD8-44F2-B7DD-29EF4EB0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CD09-39ED-43E3-B3A8-4A65453C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7AE4-C08E-41B7-9E3E-8AA466DB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02A3-86DF-4379-AA57-4FA64160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7CA31-B42C-4151-9BD4-3A03D7E2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5FD0-3DCD-4C6E-AD06-33121CFE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CA9D-3558-4669-ACA3-5210B9DE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C10B-2A5A-483A-BB6A-0DEEB5C0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E88-D008-4ADD-8844-018E34BB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84D-B6DA-4CCB-9F9F-24103DF0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349-17CF-4E80-AFE7-1061CE81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64D-DFC8-428B-A7A8-BD912FAA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C62-2219-4409-8B86-9E2E13CF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9D09-C131-4F57-87F0-D6AC78952B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91E1-2F3D-426B-A8C2-A47C233792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725-0ECC-4F8E-9C3F-B4EBFE982B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6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1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2040" y="1484280"/>
          <a:ext cx="806940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4280"/>
                    <a:ext cx="80694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3840" y="1784520"/>
            <a:ext cx="86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在同一直角坐标系中，一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可能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427040" y="1125360"/>
            <a:ext cx="4322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抛物线和其他函数图象的共存问题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/>
          <p:nvPr/>
        </p:nvSpPr>
        <p:spPr>
          <a:xfrm>
            <a:off x="4078080" y="23342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47640" y="3068640"/>
          <a:ext cx="6096240" cy="184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68640"/>
                    <a:ext cx="609624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55120" y="508356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92040" y="1236600"/>
          <a:ext cx="8475840" cy="60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236600"/>
                    <a:ext cx="847584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2040" y="1508040"/>
          <a:ext cx="8475840" cy="43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08040"/>
                    <a:ext cx="847584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92040" y="1484280"/>
          <a:ext cx="806940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4280"/>
                    <a:ext cx="80694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3840" y="186372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宋体"/>
                <a:ea typeface="Courier New"/>
              </a:rPr>
              <a:t>4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先向右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，再向下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位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两次平移后二次函数的解析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经过两次平移后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的交点坐标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2"/>
          <p:cNvSpPr/>
          <p:nvPr/>
        </p:nvSpPr>
        <p:spPr>
          <a:xfrm>
            <a:off x="930600" y="1125360"/>
            <a:ext cx="27806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二次函数的平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393840" y="443700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抛物线平移后形状、大小和开口方向都没有发生改变，所以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值不变；抛物线的平移可以转化为顶点的平移，再利用顶点式可求出解析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8000" y="1052640"/>
          <a:ext cx="894060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052640"/>
                    <a:ext cx="894060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2040" y="1481040"/>
          <a:ext cx="827244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1040"/>
                    <a:ext cx="82724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1115640" y="1125360"/>
            <a:ext cx="3329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五　二次函数解析式的求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33440" y="1844640"/>
          <a:ext cx="831528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844640"/>
                    <a:ext cx="831528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393840" y="1125360"/>
            <a:ext cx="86421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点的坐标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点的抛物线解析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393840" y="264960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利用菱形的四条边相等及对边平行结合直角坐标系可求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三点的坐标，根据三点的坐标可以通过设一般式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来求抛物线的解析式，因为点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抛物线的顶点，所以也可以通过设顶点式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(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h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来求抛物线的解析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573200"/>
            <a:ext cx="8642160" cy="37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般地，形如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      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常数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函数，叫做二次函数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号右边必须是整式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自变量的最高次数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特殊的二次函数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图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函数的图象是一条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　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它是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称图形，其对称轴平行于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轴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次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的形状、大小、开口方向只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关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964960" y="1556280"/>
            <a:ext cx="200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y</a:t>
            </a:r>
            <a:r>
              <a:rPr b="1" lang="zh-CN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＝</a:t>
            </a:r>
            <a:r>
              <a:rPr b="1" lang="en-US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ax</a:t>
            </a:r>
            <a:r>
              <a:rPr b="1" lang="en-US" sz="2200" spc="-1" strike="noStrike" baseline="30000">
                <a:solidFill>
                  <a:srgbClr val="c0504d"/>
                </a:solidFill>
                <a:latin typeface="Times New Roman"/>
                <a:ea typeface="仿宋_GB2312"/>
              </a:rPr>
              <a:t>2</a:t>
            </a:r>
            <a:r>
              <a:rPr b="1" lang="zh-CN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bx</a:t>
            </a:r>
            <a:r>
              <a:rPr b="1" lang="zh-CN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＋</a:t>
            </a:r>
            <a:r>
              <a:rPr b="1" lang="en-US" sz="22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7301880" y="1565280"/>
            <a:ext cx="64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504d"/>
                </a:solidFill>
                <a:latin typeface="Arial"/>
              </a:rPr>
              <a:t>a≠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993480" y="4075560"/>
            <a:ext cx="7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504d"/>
                </a:solidFill>
                <a:latin typeface="Arial"/>
              </a:rPr>
              <a:t>抛物线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6686280" y="415908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0504d"/>
                </a:solidFill>
                <a:latin typeface="Arial"/>
              </a:rPr>
              <a:t>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92040" y="1413000"/>
          <a:ext cx="8418600" cy="534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13000"/>
                    <a:ext cx="841860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2040" y="1582560"/>
          <a:ext cx="841860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582560"/>
                    <a:ext cx="84186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92040" y="1481040"/>
          <a:ext cx="8489880" cy="377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481040"/>
                    <a:ext cx="848988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6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2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1893960"/>
            <a:ext cx="8642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与一元二次方程的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于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(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就变成了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(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的交点有三种情况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有两个交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MS Mincho"/>
              </a:rPr>
              <a:t>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有两个不相等的实数根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157320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只有一个交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MS Mincho"/>
              </a:rPr>
              <a:t>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两个相等的实数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没有交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MS Mincho"/>
              </a:rPr>
              <a:t>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元二次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没有实数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有交点时，其交点横坐标就是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2"/>
          <p:cNvSpPr/>
          <p:nvPr/>
        </p:nvSpPr>
        <p:spPr>
          <a:xfrm>
            <a:off x="1972440" y="1700280"/>
            <a:ext cx="2006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一　二次函数与一元二次方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/>
          <p:nvPr/>
        </p:nvSpPr>
        <p:spPr>
          <a:xfrm>
            <a:off x="393840" y="2359080"/>
            <a:ext cx="86421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a≠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图象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根据图象解答下列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根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等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&gt;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解集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方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没有实数根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/>
          <p:nvPr/>
        </p:nvSpPr>
        <p:spPr>
          <a:xfrm>
            <a:off x="5660280" y="3394800"/>
            <a:ext cx="2216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c0504d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c0504d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3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5643720" y="40676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－</a:t>
            </a: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仿宋_GB2312"/>
              </a:rPr>
              <a:t>1&lt;x&lt;3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735480" y="519948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k&gt;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924280" y="1638360"/>
            <a:ext cx="329544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/>
          <p:nvPr/>
        </p:nvSpPr>
        <p:spPr>
          <a:xfrm>
            <a:off x="393840" y="1197000"/>
            <a:ext cx="864216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方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根即抛物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(a≠0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轴交点的横坐标，观察图象可知对称轴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抛物线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轴一个交点的横坐标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则抛物线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轴另一个交点的横坐标为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方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两根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；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不等式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&gt;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解集即抛物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(a≠0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位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轴上方的那一段的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范围，观察图象得不等式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&gt;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解集为－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1&lt;x&lt;3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；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因为方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没有实数根，所以抛物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(a≠0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直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没有交点，所以当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&gt;4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时，方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没有实数根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取值范围是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&gt;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36400" y="1552680"/>
          <a:ext cx="8288640" cy="288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552680"/>
                    <a:ext cx="8288640" cy="28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36120" y="179280"/>
            <a:ext cx="27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783360" y="105156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二次函数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34880" y="1989000"/>
          <a:ext cx="8259840" cy="53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989000"/>
                    <a:ext cx="825984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558240" y="30265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开口向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6360120" y="302652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开口向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3558600" y="36075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开口向下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6374880" y="360756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开口向下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752560" y="4067280"/>
          <a:ext cx="2467080" cy="123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2560" y="4067280"/>
                    <a:ext cx="24670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38760" y="4394880"/>
            <a:ext cx="22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h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　，　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994680" y="981000"/>
            <a:ext cx="3042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方案决策型应用题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/>
          <p:nvPr/>
        </p:nvSpPr>
        <p:spPr>
          <a:xfrm>
            <a:off x="393840" y="1581120"/>
            <a:ext cx="8642160" cy="35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2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某商场试销一种成本为每件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的服装，规定试销期间销售单价不低于成本单价，且获利不得高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%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经试销发现，销售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件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销售单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符合一次函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一次函数的表达式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该商场获得利润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试写出利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销售单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间的关系式；销售单价定为多少元时，商场可获得最大利润，最大利润是多少元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该商场获得利润不低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试确定销售单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范围．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1341360"/>
            <a:ext cx="864216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 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将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65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55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75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5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代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k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中解方程组即可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根据利润等于每件利润乘以销售量得到利润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W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销售单价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之间的关系式．综合顶点式和自变量的取值范围可求得最大利润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令利润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W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5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将二次函数转化为一元二次方程，然后求解并作出判断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65120" y="1052640"/>
          <a:ext cx="833112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052640"/>
                    <a:ext cx="833112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65120" y="1328760"/>
          <a:ext cx="8331120" cy="51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328760"/>
                    <a:ext cx="8331120" cy="51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6400" y="1552680"/>
          <a:ext cx="817272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552680"/>
                    <a:ext cx="817272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2"/>
          <p:cNvSpPr/>
          <p:nvPr/>
        </p:nvSpPr>
        <p:spPr>
          <a:xfrm>
            <a:off x="1239120" y="981000"/>
            <a:ext cx="3695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与二次函数有关的面积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393840" y="1581120"/>
            <a:ext cx="864216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梯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∥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⊥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将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沿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折叠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落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含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代数式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面积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函数关系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何值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最大值？并求出这个最大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6400" y="1552680"/>
          <a:ext cx="805680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552680"/>
                    <a:ext cx="80568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134136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 (1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由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90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45°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可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根据轴对称的性质得到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所以可求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长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利用梯形的面积公式就可以确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S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函数关系式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3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将二次函数化为顶点式，然后确定最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65120" y="1106640"/>
          <a:ext cx="8244000" cy="60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106640"/>
                    <a:ext cx="8244000" cy="60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5120" y="1263600"/>
          <a:ext cx="8244000" cy="43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263600"/>
                    <a:ext cx="82440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34880" y="1628640"/>
          <a:ext cx="8331120" cy="43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28640"/>
                    <a:ext cx="833112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6400" y="1552680"/>
          <a:ext cx="805680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552680"/>
                    <a:ext cx="80568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2"/>
          <p:cNvSpPr/>
          <p:nvPr/>
        </p:nvSpPr>
        <p:spPr>
          <a:xfrm>
            <a:off x="807120" y="981000"/>
            <a:ext cx="2414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图象信息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/>
          <p:nvPr/>
        </p:nvSpPr>
        <p:spPr>
          <a:xfrm>
            <a:off x="393840" y="1581120"/>
            <a:ext cx="864216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一家电脑公司推出一款新型电脑，投放市场以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月的利润情况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，该图可以近似看作为抛物线的一部分，请结合图象，解答以下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该抛物线对应的二次函数解析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该公司在经营此款电脑过程中，第几月的利润最大？最大利润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照此经营下去，请你结合所学的知识，对公司在此款电脑的经营状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否亏损？何时亏损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预测分析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500200" y="1619280"/>
            <a:ext cx="414360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65120" y="1125360"/>
          <a:ext cx="8432640" cy="49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125360"/>
                    <a:ext cx="843264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65120" y="1274760"/>
          <a:ext cx="843264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274760"/>
                    <a:ext cx="84326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47560" y="1193760"/>
          <a:ext cx="8128080" cy="59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1193760"/>
                    <a:ext cx="812808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023280" y="20185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6985440" y="158328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4504320" y="2628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6449040" y="2628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3039120" y="40932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7001280" y="36727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增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4561560" y="47329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6406200" y="47329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504d"/>
                </a:solidFill>
                <a:latin typeface="Arial"/>
              </a:rPr>
              <a:t>减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125360"/>
            <a:ext cx="86421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次函数的平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地，平移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可得到二次函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(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833800" cy="2208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486900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抓住顶点坐标的变化，熟记平移规律：左加右减，上加下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2"/>
          <p:cNvSpPr/>
          <p:nvPr/>
        </p:nvSpPr>
        <p:spPr>
          <a:xfrm>
            <a:off x="1796040" y="1700280"/>
            <a:ext cx="5645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确定抛物线的开口方向、对称轴、顶点坐标和最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235908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已知抛物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开口向下，顶点坐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该抛物线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小值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大值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小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最大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4309920" y="289440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393840" y="4782960"/>
            <a:ext cx="8642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] B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　由抛物线的开口向下，可得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a&lt;0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，所以抛物线有最大值，最大值为－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1733400" y="1125360"/>
            <a:ext cx="5158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根据图象判断系数及含有系数的代数式的符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4705560" y="233424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3840" y="1784520"/>
            <a:ext cx="8642160" cy="4246560"/>
            <a:chOff x="393840" y="1784520"/>
            <a:chExt cx="8642160" cy="4246560"/>
          </a:xfrm>
        </p:grpSpPr>
        <p:sp>
          <p:nvSpPr>
            <p:cNvPr id="178" name=""/>
            <p:cNvSpPr/>
            <p:nvPr/>
          </p:nvSpPr>
          <p:spPr>
            <a:xfrm>
              <a:off x="393840" y="1784520"/>
              <a:ext cx="8642160" cy="42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宋体"/>
                  <a:ea typeface="Times New Roman"/>
                </a:rPr>
                <a:t>例</a:t>
              </a:r>
              <a:r>
                <a:rPr b="1" lang="en-US" sz="2400" spc="-1" strike="noStrike">
                  <a:solidFill>
                    <a:srgbClr val="ff9900"/>
                  </a:solidFill>
                  <a:latin typeface="宋体"/>
                  <a:ea typeface="Courier New"/>
                </a:rPr>
                <a:t>2</a:t>
              </a:r>
              <a:r>
                <a:rPr b="1" lang="zh-CN" sz="2400" spc="-1" strike="noStrike">
                  <a:solidFill>
                    <a:srgbClr val="ff9900"/>
                  </a:solidFill>
                  <a:latin typeface="宋体"/>
                  <a:ea typeface="Times New Roman"/>
                </a:rPr>
                <a:t>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已知二次函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x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(a≠0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图象如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所示，则下列结论．错误的有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&gt;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②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&lt;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&lt;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④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&lt;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⑤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5724360" y="2492280"/>
            <a:ext cx="2470320" cy="20224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24360" y="2492280"/>
                      <a:ext cx="2470320" cy="202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35760" y="179280"/>
            <a:ext cx="27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2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95280" y="1628640"/>
          <a:ext cx="8201160" cy="35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20116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矩形 3"/>
          <p:cNvSpPr/>
          <p:nvPr/>
        </p:nvSpPr>
        <p:spPr>
          <a:xfrm>
            <a:off x="6856920" y="6215040"/>
            <a:ext cx="17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RJ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s</cp:lastModifiedBy>
  <dcterms:modified xsi:type="dcterms:W3CDTF">2012-07-21T02:32:05Z</dcterms:modified>
  <cp:revision>475</cp:revision>
  <dc:subject/>
  <dc:title>幻灯片 1</dc:title>
</cp:coreProperties>
</file>