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6.wmf" ContentType="image/x-wmf"/>
  <Override PartName="/ppt/media/chimes.wav" ContentType="audio/x-wav"/>
  <Override PartName="/ppt/media/type.wav" ContentType="audio/x-wav"/>
  <Override PartName="/ppt/media/image17.png" ContentType="image/png"/>
  <Override PartName="/ppt/media/image10.jpeg" ContentType="image/jpeg"/>
  <Override PartName="/ppt/media/image2.gif" ContentType="image/gif"/>
  <Override PartName="/ppt/media/image13.wmf" ContentType="image/x-wmf"/>
  <Override PartName="/ppt/media/image9.wmf" ContentType="image/x-wmf"/>
  <Override PartName="/ppt/media/image5.jpeg" ContentType="image/jpeg"/>
  <Override PartName="/ppt/media/image20.wmf" ContentType="image/x-wmf"/>
  <Override PartName="/ppt/media/cashreg.wav" ContentType="audio/x-wav"/>
  <Override PartName="/ppt/media/camera.wav" ContentType="audio/x-wav"/>
  <Override PartName="/ppt/media/image19.png" ContentType="image/png"/>
  <Override PartName="/ppt/media/image18.png" ContentType="image/png"/>
  <Override PartName="/ppt/media/image12.wmf" ContentType="image/x-wmf"/>
  <Override PartName="/ppt/media/image1.gif" ContentType="image/gif"/>
  <Override PartName="/ppt/media/image4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64B-CBE3-49F6-87BE-00CC3113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0A9-CFC2-4C7D-93CE-0A5D6619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515-3B49-4C3F-99AB-A5BFDECC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377F-A161-4230-9319-43F5635F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A22-4209-4590-A951-B643F90F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F6F-7BFC-4BBC-BDD2-157A63F9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680-A878-446E-A3B3-6094EB42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F897-0EB4-4A2D-B166-6876FBC8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719-004D-4E39-B468-52C45A52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567-F35F-49A3-B7D7-7B50C39F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0F2-7540-4E7A-96C9-7D158E72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239-BD6F-4E40-B3AA-DCB18B91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A02D-AFBE-411D-BF85-DC83A5A02C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C:\SKETCH\GSKETCHP.EXE c:\sketch\&#22278;&#21608;&#35282;2.gsp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g.news.tom.com/1006/20041026-1462252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.news.tom.com/1006/20041026-1462252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25240;&#30165;&#19982;&#22278;&#21608;&#35282;&#30340;&#20851;&#31995;.swf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762120"/>
            <a:ext cx="51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24.1.4  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圆周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1641240" cy="1274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71640" y="5589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河北黄骅新世纪中学初三数学组王老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10·10·12·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制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6156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种情况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圆心不在圆周角的一边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会怎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心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圆周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∠ABC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外部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周角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圆心角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大小关系会怎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4000" y="24210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提示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否也转化为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情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4000" y="3213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直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629400" y="3200400"/>
            <a:ext cx="1962000" cy="1962000"/>
            <a:chOff x="6629400" y="3200400"/>
            <a:chExt cx="1962000" cy="1962000"/>
          </a:xfrm>
        </p:grpSpPr>
        <p:sp>
          <p:nvSpPr>
            <p:cNvPr id="289" name=""/>
            <p:cNvSpPr/>
            <p:nvPr/>
          </p:nvSpPr>
          <p:spPr>
            <a:xfrm>
              <a:off x="6629400" y="320040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94480" y="394200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39640" y="4508640"/>
            <a:ext cx="3529080" cy="842760"/>
            <a:chOff x="539640" y="4508640"/>
            <a:chExt cx="3529080" cy="842760"/>
          </a:xfrm>
        </p:grpSpPr>
        <p:sp>
          <p:nvSpPr>
            <p:cNvPr id="292" name=""/>
            <p:cNvSpPr/>
            <p:nvPr/>
          </p:nvSpPr>
          <p:spPr>
            <a:xfrm>
              <a:off x="539640" y="46753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∴  ∠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C = ∠AOC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2685600" y="4508640"/>
                  <a:ext cx="31140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4" name=""/>
          <p:cNvSpPr/>
          <p:nvPr/>
        </p:nvSpPr>
        <p:spPr>
          <a:xfrm>
            <a:off x="324000" y="55166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你能写出这个命题吗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5445000"/>
            <a:ext cx="487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同弧所对的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</a:rPr>
              <a:t>圆周角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等于它所对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圆心角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的一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665400" y="3818160"/>
            <a:ext cx="2371320" cy="557640"/>
            <a:chOff x="6665400" y="3818160"/>
            <a:chExt cx="2371320" cy="557640"/>
          </a:xfrm>
        </p:grpSpPr>
        <p:sp>
          <p:nvSpPr>
            <p:cNvPr id="297" name=""/>
            <p:cNvSpPr/>
            <p:nvPr/>
          </p:nvSpPr>
          <p:spPr>
            <a:xfrm flipV="1">
              <a:off x="6665400" y="4053240"/>
              <a:ext cx="1911240" cy="3225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3886800">
              <a:off x="8556840" y="3858480"/>
              <a:ext cx="380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95280" y="3789360"/>
            <a:ext cx="5491080" cy="991440"/>
            <a:chOff x="395280" y="3789360"/>
            <a:chExt cx="5491080" cy="991440"/>
          </a:xfrm>
        </p:grpSpPr>
        <p:sp>
          <p:nvSpPr>
            <p:cNvPr id="300" name=""/>
            <p:cNvSpPr/>
            <p:nvPr/>
          </p:nvSpPr>
          <p:spPr>
            <a:xfrm>
              <a:off x="395280" y="3833640"/>
              <a:ext cx="549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99cc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D = ∠AOD,∠CBD = ∠COD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>
                  <a:off x="2005560" y="3789360"/>
                  <a:ext cx="24228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4421520" y="3833640"/>
                  <a:ext cx="24228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3" name=""/>
          <p:cNvGrpSpPr/>
          <p:nvPr/>
        </p:nvGrpSpPr>
        <p:grpSpPr>
          <a:xfrm>
            <a:off x="6324480" y="2819520"/>
            <a:ext cx="2476440" cy="1831320"/>
            <a:chOff x="6324480" y="2819520"/>
            <a:chExt cx="2476440" cy="1831320"/>
          </a:xfrm>
        </p:grpSpPr>
        <p:sp>
          <p:nvSpPr>
            <p:cNvPr id="304" name=""/>
            <p:cNvSpPr/>
            <p:nvPr/>
          </p:nvSpPr>
          <p:spPr>
            <a:xfrm flipV="1">
              <a:off x="6667200" y="3562560"/>
              <a:ext cx="171468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675120" y="3259080"/>
              <a:ext cx="671760" cy="11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46880" y="3259440"/>
              <a:ext cx="33624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4844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244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43720" y="3200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7619760" y="3557520"/>
              <a:ext cx="7650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629400" y="569880"/>
            <a:ext cx="1962000" cy="1962360"/>
            <a:chOff x="6629400" y="569880"/>
            <a:chExt cx="1962000" cy="1962360"/>
          </a:xfrm>
        </p:grpSpPr>
        <p:sp>
          <p:nvSpPr>
            <p:cNvPr id="312" name=""/>
            <p:cNvSpPr/>
            <p:nvPr/>
          </p:nvSpPr>
          <p:spPr>
            <a:xfrm>
              <a:off x="6629400" y="569880"/>
              <a:ext cx="1962000" cy="1962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94480" y="13114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629400" y="189000"/>
            <a:ext cx="2133360" cy="2440800"/>
            <a:chOff x="6629400" y="189000"/>
            <a:chExt cx="2133360" cy="2440800"/>
          </a:xfrm>
        </p:grpSpPr>
        <p:sp>
          <p:nvSpPr>
            <p:cNvPr id="315" name=""/>
            <p:cNvSpPr/>
            <p:nvPr/>
          </p:nvSpPr>
          <p:spPr>
            <a:xfrm flipV="1">
              <a:off x="6953040" y="931680"/>
              <a:ext cx="1390680" cy="139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954840" y="628200"/>
              <a:ext cx="353880" cy="169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08720" y="628560"/>
              <a:ext cx="336600" cy="10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10280" y="18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29400" y="217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05560" y="56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68360" y="33336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巩固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1071720"/>
            <a:ext cx="734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图，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,B,C,D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同一个圆上，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边形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CD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对角线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内角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角，这些角中哪些是相等的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87640" y="2565360"/>
            <a:ext cx="3814560" cy="3771360"/>
            <a:chOff x="2987640" y="2565360"/>
            <a:chExt cx="3814560" cy="3771360"/>
          </a:xfrm>
        </p:grpSpPr>
        <p:sp>
          <p:nvSpPr>
            <p:cNvPr id="324" name=""/>
            <p:cNvSpPr/>
            <p:nvPr/>
          </p:nvSpPr>
          <p:spPr>
            <a:xfrm>
              <a:off x="3490920" y="2924280"/>
              <a:ext cx="3168720" cy="3168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138560" y="3068280"/>
              <a:ext cx="1657440" cy="26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62200" y="4076640"/>
              <a:ext cx="244944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62200" y="4076640"/>
              <a:ext cx="50472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66920" y="5805360"/>
              <a:ext cx="19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562200" y="3068640"/>
              <a:ext cx="22338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96000" y="3068640"/>
              <a:ext cx="215640" cy="26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87640" y="3716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06560" y="587700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67280" y="573228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22920" y="2565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51280" y="38606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35280" y="422100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922560" y="501336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11640" y="530064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46560" y="530064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06920" y="4941720"/>
              <a:ext cx="9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62560" y="357336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60720" y="3357360"/>
              <a:ext cx="9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6156360" y="1484280"/>
            <a:ext cx="2743200" cy="2517120"/>
            <a:chOff x="6156360" y="1484280"/>
            <a:chExt cx="2743200" cy="2517120"/>
          </a:xfrm>
        </p:grpSpPr>
        <p:grpSp>
          <p:nvGrpSpPr>
            <p:cNvPr id="344" name=""/>
            <p:cNvGrpSpPr/>
            <p:nvPr/>
          </p:nvGrpSpPr>
          <p:grpSpPr>
            <a:xfrm>
              <a:off x="6156360" y="1484280"/>
              <a:ext cx="2133360" cy="2133720"/>
              <a:chOff x="6156360" y="1484280"/>
              <a:chExt cx="2133360" cy="2133720"/>
            </a:xfrm>
          </p:grpSpPr>
          <p:sp>
            <p:nvSpPr>
              <p:cNvPr id="345" name=""/>
              <p:cNvSpPr/>
              <p:nvPr/>
            </p:nvSpPr>
            <p:spPr>
              <a:xfrm>
                <a:off x="6156360" y="1484280"/>
                <a:ext cx="2133360" cy="2133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070400" y="2017800"/>
                <a:ext cx="761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6384960" y="2170080"/>
              <a:ext cx="2514600" cy="1831320"/>
              <a:chOff x="6384960" y="2170080"/>
              <a:chExt cx="2514600" cy="1831320"/>
            </a:xfrm>
          </p:grpSpPr>
          <p:sp>
            <p:nvSpPr>
              <p:cNvPr id="348" name=""/>
              <p:cNvSpPr/>
              <p:nvPr/>
            </p:nvSpPr>
            <p:spPr>
              <a:xfrm flipH="1">
                <a:off x="6665760" y="2579760"/>
                <a:ext cx="571680" cy="8650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23040" y="2550960"/>
                <a:ext cx="528480" cy="9144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994440" y="2170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384960" y="35416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80240" y="354168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179280" y="620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圆心角的度数和它所对的弧的度数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1712160"/>
            <a:ext cx="575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把顶点在圆心的周角等分成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时，每一份的</a:t>
            </a: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圆心角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°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3840" y="5444280"/>
            <a:ext cx="82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在同圆或等圆中，圆心角的度数和它所对的弧的度数相等</a:t>
            </a:r>
            <a:r>
              <a:rPr b="1" lang="zh-CN" sz="3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3068640"/>
            <a:ext cx="551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同圆中相等的圆心角所对的弧相等，所以整个圆也被等分成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。我们把每一份这样的</a:t>
            </a: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弧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叫做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°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8360" y="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在同圆或等圆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659640" y="1484280"/>
            <a:ext cx="43344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93080" y="1484280"/>
            <a:ext cx="647640" cy="20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77080" y="1100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227640" y="4076640"/>
            <a:ext cx="2449800" cy="2449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5305320"/>
            <a:ext cx="244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73960" y="4456080"/>
            <a:ext cx="2098440" cy="870120"/>
          </a:xfrm>
          <a:custGeom>
            <a:avLst/>
            <a:gdLst/>
            <a:ahLst/>
            <a:rect l="l" t="t" r="r" b="b"/>
            <a:pathLst>
              <a:path w="1322" h="548">
                <a:moveTo>
                  <a:pt x="0" y="0"/>
                </a:moveTo>
                <a:lnTo>
                  <a:pt x="1322" y="54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34120" y="4462560"/>
            <a:ext cx="333360" cy="838080"/>
          </a:xfrm>
          <a:custGeom>
            <a:avLst/>
            <a:gdLst/>
            <a:ahLst/>
            <a:rect l="l" t="t" r="r" b="b"/>
            <a:pathLst>
              <a:path w="210" h="528">
                <a:moveTo>
                  <a:pt x="210" y="0"/>
                </a:moveTo>
                <a:lnTo>
                  <a:pt x="0" y="52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902200" y="51498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675640" y="5156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54560" y="41497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72360" y="5300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243480" y="4078440"/>
            <a:ext cx="1063800" cy="1234800"/>
          </a:xfrm>
          <a:custGeom>
            <a:avLst/>
            <a:gdLst/>
            <a:ahLst/>
            <a:rect l="l" t="t" r="r" b="b"/>
            <a:pathLst>
              <a:path w="670" h="778">
                <a:moveTo>
                  <a:pt x="0" y="778"/>
                </a:moveTo>
                <a:lnTo>
                  <a:pt x="67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7280" y="4076640"/>
            <a:ext cx="1368360" cy="12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24760" y="4583160"/>
            <a:ext cx="2234880" cy="723960"/>
          </a:xfrm>
          <a:custGeom>
            <a:avLst/>
            <a:gdLst/>
            <a:ahLst/>
            <a:rect l="l" t="t" r="r" b="b"/>
            <a:pathLst>
              <a:path w="1408" h="456">
                <a:moveTo>
                  <a:pt x="0" y="456"/>
                </a:moveTo>
                <a:lnTo>
                  <a:pt x="140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447040" y="4595760"/>
            <a:ext cx="222120" cy="704880"/>
          </a:xfrm>
          <a:custGeom>
            <a:avLst/>
            <a:gdLst/>
            <a:ahLst/>
            <a:rect l="l" t="t" r="r" b="b"/>
            <a:pathLst>
              <a:path w="140" h="444">
                <a:moveTo>
                  <a:pt x="0" y="0"/>
                </a:moveTo>
                <a:lnTo>
                  <a:pt x="140" y="4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62840" y="3718080"/>
            <a:ext cx="64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431200" y="43354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920" y="189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归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755640" y="907920"/>
            <a:ext cx="7559280" cy="1829160"/>
            <a:chOff x="755640" y="907920"/>
            <a:chExt cx="7559280" cy="1829160"/>
          </a:xfrm>
        </p:grpSpPr>
        <p:sp>
          <p:nvSpPr>
            <p:cNvPr id="377" name=""/>
            <p:cNvSpPr/>
            <p:nvPr/>
          </p:nvSpPr>
          <p:spPr>
            <a:xfrm>
              <a:off x="755640" y="1278000"/>
              <a:ext cx="755928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 u="sng">
                  <a:solidFill>
                    <a:srgbClr val="cc3300"/>
                  </a:solidFill>
                  <a:uFillTx/>
                  <a:latin typeface="楷体_GB2312"/>
                  <a:ea typeface="楷体_GB2312"/>
                </a:rPr>
                <a:t>在同圆或等圆中，同弧或等弧所对的圆周角相等，都等于这条弧所对的圆心角的一半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19760" y="907920"/>
              <a:ext cx="2432520" cy="360360"/>
            </a:xfrm>
            <a:prstGeom prst="flowChartAlternateProcess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定      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539640" y="3284640"/>
            <a:ext cx="5473440" cy="2331000"/>
            <a:chOff x="539640" y="3284640"/>
            <a:chExt cx="5473440" cy="2331000"/>
          </a:xfrm>
        </p:grpSpPr>
        <p:sp>
          <p:nvSpPr>
            <p:cNvPr id="380" name=""/>
            <p:cNvSpPr/>
            <p:nvPr/>
          </p:nvSpPr>
          <p:spPr>
            <a:xfrm>
              <a:off x="539640" y="3644640"/>
              <a:ext cx="5473440" cy="19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半圆（或直径）所对的圆周角是直角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90°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的圆周角所对的弦是直径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　在同圆或等圆中，相等的圆周角所对的弧相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81160" y="3284640"/>
              <a:ext cx="2158920" cy="36000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推      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ff0000"/>
                </a:solidFill>
                <a:latin typeface="Arial"/>
                <a:ea typeface="楷体_GB2312"/>
              </a:rPr>
              <a:t>练习：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407664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圆心角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OB=10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CB=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580000" y="981000"/>
            <a:ext cx="3352680" cy="2853720"/>
            <a:chOff x="5580000" y="981000"/>
            <a:chExt cx="3352680" cy="2853720"/>
          </a:xfrm>
        </p:grpSpPr>
        <p:sp>
          <p:nvSpPr>
            <p:cNvPr id="385" name=""/>
            <p:cNvSpPr/>
            <p:nvPr/>
          </p:nvSpPr>
          <p:spPr>
            <a:xfrm>
              <a:off x="5859000" y="981000"/>
              <a:ext cx="2584440" cy="23374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16480" y="2054880"/>
              <a:ext cx="69840" cy="630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138720" y="2054880"/>
              <a:ext cx="1047600" cy="7581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86320" y="2054880"/>
              <a:ext cx="1117800" cy="56844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38720" y="2813040"/>
              <a:ext cx="558720" cy="4420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697080" y="2623680"/>
              <a:ext cx="1676520" cy="6318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16480" y="1549440"/>
              <a:ext cx="55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80000" y="2623680"/>
              <a:ext cx="55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04120" y="2497320"/>
              <a:ext cx="62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48240" y="3192120"/>
              <a:ext cx="48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76320" y="1851120"/>
            <a:ext cx="2818800" cy="1983600"/>
            <a:chOff x="76320" y="1851120"/>
            <a:chExt cx="2818800" cy="1983600"/>
          </a:xfrm>
        </p:grpSpPr>
        <p:sp>
          <p:nvSpPr>
            <p:cNvPr id="396" name=""/>
            <p:cNvSpPr/>
            <p:nvPr/>
          </p:nvSpPr>
          <p:spPr>
            <a:xfrm>
              <a:off x="1599840" y="3375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320" y="3222720"/>
              <a:ext cx="24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1760" y="2460600"/>
              <a:ext cx="129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228240" y="1851120"/>
              <a:ext cx="1752480" cy="1752480"/>
              <a:chOff x="228240" y="1851120"/>
              <a:chExt cx="1752480" cy="1752480"/>
            </a:xfrm>
          </p:grpSpPr>
          <p:sp>
            <p:nvSpPr>
              <p:cNvPr id="400" name=""/>
              <p:cNvSpPr/>
              <p:nvPr/>
            </p:nvSpPr>
            <p:spPr>
              <a:xfrm>
                <a:off x="228240" y="1851120"/>
                <a:ext cx="1752480" cy="1752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914040" y="2079720"/>
                <a:ext cx="457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 flipH="1">
              <a:off x="609120" y="2765520"/>
              <a:ext cx="456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09480" y="2841480"/>
              <a:ext cx="13712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66680" y="2765520"/>
              <a:ext cx="609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8080" y="2841480"/>
              <a:ext cx="10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1676160" y="2841480"/>
              <a:ext cx="304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23880" y="28414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04680" y="2917800"/>
              <a:ext cx="99720" cy="7632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0"/>
                  </a:moveTo>
                  <a:cubicBezTo>
                    <a:pt x="3" y="12"/>
                    <a:pt x="2" y="26"/>
                    <a:pt x="9" y="36"/>
                  </a:cubicBezTo>
                  <a:cubicBezTo>
                    <a:pt x="15" y="45"/>
                    <a:pt x="36" y="54"/>
                    <a:pt x="36" y="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0" y="105264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圆中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度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916360" y="1052640"/>
            <a:ext cx="2438280" cy="2593080"/>
            <a:chOff x="2916360" y="1052640"/>
            <a:chExt cx="2438280" cy="2593080"/>
          </a:xfrm>
        </p:grpSpPr>
        <p:sp>
          <p:nvSpPr>
            <p:cNvPr id="411" name=""/>
            <p:cNvSpPr/>
            <p:nvPr/>
          </p:nvSpPr>
          <p:spPr>
            <a:xfrm>
              <a:off x="2916360" y="31860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02160" y="24242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068640" y="1814400"/>
              <a:ext cx="1752480" cy="1752480"/>
              <a:chOff x="3068640" y="1814400"/>
              <a:chExt cx="1752480" cy="1752480"/>
            </a:xfrm>
          </p:grpSpPr>
          <p:sp>
            <p:nvSpPr>
              <p:cNvPr id="414" name=""/>
              <p:cNvSpPr/>
              <p:nvPr/>
            </p:nvSpPr>
            <p:spPr>
              <a:xfrm>
                <a:off x="3068640" y="1814400"/>
                <a:ext cx="1752480" cy="1752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54440" y="2043000"/>
                <a:ext cx="457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 flipH="1">
              <a:off x="3296880" y="272880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06720" y="2728800"/>
              <a:ext cx="8384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297240" y="1052640"/>
              <a:ext cx="106668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83040" y="1814400"/>
              <a:ext cx="762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30760" y="2805120"/>
              <a:ext cx="228600" cy="85680"/>
            </a:xfrm>
            <a:custGeom>
              <a:avLst/>
              <a:gdLst/>
              <a:ahLst/>
              <a:rect l="l" t="t" r="r" b="b"/>
              <a:pathLst>
                <a:path w="213" h="54">
                  <a:moveTo>
                    <a:pt x="0" y="9"/>
                  </a:moveTo>
                  <a:cubicBezTo>
                    <a:pt x="9" y="12"/>
                    <a:pt x="19" y="14"/>
                    <a:pt x="27" y="18"/>
                  </a:cubicBezTo>
                  <a:cubicBezTo>
                    <a:pt x="37" y="23"/>
                    <a:pt x="44" y="32"/>
                    <a:pt x="54" y="36"/>
                  </a:cubicBezTo>
                  <a:cubicBezTo>
                    <a:pt x="71" y="44"/>
                    <a:pt x="108" y="54"/>
                    <a:pt x="108" y="54"/>
                  </a:cubicBezTo>
                  <a:cubicBezTo>
                    <a:pt x="129" y="48"/>
                    <a:pt x="150" y="42"/>
                    <a:pt x="171" y="36"/>
                  </a:cubicBezTo>
                  <a:cubicBezTo>
                    <a:pt x="183" y="33"/>
                    <a:pt x="198" y="36"/>
                    <a:pt x="207" y="27"/>
                  </a:cubicBezTo>
                  <a:cubicBezTo>
                    <a:pt x="213" y="21"/>
                    <a:pt x="207" y="9"/>
                    <a:pt x="20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54440" y="2805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35320" y="1585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40280" y="1662120"/>
              <a:ext cx="79200" cy="243000"/>
            </a:xfrm>
            <a:custGeom>
              <a:avLst/>
              <a:gdLst/>
              <a:ahLst/>
              <a:rect l="l" t="t" r="r" b="b"/>
              <a:pathLst>
                <a:path w="50" h="153">
                  <a:moveTo>
                    <a:pt x="18" y="0"/>
                  </a:moveTo>
                  <a:cubicBezTo>
                    <a:pt x="24" y="19"/>
                    <a:pt x="43" y="34"/>
                    <a:pt x="45" y="54"/>
                  </a:cubicBezTo>
                  <a:cubicBezTo>
                    <a:pt x="50" y="98"/>
                    <a:pt x="28" y="125"/>
                    <a:pt x="0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916360" y="1052640"/>
            <a:ext cx="2438280" cy="2593080"/>
            <a:chOff x="2916360" y="1052640"/>
            <a:chExt cx="2438280" cy="2593080"/>
          </a:xfrm>
        </p:grpSpPr>
        <p:sp>
          <p:nvSpPr>
            <p:cNvPr id="425" name=""/>
            <p:cNvSpPr/>
            <p:nvPr/>
          </p:nvSpPr>
          <p:spPr>
            <a:xfrm>
              <a:off x="2916360" y="31860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02160" y="24242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3068640" y="1814400"/>
              <a:ext cx="1752480" cy="1752480"/>
              <a:chOff x="3068640" y="1814400"/>
              <a:chExt cx="1752480" cy="1752480"/>
            </a:xfrm>
          </p:grpSpPr>
          <p:sp>
            <p:nvSpPr>
              <p:cNvPr id="428" name=""/>
              <p:cNvSpPr/>
              <p:nvPr/>
            </p:nvSpPr>
            <p:spPr>
              <a:xfrm>
                <a:off x="3068640" y="1814400"/>
                <a:ext cx="1752480" cy="1752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54440" y="2043000"/>
                <a:ext cx="457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 flipH="1">
              <a:off x="3296880" y="272880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06720" y="2728800"/>
              <a:ext cx="8384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3297240" y="1052640"/>
              <a:ext cx="106668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83040" y="1814400"/>
              <a:ext cx="762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30760" y="2805120"/>
              <a:ext cx="228600" cy="85680"/>
            </a:xfrm>
            <a:custGeom>
              <a:avLst/>
              <a:gdLst/>
              <a:ahLst/>
              <a:rect l="l" t="t" r="r" b="b"/>
              <a:pathLst>
                <a:path w="213" h="54">
                  <a:moveTo>
                    <a:pt x="0" y="9"/>
                  </a:moveTo>
                  <a:cubicBezTo>
                    <a:pt x="9" y="12"/>
                    <a:pt x="19" y="14"/>
                    <a:pt x="27" y="18"/>
                  </a:cubicBezTo>
                  <a:cubicBezTo>
                    <a:pt x="37" y="23"/>
                    <a:pt x="44" y="32"/>
                    <a:pt x="54" y="36"/>
                  </a:cubicBezTo>
                  <a:cubicBezTo>
                    <a:pt x="71" y="44"/>
                    <a:pt x="108" y="54"/>
                    <a:pt x="108" y="54"/>
                  </a:cubicBezTo>
                  <a:cubicBezTo>
                    <a:pt x="129" y="48"/>
                    <a:pt x="150" y="42"/>
                    <a:pt x="171" y="36"/>
                  </a:cubicBezTo>
                  <a:cubicBezTo>
                    <a:pt x="183" y="33"/>
                    <a:pt x="198" y="36"/>
                    <a:pt x="207" y="27"/>
                  </a:cubicBezTo>
                  <a:cubicBezTo>
                    <a:pt x="213" y="21"/>
                    <a:pt x="207" y="9"/>
                    <a:pt x="20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54440" y="2805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35320" y="1585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40280" y="1662120"/>
              <a:ext cx="79200" cy="243000"/>
            </a:xfrm>
            <a:custGeom>
              <a:avLst/>
              <a:gdLst/>
              <a:ahLst/>
              <a:rect l="l" t="t" r="r" b="b"/>
              <a:pathLst>
                <a:path w="50" h="153">
                  <a:moveTo>
                    <a:pt x="18" y="0"/>
                  </a:moveTo>
                  <a:cubicBezTo>
                    <a:pt x="24" y="19"/>
                    <a:pt x="43" y="34"/>
                    <a:pt x="45" y="54"/>
                  </a:cubicBezTo>
                  <a:cubicBezTo>
                    <a:pt x="50" y="98"/>
                    <a:pt x="28" y="125"/>
                    <a:pt x="0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835280" y="2492280"/>
            <a:ext cx="6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92360" y="141300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211640" y="62064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643280" y="285264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04920" y="1066680"/>
            <a:ext cx="7993080" cy="165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16000" y="69228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同圆或等圆中，如果两个圆周角相等，它们所对弧一定相等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038480" y="3657600"/>
            <a:ext cx="44942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同圆或等圆中，如果两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圆周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相等，它们所对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定相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403280" y="3789000"/>
            <a:ext cx="1081080" cy="792360"/>
            <a:chOff x="1403280" y="3789000"/>
            <a:chExt cx="1081080" cy="792360"/>
          </a:xfrm>
        </p:grpSpPr>
        <p:sp>
          <p:nvSpPr>
            <p:cNvPr id="446" name=""/>
            <p:cNvSpPr/>
            <p:nvPr/>
          </p:nvSpPr>
          <p:spPr>
            <a:xfrm flipV="1">
              <a:off x="1403280" y="3789000"/>
              <a:ext cx="1081080" cy="14436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1763640" y="3789360"/>
              <a:ext cx="720720" cy="79200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484360" y="3789360"/>
            <a:ext cx="935280" cy="1008000"/>
            <a:chOff x="2484360" y="3789360"/>
            <a:chExt cx="935280" cy="1008000"/>
          </a:xfrm>
        </p:grpSpPr>
        <p:sp>
          <p:nvSpPr>
            <p:cNvPr id="449" name=""/>
            <p:cNvSpPr/>
            <p:nvPr/>
          </p:nvSpPr>
          <p:spPr>
            <a:xfrm>
              <a:off x="2484360" y="3789360"/>
              <a:ext cx="287280" cy="100800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84360" y="3789360"/>
              <a:ext cx="935280" cy="50472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907920" y="2146320"/>
            <a:ext cx="3016440" cy="3443400"/>
            <a:chOff x="907920" y="2146320"/>
            <a:chExt cx="3016440" cy="344340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907920" y="2146320"/>
              <a:ext cx="3016440" cy="337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>
              <a:hlinkClick r:id="rId2"/>
            </p:cNvPr>
            <p:cNvSpPr/>
            <p:nvPr/>
          </p:nvSpPr>
          <p:spPr>
            <a:xfrm>
              <a:off x="2033640" y="5071680"/>
              <a:ext cx="991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-360" y="691920"/>
            <a:ext cx="4343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当球员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B,D,E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处射门时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他所处的位置对球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AC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分别形成三个张角∠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ABC, ∠ADC,∠AEC.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这三个角的大小有什么关系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?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537080" y="-14400"/>
            <a:ext cx="4572000" cy="3156120"/>
            <a:chOff x="4537080" y="-14400"/>
            <a:chExt cx="4572000" cy="3156120"/>
          </a:xfrm>
        </p:grpSpPr>
        <p:grpSp>
          <p:nvGrpSpPr>
            <p:cNvPr id="456" name=""/>
            <p:cNvGrpSpPr/>
            <p:nvPr/>
          </p:nvGrpSpPr>
          <p:grpSpPr>
            <a:xfrm>
              <a:off x="4537080" y="-14400"/>
              <a:ext cx="4572000" cy="3156120"/>
              <a:chOff x="4537080" y="-14400"/>
              <a:chExt cx="4572000" cy="3156120"/>
            </a:xfrm>
          </p:grpSpPr>
          <p:pic>
            <p:nvPicPr>
              <p:cNvPr id="457" name="" descr="">
                <a:hlinkClick r:id="rId1"/>
              </p:cNvPr>
              <p:cNvPicPr/>
              <p:nvPr/>
            </p:nvPicPr>
            <p:blipFill>
              <a:blip r:embed="rId2"/>
              <a:srcRect l="0" t="7962" r="0" b="0"/>
              <a:stretch/>
            </p:blipFill>
            <p:spPr>
              <a:xfrm>
                <a:off x="4537080" y="-14400"/>
                <a:ext cx="4572000" cy="315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5832360" y="1280880"/>
                <a:ext cx="2590920" cy="129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89560" y="1998720"/>
                <a:ext cx="304920" cy="653760"/>
              </a:xfrm>
              <a:prstGeom prst="line">
                <a:avLst/>
              </a:prstGeom>
              <a:ln w="9360">
                <a:solidFill>
                  <a:srgbClr val="66ff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594480" y="1693800"/>
                <a:ext cx="1523880" cy="838080"/>
              </a:xfrm>
              <a:prstGeom prst="line">
                <a:avLst/>
              </a:prstGeom>
              <a:ln w="9360">
                <a:solidFill>
                  <a:srgbClr val="66ff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65880" y="2531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ff33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527800" y="1280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ff33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813800" y="13572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ff33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909040" y="215100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7356600" y="2500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flipV="1">
              <a:off x="6644880" y="1982520"/>
              <a:ext cx="839880" cy="54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7467480" y="1758600"/>
              <a:ext cx="633600" cy="8017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96080" y="2322360"/>
              <a:ext cx="87948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150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150617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03760" y="2043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flipV="1">
              <a:off x="5879880" y="1814040"/>
              <a:ext cx="28440" cy="3430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900760" y="2118960"/>
              <a:ext cx="160200" cy="190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6235560" y="1684080"/>
              <a:ext cx="1884600" cy="378000"/>
            </a:xfrm>
            <a:prstGeom prst="line">
              <a:avLst/>
            </a:prstGeom>
            <a:ln w="93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0" y="3048120"/>
            <a:ext cx="2676600" cy="1244520"/>
            <a:chOff x="0" y="3048120"/>
            <a:chExt cx="2676600" cy="1244520"/>
          </a:xfrm>
        </p:grpSpPr>
        <p:sp>
          <p:nvSpPr>
            <p:cNvPr id="474" name=""/>
            <p:cNvSpPr/>
            <p:nvPr/>
          </p:nvSpPr>
          <p:spPr>
            <a:xfrm flipH="1">
              <a:off x="390600" y="3048120"/>
              <a:ext cx="690480" cy="6350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0360" y="3697560"/>
              <a:ext cx="2316240" cy="5950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0" y="340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隶书"/>
                  <a:ea typeface="隶书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63520" y="2997360"/>
            <a:ext cx="2419200" cy="2419200"/>
            <a:chOff x="263520" y="2997360"/>
            <a:chExt cx="2419200" cy="2419200"/>
          </a:xfrm>
        </p:grpSpPr>
        <p:sp>
          <p:nvSpPr>
            <p:cNvPr id="478" name=""/>
            <p:cNvSpPr/>
            <p:nvPr/>
          </p:nvSpPr>
          <p:spPr>
            <a:xfrm>
              <a:off x="263520" y="2997360"/>
              <a:ext cx="2419200" cy="2419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30200" y="39117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●</a:t>
              </a: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0" y="3068280"/>
            <a:ext cx="2668320" cy="1780920"/>
            <a:chOff x="0" y="3068280"/>
            <a:chExt cx="2668320" cy="1780920"/>
          </a:xfrm>
        </p:grpSpPr>
        <p:sp>
          <p:nvSpPr>
            <p:cNvPr id="481" name=""/>
            <p:cNvSpPr/>
            <p:nvPr/>
          </p:nvSpPr>
          <p:spPr>
            <a:xfrm flipV="1">
              <a:off x="314280" y="3068280"/>
              <a:ext cx="792000" cy="1528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14280" y="4319640"/>
              <a:ext cx="2354040" cy="262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4389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84360" y="3068640"/>
            <a:ext cx="2046240" cy="2542320"/>
            <a:chOff x="684360" y="3068640"/>
            <a:chExt cx="2046240" cy="2542320"/>
          </a:xfrm>
        </p:grpSpPr>
        <p:sp>
          <p:nvSpPr>
            <p:cNvPr id="485" name=""/>
            <p:cNvSpPr/>
            <p:nvPr/>
          </p:nvSpPr>
          <p:spPr>
            <a:xfrm flipH="1">
              <a:off x="988920" y="3068640"/>
              <a:ext cx="152280" cy="227016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1001880" y="4287600"/>
              <a:ext cx="1728720" cy="9892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4360" y="5151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隶书"/>
                  <a:ea typeface="隶书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900000" y="2637000"/>
            <a:ext cx="2392560" cy="1971000"/>
            <a:chOff x="900000" y="2637000"/>
            <a:chExt cx="2392560" cy="1971000"/>
          </a:xfrm>
        </p:grpSpPr>
        <p:sp>
          <p:nvSpPr>
            <p:cNvPr id="489" name=""/>
            <p:cNvSpPr/>
            <p:nvPr/>
          </p:nvSpPr>
          <p:spPr>
            <a:xfrm>
              <a:off x="2835360" y="414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00000" y="2637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033200" y="3048120"/>
            <a:ext cx="1649520" cy="1296720"/>
            <a:chOff x="1033200" y="3048120"/>
            <a:chExt cx="1649520" cy="1296720"/>
          </a:xfrm>
        </p:grpSpPr>
        <p:sp>
          <p:nvSpPr>
            <p:cNvPr id="492" name=""/>
            <p:cNvSpPr/>
            <p:nvPr/>
          </p:nvSpPr>
          <p:spPr>
            <a:xfrm flipH="1">
              <a:off x="1032840" y="3048120"/>
              <a:ext cx="730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612880" y="4275000"/>
              <a:ext cx="69840" cy="6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3612960" y="473400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规律：都相等，都等于圆心角∠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OC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一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3419640" y="3141720"/>
            <a:ext cx="5401800" cy="1234440"/>
            <a:chOff x="3419640" y="3141720"/>
            <a:chExt cx="5401800" cy="1234440"/>
          </a:xfrm>
        </p:grpSpPr>
        <p:sp>
          <p:nvSpPr>
            <p:cNvPr id="496" name=""/>
            <p:cNvSpPr/>
            <p:nvPr/>
          </p:nvSpPr>
          <p:spPr>
            <a:xfrm>
              <a:off x="3419640" y="3429000"/>
              <a:ext cx="540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AC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所对的圆周角∠ 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AEC  ∠ ABC    ∠ ADC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的大小有什么关系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02440" y="314172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2124000" y="530064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结论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同弧或等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所对的圆周角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84360" y="2349360"/>
            <a:ext cx="2087280" cy="20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900000" y="2708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55640" y="37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00000" y="2708280"/>
            <a:ext cx="1800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8360" y="2349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556000" y="2349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4000" y="3500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700360" y="35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8360" y="98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在同圆或等圆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92360" y="103824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等的圆周角所对的弧相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24360" y="29973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 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=∠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635280" y="400536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∥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564000" y="1844640"/>
            <a:ext cx="3600360" cy="809640"/>
            <a:chOff x="3564000" y="1844640"/>
            <a:chExt cx="3600360" cy="809640"/>
          </a:xfrm>
        </p:grpSpPr>
        <p:sp>
          <p:nvSpPr>
            <p:cNvPr id="512" name=""/>
            <p:cNvSpPr/>
            <p:nvPr/>
          </p:nvSpPr>
          <p:spPr>
            <a:xfrm>
              <a:off x="3564000" y="213372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图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若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AC = B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03640" y="184464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67280" y="184464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1125360"/>
            <a:ext cx="8353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问题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：如图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是⊙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直径，请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度数是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326160" y="2708280"/>
            <a:ext cx="2689200" cy="2305080"/>
            <a:chOff x="326160" y="2708280"/>
            <a:chExt cx="2689200" cy="2305080"/>
          </a:xfrm>
        </p:grpSpPr>
        <p:sp>
          <p:nvSpPr>
            <p:cNvPr id="517" name=""/>
            <p:cNvSpPr/>
            <p:nvPr/>
          </p:nvSpPr>
          <p:spPr>
            <a:xfrm>
              <a:off x="684000" y="3068640"/>
              <a:ext cx="1944360" cy="194472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4000" y="407664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4000" y="3402000"/>
              <a:ext cx="1941120" cy="674640"/>
            </a:xfrm>
            <a:custGeom>
              <a:avLst/>
              <a:gdLst/>
              <a:ahLst/>
              <a:rect l="l" t="t" r="r" b="b"/>
              <a:pathLst>
                <a:path w="1223" h="425">
                  <a:moveTo>
                    <a:pt x="0" y="425"/>
                  </a:moveTo>
                  <a:lnTo>
                    <a:pt x="145" y="0"/>
                  </a:lnTo>
                  <a:lnTo>
                    <a:pt x="1223" y="420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4000" y="3125880"/>
              <a:ext cx="1941120" cy="950760"/>
            </a:xfrm>
            <a:custGeom>
              <a:avLst/>
              <a:gdLst/>
              <a:ahLst/>
              <a:rect l="l" t="t" r="r" b="b"/>
              <a:pathLst>
                <a:path w="1223" h="599">
                  <a:moveTo>
                    <a:pt x="0" y="599"/>
                  </a:moveTo>
                  <a:lnTo>
                    <a:pt x="391" y="0"/>
                  </a:lnTo>
                  <a:lnTo>
                    <a:pt x="1223" y="594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4000" y="3241800"/>
              <a:ext cx="1956960" cy="834840"/>
            </a:xfrm>
            <a:custGeom>
              <a:avLst/>
              <a:gdLst/>
              <a:ahLst/>
              <a:rect l="l" t="t" r="r" b="b"/>
              <a:pathLst>
                <a:path w="1233" h="526">
                  <a:moveTo>
                    <a:pt x="0" y="526"/>
                  </a:moveTo>
                  <a:lnTo>
                    <a:pt x="940" y="0"/>
                  </a:lnTo>
                  <a:lnTo>
                    <a:pt x="1233" y="521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6160" y="3860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15040" y="384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04000" y="40035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5680" y="299556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53360" y="270828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32640" y="28526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06320" y="4041720"/>
              <a:ext cx="7272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132000" y="3860640"/>
            <a:ext cx="561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推论：半圆（或直径）所对的圆周角是</a:t>
            </a:r>
            <a:r>
              <a:rPr b="1" lang="zh-CN" sz="3200" spc="-1" strike="noStrike">
                <a:solidFill>
                  <a:srgbClr val="fb092c"/>
                </a:solidFill>
                <a:latin typeface="Arial"/>
              </a:rPr>
              <a:t>直角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9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的圆周角所对的弦是</a:t>
            </a:r>
            <a:r>
              <a:rPr b="1" lang="zh-CN" sz="3200" spc="-1" strike="noStrike">
                <a:solidFill>
                  <a:srgbClr val="fb092c"/>
                </a:solidFill>
                <a:latin typeface="Arial"/>
              </a:rPr>
              <a:t>直径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59280" y="2349360"/>
            <a:ext cx="568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问题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： 若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是直角，那么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O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是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08720" y="16286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092c"/>
                </a:solidFill>
                <a:latin typeface="Arial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851280" y="3284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092c"/>
                </a:solidFill>
                <a:latin typeface="Arial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908000" y="333360"/>
            <a:ext cx="43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b092c"/>
                </a:solidFill>
                <a:latin typeface="Arial"/>
                <a:ea typeface="楷体_GB2312"/>
              </a:rPr>
              <a:t>探究与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64800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如图，在⊙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中，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BC=5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则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O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等于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5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8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9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0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6373800" y="1197000"/>
            <a:ext cx="1949400" cy="1695600"/>
            <a:chOff x="6373800" y="1197000"/>
            <a:chExt cx="1949400" cy="1695600"/>
          </a:xfrm>
        </p:grpSpPr>
        <p:sp>
          <p:nvSpPr>
            <p:cNvPr id="537" name=""/>
            <p:cNvSpPr/>
            <p:nvPr/>
          </p:nvSpPr>
          <p:spPr>
            <a:xfrm>
              <a:off x="6659640" y="1365120"/>
              <a:ext cx="1512720" cy="151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59640" y="1509480"/>
              <a:ext cx="1297080" cy="1152720"/>
            </a:xfrm>
            <a:custGeom>
              <a:avLst/>
              <a:gdLst/>
              <a:ahLst/>
              <a:rect l="l" t="t" r="r" b="b"/>
              <a:pathLst>
                <a:path w="817" h="726">
                  <a:moveTo>
                    <a:pt x="772" y="0"/>
                  </a:moveTo>
                  <a:lnTo>
                    <a:pt x="0" y="408"/>
                  </a:lnTo>
                  <a:lnTo>
                    <a:pt x="817" y="726"/>
                  </a:lnTo>
                  <a:lnTo>
                    <a:pt x="454" y="363"/>
                  </a:lnTo>
                  <a:lnTo>
                    <a:pt x="772" y="0"/>
                  </a:lnTo>
                  <a:close/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13440" y="1197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958160" y="2493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73800" y="198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16400" y="19396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0425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 flipH="1">
            <a:off x="3491640" y="21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425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4000" y="3573360"/>
            <a:ext cx="64800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如图，△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是等边三角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动点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在圆周的劣弧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上，且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重合，则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P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等于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3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6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9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4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587640" y="3573360"/>
            <a:ext cx="1960560" cy="2404440"/>
            <a:chOff x="6587640" y="3573360"/>
            <a:chExt cx="1960560" cy="2404440"/>
          </a:xfrm>
        </p:grpSpPr>
        <p:sp>
          <p:nvSpPr>
            <p:cNvPr id="546" name=""/>
            <p:cNvSpPr/>
            <p:nvPr/>
          </p:nvSpPr>
          <p:spPr>
            <a:xfrm>
              <a:off x="6748560" y="4005000"/>
              <a:ext cx="1582560" cy="158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69160" y="4000320"/>
              <a:ext cx="1366920" cy="1182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739548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587280" y="5086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8187480" y="5013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96200" y="4005000"/>
              <a:ext cx="863640" cy="1584360"/>
            </a:xfrm>
            <a:custGeom>
              <a:avLst/>
              <a:gdLst/>
              <a:ahLst/>
              <a:rect l="l" t="t" r="r" b="b"/>
              <a:pathLst>
                <a:path w="544" h="998">
                  <a:moveTo>
                    <a:pt x="91" y="0"/>
                  </a:moveTo>
                  <a:lnTo>
                    <a:pt x="0" y="998"/>
                  </a:lnTo>
                  <a:lnTo>
                    <a:pt x="544" y="726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7251120" y="5518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 flipH="1">
            <a:off x="6011280" y="47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425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/>
          </p:cNvPr>
          <p:cNvSpPr/>
          <p:nvPr/>
        </p:nvSpPr>
        <p:spPr>
          <a:xfrm>
            <a:off x="3942720" y="911160"/>
            <a:ext cx="429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习旧知：请说说我们是如何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心角下定义的，试回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42920" y="1413000"/>
            <a:ext cx="1942920" cy="1956960"/>
            <a:chOff x="1042920" y="1413000"/>
            <a:chExt cx="1942920" cy="1956960"/>
          </a:xfrm>
        </p:grpSpPr>
        <p:grpSp>
          <p:nvGrpSpPr>
            <p:cNvPr id="46" name=""/>
            <p:cNvGrpSpPr/>
            <p:nvPr/>
          </p:nvGrpSpPr>
          <p:grpSpPr>
            <a:xfrm>
              <a:off x="1042920" y="1413000"/>
              <a:ext cx="1942920" cy="1942920"/>
              <a:chOff x="1042920" y="1413000"/>
              <a:chExt cx="1942920" cy="1942920"/>
            </a:xfrm>
          </p:grpSpPr>
          <p:sp>
            <p:nvSpPr>
              <p:cNvPr id="47" name=""/>
              <p:cNvSpPr/>
              <p:nvPr/>
            </p:nvSpPr>
            <p:spPr>
              <a:xfrm>
                <a:off x="1042920" y="1413000"/>
                <a:ext cx="1942920" cy="1942920"/>
              </a:xfrm>
              <a:prstGeom prst="ellipse">
                <a:avLst/>
              </a:prstGeom>
              <a:noFill/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987560" y="2352960"/>
                <a:ext cx="53280" cy="51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 txBox="1"/>
            <p:nvPr/>
          </p:nvSpPr>
          <p:spPr>
            <a:xfrm>
              <a:off x="2122200" y="2131920"/>
              <a:ext cx="144720" cy="15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331280" y="2374920"/>
              <a:ext cx="684360" cy="68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014560" y="2374560"/>
              <a:ext cx="684000" cy="68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1114200" y="3141720"/>
              <a:ext cx="144720" cy="15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2771640" y="3213000"/>
              <a:ext cx="144360" cy="15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54" name=""/>
            <p:cNvSpPr/>
            <p:nvPr/>
          </p:nvSpPr>
          <p:spPr>
            <a:xfrm rot="8194200">
              <a:off x="1807920" y="2173680"/>
              <a:ext cx="446760" cy="39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93" y="7"/>
                  </a:moveTo>
                  <a:arcTo wR="10800" hR="10800" stAng="-5274793" swAng="5274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93" y="7"/>
                  </a:moveTo>
                  <a:arcTo wR="10800" hR="10800" stAng="-5274793" swAng="5274793"/>
                </a:path>
              </a:pathLst>
            </a:cu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492360" y="2060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顶点在圆心的角叫圆心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71640" y="4221000"/>
            <a:ext cx="1942920" cy="2246400"/>
            <a:chOff x="971640" y="4221000"/>
            <a:chExt cx="1942920" cy="2246400"/>
          </a:xfrm>
        </p:grpSpPr>
        <p:sp>
          <p:nvSpPr>
            <p:cNvPr id="57" name=""/>
            <p:cNvSpPr/>
            <p:nvPr/>
          </p:nvSpPr>
          <p:spPr>
            <a:xfrm>
              <a:off x="971640" y="4510080"/>
              <a:ext cx="1942920" cy="194328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16280" y="5450040"/>
              <a:ext cx="53640" cy="52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2050920" y="5229360"/>
              <a:ext cx="144720" cy="15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260000" y="5472000"/>
              <a:ext cx="684360" cy="68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1943280" y="5471640"/>
              <a:ext cx="684000" cy="68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1042920" y="6238800"/>
              <a:ext cx="1443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2700360" y="6310440"/>
              <a:ext cx="144360" cy="15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64" name=""/>
            <p:cNvSpPr/>
            <p:nvPr/>
          </p:nvSpPr>
          <p:spPr>
            <a:xfrm rot="8194200">
              <a:off x="1736280" y="5270040"/>
              <a:ext cx="446760" cy="39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93" y="7"/>
                  </a:moveTo>
                  <a:arcTo wR="10800" hR="10800" stAng="-5274793" swAng="5274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93" y="7"/>
                  </a:moveTo>
                  <a:arcTo wR="10800" hR="10800" stAng="-5274793" swAng="5274793"/>
                </a:path>
              </a:pathLst>
            </a:cu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79640" y="4510080"/>
              <a:ext cx="64764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1258920" y="4510080"/>
              <a:ext cx="72072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8194200">
              <a:off x="1763280" y="4498560"/>
              <a:ext cx="446760" cy="39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93" y="7"/>
                  </a:moveTo>
                  <a:arcTo wR="10800" hR="10800" stAng="-5274793" swAng="5274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93" y="7"/>
                  </a:moveTo>
                  <a:arcTo wR="10800" hR="10800" stAng="-5274793" swAng="5274793"/>
                </a:path>
              </a:pathLst>
            </a:cu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1979640" y="4221000"/>
              <a:ext cx="1443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C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003760" y="3448080"/>
            <a:ext cx="598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仿照圆心角的定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下图中象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的角下个定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495288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顶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，并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和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圆相交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角叫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圆周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11280" y="4343400"/>
            <a:ext cx="123804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403280" y="2276640"/>
            <a:ext cx="399960" cy="1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64800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如图，∠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A=50°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， ∠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AOC=6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BD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是⊙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的直径，则∠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AEB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等于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70°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；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110°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90°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；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12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93964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425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24000" y="3284640"/>
            <a:ext cx="676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如图，△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的顶点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都在⊙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上，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30 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则⊙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的半径是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661080" y="1125360"/>
            <a:ext cx="1876320" cy="1854720"/>
            <a:chOff x="6661080" y="1125360"/>
            <a:chExt cx="1876320" cy="1854720"/>
          </a:xfrm>
        </p:grpSpPr>
        <p:sp>
          <p:nvSpPr>
            <p:cNvPr id="559" name=""/>
            <p:cNvSpPr/>
            <p:nvPr/>
          </p:nvSpPr>
          <p:spPr>
            <a:xfrm>
              <a:off x="6802560" y="1452240"/>
              <a:ext cx="1512720" cy="151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86560" y="1125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101080" y="2581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61080" y="2579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343280" y="18604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0425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946920" y="1766520"/>
              <a:ext cx="1216080" cy="885960"/>
            </a:xfrm>
            <a:custGeom>
              <a:avLst/>
              <a:gdLst/>
              <a:ahLst/>
              <a:rect l="l" t="t" r="r" b="b"/>
              <a:pathLst>
                <a:path w="766" h="558">
                  <a:moveTo>
                    <a:pt x="0" y="558"/>
                  </a:moveTo>
                  <a:lnTo>
                    <a:pt x="766" y="557"/>
                  </a:lnTo>
                  <a:lnTo>
                    <a:pt x="766" y="0"/>
                  </a:lnTo>
                  <a:lnTo>
                    <a:pt x="0" y="558"/>
                  </a:lnTo>
                  <a:close/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34320" y="1468080"/>
              <a:ext cx="1236600" cy="120996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779" y="766"/>
                  </a:moveTo>
                  <a:lnTo>
                    <a:pt x="472" y="0"/>
                  </a:lnTo>
                  <a:lnTo>
                    <a:pt x="0" y="784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72360" y="1500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761600" y="15825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67560" y="2162160"/>
              <a:ext cx="73080" cy="7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659280" y="3213000"/>
            <a:ext cx="1743480" cy="2272680"/>
            <a:chOff x="6659280" y="3213000"/>
            <a:chExt cx="1743480" cy="2272680"/>
          </a:xfrm>
        </p:grpSpPr>
        <p:sp>
          <p:nvSpPr>
            <p:cNvPr id="570" name=""/>
            <p:cNvSpPr/>
            <p:nvPr/>
          </p:nvSpPr>
          <p:spPr>
            <a:xfrm>
              <a:off x="6820200" y="3554280"/>
              <a:ext cx="1582560" cy="1582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691040" y="3213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658920" y="4635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719480" y="50259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451280" y="3985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20000" y="3597120"/>
              <a:ext cx="846360" cy="1512720"/>
            </a:xfrm>
            <a:custGeom>
              <a:avLst/>
              <a:gdLst/>
              <a:ahLst/>
              <a:rect l="l" t="t" r="r" b="b"/>
              <a:pathLst>
                <a:path w="533" h="953">
                  <a:moveTo>
                    <a:pt x="0" y="789"/>
                  </a:moveTo>
                  <a:lnTo>
                    <a:pt x="533" y="0"/>
                  </a:lnTo>
                  <a:lnTo>
                    <a:pt x="505" y="953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20000" y="4849560"/>
              <a:ext cx="801720" cy="246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04280" y="4354200"/>
              <a:ext cx="7308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5280" y="4869000"/>
            <a:ext cx="34574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解：连接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OA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、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0920" y="5300640"/>
            <a:ext cx="504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∵∠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C=30 ° 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，∴∠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OB=60 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50920" y="5805360"/>
            <a:ext cx="6265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又∵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OA=OB 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，∴△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OB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是等边三角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9640" y="6281640"/>
            <a:ext cx="50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∴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OA=OB=AB=2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，即半径为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3707640" y="43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425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7020000" y="4406760"/>
            <a:ext cx="625320" cy="462240"/>
          </a:xfrm>
          <a:prstGeom prst="line">
            <a:avLst/>
          </a:prstGeom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629480" y="4392720"/>
            <a:ext cx="182520" cy="691920"/>
          </a:xfrm>
          <a:prstGeom prst="line">
            <a:avLst/>
          </a:prstGeom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84360" y="614880"/>
            <a:ext cx="766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已知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等于半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对的圆心角和圆周角的度数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116000" y="2852640"/>
            <a:ext cx="2808360" cy="2681280"/>
            <a:chOff x="1116000" y="2852640"/>
            <a:chExt cx="2808360" cy="2681280"/>
          </a:xfrm>
        </p:grpSpPr>
        <p:sp>
          <p:nvSpPr>
            <p:cNvPr id="587" name=""/>
            <p:cNvSpPr/>
            <p:nvPr/>
          </p:nvSpPr>
          <p:spPr>
            <a:xfrm>
              <a:off x="1116000" y="2852640"/>
              <a:ext cx="2448000" cy="244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68360" y="4005360"/>
              <a:ext cx="71640" cy="7128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24000" y="3573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19280" y="508464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187280" y="50133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32000" y="4941720"/>
              <a:ext cx="7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 flipH="1">
            <a:off x="1692360" y="4076640"/>
            <a:ext cx="576000" cy="1008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0000" y="4005360"/>
            <a:ext cx="719280" cy="1079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427640" y="2421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心角为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692360" y="2852640"/>
            <a:ext cx="718920" cy="223200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411280" y="2852640"/>
            <a:ext cx="648000" cy="223200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211640" y="3357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周角为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0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692360" y="5084640"/>
            <a:ext cx="718920" cy="2160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2411280" y="5084640"/>
            <a:ext cx="648000" cy="2160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932360" y="4292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50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179280" y="105264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，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BD=30° ,∠BDC=20°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3098880" y="1844640"/>
            <a:ext cx="2552760" cy="259236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 flipH="1">
            <a:off x="4140000" y="2062080"/>
            <a:ext cx="215640" cy="208764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6300720" y="4149720"/>
            <a:ext cx="1152720" cy="647640"/>
          </a:xfrm>
          <a:custGeom>
            <a:avLst/>
            <a:gdLst>
              <a:gd name="textAreaLeft" fmla="*/ 41760 w 1152720"/>
              <a:gd name="textAreaRight" fmla="*/ 1110960 w 115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36" h="21600">
                <a:moveTo>
                  <a:pt x="0" y="0"/>
                </a:moveTo>
                <a:lnTo>
                  <a:pt x="38436" y="0"/>
                </a:lnTo>
                <a:lnTo>
                  <a:pt x="38436" y="21600"/>
                </a:lnTo>
                <a:lnTo>
                  <a:pt x="0" y="21600"/>
                </a:lnTo>
                <a:close/>
              </a:path>
              <a:path fill="lightenLess" w="38436" h="21600">
                <a:moveTo>
                  <a:pt x="0" y="0"/>
                </a:moveTo>
                <a:lnTo>
                  <a:pt x="38436" y="0"/>
                </a:lnTo>
                <a:lnTo>
                  <a:pt x="37036" y="1400"/>
                </a:lnTo>
                <a:lnTo>
                  <a:pt x="1400" y="1400"/>
                </a:lnTo>
                <a:close/>
              </a:path>
              <a:path fill="darken" w="38436" h="21600">
                <a:moveTo>
                  <a:pt x="38436" y="0"/>
                </a:moveTo>
                <a:lnTo>
                  <a:pt x="38436" y="21600"/>
                </a:lnTo>
                <a:lnTo>
                  <a:pt x="37036" y="20200"/>
                </a:lnTo>
                <a:lnTo>
                  <a:pt x="37036" y="1400"/>
                </a:lnTo>
                <a:close/>
              </a:path>
              <a:path fill="darkenLess" w="38436" h="21600">
                <a:moveTo>
                  <a:pt x="38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36" y="20200"/>
                </a:lnTo>
                <a:close/>
              </a:path>
              <a:path fill="lighten" w="38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36" h="21600">
                <a:moveTo>
                  <a:pt x="12212" y="3794"/>
                </a:moveTo>
                <a:lnTo>
                  <a:pt x="26224" y="10800"/>
                </a:lnTo>
                <a:lnTo>
                  <a:pt x="122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3098880" y="1844640"/>
            <a:ext cx="2552760" cy="2592360"/>
          </a:xfrm>
          <a:prstGeom prst="rect">
            <a:avLst/>
          </a:prstGeom>
          <a:ln w="0">
            <a:noFill/>
          </a:ln>
        </p:spPr>
      </p:pic>
      <p:grpSp>
        <p:nvGrpSpPr>
          <p:cNvPr id="607" name=""/>
          <p:cNvGrpSpPr/>
          <p:nvPr/>
        </p:nvGrpSpPr>
        <p:grpSpPr>
          <a:xfrm>
            <a:off x="3492360" y="3068280"/>
            <a:ext cx="1728720" cy="1008360"/>
            <a:chOff x="3492360" y="3068280"/>
            <a:chExt cx="1728720" cy="1008360"/>
          </a:xfrm>
        </p:grpSpPr>
        <p:sp>
          <p:nvSpPr>
            <p:cNvPr id="608" name=""/>
            <p:cNvSpPr/>
            <p:nvPr/>
          </p:nvSpPr>
          <p:spPr>
            <a:xfrm flipV="1">
              <a:off x="3492360" y="3068280"/>
              <a:ext cx="865080" cy="64764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4141440" y="3068640"/>
              <a:ext cx="215640" cy="10080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57440" y="3068640"/>
              <a:ext cx="863640" cy="64764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79280" y="105264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在⊙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BD=30° ,∠BDC=20°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24000" y="90792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如图，在⊙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直径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B = C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弦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G⊥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交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交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F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求证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E=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599520" y="6174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807160" y="6174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3405240" y="2376360"/>
            <a:ext cx="3327480" cy="300204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5794200" y="2851200"/>
            <a:ext cx="578160" cy="10825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3457440" cy="3330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1116000" y="475920"/>
            <a:ext cx="70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直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=10c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=6cm,∠AC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平分线交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 .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, AD ,BD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979640" y="378936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12720" y="292428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539640" y="7650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直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C ,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圆上的两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若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D=40°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CD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900000" y="2205000"/>
            <a:ext cx="3888000" cy="2979000"/>
            <a:chOff x="900000" y="2205000"/>
            <a:chExt cx="3888000" cy="2979000"/>
          </a:xfrm>
        </p:grpSpPr>
        <p:sp>
          <p:nvSpPr>
            <p:cNvPr id="623" name=""/>
            <p:cNvSpPr/>
            <p:nvPr/>
          </p:nvSpPr>
          <p:spPr>
            <a:xfrm>
              <a:off x="1332000" y="2565360"/>
              <a:ext cx="2448000" cy="244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84360" y="3789360"/>
              <a:ext cx="71640" cy="7128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332000" y="378936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2124000" y="2636640"/>
              <a:ext cx="165600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1763280" y="2637000"/>
              <a:ext cx="360360" cy="20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1763640" y="3789000"/>
              <a:ext cx="201636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900000" y="3573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5128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40000" y="3429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6360" y="4724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35280" y="2205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843280" y="3357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332000" y="2637000"/>
            <a:ext cx="792000" cy="1152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434640" y="4149720"/>
            <a:ext cx="2459880" cy="2448000"/>
            <a:chOff x="6434640" y="4149720"/>
            <a:chExt cx="2459880" cy="2448000"/>
          </a:xfrm>
        </p:grpSpPr>
        <p:sp>
          <p:nvSpPr>
            <p:cNvPr id="637" name="m16Arc 211"/>
            <p:cNvSpPr/>
            <p:nvPr/>
          </p:nvSpPr>
          <p:spPr>
            <a:xfrm rot="16200000">
              <a:off x="6445440" y="414864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m16Arc 211"/>
            <p:cNvSpPr/>
            <p:nvPr/>
          </p:nvSpPr>
          <p:spPr>
            <a:xfrm rot="5400000">
              <a:off x="6436080" y="414828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39640" y="66204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，你能设法确定一个圆形纸片的圆心吗？你有多少种方法？与同学交流一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643280" y="1413000"/>
            <a:ext cx="2449800" cy="2449440"/>
          </a:xfrm>
          <a:prstGeom prst="ellipse">
            <a:avLst/>
          </a:prstGeom>
          <a:solidFill>
            <a:srgbClr val="54f6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4360" y="2997360"/>
            <a:ext cx="1871640" cy="1871640"/>
          </a:xfrm>
          <a:prstGeom prst="ellipse">
            <a:avLst/>
          </a:prstGeom>
          <a:solidFill>
            <a:srgbClr val="54f6fe"/>
          </a:solidFill>
          <a:ln w="28440">
            <a:solidFill>
              <a:srgbClr val="54f6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401840" y="49356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66560" y="2919240"/>
            <a:ext cx="2305080" cy="1951200"/>
            <a:chOff x="466560" y="2919240"/>
            <a:chExt cx="2305080" cy="1951200"/>
          </a:xfrm>
        </p:grpSpPr>
        <p:sp>
          <p:nvSpPr>
            <p:cNvPr id="644" name=""/>
            <p:cNvSpPr/>
            <p:nvPr/>
          </p:nvSpPr>
          <p:spPr>
            <a:xfrm>
              <a:off x="466560" y="29923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66560" y="291924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969480" y="2998800"/>
              <a:ext cx="1297080" cy="1871640"/>
              <a:chOff x="969480" y="2998800"/>
              <a:chExt cx="1297080" cy="1871640"/>
            </a:xfrm>
          </p:grpSpPr>
          <p:sp>
            <p:nvSpPr>
              <p:cNvPr id="647" name=""/>
              <p:cNvSpPr/>
              <p:nvPr/>
            </p:nvSpPr>
            <p:spPr>
              <a:xfrm>
                <a:off x="1618920" y="32860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969480" y="2998800"/>
                <a:ext cx="1297080" cy="1871640"/>
                <a:chOff x="969480" y="2998800"/>
                <a:chExt cx="1297080" cy="18716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969480" y="3279600"/>
                  <a:ext cx="1297080" cy="7164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574640" y="3338640"/>
                  <a:ext cx="71280" cy="15112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604520" y="2998800"/>
                  <a:ext cx="0" cy="1871640"/>
                </a:xfrm>
                <a:prstGeom prst="line">
                  <a:avLst/>
                </a:prstGeom>
                <a:ln w="28440">
                  <a:solidFill>
                    <a:srgbClr val="ffffff">
                      <a:alpha val="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2" name=""/>
          <p:cNvSpPr/>
          <p:nvPr/>
        </p:nvSpPr>
        <p:spPr>
          <a:xfrm>
            <a:off x="1619280" y="2998800"/>
            <a:ext cx="0" cy="187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807480" y="3480480"/>
            <a:ext cx="1621080" cy="93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619280" y="38480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590840" y="390528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300800" y="5373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675560" y="4149720"/>
            <a:ext cx="0" cy="2448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442200" y="4149720"/>
            <a:ext cx="2459880" cy="2448000"/>
            <a:chOff x="6442200" y="4149720"/>
            <a:chExt cx="2459880" cy="2448000"/>
          </a:xfrm>
        </p:grpSpPr>
        <p:sp>
          <p:nvSpPr>
            <p:cNvPr id="659" name="m16Arc 211"/>
            <p:cNvSpPr/>
            <p:nvPr/>
          </p:nvSpPr>
          <p:spPr>
            <a:xfrm rot="5400000">
              <a:off x="6443640" y="414828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m16Arc 211"/>
            <p:cNvSpPr/>
            <p:nvPr/>
          </p:nvSpPr>
          <p:spPr>
            <a:xfrm rot="16200000">
              <a:off x="6453000" y="414864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442200" y="4149720"/>
            <a:ext cx="2459880" cy="2448000"/>
            <a:chOff x="6442200" y="4149720"/>
            <a:chExt cx="2459880" cy="2448000"/>
          </a:xfrm>
        </p:grpSpPr>
        <p:sp>
          <p:nvSpPr>
            <p:cNvPr id="662" name="m16Arc 211"/>
            <p:cNvSpPr/>
            <p:nvPr/>
          </p:nvSpPr>
          <p:spPr>
            <a:xfrm rot="5400000">
              <a:off x="6443640" y="414828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m16Arc 211"/>
            <p:cNvSpPr/>
            <p:nvPr/>
          </p:nvSpPr>
          <p:spPr>
            <a:xfrm rot="16200000">
              <a:off x="6453000" y="414864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6451560" y="4140720"/>
            <a:ext cx="2448000" cy="2459880"/>
            <a:chOff x="6451560" y="4140720"/>
            <a:chExt cx="2448000" cy="2459880"/>
          </a:xfrm>
        </p:grpSpPr>
        <p:sp>
          <p:nvSpPr>
            <p:cNvPr id="665" name="m16Arc 211"/>
            <p:cNvSpPr/>
            <p:nvPr/>
          </p:nvSpPr>
          <p:spPr>
            <a:xfrm>
              <a:off x="6451560" y="415008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m16Arc 211"/>
            <p:cNvSpPr/>
            <p:nvPr/>
          </p:nvSpPr>
          <p:spPr>
            <a:xfrm rot="10800000">
              <a:off x="6451920" y="414072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 flipH="1">
            <a:off x="6451560" y="5373720"/>
            <a:ext cx="2448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6451560" y="4140360"/>
            <a:ext cx="2448000" cy="2459880"/>
            <a:chOff x="6451560" y="4140360"/>
            <a:chExt cx="2448000" cy="2459880"/>
          </a:xfrm>
        </p:grpSpPr>
        <p:sp>
          <p:nvSpPr>
            <p:cNvPr id="669" name="m16Arc 211"/>
            <p:cNvSpPr/>
            <p:nvPr/>
          </p:nvSpPr>
          <p:spPr>
            <a:xfrm rot="10800000">
              <a:off x="6451920" y="414036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m16Arc 211"/>
            <p:cNvSpPr/>
            <p:nvPr/>
          </p:nvSpPr>
          <p:spPr>
            <a:xfrm>
              <a:off x="6451560" y="414972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451560" y="4140360"/>
            <a:ext cx="2448000" cy="2459880"/>
            <a:chOff x="6451560" y="4140360"/>
            <a:chExt cx="2448000" cy="2459880"/>
          </a:xfrm>
        </p:grpSpPr>
        <p:sp>
          <p:nvSpPr>
            <p:cNvPr id="672" name="m16Arc 211"/>
            <p:cNvSpPr/>
            <p:nvPr/>
          </p:nvSpPr>
          <p:spPr>
            <a:xfrm rot="10800000">
              <a:off x="6451920" y="414036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m16Arc 211"/>
            <p:cNvSpPr/>
            <p:nvPr/>
          </p:nvSpPr>
          <p:spPr>
            <a:xfrm>
              <a:off x="6451560" y="414972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7632720" y="5345280"/>
            <a:ext cx="73080" cy="72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9157200">
            <a:off x="4314240" y="2045880"/>
            <a:ext cx="2663640" cy="180036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73520" y="2467080"/>
            <a:ext cx="2419560" cy="385560"/>
          </a:xfrm>
          <a:custGeom>
            <a:avLst/>
            <a:gdLst/>
            <a:ahLst/>
            <a:rect l="l" t="t" r="r" b="b"/>
            <a:pathLst>
              <a:path w="1524" h="243">
                <a:moveTo>
                  <a:pt x="0" y="0"/>
                </a:moveTo>
                <a:lnTo>
                  <a:pt x="1524" y="24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12106800">
            <a:off x="4140000" y="1787040"/>
            <a:ext cx="2663640" cy="180036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95880" y="1625760"/>
            <a:ext cx="1306440" cy="2046240"/>
          </a:xfrm>
          <a:custGeom>
            <a:avLst/>
            <a:gdLst/>
            <a:ahLst/>
            <a:rect l="l" t="t" r="r" b="b"/>
            <a:pathLst>
              <a:path w="823" h="1289">
                <a:moveTo>
                  <a:pt x="0" y="0"/>
                </a:moveTo>
                <a:lnTo>
                  <a:pt x="823" y="128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38840" y="2305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810400" y="2608200"/>
            <a:ext cx="72720" cy="73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916360" y="4437000"/>
            <a:ext cx="2087280" cy="2087640"/>
          </a:xfrm>
          <a:prstGeom prst="ellipse">
            <a:avLst/>
          </a:prstGeom>
          <a:solidFill>
            <a:srgbClr val="54f6fe"/>
          </a:solidFill>
          <a:ln w="28440">
            <a:solidFill>
              <a:srgbClr val="54f6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524400" y="4533840"/>
            <a:ext cx="880920" cy="1900440"/>
          </a:xfrm>
          <a:custGeom>
            <a:avLst/>
            <a:gdLst/>
            <a:ahLst/>
            <a:rect l="l" t="t" r="r" b="b"/>
            <a:pathLst>
              <a:path w="555" h="1197">
                <a:moveTo>
                  <a:pt x="0" y="0"/>
                </a:moveTo>
                <a:lnTo>
                  <a:pt x="555" y="119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14720" y="4867200"/>
            <a:ext cx="738000" cy="1657440"/>
          </a:xfrm>
          <a:custGeom>
            <a:avLst/>
            <a:gdLst/>
            <a:ahLst/>
            <a:rect l="l" t="t" r="r" b="b"/>
            <a:pathLst>
              <a:path w="465" h="1044">
                <a:moveTo>
                  <a:pt x="0" y="0"/>
                </a:moveTo>
                <a:lnTo>
                  <a:pt x="465" y="10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2989440" y="5055840"/>
            <a:ext cx="1942920" cy="86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116000" y="2349360"/>
            <a:ext cx="12970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方法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421080" y="3860640"/>
            <a:ext cx="12970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方法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32720" y="1268280"/>
            <a:ext cx="12967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方法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172280" y="3608280"/>
            <a:ext cx="12970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方法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932360" y="47545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670120" y="58197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920" y="-27000"/>
            <a:ext cx="259236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练   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74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000"/>
                            </p:stCondLst>
                            <p:childTnLst>
                              <p:par>
                                <p:cTn id="7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500"/>
                            </p:stCondLst>
                            <p:childTnLst>
                              <p:par>
                                <p:cTn id="7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500"/>
                            </p:stCondLst>
                            <p:childTnLst>
                              <p:par>
                                <p:cTn id="8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500"/>
                            </p:stCondLst>
                            <p:childTnLst>
                              <p:par>
                                <p:cTn id="8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500"/>
                            </p:stCondLst>
                            <p:childTnLst>
                              <p:par>
                                <p:cTn id="821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868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-474804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a2731006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3492360" cy="301464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179280" y="55224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例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足球比赛场上，甲、乙两名队员互相配合向对方球门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进攻，当甲带球冲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时，乙已跟随冲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图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此时甲是自己直接射门好，还是迅速将球回传给乙，让乙射门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95280" y="1844640"/>
            <a:ext cx="53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分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在真正的足球比赛中情况会很复杂，这里仅用数学方法从两点的静止状态加以考虑，如果两个点到球门的距离相差不大，要确定较好的射门位置，关键看这两个点分别对球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张角大小，当张角较小时，则球容易被对方守门员拦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怎样比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点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张角的大小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8360" y="1773360"/>
            <a:ext cx="518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考虑过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以及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中的任一点作一圆，这里不妨作出⊙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BM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显然，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点在⊙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BM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外，设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交圆于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　　∠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A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＜∠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C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而∠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CN=∠MB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　　所以∠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A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＜∠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B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　　因此，甲应将球回传给乙，让乙射门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5913360" y="1844640"/>
            <a:ext cx="3230640" cy="2703600"/>
            <a:chOff x="5913360" y="1844640"/>
            <a:chExt cx="3230640" cy="2703600"/>
          </a:xfrm>
        </p:grpSpPr>
        <p:pic>
          <p:nvPicPr>
            <p:cNvPr id="698" name="a2731006" descr=""/>
            <p:cNvPicPr/>
            <p:nvPr/>
          </p:nvPicPr>
          <p:blipFill>
            <a:blip r:embed="rId2"/>
            <a:stretch/>
          </p:blipFill>
          <p:spPr>
            <a:xfrm>
              <a:off x="5913360" y="1844640"/>
              <a:ext cx="3230640" cy="2703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9" name=""/>
            <p:cNvGrpSpPr/>
            <p:nvPr/>
          </p:nvGrpSpPr>
          <p:grpSpPr>
            <a:xfrm>
              <a:off x="6134760" y="2398320"/>
              <a:ext cx="2658240" cy="1675800"/>
              <a:chOff x="6134760" y="2398320"/>
              <a:chExt cx="2658240" cy="1675800"/>
            </a:xfrm>
          </p:grpSpPr>
          <p:sp>
            <p:nvSpPr>
              <p:cNvPr id="700" name=""/>
              <p:cNvSpPr/>
              <p:nvPr/>
            </p:nvSpPr>
            <p:spPr>
              <a:xfrm>
                <a:off x="6134760" y="2398320"/>
                <a:ext cx="2658240" cy="167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 txBox="1"/>
              <p:nvPr/>
            </p:nvSpPr>
            <p:spPr>
              <a:xfrm>
                <a:off x="7685280" y="3780360"/>
                <a:ext cx="167400" cy="191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B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"/>
          <p:cNvGrpSpPr/>
          <p:nvPr/>
        </p:nvGrpSpPr>
        <p:grpSpPr>
          <a:xfrm>
            <a:off x="4859280" y="3068640"/>
            <a:ext cx="3457800" cy="3052080"/>
            <a:chOff x="4859280" y="3068640"/>
            <a:chExt cx="3457800" cy="3052080"/>
          </a:xfrm>
        </p:grpSpPr>
        <p:sp>
          <p:nvSpPr>
            <p:cNvPr id="703" name=""/>
            <p:cNvSpPr/>
            <p:nvPr/>
          </p:nvSpPr>
          <p:spPr>
            <a:xfrm>
              <a:off x="5364000" y="3213000"/>
              <a:ext cx="2664000" cy="2592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08720" y="5084640"/>
              <a:ext cx="2376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5508720" y="3499920"/>
              <a:ext cx="1942920" cy="158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51640" y="3429000"/>
              <a:ext cx="433440" cy="165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5940360" y="3500280"/>
              <a:ext cx="1511280" cy="208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7380360" y="3429000"/>
              <a:ext cx="71280" cy="165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524720" y="306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59280" y="4869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80000" y="56610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885080" y="51577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32720" y="436572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93080" y="5013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380360" y="4941720"/>
              <a:ext cx="216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596360" y="4941720"/>
              <a:ext cx="0" cy="142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395280" y="134136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如图所示，已知⊿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BC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三个顶点都在⊙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上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D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⊿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BC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高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E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⊙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直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求证：∠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BAE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＝∠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508720" y="5084640"/>
            <a:ext cx="431640" cy="505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651640" y="5013360"/>
            <a:ext cx="14436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5651280" y="5157720"/>
            <a:ext cx="144360" cy="14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76720" y="329760"/>
            <a:ext cx="296208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0425"/>
                </a:solidFill>
                <a:latin typeface="Arial"/>
                <a:ea typeface="楷体_GB2312"/>
              </a:rPr>
              <a:t>问题探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6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下列图形中所画的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否为圆周角？并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276640"/>
            <a:ext cx="1511280" cy="1511280"/>
          </a:xfrm>
          <a:prstGeom prst="ellipse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2349360"/>
            <a:ext cx="1511280" cy="1511280"/>
          </a:xfrm>
          <a:prstGeom prst="ellipse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2276640"/>
            <a:ext cx="1511280" cy="1511280"/>
          </a:xfrm>
          <a:prstGeom prst="ellipse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04000" y="2205000"/>
            <a:ext cx="1511280" cy="1511280"/>
          </a:xfrm>
          <a:prstGeom prst="ellipse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276640"/>
            <a:ext cx="1712880" cy="1368360"/>
          </a:xfrm>
          <a:custGeom>
            <a:avLst/>
            <a:gdLst/>
            <a:ahLst/>
            <a:rect l="l" t="t" r="r" b="b"/>
            <a:pathLst>
              <a:path w="1079" h="862">
                <a:moveTo>
                  <a:pt x="635" y="0"/>
                </a:moveTo>
                <a:lnTo>
                  <a:pt x="0" y="862"/>
                </a:lnTo>
                <a:lnTo>
                  <a:pt x="1079" y="464"/>
                </a:lnTo>
              </a:path>
            </a:pathLst>
          </a:custGeom>
          <a:noFill/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" y="3611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0425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6000" y="2492280"/>
            <a:ext cx="1511280" cy="865440"/>
          </a:xfrm>
          <a:custGeom>
            <a:avLst/>
            <a:gdLst/>
            <a:ahLst/>
            <a:rect l="l" t="t" r="r" b="b"/>
            <a:pathLst>
              <a:path w="952" h="545">
                <a:moveTo>
                  <a:pt x="0" y="545"/>
                </a:moveTo>
                <a:lnTo>
                  <a:pt x="726" y="0"/>
                </a:lnTo>
                <a:lnTo>
                  <a:pt x="952" y="409"/>
                </a:lnTo>
              </a:path>
            </a:pathLst>
          </a:custGeom>
          <a:noFill/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78920" y="241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0425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2833560"/>
            <a:ext cx="1746360" cy="703440"/>
          </a:xfrm>
          <a:custGeom>
            <a:avLst/>
            <a:gdLst/>
            <a:ahLst/>
            <a:rect l="l" t="t" r="r" b="b"/>
            <a:pathLst>
              <a:path w="1100" h="443">
                <a:moveTo>
                  <a:pt x="0" y="330"/>
                </a:moveTo>
                <a:lnTo>
                  <a:pt x="845" y="0"/>
                </a:lnTo>
                <a:lnTo>
                  <a:pt x="1100" y="443"/>
                </a:lnTo>
              </a:path>
            </a:pathLst>
          </a:custGeom>
          <a:noFill/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7080" y="20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0425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12160" y="1868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0425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2997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3068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2997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24720" y="2924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4076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0425"/>
                </a:solidFill>
                <a:latin typeface="Arial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2640" y="407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0425"/>
                </a:solidFill>
                <a:latin typeface="Arial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6720" y="4005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0425"/>
                </a:solidFill>
                <a:latin typeface="Arial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0360" y="3933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0425"/>
                </a:solidFill>
                <a:latin typeface="Arial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479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顶点不在圆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52680" y="47480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顶点在圆上，两边和圆相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4941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边不和圆相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77080" y="47973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一边和圆不相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773360"/>
            <a:ext cx="649440" cy="503280"/>
          </a:xfrm>
          <a:custGeom>
            <a:avLst/>
            <a:gdLst/>
            <a:ahLst/>
            <a:rect l="l" t="t" r="r" b="b"/>
            <a:pathLst>
              <a:path w="409" h="317">
                <a:moveTo>
                  <a:pt x="0" y="227"/>
                </a:moveTo>
                <a:lnTo>
                  <a:pt x="409" y="317"/>
                </a:lnTo>
                <a:lnTo>
                  <a:pt x="409" y="0"/>
                </a:lnTo>
              </a:path>
            </a:pathLst>
          </a:custGeom>
          <a:noFill/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第二课时　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回顾：圆周角定理及推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思考：判断正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同弧或等弧所对的圆周角相等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相等的圆周角所对的弧相等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.90°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角所对的弦是直径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直径所对的角等于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90°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　  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长等于半径的弦所对的圆周角等于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0°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68360" y="69228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   如图，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C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平分线交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900000" y="2639880"/>
                <a:ext cx="4822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>
            <a:off x="826920" y="505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又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Rt△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BD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中，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D</a:t>
            </a:r>
            <a:r>
              <a:rPr b="1" lang="zh-CN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BD</a:t>
            </a:r>
            <a:r>
              <a:rPr b="1" lang="zh-CN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=AB</a:t>
            </a:r>
            <a:r>
              <a:rPr b="1" lang="zh-CN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826920" y="5518080"/>
          <a:ext cx="61930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5518080"/>
                    <a:ext cx="61930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>
            <a:off x="709200" y="1484280"/>
            <a:ext cx="16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：∵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是直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956520" y="191772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∴ 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C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= 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D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=90°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868320" y="2378160"/>
            <a:ext cx="20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Rt△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068840" y="3421080"/>
            <a:ext cx="20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∵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平分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C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4160" y="451008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∴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D=B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830160" y="3983040"/>
          <a:ext cx="2662200" cy="39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160" y="3983040"/>
                    <a:ext cx="2662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5" name=""/>
          <p:cNvSpPr/>
          <p:nvPr/>
        </p:nvSpPr>
        <p:spPr>
          <a:xfrm>
            <a:off x="0" y="0"/>
            <a:ext cx="259236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例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5"/>
          <a:stretch/>
        </p:blipFill>
        <p:spPr>
          <a:xfrm>
            <a:off x="5724360" y="1700280"/>
            <a:ext cx="29019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395280" y="5191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证：如果三角形一边上的中线等于这边的一半，那么这个三角形是直角三角形．（提示：作出以这条边为直径的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300720" y="2492280"/>
            <a:ext cx="1944720" cy="194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7222320" y="3427560"/>
            <a:ext cx="71640" cy="71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300720" y="3456000"/>
            <a:ext cx="1944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313320" y="2610000"/>
            <a:ext cx="1405080" cy="838080"/>
          </a:xfrm>
          <a:custGeom>
            <a:avLst/>
            <a:gdLst/>
            <a:ahLst/>
            <a:rect l="l" t="t" r="r" b="b"/>
            <a:pathLst>
              <a:path w="885" h="528">
                <a:moveTo>
                  <a:pt x="0" y="528"/>
                </a:moveTo>
                <a:lnTo>
                  <a:pt x="885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256520" y="2614680"/>
            <a:ext cx="461880" cy="847800"/>
          </a:xfrm>
          <a:custGeom>
            <a:avLst/>
            <a:gdLst/>
            <a:ahLst/>
            <a:rect l="l" t="t" r="r" b="b"/>
            <a:pathLst>
              <a:path w="291" h="534">
                <a:moveTo>
                  <a:pt x="291" y="0"/>
                </a:moveTo>
                <a:lnTo>
                  <a:pt x="0" y="53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728120" y="2624040"/>
            <a:ext cx="514080" cy="833400"/>
          </a:xfrm>
          <a:custGeom>
            <a:avLst/>
            <a:gdLst/>
            <a:ahLst/>
            <a:rect l="l" t="t" r="r" b="b"/>
            <a:pathLst>
              <a:path w="324" h="525">
                <a:moveTo>
                  <a:pt x="0" y="0"/>
                </a:moveTo>
                <a:lnTo>
                  <a:pt x="324" y="52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869080" y="3270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17416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597800" y="2305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993000" y="3456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11280" y="20350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证： 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直角三角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16000" y="26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证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3296880" y="2951280"/>
            <a:ext cx="1337400" cy="689400"/>
            <a:chOff x="3296880" y="2951280"/>
            <a:chExt cx="1337400" cy="689400"/>
          </a:xfrm>
        </p:grpSpPr>
        <p:sp>
          <p:nvSpPr>
            <p:cNvPr id="751" name=""/>
            <p:cNvSpPr/>
            <p:nvPr/>
          </p:nvSpPr>
          <p:spPr>
            <a:xfrm>
              <a:off x="3296880" y="3241800"/>
              <a:ext cx="133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CO=    AB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52" name=""/>
            <p:cNvGraphicFramePr/>
            <p:nvPr/>
          </p:nvGraphicFramePr>
          <p:xfrm>
            <a:off x="3929040" y="2951280"/>
            <a:ext cx="221760" cy="66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29040" y="2951280"/>
                      <a:ext cx="2217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54" name=""/>
          <p:cNvSpPr/>
          <p:nvPr/>
        </p:nvSpPr>
        <p:spPr>
          <a:xfrm>
            <a:off x="1909800" y="2637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为直径作⊙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836720" y="321156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∵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AO=BO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836720" y="3789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∴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AO=BO=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836720" y="4437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∴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点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在⊙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上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909800" y="5013360"/>
            <a:ext cx="28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又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∵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为直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836720" y="5445000"/>
            <a:ext cx="4248000" cy="647640"/>
            <a:chOff x="1836720" y="5445000"/>
            <a:chExt cx="4248000" cy="647640"/>
          </a:xfrm>
        </p:grpSpPr>
        <p:sp>
          <p:nvSpPr>
            <p:cNvPr id="760" name=""/>
            <p:cNvSpPr/>
            <p:nvPr/>
          </p:nvSpPr>
          <p:spPr>
            <a:xfrm>
              <a:off x="1836720" y="5589360"/>
              <a:ext cx="42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∴∠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Times New Roman"/>
                </a:rPr>
                <a:t>ACB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=     ×180°= 90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61" name=""/>
            <p:cNvGraphicFramePr/>
            <p:nvPr/>
          </p:nvGraphicFramePr>
          <p:xfrm>
            <a:off x="3133440" y="5445000"/>
            <a:ext cx="250560" cy="647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3440" y="5445000"/>
                      <a:ext cx="2505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3" name=""/>
          <p:cNvGrpSpPr/>
          <p:nvPr/>
        </p:nvGrpSpPr>
        <p:grpSpPr>
          <a:xfrm>
            <a:off x="611280" y="1341360"/>
            <a:ext cx="7247520" cy="792360"/>
            <a:chOff x="611280" y="1341360"/>
            <a:chExt cx="7247520" cy="792360"/>
          </a:xfrm>
        </p:grpSpPr>
        <p:sp>
          <p:nvSpPr>
            <p:cNvPr id="764" name=""/>
            <p:cNvSpPr/>
            <p:nvPr/>
          </p:nvSpPr>
          <p:spPr>
            <a:xfrm>
              <a:off x="611280" y="1484280"/>
              <a:ext cx="56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已知：△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BC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中，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边上的中线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6039720" y="1341360"/>
              <a:ext cx="1819080" cy="792360"/>
              <a:chOff x="6039720" y="1341360"/>
              <a:chExt cx="1819080" cy="792360"/>
            </a:xfrm>
          </p:grpSpPr>
          <p:graphicFrame>
            <p:nvGraphicFramePr>
              <p:cNvPr id="766" name=""/>
              <p:cNvGraphicFramePr/>
              <p:nvPr/>
            </p:nvGraphicFramePr>
            <p:xfrm>
              <a:off x="7021440" y="1341360"/>
              <a:ext cx="430200" cy="792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6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21440" y="1341360"/>
                        <a:ext cx="430200" cy="79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8" name=""/>
              <p:cNvSpPr/>
              <p:nvPr/>
            </p:nvSpPr>
            <p:spPr>
              <a:xfrm>
                <a:off x="6039720" y="1494000"/>
                <a:ext cx="181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且</a:t>
                </a: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CO=     A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2172600" y="6100920"/>
            <a:ext cx="22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∴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△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为直角三角形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6360" y="-27000"/>
            <a:ext cx="324036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课本　练   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53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课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如图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OA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OB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OC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都是⊙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半径，∠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AOB=2∠BOC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∠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ACB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与∠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BAC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大小有什么关系？为什么？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1695600" cy="174312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984960" y="4344840"/>
            <a:ext cx="608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40c0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如图，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是⊙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上的四个点，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∠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BCD=100°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，求∠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BOD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（  所对的圆心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和∠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BAD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7164360" y="5084640"/>
            <a:ext cx="17240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0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7864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351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如图，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是⊙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直径，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D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是⊙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弦，延长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D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到点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使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DC=BD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连接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C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交⊙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于点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点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与点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重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C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大小有什么关系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）按角的大小分类，请你判断△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属于哪一类三角形，并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6372360" y="2781360"/>
            <a:ext cx="2034720" cy="2011680"/>
            <a:chOff x="6372360" y="2781360"/>
            <a:chExt cx="2034720" cy="2011680"/>
          </a:xfrm>
        </p:grpSpPr>
        <p:sp>
          <p:nvSpPr>
            <p:cNvPr id="779" name=""/>
            <p:cNvSpPr/>
            <p:nvPr/>
          </p:nvSpPr>
          <p:spPr>
            <a:xfrm>
              <a:off x="6372360" y="2995560"/>
              <a:ext cx="1512720" cy="1513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81800" y="2781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042040" y="4262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59200" y="4370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302240" y="4394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0425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05440" y="3067200"/>
              <a:ext cx="1295280" cy="1369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86520" y="37162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0425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950520" y="338616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cc"/>
                  </a:solidFill>
                  <a:latin typeface="Arial"/>
                </a:rPr>
                <a:t>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806520" y="34275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0425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635040" y="6308640"/>
            <a:ext cx="496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∴△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ABC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是锐角三角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451640" y="3068640"/>
            <a:ext cx="12960" cy="13683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84360" y="306864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解：（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）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B=AC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87240" y="3484440"/>
            <a:ext cx="273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证明：连接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1280" y="4365720"/>
            <a:ext cx="496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又∵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DC=BD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，∴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B=AC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53960" y="4808520"/>
            <a:ext cx="496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）△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ABC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是锐角三角形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41520" y="5329080"/>
            <a:ext cx="4533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由（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）知，∠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B=∠C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＜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90 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46200" y="5861160"/>
            <a:ext cx="6302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连接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BF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，则∠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AFB=90 °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，∴∠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＜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90 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25600" y="3890880"/>
            <a:ext cx="496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∵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B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是直径，∴∠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DB=90°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"/>
          <p:cNvGrpSpPr/>
          <p:nvPr/>
        </p:nvGrpSpPr>
        <p:grpSpPr>
          <a:xfrm>
            <a:off x="336600" y="482760"/>
            <a:ext cx="8267760" cy="2837880"/>
            <a:chOff x="336600" y="482760"/>
            <a:chExt cx="8267760" cy="2837880"/>
          </a:xfrm>
        </p:grpSpPr>
        <p:sp>
          <p:nvSpPr>
            <p:cNvPr id="798" name=""/>
            <p:cNvSpPr/>
            <p:nvPr/>
          </p:nvSpPr>
          <p:spPr>
            <a:xfrm>
              <a:off x="336600" y="482760"/>
              <a:ext cx="8267760" cy="22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1.AB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、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AC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为⊙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O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的两条弦，延长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CA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到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，使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AD=AB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，如果∠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ADB=35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求∠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BOC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的度数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9" name="" descr=""/>
            <p:cNvPicPr/>
            <p:nvPr/>
          </p:nvPicPr>
          <p:blipFill>
            <a:blip r:embed="rId1"/>
            <a:stretch/>
          </p:blipFill>
          <p:spPr>
            <a:xfrm>
              <a:off x="4878360" y="1341360"/>
              <a:ext cx="3581640" cy="19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0" name=""/>
          <p:cNvGrpSpPr/>
          <p:nvPr/>
        </p:nvGrpSpPr>
        <p:grpSpPr>
          <a:xfrm>
            <a:off x="360360" y="3625920"/>
            <a:ext cx="8820000" cy="2539440"/>
            <a:chOff x="360360" y="3625920"/>
            <a:chExt cx="8820000" cy="2539440"/>
          </a:xfrm>
        </p:grpSpPr>
        <p:pic>
          <p:nvPicPr>
            <p:cNvPr id="801" name="" descr=""/>
            <p:cNvPicPr/>
            <p:nvPr/>
          </p:nvPicPr>
          <p:blipFill>
            <a:blip r:embed="rId2"/>
            <a:stretch/>
          </p:blipFill>
          <p:spPr>
            <a:xfrm>
              <a:off x="3922560" y="4267080"/>
              <a:ext cx="3457800" cy="189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"/>
            <p:cNvGrpSpPr/>
            <p:nvPr/>
          </p:nvGrpSpPr>
          <p:grpSpPr>
            <a:xfrm>
              <a:off x="360360" y="3625920"/>
              <a:ext cx="8820000" cy="1470240"/>
              <a:chOff x="360360" y="3625920"/>
              <a:chExt cx="8820000" cy="1470240"/>
            </a:xfrm>
          </p:grpSpPr>
          <p:grpSp>
            <p:nvGrpSpPr>
              <p:cNvPr id="803" name=""/>
              <p:cNvGrpSpPr/>
              <p:nvPr/>
            </p:nvGrpSpPr>
            <p:grpSpPr>
              <a:xfrm>
                <a:off x="4083120" y="3625920"/>
                <a:ext cx="1549440" cy="524880"/>
                <a:chOff x="4083120" y="3625920"/>
                <a:chExt cx="1549440" cy="52488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4083120" y="3630240"/>
                  <a:ext cx="762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⌒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870440" y="3625920"/>
                  <a:ext cx="762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⌒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6" name=""/>
              <p:cNvSpPr/>
              <p:nvPr/>
            </p:nvSpPr>
            <p:spPr>
              <a:xfrm>
                <a:off x="360360" y="3773160"/>
                <a:ext cx="8820000" cy="13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、如图，在⊙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O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中，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BC=2DE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， ∠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BOC=84°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求∠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的度数。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7" name=""/>
          <p:cNvSpPr/>
          <p:nvPr/>
        </p:nvSpPr>
        <p:spPr>
          <a:xfrm>
            <a:off x="395280" y="285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BOC =140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68360" y="5157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A=21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7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7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468360" y="3860640"/>
            <a:ext cx="8280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在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，一条弧所对的圆心角和圆周角分别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x+100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5x-30)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_    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72960" y="612720"/>
            <a:ext cx="8447040" cy="2998800"/>
            <a:chOff x="372960" y="612720"/>
            <a:chExt cx="8447040" cy="2998800"/>
          </a:xfrm>
        </p:grpSpPr>
        <p:pic>
          <p:nvPicPr>
            <p:cNvPr id="811" name="" descr=""/>
            <p:cNvPicPr/>
            <p:nvPr/>
          </p:nvPicPr>
          <p:blipFill>
            <a:blip r:embed="rId1"/>
            <a:stretch/>
          </p:blipFill>
          <p:spPr>
            <a:xfrm>
              <a:off x="5940360" y="1773360"/>
              <a:ext cx="259092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372960" y="612720"/>
              <a:ext cx="844704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.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如图，在直径为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AB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半圆中，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为圆心，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为半圆上的两点，∠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D=50°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，则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∠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AD=______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5508720" y="450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2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124000" y="1844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6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拓展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一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的点。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求证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＜ 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Q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如果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， 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Q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怎样的关系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5435640" y="3645000"/>
            <a:ext cx="242892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965400" cy="465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76720" y="1125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没有圆周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2133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没有圆心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321300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它们有什么共同的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422100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它们都对着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同一条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-1044720" y="3066840"/>
            <a:ext cx="561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66"/>
                </a:solidFill>
                <a:latin typeface="Arial"/>
              </a:rPr>
              <a:t>⌒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965240" y="1785960"/>
            <a:ext cx="64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2152440" y="3341880"/>
            <a:ext cx="64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Arial"/>
              </a:rPr>
              <a:t>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4560" y="1125000"/>
            <a:ext cx="4343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球员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,D,E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处射门时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所处的位置对球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别形成三个张角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C, ∠ADC,∠AEC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三个角的大小有什么关系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37080" y="-14400"/>
            <a:ext cx="4572000" cy="3156120"/>
            <a:chOff x="4537080" y="-14400"/>
            <a:chExt cx="4572000" cy="3156120"/>
          </a:xfrm>
        </p:grpSpPr>
        <p:grpSp>
          <p:nvGrpSpPr>
            <p:cNvPr id="109" name=""/>
            <p:cNvGrpSpPr/>
            <p:nvPr/>
          </p:nvGrpSpPr>
          <p:grpSpPr>
            <a:xfrm>
              <a:off x="4537080" y="-14400"/>
              <a:ext cx="4572000" cy="3156120"/>
              <a:chOff x="4537080" y="-14400"/>
              <a:chExt cx="4572000" cy="3156120"/>
            </a:xfrm>
          </p:grpSpPr>
          <p:pic>
            <p:nvPicPr>
              <p:cNvPr id="110" name="" descr="">
                <a:hlinkClick r:id="rId1"/>
              </p:cNvPr>
              <p:cNvPicPr/>
              <p:nvPr/>
            </p:nvPicPr>
            <p:blipFill>
              <a:blip r:embed="rId2"/>
              <a:srcRect l="0" t="7962" r="0" b="0"/>
              <a:stretch/>
            </p:blipFill>
            <p:spPr>
              <a:xfrm>
                <a:off x="4537080" y="-14400"/>
                <a:ext cx="4572000" cy="315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5832360" y="1280880"/>
                <a:ext cx="2590920" cy="129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289560" y="1998720"/>
                <a:ext cx="304920" cy="653760"/>
              </a:xfrm>
              <a:prstGeom prst="line">
                <a:avLst/>
              </a:prstGeom>
              <a:ln w="9360">
                <a:solidFill>
                  <a:srgbClr val="66ff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594480" y="1693800"/>
                <a:ext cx="1523880" cy="838080"/>
              </a:xfrm>
              <a:prstGeom prst="line">
                <a:avLst/>
              </a:prstGeom>
              <a:ln w="9360">
                <a:solidFill>
                  <a:srgbClr val="66ff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65880" y="2531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ff33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527800" y="1280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ff33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813800" y="13572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ff33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909040" y="215100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356600" y="2500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6644880" y="1982520"/>
              <a:ext cx="839880" cy="54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467480" y="1758600"/>
              <a:ext cx="633600" cy="8017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96080" y="2322360"/>
              <a:ext cx="87948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150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150617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03760" y="2043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5879880" y="1814040"/>
              <a:ext cx="28440" cy="3430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900760" y="2118960"/>
              <a:ext cx="160200" cy="190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235560" y="1684080"/>
              <a:ext cx="1884600" cy="378000"/>
            </a:xfrm>
            <a:prstGeom prst="line">
              <a:avLst/>
            </a:prstGeom>
            <a:ln w="93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55640" y="3645000"/>
            <a:ext cx="2676600" cy="1244520"/>
            <a:chOff x="755640" y="3645000"/>
            <a:chExt cx="2676600" cy="1244520"/>
          </a:xfrm>
        </p:grpSpPr>
        <p:sp>
          <p:nvSpPr>
            <p:cNvPr id="127" name=""/>
            <p:cNvSpPr/>
            <p:nvPr/>
          </p:nvSpPr>
          <p:spPr>
            <a:xfrm flipH="1">
              <a:off x="1146240" y="3645000"/>
              <a:ext cx="690480" cy="6350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16000" y="4294440"/>
              <a:ext cx="2316240" cy="5950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5640" y="40053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隶书"/>
                  <a:ea typeface="隶书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019160" y="3594240"/>
            <a:ext cx="2419200" cy="2419200"/>
            <a:chOff x="1019160" y="3594240"/>
            <a:chExt cx="2419200" cy="2419200"/>
          </a:xfrm>
        </p:grpSpPr>
        <p:sp>
          <p:nvSpPr>
            <p:cNvPr id="131" name=""/>
            <p:cNvSpPr/>
            <p:nvPr/>
          </p:nvSpPr>
          <p:spPr>
            <a:xfrm>
              <a:off x="1019160" y="3594240"/>
              <a:ext cx="2419200" cy="2419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85840" y="45086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●</a:t>
              </a: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55640" y="3644640"/>
            <a:ext cx="2668320" cy="1780920"/>
            <a:chOff x="755640" y="3644640"/>
            <a:chExt cx="2668320" cy="1780920"/>
          </a:xfrm>
        </p:grpSpPr>
        <p:sp>
          <p:nvSpPr>
            <p:cNvPr id="134" name=""/>
            <p:cNvSpPr/>
            <p:nvPr/>
          </p:nvSpPr>
          <p:spPr>
            <a:xfrm flipV="1">
              <a:off x="1069920" y="3644640"/>
              <a:ext cx="792000" cy="1528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069920" y="4896000"/>
              <a:ext cx="2354040" cy="262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5640" y="4965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400040" y="3651120"/>
            <a:ext cx="2046240" cy="2542320"/>
            <a:chOff x="1400040" y="3651120"/>
            <a:chExt cx="2046240" cy="2542320"/>
          </a:xfrm>
        </p:grpSpPr>
        <p:sp>
          <p:nvSpPr>
            <p:cNvPr id="138" name=""/>
            <p:cNvSpPr/>
            <p:nvPr/>
          </p:nvSpPr>
          <p:spPr>
            <a:xfrm flipH="1">
              <a:off x="1704600" y="3651120"/>
              <a:ext cx="152280" cy="227016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717560" y="4870080"/>
              <a:ext cx="1728720" cy="9892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00040" y="5733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隶书"/>
                  <a:ea typeface="隶书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28640" y="3213000"/>
            <a:ext cx="2392560" cy="1971000"/>
            <a:chOff x="1628640" y="3213000"/>
            <a:chExt cx="2392560" cy="1971000"/>
          </a:xfrm>
        </p:grpSpPr>
        <p:sp>
          <p:nvSpPr>
            <p:cNvPr id="142" name=""/>
            <p:cNvSpPr/>
            <p:nvPr/>
          </p:nvSpPr>
          <p:spPr>
            <a:xfrm>
              <a:off x="3564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28640" y="321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788840" y="3645000"/>
            <a:ext cx="1649520" cy="1296720"/>
            <a:chOff x="1788840" y="3645000"/>
            <a:chExt cx="1649520" cy="1296720"/>
          </a:xfrm>
        </p:grpSpPr>
        <p:sp>
          <p:nvSpPr>
            <p:cNvPr id="145" name=""/>
            <p:cNvSpPr/>
            <p:nvPr/>
          </p:nvSpPr>
          <p:spPr>
            <a:xfrm flipH="1">
              <a:off x="1788480" y="3645000"/>
              <a:ext cx="730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368520" y="4871880"/>
              <a:ext cx="69840" cy="6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126680" y="58388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你能发现什么规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211640" y="3429000"/>
            <a:ext cx="4753080" cy="1356120"/>
            <a:chOff x="4211640" y="3429000"/>
            <a:chExt cx="4753080" cy="1356120"/>
          </a:xfrm>
        </p:grpSpPr>
        <p:sp>
          <p:nvSpPr>
            <p:cNvPr id="149" name=""/>
            <p:cNvSpPr/>
            <p:nvPr/>
          </p:nvSpPr>
          <p:spPr>
            <a:xfrm>
              <a:off x="4211640" y="3716280"/>
              <a:ext cx="4753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所对的圆周角∠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AEC  ∠ ABC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∠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ADC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大小有什么关系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84720" y="3429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68360" y="26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实践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66680" y="990720"/>
            <a:ext cx="6782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       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任意画一个圆周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一下圆心在什么位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90720" y="2666880"/>
            <a:ext cx="1979640" cy="1980000"/>
            <a:chOff x="990720" y="2666880"/>
            <a:chExt cx="1979640" cy="1980000"/>
          </a:xfrm>
        </p:grpSpPr>
        <p:sp>
          <p:nvSpPr>
            <p:cNvPr id="154" name=""/>
            <p:cNvSpPr txBox="1"/>
            <p:nvPr/>
          </p:nvSpPr>
          <p:spPr>
            <a:xfrm>
              <a:off x="1016640" y="4392720"/>
              <a:ext cx="148320" cy="16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707920" y="4466880"/>
              <a:ext cx="145800" cy="15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990720" y="2666880"/>
              <a:ext cx="1979640" cy="1980000"/>
              <a:chOff x="990720" y="2666880"/>
              <a:chExt cx="1979640" cy="1980000"/>
            </a:xfrm>
          </p:grpSpPr>
          <p:sp>
            <p:nvSpPr>
              <p:cNvPr id="157" name=""/>
              <p:cNvSpPr/>
              <p:nvPr/>
            </p:nvSpPr>
            <p:spPr>
              <a:xfrm flipH="1" flipV="1">
                <a:off x="2671920" y="2963520"/>
                <a:ext cx="6120" cy="1383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990720" y="2666880"/>
                <a:ext cx="1979640" cy="1980000"/>
                <a:chOff x="990720" y="2666880"/>
                <a:chExt cx="1979640" cy="1980000"/>
              </a:xfrm>
            </p:grpSpPr>
            <p:sp>
              <p:nvSpPr>
                <p:cNvPr id="159" name=""/>
                <p:cNvSpPr txBox="1"/>
                <p:nvPr/>
              </p:nvSpPr>
              <p:spPr>
                <a:xfrm>
                  <a:off x="1873800" y="3436920"/>
                  <a:ext cx="148320" cy="16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0000"/>
                        </a:solidFill>
                        <a:miter/>
                      </a:ln>
                      <a:solidFill>
                        <a:srgbClr val="ffffff"/>
                      </a:solidFill>
                      <a:latin typeface="宋体"/>
                    </a:rPr>
                    <a:t>o</a:t>
                  </a:r>
                  <a:endPara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  <a:ea typeface="宋体"/>
                  </a:endParaRPr>
                </a:p>
              </p:txBody>
            </p:sp>
            <p:grpSp>
              <p:nvGrpSpPr>
                <p:cNvPr id="160" name=""/>
                <p:cNvGrpSpPr/>
                <p:nvPr/>
              </p:nvGrpSpPr>
              <p:grpSpPr>
                <a:xfrm>
                  <a:off x="990720" y="2666880"/>
                  <a:ext cx="1979640" cy="1980000"/>
                  <a:chOff x="990720" y="2666880"/>
                  <a:chExt cx="1979640" cy="1980000"/>
                </a:xfrm>
              </p:grpSpPr>
              <p:grpSp>
                <p:nvGrpSpPr>
                  <p:cNvPr id="161" name=""/>
                  <p:cNvGrpSpPr/>
                  <p:nvPr/>
                </p:nvGrpSpPr>
                <p:grpSpPr>
                  <a:xfrm>
                    <a:off x="990720" y="2666880"/>
                    <a:ext cx="1979640" cy="1980000"/>
                    <a:chOff x="990720" y="2666880"/>
                    <a:chExt cx="1979640" cy="1980000"/>
                  </a:xfrm>
                </p:grpSpPr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990720" y="2666880"/>
                      <a:ext cx="1979640" cy="198000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1953360" y="3624840"/>
                      <a:ext cx="54000" cy="5292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000" bIns="-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4" name=""/>
                  <p:cNvSpPr/>
                  <p:nvPr/>
                </p:nvSpPr>
                <p:spPr>
                  <a:xfrm flipH="1">
                    <a:off x="1284840" y="2963520"/>
                    <a:ext cx="1386720" cy="1382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 rot="8194200">
                  <a:off x="2291760" y="2937600"/>
                  <a:ext cx="453240" cy="405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193" y="7"/>
                      </a:moveTo>
                      <a:arcTo wR="10800" hR="10800" stAng="-5274793" swAng="52747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193" y="7"/>
                      </a:moveTo>
                      <a:arcTo wR="10800" hR="10800" stAng="-5274793" swAng="5274793"/>
                    </a:path>
                  </a:pathLst>
                </a:custGeom>
                <a:noFill/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" name=""/>
            <p:cNvSpPr txBox="1"/>
            <p:nvPr/>
          </p:nvSpPr>
          <p:spPr>
            <a:xfrm>
              <a:off x="2720520" y="2729880"/>
              <a:ext cx="146160" cy="15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C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657600" y="2438280"/>
            <a:ext cx="2056680" cy="2133000"/>
            <a:chOff x="3657600" y="2438280"/>
            <a:chExt cx="2056680" cy="2133000"/>
          </a:xfrm>
        </p:grpSpPr>
        <p:sp>
          <p:nvSpPr>
            <p:cNvPr id="168" name=""/>
            <p:cNvSpPr/>
            <p:nvPr/>
          </p:nvSpPr>
          <p:spPr>
            <a:xfrm flipH="1" flipV="1">
              <a:off x="4550400" y="2665080"/>
              <a:ext cx="826560" cy="163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657600" y="2438280"/>
              <a:ext cx="2056680" cy="2133000"/>
              <a:chOff x="3657600" y="2438280"/>
              <a:chExt cx="2056680" cy="213300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3657600" y="2629080"/>
                <a:ext cx="2056680" cy="1927080"/>
                <a:chOff x="3657600" y="2629080"/>
                <a:chExt cx="2056680" cy="19270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3657600" y="2629080"/>
                  <a:ext cx="2056680" cy="1927080"/>
                </a:xfrm>
                <a:prstGeom prst="ellipse">
                  <a:avLst/>
                </a:prstGeom>
                <a:noFill/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657680" y="3561480"/>
                  <a:ext cx="56160" cy="51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 txBox="1"/>
              <p:nvPr/>
            </p:nvSpPr>
            <p:spPr>
              <a:xfrm>
                <a:off x="4799520" y="3342600"/>
                <a:ext cx="154080" cy="156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o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3963240" y="2629080"/>
                <a:ext cx="620280" cy="163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732480" y="4344120"/>
                <a:ext cx="154080" cy="157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A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5487840" y="4416480"/>
                <a:ext cx="151920" cy="154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B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194200">
                <a:off x="4398120" y="2649960"/>
                <a:ext cx="470520" cy="39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193" y="7"/>
                    </a:moveTo>
                    <a:arcTo wR="10800" hR="10800" stAng="-5274793" swAng="52747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193" y="7"/>
                    </a:moveTo>
                    <a:arcTo wR="10800" hR="10800" stAng="-5274793" swAng="5274793"/>
                  </a:path>
                </a:pathLst>
              </a:custGeom>
              <a:noFill/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4479840" y="2438280"/>
                <a:ext cx="151200" cy="154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C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6400800" y="2514600"/>
            <a:ext cx="2285640" cy="2133000"/>
            <a:chOff x="6400800" y="2514600"/>
            <a:chExt cx="2285640" cy="2133000"/>
          </a:xfrm>
        </p:grpSpPr>
        <p:grpSp>
          <p:nvGrpSpPr>
            <p:cNvPr id="180" name=""/>
            <p:cNvGrpSpPr/>
            <p:nvPr/>
          </p:nvGrpSpPr>
          <p:grpSpPr>
            <a:xfrm>
              <a:off x="6400800" y="2514600"/>
              <a:ext cx="2130120" cy="2116800"/>
              <a:chOff x="6400800" y="2514600"/>
              <a:chExt cx="2130120" cy="2116800"/>
            </a:xfrm>
          </p:grpSpPr>
          <p:sp>
            <p:nvSpPr>
              <p:cNvPr id="181" name=""/>
              <p:cNvSpPr/>
              <p:nvPr/>
            </p:nvSpPr>
            <p:spPr>
              <a:xfrm>
                <a:off x="6400800" y="2514600"/>
                <a:ext cx="2130120" cy="2116800"/>
              </a:xfrm>
              <a:prstGeom prst="ellipse">
                <a:avLst/>
              </a:prstGeom>
              <a:noFill/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436520" y="3538800"/>
                <a:ext cx="58320" cy="56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 txBox="1"/>
            <p:nvPr/>
          </p:nvSpPr>
          <p:spPr>
            <a:xfrm>
              <a:off x="7583400" y="3297960"/>
              <a:ext cx="159480" cy="17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717600" y="3148920"/>
              <a:ext cx="1705680" cy="116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8217000" y="3148560"/>
              <a:ext cx="206280" cy="116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6478200" y="4398480"/>
              <a:ext cx="159480" cy="17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8296560" y="4477680"/>
              <a:ext cx="15732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9720000">
              <a:off x="8001360" y="3141720"/>
              <a:ext cx="486360" cy="43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93" y="7"/>
                  </a:moveTo>
                  <a:arcTo wR="10800" hR="10800" stAng="-5274793" swAng="5274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93" y="7"/>
                  </a:moveTo>
                  <a:arcTo wR="10800" hR="10800" stAng="-5274793" swAng="5274793"/>
                </a:path>
              </a:pathLst>
            </a:cu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8529120" y="3043800"/>
              <a:ext cx="15732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C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581480" y="50292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圆心在一边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029200"/>
            <a:ext cx="23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圆心在角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90480" y="502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圆心在角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图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观察圆周角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圆心角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C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它们的大小有什么关系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092400" y="2154240"/>
            <a:ext cx="1962360" cy="1962000"/>
            <a:chOff x="3092400" y="2154240"/>
            <a:chExt cx="1962360" cy="1962000"/>
          </a:xfrm>
        </p:grpSpPr>
        <p:sp>
          <p:nvSpPr>
            <p:cNvPr id="195" name=""/>
            <p:cNvSpPr/>
            <p:nvPr/>
          </p:nvSpPr>
          <p:spPr>
            <a:xfrm>
              <a:off x="3092400" y="2154240"/>
              <a:ext cx="196236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57480" y="289584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92360" y="1773360"/>
            <a:ext cx="1752480" cy="2745720"/>
            <a:chOff x="3492360" y="1773360"/>
            <a:chExt cx="1752480" cy="2745720"/>
          </a:xfrm>
        </p:grpSpPr>
        <p:sp>
          <p:nvSpPr>
            <p:cNvPr id="198" name=""/>
            <p:cNvSpPr/>
            <p:nvPr/>
          </p:nvSpPr>
          <p:spPr>
            <a:xfrm flipV="1">
              <a:off x="3854520" y="2516400"/>
              <a:ext cx="97128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790800" y="2213280"/>
              <a:ext cx="101520" cy="18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90800" y="2213280"/>
              <a:ext cx="33660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92360" y="1773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40040" y="4059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87640" y="215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103640" y="2511360"/>
              <a:ext cx="74592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01760" y="2065320"/>
            <a:ext cx="1962000" cy="1962000"/>
            <a:chOff x="401760" y="2065320"/>
            <a:chExt cx="1962000" cy="1962000"/>
          </a:xfrm>
        </p:grpSpPr>
        <p:sp>
          <p:nvSpPr>
            <p:cNvPr id="206" name=""/>
            <p:cNvSpPr/>
            <p:nvPr/>
          </p:nvSpPr>
          <p:spPr>
            <a:xfrm>
              <a:off x="401760" y="206532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6840" y="280692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5280" y="1628640"/>
            <a:ext cx="2133360" cy="2441160"/>
            <a:chOff x="395280" y="1628640"/>
            <a:chExt cx="2133360" cy="2441160"/>
          </a:xfrm>
        </p:grpSpPr>
        <p:sp>
          <p:nvSpPr>
            <p:cNvPr id="209" name=""/>
            <p:cNvSpPr/>
            <p:nvPr/>
          </p:nvSpPr>
          <p:spPr>
            <a:xfrm flipV="1">
              <a:off x="718920" y="2371320"/>
              <a:ext cx="1390680" cy="13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20720" y="2068560"/>
              <a:ext cx="353880" cy="169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74600" y="2068560"/>
              <a:ext cx="33660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6160" y="162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5280" y="36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71440" y="20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191280" y="1957320"/>
            <a:ext cx="1962000" cy="1962360"/>
            <a:chOff x="6191280" y="1957320"/>
            <a:chExt cx="1962000" cy="1962360"/>
          </a:xfrm>
        </p:grpSpPr>
        <p:sp>
          <p:nvSpPr>
            <p:cNvPr id="216" name=""/>
            <p:cNvSpPr/>
            <p:nvPr/>
          </p:nvSpPr>
          <p:spPr>
            <a:xfrm>
              <a:off x="6191280" y="1957320"/>
              <a:ext cx="1962000" cy="1962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56360" y="269892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867280" y="1557360"/>
            <a:ext cx="2476440" cy="1831320"/>
            <a:chOff x="5867280" y="1557360"/>
            <a:chExt cx="2476440" cy="1831320"/>
          </a:xfrm>
        </p:grpSpPr>
        <p:sp>
          <p:nvSpPr>
            <p:cNvPr id="219" name=""/>
            <p:cNvSpPr/>
            <p:nvPr/>
          </p:nvSpPr>
          <p:spPr>
            <a:xfrm flipV="1">
              <a:off x="6210000" y="2300400"/>
              <a:ext cx="171468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217920" y="1996920"/>
              <a:ext cx="671760" cy="11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89680" y="1997280"/>
              <a:ext cx="33624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91240" y="1557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67280" y="2928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86520" y="193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162560" y="2295360"/>
              <a:ext cx="7650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16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圆周角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圆心角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首先考虑第一种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心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周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∠ABC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BC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周角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圆心角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大小关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2349360"/>
            <a:ext cx="44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∵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外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2924280"/>
            <a:ext cx="39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OC=∠B+∠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33577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OA=O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29400" y="3200400"/>
            <a:ext cx="1962000" cy="1962000"/>
            <a:chOff x="6629400" y="3200400"/>
            <a:chExt cx="1962000" cy="1962000"/>
          </a:xfrm>
        </p:grpSpPr>
        <p:sp>
          <p:nvSpPr>
            <p:cNvPr id="232" name=""/>
            <p:cNvSpPr/>
            <p:nvPr/>
          </p:nvSpPr>
          <p:spPr>
            <a:xfrm>
              <a:off x="6629400" y="320040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94480" y="394200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629400" y="2819520"/>
            <a:ext cx="2133360" cy="2440800"/>
            <a:chOff x="6629400" y="2819520"/>
            <a:chExt cx="2133360" cy="2440800"/>
          </a:xfrm>
        </p:grpSpPr>
        <p:sp>
          <p:nvSpPr>
            <p:cNvPr id="235" name=""/>
            <p:cNvSpPr/>
            <p:nvPr/>
          </p:nvSpPr>
          <p:spPr>
            <a:xfrm flipV="1">
              <a:off x="6953040" y="3562200"/>
              <a:ext cx="1390680" cy="139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954840" y="3258720"/>
              <a:ext cx="353880" cy="169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08720" y="3259080"/>
              <a:ext cx="336600" cy="10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1028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294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5560" y="3200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95280" y="37893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=∠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4292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∴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OC=2∠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8360" y="4724280"/>
            <a:ext cx="4103280" cy="842760"/>
            <a:chOff x="468360" y="4724280"/>
            <a:chExt cx="4103280" cy="842760"/>
          </a:xfrm>
        </p:grpSpPr>
        <p:sp>
          <p:nvSpPr>
            <p:cNvPr id="244" name=""/>
            <p:cNvSpPr/>
            <p:nvPr/>
          </p:nvSpPr>
          <p:spPr>
            <a:xfrm>
              <a:off x="468360" y="4890960"/>
              <a:ext cx="41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即  ∠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C =    ∠AOC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2963520" y="4724280"/>
                  <a:ext cx="36180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6" name=""/>
          <p:cNvSpPr/>
          <p:nvPr/>
        </p:nvSpPr>
        <p:spPr>
          <a:xfrm>
            <a:off x="304920" y="568656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你能写出这个命题吗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67080" y="5516640"/>
            <a:ext cx="487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同弧所对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圆周角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等于它所对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圆心角的一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3429000"/>
            <a:ext cx="1752840" cy="13737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期望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可要理解并掌握这个模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655344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种情况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圆心不在圆周角的一边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会怎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心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圆周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∠ABC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内部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周角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圆心角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大小关系会怎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2349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提示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否转化为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情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3141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直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629400" y="3371760"/>
            <a:ext cx="1962000" cy="1962360"/>
            <a:chOff x="6629400" y="3371760"/>
            <a:chExt cx="1962000" cy="1962360"/>
          </a:xfrm>
        </p:grpSpPr>
        <p:sp>
          <p:nvSpPr>
            <p:cNvPr id="253" name=""/>
            <p:cNvSpPr/>
            <p:nvPr/>
          </p:nvSpPr>
          <p:spPr>
            <a:xfrm>
              <a:off x="6629400" y="3371760"/>
              <a:ext cx="1962000" cy="1962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94480" y="411336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24000" y="4365720"/>
            <a:ext cx="4824000" cy="842760"/>
            <a:chOff x="324000" y="4365720"/>
            <a:chExt cx="4824000" cy="842760"/>
          </a:xfrm>
        </p:grpSpPr>
        <p:sp>
          <p:nvSpPr>
            <p:cNvPr id="256" name=""/>
            <p:cNvSpPr/>
            <p:nvPr/>
          </p:nvSpPr>
          <p:spPr>
            <a:xfrm>
              <a:off x="324000" y="4532400"/>
              <a:ext cx="48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∴ ∠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C =       ∠AOC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3257280" y="4365720"/>
                  <a:ext cx="42552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8" name=""/>
          <p:cNvSpPr/>
          <p:nvPr/>
        </p:nvSpPr>
        <p:spPr>
          <a:xfrm>
            <a:off x="179280" y="58053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能写出这个命题吗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24360" y="5589720"/>
            <a:ext cx="4876920" cy="5205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同弧所对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圆周角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等于它所对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圆心角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的一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010280" y="2990880"/>
            <a:ext cx="1752480" cy="2745720"/>
            <a:chOff x="7010280" y="2990880"/>
            <a:chExt cx="1752480" cy="2745720"/>
          </a:xfrm>
        </p:grpSpPr>
        <p:sp>
          <p:nvSpPr>
            <p:cNvPr id="261" name=""/>
            <p:cNvSpPr/>
            <p:nvPr/>
          </p:nvSpPr>
          <p:spPr>
            <a:xfrm flipV="1">
              <a:off x="7372440" y="3733920"/>
              <a:ext cx="97128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7308720" y="3430800"/>
              <a:ext cx="101520" cy="18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08720" y="3430800"/>
              <a:ext cx="33660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2990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57960" y="5276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05560" y="337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621560" y="3728880"/>
              <a:ext cx="74592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7408800" y="3067200"/>
            <a:ext cx="820800" cy="2235960"/>
            <a:chOff x="7408800" y="3067200"/>
            <a:chExt cx="820800" cy="2235960"/>
          </a:xfrm>
        </p:grpSpPr>
        <p:sp>
          <p:nvSpPr>
            <p:cNvPr id="269" name=""/>
            <p:cNvSpPr/>
            <p:nvPr/>
          </p:nvSpPr>
          <p:spPr>
            <a:xfrm flipV="1">
              <a:off x="7408800" y="3436560"/>
              <a:ext cx="522360" cy="18666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48720" y="3067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95280" y="3645000"/>
            <a:ext cx="5715000" cy="991440"/>
            <a:chOff x="395280" y="3645000"/>
            <a:chExt cx="5715000" cy="991440"/>
          </a:xfrm>
        </p:grpSpPr>
        <p:sp>
          <p:nvSpPr>
            <p:cNvPr id="272" name=""/>
            <p:cNvSpPr/>
            <p:nvPr/>
          </p:nvSpPr>
          <p:spPr>
            <a:xfrm>
              <a:off x="395280" y="3689280"/>
              <a:ext cx="5715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99cc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D =  ∠AOD, ∠CBD = ∠COD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2071440" y="3645000"/>
                  <a:ext cx="25236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4586040" y="3689280"/>
                  <a:ext cx="25236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5" name=""/>
          <p:cNvGrpSpPr/>
          <p:nvPr/>
        </p:nvGrpSpPr>
        <p:grpSpPr>
          <a:xfrm>
            <a:off x="6789600" y="861840"/>
            <a:ext cx="1801800" cy="1679760"/>
            <a:chOff x="6789600" y="861840"/>
            <a:chExt cx="1801800" cy="1679760"/>
          </a:xfrm>
        </p:grpSpPr>
        <p:sp>
          <p:nvSpPr>
            <p:cNvPr id="276" name=""/>
            <p:cNvSpPr/>
            <p:nvPr/>
          </p:nvSpPr>
          <p:spPr>
            <a:xfrm>
              <a:off x="6789600" y="861840"/>
              <a:ext cx="1801800" cy="1679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82680" y="1496520"/>
              <a:ext cx="68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804000" y="549360"/>
            <a:ext cx="1958760" cy="2154240"/>
            <a:chOff x="6804000" y="549360"/>
            <a:chExt cx="1958760" cy="2154240"/>
          </a:xfrm>
        </p:grpSpPr>
        <p:sp>
          <p:nvSpPr>
            <p:cNvPr id="279" name=""/>
            <p:cNvSpPr/>
            <p:nvPr/>
          </p:nvSpPr>
          <p:spPr>
            <a:xfrm flipV="1">
              <a:off x="7101000" y="1185120"/>
              <a:ext cx="1276920" cy="11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7102800" y="925920"/>
              <a:ext cx="324720" cy="145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27520" y="925920"/>
              <a:ext cx="308880" cy="87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53560" y="549360"/>
              <a:ext cx="4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04000" y="2243880"/>
              <a:ext cx="4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43000" y="874080"/>
              <a:ext cx="4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22:27:39Z</dcterms:created>
  <dc:creator>微软用户</dc:creator>
  <dc:description/>
  <dc:language>en-US</dc:language>
  <cp:lastModifiedBy>Sky123.Org</cp:lastModifiedBy>
  <dcterms:modified xsi:type="dcterms:W3CDTF">2010-10-12T12:27:17Z</dcterms:modified>
  <cp:revision>20</cp:revision>
  <dc:subject/>
  <dc:title>幻灯片 1</dc:title>
</cp:coreProperties>
</file>