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gif" ContentType="image/gif"/>
  <Override PartName="/ppt/media/image6.png" ContentType="image/png"/>
  <Override PartName="/ppt/media/image3.jpeg" ContentType="image/jpeg"/>
  <Override PartName="/ppt/media/image4.png" ContentType="image/png"/>
  <Override PartName="/ppt/media/chimes.wav" ContentType="audio/x-wav"/>
  <Override PartName="/ppt/media/image7.png" ContentType="image/png"/>
  <Override PartName="/ppt/media/image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E740-64C5-4D65-B5A6-28C98DC1D2F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12999.com 1299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学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12999.com 1299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学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12999.com 1299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学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12999.com 1299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学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12999.com 1299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学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12999.com 1299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学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12999.com 1299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学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94E2-F8CC-4839-9983-BB752DAF3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59CC-FF3E-4C6A-A733-12AC2F1E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B4E268-1832-4548-A1A7-0B553FF6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64CDB8-70AF-4673-9D16-8924CA98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864D6A-1691-4815-9050-3A0E1129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08FA49-4CED-4B5A-BF46-CA15BA4A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F0DD4C-54FB-43DB-9289-BAB261FC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2AB54A-9353-463F-877E-4E938F1D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11C33E-AE64-4172-B92F-5633EF89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2A7445-AEC4-4611-9342-856A391C0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2AC12F-6FF9-448D-A619-3905FEE51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E5AEF7-94D1-4339-B490-D1F7D2A82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A84D-E39B-4395-9DB2-466AAAF05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C4C924-F7F6-47FB-9E77-3FC5A504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F179BA-72C0-47FD-8F8E-FB87B2EB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5661AB-FBA1-4121-A5D0-2C5BED0D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4D3495-07DD-45E7-A7B4-8FE5BC8E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F1B29A-BFD1-4357-86F1-DFEAD075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DAF1E4-57AB-46AD-AF68-B76F3785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B41F2D-9D7C-4F31-AF5E-CB7429E7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5C2AD1-DB44-4B52-878B-3BBDD5A0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EA5999-F654-4193-A6D7-71F952E1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576033-1A1C-4418-A713-4D8D2D32E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C7F1-8CBC-410B-96F7-829888C98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7F95AA-C5AF-4281-8472-D77B2E6F4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9A54C8-EC44-4EFB-BEFB-83422974A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AE136-C257-45CC-9000-63C7A9A0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EB2C8-83C3-412F-8ABB-3138A285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DE599D-A469-4D4B-8BBF-4654702B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59931-A219-4BEE-B9FB-3A7FA47A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87A22-8DC1-4818-8F6D-14397178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2110E9-6CF7-41E6-A41C-702F7F35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B6DB30-A6A2-4198-9FDE-149A06CD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9BAE9-D9CE-4599-9C4C-851D3DD6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1B37-344D-4AC2-A955-04336540A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7892D3-3233-4D34-9275-ECEC7B9A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86862-1F20-421B-916E-B24CB7F9E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04D2C-2284-4CF1-8AF6-E90DA83B6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FB9C19-6789-423C-97B7-042E3C035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5FBB67-5C29-4204-AD2C-CCF3E7AE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B4EBFE-9068-4B3D-98BE-28FEB4BA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30603F-2216-42A4-B949-2F7E25A3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48BD26-4DA0-47B8-B67E-00DC9BEC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958620-601C-44FF-93DE-CDE252F0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A76313-02F2-4A9C-9922-A791A17E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9426-CAE9-46E2-A9DB-9BC51321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44DF55-DEB4-4EBC-A261-73691F38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652B8A-B66B-49D9-8A4C-7D99EB31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CC480B-6893-4D88-9931-28BD289B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2BE5EE-8E18-4DC0-81B6-120BBA9B4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A23A28-5A9D-4E73-BE3F-12A07E84B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7FA23-6BA0-4119-8230-5367288C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09CD9-3F48-4EE0-9ACD-73AA81C4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45E8-FDB9-4213-915F-9CDBBF7C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BBB3-FB52-47F0-AE55-FDEB48CB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BCF9-AAD7-4143-AEB7-49EB336E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E67B-8A31-46AB-B7D4-5D85C624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7722-2688-4C94-8B12-EEC6BC59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0E67-2BBF-4CAA-B67E-707CFB18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A13B6-CB65-4938-9BA5-A65C2E47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EA7D-032C-46ED-BAEF-ADC77BB84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3AB3-831D-4938-BA54-9C92A66A6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4BB9E-A841-49D8-9FF1-92AD8C0A0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7B30C-72ED-46B7-B101-B6F88888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6AFC7-C8C6-42F2-BA36-8F8C8962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831F1-996F-46BD-AC19-3A61E223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F25D4-EF3A-4E10-85B9-F4A0D535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AA54-4C88-40AF-95CB-97ED78D3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2841D-8135-4575-AC50-D910A5F2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0ADBF-587B-4363-A3CB-47BBFD02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A1BD6-06FA-4DBD-B772-0767BA08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E055E-E7DE-4346-A59F-8CD4A1F0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7DF06-D720-468D-B9A2-9BF20BE7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86BC8-AB5B-4701-A7EA-081EFC3AA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5E1F4-4211-4605-89AC-48FCA29BC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44019-1FBD-4FF1-88E5-BD3756E2E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0B848-4ED0-4ACF-9BE9-2430462A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41F5B-9ECA-4942-A2DD-45D2E3FD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E792-B906-480D-A9C1-44B62570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2E0A3-7724-48E8-814F-0A890CAC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3B4A1-A6ED-4A15-8AC7-83F03295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1B099-CCBC-48E2-BB76-C770B477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23DF0-801C-4D32-8C36-7552E832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5F52B-B9B4-4539-99A9-92F5C1FC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3ADE8-16B4-4221-A329-079B665C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023BD-3ECA-4282-A6A7-82879F8B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63751-9CBE-4F24-9078-613061F50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A4B33-3E96-46F1-8CF4-B35ED060D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8C1D0-62BB-4C83-96A7-2B945CFC1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A440-C8FB-474C-B59C-0B5C54AE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8C401-238A-4A2E-9645-4B9221C4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81E2B-2606-4908-8BBF-104C14A5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8D600-38C3-47C6-87D7-FCA8AFE5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72FF7-BC97-48E8-9B43-A0D011E8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7F5E4-AFF7-4E28-B509-4627C74F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86299-6B81-409A-AC02-25E01435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EBA31-84D6-4414-AB78-1B7C4F71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3F3B0-854A-4D1F-9717-A94F50E6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87EB5-57DE-428B-8472-7736974B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3F4AF-004D-4F7C-AB82-348DCAE37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6E61-9C96-4EC8-BB3F-7ED417B6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0B5E1-795F-4376-9232-E83D07B74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05F036-7B4E-4568-A506-FA4170445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B43ECA-F85F-44D0-96AB-0B01D832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F28C6E-D1A0-4202-B19B-22793289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AEDCA6-02F1-4BE5-BC50-2CE5BC83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E9EEFB-8533-4458-9AE3-DF8B94AE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00AFA4-7FD5-4B7B-9E78-645397BB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5E755D-5EE4-48FC-9548-CC007672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F7C018-3389-4405-A697-7F580B94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D1EFF2-7C3A-45BC-AB83-800CF8CB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59CF-DBAA-4F6D-8E23-6BBBBF73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AE9450-76BC-4202-8BE7-DC491F5B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86131F-4845-466F-BA73-07F39E06E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54055C-BE27-4AA1-919D-33BFB41DE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11B65-57CF-416A-BE5D-0CEB9E6C3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A5426-976A-45FE-88CC-24E5C440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F8CC8-0F67-45F4-865F-DFABF428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E7F1D-2EE9-463B-B374-9DFF5DD8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A16ED-D1F7-44CB-B521-B81A254C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3CF63-ECC2-40D5-B2F7-0397B5F8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3B212-23ED-4A6E-91E4-2051460B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FCBE-087F-49EB-8273-D624EDF9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B4679-9C2F-40E0-A46E-7E9D45B9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E1EFD-BB51-4D91-99A6-07B52C27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72756-28EC-4796-88CB-6D1FB10B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F9EE1-FED0-423B-8E23-C2F9DA438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F64C9-70A9-4F40-B434-8F9D2DE9D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11E53-407A-49DD-BB99-487735054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8BF17-032C-4A60-9749-AEE84C36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59631-E2C4-4CD8-B37E-41FE559B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7F197-FAAC-428D-969E-B2759BF8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46A41-C13C-4382-8710-62A8654B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94A1-B253-478C-9673-BC74B2A3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22EDC-8778-4C6B-9709-67730302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9BA7C-0FCC-4B47-A2F6-17096B29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0238E-2EA4-46AD-BE7C-C742293E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35450-44C0-4335-AE45-F4144A6F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8B228-2826-4183-BF2F-FEB0FEDD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7770A-1AFC-4B5D-AF33-82164E4AE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1E64B-FAA7-4510-8FC2-821D30FB8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06CDC6-35B0-45C9-A684-E5F0D524E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9B8A37-9BFF-4237-81F7-7FF196ED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5EB078-C923-4051-8423-AE50D6F1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DE2B-BBB3-4DEA-9314-B04D095F74A4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29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30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ftr" idx="29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sldNum" idx="30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8010-B307-4B04-BF1C-EA3FF70AB4F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78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3293-A29E-45C2-A638-CC1ACC671AD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38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EC32-ED09-4854-BB92-F5BDE30EDFD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1045-3B75-4C79-99D4-154D5077BE68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282B-2175-42BF-A33C-573140003BD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11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2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1E5B-838F-45B5-B8E7-BFA82396023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6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80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82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89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4E3C-D1DB-4CF7-B017-117688D1A04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37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41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43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5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BFE6-BCB1-448E-9BB9-F042B12EC9E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a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DBD8-EEEC-4C27-B274-E191D67582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a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C271-113F-4109-A16A-726111AD8F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A6D9-25F1-4E49-9FF8-9A6BD66A459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8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8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8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2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2000.cn/UploadFile/2005-6/2005623133526887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1476360" y="1844640"/>
            <a:ext cx="5111640" cy="13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第二十五章 概率初步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604" name=""/>
          <p:cNvSpPr/>
          <p:nvPr/>
        </p:nvSpPr>
        <p:spPr>
          <a:xfrm>
            <a:off x="0" y="522936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河北黄骅新世纪中学初三数学组王老师制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10·10·27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80520" y="187200"/>
            <a:ext cx="815364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试分析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从一堆牌中任意抽一张抽到红牌”这一事件的发生情况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219320" y="4581360"/>
            <a:ext cx="431640" cy="806760"/>
          </a:xfrm>
          <a:prstGeom prst="upArrow">
            <a:avLst>
              <a:gd name="adj1" fmla="val 50000"/>
              <a:gd name="adj2" fmla="val 46726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068720" y="4572000"/>
            <a:ext cx="432000" cy="579600"/>
          </a:xfrm>
          <a:prstGeom prst="upArrow">
            <a:avLst>
              <a:gd name="adj1" fmla="val 50000"/>
              <a:gd name="adj2" fmla="val 33542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7020000" y="4492800"/>
            <a:ext cx="431640" cy="520560"/>
          </a:xfrm>
          <a:prstGeom prst="upArrow">
            <a:avLst>
              <a:gd name="adj1" fmla="val 50000"/>
              <a:gd name="adj2" fmla="val 3015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012000" y="5229360"/>
            <a:ext cx="275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可能发生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也可能不发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12920" y="5572080"/>
            <a:ext cx="241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必然发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975040" y="5343480"/>
            <a:ext cx="28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必然不会发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5977080" y="1298520"/>
            <a:ext cx="2771640" cy="2922480"/>
          </a:xfrm>
          <a:prstGeom prst="rect">
            <a:avLst/>
          </a:prstGeom>
          <a:ln w="0">
            <a:noFill/>
          </a:ln>
        </p:spPr>
      </p:pic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176040" y="1295280"/>
            <a:ext cx="2667240" cy="297180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3"/>
          <a:stretch/>
        </p:blipFill>
        <p:spPr>
          <a:xfrm>
            <a:off x="3162240" y="1341360"/>
            <a:ext cx="25621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3652920" y="4076640"/>
            <a:ext cx="17964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、明年我市十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·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一的最高气温是三十摄氏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68360" y="2708280"/>
            <a:ext cx="79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、在标准大气压下，温度在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摄氏度以下，纯净水会结成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68360" y="184464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2009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年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月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日当天我市下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395280" y="33336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有一匹马奔跑的速度是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米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826920" y="1341360"/>
            <a:ext cx="7417080" cy="366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79280" y="1413000"/>
            <a:ext cx="8785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·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出下列事件各是哪类事件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①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王数学小考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②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哈亚运会中国队金牌总数第一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③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年有四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④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袋中在若干球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中有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红球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红从中摸出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球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都是红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⑤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天下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3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179280" y="620640"/>
            <a:ext cx="8785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0·  </a:t>
            </a: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指出下列事件各是哪类事件</a:t>
            </a: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  ①</a:t>
            </a: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小王数学小考</a:t>
            </a: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00</a:t>
            </a: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  ②</a:t>
            </a: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多哈亚运会中国队金牌总数第一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  ③</a:t>
            </a: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一年有四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  ④</a:t>
            </a: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一袋中在若干球</a:t>
            </a: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其中有</a:t>
            </a: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个红球</a:t>
            </a: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小红从中摸出</a:t>
            </a: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个球</a:t>
            </a: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都是红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  ⑤</a:t>
            </a: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明天下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0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592200" y="266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50920" y="0"/>
            <a:ext cx="8893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⑴</a:t>
            </a: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度量三角形内角和</a:t>
            </a: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结果是</a:t>
            </a: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360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⑵</a:t>
            </a: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正常情况下水加热到</a:t>
            </a: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00°C,</a:t>
            </a: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就会沸腾</a:t>
            </a: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⑶</a:t>
            </a: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掷一个正面体的骰子</a:t>
            </a: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向上的一面点数为</a:t>
            </a: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⑷</a:t>
            </a: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经过城市中某一有交通信号灯的路口</a:t>
            </a: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遇到红灯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(5)</a:t>
            </a: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某射击运动员射击一次</a:t>
            </a: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命中靶心</a:t>
            </a: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476360" y="765000"/>
            <a:ext cx="46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不可能事件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124000" y="2133720"/>
            <a:ext cx="36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cc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0099cc"/>
                </a:solidFill>
                <a:latin typeface="Arial"/>
              </a:rPr>
              <a:t>必然事件</a:t>
            </a:r>
            <a:r>
              <a:rPr b="1" lang="zh-CN" sz="4400" spc="-1" strike="noStrike">
                <a:solidFill>
                  <a:srgbClr val="0099cc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572000" y="335772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随机事件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780000" y="472428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随机事件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763640" y="609588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随机事件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50920" y="2133720"/>
            <a:ext cx="85312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练一练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指出下列事件中哪些事件是必然事件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哪些事件是不可能事件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哪些事件是随机事件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3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3" dur="1" fill="hold">
                                    <p:stCondLst>
                                      <p:cond delay="1500"/>
                                    </p:stCondLst>
                                  </p:cTn>
                                  <p:tgtEl>
                                    <p:spTgt spid="6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755640" y="143928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摸球试验：袋中装有</a:t>
            </a:r>
            <a:r>
              <a:rPr b="1" lang="zh-CN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个黑球，</a:t>
            </a:r>
            <a:r>
              <a:rPr b="1" lang="zh-CN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个白球，这些球的形状、大小、质地等完全相同，在看不到球的条件下，随机地从袋子中摸出一个球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826920" y="299412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这个球是白球还是黑球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826920" y="401796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如果两种球都有可能被摸出，那么摸出黑球和摸出白球的可能性一样大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395280" y="26028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归纳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楷体_GB2312"/>
              </a:rPr>
              <a:t>：一般地，随机事件发生的可能性是有大小的，不同的随机事件发生的可能性的大小有可能不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68360" y="2565360"/>
            <a:ext cx="75596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楷体_GB2312"/>
              </a:rPr>
              <a:t>思考：能否通过改变袋子中某种颜色的球的数量，使“摸出黑球”和“摸出白球”的可能性大小相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142920" y="1467000"/>
            <a:ext cx="8893080" cy="33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一个袋子里装有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形状、质地、大小一样的球，其中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白球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红球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黑球，其它都是黄球，从中任摸一个，摸中哪种球的可能性最大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一个人随意翻书三次，三次都翻到了偶数页，我们能否说翻到偶数页的可能性就大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袋子里装有红、白两种颜色的小球，质地、大小、形状一样，小明从中随机摸出一个球，然后放回，如果小明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次摸到红球，能否断定袋子里红球的数量比白球多？怎样做才能判断哪种颜色的球数量较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已知地球表面陆地面积与海洋面积的比均为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如果宇宙中飞来一块陨石落在地球上，“落在海洋里”与“落在陆地上”哪个可能性更大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7308720" y="5805360"/>
            <a:ext cx="136872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思考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0" y="736560"/>
            <a:ext cx="903600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 ⑴</a:t>
            </a: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同一枚骰子连续掷两次</a:t>
            </a: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朝上一面出现点数之和为</a:t>
            </a: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4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 ⑵</a:t>
            </a: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任意四边形的内角和都等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360</a:t>
            </a:r>
            <a:r>
              <a:rPr b="1" lang="zh-CN" sz="5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⑶</a:t>
            </a: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一辆小汽车从面前经过</a:t>
            </a: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它的车牌号码为偶数</a:t>
            </a: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 ⑷</a:t>
            </a: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从一副完整扑克牌中任抽一张</a:t>
            </a: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它是草花</a:t>
            </a: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08000" y="1052640"/>
            <a:ext cx="88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</a:t>
            </a:r>
            <a:r>
              <a:rPr b="0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指出下列事件是哪类事件</a:t>
            </a:r>
            <a:r>
              <a:rPr b="0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0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必然事件</a:t>
            </a:r>
            <a:r>
              <a:rPr b="0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0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可能事件</a:t>
            </a:r>
            <a:r>
              <a:rPr b="0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0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随机事件</a:t>
            </a:r>
            <a:r>
              <a:rPr b="0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564000" y="2852640"/>
            <a:ext cx="38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99ff"/>
                </a:solidFill>
                <a:latin typeface="Arial"/>
              </a:rPr>
              <a:t>（必然事件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748480" y="1442880"/>
            <a:ext cx="249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99ff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3399ff"/>
                </a:solidFill>
                <a:latin typeface="Arial"/>
              </a:rPr>
              <a:t>不可能事件</a:t>
            </a:r>
            <a:r>
              <a:rPr b="1" lang="zh-CN" sz="4400" spc="-1" strike="noStrike">
                <a:solidFill>
                  <a:srgbClr val="3399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240800" y="429264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99ff"/>
                </a:solidFill>
                <a:latin typeface="Arial"/>
              </a:rPr>
              <a:t>（随机事件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627280" y="5589720"/>
            <a:ext cx="38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99ff"/>
                </a:solidFill>
                <a:latin typeface="Arial"/>
              </a:rPr>
              <a:t>（随机事件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1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/>
          </p:nvPr>
        </p:nvSpPr>
        <p:spPr>
          <a:xfrm>
            <a:off x="376200" y="1916280"/>
            <a:ext cx="829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休得罪了幕府将军，将军决定处罚一休，幸得安国寺长老和百姓们的求情，将军终于同意让一休用自己的聪明才智来决定自己的命运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方法是将军写下两张签，一张罚，一张免，让一休抽签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抽中罚则罚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抽中免则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将军一心想处罚一休，将军会在写签时怎么写呢？原来将军在两张签上都写上了“罚”。一休不论抽到哪一张都一样要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爱动脑筋的一休早就料到了这一点。一休会用什么办法应对狡诈的幕府将军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371600" y="0"/>
            <a:ext cx="838080" cy="866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181480" y="0"/>
            <a:ext cx="83844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1" name=""/>
          <p:cNvGraphicFramePr/>
          <p:nvPr/>
        </p:nvGraphicFramePr>
        <p:xfrm>
          <a:off x="7238880" y="0"/>
          <a:ext cx="167652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0"/>
                    <a:ext cx="1676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3" name=""/>
          <p:cNvSpPr/>
          <p:nvPr/>
        </p:nvSpPr>
        <p:spPr>
          <a:xfrm>
            <a:off x="611280" y="836640"/>
            <a:ext cx="606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你用“</a:t>
            </a:r>
            <a:r>
              <a:rPr b="1" lang="zh-CN" sz="32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随机事件</a:t>
            </a:r>
            <a:r>
              <a:rPr b="1" lang="zh-CN" sz="32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;</a:t>
            </a:r>
            <a:r>
              <a:rPr b="1" lang="zh-CN" sz="32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必然事件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等词语来分析两段内容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0" y="189000"/>
            <a:ext cx="88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同学们听过“天有不测风云”这句话吧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!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它的原意是指刮风、下雨、阴天、晴天这些天气状况很难预料，后来它被引申为：世界上很多事情具有偶然性，人们不能事先判定这些事情是否会发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13000" y="3295800"/>
            <a:ext cx="4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3203640" y="836640"/>
            <a:ext cx="5600520" cy="954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152280" y="671400"/>
            <a:ext cx="8991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      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上，我迟到了。于是就急忙去学校上学，可是在楼梯上遇到了班主任，她批评了我一顿。我想我真不走运，她经常在办公室的啊，今天我真倒霉。我明天不能再迟到了，不然明天早上我将在楼梯上遇到班主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午放学回家，我看了一场篮球赛，我想长大后我会比姚明还高，我将长到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高。看完比赛后，我又回到学校上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午放学后，我开始写作业。今天作业太多了，我不停的写啊，一直写到太阳从西边落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3200400" y="6019920"/>
            <a:ext cx="914400" cy="641160"/>
          </a:xfrm>
          <a:prstGeom prst="rect">
            <a:avLst/>
          </a:prstGeom>
          <a:ln w="0">
            <a:noFill/>
          </a:ln>
        </p:spPr>
      </p:pic>
      <p:pic>
        <p:nvPicPr>
          <p:cNvPr id="686" name="" descr=""/>
          <p:cNvPicPr/>
          <p:nvPr/>
        </p:nvPicPr>
        <p:blipFill>
          <a:blip r:embed="rId2"/>
          <a:stretch/>
        </p:blipFill>
        <p:spPr>
          <a:xfrm>
            <a:off x="1295280" y="0"/>
            <a:ext cx="641520" cy="641520"/>
          </a:xfrm>
          <a:prstGeom prst="rect">
            <a:avLst/>
          </a:prstGeom>
          <a:ln w="0">
            <a:noFill/>
          </a:ln>
        </p:spPr>
      </p:pic>
      <p:pic>
        <p:nvPicPr>
          <p:cNvPr id="687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641160" cy="641160"/>
          </a:xfrm>
          <a:prstGeom prst="rect">
            <a:avLst/>
          </a:prstGeom>
          <a:ln w="0">
            <a:noFill/>
          </a:ln>
        </p:spPr>
      </p:pic>
      <p:pic>
        <p:nvPicPr>
          <p:cNvPr id="688" name="" descr=""/>
          <p:cNvPicPr/>
          <p:nvPr/>
        </p:nvPicPr>
        <p:blipFill>
          <a:blip r:embed="rId4"/>
          <a:stretch/>
        </p:blipFill>
        <p:spPr>
          <a:xfrm>
            <a:off x="7696080" y="228600"/>
            <a:ext cx="641520" cy="641520"/>
          </a:xfrm>
          <a:prstGeom prst="rect">
            <a:avLst/>
          </a:prstGeom>
          <a:ln w="0">
            <a:noFill/>
          </a:ln>
        </p:spPr>
      </p:pic>
      <p:pic>
        <p:nvPicPr>
          <p:cNvPr id="689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641520" cy="641520"/>
          </a:xfrm>
          <a:prstGeom prst="rect">
            <a:avLst/>
          </a:prstGeom>
          <a:ln w="0">
            <a:noFill/>
          </a:ln>
        </p:spPr>
      </p:pic>
      <p:pic>
        <p:nvPicPr>
          <p:cNvPr id="690" name="" descr=""/>
          <p:cNvPicPr/>
          <p:nvPr/>
        </p:nvPicPr>
        <p:blipFill>
          <a:blip r:embed="rId6"/>
          <a:stretch/>
        </p:blipFill>
        <p:spPr>
          <a:xfrm>
            <a:off x="5105520" y="6216480"/>
            <a:ext cx="641160" cy="64152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/>
          <p:nvPr/>
        </p:nvSpPr>
        <p:spPr>
          <a:xfrm>
            <a:off x="179280" y="1916280"/>
            <a:ext cx="5069160" cy="60948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932360" y="4508640"/>
            <a:ext cx="2895480" cy="6984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148360" y="6248520"/>
            <a:ext cx="3124080" cy="60948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0" y="3357720"/>
            <a:ext cx="4572000" cy="60948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3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 txBox="1"/>
          <p:nvPr/>
        </p:nvSpPr>
        <p:spPr>
          <a:xfrm>
            <a:off x="755640" y="692280"/>
            <a:ext cx="278604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课堂小结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96" name=""/>
          <p:cNvSpPr/>
          <p:nvPr/>
        </p:nvSpPr>
        <p:spPr>
          <a:xfrm>
            <a:off x="971640" y="2492280"/>
            <a:ext cx="671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是如何认识必然事件</a:t>
            </a:r>
            <a:r>
              <a:rPr b="1" lang="zh-CN" sz="40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258920" y="3573360"/>
            <a:ext cx="504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可能事件</a:t>
            </a:r>
            <a:r>
              <a:rPr b="1" lang="zh-CN" sz="40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284720" y="3500280"/>
            <a:ext cx="709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随机事件</a:t>
            </a:r>
            <a:r>
              <a:rPr b="1" lang="zh-CN" sz="40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79280" y="3919680"/>
            <a:ext cx="8929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Arial"/>
              </a:rPr>
              <a:t>现在概率的应用日益广泛。本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Arial"/>
              </a:rPr>
              <a:t>中，我们将学习一些概率初步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Arial"/>
              </a:rPr>
              <a:t>识，从而提高对偶然事件发生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Arial"/>
              </a:rPr>
              <a:t>律的认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0" y="0"/>
            <a:ext cx="8964360" cy="6857280"/>
            <a:chOff x="0" y="0"/>
            <a:chExt cx="8964360" cy="6857280"/>
          </a:xfrm>
        </p:grpSpPr>
        <p:pic>
          <p:nvPicPr>
            <p:cNvPr id="610" name="" descr="按此在新窗口浏览图片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964360" cy="68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631080" y="1263240"/>
              <a:ext cx="2800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ccff66"/>
                  </a:solidFill>
                  <a:latin typeface="Verdana"/>
                </a:rPr>
                <a:t>降水概率</a:t>
              </a:r>
              <a:r>
                <a:rPr b="1" lang="zh-CN" sz="4400" spc="-1" strike="noStrike">
                  <a:solidFill>
                    <a:srgbClr val="ccff66"/>
                  </a:solidFill>
                  <a:latin typeface="Verdana"/>
                </a:rPr>
                <a:t>90%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3564000" y="0"/>
            <a:ext cx="9325080" cy="7467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们果真对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类偶然事件完全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法把握、束手无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吗？不是！随着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事件发生的可能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深入研究，人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发现许多偶然事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发生也具有规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可循的。概率这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重要的数字概念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11280" y="3141720"/>
            <a:ext cx="8064360" cy="27752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正是在研究这些规律中产生的。人们用它描叙事件发生的可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性的大小。例如，天气预报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明天的降水概率为</a:t>
            </a:r>
            <a:r>
              <a:rPr b="0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90%</a:t>
            </a:r>
            <a:r>
              <a:rPr b="0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就意味着明天有很大可能下雨（雪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1908000" y="1052640"/>
            <a:ext cx="4824720" cy="12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25.1.1  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随机事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218240" y="449280"/>
            <a:ext cx="6927840" cy="6129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活动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问题：下列现象哪些是必然发生的，哪些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可能发生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将一小勺绵白糖放入一杯温水中，并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筷子不断地搅拌，白糖溶解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测量某天的最低气温，结果为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150°C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物体（比如一小段粉笔或石块）在重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用下自由下落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两个正实数相加，（在运算正确的前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下）结果是负实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684360" y="874440"/>
            <a:ext cx="78483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一：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名同学参加演讲比赛，以抽签方式决定每个人的出场顺序。签筒中有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根形状大小相同的纸签，上面分别标有出场的序号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。小军首先抽签，他在看不到的纸签上的数字的情况从签筒中随机（任意）地取一根纸签。请考虑以下问题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859760" y="3715560"/>
            <a:ext cx="41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抽到的序号有几种可能的结果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397880" y="4277520"/>
            <a:ext cx="350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抽到的序号会是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吗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397880" y="4780800"/>
            <a:ext cx="350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抽到的序号小于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吗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397880" y="5285520"/>
            <a:ext cx="350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抽到的序号会是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吗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631160" y="5873040"/>
            <a:ext cx="47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你能列举与事件（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相似的事件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684360" y="649080"/>
            <a:ext cx="756108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：   小伟掷一个质地均匀的正方形骰子，骰子的六个面上分别刻有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至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点数。请考虑以下问题，掷一次骰子，观察骰子向上的一面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428840" y="2261520"/>
            <a:ext cx="31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）可能出现哪些点数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326600" y="2980440"/>
            <a:ext cx="350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）出现的点数会是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吗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326600" y="3768120"/>
            <a:ext cx="350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）出现的点数大于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0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吗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326600" y="4564800"/>
            <a:ext cx="350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）出现的点数会是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吗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777680" y="5357160"/>
            <a:ext cx="50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你能列举与事件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相似的事件吗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468360" y="2421000"/>
            <a:ext cx="671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在一定条件下</a:t>
            </a: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必然会发生的事件叫</a:t>
            </a: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________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95280" y="393372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必然不会发生的事件叫</a:t>
            </a: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_________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68360" y="4941720"/>
            <a:ext cx="709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可能会发生，也可能不发生的事件叫不确定事件或</a:t>
            </a: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_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042920" y="333360"/>
            <a:ext cx="2592360" cy="112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知识点归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632" name=""/>
          <p:cNvSpPr/>
          <p:nvPr/>
        </p:nvSpPr>
        <p:spPr>
          <a:xfrm>
            <a:off x="4643280" y="2781360"/>
            <a:ext cx="252108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必然事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788000" y="3789360"/>
            <a:ext cx="316872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不可能事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635280" y="5373720"/>
            <a:ext cx="32418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随机事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250920" y="2495520"/>
            <a:ext cx="758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、在地球上，太阳每天从东方升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50920" y="3141720"/>
            <a:ext cx="858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、明天，我买一注体育彩票，得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500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万大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971640" y="549360"/>
            <a:ext cx="756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判断下列事件中哪些是必然事件，哪些是不可能事件，哪些是随机事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79280" y="393372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、用长为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3cm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4cm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7cm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的三条线段首尾顺次连结，构成一个三角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24000" y="5084640"/>
            <a:ext cx="69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、掷一枚均匀的硬币，正面朝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6T09:24:59Z</dcterms:created>
  <dc:creator>www.12999.com 12999数学网</dc:creator>
  <dc:description/>
  <cp:keywords/>
  <dc:language>en-US</dc:language>
  <cp:lastModifiedBy>wo</cp:lastModifiedBy>
  <dcterms:modified xsi:type="dcterms:W3CDTF">2010-10-28T23:58:22Z</dcterms:modified>
  <cp:revision>182</cp:revision>
  <dc:subject> </dc:subject>
  <dc:title>www.12999.com 12999数学网</dc:title>
</cp:coreProperties>
</file>