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1.gif" ContentType="image/gif"/>
  <Override PartName="/ppt/media/applause.wav" ContentType="audio/x-wav"/>
  <Override PartName="/ppt/media/image1.jpeg" ContentType="image/jpeg"/>
  <Override PartName="/ppt/media/image7.png" ContentType="image/png"/>
  <Override PartName="/ppt/media/image12.png" ContentType="image/png"/>
  <Override PartName="/ppt/media/chimes.wav" ContentType="audio/x-wav"/>
  <Override PartName="/ppt/media/image13.png" ContentType="image/png"/>
  <Override PartName="/ppt/media/image8.wmf" ContentType="image/x-wmf"/>
  <Override PartName="/ppt/media/image2.png" ContentType="image/png"/>
  <Override PartName="/ppt/media/camera.wav" ContentType="audio/x-wav"/>
  <Override PartName="/ppt/media/image18.wmf" ContentType="image/x-wmf"/>
  <Override PartName="/ppt/media/image26.jpeg" ContentType="image/jpeg"/>
  <Override PartName="/ppt/media/image3.png" ContentType="image/png"/>
  <Override PartName="/ppt/media/image23.gif" ContentType="image/gif"/>
  <Override PartName="/ppt/media/image4.wmf" ContentType="image/x-wmf"/>
  <Override PartName="/ppt/media/image10.wmf" ContentType="image/x-wmf"/>
  <Override PartName="/ppt/media/image14.gif" ContentType="image/gif"/>
  <Override PartName="/ppt/media/image25.gif" ContentType="image/gif"/>
  <Override PartName="/ppt/media/image21.wmf" ContentType="image/x-wmf"/>
  <Override PartName="/ppt/media/image6.jpeg" ContentType="image/jpeg"/>
  <Override PartName="/ppt/media/type.wav" ContentType="audio/x-wav"/>
  <Override PartName="/ppt/media/image16.wmf" ContentType="image/x-wmf"/>
  <Override PartName="/ppt/media/image17.wmf" ContentType="image/x-wmf"/>
  <Override PartName="/ppt/media/image5.jpeg" ContentType="image/jpeg"/>
  <Override PartName="/ppt/media/image15.gif" ContentType="image/gif"/>
  <Override PartName="/ppt/media/explode.wav" ContentType="audio/x-wav"/>
  <Override PartName="/ppt/media/image20.jpeg" ContentType="image/jpeg"/>
  <Override PartName="/ppt/media/image22.wmf" ContentType="image/x-wmf"/>
  <Override PartName="/ppt/media/image19.wmf" ContentType="image/x-wmf"/>
  <Override PartName="/ppt/media/image2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7394-8CDB-4388-B971-94C3BAF3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167-94B2-445D-80EE-749689B1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9EF-C53F-49AB-87C3-62C16CF9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407-A55C-43A0-B286-28CD4F07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7E2-99FE-49BA-8D93-8439ED0D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5FA-BA06-4591-956B-4E3DB08A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E62F-0128-4869-9648-13200ECE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4189-1426-405F-B577-2A721BB3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642-5D4E-403F-BB8C-6439782C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FB36-ED9C-4733-8B58-0C33028F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E8EF-EEC1-4994-BA08-43D2DCA2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A6D7-D30C-443F-BDD6-321FA3AA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03C4-DC03-4250-8B88-1BB3EA8423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17.wmf"/><Relationship Id="rId4" Type="http://schemas.openxmlformats.org/officeDocument/2006/relationships/slide" Target="slide20.xml"/><Relationship Id="rId5" Type="http://schemas.openxmlformats.org/officeDocument/2006/relationships/audio" Target="../media/chimes.wav"/><Relationship Id="rId6" Type="http://schemas.openxmlformats.org/officeDocument/2006/relationships/audio" Target="../media/applause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" Target="slide20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" Target="slide20.xml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059280" y="1701720"/>
            <a:ext cx="5070240" cy="374328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7020000" y="5084640"/>
            <a:ext cx="1468440" cy="1339920"/>
            <a:chOff x="7020000" y="5084640"/>
            <a:chExt cx="1468440" cy="1339920"/>
          </a:xfrm>
        </p:grpSpPr>
        <p:sp>
          <p:nvSpPr>
            <p:cNvPr id="43" name=""/>
            <p:cNvSpPr/>
            <p:nvPr/>
          </p:nvSpPr>
          <p:spPr>
            <a:xfrm>
              <a:off x="7165800" y="5364720"/>
              <a:ext cx="1019520" cy="980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216200" y="5420520"/>
              <a:ext cx="918360" cy="86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7020000" y="5084640"/>
              <a:ext cx="818280" cy="1217520"/>
              <a:chOff x="7020000" y="5084640"/>
              <a:chExt cx="818280" cy="1217520"/>
            </a:xfrm>
          </p:grpSpPr>
          <p:sp>
            <p:nvSpPr>
              <p:cNvPr id="46" name="未知"/>
              <p:cNvSpPr/>
              <p:nvPr/>
            </p:nvSpPr>
            <p:spPr>
              <a:xfrm>
                <a:off x="7131600" y="5087880"/>
                <a:ext cx="102600" cy="145800"/>
              </a:xfrm>
              <a:custGeom>
                <a:avLst/>
                <a:gdLst/>
                <a:ahLst/>
                <a:rect l="l" t="t" r="r" b="b"/>
                <a:pathLst>
                  <a:path w="188" h="319">
                    <a:moveTo>
                      <a:pt x="188" y="289"/>
                    </a:moveTo>
                    <a:lnTo>
                      <a:pt x="88" y="0"/>
                    </a:lnTo>
                    <a:lnTo>
                      <a:pt x="0" y="30"/>
                    </a:lnTo>
                    <a:lnTo>
                      <a:pt x="100" y="319"/>
                    </a:lnTo>
                    <a:lnTo>
                      <a:pt x="188" y="289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未知"/>
              <p:cNvSpPr/>
              <p:nvPr/>
            </p:nvSpPr>
            <p:spPr>
              <a:xfrm>
                <a:off x="7176240" y="5084640"/>
                <a:ext cx="61920" cy="136440"/>
              </a:xfrm>
              <a:custGeom>
                <a:avLst/>
                <a:gdLst/>
                <a:ahLst/>
                <a:rect l="l" t="t" r="r" b="b"/>
                <a:pathLst>
                  <a:path w="114" h="298">
                    <a:moveTo>
                      <a:pt x="10" y="14"/>
                    </a:moveTo>
                    <a:lnTo>
                      <a:pt x="0" y="9"/>
                    </a:lnTo>
                    <a:lnTo>
                      <a:pt x="100" y="298"/>
                    </a:lnTo>
                    <a:lnTo>
                      <a:pt x="114" y="293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14" y="5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未知"/>
              <p:cNvSpPr/>
              <p:nvPr/>
            </p:nvSpPr>
            <p:spPr>
              <a:xfrm>
                <a:off x="7128720" y="5084640"/>
                <a:ext cx="52920" cy="20160"/>
              </a:xfrm>
              <a:custGeom>
                <a:avLst/>
                <a:gdLst/>
                <a:ahLst/>
                <a:rect l="l" t="t" r="r" b="b"/>
                <a:pathLst>
                  <a:path w="97" h="44">
                    <a:moveTo>
                      <a:pt x="13" y="35"/>
                    </a:moveTo>
                    <a:lnTo>
                      <a:pt x="9" y="44"/>
                    </a:lnTo>
                    <a:lnTo>
                      <a:pt x="97" y="14"/>
                    </a:lnTo>
                    <a:lnTo>
                      <a:pt x="92" y="0"/>
                    </a:lnTo>
                    <a:lnTo>
                      <a:pt x="4" y="30"/>
                    </a:lnTo>
                    <a:lnTo>
                      <a:pt x="0" y="39"/>
                    </a:lnTo>
                    <a:lnTo>
                      <a:pt x="4" y="30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2" y="44"/>
                    </a:lnTo>
                    <a:lnTo>
                      <a:pt x="9" y="44"/>
                    </a:lnTo>
                    <a:lnTo>
                      <a:pt x="1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未知"/>
              <p:cNvSpPr/>
              <p:nvPr/>
            </p:nvSpPr>
            <p:spPr>
              <a:xfrm>
                <a:off x="7128720" y="5100480"/>
                <a:ext cx="61560" cy="136440"/>
              </a:xfrm>
              <a:custGeom>
                <a:avLst/>
                <a:gdLst/>
                <a:ahLst/>
                <a:rect l="l" t="t" r="r" b="b"/>
                <a:pathLst>
                  <a:path w="113" h="298">
                    <a:moveTo>
                      <a:pt x="103" y="284"/>
                    </a:moveTo>
                    <a:lnTo>
                      <a:pt x="113" y="288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99" y="293"/>
                    </a:lnTo>
                    <a:lnTo>
                      <a:pt x="108" y="298"/>
                    </a:lnTo>
                    <a:lnTo>
                      <a:pt x="99" y="293"/>
                    </a:lnTo>
                    <a:lnTo>
                      <a:pt x="103" y="298"/>
                    </a:lnTo>
                    <a:lnTo>
                      <a:pt x="108" y="298"/>
                    </a:lnTo>
                    <a:lnTo>
                      <a:pt x="113" y="295"/>
                    </a:lnTo>
                    <a:lnTo>
                      <a:pt x="113" y="288"/>
                    </a:lnTo>
                    <a:lnTo>
                      <a:pt x="103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>
                <a:off x="7184880" y="5216760"/>
                <a:ext cx="53640" cy="20160"/>
              </a:xfrm>
              <a:custGeom>
                <a:avLst/>
                <a:gdLst/>
                <a:ahLst/>
                <a:rect l="l" t="t" r="r" b="b"/>
                <a:pathLst>
                  <a:path w="98" h="44">
                    <a:moveTo>
                      <a:pt x="84" y="9"/>
                    </a:moveTo>
                    <a:lnTo>
                      <a:pt x="88" y="0"/>
                    </a:lnTo>
                    <a:lnTo>
                      <a:pt x="0" y="30"/>
                    </a:lnTo>
                    <a:lnTo>
                      <a:pt x="5" y="44"/>
                    </a:lnTo>
                    <a:lnTo>
                      <a:pt x="93" y="14"/>
                    </a:lnTo>
                    <a:lnTo>
                      <a:pt x="98" y="4"/>
                    </a:lnTo>
                    <a:lnTo>
                      <a:pt x="93" y="14"/>
                    </a:lnTo>
                    <a:lnTo>
                      <a:pt x="98" y="9"/>
                    </a:lnTo>
                    <a:lnTo>
                      <a:pt x="98" y="4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>
                <a:off x="7152120" y="5222160"/>
                <a:ext cx="194760" cy="218880"/>
              </a:xfrm>
              <a:custGeom>
                <a:avLst/>
                <a:gdLst/>
                <a:ahLst/>
                <a:rect l="l" t="t" r="r" b="b"/>
                <a:pathLst>
                  <a:path w="356" h="478">
                    <a:moveTo>
                      <a:pt x="356" y="404"/>
                    </a:moveTo>
                    <a:lnTo>
                      <a:pt x="220" y="0"/>
                    </a:lnTo>
                    <a:lnTo>
                      <a:pt x="0" y="74"/>
                    </a:lnTo>
                    <a:lnTo>
                      <a:pt x="139" y="478"/>
                    </a:lnTo>
                    <a:lnTo>
                      <a:pt x="356" y="404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>
                <a:off x="7312680" y="5329080"/>
                <a:ext cx="517680" cy="849960"/>
              </a:xfrm>
              <a:custGeom>
                <a:avLst/>
                <a:gdLst/>
                <a:ahLst/>
                <a:rect l="l" t="t" r="r" b="b"/>
                <a:pathLst>
                  <a:path w="947" h="1854">
                    <a:moveTo>
                      <a:pt x="11" y="0"/>
                    </a:moveTo>
                    <a:lnTo>
                      <a:pt x="32" y="30"/>
                    </a:lnTo>
                    <a:lnTo>
                      <a:pt x="53" y="60"/>
                    </a:lnTo>
                    <a:lnTo>
                      <a:pt x="74" y="87"/>
                    </a:lnTo>
                    <a:lnTo>
                      <a:pt x="92" y="115"/>
                    </a:lnTo>
                    <a:lnTo>
                      <a:pt x="108" y="140"/>
                    </a:lnTo>
                    <a:lnTo>
                      <a:pt x="127" y="166"/>
                    </a:lnTo>
                    <a:lnTo>
                      <a:pt x="141" y="187"/>
                    </a:lnTo>
                    <a:lnTo>
                      <a:pt x="155" y="207"/>
                    </a:lnTo>
                    <a:lnTo>
                      <a:pt x="168" y="228"/>
                    </a:lnTo>
                    <a:lnTo>
                      <a:pt x="187" y="254"/>
                    </a:lnTo>
                    <a:lnTo>
                      <a:pt x="205" y="281"/>
                    </a:lnTo>
                    <a:lnTo>
                      <a:pt x="226" y="314"/>
                    </a:lnTo>
                    <a:lnTo>
                      <a:pt x="247" y="344"/>
                    </a:lnTo>
                    <a:lnTo>
                      <a:pt x="268" y="376"/>
                    </a:lnTo>
                    <a:lnTo>
                      <a:pt x="286" y="404"/>
                    </a:lnTo>
                    <a:lnTo>
                      <a:pt x="302" y="429"/>
                    </a:lnTo>
                    <a:lnTo>
                      <a:pt x="328" y="473"/>
                    </a:lnTo>
                    <a:lnTo>
                      <a:pt x="365" y="533"/>
                    </a:lnTo>
                    <a:lnTo>
                      <a:pt x="409" y="607"/>
                    </a:lnTo>
                    <a:lnTo>
                      <a:pt x="455" y="685"/>
                    </a:lnTo>
                    <a:lnTo>
                      <a:pt x="499" y="764"/>
                    </a:lnTo>
                    <a:lnTo>
                      <a:pt x="540" y="838"/>
                    </a:lnTo>
                    <a:lnTo>
                      <a:pt x="575" y="900"/>
                    </a:lnTo>
                    <a:lnTo>
                      <a:pt x="598" y="944"/>
                    </a:lnTo>
                    <a:lnTo>
                      <a:pt x="617" y="981"/>
                    </a:lnTo>
                    <a:lnTo>
                      <a:pt x="640" y="1027"/>
                    </a:lnTo>
                    <a:lnTo>
                      <a:pt x="665" y="1080"/>
                    </a:lnTo>
                    <a:lnTo>
                      <a:pt x="693" y="1134"/>
                    </a:lnTo>
                    <a:lnTo>
                      <a:pt x="721" y="1189"/>
                    </a:lnTo>
                    <a:lnTo>
                      <a:pt x="746" y="1240"/>
                    </a:lnTo>
                    <a:lnTo>
                      <a:pt x="769" y="1286"/>
                    </a:lnTo>
                    <a:lnTo>
                      <a:pt x="788" y="1323"/>
                    </a:lnTo>
                    <a:lnTo>
                      <a:pt x="801" y="1353"/>
                    </a:lnTo>
                    <a:lnTo>
                      <a:pt x="818" y="1381"/>
                    </a:lnTo>
                    <a:lnTo>
                      <a:pt x="831" y="1406"/>
                    </a:lnTo>
                    <a:lnTo>
                      <a:pt x="843" y="1429"/>
                    </a:lnTo>
                    <a:lnTo>
                      <a:pt x="855" y="1452"/>
                    </a:lnTo>
                    <a:lnTo>
                      <a:pt x="866" y="1471"/>
                    </a:lnTo>
                    <a:lnTo>
                      <a:pt x="873" y="1489"/>
                    </a:lnTo>
                    <a:lnTo>
                      <a:pt x="880" y="1503"/>
                    </a:lnTo>
                    <a:lnTo>
                      <a:pt x="892" y="1542"/>
                    </a:lnTo>
                    <a:lnTo>
                      <a:pt x="905" y="1593"/>
                    </a:lnTo>
                    <a:lnTo>
                      <a:pt x="922" y="1646"/>
                    </a:lnTo>
                    <a:lnTo>
                      <a:pt x="938" y="1690"/>
                    </a:lnTo>
                    <a:lnTo>
                      <a:pt x="945" y="1729"/>
                    </a:lnTo>
                    <a:lnTo>
                      <a:pt x="947" y="1771"/>
                    </a:lnTo>
                    <a:lnTo>
                      <a:pt x="945" y="1815"/>
                    </a:lnTo>
                    <a:lnTo>
                      <a:pt x="942" y="1854"/>
                    </a:lnTo>
                    <a:lnTo>
                      <a:pt x="933" y="1824"/>
                    </a:lnTo>
                    <a:lnTo>
                      <a:pt x="922" y="1799"/>
                    </a:lnTo>
                    <a:lnTo>
                      <a:pt x="912" y="1778"/>
                    </a:lnTo>
                    <a:lnTo>
                      <a:pt x="901" y="1755"/>
                    </a:lnTo>
                    <a:lnTo>
                      <a:pt x="892" y="1734"/>
                    </a:lnTo>
                    <a:lnTo>
                      <a:pt x="880" y="1713"/>
                    </a:lnTo>
                    <a:lnTo>
                      <a:pt x="871" y="1690"/>
                    </a:lnTo>
                    <a:lnTo>
                      <a:pt x="859" y="1662"/>
                    </a:lnTo>
                    <a:lnTo>
                      <a:pt x="850" y="1635"/>
                    </a:lnTo>
                    <a:lnTo>
                      <a:pt x="838" y="1605"/>
                    </a:lnTo>
                    <a:lnTo>
                      <a:pt x="825" y="1577"/>
                    </a:lnTo>
                    <a:lnTo>
                      <a:pt x="813" y="1547"/>
                    </a:lnTo>
                    <a:lnTo>
                      <a:pt x="797" y="1517"/>
                    </a:lnTo>
                    <a:lnTo>
                      <a:pt x="783" y="1489"/>
                    </a:lnTo>
                    <a:lnTo>
                      <a:pt x="767" y="1459"/>
                    </a:lnTo>
                    <a:lnTo>
                      <a:pt x="751" y="1431"/>
                    </a:lnTo>
                    <a:lnTo>
                      <a:pt x="732" y="1397"/>
                    </a:lnTo>
                    <a:lnTo>
                      <a:pt x="709" y="1353"/>
                    </a:lnTo>
                    <a:lnTo>
                      <a:pt x="681" y="1302"/>
                    </a:lnTo>
                    <a:lnTo>
                      <a:pt x="654" y="1247"/>
                    </a:lnTo>
                    <a:lnTo>
                      <a:pt x="626" y="1194"/>
                    </a:lnTo>
                    <a:lnTo>
                      <a:pt x="598" y="1140"/>
                    </a:lnTo>
                    <a:lnTo>
                      <a:pt x="573" y="1097"/>
                    </a:lnTo>
                    <a:lnTo>
                      <a:pt x="552" y="1060"/>
                    </a:lnTo>
                    <a:lnTo>
                      <a:pt x="531" y="1025"/>
                    </a:lnTo>
                    <a:lnTo>
                      <a:pt x="506" y="983"/>
                    </a:lnTo>
                    <a:lnTo>
                      <a:pt x="478" y="937"/>
                    </a:lnTo>
                    <a:lnTo>
                      <a:pt x="448" y="889"/>
                    </a:lnTo>
                    <a:lnTo>
                      <a:pt x="420" y="840"/>
                    </a:lnTo>
                    <a:lnTo>
                      <a:pt x="393" y="792"/>
                    </a:lnTo>
                    <a:lnTo>
                      <a:pt x="367" y="750"/>
                    </a:lnTo>
                    <a:lnTo>
                      <a:pt x="344" y="713"/>
                    </a:lnTo>
                    <a:lnTo>
                      <a:pt x="321" y="676"/>
                    </a:lnTo>
                    <a:lnTo>
                      <a:pt x="293" y="635"/>
                    </a:lnTo>
                    <a:lnTo>
                      <a:pt x="263" y="586"/>
                    </a:lnTo>
                    <a:lnTo>
                      <a:pt x="231" y="538"/>
                    </a:lnTo>
                    <a:lnTo>
                      <a:pt x="198" y="491"/>
                    </a:lnTo>
                    <a:lnTo>
                      <a:pt x="171" y="448"/>
                    </a:lnTo>
                    <a:lnTo>
                      <a:pt x="148" y="411"/>
                    </a:lnTo>
                    <a:lnTo>
                      <a:pt x="129" y="385"/>
                    </a:lnTo>
                    <a:lnTo>
                      <a:pt x="115" y="364"/>
                    </a:lnTo>
                    <a:lnTo>
                      <a:pt x="104" y="348"/>
                    </a:lnTo>
                    <a:lnTo>
                      <a:pt x="95" y="330"/>
                    </a:lnTo>
                    <a:lnTo>
                      <a:pt x="85" y="316"/>
                    </a:lnTo>
                    <a:lnTo>
                      <a:pt x="74" y="302"/>
                    </a:lnTo>
                    <a:lnTo>
                      <a:pt x="65" y="288"/>
                    </a:lnTo>
                    <a:lnTo>
                      <a:pt x="55" y="274"/>
                    </a:lnTo>
                    <a:lnTo>
                      <a:pt x="46" y="263"/>
                    </a:lnTo>
                    <a:lnTo>
                      <a:pt x="25" y="237"/>
                    </a:lnTo>
                    <a:lnTo>
                      <a:pt x="11" y="217"/>
                    </a:lnTo>
                    <a:lnTo>
                      <a:pt x="2" y="203"/>
                    </a:lnTo>
                    <a:lnTo>
                      <a:pt x="0" y="198"/>
                    </a:lnTo>
                    <a:lnTo>
                      <a:pt x="2" y="136"/>
                    </a:lnTo>
                    <a:lnTo>
                      <a:pt x="7" y="71"/>
                    </a:lnTo>
                    <a:lnTo>
                      <a:pt x="9" y="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>
                <a:off x="7203960" y="5367600"/>
                <a:ext cx="212040" cy="934560"/>
              </a:xfrm>
              <a:custGeom>
                <a:avLst/>
                <a:gdLst/>
                <a:ahLst/>
                <a:rect l="l" t="t" r="r" b="b"/>
                <a:pathLst>
                  <a:path w="388" h="2039">
                    <a:moveTo>
                      <a:pt x="0" y="0"/>
                    </a:moveTo>
                    <a:lnTo>
                      <a:pt x="5" y="74"/>
                    </a:lnTo>
                    <a:lnTo>
                      <a:pt x="7" y="141"/>
                    </a:lnTo>
                    <a:lnTo>
                      <a:pt x="12" y="201"/>
                    </a:lnTo>
                    <a:lnTo>
                      <a:pt x="14" y="251"/>
                    </a:lnTo>
                    <a:lnTo>
                      <a:pt x="16" y="307"/>
                    </a:lnTo>
                    <a:lnTo>
                      <a:pt x="21" y="378"/>
                    </a:lnTo>
                    <a:lnTo>
                      <a:pt x="26" y="455"/>
                    </a:lnTo>
                    <a:lnTo>
                      <a:pt x="30" y="519"/>
                    </a:lnTo>
                    <a:lnTo>
                      <a:pt x="35" y="570"/>
                    </a:lnTo>
                    <a:lnTo>
                      <a:pt x="44" y="639"/>
                    </a:lnTo>
                    <a:lnTo>
                      <a:pt x="53" y="723"/>
                    </a:lnTo>
                    <a:lnTo>
                      <a:pt x="65" y="813"/>
                    </a:lnTo>
                    <a:lnTo>
                      <a:pt x="76" y="905"/>
                    </a:lnTo>
                    <a:lnTo>
                      <a:pt x="88" y="988"/>
                    </a:lnTo>
                    <a:lnTo>
                      <a:pt x="99" y="1057"/>
                    </a:lnTo>
                    <a:lnTo>
                      <a:pt x="109" y="1106"/>
                    </a:lnTo>
                    <a:lnTo>
                      <a:pt x="118" y="1148"/>
                    </a:lnTo>
                    <a:lnTo>
                      <a:pt x="127" y="1198"/>
                    </a:lnTo>
                    <a:lnTo>
                      <a:pt x="139" y="1256"/>
                    </a:lnTo>
                    <a:lnTo>
                      <a:pt x="150" y="1316"/>
                    </a:lnTo>
                    <a:lnTo>
                      <a:pt x="162" y="1376"/>
                    </a:lnTo>
                    <a:lnTo>
                      <a:pt x="171" y="1432"/>
                    </a:lnTo>
                    <a:lnTo>
                      <a:pt x="183" y="1482"/>
                    </a:lnTo>
                    <a:lnTo>
                      <a:pt x="190" y="1522"/>
                    </a:lnTo>
                    <a:lnTo>
                      <a:pt x="201" y="1586"/>
                    </a:lnTo>
                    <a:lnTo>
                      <a:pt x="210" y="1642"/>
                    </a:lnTo>
                    <a:lnTo>
                      <a:pt x="217" y="1688"/>
                    </a:lnTo>
                    <a:lnTo>
                      <a:pt x="227" y="1723"/>
                    </a:lnTo>
                    <a:lnTo>
                      <a:pt x="233" y="1739"/>
                    </a:lnTo>
                    <a:lnTo>
                      <a:pt x="240" y="1760"/>
                    </a:lnTo>
                    <a:lnTo>
                      <a:pt x="250" y="1783"/>
                    </a:lnTo>
                    <a:lnTo>
                      <a:pt x="261" y="1810"/>
                    </a:lnTo>
                    <a:lnTo>
                      <a:pt x="270" y="1836"/>
                    </a:lnTo>
                    <a:lnTo>
                      <a:pt x="280" y="1861"/>
                    </a:lnTo>
                    <a:lnTo>
                      <a:pt x="289" y="1884"/>
                    </a:lnTo>
                    <a:lnTo>
                      <a:pt x="296" y="1905"/>
                    </a:lnTo>
                    <a:lnTo>
                      <a:pt x="303" y="1924"/>
                    </a:lnTo>
                    <a:lnTo>
                      <a:pt x="312" y="1942"/>
                    </a:lnTo>
                    <a:lnTo>
                      <a:pt x="324" y="1960"/>
                    </a:lnTo>
                    <a:lnTo>
                      <a:pt x="337" y="1977"/>
                    </a:lnTo>
                    <a:lnTo>
                      <a:pt x="349" y="1993"/>
                    </a:lnTo>
                    <a:lnTo>
                      <a:pt x="363" y="2009"/>
                    </a:lnTo>
                    <a:lnTo>
                      <a:pt x="377" y="2025"/>
                    </a:lnTo>
                    <a:lnTo>
                      <a:pt x="388" y="2039"/>
                    </a:lnTo>
                    <a:lnTo>
                      <a:pt x="372" y="1984"/>
                    </a:lnTo>
                    <a:lnTo>
                      <a:pt x="363" y="1935"/>
                    </a:lnTo>
                    <a:lnTo>
                      <a:pt x="354" y="1889"/>
                    </a:lnTo>
                    <a:lnTo>
                      <a:pt x="340" y="1836"/>
                    </a:lnTo>
                    <a:lnTo>
                      <a:pt x="321" y="1778"/>
                    </a:lnTo>
                    <a:lnTo>
                      <a:pt x="305" y="1716"/>
                    </a:lnTo>
                    <a:lnTo>
                      <a:pt x="294" y="1651"/>
                    </a:lnTo>
                    <a:lnTo>
                      <a:pt x="284" y="1586"/>
                    </a:lnTo>
                    <a:lnTo>
                      <a:pt x="270" y="1499"/>
                    </a:lnTo>
                    <a:lnTo>
                      <a:pt x="250" y="1383"/>
                    </a:lnTo>
                    <a:lnTo>
                      <a:pt x="229" y="1265"/>
                    </a:lnTo>
                    <a:lnTo>
                      <a:pt x="217" y="1173"/>
                    </a:lnTo>
                    <a:lnTo>
                      <a:pt x="208" y="1085"/>
                    </a:lnTo>
                    <a:lnTo>
                      <a:pt x="194" y="974"/>
                    </a:lnTo>
                    <a:lnTo>
                      <a:pt x="180" y="861"/>
                    </a:lnTo>
                    <a:lnTo>
                      <a:pt x="171" y="769"/>
                    </a:lnTo>
                    <a:lnTo>
                      <a:pt x="164" y="674"/>
                    </a:lnTo>
                    <a:lnTo>
                      <a:pt x="155" y="561"/>
                    </a:lnTo>
                    <a:lnTo>
                      <a:pt x="146" y="452"/>
                    </a:lnTo>
                    <a:lnTo>
                      <a:pt x="141" y="378"/>
                    </a:lnTo>
                    <a:lnTo>
                      <a:pt x="136" y="332"/>
                    </a:lnTo>
                    <a:lnTo>
                      <a:pt x="134" y="295"/>
                    </a:lnTo>
                    <a:lnTo>
                      <a:pt x="132" y="261"/>
                    </a:lnTo>
                    <a:lnTo>
                      <a:pt x="134" y="228"/>
                    </a:lnTo>
                    <a:lnTo>
                      <a:pt x="134" y="198"/>
                    </a:lnTo>
                    <a:lnTo>
                      <a:pt x="134" y="173"/>
                    </a:lnTo>
                    <a:lnTo>
                      <a:pt x="132" y="157"/>
                    </a:lnTo>
                    <a:lnTo>
                      <a:pt x="132" y="150"/>
                    </a:lnTo>
                    <a:lnTo>
                      <a:pt x="113" y="127"/>
                    </a:lnTo>
                    <a:lnTo>
                      <a:pt x="93" y="101"/>
                    </a:lnTo>
                    <a:lnTo>
                      <a:pt x="72" y="76"/>
                    </a:lnTo>
                    <a:lnTo>
                      <a:pt x="49" y="53"/>
                    </a:lnTo>
                    <a:lnTo>
                      <a:pt x="30" y="32"/>
                    </a:lnTo>
                    <a:lnTo>
                      <a:pt x="14" y="16"/>
                    </a:lnTo>
                    <a:lnTo>
                      <a:pt x="5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未知"/>
              <p:cNvSpPr/>
              <p:nvPr/>
            </p:nvSpPr>
            <p:spPr>
              <a:xfrm>
                <a:off x="7020000" y="5404680"/>
                <a:ext cx="589680" cy="186120"/>
              </a:xfrm>
              <a:custGeom>
                <a:avLst/>
                <a:gdLst/>
                <a:ahLst/>
                <a:rect l="l" t="t" r="r" b="b"/>
                <a:pathLst>
                  <a:path w="1079" h="406">
                    <a:moveTo>
                      <a:pt x="1079" y="43"/>
                    </a:moveTo>
                    <a:lnTo>
                      <a:pt x="1063" y="0"/>
                    </a:lnTo>
                    <a:lnTo>
                      <a:pt x="0" y="362"/>
                    </a:lnTo>
                    <a:lnTo>
                      <a:pt x="16" y="406"/>
                    </a:lnTo>
                    <a:lnTo>
                      <a:pt x="1079" y="43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>
                <a:off x="7081560" y="5517720"/>
                <a:ext cx="90360" cy="67320"/>
              </a:xfrm>
              <a:custGeom>
                <a:avLst/>
                <a:gdLst/>
                <a:ahLst/>
                <a:rect l="l" t="t" r="r" b="b"/>
                <a:pathLst>
                  <a:path w="166" h="147">
                    <a:moveTo>
                      <a:pt x="166" y="104"/>
                    </a:moveTo>
                    <a:lnTo>
                      <a:pt x="129" y="0"/>
                    </a:lnTo>
                    <a:lnTo>
                      <a:pt x="0" y="44"/>
                    </a:lnTo>
                    <a:lnTo>
                      <a:pt x="35" y="147"/>
                    </a:lnTo>
                    <a:lnTo>
                      <a:pt x="166" y="104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>
                <a:off x="7148880" y="5514480"/>
                <a:ext cx="27000" cy="5184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9" y="14"/>
                    </a:moveTo>
                    <a:lnTo>
                      <a:pt x="0" y="9"/>
                    </a:lnTo>
                    <a:lnTo>
                      <a:pt x="36" y="113"/>
                    </a:lnTo>
                    <a:lnTo>
                      <a:pt x="50" y="108"/>
                    </a:lnTo>
                    <a:lnTo>
                      <a:pt x="13" y="4"/>
                    </a:lnTo>
                    <a:lnTo>
                      <a:pt x="4" y="0"/>
                    </a:lnTo>
                    <a:lnTo>
                      <a:pt x="13" y="4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未知"/>
              <p:cNvSpPr/>
              <p:nvPr/>
            </p:nvSpPr>
            <p:spPr>
              <a:xfrm>
                <a:off x="7077600" y="5514480"/>
                <a:ext cx="75960" cy="25920"/>
              </a:xfrm>
              <a:custGeom>
                <a:avLst/>
                <a:gdLst/>
                <a:ahLst/>
                <a:rect l="l" t="t" r="r" b="b"/>
                <a:pathLst>
                  <a:path w="139" h="57">
                    <a:moveTo>
                      <a:pt x="14" y="48"/>
                    </a:moveTo>
                    <a:lnTo>
                      <a:pt x="9" y="57"/>
                    </a:lnTo>
                    <a:lnTo>
                      <a:pt x="139" y="14"/>
                    </a:lnTo>
                    <a:lnTo>
                      <a:pt x="134" y="0"/>
                    </a:lnTo>
                    <a:lnTo>
                      <a:pt x="5" y="44"/>
                    </a:lnTo>
                    <a:lnTo>
                      <a:pt x="0" y="53"/>
                    </a:lnTo>
                    <a:lnTo>
                      <a:pt x="5" y="44"/>
                    </a:lnTo>
                    <a:lnTo>
                      <a:pt x="0" y="46"/>
                    </a:lnTo>
                    <a:lnTo>
                      <a:pt x="0" y="53"/>
                    </a:lnTo>
                    <a:lnTo>
                      <a:pt x="2" y="57"/>
                    </a:lnTo>
                    <a:lnTo>
                      <a:pt x="9" y="57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>
                <a:off x="7077600" y="5536440"/>
                <a:ext cx="26640" cy="51840"/>
              </a:xfrm>
              <a:custGeom>
                <a:avLst/>
                <a:gdLst/>
                <a:ahLst/>
                <a:rect l="l" t="t" r="r" b="b"/>
                <a:pathLst>
                  <a:path w="49" h="113">
                    <a:moveTo>
                      <a:pt x="39" y="100"/>
                    </a:moveTo>
                    <a:lnTo>
                      <a:pt x="49" y="104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35" y="109"/>
                    </a:lnTo>
                    <a:lnTo>
                      <a:pt x="44" y="113"/>
                    </a:lnTo>
                    <a:lnTo>
                      <a:pt x="35" y="109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49" y="111"/>
                    </a:lnTo>
                    <a:lnTo>
                      <a:pt x="49" y="104"/>
                    </a:lnTo>
                    <a:lnTo>
                      <a:pt x="39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>
                <a:off x="7099200" y="5562000"/>
                <a:ext cx="77040" cy="25920"/>
              </a:xfrm>
              <a:custGeom>
                <a:avLst/>
                <a:gdLst/>
                <a:ahLst/>
                <a:rect l="l" t="t" r="r" b="b"/>
                <a:pathLst>
                  <a:path w="141" h="57">
                    <a:moveTo>
                      <a:pt x="127" y="9"/>
                    </a:moveTo>
                    <a:lnTo>
                      <a:pt x="132" y="0"/>
                    </a:lnTo>
                    <a:lnTo>
                      <a:pt x="0" y="44"/>
                    </a:lnTo>
                    <a:lnTo>
                      <a:pt x="5" y="57"/>
                    </a:lnTo>
                    <a:lnTo>
                      <a:pt x="137" y="14"/>
                    </a:lnTo>
                    <a:lnTo>
                      <a:pt x="141" y="4"/>
                    </a:lnTo>
                    <a:lnTo>
                      <a:pt x="137" y="14"/>
                    </a:lnTo>
                    <a:lnTo>
                      <a:pt x="141" y="9"/>
                    </a:lnTo>
                    <a:lnTo>
                      <a:pt x="141" y="4"/>
                    </a:lnTo>
                    <a:lnTo>
                      <a:pt x="139" y="0"/>
                    </a:lnTo>
                    <a:lnTo>
                      <a:pt x="132" y="0"/>
                    </a:lnTo>
                    <a:lnTo>
                      <a:pt x="12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>
                <a:off x="7468920" y="5407200"/>
                <a:ext cx="91080" cy="67680"/>
              </a:xfrm>
              <a:custGeom>
                <a:avLst/>
                <a:gdLst/>
                <a:ahLst/>
                <a:rect l="l" t="t" r="r" b="b"/>
                <a:pathLst>
                  <a:path w="167" h="148">
                    <a:moveTo>
                      <a:pt x="167" y="104"/>
                    </a:moveTo>
                    <a:lnTo>
                      <a:pt x="132" y="0"/>
                    </a:lnTo>
                    <a:lnTo>
                      <a:pt x="0" y="44"/>
                    </a:lnTo>
                    <a:lnTo>
                      <a:pt x="35" y="148"/>
                    </a:lnTo>
                    <a:lnTo>
                      <a:pt x="167" y="104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>
                <a:off x="7537680" y="5404680"/>
                <a:ext cx="26640" cy="51480"/>
              </a:xfrm>
              <a:custGeom>
                <a:avLst/>
                <a:gdLst/>
                <a:ahLst/>
                <a:rect l="l" t="t" r="r" b="b"/>
                <a:pathLst>
                  <a:path w="49" h="113">
                    <a:moveTo>
                      <a:pt x="9" y="13"/>
                    </a:moveTo>
                    <a:lnTo>
                      <a:pt x="0" y="9"/>
                    </a:lnTo>
                    <a:lnTo>
                      <a:pt x="35" y="113"/>
                    </a:lnTo>
                    <a:lnTo>
                      <a:pt x="49" y="108"/>
                    </a:lnTo>
                    <a:lnTo>
                      <a:pt x="14" y="4"/>
                    </a:lnTo>
                    <a:lnTo>
                      <a:pt x="5" y="0"/>
                    </a:lnTo>
                    <a:lnTo>
                      <a:pt x="14" y="4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未知"/>
              <p:cNvSpPr/>
              <p:nvPr/>
            </p:nvSpPr>
            <p:spPr>
              <a:xfrm>
                <a:off x="7465680" y="5404680"/>
                <a:ext cx="76680" cy="25920"/>
              </a:xfrm>
              <a:custGeom>
                <a:avLst/>
                <a:gdLst/>
                <a:ahLst/>
                <a:rect l="l" t="t" r="r" b="b"/>
                <a:pathLst>
                  <a:path w="141" h="57">
                    <a:moveTo>
                      <a:pt x="14" y="48"/>
                    </a:moveTo>
                    <a:lnTo>
                      <a:pt x="10" y="57"/>
                    </a:lnTo>
                    <a:lnTo>
                      <a:pt x="141" y="13"/>
                    </a:lnTo>
                    <a:lnTo>
                      <a:pt x="137" y="0"/>
                    </a:lnTo>
                    <a:lnTo>
                      <a:pt x="5" y="43"/>
                    </a:lnTo>
                    <a:lnTo>
                      <a:pt x="0" y="53"/>
                    </a:lnTo>
                    <a:lnTo>
                      <a:pt x="5" y="43"/>
                    </a:lnTo>
                    <a:lnTo>
                      <a:pt x="0" y="46"/>
                    </a:lnTo>
                    <a:lnTo>
                      <a:pt x="0" y="53"/>
                    </a:lnTo>
                    <a:lnTo>
                      <a:pt x="3" y="57"/>
                    </a:lnTo>
                    <a:lnTo>
                      <a:pt x="10" y="57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未知"/>
              <p:cNvSpPr/>
              <p:nvPr/>
            </p:nvSpPr>
            <p:spPr>
              <a:xfrm>
                <a:off x="7465680" y="5426640"/>
                <a:ext cx="26640" cy="51480"/>
              </a:xfrm>
              <a:custGeom>
                <a:avLst/>
                <a:gdLst/>
                <a:ahLst/>
                <a:rect l="l" t="t" r="r" b="b"/>
                <a:pathLst>
                  <a:path w="49" h="113">
                    <a:moveTo>
                      <a:pt x="40" y="99"/>
                    </a:moveTo>
                    <a:lnTo>
                      <a:pt x="49" y="104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35" y="109"/>
                    </a:lnTo>
                    <a:lnTo>
                      <a:pt x="44" y="113"/>
                    </a:lnTo>
                    <a:lnTo>
                      <a:pt x="35" y="109"/>
                    </a:lnTo>
                    <a:lnTo>
                      <a:pt x="40" y="113"/>
                    </a:lnTo>
                    <a:lnTo>
                      <a:pt x="44" y="113"/>
                    </a:lnTo>
                    <a:lnTo>
                      <a:pt x="49" y="111"/>
                    </a:lnTo>
                    <a:lnTo>
                      <a:pt x="49" y="104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>
                <a:off x="7487280" y="5451840"/>
                <a:ext cx="77040" cy="26280"/>
              </a:xfrm>
              <a:custGeom>
                <a:avLst/>
                <a:gdLst/>
                <a:ahLst/>
                <a:rect l="l" t="t" r="r" b="b"/>
                <a:pathLst>
                  <a:path w="141" h="58">
                    <a:moveTo>
                      <a:pt x="127" y="10"/>
                    </a:moveTo>
                    <a:lnTo>
                      <a:pt x="131" y="0"/>
                    </a:lnTo>
                    <a:lnTo>
                      <a:pt x="0" y="44"/>
                    </a:lnTo>
                    <a:lnTo>
                      <a:pt x="4" y="58"/>
                    </a:lnTo>
                    <a:lnTo>
                      <a:pt x="136" y="14"/>
                    </a:lnTo>
                    <a:lnTo>
                      <a:pt x="141" y="5"/>
                    </a:lnTo>
                    <a:lnTo>
                      <a:pt x="136" y="14"/>
                    </a:lnTo>
                    <a:lnTo>
                      <a:pt x="141" y="10"/>
                    </a:lnTo>
                    <a:lnTo>
                      <a:pt x="141" y="5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2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>
                <a:off x="7291440" y="5445720"/>
                <a:ext cx="54360" cy="93240"/>
              </a:xfrm>
              <a:custGeom>
                <a:avLst/>
                <a:gdLst/>
                <a:ahLst/>
                <a:rect l="l" t="t" r="r" b="b"/>
                <a:pathLst>
                  <a:path w="99" h="203">
                    <a:moveTo>
                      <a:pt x="99" y="191"/>
                    </a:moveTo>
                    <a:lnTo>
                      <a:pt x="34" y="0"/>
                    </a:lnTo>
                    <a:lnTo>
                      <a:pt x="0" y="11"/>
                    </a:lnTo>
                    <a:lnTo>
                      <a:pt x="64" y="203"/>
                    </a:lnTo>
                    <a:lnTo>
                      <a:pt x="99" y="191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未知"/>
              <p:cNvSpPr/>
              <p:nvPr/>
            </p:nvSpPr>
            <p:spPr>
              <a:xfrm>
                <a:off x="7306200" y="5442480"/>
                <a:ext cx="42840" cy="91800"/>
              </a:xfrm>
              <a:custGeom>
                <a:avLst/>
                <a:gdLst/>
                <a:ahLst/>
                <a:rect l="l" t="t" r="r" b="b"/>
                <a:pathLst>
                  <a:path w="79" h="201">
                    <a:moveTo>
                      <a:pt x="10" y="14"/>
                    </a:moveTo>
                    <a:lnTo>
                      <a:pt x="0" y="9"/>
                    </a:lnTo>
                    <a:lnTo>
                      <a:pt x="65" y="201"/>
                    </a:lnTo>
                    <a:lnTo>
                      <a:pt x="79" y="196"/>
                    </a:lnTo>
                    <a:lnTo>
                      <a:pt x="14" y="4"/>
                    </a:lnTo>
                    <a:lnTo>
                      <a:pt x="5" y="0"/>
                    </a:lnTo>
                    <a:lnTo>
                      <a:pt x="14" y="4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未知"/>
              <p:cNvSpPr/>
              <p:nvPr/>
            </p:nvSpPr>
            <p:spPr>
              <a:xfrm>
                <a:off x="7287840" y="544248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44" h="25">
                    <a:moveTo>
                      <a:pt x="13" y="16"/>
                    </a:moveTo>
                    <a:lnTo>
                      <a:pt x="9" y="25"/>
                    </a:lnTo>
                    <a:lnTo>
                      <a:pt x="44" y="14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0" y="20"/>
                    </a:lnTo>
                    <a:lnTo>
                      <a:pt x="4" y="11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2" y="25"/>
                    </a:lnTo>
                    <a:lnTo>
                      <a:pt x="9" y="25"/>
                    </a:lnTo>
                    <a:lnTo>
                      <a:pt x="1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>
                <a:off x="7287840" y="5449680"/>
                <a:ext cx="42480" cy="92160"/>
              </a:xfrm>
              <a:custGeom>
                <a:avLst/>
                <a:gdLst/>
                <a:ahLst/>
                <a:rect l="l" t="t" r="r" b="b"/>
                <a:pathLst>
                  <a:path w="78" h="201">
                    <a:moveTo>
                      <a:pt x="69" y="187"/>
                    </a:moveTo>
                    <a:lnTo>
                      <a:pt x="78" y="192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64" y="196"/>
                    </a:lnTo>
                    <a:lnTo>
                      <a:pt x="74" y="201"/>
                    </a:lnTo>
                    <a:lnTo>
                      <a:pt x="64" y="196"/>
                    </a:lnTo>
                    <a:lnTo>
                      <a:pt x="69" y="201"/>
                    </a:lnTo>
                    <a:lnTo>
                      <a:pt x="74" y="201"/>
                    </a:lnTo>
                    <a:lnTo>
                      <a:pt x="78" y="198"/>
                    </a:lnTo>
                    <a:lnTo>
                      <a:pt x="78" y="192"/>
                    </a:lnTo>
                    <a:lnTo>
                      <a:pt x="69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7325280" y="5529960"/>
                <a:ext cx="23760" cy="1188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30" y="10"/>
                    </a:moveTo>
                    <a:lnTo>
                      <a:pt x="35" y="0"/>
                    </a:lnTo>
                    <a:lnTo>
                      <a:pt x="0" y="12"/>
                    </a:lnTo>
                    <a:lnTo>
                      <a:pt x="5" y="26"/>
                    </a:lnTo>
                    <a:lnTo>
                      <a:pt x="39" y="14"/>
                    </a:lnTo>
                    <a:lnTo>
                      <a:pt x="44" y="5"/>
                    </a:lnTo>
                    <a:lnTo>
                      <a:pt x="39" y="14"/>
                    </a:lnTo>
                    <a:lnTo>
                      <a:pt x="44" y="10"/>
                    </a:lnTo>
                    <a:lnTo>
                      <a:pt x="44" y="5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>
                <a:off x="7733160" y="6024960"/>
                <a:ext cx="101160" cy="8316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123" y="178"/>
                    </a:moveTo>
                    <a:lnTo>
                      <a:pt x="139" y="171"/>
                    </a:lnTo>
                    <a:lnTo>
                      <a:pt x="153" y="159"/>
                    </a:lnTo>
                    <a:lnTo>
                      <a:pt x="166" y="148"/>
                    </a:lnTo>
                    <a:lnTo>
                      <a:pt x="176" y="132"/>
                    </a:lnTo>
                    <a:lnTo>
                      <a:pt x="180" y="115"/>
                    </a:lnTo>
                    <a:lnTo>
                      <a:pt x="185" y="99"/>
                    </a:lnTo>
                    <a:lnTo>
                      <a:pt x="185" y="81"/>
                    </a:lnTo>
                    <a:lnTo>
                      <a:pt x="180" y="62"/>
                    </a:lnTo>
                    <a:lnTo>
                      <a:pt x="173" y="46"/>
                    </a:lnTo>
                    <a:lnTo>
                      <a:pt x="162" y="30"/>
                    </a:lnTo>
                    <a:lnTo>
                      <a:pt x="148" y="18"/>
                    </a:lnTo>
                    <a:lnTo>
                      <a:pt x="134" y="9"/>
                    </a:lnTo>
                    <a:lnTo>
                      <a:pt x="118" y="2"/>
                    </a:lnTo>
                    <a:lnTo>
                      <a:pt x="99" y="0"/>
                    </a:lnTo>
                    <a:lnTo>
                      <a:pt x="81" y="0"/>
                    </a:lnTo>
                    <a:lnTo>
                      <a:pt x="62" y="5"/>
                    </a:lnTo>
                    <a:lnTo>
                      <a:pt x="46" y="11"/>
                    </a:lnTo>
                    <a:lnTo>
                      <a:pt x="30" y="23"/>
                    </a:lnTo>
                    <a:lnTo>
                      <a:pt x="19" y="37"/>
                    </a:lnTo>
                    <a:lnTo>
                      <a:pt x="9" y="51"/>
                    </a:lnTo>
                    <a:lnTo>
                      <a:pt x="2" y="67"/>
                    </a:lnTo>
                    <a:lnTo>
                      <a:pt x="0" y="85"/>
                    </a:lnTo>
                    <a:lnTo>
                      <a:pt x="0" y="102"/>
                    </a:lnTo>
                    <a:lnTo>
                      <a:pt x="5" y="120"/>
                    </a:lnTo>
                    <a:lnTo>
                      <a:pt x="12" y="136"/>
                    </a:lnTo>
                    <a:lnTo>
                      <a:pt x="23" y="152"/>
                    </a:lnTo>
                    <a:lnTo>
                      <a:pt x="37" y="164"/>
                    </a:lnTo>
                    <a:lnTo>
                      <a:pt x="51" y="173"/>
                    </a:lnTo>
                    <a:lnTo>
                      <a:pt x="67" y="180"/>
                    </a:lnTo>
                    <a:lnTo>
                      <a:pt x="86" y="182"/>
                    </a:lnTo>
                    <a:lnTo>
                      <a:pt x="104" y="182"/>
                    </a:lnTo>
                    <a:lnTo>
                      <a:pt x="123" y="178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>
                <a:off x="7799040" y="6052320"/>
                <a:ext cx="39240" cy="57240"/>
              </a:xfrm>
              <a:custGeom>
                <a:avLst/>
                <a:gdLst/>
                <a:ahLst/>
                <a:rect l="l" t="t" r="r" b="b"/>
                <a:pathLst>
                  <a:path w="72" h="125">
                    <a:moveTo>
                      <a:pt x="53" y="5"/>
                    </a:moveTo>
                    <a:lnTo>
                      <a:pt x="53" y="5"/>
                    </a:lnTo>
                    <a:lnTo>
                      <a:pt x="58" y="21"/>
                    </a:lnTo>
                    <a:lnTo>
                      <a:pt x="58" y="39"/>
                    </a:lnTo>
                    <a:lnTo>
                      <a:pt x="53" y="53"/>
                    </a:lnTo>
                    <a:lnTo>
                      <a:pt x="49" y="69"/>
                    </a:lnTo>
                    <a:lnTo>
                      <a:pt x="39" y="83"/>
                    </a:lnTo>
                    <a:lnTo>
                      <a:pt x="28" y="92"/>
                    </a:lnTo>
                    <a:lnTo>
                      <a:pt x="14" y="104"/>
                    </a:lnTo>
                    <a:lnTo>
                      <a:pt x="0" y="111"/>
                    </a:lnTo>
                    <a:lnTo>
                      <a:pt x="5" y="125"/>
                    </a:lnTo>
                    <a:lnTo>
                      <a:pt x="23" y="118"/>
                    </a:lnTo>
                    <a:lnTo>
                      <a:pt x="37" y="106"/>
                    </a:lnTo>
                    <a:lnTo>
                      <a:pt x="53" y="92"/>
                    </a:lnTo>
                    <a:lnTo>
                      <a:pt x="63" y="74"/>
                    </a:lnTo>
                    <a:lnTo>
                      <a:pt x="67" y="58"/>
                    </a:lnTo>
                    <a:lnTo>
                      <a:pt x="72" y="39"/>
                    </a:lnTo>
                    <a:lnTo>
                      <a:pt x="72" y="21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5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未知"/>
              <p:cNvSpPr/>
              <p:nvPr/>
            </p:nvSpPr>
            <p:spPr>
              <a:xfrm>
                <a:off x="7766280" y="6021720"/>
                <a:ext cx="69120" cy="32760"/>
              </a:xfrm>
              <a:custGeom>
                <a:avLst/>
                <a:gdLst/>
                <a:ahLst/>
                <a:rect l="l" t="t" r="r" b="b"/>
                <a:pathLst>
                  <a:path w="127" h="72">
                    <a:moveTo>
                      <a:pt x="5" y="18"/>
                    </a:moveTo>
                    <a:lnTo>
                      <a:pt x="5" y="18"/>
                    </a:lnTo>
                    <a:lnTo>
                      <a:pt x="21" y="14"/>
                    </a:lnTo>
                    <a:lnTo>
                      <a:pt x="39" y="14"/>
                    </a:lnTo>
                    <a:lnTo>
                      <a:pt x="56" y="16"/>
                    </a:lnTo>
                    <a:lnTo>
                      <a:pt x="72" y="23"/>
                    </a:lnTo>
                    <a:lnTo>
                      <a:pt x="83" y="32"/>
                    </a:lnTo>
                    <a:lnTo>
                      <a:pt x="97" y="42"/>
                    </a:lnTo>
                    <a:lnTo>
                      <a:pt x="106" y="55"/>
                    </a:lnTo>
                    <a:lnTo>
                      <a:pt x="113" y="72"/>
                    </a:lnTo>
                    <a:lnTo>
                      <a:pt x="127" y="67"/>
                    </a:lnTo>
                    <a:lnTo>
                      <a:pt x="120" y="51"/>
                    </a:lnTo>
                    <a:lnTo>
                      <a:pt x="106" y="32"/>
                    </a:lnTo>
                    <a:lnTo>
                      <a:pt x="93" y="18"/>
                    </a:lnTo>
                    <a:lnTo>
                      <a:pt x="76" y="9"/>
                    </a:lnTo>
                    <a:lnTo>
                      <a:pt x="60" y="2"/>
                    </a:lnTo>
                    <a:lnTo>
                      <a:pt x="39" y="0"/>
                    </a:lnTo>
                    <a:lnTo>
                      <a:pt x="21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未知"/>
              <p:cNvSpPr/>
              <p:nvPr/>
            </p:nvSpPr>
            <p:spPr>
              <a:xfrm>
                <a:off x="7729560" y="6023880"/>
                <a:ext cx="38880" cy="56520"/>
              </a:xfrm>
              <a:custGeom>
                <a:avLst/>
                <a:gdLst/>
                <a:ahLst/>
                <a:rect l="l" t="t" r="r" b="b"/>
                <a:pathLst>
                  <a:path w="72" h="124">
                    <a:moveTo>
                      <a:pt x="19" y="120"/>
                    </a:moveTo>
                    <a:lnTo>
                      <a:pt x="19" y="120"/>
                    </a:lnTo>
                    <a:lnTo>
                      <a:pt x="14" y="104"/>
                    </a:lnTo>
                    <a:lnTo>
                      <a:pt x="14" y="87"/>
                    </a:lnTo>
                    <a:lnTo>
                      <a:pt x="16" y="71"/>
                    </a:lnTo>
                    <a:lnTo>
                      <a:pt x="23" y="55"/>
                    </a:lnTo>
                    <a:lnTo>
                      <a:pt x="33" y="43"/>
                    </a:lnTo>
                    <a:lnTo>
                      <a:pt x="42" y="30"/>
                    </a:lnTo>
                    <a:lnTo>
                      <a:pt x="56" y="20"/>
                    </a:lnTo>
                    <a:lnTo>
                      <a:pt x="72" y="13"/>
                    </a:lnTo>
                    <a:lnTo>
                      <a:pt x="67" y="0"/>
                    </a:lnTo>
                    <a:lnTo>
                      <a:pt x="51" y="7"/>
                    </a:lnTo>
                    <a:lnTo>
                      <a:pt x="33" y="20"/>
                    </a:lnTo>
                    <a:lnTo>
                      <a:pt x="19" y="34"/>
                    </a:lnTo>
                    <a:lnTo>
                      <a:pt x="9" y="50"/>
                    </a:lnTo>
                    <a:lnTo>
                      <a:pt x="2" y="67"/>
                    </a:lnTo>
                    <a:lnTo>
                      <a:pt x="0" y="87"/>
                    </a:lnTo>
                    <a:lnTo>
                      <a:pt x="0" y="104"/>
                    </a:lnTo>
                    <a:lnTo>
                      <a:pt x="5" y="124"/>
                    </a:lnTo>
                    <a:lnTo>
                      <a:pt x="5" y="124"/>
                    </a:lnTo>
                    <a:lnTo>
                      <a:pt x="19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未知"/>
              <p:cNvSpPr/>
              <p:nvPr/>
            </p:nvSpPr>
            <p:spPr>
              <a:xfrm>
                <a:off x="7732080" y="6078960"/>
                <a:ext cx="69480" cy="32400"/>
              </a:xfrm>
              <a:custGeom>
                <a:avLst/>
                <a:gdLst/>
                <a:ahLst/>
                <a:rect l="l" t="t" r="r" b="b"/>
                <a:pathLst>
                  <a:path w="127" h="71">
                    <a:moveTo>
                      <a:pt x="122" y="53"/>
                    </a:moveTo>
                    <a:lnTo>
                      <a:pt x="122" y="53"/>
                    </a:lnTo>
                    <a:lnTo>
                      <a:pt x="106" y="57"/>
                    </a:lnTo>
                    <a:lnTo>
                      <a:pt x="88" y="57"/>
                    </a:lnTo>
                    <a:lnTo>
                      <a:pt x="71" y="55"/>
                    </a:lnTo>
                    <a:lnTo>
                      <a:pt x="55" y="48"/>
                    </a:lnTo>
                    <a:lnTo>
                      <a:pt x="44" y="39"/>
                    </a:lnTo>
                    <a:lnTo>
                      <a:pt x="30" y="30"/>
                    </a:lnTo>
                    <a:lnTo>
                      <a:pt x="21" y="16"/>
                    </a:lnTo>
                    <a:lnTo>
                      <a:pt x="14" y="0"/>
                    </a:lnTo>
                    <a:lnTo>
                      <a:pt x="0" y="4"/>
                    </a:lnTo>
                    <a:lnTo>
                      <a:pt x="7" y="20"/>
                    </a:lnTo>
                    <a:lnTo>
                      <a:pt x="21" y="39"/>
                    </a:lnTo>
                    <a:lnTo>
                      <a:pt x="34" y="53"/>
                    </a:lnTo>
                    <a:lnTo>
                      <a:pt x="51" y="62"/>
                    </a:lnTo>
                    <a:lnTo>
                      <a:pt x="67" y="69"/>
                    </a:lnTo>
                    <a:lnTo>
                      <a:pt x="88" y="71"/>
                    </a:lnTo>
                    <a:lnTo>
                      <a:pt x="106" y="71"/>
                    </a:lnTo>
                    <a:lnTo>
                      <a:pt x="127" y="67"/>
                    </a:lnTo>
                    <a:lnTo>
                      <a:pt x="127" y="67"/>
                    </a:lnTo>
                    <a:lnTo>
                      <a:pt x="122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未知"/>
            <p:cNvSpPr/>
            <p:nvPr/>
          </p:nvSpPr>
          <p:spPr>
            <a:xfrm>
              <a:off x="7034400" y="5540040"/>
              <a:ext cx="587160" cy="763200"/>
            </a:xfrm>
            <a:custGeom>
              <a:avLst/>
              <a:gdLst/>
              <a:ahLst/>
              <a:rect l="l" t="t" r="r" b="b"/>
              <a:pathLst>
                <a:path w="1877" h="2956">
                  <a:moveTo>
                    <a:pt x="1690" y="0"/>
                  </a:moveTo>
                  <a:lnTo>
                    <a:pt x="1688" y="979"/>
                  </a:lnTo>
                  <a:lnTo>
                    <a:pt x="1612" y="979"/>
                  </a:lnTo>
                  <a:lnTo>
                    <a:pt x="1602" y="910"/>
                  </a:lnTo>
                  <a:lnTo>
                    <a:pt x="1589" y="845"/>
                  </a:lnTo>
                  <a:lnTo>
                    <a:pt x="1575" y="783"/>
                  </a:lnTo>
                  <a:lnTo>
                    <a:pt x="1559" y="726"/>
                  </a:lnTo>
                  <a:lnTo>
                    <a:pt x="1542" y="671"/>
                  </a:lnTo>
                  <a:lnTo>
                    <a:pt x="1521" y="621"/>
                  </a:lnTo>
                  <a:lnTo>
                    <a:pt x="1500" y="573"/>
                  </a:lnTo>
                  <a:lnTo>
                    <a:pt x="1477" y="530"/>
                  </a:lnTo>
                  <a:lnTo>
                    <a:pt x="1465" y="510"/>
                  </a:lnTo>
                  <a:lnTo>
                    <a:pt x="1452" y="490"/>
                  </a:lnTo>
                  <a:lnTo>
                    <a:pt x="1438" y="470"/>
                  </a:lnTo>
                  <a:lnTo>
                    <a:pt x="1424" y="451"/>
                  </a:lnTo>
                  <a:lnTo>
                    <a:pt x="1409" y="432"/>
                  </a:lnTo>
                  <a:lnTo>
                    <a:pt x="1393" y="415"/>
                  </a:lnTo>
                  <a:lnTo>
                    <a:pt x="1376" y="398"/>
                  </a:lnTo>
                  <a:lnTo>
                    <a:pt x="1360" y="380"/>
                  </a:lnTo>
                  <a:lnTo>
                    <a:pt x="1341" y="365"/>
                  </a:lnTo>
                  <a:lnTo>
                    <a:pt x="1324" y="349"/>
                  </a:lnTo>
                  <a:lnTo>
                    <a:pt x="1304" y="333"/>
                  </a:lnTo>
                  <a:lnTo>
                    <a:pt x="1285" y="318"/>
                  </a:lnTo>
                  <a:lnTo>
                    <a:pt x="1265" y="304"/>
                  </a:lnTo>
                  <a:lnTo>
                    <a:pt x="1244" y="291"/>
                  </a:lnTo>
                  <a:lnTo>
                    <a:pt x="1222" y="278"/>
                  </a:lnTo>
                  <a:lnTo>
                    <a:pt x="1200" y="265"/>
                  </a:lnTo>
                  <a:lnTo>
                    <a:pt x="1177" y="254"/>
                  </a:lnTo>
                  <a:lnTo>
                    <a:pt x="1156" y="242"/>
                  </a:lnTo>
                  <a:lnTo>
                    <a:pt x="1133" y="232"/>
                  </a:lnTo>
                  <a:lnTo>
                    <a:pt x="1110" y="222"/>
                  </a:lnTo>
                  <a:lnTo>
                    <a:pt x="1087" y="213"/>
                  </a:lnTo>
                  <a:lnTo>
                    <a:pt x="1064" y="206"/>
                  </a:lnTo>
                  <a:lnTo>
                    <a:pt x="1042" y="199"/>
                  </a:lnTo>
                  <a:lnTo>
                    <a:pt x="1019" y="192"/>
                  </a:lnTo>
                  <a:lnTo>
                    <a:pt x="995" y="186"/>
                  </a:lnTo>
                  <a:lnTo>
                    <a:pt x="971" y="182"/>
                  </a:lnTo>
                  <a:lnTo>
                    <a:pt x="948" y="177"/>
                  </a:lnTo>
                  <a:lnTo>
                    <a:pt x="925" y="173"/>
                  </a:lnTo>
                  <a:lnTo>
                    <a:pt x="902" y="170"/>
                  </a:lnTo>
                  <a:lnTo>
                    <a:pt x="879" y="169"/>
                  </a:lnTo>
                  <a:lnTo>
                    <a:pt x="855" y="167"/>
                  </a:lnTo>
                  <a:lnTo>
                    <a:pt x="832" y="167"/>
                  </a:lnTo>
                  <a:lnTo>
                    <a:pt x="806" y="167"/>
                  </a:lnTo>
                  <a:lnTo>
                    <a:pt x="780" y="169"/>
                  </a:lnTo>
                  <a:lnTo>
                    <a:pt x="754" y="172"/>
                  </a:lnTo>
                  <a:lnTo>
                    <a:pt x="730" y="176"/>
                  </a:lnTo>
                  <a:lnTo>
                    <a:pt x="705" y="180"/>
                  </a:lnTo>
                  <a:lnTo>
                    <a:pt x="681" y="186"/>
                  </a:lnTo>
                  <a:lnTo>
                    <a:pt x="658" y="192"/>
                  </a:lnTo>
                  <a:lnTo>
                    <a:pt x="635" y="200"/>
                  </a:lnTo>
                  <a:lnTo>
                    <a:pt x="613" y="209"/>
                  </a:lnTo>
                  <a:lnTo>
                    <a:pt x="591" y="219"/>
                  </a:lnTo>
                  <a:lnTo>
                    <a:pt x="570" y="229"/>
                  </a:lnTo>
                  <a:lnTo>
                    <a:pt x="550" y="241"/>
                  </a:lnTo>
                  <a:lnTo>
                    <a:pt x="530" y="254"/>
                  </a:lnTo>
                  <a:lnTo>
                    <a:pt x="511" y="268"/>
                  </a:lnTo>
                  <a:lnTo>
                    <a:pt x="492" y="284"/>
                  </a:lnTo>
                  <a:lnTo>
                    <a:pt x="473" y="300"/>
                  </a:lnTo>
                  <a:lnTo>
                    <a:pt x="440" y="333"/>
                  </a:lnTo>
                  <a:lnTo>
                    <a:pt x="411" y="367"/>
                  </a:lnTo>
                  <a:lnTo>
                    <a:pt x="387" y="403"/>
                  </a:lnTo>
                  <a:lnTo>
                    <a:pt x="367" y="441"/>
                  </a:lnTo>
                  <a:lnTo>
                    <a:pt x="351" y="480"/>
                  </a:lnTo>
                  <a:lnTo>
                    <a:pt x="339" y="519"/>
                  </a:lnTo>
                  <a:lnTo>
                    <a:pt x="334" y="559"/>
                  </a:lnTo>
                  <a:lnTo>
                    <a:pt x="331" y="601"/>
                  </a:lnTo>
                  <a:lnTo>
                    <a:pt x="332" y="632"/>
                  </a:lnTo>
                  <a:lnTo>
                    <a:pt x="337" y="664"/>
                  </a:lnTo>
                  <a:lnTo>
                    <a:pt x="344" y="694"/>
                  </a:lnTo>
                  <a:lnTo>
                    <a:pt x="354" y="724"/>
                  </a:lnTo>
                  <a:lnTo>
                    <a:pt x="367" y="753"/>
                  </a:lnTo>
                  <a:lnTo>
                    <a:pt x="381" y="782"/>
                  </a:lnTo>
                  <a:lnTo>
                    <a:pt x="400" y="809"/>
                  </a:lnTo>
                  <a:lnTo>
                    <a:pt x="422" y="837"/>
                  </a:lnTo>
                  <a:lnTo>
                    <a:pt x="439" y="857"/>
                  </a:lnTo>
                  <a:lnTo>
                    <a:pt x="460" y="877"/>
                  </a:lnTo>
                  <a:lnTo>
                    <a:pt x="483" y="899"/>
                  </a:lnTo>
                  <a:lnTo>
                    <a:pt x="509" y="922"/>
                  </a:lnTo>
                  <a:lnTo>
                    <a:pt x="538" y="945"/>
                  </a:lnTo>
                  <a:lnTo>
                    <a:pt x="568" y="968"/>
                  </a:lnTo>
                  <a:lnTo>
                    <a:pt x="603" y="994"/>
                  </a:lnTo>
                  <a:lnTo>
                    <a:pt x="640" y="1020"/>
                  </a:lnTo>
                  <a:lnTo>
                    <a:pt x="679" y="1046"/>
                  </a:lnTo>
                  <a:lnTo>
                    <a:pt x="722" y="1073"/>
                  </a:lnTo>
                  <a:lnTo>
                    <a:pt x="767" y="1102"/>
                  </a:lnTo>
                  <a:lnTo>
                    <a:pt x="815" y="1130"/>
                  </a:lnTo>
                  <a:lnTo>
                    <a:pt x="865" y="1159"/>
                  </a:lnTo>
                  <a:lnTo>
                    <a:pt x="918" y="1191"/>
                  </a:lnTo>
                  <a:lnTo>
                    <a:pt x="974" y="1223"/>
                  </a:lnTo>
                  <a:lnTo>
                    <a:pt x="1033" y="1254"/>
                  </a:lnTo>
                  <a:lnTo>
                    <a:pt x="1082" y="1280"/>
                  </a:lnTo>
                  <a:lnTo>
                    <a:pt x="1128" y="1306"/>
                  </a:lnTo>
                  <a:lnTo>
                    <a:pt x="1173" y="1331"/>
                  </a:lnTo>
                  <a:lnTo>
                    <a:pt x="1216" y="1354"/>
                  </a:lnTo>
                  <a:lnTo>
                    <a:pt x="1257" y="1378"/>
                  </a:lnTo>
                  <a:lnTo>
                    <a:pt x="1295" y="1400"/>
                  </a:lnTo>
                  <a:lnTo>
                    <a:pt x="1333" y="1421"/>
                  </a:lnTo>
                  <a:lnTo>
                    <a:pt x="1367" y="1443"/>
                  </a:lnTo>
                  <a:lnTo>
                    <a:pt x="1401" y="1463"/>
                  </a:lnTo>
                  <a:lnTo>
                    <a:pt x="1431" y="1482"/>
                  </a:lnTo>
                  <a:lnTo>
                    <a:pt x="1460" y="1500"/>
                  </a:lnTo>
                  <a:lnTo>
                    <a:pt x="1487" y="1518"/>
                  </a:lnTo>
                  <a:lnTo>
                    <a:pt x="1511" y="1535"/>
                  </a:lnTo>
                  <a:lnTo>
                    <a:pt x="1534" y="1551"/>
                  </a:lnTo>
                  <a:lnTo>
                    <a:pt x="1556" y="1567"/>
                  </a:lnTo>
                  <a:lnTo>
                    <a:pt x="1575" y="1581"/>
                  </a:lnTo>
                  <a:lnTo>
                    <a:pt x="1611" y="1610"/>
                  </a:lnTo>
                  <a:lnTo>
                    <a:pt x="1644" y="1640"/>
                  </a:lnTo>
                  <a:lnTo>
                    <a:pt x="1675" y="1672"/>
                  </a:lnTo>
                  <a:lnTo>
                    <a:pt x="1704" y="1705"/>
                  </a:lnTo>
                  <a:lnTo>
                    <a:pt x="1732" y="1739"/>
                  </a:lnTo>
                  <a:lnTo>
                    <a:pt x="1756" y="1774"/>
                  </a:lnTo>
                  <a:lnTo>
                    <a:pt x="1779" y="1811"/>
                  </a:lnTo>
                  <a:lnTo>
                    <a:pt x="1799" y="1849"/>
                  </a:lnTo>
                  <a:lnTo>
                    <a:pt x="1818" y="1888"/>
                  </a:lnTo>
                  <a:lnTo>
                    <a:pt x="1834" y="1928"/>
                  </a:lnTo>
                  <a:lnTo>
                    <a:pt x="1847" y="1967"/>
                  </a:lnTo>
                  <a:lnTo>
                    <a:pt x="1858" y="2007"/>
                  </a:lnTo>
                  <a:lnTo>
                    <a:pt x="1866" y="2049"/>
                  </a:lnTo>
                  <a:lnTo>
                    <a:pt x="1873" y="2089"/>
                  </a:lnTo>
                  <a:lnTo>
                    <a:pt x="1876" y="2131"/>
                  </a:lnTo>
                  <a:lnTo>
                    <a:pt x="1877" y="2173"/>
                  </a:lnTo>
                  <a:lnTo>
                    <a:pt x="1876" y="2213"/>
                  </a:lnTo>
                  <a:lnTo>
                    <a:pt x="1873" y="2252"/>
                  </a:lnTo>
                  <a:lnTo>
                    <a:pt x="1868" y="2289"/>
                  </a:lnTo>
                  <a:lnTo>
                    <a:pt x="1861" y="2327"/>
                  </a:lnTo>
                  <a:lnTo>
                    <a:pt x="1853" y="2364"/>
                  </a:lnTo>
                  <a:lnTo>
                    <a:pt x="1842" y="2400"/>
                  </a:lnTo>
                  <a:lnTo>
                    <a:pt x="1830" y="2436"/>
                  </a:lnTo>
                  <a:lnTo>
                    <a:pt x="1815" y="2471"/>
                  </a:lnTo>
                  <a:lnTo>
                    <a:pt x="1798" y="2505"/>
                  </a:lnTo>
                  <a:lnTo>
                    <a:pt x="1779" y="2538"/>
                  </a:lnTo>
                  <a:lnTo>
                    <a:pt x="1759" y="2572"/>
                  </a:lnTo>
                  <a:lnTo>
                    <a:pt x="1737" y="2603"/>
                  </a:lnTo>
                  <a:lnTo>
                    <a:pt x="1713" y="2634"/>
                  </a:lnTo>
                  <a:lnTo>
                    <a:pt x="1686" y="2665"/>
                  </a:lnTo>
                  <a:lnTo>
                    <a:pt x="1658" y="2694"/>
                  </a:lnTo>
                  <a:lnTo>
                    <a:pt x="1628" y="2723"/>
                  </a:lnTo>
                  <a:lnTo>
                    <a:pt x="1596" y="2752"/>
                  </a:lnTo>
                  <a:lnTo>
                    <a:pt x="1563" y="2777"/>
                  </a:lnTo>
                  <a:lnTo>
                    <a:pt x="1530" y="2802"/>
                  </a:lnTo>
                  <a:lnTo>
                    <a:pt x="1494" y="2825"/>
                  </a:lnTo>
                  <a:lnTo>
                    <a:pt x="1458" y="2845"/>
                  </a:lnTo>
                  <a:lnTo>
                    <a:pt x="1421" y="2865"/>
                  </a:lnTo>
                  <a:lnTo>
                    <a:pt x="1383" y="2883"/>
                  </a:lnTo>
                  <a:lnTo>
                    <a:pt x="1343" y="2897"/>
                  </a:lnTo>
                  <a:lnTo>
                    <a:pt x="1303" y="2911"/>
                  </a:lnTo>
                  <a:lnTo>
                    <a:pt x="1261" y="2923"/>
                  </a:lnTo>
                  <a:lnTo>
                    <a:pt x="1218" y="2933"/>
                  </a:lnTo>
                  <a:lnTo>
                    <a:pt x="1173" y="2942"/>
                  </a:lnTo>
                  <a:lnTo>
                    <a:pt x="1128" y="2947"/>
                  </a:lnTo>
                  <a:lnTo>
                    <a:pt x="1082" y="2952"/>
                  </a:lnTo>
                  <a:lnTo>
                    <a:pt x="1035" y="2955"/>
                  </a:lnTo>
                  <a:lnTo>
                    <a:pt x="986" y="2956"/>
                  </a:lnTo>
                  <a:lnTo>
                    <a:pt x="956" y="2956"/>
                  </a:lnTo>
                  <a:lnTo>
                    <a:pt x="925" y="2955"/>
                  </a:lnTo>
                  <a:lnTo>
                    <a:pt x="897" y="2953"/>
                  </a:lnTo>
                  <a:lnTo>
                    <a:pt x="868" y="2952"/>
                  </a:lnTo>
                  <a:lnTo>
                    <a:pt x="839" y="2949"/>
                  </a:lnTo>
                  <a:lnTo>
                    <a:pt x="812" y="2946"/>
                  </a:lnTo>
                  <a:lnTo>
                    <a:pt x="784" y="2942"/>
                  </a:lnTo>
                  <a:lnTo>
                    <a:pt x="757" y="2937"/>
                  </a:lnTo>
                  <a:lnTo>
                    <a:pt x="748" y="2936"/>
                  </a:lnTo>
                  <a:lnTo>
                    <a:pt x="738" y="2934"/>
                  </a:lnTo>
                  <a:lnTo>
                    <a:pt x="728" y="2932"/>
                  </a:lnTo>
                  <a:lnTo>
                    <a:pt x="717" y="2929"/>
                  </a:lnTo>
                  <a:lnTo>
                    <a:pt x="704" y="2926"/>
                  </a:lnTo>
                  <a:lnTo>
                    <a:pt x="689" y="2921"/>
                  </a:lnTo>
                  <a:lnTo>
                    <a:pt x="673" y="2917"/>
                  </a:lnTo>
                  <a:lnTo>
                    <a:pt x="658" y="2913"/>
                  </a:lnTo>
                  <a:lnTo>
                    <a:pt x="640" y="2907"/>
                  </a:lnTo>
                  <a:lnTo>
                    <a:pt x="622" y="2903"/>
                  </a:lnTo>
                  <a:lnTo>
                    <a:pt x="603" y="2897"/>
                  </a:lnTo>
                  <a:lnTo>
                    <a:pt x="583" y="2890"/>
                  </a:lnTo>
                  <a:lnTo>
                    <a:pt x="561" y="2884"/>
                  </a:lnTo>
                  <a:lnTo>
                    <a:pt x="538" y="2877"/>
                  </a:lnTo>
                  <a:lnTo>
                    <a:pt x="514" y="2868"/>
                  </a:lnTo>
                  <a:lnTo>
                    <a:pt x="489" y="2861"/>
                  </a:lnTo>
                  <a:lnTo>
                    <a:pt x="465" y="2854"/>
                  </a:lnTo>
                  <a:lnTo>
                    <a:pt x="440" y="2845"/>
                  </a:lnTo>
                  <a:lnTo>
                    <a:pt x="417" y="2839"/>
                  </a:lnTo>
                  <a:lnTo>
                    <a:pt x="396" y="2832"/>
                  </a:lnTo>
                  <a:lnTo>
                    <a:pt x="375" y="2826"/>
                  </a:lnTo>
                  <a:lnTo>
                    <a:pt x="357" y="2821"/>
                  </a:lnTo>
                  <a:lnTo>
                    <a:pt x="339" y="2816"/>
                  </a:lnTo>
                  <a:lnTo>
                    <a:pt x="322" y="2812"/>
                  </a:lnTo>
                  <a:lnTo>
                    <a:pt x="308" y="2808"/>
                  </a:lnTo>
                  <a:lnTo>
                    <a:pt x="293" y="2805"/>
                  </a:lnTo>
                  <a:lnTo>
                    <a:pt x="279" y="2802"/>
                  </a:lnTo>
                  <a:lnTo>
                    <a:pt x="268" y="2799"/>
                  </a:lnTo>
                  <a:lnTo>
                    <a:pt x="257" y="2798"/>
                  </a:lnTo>
                  <a:lnTo>
                    <a:pt x="247" y="2796"/>
                  </a:lnTo>
                  <a:lnTo>
                    <a:pt x="239" y="2795"/>
                  </a:lnTo>
                  <a:lnTo>
                    <a:pt x="232" y="2795"/>
                  </a:lnTo>
                  <a:lnTo>
                    <a:pt x="219" y="2795"/>
                  </a:lnTo>
                  <a:lnTo>
                    <a:pt x="207" y="2796"/>
                  </a:lnTo>
                  <a:lnTo>
                    <a:pt x="196" y="2799"/>
                  </a:lnTo>
                  <a:lnTo>
                    <a:pt x="184" y="2803"/>
                  </a:lnTo>
                  <a:lnTo>
                    <a:pt x="174" y="2808"/>
                  </a:lnTo>
                  <a:lnTo>
                    <a:pt x="165" y="2813"/>
                  </a:lnTo>
                  <a:lnTo>
                    <a:pt x="157" y="2819"/>
                  </a:lnTo>
                  <a:lnTo>
                    <a:pt x="149" y="2826"/>
                  </a:lnTo>
                  <a:lnTo>
                    <a:pt x="142" y="2835"/>
                  </a:lnTo>
                  <a:lnTo>
                    <a:pt x="135" y="2847"/>
                  </a:lnTo>
                  <a:lnTo>
                    <a:pt x="129" y="2860"/>
                  </a:lnTo>
                  <a:lnTo>
                    <a:pt x="122" y="2875"/>
                  </a:lnTo>
                  <a:lnTo>
                    <a:pt x="118" y="2893"/>
                  </a:lnTo>
                  <a:lnTo>
                    <a:pt x="112" y="2911"/>
                  </a:lnTo>
                  <a:lnTo>
                    <a:pt x="108" y="2933"/>
                  </a:lnTo>
                  <a:lnTo>
                    <a:pt x="103" y="2956"/>
                  </a:lnTo>
                  <a:lnTo>
                    <a:pt x="29" y="2956"/>
                  </a:lnTo>
                  <a:lnTo>
                    <a:pt x="29" y="1989"/>
                  </a:lnTo>
                  <a:lnTo>
                    <a:pt x="103" y="1989"/>
                  </a:lnTo>
                  <a:lnTo>
                    <a:pt x="118" y="2062"/>
                  </a:lnTo>
                  <a:lnTo>
                    <a:pt x="132" y="2131"/>
                  </a:lnTo>
                  <a:lnTo>
                    <a:pt x="149" y="2196"/>
                  </a:lnTo>
                  <a:lnTo>
                    <a:pt x="167" y="2255"/>
                  </a:lnTo>
                  <a:lnTo>
                    <a:pt x="185" y="2310"/>
                  </a:lnTo>
                  <a:lnTo>
                    <a:pt x="206" y="2360"/>
                  </a:lnTo>
                  <a:lnTo>
                    <a:pt x="227" y="2405"/>
                  </a:lnTo>
                  <a:lnTo>
                    <a:pt x="250" y="2445"/>
                  </a:lnTo>
                  <a:lnTo>
                    <a:pt x="262" y="2464"/>
                  </a:lnTo>
                  <a:lnTo>
                    <a:pt x="275" y="2482"/>
                  </a:lnTo>
                  <a:lnTo>
                    <a:pt x="288" y="2500"/>
                  </a:lnTo>
                  <a:lnTo>
                    <a:pt x="302" y="2517"/>
                  </a:lnTo>
                  <a:lnTo>
                    <a:pt x="316" y="2534"/>
                  </a:lnTo>
                  <a:lnTo>
                    <a:pt x="332" y="2550"/>
                  </a:lnTo>
                  <a:lnTo>
                    <a:pt x="348" y="2566"/>
                  </a:lnTo>
                  <a:lnTo>
                    <a:pt x="365" y="2582"/>
                  </a:lnTo>
                  <a:lnTo>
                    <a:pt x="384" y="2598"/>
                  </a:lnTo>
                  <a:lnTo>
                    <a:pt x="403" y="2612"/>
                  </a:lnTo>
                  <a:lnTo>
                    <a:pt x="422" y="2626"/>
                  </a:lnTo>
                  <a:lnTo>
                    <a:pt x="442" y="2641"/>
                  </a:lnTo>
                  <a:lnTo>
                    <a:pt x="463" y="2655"/>
                  </a:lnTo>
                  <a:lnTo>
                    <a:pt x="485" y="2668"/>
                  </a:lnTo>
                  <a:lnTo>
                    <a:pt x="508" y="2681"/>
                  </a:lnTo>
                  <a:lnTo>
                    <a:pt x="531" y="2694"/>
                  </a:lnTo>
                  <a:lnTo>
                    <a:pt x="554" y="2705"/>
                  </a:lnTo>
                  <a:lnTo>
                    <a:pt x="578" y="2717"/>
                  </a:lnTo>
                  <a:lnTo>
                    <a:pt x="603" y="2727"/>
                  </a:lnTo>
                  <a:lnTo>
                    <a:pt x="627" y="2737"/>
                  </a:lnTo>
                  <a:lnTo>
                    <a:pt x="652" y="2746"/>
                  </a:lnTo>
                  <a:lnTo>
                    <a:pt x="678" y="2754"/>
                  </a:lnTo>
                  <a:lnTo>
                    <a:pt x="702" y="2762"/>
                  </a:lnTo>
                  <a:lnTo>
                    <a:pt x="728" y="2769"/>
                  </a:lnTo>
                  <a:lnTo>
                    <a:pt x="754" y="2775"/>
                  </a:lnTo>
                  <a:lnTo>
                    <a:pt x="780" y="2779"/>
                  </a:lnTo>
                  <a:lnTo>
                    <a:pt x="807" y="2783"/>
                  </a:lnTo>
                  <a:lnTo>
                    <a:pt x="833" y="2788"/>
                  </a:lnTo>
                  <a:lnTo>
                    <a:pt x="861" y="2790"/>
                  </a:lnTo>
                  <a:lnTo>
                    <a:pt x="888" y="2792"/>
                  </a:lnTo>
                  <a:lnTo>
                    <a:pt x="915" y="2793"/>
                  </a:lnTo>
                  <a:lnTo>
                    <a:pt x="943" y="2793"/>
                  </a:lnTo>
                  <a:lnTo>
                    <a:pt x="974" y="2793"/>
                  </a:lnTo>
                  <a:lnTo>
                    <a:pt x="1006" y="2792"/>
                  </a:lnTo>
                  <a:lnTo>
                    <a:pt x="1036" y="2789"/>
                  </a:lnTo>
                  <a:lnTo>
                    <a:pt x="1065" y="2785"/>
                  </a:lnTo>
                  <a:lnTo>
                    <a:pt x="1094" y="2780"/>
                  </a:lnTo>
                  <a:lnTo>
                    <a:pt x="1123" y="2775"/>
                  </a:lnTo>
                  <a:lnTo>
                    <a:pt x="1150" y="2767"/>
                  </a:lnTo>
                  <a:lnTo>
                    <a:pt x="1176" y="2759"/>
                  </a:lnTo>
                  <a:lnTo>
                    <a:pt x="1200" y="2750"/>
                  </a:lnTo>
                  <a:lnTo>
                    <a:pt x="1225" y="2740"/>
                  </a:lnTo>
                  <a:lnTo>
                    <a:pt x="1249" y="2729"/>
                  </a:lnTo>
                  <a:lnTo>
                    <a:pt x="1272" y="2717"/>
                  </a:lnTo>
                  <a:lnTo>
                    <a:pt x="1294" y="2704"/>
                  </a:lnTo>
                  <a:lnTo>
                    <a:pt x="1316" y="2688"/>
                  </a:lnTo>
                  <a:lnTo>
                    <a:pt x="1336" y="2674"/>
                  </a:lnTo>
                  <a:lnTo>
                    <a:pt x="1354" y="2657"/>
                  </a:lnTo>
                  <a:lnTo>
                    <a:pt x="1390" y="2622"/>
                  </a:lnTo>
                  <a:lnTo>
                    <a:pt x="1421" y="2586"/>
                  </a:lnTo>
                  <a:lnTo>
                    <a:pt x="1447" y="2549"/>
                  </a:lnTo>
                  <a:lnTo>
                    <a:pt x="1468" y="2508"/>
                  </a:lnTo>
                  <a:lnTo>
                    <a:pt x="1484" y="2467"/>
                  </a:lnTo>
                  <a:lnTo>
                    <a:pt x="1496" y="2423"/>
                  </a:lnTo>
                  <a:lnTo>
                    <a:pt x="1503" y="2379"/>
                  </a:lnTo>
                  <a:lnTo>
                    <a:pt x="1506" y="2333"/>
                  </a:lnTo>
                  <a:lnTo>
                    <a:pt x="1504" y="2307"/>
                  </a:lnTo>
                  <a:lnTo>
                    <a:pt x="1501" y="2281"/>
                  </a:lnTo>
                  <a:lnTo>
                    <a:pt x="1497" y="2255"/>
                  </a:lnTo>
                  <a:lnTo>
                    <a:pt x="1491" y="2228"/>
                  </a:lnTo>
                  <a:lnTo>
                    <a:pt x="1483" y="2202"/>
                  </a:lnTo>
                  <a:lnTo>
                    <a:pt x="1472" y="2176"/>
                  </a:lnTo>
                  <a:lnTo>
                    <a:pt x="1461" y="2148"/>
                  </a:lnTo>
                  <a:lnTo>
                    <a:pt x="1448" y="2122"/>
                  </a:lnTo>
                  <a:lnTo>
                    <a:pt x="1434" y="2096"/>
                  </a:lnTo>
                  <a:lnTo>
                    <a:pt x="1416" y="2071"/>
                  </a:lnTo>
                  <a:lnTo>
                    <a:pt x="1396" y="2045"/>
                  </a:lnTo>
                  <a:lnTo>
                    <a:pt x="1375" y="2020"/>
                  </a:lnTo>
                  <a:lnTo>
                    <a:pt x="1352" y="1996"/>
                  </a:lnTo>
                  <a:lnTo>
                    <a:pt x="1326" y="1971"/>
                  </a:lnTo>
                  <a:lnTo>
                    <a:pt x="1298" y="1947"/>
                  </a:lnTo>
                  <a:lnTo>
                    <a:pt x="1269" y="1924"/>
                  </a:lnTo>
                  <a:lnTo>
                    <a:pt x="1258" y="1915"/>
                  </a:lnTo>
                  <a:lnTo>
                    <a:pt x="1245" y="1906"/>
                  </a:lnTo>
                  <a:lnTo>
                    <a:pt x="1229" y="1895"/>
                  </a:lnTo>
                  <a:lnTo>
                    <a:pt x="1210" y="1883"/>
                  </a:lnTo>
                  <a:lnTo>
                    <a:pt x="1190" y="1870"/>
                  </a:lnTo>
                  <a:lnTo>
                    <a:pt x="1169" y="1858"/>
                  </a:lnTo>
                  <a:lnTo>
                    <a:pt x="1144" y="1842"/>
                  </a:lnTo>
                  <a:lnTo>
                    <a:pt x="1118" y="1826"/>
                  </a:lnTo>
                  <a:lnTo>
                    <a:pt x="1090" y="1809"/>
                  </a:lnTo>
                  <a:lnTo>
                    <a:pt x="1058" y="1790"/>
                  </a:lnTo>
                  <a:lnTo>
                    <a:pt x="1025" y="1771"/>
                  </a:lnTo>
                  <a:lnTo>
                    <a:pt x="990" y="1750"/>
                  </a:lnTo>
                  <a:lnTo>
                    <a:pt x="953" y="1728"/>
                  </a:lnTo>
                  <a:lnTo>
                    <a:pt x="912" y="1706"/>
                  </a:lnTo>
                  <a:lnTo>
                    <a:pt x="871" y="1682"/>
                  </a:lnTo>
                  <a:lnTo>
                    <a:pt x="828" y="1657"/>
                  </a:lnTo>
                  <a:lnTo>
                    <a:pt x="783" y="1633"/>
                  </a:lnTo>
                  <a:lnTo>
                    <a:pt x="740" y="1608"/>
                  </a:lnTo>
                  <a:lnTo>
                    <a:pt x="699" y="1584"/>
                  </a:lnTo>
                  <a:lnTo>
                    <a:pt x="659" y="1561"/>
                  </a:lnTo>
                  <a:lnTo>
                    <a:pt x="622" y="1538"/>
                  </a:lnTo>
                  <a:lnTo>
                    <a:pt x="584" y="1516"/>
                  </a:lnTo>
                  <a:lnTo>
                    <a:pt x="550" y="1496"/>
                  </a:lnTo>
                  <a:lnTo>
                    <a:pt x="517" y="1475"/>
                  </a:lnTo>
                  <a:lnTo>
                    <a:pt x="485" y="1454"/>
                  </a:lnTo>
                  <a:lnTo>
                    <a:pt x="456" y="1436"/>
                  </a:lnTo>
                  <a:lnTo>
                    <a:pt x="427" y="1417"/>
                  </a:lnTo>
                  <a:lnTo>
                    <a:pt x="401" y="1400"/>
                  </a:lnTo>
                  <a:lnTo>
                    <a:pt x="377" y="1382"/>
                  </a:lnTo>
                  <a:lnTo>
                    <a:pt x="354" y="1365"/>
                  </a:lnTo>
                  <a:lnTo>
                    <a:pt x="332" y="1349"/>
                  </a:lnTo>
                  <a:lnTo>
                    <a:pt x="312" y="1333"/>
                  </a:lnTo>
                  <a:lnTo>
                    <a:pt x="293" y="1318"/>
                  </a:lnTo>
                  <a:lnTo>
                    <a:pt x="275" y="1303"/>
                  </a:lnTo>
                  <a:lnTo>
                    <a:pt x="256" y="1287"/>
                  </a:lnTo>
                  <a:lnTo>
                    <a:pt x="240" y="1272"/>
                  </a:lnTo>
                  <a:lnTo>
                    <a:pt x="223" y="1256"/>
                  </a:lnTo>
                  <a:lnTo>
                    <a:pt x="207" y="1238"/>
                  </a:lnTo>
                  <a:lnTo>
                    <a:pt x="191" y="1223"/>
                  </a:lnTo>
                  <a:lnTo>
                    <a:pt x="177" y="1205"/>
                  </a:lnTo>
                  <a:lnTo>
                    <a:pt x="162" y="1189"/>
                  </a:lnTo>
                  <a:lnTo>
                    <a:pt x="149" y="1172"/>
                  </a:lnTo>
                  <a:lnTo>
                    <a:pt x="135" y="1155"/>
                  </a:lnTo>
                  <a:lnTo>
                    <a:pt x="124" y="1138"/>
                  </a:lnTo>
                  <a:lnTo>
                    <a:pt x="112" y="1120"/>
                  </a:lnTo>
                  <a:lnTo>
                    <a:pt x="101" y="1102"/>
                  </a:lnTo>
                  <a:lnTo>
                    <a:pt x="89" y="1084"/>
                  </a:lnTo>
                  <a:lnTo>
                    <a:pt x="79" y="1066"/>
                  </a:lnTo>
                  <a:lnTo>
                    <a:pt x="60" y="1030"/>
                  </a:lnTo>
                  <a:lnTo>
                    <a:pt x="44" y="991"/>
                  </a:lnTo>
                  <a:lnTo>
                    <a:pt x="30" y="952"/>
                  </a:lnTo>
                  <a:lnTo>
                    <a:pt x="20" y="913"/>
                  </a:lnTo>
                  <a:lnTo>
                    <a:pt x="11" y="871"/>
                  </a:lnTo>
                  <a:lnTo>
                    <a:pt x="4" y="831"/>
                  </a:lnTo>
                  <a:lnTo>
                    <a:pt x="1" y="788"/>
                  </a:lnTo>
                  <a:lnTo>
                    <a:pt x="0" y="745"/>
                  </a:lnTo>
                  <a:lnTo>
                    <a:pt x="1" y="707"/>
                  </a:lnTo>
                  <a:lnTo>
                    <a:pt x="4" y="670"/>
                  </a:lnTo>
                  <a:lnTo>
                    <a:pt x="8" y="634"/>
                  </a:lnTo>
                  <a:lnTo>
                    <a:pt x="14" y="598"/>
                  </a:lnTo>
                  <a:lnTo>
                    <a:pt x="23" y="563"/>
                  </a:lnTo>
                  <a:lnTo>
                    <a:pt x="33" y="529"/>
                  </a:lnTo>
                  <a:lnTo>
                    <a:pt x="44" y="494"/>
                  </a:lnTo>
                  <a:lnTo>
                    <a:pt x="59" y="461"/>
                  </a:lnTo>
                  <a:lnTo>
                    <a:pt x="73" y="429"/>
                  </a:lnTo>
                  <a:lnTo>
                    <a:pt x="90" y="398"/>
                  </a:lnTo>
                  <a:lnTo>
                    <a:pt x="111" y="366"/>
                  </a:lnTo>
                  <a:lnTo>
                    <a:pt x="131" y="336"/>
                  </a:lnTo>
                  <a:lnTo>
                    <a:pt x="154" y="306"/>
                  </a:lnTo>
                  <a:lnTo>
                    <a:pt x="178" y="277"/>
                  </a:lnTo>
                  <a:lnTo>
                    <a:pt x="204" y="248"/>
                  </a:lnTo>
                  <a:lnTo>
                    <a:pt x="233" y="221"/>
                  </a:lnTo>
                  <a:lnTo>
                    <a:pt x="263" y="193"/>
                  </a:lnTo>
                  <a:lnTo>
                    <a:pt x="293" y="169"/>
                  </a:lnTo>
                  <a:lnTo>
                    <a:pt x="325" y="146"/>
                  </a:lnTo>
                  <a:lnTo>
                    <a:pt x="358" y="124"/>
                  </a:lnTo>
                  <a:lnTo>
                    <a:pt x="391" y="104"/>
                  </a:lnTo>
                  <a:lnTo>
                    <a:pt x="426" y="87"/>
                  </a:lnTo>
                  <a:lnTo>
                    <a:pt x="462" y="69"/>
                  </a:lnTo>
                  <a:lnTo>
                    <a:pt x="498" y="55"/>
                  </a:lnTo>
                  <a:lnTo>
                    <a:pt x="537" y="42"/>
                  </a:lnTo>
                  <a:lnTo>
                    <a:pt x="574" y="32"/>
                  </a:lnTo>
                  <a:lnTo>
                    <a:pt x="614" y="22"/>
                  </a:lnTo>
                  <a:lnTo>
                    <a:pt x="655" y="15"/>
                  </a:lnTo>
                  <a:lnTo>
                    <a:pt x="697" y="7"/>
                  </a:lnTo>
                  <a:lnTo>
                    <a:pt x="740" y="3"/>
                  </a:lnTo>
                  <a:lnTo>
                    <a:pt x="783" y="2"/>
                  </a:lnTo>
                  <a:lnTo>
                    <a:pt x="828" y="0"/>
                  </a:lnTo>
                  <a:lnTo>
                    <a:pt x="855" y="0"/>
                  </a:lnTo>
                  <a:lnTo>
                    <a:pt x="884" y="2"/>
                  </a:lnTo>
                  <a:lnTo>
                    <a:pt x="911" y="5"/>
                  </a:lnTo>
                  <a:lnTo>
                    <a:pt x="940" y="7"/>
                  </a:lnTo>
                  <a:lnTo>
                    <a:pt x="969" y="10"/>
                  </a:lnTo>
                  <a:lnTo>
                    <a:pt x="999" y="16"/>
                  </a:lnTo>
                  <a:lnTo>
                    <a:pt x="1028" y="20"/>
                  </a:lnTo>
                  <a:lnTo>
                    <a:pt x="1058" y="28"/>
                  </a:lnTo>
                  <a:lnTo>
                    <a:pt x="1088" y="35"/>
                  </a:lnTo>
                  <a:lnTo>
                    <a:pt x="1118" y="43"/>
                  </a:lnTo>
                  <a:lnTo>
                    <a:pt x="1149" y="52"/>
                  </a:lnTo>
                  <a:lnTo>
                    <a:pt x="1179" y="62"/>
                  </a:lnTo>
                  <a:lnTo>
                    <a:pt x="1209" y="72"/>
                  </a:lnTo>
                  <a:lnTo>
                    <a:pt x="1241" y="84"/>
                  </a:lnTo>
                  <a:lnTo>
                    <a:pt x="1271" y="97"/>
                  </a:lnTo>
                  <a:lnTo>
                    <a:pt x="1303" y="110"/>
                  </a:lnTo>
                  <a:lnTo>
                    <a:pt x="1331" y="121"/>
                  </a:lnTo>
                  <a:lnTo>
                    <a:pt x="1357" y="133"/>
                  </a:lnTo>
                  <a:lnTo>
                    <a:pt x="1380" y="141"/>
                  </a:lnTo>
                  <a:lnTo>
                    <a:pt x="1403" y="149"/>
                  </a:lnTo>
                  <a:lnTo>
                    <a:pt x="1422" y="156"/>
                  </a:lnTo>
                  <a:lnTo>
                    <a:pt x="1439" y="160"/>
                  </a:lnTo>
                  <a:lnTo>
                    <a:pt x="1455" y="162"/>
                  </a:lnTo>
                  <a:lnTo>
                    <a:pt x="1468" y="163"/>
                  </a:lnTo>
                  <a:lnTo>
                    <a:pt x="1481" y="163"/>
                  </a:lnTo>
                  <a:lnTo>
                    <a:pt x="1494" y="162"/>
                  </a:lnTo>
                  <a:lnTo>
                    <a:pt x="1506" y="159"/>
                  </a:lnTo>
                  <a:lnTo>
                    <a:pt x="1517" y="154"/>
                  </a:lnTo>
                  <a:lnTo>
                    <a:pt x="1529" y="150"/>
                  </a:lnTo>
                  <a:lnTo>
                    <a:pt x="1539" y="144"/>
                  </a:lnTo>
                  <a:lnTo>
                    <a:pt x="1547" y="137"/>
                  </a:lnTo>
                  <a:lnTo>
                    <a:pt x="1556" y="130"/>
                  </a:lnTo>
                  <a:lnTo>
                    <a:pt x="1565" y="120"/>
                  </a:lnTo>
                  <a:lnTo>
                    <a:pt x="1572" y="110"/>
                  </a:lnTo>
                  <a:lnTo>
                    <a:pt x="1580" y="95"/>
                  </a:lnTo>
                  <a:lnTo>
                    <a:pt x="1588" y="81"/>
                  </a:lnTo>
                  <a:lnTo>
                    <a:pt x="1593" y="64"/>
                  </a:lnTo>
                  <a:lnTo>
                    <a:pt x="1601" y="45"/>
                  </a:lnTo>
                  <a:lnTo>
                    <a:pt x="1606" y="23"/>
                  </a:lnTo>
                  <a:lnTo>
                    <a:pt x="1612" y="0"/>
                  </a:lnTo>
                  <a:lnTo>
                    <a:pt x="16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7100280" y="5140080"/>
              <a:ext cx="858600" cy="1160280"/>
              <a:chOff x="7100280" y="5140080"/>
              <a:chExt cx="858600" cy="1160280"/>
            </a:xfrm>
          </p:grpSpPr>
          <p:sp>
            <p:nvSpPr>
              <p:cNvPr id="77" name="未知"/>
              <p:cNvSpPr/>
              <p:nvPr/>
            </p:nvSpPr>
            <p:spPr>
              <a:xfrm>
                <a:off x="7518240" y="577080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3" y="75"/>
                    </a:moveTo>
                    <a:lnTo>
                      <a:pt x="1" y="85"/>
                    </a:lnTo>
                    <a:lnTo>
                      <a:pt x="10" y="83"/>
                    </a:lnTo>
                    <a:lnTo>
                      <a:pt x="23" y="78"/>
                    </a:lnTo>
                    <a:lnTo>
                      <a:pt x="30" y="73"/>
                    </a:lnTo>
                    <a:lnTo>
                      <a:pt x="41" y="50"/>
                    </a:lnTo>
                    <a:lnTo>
                      <a:pt x="33" y="29"/>
                    </a:lnTo>
                    <a:lnTo>
                      <a:pt x="13" y="19"/>
                    </a:lnTo>
                    <a:lnTo>
                      <a:pt x="43" y="8"/>
                    </a:lnTo>
                    <a:lnTo>
                      <a:pt x="79" y="20"/>
                    </a:lnTo>
                    <a:lnTo>
                      <a:pt x="72" y="13"/>
                    </a:lnTo>
                    <a:lnTo>
                      <a:pt x="63" y="7"/>
                    </a:lnTo>
                    <a:lnTo>
                      <a:pt x="5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3" y="0"/>
                    </a:lnTo>
                    <a:lnTo>
                      <a:pt x="13" y="3"/>
                    </a:lnTo>
                    <a:lnTo>
                      <a:pt x="3" y="7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13" y="26"/>
                    </a:lnTo>
                    <a:lnTo>
                      <a:pt x="23" y="29"/>
                    </a:lnTo>
                    <a:lnTo>
                      <a:pt x="27" y="49"/>
                    </a:lnTo>
                    <a:lnTo>
                      <a:pt x="3" y="75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未知"/>
              <p:cNvSpPr/>
              <p:nvPr/>
            </p:nvSpPr>
            <p:spPr>
              <a:xfrm>
                <a:off x="7518240" y="5770800"/>
                <a:ext cx="33120" cy="3348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3" y="75"/>
                    </a:moveTo>
                    <a:lnTo>
                      <a:pt x="3" y="75"/>
                    </a:lnTo>
                    <a:lnTo>
                      <a:pt x="1" y="85"/>
                    </a:lnTo>
                    <a:lnTo>
                      <a:pt x="10" y="83"/>
                    </a:lnTo>
                    <a:lnTo>
                      <a:pt x="23" y="78"/>
                    </a:lnTo>
                    <a:lnTo>
                      <a:pt x="30" y="73"/>
                    </a:lnTo>
                    <a:lnTo>
                      <a:pt x="41" y="50"/>
                    </a:lnTo>
                    <a:lnTo>
                      <a:pt x="33" y="29"/>
                    </a:lnTo>
                    <a:lnTo>
                      <a:pt x="13" y="19"/>
                    </a:lnTo>
                    <a:lnTo>
                      <a:pt x="43" y="8"/>
                    </a:lnTo>
                    <a:lnTo>
                      <a:pt x="79" y="20"/>
                    </a:lnTo>
                    <a:lnTo>
                      <a:pt x="79" y="20"/>
                    </a:lnTo>
                    <a:lnTo>
                      <a:pt x="72" y="13"/>
                    </a:lnTo>
                    <a:lnTo>
                      <a:pt x="63" y="7"/>
                    </a:lnTo>
                    <a:lnTo>
                      <a:pt x="5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3" y="0"/>
                    </a:lnTo>
                    <a:lnTo>
                      <a:pt x="13" y="3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13" y="26"/>
                    </a:lnTo>
                    <a:lnTo>
                      <a:pt x="23" y="29"/>
                    </a:lnTo>
                    <a:lnTo>
                      <a:pt x="27" y="49"/>
                    </a:lnTo>
                    <a:lnTo>
                      <a:pt x="3" y="75"/>
                    </a:lnTo>
                  </a:path>
                </a:pathLst>
              </a:custGeom>
              <a:noFill/>
              <a:ln w="0">
                <a:solidFill>
                  <a:srgbClr val="49494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未知"/>
              <p:cNvSpPr/>
              <p:nvPr/>
            </p:nvSpPr>
            <p:spPr>
              <a:xfrm>
                <a:off x="7505280" y="5774040"/>
                <a:ext cx="14760" cy="30600"/>
              </a:xfrm>
              <a:custGeom>
                <a:avLst/>
                <a:gdLst/>
                <a:ahLst/>
                <a:rect l="l" t="t" r="r" b="b"/>
                <a:pathLst>
                  <a:path w="36" h="77">
                    <a:moveTo>
                      <a:pt x="34" y="18"/>
                    </a:moveTo>
                    <a:lnTo>
                      <a:pt x="36" y="11"/>
                    </a:lnTo>
                    <a:lnTo>
                      <a:pt x="29" y="3"/>
                    </a:lnTo>
                    <a:lnTo>
                      <a:pt x="22" y="0"/>
                    </a:lnTo>
                    <a:lnTo>
                      <a:pt x="19" y="8"/>
                    </a:lnTo>
                    <a:lnTo>
                      <a:pt x="0" y="42"/>
                    </a:lnTo>
                    <a:lnTo>
                      <a:pt x="9" y="68"/>
                    </a:lnTo>
                    <a:lnTo>
                      <a:pt x="13" y="71"/>
                    </a:lnTo>
                    <a:lnTo>
                      <a:pt x="18" y="74"/>
                    </a:lnTo>
                    <a:lnTo>
                      <a:pt x="23" y="75"/>
                    </a:lnTo>
                    <a:lnTo>
                      <a:pt x="28" y="77"/>
                    </a:lnTo>
                    <a:lnTo>
                      <a:pt x="31" y="75"/>
                    </a:lnTo>
                    <a:lnTo>
                      <a:pt x="34" y="74"/>
                    </a:lnTo>
                    <a:lnTo>
                      <a:pt x="35" y="70"/>
                    </a:lnTo>
                    <a:lnTo>
                      <a:pt x="34" y="67"/>
                    </a:lnTo>
                    <a:lnTo>
                      <a:pt x="26" y="62"/>
                    </a:lnTo>
                    <a:lnTo>
                      <a:pt x="18" y="58"/>
                    </a:lnTo>
                    <a:lnTo>
                      <a:pt x="12" y="54"/>
                    </a:lnTo>
                    <a:lnTo>
                      <a:pt x="11" y="48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未知"/>
              <p:cNvSpPr/>
              <p:nvPr/>
            </p:nvSpPr>
            <p:spPr>
              <a:xfrm>
                <a:off x="7505280" y="5774040"/>
                <a:ext cx="14760" cy="30600"/>
              </a:xfrm>
              <a:custGeom>
                <a:avLst/>
                <a:gdLst/>
                <a:ahLst/>
                <a:rect l="l" t="t" r="r" b="b"/>
                <a:pathLst>
                  <a:path w="36" h="77">
                    <a:moveTo>
                      <a:pt x="34" y="18"/>
                    </a:moveTo>
                    <a:lnTo>
                      <a:pt x="34" y="18"/>
                    </a:lnTo>
                    <a:lnTo>
                      <a:pt x="36" y="11"/>
                    </a:lnTo>
                    <a:lnTo>
                      <a:pt x="29" y="3"/>
                    </a:lnTo>
                    <a:lnTo>
                      <a:pt x="22" y="0"/>
                    </a:lnTo>
                    <a:lnTo>
                      <a:pt x="19" y="8"/>
                    </a:lnTo>
                    <a:lnTo>
                      <a:pt x="0" y="42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13" y="71"/>
                    </a:lnTo>
                    <a:lnTo>
                      <a:pt x="18" y="74"/>
                    </a:lnTo>
                    <a:lnTo>
                      <a:pt x="23" y="75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31" y="75"/>
                    </a:lnTo>
                    <a:lnTo>
                      <a:pt x="34" y="74"/>
                    </a:lnTo>
                    <a:lnTo>
                      <a:pt x="35" y="70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26" y="62"/>
                    </a:lnTo>
                    <a:lnTo>
                      <a:pt x="18" y="58"/>
                    </a:lnTo>
                    <a:lnTo>
                      <a:pt x="12" y="54"/>
                    </a:lnTo>
                    <a:lnTo>
                      <a:pt x="11" y="48"/>
                    </a:lnTo>
                    <a:lnTo>
                      <a:pt x="34" y="18"/>
                    </a:lnTo>
                  </a:path>
                </a:pathLst>
              </a:custGeom>
              <a:noFill/>
              <a:ln w="0">
                <a:solidFill>
                  <a:srgbClr val="49494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未知"/>
              <p:cNvSpPr/>
              <p:nvPr/>
            </p:nvSpPr>
            <p:spPr>
              <a:xfrm>
                <a:off x="7822440" y="5140080"/>
                <a:ext cx="136440" cy="172800"/>
              </a:xfrm>
              <a:custGeom>
                <a:avLst/>
                <a:gdLst/>
                <a:ahLst/>
                <a:rect l="l" t="t" r="r" b="b"/>
                <a:pathLst>
                  <a:path w="324" h="434">
                    <a:moveTo>
                      <a:pt x="160" y="377"/>
                    </a:moveTo>
                    <a:lnTo>
                      <a:pt x="175" y="341"/>
                    </a:lnTo>
                    <a:lnTo>
                      <a:pt x="195" y="294"/>
                    </a:lnTo>
                    <a:lnTo>
                      <a:pt x="216" y="239"/>
                    </a:lnTo>
                    <a:lnTo>
                      <a:pt x="239" y="182"/>
                    </a:lnTo>
                    <a:lnTo>
                      <a:pt x="264" y="125"/>
                    </a:lnTo>
                    <a:lnTo>
                      <a:pt x="287" y="74"/>
                    </a:lnTo>
                    <a:lnTo>
                      <a:pt x="307" y="30"/>
                    </a:lnTo>
                    <a:lnTo>
                      <a:pt x="324" y="0"/>
                    </a:lnTo>
                    <a:lnTo>
                      <a:pt x="304" y="19"/>
                    </a:lnTo>
                    <a:lnTo>
                      <a:pt x="284" y="39"/>
                    </a:lnTo>
                    <a:lnTo>
                      <a:pt x="264" y="58"/>
                    </a:lnTo>
                    <a:lnTo>
                      <a:pt x="245" y="78"/>
                    </a:lnTo>
                    <a:lnTo>
                      <a:pt x="225" y="98"/>
                    </a:lnTo>
                    <a:lnTo>
                      <a:pt x="205" y="117"/>
                    </a:lnTo>
                    <a:lnTo>
                      <a:pt x="185" y="137"/>
                    </a:lnTo>
                    <a:lnTo>
                      <a:pt x="164" y="157"/>
                    </a:lnTo>
                    <a:lnTo>
                      <a:pt x="144" y="176"/>
                    </a:lnTo>
                    <a:lnTo>
                      <a:pt x="124" y="196"/>
                    </a:lnTo>
                    <a:lnTo>
                      <a:pt x="104" y="215"/>
                    </a:lnTo>
                    <a:lnTo>
                      <a:pt x="84" y="233"/>
                    </a:lnTo>
                    <a:lnTo>
                      <a:pt x="62" y="252"/>
                    </a:lnTo>
                    <a:lnTo>
                      <a:pt x="42" y="271"/>
                    </a:lnTo>
                    <a:lnTo>
                      <a:pt x="22" y="290"/>
                    </a:lnTo>
                    <a:lnTo>
                      <a:pt x="0" y="307"/>
                    </a:lnTo>
                    <a:lnTo>
                      <a:pt x="13" y="434"/>
                    </a:lnTo>
                    <a:lnTo>
                      <a:pt x="160" y="37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未知"/>
              <p:cNvSpPr/>
              <p:nvPr/>
            </p:nvSpPr>
            <p:spPr>
              <a:xfrm>
                <a:off x="7822440" y="5140080"/>
                <a:ext cx="136440" cy="172800"/>
              </a:xfrm>
              <a:custGeom>
                <a:avLst/>
                <a:gdLst/>
                <a:ahLst/>
                <a:rect l="l" t="t" r="r" b="b"/>
                <a:pathLst>
                  <a:path w="324" h="434">
                    <a:moveTo>
                      <a:pt x="160" y="377"/>
                    </a:moveTo>
                    <a:lnTo>
                      <a:pt x="160" y="377"/>
                    </a:lnTo>
                    <a:lnTo>
                      <a:pt x="175" y="341"/>
                    </a:lnTo>
                    <a:lnTo>
                      <a:pt x="195" y="294"/>
                    </a:lnTo>
                    <a:lnTo>
                      <a:pt x="216" y="239"/>
                    </a:lnTo>
                    <a:lnTo>
                      <a:pt x="239" y="182"/>
                    </a:lnTo>
                    <a:lnTo>
                      <a:pt x="264" y="125"/>
                    </a:lnTo>
                    <a:lnTo>
                      <a:pt x="287" y="74"/>
                    </a:lnTo>
                    <a:lnTo>
                      <a:pt x="307" y="30"/>
                    </a:lnTo>
                    <a:lnTo>
                      <a:pt x="324" y="0"/>
                    </a:lnTo>
                    <a:lnTo>
                      <a:pt x="324" y="0"/>
                    </a:lnTo>
                    <a:lnTo>
                      <a:pt x="304" y="19"/>
                    </a:lnTo>
                    <a:lnTo>
                      <a:pt x="284" y="39"/>
                    </a:lnTo>
                    <a:lnTo>
                      <a:pt x="264" y="58"/>
                    </a:lnTo>
                    <a:lnTo>
                      <a:pt x="245" y="78"/>
                    </a:lnTo>
                    <a:lnTo>
                      <a:pt x="225" y="98"/>
                    </a:lnTo>
                    <a:lnTo>
                      <a:pt x="205" y="117"/>
                    </a:lnTo>
                    <a:lnTo>
                      <a:pt x="185" y="137"/>
                    </a:lnTo>
                    <a:lnTo>
                      <a:pt x="164" y="157"/>
                    </a:lnTo>
                    <a:lnTo>
                      <a:pt x="144" y="176"/>
                    </a:lnTo>
                    <a:lnTo>
                      <a:pt x="124" y="196"/>
                    </a:lnTo>
                    <a:lnTo>
                      <a:pt x="104" y="215"/>
                    </a:lnTo>
                    <a:lnTo>
                      <a:pt x="84" y="233"/>
                    </a:lnTo>
                    <a:lnTo>
                      <a:pt x="62" y="252"/>
                    </a:lnTo>
                    <a:lnTo>
                      <a:pt x="42" y="271"/>
                    </a:lnTo>
                    <a:lnTo>
                      <a:pt x="22" y="290"/>
                    </a:lnTo>
                    <a:lnTo>
                      <a:pt x="0" y="307"/>
                    </a:lnTo>
                    <a:lnTo>
                      <a:pt x="13" y="434"/>
                    </a:lnTo>
                    <a:lnTo>
                      <a:pt x="160" y="377"/>
                    </a:lnTo>
                  </a:path>
                </a:pathLst>
              </a:cu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未知"/>
              <p:cNvSpPr/>
              <p:nvPr/>
            </p:nvSpPr>
            <p:spPr>
              <a:xfrm>
                <a:off x="7832160" y="5150520"/>
                <a:ext cx="118080" cy="138960"/>
              </a:xfrm>
              <a:custGeom>
                <a:avLst/>
                <a:gdLst/>
                <a:ahLst/>
                <a:rect l="l" t="t" r="r" b="b"/>
                <a:pathLst>
                  <a:path w="281" h="349">
                    <a:moveTo>
                      <a:pt x="25" y="349"/>
                    </a:moveTo>
                    <a:lnTo>
                      <a:pt x="281" y="0"/>
                    </a:lnTo>
                    <a:lnTo>
                      <a:pt x="0" y="268"/>
                    </a:lnTo>
                    <a:lnTo>
                      <a:pt x="25" y="349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未知"/>
              <p:cNvSpPr/>
              <p:nvPr/>
            </p:nvSpPr>
            <p:spPr>
              <a:xfrm>
                <a:off x="7832160" y="5150520"/>
                <a:ext cx="118080" cy="138960"/>
              </a:xfrm>
              <a:custGeom>
                <a:avLst/>
                <a:gdLst/>
                <a:ahLst/>
                <a:rect l="l" t="t" r="r" b="b"/>
                <a:pathLst>
                  <a:path w="281" h="349">
                    <a:moveTo>
                      <a:pt x="25" y="349"/>
                    </a:moveTo>
                    <a:lnTo>
                      <a:pt x="281" y="0"/>
                    </a:lnTo>
                    <a:lnTo>
                      <a:pt x="0" y="268"/>
                    </a:lnTo>
                    <a:lnTo>
                      <a:pt x="25" y="349"/>
                    </a:lnTo>
                  </a:path>
                </a:pathLst>
              </a:custGeom>
              <a:noFill/>
              <a:ln w="0">
                <a:solidFill>
                  <a:srgbClr val="cecec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>
                <a:off x="7105680" y="5317200"/>
                <a:ext cx="744120" cy="977760"/>
              </a:xfrm>
              <a:custGeom>
                <a:avLst/>
                <a:gdLst/>
                <a:ahLst/>
                <a:rect l="l" t="t" r="r" b="b"/>
                <a:pathLst>
                  <a:path w="1766" h="2454">
                    <a:moveTo>
                      <a:pt x="1766" y="117"/>
                    </a:moveTo>
                    <a:lnTo>
                      <a:pt x="1717" y="187"/>
                    </a:lnTo>
                    <a:lnTo>
                      <a:pt x="1670" y="259"/>
                    </a:lnTo>
                    <a:lnTo>
                      <a:pt x="1621" y="330"/>
                    </a:lnTo>
                    <a:lnTo>
                      <a:pt x="1573" y="400"/>
                    </a:lnTo>
                    <a:lnTo>
                      <a:pt x="1526" y="472"/>
                    </a:lnTo>
                    <a:lnTo>
                      <a:pt x="1477" y="544"/>
                    </a:lnTo>
                    <a:lnTo>
                      <a:pt x="1429" y="616"/>
                    </a:lnTo>
                    <a:lnTo>
                      <a:pt x="1382" y="687"/>
                    </a:lnTo>
                    <a:lnTo>
                      <a:pt x="1334" y="759"/>
                    </a:lnTo>
                    <a:lnTo>
                      <a:pt x="1285" y="831"/>
                    </a:lnTo>
                    <a:lnTo>
                      <a:pt x="1238" y="903"/>
                    </a:lnTo>
                    <a:lnTo>
                      <a:pt x="1190" y="975"/>
                    </a:lnTo>
                    <a:lnTo>
                      <a:pt x="1141" y="1047"/>
                    </a:lnTo>
                    <a:lnTo>
                      <a:pt x="1094" y="1119"/>
                    </a:lnTo>
                    <a:lnTo>
                      <a:pt x="1046" y="1191"/>
                    </a:lnTo>
                    <a:lnTo>
                      <a:pt x="997" y="1262"/>
                    </a:lnTo>
                    <a:lnTo>
                      <a:pt x="950" y="1334"/>
                    </a:lnTo>
                    <a:lnTo>
                      <a:pt x="901" y="1406"/>
                    </a:lnTo>
                    <a:lnTo>
                      <a:pt x="853" y="1478"/>
                    </a:lnTo>
                    <a:lnTo>
                      <a:pt x="804" y="1548"/>
                    </a:lnTo>
                    <a:lnTo>
                      <a:pt x="756" y="1620"/>
                    </a:lnTo>
                    <a:lnTo>
                      <a:pt x="707" y="1691"/>
                    </a:lnTo>
                    <a:lnTo>
                      <a:pt x="658" y="1761"/>
                    </a:lnTo>
                    <a:lnTo>
                      <a:pt x="609" y="1832"/>
                    </a:lnTo>
                    <a:lnTo>
                      <a:pt x="560" y="1902"/>
                    </a:lnTo>
                    <a:lnTo>
                      <a:pt x="509" y="1973"/>
                    </a:lnTo>
                    <a:lnTo>
                      <a:pt x="460" y="2044"/>
                    </a:lnTo>
                    <a:lnTo>
                      <a:pt x="410" y="2113"/>
                    </a:lnTo>
                    <a:lnTo>
                      <a:pt x="360" y="2182"/>
                    </a:lnTo>
                    <a:lnTo>
                      <a:pt x="309" y="2251"/>
                    </a:lnTo>
                    <a:lnTo>
                      <a:pt x="259" y="2320"/>
                    </a:lnTo>
                    <a:lnTo>
                      <a:pt x="207" y="2389"/>
                    </a:lnTo>
                    <a:lnTo>
                      <a:pt x="196" y="2401"/>
                    </a:lnTo>
                    <a:lnTo>
                      <a:pt x="178" y="2412"/>
                    </a:lnTo>
                    <a:lnTo>
                      <a:pt x="158" y="2422"/>
                    </a:lnTo>
                    <a:lnTo>
                      <a:pt x="137" y="2432"/>
                    </a:lnTo>
                    <a:lnTo>
                      <a:pt x="113" y="2441"/>
                    </a:lnTo>
                    <a:lnTo>
                      <a:pt x="92" y="2448"/>
                    </a:lnTo>
                    <a:lnTo>
                      <a:pt x="73" y="2453"/>
                    </a:lnTo>
                    <a:lnTo>
                      <a:pt x="59" y="2454"/>
                    </a:lnTo>
                    <a:lnTo>
                      <a:pt x="29" y="2448"/>
                    </a:lnTo>
                    <a:lnTo>
                      <a:pt x="11" y="2434"/>
                    </a:lnTo>
                    <a:lnTo>
                      <a:pt x="3" y="2414"/>
                    </a:lnTo>
                    <a:lnTo>
                      <a:pt x="0" y="2388"/>
                    </a:lnTo>
                    <a:lnTo>
                      <a:pt x="1" y="2360"/>
                    </a:lnTo>
                    <a:lnTo>
                      <a:pt x="6" y="2333"/>
                    </a:lnTo>
                    <a:lnTo>
                      <a:pt x="10" y="2309"/>
                    </a:lnTo>
                    <a:lnTo>
                      <a:pt x="10" y="2288"/>
                    </a:lnTo>
                    <a:lnTo>
                      <a:pt x="60" y="2218"/>
                    </a:lnTo>
                    <a:lnTo>
                      <a:pt x="109" y="2147"/>
                    </a:lnTo>
                    <a:lnTo>
                      <a:pt x="160" y="2075"/>
                    </a:lnTo>
                    <a:lnTo>
                      <a:pt x="209" y="2005"/>
                    </a:lnTo>
                    <a:lnTo>
                      <a:pt x="259" y="1934"/>
                    </a:lnTo>
                    <a:lnTo>
                      <a:pt x="308" y="1862"/>
                    </a:lnTo>
                    <a:lnTo>
                      <a:pt x="357" y="1792"/>
                    </a:lnTo>
                    <a:lnTo>
                      <a:pt x="407" y="1720"/>
                    </a:lnTo>
                    <a:lnTo>
                      <a:pt x="456" y="1649"/>
                    </a:lnTo>
                    <a:lnTo>
                      <a:pt x="505" y="1578"/>
                    </a:lnTo>
                    <a:lnTo>
                      <a:pt x="555" y="1506"/>
                    </a:lnTo>
                    <a:lnTo>
                      <a:pt x="604" y="1436"/>
                    </a:lnTo>
                    <a:lnTo>
                      <a:pt x="653" y="1364"/>
                    </a:lnTo>
                    <a:lnTo>
                      <a:pt x="702" y="1292"/>
                    </a:lnTo>
                    <a:lnTo>
                      <a:pt x="751" y="1221"/>
                    </a:lnTo>
                    <a:lnTo>
                      <a:pt x="802" y="1149"/>
                    </a:lnTo>
                    <a:lnTo>
                      <a:pt x="851" y="1079"/>
                    </a:lnTo>
                    <a:lnTo>
                      <a:pt x="900" y="1007"/>
                    </a:lnTo>
                    <a:lnTo>
                      <a:pt x="948" y="935"/>
                    </a:lnTo>
                    <a:lnTo>
                      <a:pt x="997" y="863"/>
                    </a:lnTo>
                    <a:lnTo>
                      <a:pt x="1045" y="792"/>
                    </a:lnTo>
                    <a:lnTo>
                      <a:pt x="1094" y="720"/>
                    </a:lnTo>
                    <a:lnTo>
                      <a:pt x="1143" y="648"/>
                    </a:lnTo>
                    <a:lnTo>
                      <a:pt x="1192" y="576"/>
                    </a:lnTo>
                    <a:lnTo>
                      <a:pt x="1241" y="504"/>
                    </a:lnTo>
                    <a:lnTo>
                      <a:pt x="1288" y="432"/>
                    </a:lnTo>
                    <a:lnTo>
                      <a:pt x="1337" y="360"/>
                    </a:lnTo>
                    <a:lnTo>
                      <a:pt x="1386" y="288"/>
                    </a:lnTo>
                    <a:lnTo>
                      <a:pt x="1434" y="216"/>
                    </a:lnTo>
                    <a:lnTo>
                      <a:pt x="1483" y="144"/>
                    </a:lnTo>
                    <a:lnTo>
                      <a:pt x="1532" y="72"/>
                    </a:lnTo>
                    <a:lnTo>
                      <a:pt x="1579" y="0"/>
                    </a:lnTo>
                    <a:lnTo>
                      <a:pt x="1601" y="117"/>
                    </a:lnTo>
                    <a:lnTo>
                      <a:pt x="1766" y="117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未知"/>
              <p:cNvSpPr/>
              <p:nvPr/>
            </p:nvSpPr>
            <p:spPr>
              <a:xfrm>
                <a:off x="7188480" y="5361120"/>
                <a:ext cx="665280" cy="910800"/>
              </a:xfrm>
              <a:custGeom>
                <a:avLst/>
                <a:gdLst/>
                <a:ahLst/>
                <a:rect l="l" t="t" r="r" b="b"/>
                <a:pathLst>
                  <a:path w="1579" h="2286">
                    <a:moveTo>
                      <a:pt x="20" y="2286"/>
                    </a:moveTo>
                    <a:lnTo>
                      <a:pt x="20" y="2286"/>
                    </a:lnTo>
                    <a:lnTo>
                      <a:pt x="72" y="2217"/>
                    </a:lnTo>
                    <a:lnTo>
                      <a:pt x="122" y="2148"/>
                    </a:lnTo>
                    <a:lnTo>
                      <a:pt x="173" y="2079"/>
                    </a:lnTo>
                    <a:lnTo>
                      <a:pt x="223" y="2010"/>
                    </a:lnTo>
                    <a:lnTo>
                      <a:pt x="274" y="1941"/>
                    </a:lnTo>
                    <a:lnTo>
                      <a:pt x="322" y="1870"/>
                    </a:lnTo>
                    <a:lnTo>
                      <a:pt x="373" y="1800"/>
                    </a:lnTo>
                    <a:lnTo>
                      <a:pt x="422" y="1729"/>
                    </a:lnTo>
                    <a:lnTo>
                      <a:pt x="471" y="1659"/>
                    </a:lnTo>
                    <a:lnTo>
                      <a:pt x="520" y="1588"/>
                    </a:lnTo>
                    <a:lnTo>
                      <a:pt x="569" y="1517"/>
                    </a:lnTo>
                    <a:lnTo>
                      <a:pt x="618" y="1445"/>
                    </a:lnTo>
                    <a:lnTo>
                      <a:pt x="667" y="1375"/>
                    </a:lnTo>
                    <a:lnTo>
                      <a:pt x="714" y="1303"/>
                    </a:lnTo>
                    <a:lnTo>
                      <a:pt x="763" y="1231"/>
                    </a:lnTo>
                    <a:lnTo>
                      <a:pt x="810" y="1159"/>
                    </a:lnTo>
                    <a:lnTo>
                      <a:pt x="859" y="1088"/>
                    </a:lnTo>
                    <a:lnTo>
                      <a:pt x="907" y="1016"/>
                    </a:lnTo>
                    <a:lnTo>
                      <a:pt x="954" y="944"/>
                    </a:lnTo>
                    <a:lnTo>
                      <a:pt x="1003" y="872"/>
                    </a:lnTo>
                    <a:lnTo>
                      <a:pt x="1051" y="800"/>
                    </a:lnTo>
                    <a:lnTo>
                      <a:pt x="1098" y="728"/>
                    </a:lnTo>
                    <a:lnTo>
                      <a:pt x="1147" y="656"/>
                    </a:lnTo>
                    <a:lnTo>
                      <a:pt x="1195" y="584"/>
                    </a:lnTo>
                    <a:lnTo>
                      <a:pt x="1242" y="514"/>
                    </a:lnTo>
                    <a:lnTo>
                      <a:pt x="1290" y="442"/>
                    </a:lnTo>
                    <a:lnTo>
                      <a:pt x="1339" y="370"/>
                    </a:lnTo>
                    <a:lnTo>
                      <a:pt x="1386" y="298"/>
                    </a:lnTo>
                    <a:lnTo>
                      <a:pt x="1434" y="227"/>
                    </a:lnTo>
                    <a:lnTo>
                      <a:pt x="1483" y="157"/>
                    </a:lnTo>
                    <a:lnTo>
                      <a:pt x="1530" y="85"/>
                    </a:lnTo>
                    <a:lnTo>
                      <a:pt x="1579" y="14"/>
                    </a:lnTo>
                    <a:lnTo>
                      <a:pt x="1559" y="0"/>
                    </a:lnTo>
                    <a:lnTo>
                      <a:pt x="1510" y="70"/>
                    </a:lnTo>
                    <a:lnTo>
                      <a:pt x="1463" y="142"/>
                    </a:lnTo>
                    <a:lnTo>
                      <a:pt x="1414" y="213"/>
                    </a:lnTo>
                    <a:lnTo>
                      <a:pt x="1366" y="283"/>
                    </a:lnTo>
                    <a:lnTo>
                      <a:pt x="1319" y="355"/>
                    </a:lnTo>
                    <a:lnTo>
                      <a:pt x="1270" y="427"/>
                    </a:lnTo>
                    <a:lnTo>
                      <a:pt x="1222" y="499"/>
                    </a:lnTo>
                    <a:lnTo>
                      <a:pt x="1175" y="570"/>
                    </a:lnTo>
                    <a:lnTo>
                      <a:pt x="1127" y="642"/>
                    </a:lnTo>
                    <a:lnTo>
                      <a:pt x="1078" y="714"/>
                    </a:lnTo>
                    <a:lnTo>
                      <a:pt x="1031" y="786"/>
                    </a:lnTo>
                    <a:lnTo>
                      <a:pt x="983" y="858"/>
                    </a:lnTo>
                    <a:lnTo>
                      <a:pt x="934" y="930"/>
                    </a:lnTo>
                    <a:lnTo>
                      <a:pt x="887" y="1002"/>
                    </a:lnTo>
                    <a:lnTo>
                      <a:pt x="839" y="1074"/>
                    </a:lnTo>
                    <a:lnTo>
                      <a:pt x="790" y="1144"/>
                    </a:lnTo>
                    <a:lnTo>
                      <a:pt x="743" y="1216"/>
                    </a:lnTo>
                    <a:lnTo>
                      <a:pt x="694" y="1288"/>
                    </a:lnTo>
                    <a:lnTo>
                      <a:pt x="646" y="1360"/>
                    </a:lnTo>
                    <a:lnTo>
                      <a:pt x="597" y="1431"/>
                    </a:lnTo>
                    <a:lnTo>
                      <a:pt x="548" y="1503"/>
                    </a:lnTo>
                    <a:lnTo>
                      <a:pt x="500" y="1574"/>
                    </a:lnTo>
                    <a:lnTo>
                      <a:pt x="451" y="1644"/>
                    </a:lnTo>
                    <a:lnTo>
                      <a:pt x="402" y="1715"/>
                    </a:lnTo>
                    <a:lnTo>
                      <a:pt x="353" y="1785"/>
                    </a:lnTo>
                    <a:lnTo>
                      <a:pt x="302" y="1856"/>
                    </a:lnTo>
                    <a:lnTo>
                      <a:pt x="253" y="1926"/>
                    </a:lnTo>
                    <a:lnTo>
                      <a:pt x="203" y="1996"/>
                    </a:lnTo>
                    <a:lnTo>
                      <a:pt x="153" y="2065"/>
                    </a:lnTo>
                    <a:lnTo>
                      <a:pt x="102" y="2134"/>
                    </a:lnTo>
                    <a:lnTo>
                      <a:pt x="52" y="2203"/>
                    </a:lnTo>
                    <a:lnTo>
                      <a:pt x="0" y="2272"/>
                    </a:lnTo>
                    <a:lnTo>
                      <a:pt x="0" y="2272"/>
                    </a:lnTo>
                    <a:lnTo>
                      <a:pt x="20" y="2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未知"/>
              <p:cNvSpPr/>
              <p:nvPr/>
            </p:nvSpPr>
            <p:spPr>
              <a:xfrm>
                <a:off x="7130520" y="6266520"/>
                <a:ext cx="66240" cy="33840"/>
              </a:xfrm>
              <a:custGeom>
                <a:avLst/>
                <a:gdLst/>
                <a:ahLst/>
                <a:rect l="l" t="t" r="r" b="b"/>
                <a:pathLst>
                  <a:path w="158" h="85">
                    <a:moveTo>
                      <a:pt x="0" y="85"/>
                    </a:moveTo>
                    <a:lnTo>
                      <a:pt x="0" y="85"/>
                    </a:lnTo>
                    <a:lnTo>
                      <a:pt x="16" y="84"/>
                    </a:lnTo>
                    <a:lnTo>
                      <a:pt x="36" y="79"/>
                    </a:lnTo>
                    <a:lnTo>
                      <a:pt x="59" y="71"/>
                    </a:lnTo>
                    <a:lnTo>
                      <a:pt x="82" y="62"/>
                    </a:lnTo>
                    <a:lnTo>
                      <a:pt x="105" y="52"/>
                    </a:lnTo>
                    <a:lnTo>
                      <a:pt x="125" y="42"/>
                    </a:lnTo>
                    <a:lnTo>
                      <a:pt x="144" y="29"/>
                    </a:lnTo>
                    <a:lnTo>
                      <a:pt x="158" y="14"/>
                    </a:lnTo>
                    <a:lnTo>
                      <a:pt x="138" y="0"/>
                    </a:lnTo>
                    <a:lnTo>
                      <a:pt x="129" y="9"/>
                    </a:lnTo>
                    <a:lnTo>
                      <a:pt x="114" y="19"/>
                    </a:lnTo>
                    <a:lnTo>
                      <a:pt x="93" y="29"/>
                    </a:lnTo>
                    <a:lnTo>
                      <a:pt x="73" y="39"/>
                    </a:lnTo>
                    <a:lnTo>
                      <a:pt x="50" y="48"/>
                    </a:lnTo>
                    <a:lnTo>
                      <a:pt x="30" y="53"/>
                    </a:lnTo>
                    <a:lnTo>
                      <a:pt x="13" y="5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未知"/>
              <p:cNvSpPr/>
              <p:nvPr/>
            </p:nvSpPr>
            <p:spPr>
              <a:xfrm>
                <a:off x="7100280" y="6224040"/>
                <a:ext cx="30240" cy="76320"/>
              </a:xfrm>
              <a:custGeom>
                <a:avLst/>
                <a:gdLst/>
                <a:ahLst/>
                <a:rect l="l" t="t" r="r" b="b"/>
                <a:pathLst>
                  <a:path w="72" h="192">
                    <a:moveTo>
                      <a:pt x="13" y="6"/>
                    </a:moveTo>
                    <a:lnTo>
                      <a:pt x="10" y="13"/>
                    </a:lnTo>
                    <a:lnTo>
                      <a:pt x="10" y="34"/>
                    </a:lnTo>
                    <a:lnTo>
                      <a:pt x="6" y="57"/>
                    </a:lnTo>
                    <a:lnTo>
                      <a:pt x="1" y="85"/>
                    </a:lnTo>
                    <a:lnTo>
                      <a:pt x="0" y="113"/>
                    </a:lnTo>
                    <a:lnTo>
                      <a:pt x="3" y="142"/>
                    </a:lnTo>
                    <a:lnTo>
                      <a:pt x="14" y="166"/>
                    </a:lnTo>
                    <a:lnTo>
                      <a:pt x="37" y="185"/>
                    </a:lnTo>
                    <a:lnTo>
                      <a:pt x="72" y="192"/>
                    </a:lnTo>
                    <a:lnTo>
                      <a:pt x="72" y="166"/>
                    </a:lnTo>
                    <a:lnTo>
                      <a:pt x="46" y="162"/>
                    </a:lnTo>
                    <a:lnTo>
                      <a:pt x="34" y="152"/>
                    </a:lnTo>
                    <a:lnTo>
                      <a:pt x="29" y="136"/>
                    </a:lnTo>
                    <a:lnTo>
                      <a:pt x="26" y="113"/>
                    </a:lnTo>
                    <a:lnTo>
                      <a:pt x="27" y="85"/>
                    </a:lnTo>
                    <a:lnTo>
                      <a:pt x="31" y="60"/>
                    </a:lnTo>
                    <a:lnTo>
                      <a:pt x="36" y="34"/>
                    </a:lnTo>
                    <a:lnTo>
                      <a:pt x="36" y="13"/>
                    </a:lnTo>
                    <a:lnTo>
                      <a:pt x="33" y="21"/>
                    </a:lnTo>
                    <a:lnTo>
                      <a:pt x="36" y="13"/>
                    </a:lnTo>
                    <a:lnTo>
                      <a:pt x="31" y="3"/>
                    </a:lnTo>
                    <a:lnTo>
                      <a:pt x="23" y="0"/>
                    </a:lnTo>
                    <a:lnTo>
                      <a:pt x="14" y="3"/>
                    </a:lnTo>
                    <a:lnTo>
                      <a:pt x="10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未知"/>
              <p:cNvSpPr/>
              <p:nvPr/>
            </p:nvSpPr>
            <p:spPr>
              <a:xfrm>
                <a:off x="7105680" y="5312160"/>
                <a:ext cx="670680" cy="920160"/>
              </a:xfrm>
              <a:custGeom>
                <a:avLst/>
                <a:gdLst/>
                <a:ahLst/>
                <a:rect l="l" t="t" r="r" b="b"/>
                <a:pathLst>
                  <a:path w="1592" h="2309">
                    <a:moveTo>
                      <a:pt x="1592" y="12"/>
                    </a:moveTo>
                    <a:lnTo>
                      <a:pt x="1569" y="6"/>
                    </a:lnTo>
                    <a:lnTo>
                      <a:pt x="1521" y="78"/>
                    </a:lnTo>
                    <a:lnTo>
                      <a:pt x="1472" y="150"/>
                    </a:lnTo>
                    <a:lnTo>
                      <a:pt x="1424" y="222"/>
                    </a:lnTo>
                    <a:lnTo>
                      <a:pt x="1376" y="294"/>
                    </a:lnTo>
                    <a:lnTo>
                      <a:pt x="1327" y="366"/>
                    </a:lnTo>
                    <a:lnTo>
                      <a:pt x="1278" y="438"/>
                    </a:lnTo>
                    <a:lnTo>
                      <a:pt x="1231" y="510"/>
                    </a:lnTo>
                    <a:lnTo>
                      <a:pt x="1182" y="582"/>
                    </a:lnTo>
                    <a:lnTo>
                      <a:pt x="1133" y="654"/>
                    </a:lnTo>
                    <a:lnTo>
                      <a:pt x="1084" y="726"/>
                    </a:lnTo>
                    <a:lnTo>
                      <a:pt x="1035" y="798"/>
                    </a:lnTo>
                    <a:lnTo>
                      <a:pt x="987" y="869"/>
                    </a:lnTo>
                    <a:lnTo>
                      <a:pt x="938" y="941"/>
                    </a:lnTo>
                    <a:lnTo>
                      <a:pt x="889" y="1013"/>
                    </a:lnTo>
                    <a:lnTo>
                      <a:pt x="840" y="1085"/>
                    </a:lnTo>
                    <a:lnTo>
                      <a:pt x="792" y="1155"/>
                    </a:lnTo>
                    <a:lnTo>
                      <a:pt x="741" y="1227"/>
                    </a:lnTo>
                    <a:lnTo>
                      <a:pt x="692" y="1298"/>
                    </a:lnTo>
                    <a:lnTo>
                      <a:pt x="643" y="1370"/>
                    </a:lnTo>
                    <a:lnTo>
                      <a:pt x="594" y="1442"/>
                    </a:lnTo>
                    <a:lnTo>
                      <a:pt x="545" y="1512"/>
                    </a:lnTo>
                    <a:lnTo>
                      <a:pt x="495" y="1584"/>
                    </a:lnTo>
                    <a:lnTo>
                      <a:pt x="446" y="1655"/>
                    </a:lnTo>
                    <a:lnTo>
                      <a:pt x="397" y="1725"/>
                    </a:lnTo>
                    <a:lnTo>
                      <a:pt x="347" y="1797"/>
                    </a:lnTo>
                    <a:lnTo>
                      <a:pt x="298" y="1868"/>
                    </a:lnTo>
                    <a:lnTo>
                      <a:pt x="249" y="1940"/>
                    </a:lnTo>
                    <a:lnTo>
                      <a:pt x="198" y="2011"/>
                    </a:lnTo>
                    <a:lnTo>
                      <a:pt x="149" y="2081"/>
                    </a:lnTo>
                    <a:lnTo>
                      <a:pt x="99" y="2153"/>
                    </a:lnTo>
                    <a:lnTo>
                      <a:pt x="50" y="2224"/>
                    </a:lnTo>
                    <a:lnTo>
                      <a:pt x="0" y="2294"/>
                    </a:lnTo>
                    <a:lnTo>
                      <a:pt x="20" y="2309"/>
                    </a:lnTo>
                    <a:lnTo>
                      <a:pt x="70" y="2238"/>
                    </a:lnTo>
                    <a:lnTo>
                      <a:pt x="119" y="2167"/>
                    </a:lnTo>
                    <a:lnTo>
                      <a:pt x="170" y="2095"/>
                    </a:lnTo>
                    <a:lnTo>
                      <a:pt x="219" y="2025"/>
                    </a:lnTo>
                    <a:lnTo>
                      <a:pt x="269" y="1954"/>
                    </a:lnTo>
                    <a:lnTo>
                      <a:pt x="318" y="1882"/>
                    </a:lnTo>
                    <a:lnTo>
                      <a:pt x="367" y="1812"/>
                    </a:lnTo>
                    <a:lnTo>
                      <a:pt x="417" y="1740"/>
                    </a:lnTo>
                    <a:lnTo>
                      <a:pt x="466" y="1669"/>
                    </a:lnTo>
                    <a:lnTo>
                      <a:pt x="515" y="1599"/>
                    </a:lnTo>
                    <a:lnTo>
                      <a:pt x="566" y="1527"/>
                    </a:lnTo>
                    <a:lnTo>
                      <a:pt x="614" y="1456"/>
                    </a:lnTo>
                    <a:lnTo>
                      <a:pt x="663" y="1384"/>
                    </a:lnTo>
                    <a:lnTo>
                      <a:pt x="712" y="1312"/>
                    </a:lnTo>
                    <a:lnTo>
                      <a:pt x="761" y="1242"/>
                    </a:lnTo>
                    <a:lnTo>
                      <a:pt x="812" y="1170"/>
                    </a:lnTo>
                    <a:lnTo>
                      <a:pt x="861" y="1099"/>
                    </a:lnTo>
                    <a:lnTo>
                      <a:pt x="910" y="1027"/>
                    </a:lnTo>
                    <a:lnTo>
                      <a:pt x="959" y="955"/>
                    </a:lnTo>
                    <a:lnTo>
                      <a:pt x="1007" y="883"/>
                    </a:lnTo>
                    <a:lnTo>
                      <a:pt x="1055" y="812"/>
                    </a:lnTo>
                    <a:lnTo>
                      <a:pt x="1104" y="740"/>
                    </a:lnTo>
                    <a:lnTo>
                      <a:pt x="1153" y="668"/>
                    </a:lnTo>
                    <a:lnTo>
                      <a:pt x="1202" y="596"/>
                    </a:lnTo>
                    <a:lnTo>
                      <a:pt x="1251" y="524"/>
                    </a:lnTo>
                    <a:lnTo>
                      <a:pt x="1298" y="452"/>
                    </a:lnTo>
                    <a:lnTo>
                      <a:pt x="1347" y="380"/>
                    </a:lnTo>
                    <a:lnTo>
                      <a:pt x="1396" y="308"/>
                    </a:lnTo>
                    <a:lnTo>
                      <a:pt x="1444" y="236"/>
                    </a:lnTo>
                    <a:lnTo>
                      <a:pt x="1493" y="164"/>
                    </a:lnTo>
                    <a:lnTo>
                      <a:pt x="1542" y="92"/>
                    </a:lnTo>
                    <a:lnTo>
                      <a:pt x="1589" y="20"/>
                    </a:lnTo>
                    <a:lnTo>
                      <a:pt x="1566" y="15"/>
                    </a:lnTo>
                    <a:lnTo>
                      <a:pt x="1589" y="20"/>
                    </a:lnTo>
                    <a:lnTo>
                      <a:pt x="1591" y="10"/>
                    </a:lnTo>
                    <a:lnTo>
                      <a:pt x="1586" y="3"/>
                    </a:lnTo>
                    <a:lnTo>
                      <a:pt x="1578" y="0"/>
                    </a:lnTo>
                    <a:lnTo>
                      <a:pt x="1569" y="6"/>
                    </a:lnTo>
                    <a:lnTo>
                      <a:pt x="159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未知"/>
              <p:cNvSpPr/>
              <p:nvPr/>
            </p:nvSpPr>
            <p:spPr>
              <a:xfrm>
                <a:off x="7765560" y="5316840"/>
                <a:ext cx="20160" cy="52200"/>
              </a:xfrm>
              <a:custGeom>
                <a:avLst/>
                <a:gdLst/>
                <a:ahLst/>
                <a:rect l="l" t="t" r="r" b="b"/>
                <a:pathLst>
                  <a:path w="48" h="131">
                    <a:moveTo>
                      <a:pt x="35" y="105"/>
                    </a:moveTo>
                    <a:lnTo>
                      <a:pt x="48" y="116"/>
                    </a:lnTo>
                    <a:lnTo>
                      <a:pt x="26" y="0"/>
                    </a:lnTo>
                    <a:lnTo>
                      <a:pt x="0" y="3"/>
                    </a:lnTo>
                    <a:lnTo>
                      <a:pt x="22" y="119"/>
                    </a:lnTo>
                    <a:lnTo>
                      <a:pt x="35" y="131"/>
                    </a:lnTo>
                    <a:lnTo>
                      <a:pt x="22" y="119"/>
                    </a:lnTo>
                    <a:lnTo>
                      <a:pt x="26" y="128"/>
                    </a:lnTo>
                    <a:lnTo>
                      <a:pt x="36" y="131"/>
                    </a:lnTo>
                    <a:lnTo>
                      <a:pt x="45" y="126"/>
                    </a:lnTo>
                    <a:lnTo>
                      <a:pt x="48" y="116"/>
                    </a:lnTo>
                    <a:lnTo>
                      <a:pt x="35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>
                <a:off x="7780320" y="5358600"/>
                <a:ext cx="74880" cy="10080"/>
              </a:xfrm>
              <a:custGeom>
                <a:avLst/>
                <a:gdLst/>
                <a:ahLst/>
                <a:rect l="l" t="t" r="r" b="b"/>
                <a:pathLst>
                  <a:path w="178" h="26">
                    <a:moveTo>
                      <a:pt x="175" y="20"/>
                    </a:moveTo>
                    <a:lnTo>
                      <a:pt x="165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165" y="26"/>
                    </a:lnTo>
                    <a:lnTo>
                      <a:pt x="155" y="6"/>
                    </a:lnTo>
                    <a:lnTo>
                      <a:pt x="165" y="26"/>
                    </a:lnTo>
                    <a:lnTo>
                      <a:pt x="175" y="21"/>
                    </a:lnTo>
                    <a:lnTo>
                      <a:pt x="178" y="13"/>
                    </a:lnTo>
                    <a:lnTo>
                      <a:pt x="175" y="4"/>
                    </a:lnTo>
                    <a:lnTo>
                      <a:pt x="165" y="0"/>
                    </a:lnTo>
                    <a:lnTo>
                      <a:pt x="17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>
                <a:off x="7114320" y="5355000"/>
                <a:ext cx="738000" cy="941400"/>
              </a:xfrm>
              <a:custGeom>
                <a:avLst/>
                <a:gdLst/>
                <a:ahLst/>
                <a:rect l="l" t="t" r="r" b="b"/>
                <a:pathLst>
                  <a:path w="1752" h="2363">
                    <a:moveTo>
                      <a:pt x="1752" y="0"/>
                    </a:moveTo>
                    <a:lnTo>
                      <a:pt x="1703" y="71"/>
                    </a:lnTo>
                    <a:lnTo>
                      <a:pt x="1653" y="143"/>
                    </a:lnTo>
                    <a:lnTo>
                      <a:pt x="1604" y="213"/>
                    </a:lnTo>
                    <a:lnTo>
                      <a:pt x="1555" y="285"/>
                    </a:lnTo>
                    <a:lnTo>
                      <a:pt x="1505" y="356"/>
                    </a:lnTo>
                    <a:lnTo>
                      <a:pt x="1456" y="428"/>
                    </a:lnTo>
                    <a:lnTo>
                      <a:pt x="1407" y="498"/>
                    </a:lnTo>
                    <a:lnTo>
                      <a:pt x="1358" y="570"/>
                    </a:lnTo>
                    <a:lnTo>
                      <a:pt x="1309" y="642"/>
                    </a:lnTo>
                    <a:lnTo>
                      <a:pt x="1260" y="713"/>
                    </a:lnTo>
                    <a:lnTo>
                      <a:pt x="1211" y="785"/>
                    </a:lnTo>
                    <a:lnTo>
                      <a:pt x="1164" y="857"/>
                    </a:lnTo>
                    <a:lnTo>
                      <a:pt x="1115" y="929"/>
                    </a:lnTo>
                    <a:lnTo>
                      <a:pt x="1066" y="1000"/>
                    </a:lnTo>
                    <a:lnTo>
                      <a:pt x="1017" y="1072"/>
                    </a:lnTo>
                    <a:lnTo>
                      <a:pt x="969" y="1144"/>
                    </a:lnTo>
                    <a:lnTo>
                      <a:pt x="920" y="1216"/>
                    </a:lnTo>
                    <a:lnTo>
                      <a:pt x="871" y="1288"/>
                    </a:lnTo>
                    <a:lnTo>
                      <a:pt x="822" y="1360"/>
                    </a:lnTo>
                    <a:lnTo>
                      <a:pt x="775" y="1430"/>
                    </a:lnTo>
                    <a:lnTo>
                      <a:pt x="726" y="1502"/>
                    </a:lnTo>
                    <a:lnTo>
                      <a:pt x="678" y="1574"/>
                    </a:lnTo>
                    <a:lnTo>
                      <a:pt x="629" y="1646"/>
                    </a:lnTo>
                    <a:lnTo>
                      <a:pt x="581" y="1718"/>
                    </a:lnTo>
                    <a:lnTo>
                      <a:pt x="533" y="1790"/>
                    </a:lnTo>
                    <a:lnTo>
                      <a:pt x="484" y="1861"/>
                    </a:lnTo>
                    <a:lnTo>
                      <a:pt x="435" y="1933"/>
                    </a:lnTo>
                    <a:lnTo>
                      <a:pt x="388" y="2005"/>
                    </a:lnTo>
                    <a:lnTo>
                      <a:pt x="339" y="2077"/>
                    </a:lnTo>
                    <a:lnTo>
                      <a:pt x="290" y="2149"/>
                    </a:lnTo>
                    <a:lnTo>
                      <a:pt x="242" y="2219"/>
                    </a:lnTo>
                    <a:lnTo>
                      <a:pt x="193" y="2291"/>
                    </a:lnTo>
                    <a:lnTo>
                      <a:pt x="58" y="2363"/>
                    </a:lnTo>
                    <a:lnTo>
                      <a:pt x="22" y="2355"/>
                    </a:lnTo>
                    <a:lnTo>
                      <a:pt x="0" y="2330"/>
                    </a:lnTo>
                    <a:lnTo>
                      <a:pt x="1616" y="0"/>
                    </a:lnTo>
                    <a:lnTo>
                      <a:pt x="175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>
                <a:off x="7114320" y="5355000"/>
                <a:ext cx="738000" cy="941400"/>
              </a:xfrm>
              <a:custGeom>
                <a:avLst/>
                <a:gdLst/>
                <a:ahLst/>
                <a:rect l="l" t="t" r="r" b="b"/>
                <a:pathLst>
                  <a:path w="1752" h="2363">
                    <a:moveTo>
                      <a:pt x="1752" y="0"/>
                    </a:moveTo>
                    <a:lnTo>
                      <a:pt x="1752" y="0"/>
                    </a:lnTo>
                    <a:lnTo>
                      <a:pt x="1703" y="71"/>
                    </a:lnTo>
                    <a:lnTo>
                      <a:pt x="1653" y="143"/>
                    </a:lnTo>
                    <a:lnTo>
                      <a:pt x="1604" y="213"/>
                    </a:lnTo>
                    <a:lnTo>
                      <a:pt x="1555" y="285"/>
                    </a:lnTo>
                    <a:lnTo>
                      <a:pt x="1505" y="356"/>
                    </a:lnTo>
                    <a:lnTo>
                      <a:pt x="1456" y="428"/>
                    </a:lnTo>
                    <a:lnTo>
                      <a:pt x="1407" y="498"/>
                    </a:lnTo>
                    <a:lnTo>
                      <a:pt x="1358" y="570"/>
                    </a:lnTo>
                    <a:lnTo>
                      <a:pt x="1309" y="642"/>
                    </a:lnTo>
                    <a:lnTo>
                      <a:pt x="1260" y="713"/>
                    </a:lnTo>
                    <a:lnTo>
                      <a:pt x="1211" y="785"/>
                    </a:lnTo>
                    <a:lnTo>
                      <a:pt x="1164" y="857"/>
                    </a:lnTo>
                    <a:lnTo>
                      <a:pt x="1115" y="929"/>
                    </a:lnTo>
                    <a:lnTo>
                      <a:pt x="1066" y="1000"/>
                    </a:lnTo>
                    <a:lnTo>
                      <a:pt x="1017" y="1072"/>
                    </a:lnTo>
                    <a:lnTo>
                      <a:pt x="969" y="1144"/>
                    </a:lnTo>
                    <a:lnTo>
                      <a:pt x="920" y="1216"/>
                    </a:lnTo>
                    <a:lnTo>
                      <a:pt x="871" y="1288"/>
                    </a:lnTo>
                    <a:lnTo>
                      <a:pt x="822" y="1360"/>
                    </a:lnTo>
                    <a:lnTo>
                      <a:pt x="775" y="1430"/>
                    </a:lnTo>
                    <a:lnTo>
                      <a:pt x="726" y="1502"/>
                    </a:lnTo>
                    <a:lnTo>
                      <a:pt x="678" y="1574"/>
                    </a:lnTo>
                    <a:lnTo>
                      <a:pt x="629" y="1646"/>
                    </a:lnTo>
                    <a:lnTo>
                      <a:pt x="581" y="1718"/>
                    </a:lnTo>
                    <a:lnTo>
                      <a:pt x="533" y="1790"/>
                    </a:lnTo>
                    <a:lnTo>
                      <a:pt x="484" y="1861"/>
                    </a:lnTo>
                    <a:lnTo>
                      <a:pt x="435" y="1933"/>
                    </a:lnTo>
                    <a:lnTo>
                      <a:pt x="388" y="2005"/>
                    </a:lnTo>
                    <a:lnTo>
                      <a:pt x="339" y="2077"/>
                    </a:lnTo>
                    <a:lnTo>
                      <a:pt x="290" y="2149"/>
                    </a:lnTo>
                    <a:lnTo>
                      <a:pt x="242" y="2219"/>
                    </a:lnTo>
                    <a:lnTo>
                      <a:pt x="193" y="2291"/>
                    </a:lnTo>
                    <a:lnTo>
                      <a:pt x="58" y="2363"/>
                    </a:lnTo>
                    <a:lnTo>
                      <a:pt x="22" y="2355"/>
                    </a:lnTo>
                    <a:lnTo>
                      <a:pt x="0" y="2330"/>
                    </a:lnTo>
                    <a:lnTo>
                      <a:pt x="1616" y="0"/>
                    </a:lnTo>
                    <a:lnTo>
                      <a:pt x="1752" y="0"/>
                    </a:lnTo>
                  </a:path>
                </a:pathLst>
              </a:custGeom>
              <a:noFill/>
              <a:ln w="0">
                <a:solidFill>
                  <a:srgbClr val="a5a5a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7763760" y="5259960"/>
                <a:ext cx="126000" cy="122760"/>
              </a:xfrm>
              <a:custGeom>
                <a:avLst/>
                <a:gdLst/>
                <a:ahLst/>
                <a:rect l="l" t="t" r="r" b="b"/>
                <a:pathLst>
                  <a:path w="299" h="308">
                    <a:moveTo>
                      <a:pt x="188" y="285"/>
                    </a:moveTo>
                    <a:lnTo>
                      <a:pt x="299" y="78"/>
                    </a:lnTo>
                    <a:lnTo>
                      <a:pt x="180" y="81"/>
                    </a:lnTo>
                    <a:lnTo>
                      <a:pt x="152" y="0"/>
                    </a:lnTo>
                    <a:lnTo>
                      <a:pt x="0" y="169"/>
                    </a:lnTo>
                    <a:lnTo>
                      <a:pt x="16" y="177"/>
                    </a:lnTo>
                    <a:lnTo>
                      <a:pt x="31" y="205"/>
                    </a:lnTo>
                    <a:lnTo>
                      <a:pt x="3" y="256"/>
                    </a:lnTo>
                    <a:lnTo>
                      <a:pt x="20" y="259"/>
                    </a:lnTo>
                    <a:lnTo>
                      <a:pt x="34" y="261"/>
                    </a:lnTo>
                    <a:lnTo>
                      <a:pt x="46" y="262"/>
                    </a:lnTo>
                    <a:lnTo>
                      <a:pt x="56" y="264"/>
                    </a:lnTo>
                    <a:lnTo>
                      <a:pt x="62" y="268"/>
                    </a:lnTo>
                    <a:lnTo>
                      <a:pt x="67" y="274"/>
                    </a:lnTo>
                    <a:lnTo>
                      <a:pt x="72" y="285"/>
                    </a:lnTo>
                    <a:lnTo>
                      <a:pt x="75" y="301"/>
                    </a:lnTo>
                    <a:lnTo>
                      <a:pt x="76" y="304"/>
                    </a:lnTo>
                    <a:lnTo>
                      <a:pt x="79" y="307"/>
                    </a:lnTo>
                    <a:lnTo>
                      <a:pt x="82" y="308"/>
                    </a:lnTo>
                    <a:lnTo>
                      <a:pt x="86" y="308"/>
                    </a:lnTo>
                    <a:lnTo>
                      <a:pt x="141" y="274"/>
                    </a:lnTo>
                    <a:lnTo>
                      <a:pt x="145" y="274"/>
                    </a:lnTo>
                    <a:lnTo>
                      <a:pt x="151" y="274"/>
                    </a:lnTo>
                    <a:lnTo>
                      <a:pt x="158" y="275"/>
                    </a:lnTo>
                    <a:lnTo>
                      <a:pt x="167" y="277"/>
                    </a:lnTo>
                    <a:lnTo>
                      <a:pt x="174" y="279"/>
                    </a:lnTo>
                    <a:lnTo>
                      <a:pt x="181" y="281"/>
                    </a:lnTo>
                    <a:lnTo>
                      <a:pt x="185" y="284"/>
                    </a:lnTo>
                    <a:lnTo>
                      <a:pt x="188" y="28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7839720" y="5286960"/>
                <a:ext cx="53640" cy="88200"/>
              </a:xfrm>
              <a:custGeom>
                <a:avLst/>
                <a:gdLst/>
                <a:ahLst/>
                <a:rect l="l" t="t" r="r" b="b"/>
                <a:pathLst>
                  <a:path w="128" h="222">
                    <a:moveTo>
                      <a:pt x="119" y="19"/>
                    </a:moveTo>
                    <a:lnTo>
                      <a:pt x="111" y="6"/>
                    </a:lnTo>
                    <a:lnTo>
                      <a:pt x="0" y="213"/>
                    </a:lnTo>
                    <a:lnTo>
                      <a:pt x="17" y="222"/>
                    </a:lnTo>
                    <a:lnTo>
                      <a:pt x="128" y="14"/>
                    </a:lnTo>
                    <a:lnTo>
                      <a:pt x="119" y="1"/>
                    </a:lnTo>
                    <a:lnTo>
                      <a:pt x="128" y="14"/>
                    </a:lnTo>
                    <a:lnTo>
                      <a:pt x="128" y="7"/>
                    </a:lnTo>
                    <a:lnTo>
                      <a:pt x="123" y="1"/>
                    </a:lnTo>
                    <a:lnTo>
                      <a:pt x="116" y="0"/>
                    </a:lnTo>
                    <a:lnTo>
                      <a:pt x="111" y="6"/>
                    </a:lnTo>
                    <a:lnTo>
                      <a:pt x="1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7835400" y="5287320"/>
                <a:ext cx="54360" cy="8640"/>
              </a:xfrm>
              <a:custGeom>
                <a:avLst/>
                <a:gdLst/>
                <a:ahLst/>
                <a:rect l="l" t="t" r="r" b="b"/>
                <a:pathLst>
                  <a:path w="129" h="22">
                    <a:moveTo>
                      <a:pt x="1" y="15"/>
                    </a:moveTo>
                    <a:lnTo>
                      <a:pt x="10" y="20"/>
                    </a:lnTo>
                    <a:lnTo>
                      <a:pt x="129" y="18"/>
                    </a:lnTo>
                    <a:lnTo>
                      <a:pt x="129" y="0"/>
                    </a:lnTo>
                    <a:lnTo>
                      <a:pt x="10" y="3"/>
                    </a:lnTo>
                    <a:lnTo>
                      <a:pt x="18" y="9"/>
                    </a:lnTo>
                    <a:lnTo>
                      <a:pt x="10" y="2"/>
                    </a:lnTo>
                    <a:lnTo>
                      <a:pt x="2" y="5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10" y="22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7824600" y="5256360"/>
                <a:ext cx="18360" cy="36720"/>
              </a:xfrm>
              <a:custGeom>
                <a:avLst/>
                <a:gdLst/>
                <a:ahLst/>
                <a:rect l="l" t="t" r="r" b="b"/>
                <a:pathLst>
                  <a:path w="44" h="93">
                    <a:moveTo>
                      <a:pt x="16" y="15"/>
                    </a:moveTo>
                    <a:lnTo>
                      <a:pt x="0" y="12"/>
                    </a:lnTo>
                    <a:lnTo>
                      <a:pt x="27" y="93"/>
                    </a:lnTo>
                    <a:lnTo>
                      <a:pt x="44" y="87"/>
                    </a:lnTo>
                    <a:lnTo>
                      <a:pt x="17" y="6"/>
                    </a:lnTo>
                    <a:lnTo>
                      <a:pt x="1" y="3"/>
                    </a:lnTo>
                    <a:lnTo>
                      <a:pt x="17" y="6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1" y="5"/>
                    </a:lnTo>
                    <a:lnTo>
                      <a:pt x="0" y="12"/>
                    </a:lnTo>
                    <a:lnTo>
                      <a:pt x="1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7760160" y="5257440"/>
                <a:ext cx="70920" cy="72720"/>
              </a:xfrm>
              <a:custGeom>
                <a:avLst/>
                <a:gdLst/>
                <a:ahLst/>
                <a:rect l="l" t="t" r="r" b="b"/>
                <a:pathLst>
                  <a:path w="169" h="183">
                    <a:moveTo>
                      <a:pt x="13" y="166"/>
                    </a:moveTo>
                    <a:lnTo>
                      <a:pt x="16" y="180"/>
                    </a:lnTo>
                    <a:lnTo>
                      <a:pt x="169" y="12"/>
                    </a:lnTo>
                    <a:lnTo>
                      <a:pt x="154" y="0"/>
                    </a:lnTo>
                    <a:lnTo>
                      <a:pt x="2" y="169"/>
                    </a:lnTo>
                    <a:lnTo>
                      <a:pt x="4" y="183"/>
                    </a:lnTo>
                    <a:lnTo>
                      <a:pt x="2" y="169"/>
                    </a:lnTo>
                    <a:lnTo>
                      <a:pt x="0" y="176"/>
                    </a:lnTo>
                    <a:lnTo>
                      <a:pt x="3" y="180"/>
                    </a:lnTo>
                    <a:lnTo>
                      <a:pt x="10" y="183"/>
                    </a:lnTo>
                    <a:lnTo>
                      <a:pt x="16" y="180"/>
                    </a:lnTo>
                    <a:lnTo>
                      <a:pt x="13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7761600" y="5323680"/>
                <a:ext cx="12960" cy="100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9" y="13"/>
                    </a:moveTo>
                    <a:lnTo>
                      <a:pt x="25" y="9"/>
                    </a:lnTo>
                    <a:lnTo>
                      <a:pt x="9" y="0"/>
                    </a:lnTo>
                    <a:lnTo>
                      <a:pt x="0" y="17"/>
                    </a:lnTo>
                    <a:lnTo>
                      <a:pt x="16" y="26"/>
                    </a:lnTo>
                    <a:lnTo>
                      <a:pt x="12" y="22"/>
                    </a:lnTo>
                    <a:lnTo>
                      <a:pt x="16" y="26"/>
                    </a:lnTo>
                    <a:lnTo>
                      <a:pt x="23" y="26"/>
                    </a:lnTo>
                    <a:lnTo>
                      <a:pt x="29" y="22"/>
                    </a:lnTo>
                    <a:lnTo>
                      <a:pt x="31" y="14"/>
                    </a:lnTo>
                    <a:lnTo>
                      <a:pt x="25" y="9"/>
                    </a:lnTo>
                    <a:lnTo>
                      <a:pt x="2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7766640" y="5328720"/>
                <a:ext cx="13680" cy="1656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33" y="36"/>
                    </a:moveTo>
                    <a:lnTo>
                      <a:pt x="33" y="27"/>
                    </a:lnTo>
                    <a:lnTo>
                      <a:pt x="17" y="0"/>
                    </a:lnTo>
                    <a:lnTo>
                      <a:pt x="0" y="9"/>
                    </a:lnTo>
                    <a:lnTo>
                      <a:pt x="16" y="36"/>
                    </a:lnTo>
                    <a:lnTo>
                      <a:pt x="16" y="27"/>
                    </a:lnTo>
                    <a:lnTo>
                      <a:pt x="16" y="36"/>
                    </a:lnTo>
                    <a:lnTo>
                      <a:pt x="22" y="42"/>
                    </a:lnTo>
                    <a:lnTo>
                      <a:pt x="29" y="40"/>
                    </a:lnTo>
                    <a:lnTo>
                      <a:pt x="33" y="34"/>
                    </a:lnTo>
                    <a:lnTo>
                      <a:pt x="33" y="27"/>
                    </a:lnTo>
                    <a:lnTo>
                      <a:pt x="3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7761240" y="533952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46" h="67">
                    <a:moveTo>
                      <a:pt x="10" y="48"/>
                    </a:moveTo>
                    <a:lnTo>
                      <a:pt x="17" y="61"/>
                    </a:lnTo>
                    <a:lnTo>
                      <a:pt x="46" y="9"/>
                    </a:lnTo>
                    <a:lnTo>
                      <a:pt x="29" y="0"/>
                    </a:lnTo>
                    <a:lnTo>
                      <a:pt x="0" y="52"/>
                    </a:lnTo>
                    <a:lnTo>
                      <a:pt x="7" y="65"/>
                    </a:lnTo>
                    <a:lnTo>
                      <a:pt x="0" y="52"/>
                    </a:lnTo>
                    <a:lnTo>
                      <a:pt x="0" y="59"/>
                    </a:lnTo>
                    <a:lnTo>
                      <a:pt x="4" y="65"/>
                    </a:lnTo>
                    <a:lnTo>
                      <a:pt x="11" y="67"/>
                    </a:lnTo>
                    <a:lnTo>
                      <a:pt x="17" y="61"/>
                    </a:lnTo>
                    <a:lnTo>
                      <a:pt x="1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未知"/>
              <p:cNvSpPr/>
              <p:nvPr/>
            </p:nvSpPr>
            <p:spPr>
              <a:xfrm>
                <a:off x="7764120" y="5358600"/>
                <a:ext cx="35280" cy="20880"/>
              </a:xfrm>
              <a:custGeom>
                <a:avLst/>
                <a:gdLst/>
                <a:ahLst/>
                <a:rect l="l" t="t" r="r" b="b"/>
                <a:pathLst>
                  <a:path w="84" h="53">
                    <a:moveTo>
                      <a:pt x="84" y="53"/>
                    </a:moveTo>
                    <a:lnTo>
                      <a:pt x="82" y="53"/>
                    </a:lnTo>
                    <a:lnTo>
                      <a:pt x="79" y="36"/>
                    </a:lnTo>
                    <a:lnTo>
                      <a:pt x="75" y="21"/>
                    </a:lnTo>
                    <a:lnTo>
                      <a:pt x="66" y="13"/>
                    </a:lnTo>
                    <a:lnTo>
                      <a:pt x="58" y="7"/>
                    </a:lnTo>
                    <a:lnTo>
                      <a:pt x="45" y="6"/>
                    </a:lnTo>
                    <a:lnTo>
                      <a:pt x="33" y="4"/>
                    </a:lnTo>
                    <a:lnTo>
                      <a:pt x="19" y="3"/>
                    </a:lnTo>
                    <a:lnTo>
                      <a:pt x="3" y="0"/>
                    </a:lnTo>
                    <a:lnTo>
                      <a:pt x="0" y="17"/>
                    </a:lnTo>
                    <a:lnTo>
                      <a:pt x="19" y="20"/>
                    </a:lnTo>
                    <a:lnTo>
                      <a:pt x="33" y="21"/>
                    </a:lnTo>
                    <a:lnTo>
                      <a:pt x="45" y="23"/>
                    </a:lnTo>
                    <a:lnTo>
                      <a:pt x="52" y="24"/>
                    </a:lnTo>
                    <a:lnTo>
                      <a:pt x="55" y="27"/>
                    </a:lnTo>
                    <a:lnTo>
                      <a:pt x="58" y="30"/>
                    </a:lnTo>
                    <a:lnTo>
                      <a:pt x="62" y="39"/>
                    </a:lnTo>
                    <a:lnTo>
                      <a:pt x="65" y="53"/>
                    </a:lnTo>
                    <a:lnTo>
                      <a:pt x="64" y="53"/>
                    </a:lnTo>
                    <a:lnTo>
                      <a:pt x="8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未知"/>
              <p:cNvSpPr/>
              <p:nvPr/>
            </p:nvSpPr>
            <p:spPr>
              <a:xfrm>
                <a:off x="7791120" y="537876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17" y="3"/>
                    </a:moveTo>
                    <a:lnTo>
                      <a:pt x="18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20" y="3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8" y="16"/>
                    </a:lnTo>
                    <a:lnTo>
                      <a:pt x="15" y="19"/>
                    </a:lnTo>
                    <a:lnTo>
                      <a:pt x="24" y="19"/>
                    </a:lnTo>
                    <a:lnTo>
                      <a:pt x="25" y="17"/>
                    </a:lnTo>
                    <a:lnTo>
                      <a:pt x="24" y="19"/>
                    </a:lnTo>
                    <a:lnTo>
                      <a:pt x="30" y="15"/>
                    </a:lnTo>
                    <a:lnTo>
                      <a:pt x="30" y="7"/>
                    </a:lnTo>
                    <a:lnTo>
                      <a:pt x="25" y="3"/>
                    </a:lnTo>
                    <a:lnTo>
                      <a:pt x="18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>
                <a:off x="7798320" y="5365440"/>
                <a:ext cx="27720" cy="19800"/>
              </a:xfrm>
              <a:custGeom>
                <a:avLst/>
                <a:gdLst/>
                <a:ahLst/>
                <a:rect l="l" t="t" r="r" b="b"/>
                <a:pathLst>
                  <a:path w="66" h="50">
                    <a:moveTo>
                      <a:pt x="57" y="0"/>
                    </a:moveTo>
                    <a:lnTo>
                      <a:pt x="54" y="2"/>
                    </a:lnTo>
                    <a:lnTo>
                      <a:pt x="0" y="36"/>
                    </a:lnTo>
                    <a:lnTo>
                      <a:pt x="8" y="50"/>
                    </a:lnTo>
                    <a:lnTo>
                      <a:pt x="63" y="16"/>
                    </a:lnTo>
                    <a:lnTo>
                      <a:pt x="60" y="17"/>
                    </a:lnTo>
                    <a:lnTo>
                      <a:pt x="63" y="16"/>
                    </a:lnTo>
                    <a:lnTo>
                      <a:pt x="66" y="10"/>
                    </a:lnTo>
                    <a:lnTo>
                      <a:pt x="66" y="4"/>
                    </a:lnTo>
                    <a:lnTo>
                      <a:pt x="60" y="0"/>
                    </a:lnTo>
                    <a:lnTo>
                      <a:pt x="54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>
                <a:off x="7822440" y="5365080"/>
                <a:ext cx="24120" cy="11160"/>
              </a:xfrm>
              <a:custGeom>
                <a:avLst/>
                <a:gdLst/>
                <a:ahLst/>
                <a:rect l="l" t="t" r="r" b="b"/>
                <a:pathLst>
                  <a:path w="58" h="28">
                    <a:moveTo>
                      <a:pt x="41" y="17"/>
                    </a:moveTo>
                    <a:lnTo>
                      <a:pt x="57" y="17"/>
                    </a:lnTo>
                    <a:lnTo>
                      <a:pt x="51" y="11"/>
                    </a:lnTo>
                    <a:lnTo>
                      <a:pt x="45" y="8"/>
                    </a:lnTo>
                    <a:lnTo>
                      <a:pt x="36" y="7"/>
                    </a:lnTo>
                    <a:lnTo>
                      <a:pt x="29" y="4"/>
                    </a:lnTo>
                    <a:lnTo>
                      <a:pt x="21" y="3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3" y="18"/>
                    </a:lnTo>
                    <a:lnTo>
                      <a:pt x="6" y="20"/>
                    </a:lnTo>
                    <a:lnTo>
                      <a:pt x="12" y="18"/>
                    </a:lnTo>
                    <a:lnTo>
                      <a:pt x="18" y="20"/>
                    </a:lnTo>
                    <a:lnTo>
                      <a:pt x="26" y="21"/>
                    </a:lnTo>
                    <a:lnTo>
                      <a:pt x="33" y="24"/>
                    </a:lnTo>
                    <a:lnTo>
                      <a:pt x="39" y="26"/>
                    </a:lnTo>
                    <a:lnTo>
                      <a:pt x="42" y="28"/>
                    </a:lnTo>
                    <a:lnTo>
                      <a:pt x="42" y="26"/>
                    </a:lnTo>
                    <a:lnTo>
                      <a:pt x="58" y="26"/>
                    </a:lnTo>
                    <a:lnTo>
                      <a:pt x="42" y="26"/>
                    </a:lnTo>
                    <a:lnTo>
                      <a:pt x="48" y="28"/>
                    </a:lnTo>
                    <a:lnTo>
                      <a:pt x="54" y="27"/>
                    </a:lnTo>
                    <a:lnTo>
                      <a:pt x="58" y="23"/>
                    </a:lnTo>
                    <a:lnTo>
                      <a:pt x="57" y="17"/>
                    </a:lnTo>
                    <a:lnTo>
                      <a:pt x="4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>
                <a:off x="7141320" y="5382720"/>
                <a:ext cx="693000" cy="912960"/>
              </a:xfrm>
              <a:custGeom>
                <a:avLst/>
                <a:gdLst/>
                <a:ahLst/>
                <a:rect l="l" t="t" r="r" b="b"/>
                <a:pathLst>
                  <a:path w="1645" h="2291">
                    <a:moveTo>
                      <a:pt x="1556" y="33"/>
                    </a:moveTo>
                    <a:lnTo>
                      <a:pt x="1590" y="33"/>
                    </a:lnTo>
                    <a:lnTo>
                      <a:pt x="1616" y="3"/>
                    </a:lnTo>
                    <a:lnTo>
                      <a:pt x="1645" y="0"/>
                    </a:lnTo>
                    <a:lnTo>
                      <a:pt x="132" y="2222"/>
                    </a:lnTo>
                    <a:lnTo>
                      <a:pt x="131" y="2224"/>
                    </a:lnTo>
                    <a:lnTo>
                      <a:pt x="126" y="2230"/>
                    </a:lnTo>
                    <a:lnTo>
                      <a:pt x="119" y="2238"/>
                    </a:lnTo>
                    <a:lnTo>
                      <a:pt x="111" y="2247"/>
                    </a:lnTo>
                    <a:lnTo>
                      <a:pt x="100" y="2257"/>
                    </a:lnTo>
                    <a:lnTo>
                      <a:pt x="89" y="2267"/>
                    </a:lnTo>
                    <a:lnTo>
                      <a:pt x="77" y="2276"/>
                    </a:lnTo>
                    <a:lnTo>
                      <a:pt x="66" y="2283"/>
                    </a:lnTo>
                    <a:lnTo>
                      <a:pt x="56" y="2286"/>
                    </a:lnTo>
                    <a:lnTo>
                      <a:pt x="46" y="2289"/>
                    </a:lnTo>
                    <a:lnTo>
                      <a:pt x="34" y="2290"/>
                    </a:lnTo>
                    <a:lnTo>
                      <a:pt x="24" y="2291"/>
                    </a:lnTo>
                    <a:lnTo>
                      <a:pt x="14" y="2291"/>
                    </a:lnTo>
                    <a:lnTo>
                      <a:pt x="7" y="2291"/>
                    </a:lnTo>
                    <a:lnTo>
                      <a:pt x="1" y="2291"/>
                    </a:lnTo>
                    <a:lnTo>
                      <a:pt x="0" y="2291"/>
                    </a:lnTo>
                    <a:lnTo>
                      <a:pt x="1556" y="3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未知"/>
            <p:cNvSpPr/>
            <p:nvPr/>
          </p:nvSpPr>
          <p:spPr>
            <a:xfrm>
              <a:off x="7293960" y="5812560"/>
              <a:ext cx="173880" cy="238320"/>
            </a:xfrm>
            <a:custGeom>
              <a:avLst/>
              <a:gdLst/>
              <a:ahLst/>
              <a:rect l="l" t="t" r="r" b="b"/>
              <a:pathLst>
                <a:path w="413" h="599">
                  <a:moveTo>
                    <a:pt x="413" y="338"/>
                  </a:moveTo>
                  <a:lnTo>
                    <a:pt x="392" y="368"/>
                  </a:lnTo>
                  <a:lnTo>
                    <a:pt x="369" y="401"/>
                  </a:lnTo>
                  <a:lnTo>
                    <a:pt x="346" y="439"/>
                  </a:lnTo>
                  <a:lnTo>
                    <a:pt x="321" y="475"/>
                  </a:lnTo>
                  <a:lnTo>
                    <a:pt x="297" y="511"/>
                  </a:lnTo>
                  <a:lnTo>
                    <a:pt x="271" y="545"/>
                  </a:lnTo>
                  <a:lnTo>
                    <a:pt x="245" y="574"/>
                  </a:lnTo>
                  <a:lnTo>
                    <a:pt x="217" y="599"/>
                  </a:lnTo>
                  <a:lnTo>
                    <a:pt x="199" y="577"/>
                  </a:lnTo>
                  <a:lnTo>
                    <a:pt x="170" y="544"/>
                  </a:lnTo>
                  <a:lnTo>
                    <a:pt x="135" y="502"/>
                  </a:lnTo>
                  <a:lnTo>
                    <a:pt x="98" y="456"/>
                  </a:lnTo>
                  <a:lnTo>
                    <a:pt x="62" y="412"/>
                  </a:lnTo>
                  <a:lnTo>
                    <a:pt x="30" y="370"/>
                  </a:lnTo>
                  <a:lnTo>
                    <a:pt x="9" y="338"/>
                  </a:lnTo>
                  <a:lnTo>
                    <a:pt x="0" y="318"/>
                  </a:lnTo>
                  <a:lnTo>
                    <a:pt x="276" y="0"/>
                  </a:lnTo>
                  <a:lnTo>
                    <a:pt x="278" y="5"/>
                  </a:lnTo>
                  <a:lnTo>
                    <a:pt x="282" y="20"/>
                  </a:lnTo>
                  <a:lnTo>
                    <a:pt x="288" y="43"/>
                  </a:lnTo>
                  <a:lnTo>
                    <a:pt x="295" y="69"/>
                  </a:lnTo>
                  <a:lnTo>
                    <a:pt x="304" y="99"/>
                  </a:lnTo>
                  <a:lnTo>
                    <a:pt x="312" y="129"/>
                  </a:lnTo>
                  <a:lnTo>
                    <a:pt x="323" y="157"/>
                  </a:lnTo>
                  <a:lnTo>
                    <a:pt x="331" y="181"/>
                  </a:lnTo>
                  <a:lnTo>
                    <a:pt x="341" y="203"/>
                  </a:lnTo>
                  <a:lnTo>
                    <a:pt x="350" y="220"/>
                  </a:lnTo>
                  <a:lnTo>
                    <a:pt x="359" y="234"/>
                  </a:lnTo>
                  <a:lnTo>
                    <a:pt x="367" y="249"/>
                  </a:lnTo>
                  <a:lnTo>
                    <a:pt x="377" y="265"/>
                  </a:lnTo>
                  <a:lnTo>
                    <a:pt x="387" y="283"/>
                  </a:lnTo>
                  <a:lnTo>
                    <a:pt x="400" y="308"/>
                  </a:lnTo>
                  <a:lnTo>
                    <a:pt x="413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60640" y="5468400"/>
              <a:ext cx="1027800" cy="9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57200" y="5276880"/>
            <a:ext cx="1522440" cy="1301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826920" y="1484280"/>
            <a:ext cx="7632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勾股定理的逆定理</a:t>
            </a:r>
            <a:endParaRPr b="0" lang="en-US" sz="24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4920" y="1268280"/>
            <a:ext cx="9315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例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1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判断由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i="1" lang="zh-CN" sz="3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i="1" lang="zh-CN" sz="30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组成的三角形是不是直角三角形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(1)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15 ,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b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8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1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34136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268360" y="258840"/>
            <a:ext cx="3581280" cy="687240"/>
            <a:chOff x="2268360" y="258840"/>
            <a:chExt cx="3581280" cy="687240"/>
          </a:xfrm>
        </p:grpSpPr>
        <p:grpSp>
          <p:nvGrpSpPr>
            <p:cNvPr id="253" name=""/>
            <p:cNvGrpSpPr/>
            <p:nvPr/>
          </p:nvGrpSpPr>
          <p:grpSpPr>
            <a:xfrm>
              <a:off x="2268360" y="258840"/>
              <a:ext cx="2362320" cy="520200"/>
              <a:chOff x="2268360" y="258840"/>
              <a:chExt cx="2362320" cy="520200"/>
            </a:xfrm>
          </p:grpSpPr>
          <p:sp>
            <p:nvSpPr>
              <p:cNvPr id="254" name=""/>
              <p:cNvSpPr/>
              <p:nvPr/>
            </p:nvSpPr>
            <p:spPr>
              <a:xfrm>
                <a:off x="2268360" y="30744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例题解析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48640" y="258840"/>
                <a:ext cx="183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4630680" y="26028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2268360" y="41292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4464000" y="1916280"/>
            <a:ext cx="478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(2)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13 ,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b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15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1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9640" y="2637000"/>
            <a:ext cx="7667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分析：由勾股定理的逆定理，判断三角形是不是直角三角形，只要看两条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较小边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平方和是否等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最大边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平方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4000" y="4149720"/>
            <a:ext cx="766764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解：∵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1" lang="en-US" sz="3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en-US" sz="3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225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64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28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17</a:t>
            </a:r>
            <a:r>
              <a:rPr b="1" lang="en-US" sz="3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28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      ∴ 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1" lang="en-US" sz="3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en-US" sz="3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17</a:t>
            </a:r>
            <a:r>
              <a:rPr b="1" lang="en-US" sz="3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        ∴</a:t>
            </a:r>
            <a:r>
              <a:rPr b="1" lang="zh-CN" sz="3000" spc="-1" strike="noStrike">
                <a:solidFill>
                  <a:srgbClr val="3333cc"/>
                </a:solidFill>
                <a:latin typeface="Times New Roman"/>
              </a:rPr>
              <a:t>这个三角形是直角三角形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5" action="ppaction://hlinksldjump"/>
          </p:cNvPr>
          <p:cNvSpPr/>
          <p:nvPr/>
        </p:nvSpPr>
        <p:spPr>
          <a:xfrm>
            <a:off x="8317080" y="5950080"/>
            <a:ext cx="502920" cy="3585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288" h="21600">
                <a:moveTo>
                  <a:pt x="0" y="0"/>
                </a:moveTo>
                <a:lnTo>
                  <a:pt x="30288" y="0"/>
                </a:lnTo>
                <a:lnTo>
                  <a:pt x="30288" y="21600"/>
                </a:lnTo>
                <a:lnTo>
                  <a:pt x="0" y="21600"/>
                </a:lnTo>
                <a:close/>
              </a:path>
              <a:path fill="lightenLess" w="30288" h="21600">
                <a:moveTo>
                  <a:pt x="0" y="0"/>
                </a:moveTo>
                <a:lnTo>
                  <a:pt x="30288" y="0"/>
                </a:lnTo>
                <a:lnTo>
                  <a:pt x="28888" y="1400"/>
                </a:lnTo>
                <a:lnTo>
                  <a:pt x="1400" y="1400"/>
                </a:lnTo>
                <a:close/>
              </a:path>
              <a:path fill="darken" w="30288" h="21600">
                <a:moveTo>
                  <a:pt x="30288" y="0"/>
                </a:moveTo>
                <a:lnTo>
                  <a:pt x="30288" y="21600"/>
                </a:lnTo>
                <a:lnTo>
                  <a:pt x="28888" y="20200"/>
                </a:lnTo>
                <a:lnTo>
                  <a:pt x="28888" y="1400"/>
                </a:lnTo>
                <a:close/>
              </a:path>
              <a:path fill="darkenLess" w="30288" h="21600">
                <a:moveTo>
                  <a:pt x="3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8" y="20200"/>
                </a:lnTo>
                <a:close/>
              </a:path>
              <a:path fill="lighten" w="3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8" h="21600">
                <a:moveTo>
                  <a:pt x="18643" y="10800"/>
                </a:moveTo>
                <a:lnTo>
                  <a:pt x="8137" y="17806"/>
                </a:lnTo>
                <a:lnTo>
                  <a:pt x="8137" y="3794"/>
                </a:lnTo>
                <a:close/>
              </a:path>
              <a:path fill="darken" w="30288" h="21600">
                <a:moveTo>
                  <a:pt x="20488" y="3794"/>
                </a:moveTo>
                <a:lnTo>
                  <a:pt x="20488" y="17806"/>
                </a:lnTo>
                <a:lnTo>
                  <a:pt x="22150" y="17806"/>
                </a:lnTo>
                <a:lnTo>
                  <a:pt x="22150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BS00554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44360" y="0"/>
            <a:ext cx="1332000" cy="11620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下面以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a,b,c</a:t>
            </a:r>
            <a:r>
              <a:rPr b="1" lang="zh-CN" sz="3400" spc="-1" strike="noStrike">
                <a:solidFill>
                  <a:srgbClr val="0000ff"/>
                </a:solidFill>
                <a:latin typeface="Times New Roman"/>
              </a:rPr>
              <a:t>为边长的三角形是不是直角三角形？如果是那么哪一个角是直角？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9640" y="170820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1) a=25   b=20  c=15      ____      _____ 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9640" y="242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2) a=13   b=14    c=15    ____       _____ 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3789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4) a:b: c=3:4:5               _____     _____ 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92720" y="155736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64000" y="371484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64000" y="227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不是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64000" y="285264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72360" y="1557360"/>
            <a:ext cx="25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∠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=90</a:t>
            </a:r>
            <a:r>
              <a:rPr b="1" lang="en-US" sz="40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306864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∠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=90</a:t>
            </a:r>
            <a:r>
              <a:rPr b="1" lang="en-US" sz="36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372420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∠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=90</a:t>
            </a:r>
            <a:r>
              <a:rPr b="1" lang="en-US" sz="3600" spc="-1" strike="noStrike" baseline="30000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9640" y="3068640"/>
            <a:ext cx="8208720" cy="796680"/>
            <a:chOff x="539640" y="3068640"/>
            <a:chExt cx="8208720" cy="796680"/>
          </a:xfrm>
        </p:grpSpPr>
        <p:sp>
          <p:nvSpPr>
            <p:cNvPr id="275" name=""/>
            <p:cNvSpPr/>
            <p:nvPr/>
          </p:nvSpPr>
          <p:spPr>
            <a:xfrm>
              <a:off x="539640" y="3068640"/>
              <a:ext cx="820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3) a=1  b=2   c=              ____       _____ 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3837600" y="3068640"/>
                  <a:ext cx="649440" cy="79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3、已知 △ABC三角形的三边分别为 a,b,c</m:t>
                          </m:r>
                        </m:e>
                        <m:e>
                          <m:r>
                            <m:t xml:space="preserve">且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= 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,b=2mn,c=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m&gt;n,m,n是正整数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， 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△ABC是直角三角形吗?说明理由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7" name=""/>
          <p:cNvSpPr/>
          <p:nvPr/>
        </p:nvSpPr>
        <p:spPr>
          <a:xfrm>
            <a:off x="684360" y="4581360"/>
            <a:ext cx="7704000" cy="1483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,20,15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够成为直角三角形三条边长的三个正整数，称为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勾股数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4" action="ppaction://hlinksldjump"/>
          </p:cNvPr>
          <p:cNvSpPr/>
          <p:nvPr/>
        </p:nvSpPr>
        <p:spPr>
          <a:xfrm>
            <a:off x="8388360" y="623736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152280" y="1432080"/>
            <a:ext cx="8915400" cy="4665600"/>
            <a:chOff x="152280" y="1432080"/>
            <a:chExt cx="8915400" cy="4665600"/>
          </a:xfrm>
        </p:grpSpPr>
        <p:sp>
          <p:nvSpPr>
            <p:cNvPr id="280" name=""/>
            <p:cNvSpPr/>
            <p:nvPr/>
          </p:nvSpPr>
          <p:spPr>
            <a:xfrm>
              <a:off x="6172200" y="4174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534600" y="2931480"/>
              <a:ext cx="3628800" cy="2937600"/>
              <a:chOff x="534600" y="2931480"/>
              <a:chExt cx="3628800" cy="2937600"/>
            </a:xfrm>
          </p:grpSpPr>
          <p:sp>
            <p:nvSpPr>
              <p:cNvPr id="282" name=""/>
              <p:cNvSpPr/>
              <p:nvPr/>
            </p:nvSpPr>
            <p:spPr>
              <a:xfrm>
                <a:off x="825120" y="4708080"/>
                <a:ext cx="609840" cy="837720"/>
              </a:xfrm>
              <a:prstGeom prst="rtTriangl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9416000">
                <a:off x="847080" y="3709080"/>
                <a:ext cx="2971800" cy="1066680"/>
              </a:xfrm>
              <a:prstGeom prst="rtTriangle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0920" y="54543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360440" y="5470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98360" y="3565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34600" y="4387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4802040" y="3160080"/>
              <a:ext cx="3628800" cy="2937600"/>
              <a:chOff x="4802040" y="3160080"/>
              <a:chExt cx="3628800" cy="2937600"/>
            </a:xfrm>
          </p:grpSpPr>
          <p:sp>
            <p:nvSpPr>
              <p:cNvPr id="289" name=""/>
              <p:cNvSpPr/>
              <p:nvPr/>
            </p:nvSpPr>
            <p:spPr>
              <a:xfrm>
                <a:off x="5092560" y="4936680"/>
                <a:ext cx="609840" cy="837720"/>
              </a:xfrm>
              <a:prstGeom prst="rtTriangl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9416000">
                <a:off x="5114520" y="3937680"/>
                <a:ext cx="2971800" cy="1066680"/>
              </a:xfrm>
              <a:prstGeom prst="rtTriangle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78360" y="56829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627880" y="56988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065800" y="37940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802040" y="46159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5258880" y="5682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01680" y="5165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11160" y="5165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30120" y="49370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2280" y="1432080"/>
              <a:ext cx="891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例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2   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一个零件的形状如左图所示，按规定这个零件中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∠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和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∠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DBC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都应为直角。工人师傅量得这个零件各边尺寸如右图所示，这个 零件符合要求吗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34136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2268360" y="258840"/>
            <a:ext cx="3581280" cy="687240"/>
            <a:chOff x="2268360" y="258840"/>
            <a:chExt cx="3581280" cy="687240"/>
          </a:xfrm>
        </p:grpSpPr>
        <p:grpSp>
          <p:nvGrpSpPr>
            <p:cNvPr id="302" name=""/>
            <p:cNvGrpSpPr/>
            <p:nvPr/>
          </p:nvGrpSpPr>
          <p:grpSpPr>
            <a:xfrm>
              <a:off x="2268360" y="258840"/>
              <a:ext cx="2362320" cy="520200"/>
              <a:chOff x="2268360" y="258840"/>
              <a:chExt cx="2362320" cy="520200"/>
            </a:xfrm>
          </p:grpSpPr>
          <p:sp>
            <p:nvSpPr>
              <p:cNvPr id="303" name=""/>
              <p:cNvSpPr/>
              <p:nvPr/>
            </p:nvSpPr>
            <p:spPr>
              <a:xfrm>
                <a:off x="2268360" y="30744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例题解析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148640" y="258840"/>
                <a:ext cx="183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05" name="" descr=""/>
            <p:cNvPicPr/>
            <p:nvPr/>
          </p:nvPicPr>
          <p:blipFill>
            <a:blip r:embed="rId3"/>
            <a:stretch/>
          </p:blipFill>
          <p:spPr>
            <a:xfrm>
              <a:off x="4630680" y="26028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2268360" y="41292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">
            <a:hlinkClick r:id="rId5" action="ppaction://hlinksldjump"/>
          </p:cNvPr>
          <p:cNvSpPr/>
          <p:nvPr/>
        </p:nvSpPr>
        <p:spPr>
          <a:xfrm>
            <a:off x="8317080" y="5950080"/>
            <a:ext cx="502920" cy="3585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288" h="21600">
                <a:moveTo>
                  <a:pt x="0" y="0"/>
                </a:moveTo>
                <a:lnTo>
                  <a:pt x="30288" y="0"/>
                </a:lnTo>
                <a:lnTo>
                  <a:pt x="30288" y="21600"/>
                </a:lnTo>
                <a:lnTo>
                  <a:pt x="0" y="21600"/>
                </a:lnTo>
                <a:close/>
              </a:path>
              <a:path fill="lightenLess" w="30288" h="21600">
                <a:moveTo>
                  <a:pt x="0" y="0"/>
                </a:moveTo>
                <a:lnTo>
                  <a:pt x="30288" y="0"/>
                </a:lnTo>
                <a:lnTo>
                  <a:pt x="28888" y="1400"/>
                </a:lnTo>
                <a:lnTo>
                  <a:pt x="1400" y="1400"/>
                </a:lnTo>
                <a:close/>
              </a:path>
              <a:path fill="darken" w="30288" h="21600">
                <a:moveTo>
                  <a:pt x="30288" y="0"/>
                </a:moveTo>
                <a:lnTo>
                  <a:pt x="30288" y="21600"/>
                </a:lnTo>
                <a:lnTo>
                  <a:pt x="28888" y="20200"/>
                </a:lnTo>
                <a:lnTo>
                  <a:pt x="28888" y="1400"/>
                </a:lnTo>
                <a:close/>
              </a:path>
              <a:path fill="darkenLess" w="30288" h="21600">
                <a:moveTo>
                  <a:pt x="3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8" y="20200"/>
                </a:lnTo>
                <a:close/>
              </a:path>
              <a:path fill="lighten" w="3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8" h="21600">
                <a:moveTo>
                  <a:pt x="18643" y="10800"/>
                </a:moveTo>
                <a:lnTo>
                  <a:pt x="8137" y="17806"/>
                </a:lnTo>
                <a:lnTo>
                  <a:pt x="8137" y="3794"/>
                </a:lnTo>
                <a:close/>
              </a:path>
              <a:path fill="darken" w="30288" h="21600">
                <a:moveTo>
                  <a:pt x="20488" y="3794"/>
                </a:moveTo>
                <a:lnTo>
                  <a:pt x="20488" y="17806"/>
                </a:lnTo>
                <a:lnTo>
                  <a:pt x="22150" y="17806"/>
                </a:lnTo>
                <a:lnTo>
                  <a:pt x="22150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80010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533520" y="762120"/>
                <a:ext cx="83041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∵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n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539640" y="2781360"/>
            <a:ext cx="781236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锐角三角形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直角三角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钝角三角形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等边三角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nt">
            <a:hlinkClick r:id="rId2" action="ppaction://hlinksldjump"/>
          </p:cNvPr>
          <p:cNvSpPr/>
          <p:nvPr/>
        </p:nvSpPr>
        <p:spPr>
          <a:xfrm>
            <a:off x="539640" y="5013360"/>
            <a:ext cx="1368360" cy="10810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76212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95280" y="0"/>
            <a:ext cx="3581280" cy="687240"/>
            <a:chOff x="395280" y="0"/>
            <a:chExt cx="3581280" cy="687240"/>
          </a:xfrm>
        </p:grpSpPr>
        <p:grpSp>
          <p:nvGrpSpPr>
            <p:cNvPr id="314" name=""/>
            <p:cNvGrpSpPr/>
            <p:nvPr/>
          </p:nvGrpSpPr>
          <p:grpSpPr>
            <a:xfrm>
              <a:off x="395280" y="0"/>
              <a:ext cx="2362320" cy="520200"/>
              <a:chOff x="395280" y="0"/>
              <a:chExt cx="2362320" cy="520200"/>
            </a:xfrm>
          </p:grpSpPr>
          <p:sp>
            <p:nvSpPr>
              <p:cNvPr id="315" name=""/>
              <p:cNvSpPr/>
              <p:nvPr/>
            </p:nvSpPr>
            <p:spPr>
              <a:xfrm>
                <a:off x="395280" y="4860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练一练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275560" y="0"/>
                <a:ext cx="183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17" name="" descr=""/>
            <p:cNvPicPr/>
            <p:nvPr/>
          </p:nvPicPr>
          <p:blipFill>
            <a:blip r:embed="rId3"/>
            <a:stretch/>
          </p:blipFill>
          <p:spPr>
            <a:xfrm>
              <a:off x="2757600" y="144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395280" y="15408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">
            <a:hlinkClick r:id="rId5" action="ppaction://hlinksldjump"/>
          </p:cNvPr>
          <p:cNvSpPr/>
          <p:nvPr/>
        </p:nvSpPr>
        <p:spPr>
          <a:xfrm>
            <a:off x="8317080" y="5950080"/>
            <a:ext cx="502920" cy="3585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288" h="21600">
                <a:moveTo>
                  <a:pt x="0" y="0"/>
                </a:moveTo>
                <a:lnTo>
                  <a:pt x="30288" y="0"/>
                </a:lnTo>
                <a:lnTo>
                  <a:pt x="30288" y="21600"/>
                </a:lnTo>
                <a:lnTo>
                  <a:pt x="0" y="21600"/>
                </a:lnTo>
                <a:close/>
              </a:path>
              <a:path fill="lightenLess" w="30288" h="21600">
                <a:moveTo>
                  <a:pt x="0" y="0"/>
                </a:moveTo>
                <a:lnTo>
                  <a:pt x="30288" y="0"/>
                </a:lnTo>
                <a:lnTo>
                  <a:pt x="28888" y="1400"/>
                </a:lnTo>
                <a:lnTo>
                  <a:pt x="1400" y="1400"/>
                </a:lnTo>
                <a:close/>
              </a:path>
              <a:path fill="darken" w="30288" h="21600">
                <a:moveTo>
                  <a:pt x="30288" y="0"/>
                </a:moveTo>
                <a:lnTo>
                  <a:pt x="30288" y="21600"/>
                </a:lnTo>
                <a:lnTo>
                  <a:pt x="28888" y="20200"/>
                </a:lnTo>
                <a:lnTo>
                  <a:pt x="28888" y="1400"/>
                </a:lnTo>
                <a:close/>
              </a:path>
              <a:path fill="darkenLess" w="30288" h="21600">
                <a:moveTo>
                  <a:pt x="3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8" y="20200"/>
                </a:lnTo>
                <a:close/>
              </a:path>
              <a:path fill="lighten" w="3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8" h="21600">
                <a:moveTo>
                  <a:pt x="18643" y="10800"/>
                </a:moveTo>
                <a:lnTo>
                  <a:pt x="8137" y="17806"/>
                </a:lnTo>
                <a:lnTo>
                  <a:pt x="8137" y="3794"/>
                </a:lnTo>
                <a:close/>
              </a:path>
              <a:path fill="darken" w="30288" h="21600">
                <a:moveTo>
                  <a:pt x="20488" y="3794"/>
                </a:moveTo>
                <a:lnTo>
                  <a:pt x="20488" y="17806"/>
                </a:lnTo>
                <a:lnTo>
                  <a:pt x="22150" y="17806"/>
                </a:lnTo>
                <a:lnTo>
                  <a:pt x="22150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73080" y="2484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7080" y="620640"/>
            <a:ext cx="70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已知：如图，四边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3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四边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面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1468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457440" y="3141720"/>
            <a:ext cx="885960" cy="223200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449440" y="2781360"/>
            <a:ext cx="6119280" cy="3311280"/>
            <a:chOff x="2449440" y="2781360"/>
            <a:chExt cx="6119280" cy="3311280"/>
          </a:xfrm>
        </p:grpSpPr>
        <p:sp>
          <p:nvSpPr>
            <p:cNvPr id="325" name=""/>
            <p:cNvSpPr/>
            <p:nvPr/>
          </p:nvSpPr>
          <p:spPr>
            <a:xfrm>
              <a:off x="3093480" y="5250600"/>
              <a:ext cx="874080" cy="84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49440" y="4041720"/>
              <a:ext cx="87408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15800" y="2781360"/>
              <a:ext cx="874080" cy="11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50840" y="3203280"/>
              <a:ext cx="1456560" cy="112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50840" y="4326480"/>
              <a:ext cx="582480" cy="112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433680" y="4606920"/>
              <a:ext cx="4366800" cy="84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4307400" y="3203280"/>
              <a:ext cx="3492360" cy="14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94640" y="4390200"/>
              <a:ext cx="87408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952720" y="4222800"/>
            <a:ext cx="7164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881080" y="4365720"/>
            <a:ext cx="14292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0" y="3357720"/>
            <a:ext cx="2842920" cy="2375640"/>
            <a:chOff x="0" y="3357720"/>
            <a:chExt cx="2842920" cy="2375640"/>
          </a:xfrm>
        </p:grpSpPr>
        <p:sp>
          <p:nvSpPr>
            <p:cNvPr id="336" name="Cloud">
              <a:hlinkClick r:id="rId2" action="ppaction://hlinksldjump"/>
            </p:cNvPr>
            <p:cNvSpPr/>
            <p:nvPr/>
          </p:nvSpPr>
          <p:spPr>
            <a:xfrm>
              <a:off x="0" y="3357720"/>
              <a:ext cx="2842920" cy="23756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560" y="3903480"/>
              <a:ext cx="2525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准备好了吗</a:t>
              </a:r>
              <a:r>
                <a:rPr b="0" lang="en-US" sz="30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?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932360" y="2637000"/>
            <a:ext cx="381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zh-CN" sz="4000" spc="-1" strike="noStrike" baseline="-25000">
                <a:solidFill>
                  <a:srgbClr val="ff0000"/>
                </a:solidFill>
                <a:latin typeface="Times New Roman"/>
              </a:rPr>
              <a:t>四边形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Times New Roman"/>
              </a:rPr>
              <a:t>ABCD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4000" y="0"/>
            <a:ext cx="3581280" cy="685440"/>
            <a:chOff x="324000" y="0"/>
            <a:chExt cx="3581280" cy="685440"/>
          </a:xfrm>
        </p:grpSpPr>
        <p:grpSp>
          <p:nvGrpSpPr>
            <p:cNvPr id="340" name=""/>
            <p:cNvGrpSpPr/>
            <p:nvPr/>
          </p:nvGrpSpPr>
          <p:grpSpPr>
            <a:xfrm>
              <a:off x="324000" y="0"/>
              <a:ext cx="2362320" cy="518760"/>
              <a:chOff x="324000" y="0"/>
              <a:chExt cx="2362320" cy="518760"/>
            </a:xfrm>
          </p:grpSpPr>
          <p:sp>
            <p:nvSpPr>
              <p:cNvPr id="341" name=""/>
              <p:cNvSpPr/>
              <p:nvPr/>
            </p:nvSpPr>
            <p:spPr>
              <a:xfrm>
                <a:off x="324000" y="4860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中考链接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204280" y="0"/>
                <a:ext cx="1832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2686320" y="1080"/>
              <a:ext cx="121896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324000" y="153720"/>
              <a:ext cx="533520" cy="53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"/>
          <p:cNvSpPr/>
          <p:nvPr/>
        </p:nvSpPr>
        <p:spPr>
          <a:xfrm>
            <a:off x="8317080" y="5950080"/>
            <a:ext cx="502920" cy="3585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288" h="21600">
                <a:moveTo>
                  <a:pt x="0" y="0"/>
                </a:moveTo>
                <a:lnTo>
                  <a:pt x="30288" y="0"/>
                </a:lnTo>
                <a:lnTo>
                  <a:pt x="30288" y="21600"/>
                </a:lnTo>
                <a:lnTo>
                  <a:pt x="0" y="21600"/>
                </a:lnTo>
                <a:close/>
              </a:path>
              <a:path fill="lightenLess" w="30288" h="21600">
                <a:moveTo>
                  <a:pt x="0" y="0"/>
                </a:moveTo>
                <a:lnTo>
                  <a:pt x="30288" y="0"/>
                </a:lnTo>
                <a:lnTo>
                  <a:pt x="28888" y="1400"/>
                </a:lnTo>
                <a:lnTo>
                  <a:pt x="1400" y="1400"/>
                </a:lnTo>
                <a:close/>
              </a:path>
              <a:path fill="darken" w="30288" h="21600">
                <a:moveTo>
                  <a:pt x="30288" y="0"/>
                </a:moveTo>
                <a:lnTo>
                  <a:pt x="30288" y="21600"/>
                </a:lnTo>
                <a:lnTo>
                  <a:pt x="28888" y="20200"/>
                </a:lnTo>
                <a:lnTo>
                  <a:pt x="28888" y="1400"/>
                </a:lnTo>
                <a:close/>
              </a:path>
              <a:path fill="darkenLess" w="30288" h="21600">
                <a:moveTo>
                  <a:pt x="3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8" y="20200"/>
                </a:lnTo>
                <a:close/>
              </a:path>
              <a:path fill="lighten" w="3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8" h="21600">
                <a:moveTo>
                  <a:pt x="18643" y="10800"/>
                </a:moveTo>
                <a:lnTo>
                  <a:pt x="8137" y="17806"/>
                </a:lnTo>
                <a:lnTo>
                  <a:pt x="8137" y="3794"/>
                </a:lnTo>
                <a:close/>
              </a:path>
              <a:path fill="darken" w="30288" h="21600">
                <a:moveTo>
                  <a:pt x="20488" y="3794"/>
                </a:moveTo>
                <a:lnTo>
                  <a:pt x="20488" y="17806"/>
                </a:lnTo>
                <a:lnTo>
                  <a:pt x="22150" y="17806"/>
                </a:lnTo>
                <a:lnTo>
                  <a:pt x="22150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6976800" cy="21974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826920" y="3499560"/>
            <a:ext cx="71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析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先来判断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,b,c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三边哪条最长，可以代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,n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为满足条件的特殊值来试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=5,n=4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则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=9,b=40,c=41,c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最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39640" y="5013360"/>
            <a:ext cx="7607520" cy="5032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79280" y="45925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5589000"/>
            <a:ext cx="568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∴△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BC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是直角三角形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95280" y="0"/>
            <a:ext cx="3581280" cy="687240"/>
            <a:chOff x="395280" y="0"/>
            <a:chExt cx="3581280" cy="687240"/>
          </a:xfrm>
        </p:grpSpPr>
        <p:grpSp>
          <p:nvGrpSpPr>
            <p:cNvPr id="352" name=""/>
            <p:cNvGrpSpPr/>
            <p:nvPr/>
          </p:nvGrpSpPr>
          <p:grpSpPr>
            <a:xfrm>
              <a:off x="395280" y="0"/>
              <a:ext cx="2362320" cy="520200"/>
              <a:chOff x="395280" y="0"/>
              <a:chExt cx="2362320" cy="520200"/>
            </a:xfrm>
          </p:grpSpPr>
          <p:sp>
            <p:nvSpPr>
              <p:cNvPr id="353" name=""/>
              <p:cNvSpPr/>
              <p:nvPr/>
            </p:nvSpPr>
            <p:spPr>
              <a:xfrm>
                <a:off x="395280" y="4860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练一练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75560" y="0"/>
                <a:ext cx="183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55" name="" descr=""/>
            <p:cNvPicPr/>
            <p:nvPr/>
          </p:nvPicPr>
          <p:blipFill>
            <a:blip r:embed="rId4"/>
            <a:stretch/>
          </p:blipFill>
          <p:spPr>
            <a:xfrm>
              <a:off x="2757600" y="144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395280" y="15408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"/>
          <p:cNvSpPr/>
          <p:nvPr/>
        </p:nvSpPr>
        <p:spPr>
          <a:xfrm>
            <a:off x="8317080" y="5950080"/>
            <a:ext cx="502920" cy="3585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288" h="21600">
                <a:moveTo>
                  <a:pt x="0" y="0"/>
                </a:moveTo>
                <a:lnTo>
                  <a:pt x="30288" y="0"/>
                </a:lnTo>
                <a:lnTo>
                  <a:pt x="30288" y="21600"/>
                </a:lnTo>
                <a:lnTo>
                  <a:pt x="0" y="21600"/>
                </a:lnTo>
                <a:close/>
              </a:path>
              <a:path fill="lightenLess" w="30288" h="21600">
                <a:moveTo>
                  <a:pt x="0" y="0"/>
                </a:moveTo>
                <a:lnTo>
                  <a:pt x="30288" y="0"/>
                </a:lnTo>
                <a:lnTo>
                  <a:pt x="28888" y="1400"/>
                </a:lnTo>
                <a:lnTo>
                  <a:pt x="1400" y="1400"/>
                </a:lnTo>
                <a:close/>
              </a:path>
              <a:path fill="darken" w="30288" h="21600">
                <a:moveTo>
                  <a:pt x="30288" y="0"/>
                </a:moveTo>
                <a:lnTo>
                  <a:pt x="30288" y="21600"/>
                </a:lnTo>
                <a:lnTo>
                  <a:pt x="28888" y="20200"/>
                </a:lnTo>
                <a:lnTo>
                  <a:pt x="28888" y="1400"/>
                </a:lnTo>
                <a:close/>
              </a:path>
              <a:path fill="darkenLess" w="30288" h="21600">
                <a:moveTo>
                  <a:pt x="3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8" y="20200"/>
                </a:lnTo>
                <a:close/>
              </a:path>
              <a:path fill="lighten" w="3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8" h="21600">
                <a:moveTo>
                  <a:pt x="18643" y="10800"/>
                </a:moveTo>
                <a:lnTo>
                  <a:pt x="8137" y="17806"/>
                </a:lnTo>
                <a:lnTo>
                  <a:pt x="8137" y="3794"/>
                </a:lnTo>
                <a:close/>
              </a:path>
              <a:path fill="darken" w="30288" h="21600">
                <a:moveTo>
                  <a:pt x="20488" y="3794"/>
                </a:moveTo>
                <a:lnTo>
                  <a:pt x="20488" y="17806"/>
                </a:lnTo>
                <a:lnTo>
                  <a:pt x="22150" y="17806"/>
                </a:lnTo>
                <a:lnTo>
                  <a:pt x="22150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4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50920" y="1268280"/>
            <a:ext cx="8381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请你写出三组勾股数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一组勾股数的倍数一定是勾股数吗？为什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5148360" y="3645000"/>
            <a:ext cx="3733560" cy="2438280"/>
          </a:xfrm>
          <a:prstGeom prst="rect">
            <a:avLst/>
          </a:prstGeom>
          <a:ln w="0">
            <a:noFill/>
          </a:ln>
        </p:spPr>
      </p:pic>
      <p:grpSp>
        <p:nvGrpSpPr>
          <p:cNvPr id="360" name=""/>
          <p:cNvGrpSpPr/>
          <p:nvPr/>
        </p:nvGrpSpPr>
        <p:grpSpPr>
          <a:xfrm>
            <a:off x="623880" y="282600"/>
            <a:ext cx="3581280" cy="687240"/>
            <a:chOff x="623880" y="282600"/>
            <a:chExt cx="3581280" cy="687240"/>
          </a:xfrm>
        </p:grpSpPr>
        <p:grpSp>
          <p:nvGrpSpPr>
            <p:cNvPr id="361" name=""/>
            <p:cNvGrpSpPr/>
            <p:nvPr/>
          </p:nvGrpSpPr>
          <p:grpSpPr>
            <a:xfrm>
              <a:off x="623880" y="282600"/>
              <a:ext cx="2362320" cy="520200"/>
              <a:chOff x="623880" y="282600"/>
              <a:chExt cx="2362320" cy="520200"/>
            </a:xfrm>
          </p:grpSpPr>
          <p:sp>
            <p:nvSpPr>
              <p:cNvPr id="362" name=""/>
              <p:cNvSpPr/>
              <p:nvPr/>
            </p:nvSpPr>
            <p:spPr>
              <a:xfrm>
                <a:off x="623880" y="33120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挑战自我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504160" y="282600"/>
                <a:ext cx="183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64" name="" descr=""/>
            <p:cNvPicPr/>
            <p:nvPr/>
          </p:nvPicPr>
          <p:blipFill>
            <a:blip r:embed="rId3"/>
            <a:stretch/>
          </p:blipFill>
          <p:spPr>
            <a:xfrm>
              <a:off x="2986200" y="28404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623880" y="43668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"/>
          <p:cNvSpPr/>
          <p:nvPr/>
        </p:nvSpPr>
        <p:spPr>
          <a:xfrm>
            <a:off x="8317080" y="5950080"/>
            <a:ext cx="502920" cy="3585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288" h="21600">
                <a:moveTo>
                  <a:pt x="0" y="0"/>
                </a:moveTo>
                <a:lnTo>
                  <a:pt x="30288" y="0"/>
                </a:lnTo>
                <a:lnTo>
                  <a:pt x="30288" y="21600"/>
                </a:lnTo>
                <a:lnTo>
                  <a:pt x="0" y="21600"/>
                </a:lnTo>
                <a:close/>
              </a:path>
              <a:path fill="lightenLess" w="30288" h="21600">
                <a:moveTo>
                  <a:pt x="0" y="0"/>
                </a:moveTo>
                <a:lnTo>
                  <a:pt x="30288" y="0"/>
                </a:lnTo>
                <a:lnTo>
                  <a:pt x="28888" y="1400"/>
                </a:lnTo>
                <a:lnTo>
                  <a:pt x="1400" y="1400"/>
                </a:lnTo>
                <a:close/>
              </a:path>
              <a:path fill="darken" w="30288" h="21600">
                <a:moveTo>
                  <a:pt x="30288" y="0"/>
                </a:moveTo>
                <a:lnTo>
                  <a:pt x="30288" y="21600"/>
                </a:lnTo>
                <a:lnTo>
                  <a:pt x="28888" y="20200"/>
                </a:lnTo>
                <a:lnTo>
                  <a:pt x="28888" y="1400"/>
                </a:lnTo>
                <a:close/>
              </a:path>
              <a:path fill="darkenLess" w="30288" h="21600">
                <a:moveTo>
                  <a:pt x="3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8" y="20200"/>
                </a:lnTo>
                <a:close/>
              </a:path>
              <a:path fill="lighten" w="3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8" h="21600">
                <a:moveTo>
                  <a:pt x="18643" y="10800"/>
                </a:moveTo>
                <a:lnTo>
                  <a:pt x="8137" y="17806"/>
                </a:lnTo>
                <a:lnTo>
                  <a:pt x="8137" y="3794"/>
                </a:lnTo>
                <a:close/>
              </a:path>
              <a:path fill="darken" w="30288" h="21600">
                <a:moveTo>
                  <a:pt x="20488" y="3794"/>
                </a:moveTo>
                <a:lnTo>
                  <a:pt x="20488" y="17806"/>
                </a:lnTo>
                <a:lnTo>
                  <a:pt x="22150" y="17806"/>
                </a:lnTo>
                <a:lnTo>
                  <a:pt x="22150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74328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4000" y="83808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已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三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  满足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338=10a+24b+26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试判断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形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39640" y="0"/>
            <a:ext cx="3581280" cy="687240"/>
            <a:chOff x="539640" y="0"/>
            <a:chExt cx="3581280" cy="687240"/>
          </a:xfrm>
        </p:grpSpPr>
        <p:grpSp>
          <p:nvGrpSpPr>
            <p:cNvPr id="370" name=""/>
            <p:cNvGrpSpPr/>
            <p:nvPr/>
          </p:nvGrpSpPr>
          <p:grpSpPr>
            <a:xfrm>
              <a:off x="539640" y="0"/>
              <a:ext cx="2362320" cy="520200"/>
              <a:chOff x="539640" y="0"/>
              <a:chExt cx="2362320" cy="520200"/>
            </a:xfrm>
          </p:grpSpPr>
          <p:sp>
            <p:nvSpPr>
              <p:cNvPr id="371" name=""/>
              <p:cNvSpPr/>
              <p:nvPr/>
            </p:nvSpPr>
            <p:spPr>
              <a:xfrm>
                <a:off x="539640" y="4860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思维训练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419920" y="0"/>
                <a:ext cx="183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3" name="" descr=""/>
            <p:cNvPicPr/>
            <p:nvPr/>
          </p:nvPicPr>
          <p:blipFill>
            <a:blip r:embed="rId2"/>
            <a:stretch/>
          </p:blipFill>
          <p:spPr>
            <a:xfrm>
              <a:off x="2901960" y="144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539640" y="15408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"/>
          <p:cNvSpPr/>
          <p:nvPr/>
        </p:nvSpPr>
        <p:spPr>
          <a:xfrm>
            <a:off x="8317080" y="5950080"/>
            <a:ext cx="502920" cy="3585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288" h="21600">
                <a:moveTo>
                  <a:pt x="0" y="0"/>
                </a:moveTo>
                <a:lnTo>
                  <a:pt x="30288" y="0"/>
                </a:lnTo>
                <a:lnTo>
                  <a:pt x="30288" y="21600"/>
                </a:lnTo>
                <a:lnTo>
                  <a:pt x="0" y="21600"/>
                </a:lnTo>
                <a:close/>
              </a:path>
              <a:path fill="lightenLess" w="30288" h="21600">
                <a:moveTo>
                  <a:pt x="0" y="0"/>
                </a:moveTo>
                <a:lnTo>
                  <a:pt x="30288" y="0"/>
                </a:lnTo>
                <a:lnTo>
                  <a:pt x="28888" y="1400"/>
                </a:lnTo>
                <a:lnTo>
                  <a:pt x="1400" y="1400"/>
                </a:lnTo>
                <a:close/>
              </a:path>
              <a:path fill="darken" w="30288" h="21600">
                <a:moveTo>
                  <a:pt x="30288" y="0"/>
                </a:moveTo>
                <a:lnTo>
                  <a:pt x="30288" y="21600"/>
                </a:lnTo>
                <a:lnTo>
                  <a:pt x="28888" y="20200"/>
                </a:lnTo>
                <a:lnTo>
                  <a:pt x="28888" y="1400"/>
                </a:lnTo>
                <a:close/>
              </a:path>
              <a:path fill="darkenLess" w="30288" h="21600">
                <a:moveTo>
                  <a:pt x="3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8" y="20200"/>
                </a:lnTo>
                <a:close/>
              </a:path>
              <a:path fill="lighten" w="3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8" h="21600">
                <a:moveTo>
                  <a:pt x="18643" y="10800"/>
                </a:moveTo>
                <a:lnTo>
                  <a:pt x="8137" y="17806"/>
                </a:lnTo>
                <a:lnTo>
                  <a:pt x="8137" y="3794"/>
                </a:lnTo>
                <a:close/>
              </a:path>
              <a:path fill="darken" w="30288" h="21600">
                <a:moveTo>
                  <a:pt x="20488" y="3794"/>
                </a:moveTo>
                <a:lnTo>
                  <a:pt x="20488" y="17806"/>
                </a:lnTo>
                <a:lnTo>
                  <a:pt x="22150" y="17806"/>
                </a:lnTo>
                <a:lnTo>
                  <a:pt x="22150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24000" y="846000"/>
            <a:ext cx="655344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b,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边向外作正方形，正三角形，以三边为直径作半圆，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S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S</a:t>
            </a:r>
            <a:r>
              <a:rPr b="1" lang="zh-CN" sz="3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成立，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93000" y="2204640"/>
            <a:ext cx="302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直角三角形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5508720" y="3284640"/>
            <a:ext cx="2771640" cy="28083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551560" y="4716360"/>
            <a:ext cx="6919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29360" y="3527280"/>
            <a:ext cx="6922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64480" y="4167360"/>
            <a:ext cx="69192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56280" y="4173480"/>
            <a:ext cx="692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634080" y="4498920"/>
            <a:ext cx="6922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139160" y="3683160"/>
            <a:ext cx="691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38680" y="3962520"/>
            <a:ext cx="6922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19760" y="5105520"/>
            <a:ext cx="6922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2111400" y="2743200"/>
            <a:ext cx="3170160" cy="34560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8077320" y="464832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50960" y="4476600"/>
            <a:ext cx="7826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40240" y="444672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57400" y="359244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11440" y="410544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06720" y="411156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00480" y="428940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84480" y="349884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86160" y="3911760"/>
            <a:ext cx="7808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63920" y="5118120"/>
            <a:ext cx="7812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39640" y="0"/>
            <a:ext cx="3581280" cy="687240"/>
            <a:chOff x="539640" y="0"/>
            <a:chExt cx="3581280" cy="687240"/>
          </a:xfrm>
        </p:grpSpPr>
        <p:grpSp>
          <p:nvGrpSpPr>
            <p:cNvPr id="399" name=""/>
            <p:cNvGrpSpPr/>
            <p:nvPr/>
          </p:nvGrpSpPr>
          <p:grpSpPr>
            <a:xfrm>
              <a:off x="539640" y="0"/>
              <a:ext cx="2362320" cy="520200"/>
              <a:chOff x="539640" y="0"/>
              <a:chExt cx="2362320" cy="520200"/>
            </a:xfrm>
          </p:grpSpPr>
          <p:sp>
            <p:nvSpPr>
              <p:cNvPr id="400" name=""/>
              <p:cNvSpPr/>
              <p:nvPr/>
            </p:nvSpPr>
            <p:spPr>
              <a:xfrm>
                <a:off x="539640" y="4860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思维训练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419920" y="0"/>
                <a:ext cx="183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02" name="" descr=""/>
            <p:cNvPicPr/>
            <p:nvPr/>
          </p:nvPicPr>
          <p:blipFill>
            <a:blip r:embed="rId4"/>
            <a:stretch/>
          </p:blipFill>
          <p:spPr>
            <a:xfrm>
              <a:off x="2901960" y="144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539640" y="15408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"/>
          <p:cNvSpPr/>
          <p:nvPr/>
        </p:nvSpPr>
        <p:spPr>
          <a:xfrm>
            <a:off x="8317080" y="5950080"/>
            <a:ext cx="502920" cy="3585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288" h="21600">
                <a:moveTo>
                  <a:pt x="0" y="0"/>
                </a:moveTo>
                <a:lnTo>
                  <a:pt x="30288" y="0"/>
                </a:lnTo>
                <a:lnTo>
                  <a:pt x="30288" y="21600"/>
                </a:lnTo>
                <a:lnTo>
                  <a:pt x="0" y="21600"/>
                </a:lnTo>
                <a:close/>
              </a:path>
              <a:path fill="lightenLess" w="30288" h="21600">
                <a:moveTo>
                  <a:pt x="0" y="0"/>
                </a:moveTo>
                <a:lnTo>
                  <a:pt x="30288" y="0"/>
                </a:lnTo>
                <a:lnTo>
                  <a:pt x="28888" y="1400"/>
                </a:lnTo>
                <a:lnTo>
                  <a:pt x="1400" y="1400"/>
                </a:lnTo>
                <a:close/>
              </a:path>
              <a:path fill="darken" w="30288" h="21600">
                <a:moveTo>
                  <a:pt x="30288" y="0"/>
                </a:moveTo>
                <a:lnTo>
                  <a:pt x="30288" y="21600"/>
                </a:lnTo>
                <a:lnTo>
                  <a:pt x="28888" y="20200"/>
                </a:lnTo>
                <a:lnTo>
                  <a:pt x="28888" y="1400"/>
                </a:lnTo>
                <a:close/>
              </a:path>
              <a:path fill="darkenLess" w="30288" h="21600">
                <a:moveTo>
                  <a:pt x="3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8" y="20200"/>
                </a:lnTo>
                <a:close/>
              </a:path>
              <a:path fill="lighten" w="3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8" h="21600">
                <a:moveTo>
                  <a:pt x="18643" y="10800"/>
                </a:moveTo>
                <a:lnTo>
                  <a:pt x="8137" y="17806"/>
                </a:lnTo>
                <a:lnTo>
                  <a:pt x="8137" y="3794"/>
                </a:lnTo>
                <a:close/>
              </a:path>
              <a:path fill="darken" w="30288" h="21600">
                <a:moveTo>
                  <a:pt x="20488" y="3794"/>
                </a:moveTo>
                <a:lnTo>
                  <a:pt x="20488" y="17806"/>
                </a:lnTo>
                <a:lnTo>
                  <a:pt x="22150" y="17806"/>
                </a:lnTo>
                <a:lnTo>
                  <a:pt x="22150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1655640" cy="156996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410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自主评价：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440" y="1989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勾股定理的逆定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6360" y="2781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什么叫做互逆命题、原命题与逆命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2720" y="37242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什么称为互为逆定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17080" y="5950080"/>
            <a:ext cx="502920" cy="3585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288" h="21600">
                <a:moveTo>
                  <a:pt x="0" y="0"/>
                </a:moveTo>
                <a:lnTo>
                  <a:pt x="30288" y="0"/>
                </a:lnTo>
                <a:lnTo>
                  <a:pt x="30288" y="21600"/>
                </a:lnTo>
                <a:lnTo>
                  <a:pt x="0" y="21600"/>
                </a:lnTo>
                <a:close/>
              </a:path>
              <a:path fill="lightenLess" w="30288" h="21600">
                <a:moveTo>
                  <a:pt x="0" y="0"/>
                </a:moveTo>
                <a:lnTo>
                  <a:pt x="30288" y="0"/>
                </a:lnTo>
                <a:lnTo>
                  <a:pt x="28888" y="1400"/>
                </a:lnTo>
                <a:lnTo>
                  <a:pt x="1400" y="1400"/>
                </a:lnTo>
                <a:close/>
              </a:path>
              <a:path fill="darken" w="30288" h="21600">
                <a:moveTo>
                  <a:pt x="30288" y="0"/>
                </a:moveTo>
                <a:lnTo>
                  <a:pt x="30288" y="21600"/>
                </a:lnTo>
                <a:lnTo>
                  <a:pt x="28888" y="20200"/>
                </a:lnTo>
                <a:lnTo>
                  <a:pt x="28888" y="1400"/>
                </a:lnTo>
                <a:close/>
              </a:path>
              <a:path fill="darkenLess" w="30288" h="21600">
                <a:moveTo>
                  <a:pt x="3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8" y="20200"/>
                </a:lnTo>
                <a:close/>
              </a:path>
              <a:path fill="lighten" w="3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8" h="21600">
                <a:moveTo>
                  <a:pt x="18643" y="10800"/>
                </a:moveTo>
                <a:lnTo>
                  <a:pt x="8137" y="17806"/>
                </a:lnTo>
                <a:lnTo>
                  <a:pt x="8137" y="3794"/>
                </a:lnTo>
                <a:close/>
              </a:path>
              <a:path fill="darken" w="30288" h="21600">
                <a:moveTo>
                  <a:pt x="20488" y="3794"/>
                </a:moveTo>
                <a:lnTo>
                  <a:pt x="20488" y="17806"/>
                </a:lnTo>
                <a:lnTo>
                  <a:pt x="22150" y="17806"/>
                </a:lnTo>
                <a:lnTo>
                  <a:pt x="22150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76360" y="4437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古埃及人曾用下面的方法得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835280" y="692280"/>
            <a:ext cx="2238120" cy="2747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rcRect l="67437" t="32545" r="22079" b="51191"/>
          <a:stretch/>
        </p:blipFill>
        <p:spPr>
          <a:xfrm>
            <a:off x="5867280" y="836640"/>
            <a:ext cx="1828800" cy="2624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0" y="5257800"/>
            <a:ext cx="7696080" cy="10825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8166240" y="4038480"/>
            <a:ext cx="977760" cy="15336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7262640" y="5257800"/>
            <a:ext cx="1881360" cy="13431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755640" y="1700280"/>
            <a:ext cx="68407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作业：</a:t>
            </a:r>
            <a:r>
              <a:rPr b="1" lang="zh-CN" sz="4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4</a:t>
            </a:r>
            <a:r>
              <a:rPr b="1" lang="zh-CN" sz="4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页，</a:t>
            </a:r>
            <a:br>
              <a:rPr sz="4600"/>
            </a:br>
            <a:r>
              <a:rPr b="1" lang="zh-CN" sz="4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习题</a:t>
            </a:r>
            <a:r>
              <a:rPr b="1" lang="zh-CN" sz="4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7.2</a:t>
            </a:r>
            <a:r>
              <a:rPr b="1" lang="zh-CN" sz="4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</a:t>
            </a:r>
            <a:r>
              <a:rPr b="1" lang="zh-CN" sz="4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4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题、第</a:t>
            </a:r>
            <a:r>
              <a:rPr b="1" lang="zh-CN" sz="4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4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题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4724280" cy="685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勾股定理的逆命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6854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三角形的较长边的平方等于其它两条较短边的平方和，那么这个三角形是直角三角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1447920" y="3581280"/>
            <a:ext cx="1681200" cy="266724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6934320" y="5638680"/>
            <a:ext cx="152280" cy="228240"/>
            <a:chOff x="6934320" y="5638680"/>
            <a:chExt cx="152280" cy="228240"/>
          </a:xfrm>
        </p:grpSpPr>
        <p:sp>
          <p:nvSpPr>
            <p:cNvPr id="419" name=""/>
            <p:cNvSpPr/>
            <p:nvPr/>
          </p:nvSpPr>
          <p:spPr>
            <a:xfrm>
              <a:off x="6934320" y="56386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34320" y="563868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762120" y="1600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已知：在△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中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B=c  BC=a  CA=b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且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+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c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133720"/>
            <a:ext cx="5029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求证：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△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是直角三角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2590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证明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画一个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’B’C’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使∠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’=9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,B’C’=a,  C’A’=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867280" y="58672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86600" y="3733920"/>
            <a:ext cx="0" cy="21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5866920" y="3733920"/>
            <a:ext cx="1219320" cy="213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6705720" y="5867280"/>
            <a:ext cx="152280" cy="228600"/>
            <a:chOff x="6705720" y="5867280"/>
            <a:chExt cx="152280" cy="228600"/>
          </a:xfrm>
        </p:grpSpPr>
        <p:sp>
          <p:nvSpPr>
            <p:cNvPr id="428" name=""/>
            <p:cNvSpPr/>
            <p:nvPr/>
          </p:nvSpPr>
          <p:spPr>
            <a:xfrm>
              <a:off x="6705720" y="5867280"/>
              <a:ext cx="152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05720" y="5867280"/>
              <a:ext cx="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624852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238880" y="4800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34320" y="3429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10080" y="5715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62920" y="5638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2895480" y="2209680"/>
            <a:ext cx="2971800" cy="109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523880" y="1600200"/>
            <a:ext cx="6172200" cy="236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请谈谈你的收获</a:t>
            </a:r>
            <a:endParaRPr b="0" lang="en-US" sz="24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8" name=""/>
          <p:cNvSpPr/>
          <p:nvPr/>
        </p:nvSpPr>
        <p:spPr>
          <a:xfrm>
            <a:off x="8317080" y="5950080"/>
            <a:ext cx="502920" cy="3585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288" h="21600">
                <a:moveTo>
                  <a:pt x="0" y="0"/>
                </a:moveTo>
                <a:lnTo>
                  <a:pt x="30288" y="0"/>
                </a:lnTo>
                <a:lnTo>
                  <a:pt x="30288" y="21600"/>
                </a:lnTo>
                <a:lnTo>
                  <a:pt x="0" y="21600"/>
                </a:lnTo>
                <a:close/>
              </a:path>
              <a:path fill="lightenLess" w="30288" h="21600">
                <a:moveTo>
                  <a:pt x="0" y="0"/>
                </a:moveTo>
                <a:lnTo>
                  <a:pt x="30288" y="0"/>
                </a:lnTo>
                <a:lnTo>
                  <a:pt x="28888" y="1400"/>
                </a:lnTo>
                <a:lnTo>
                  <a:pt x="1400" y="1400"/>
                </a:lnTo>
                <a:close/>
              </a:path>
              <a:path fill="darken" w="30288" h="21600">
                <a:moveTo>
                  <a:pt x="30288" y="0"/>
                </a:moveTo>
                <a:lnTo>
                  <a:pt x="30288" y="21600"/>
                </a:lnTo>
                <a:lnTo>
                  <a:pt x="28888" y="20200"/>
                </a:lnTo>
                <a:lnTo>
                  <a:pt x="28888" y="1400"/>
                </a:lnTo>
                <a:close/>
              </a:path>
              <a:path fill="darkenLess" w="30288" h="21600">
                <a:moveTo>
                  <a:pt x="3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8" y="20200"/>
                </a:lnTo>
                <a:close/>
              </a:path>
              <a:path fill="lighten" w="3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8" h="21600">
                <a:moveTo>
                  <a:pt x="18643" y="10800"/>
                </a:moveTo>
                <a:lnTo>
                  <a:pt x="8137" y="17806"/>
                </a:lnTo>
                <a:lnTo>
                  <a:pt x="8137" y="3794"/>
                </a:lnTo>
                <a:close/>
              </a:path>
              <a:path fill="darken" w="30288" h="21600">
                <a:moveTo>
                  <a:pt x="20488" y="3794"/>
                </a:moveTo>
                <a:lnTo>
                  <a:pt x="20488" y="17806"/>
                </a:lnTo>
                <a:lnTo>
                  <a:pt x="22150" y="17806"/>
                </a:lnTo>
                <a:lnTo>
                  <a:pt x="22150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6021360" y="2892600"/>
            <a:ext cx="2438280" cy="1828800"/>
            <a:chOff x="6021360" y="2892600"/>
            <a:chExt cx="2438280" cy="1828800"/>
          </a:xfrm>
        </p:grpSpPr>
        <p:sp>
          <p:nvSpPr>
            <p:cNvPr id="115" name=""/>
            <p:cNvSpPr/>
            <p:nvPr/>
          </p:nvSpPr>
          <p:spPr>
            <a:xfrm>
              <a:off x="6021360" y="2892600"/>
              <a:ext cx="2438280" cy="182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9440" y="3502080"/>
              <a:ext cx="101880" cy="1414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78560" y="31975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6640" y="3821400"/>
              <a:ext cx="10188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50160" y="420228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959440" y="4656240"/>
            <a:ext cx="2500200" cy="141120"/>
            <a:chOff x="5959440" y="4656240"/>
            <a:chExt cx="2500200" cy="141120"/>
          </a:xfrm>
        </p:grpSpPr>
        <p:sp>
          <p:nvSpPr>
            <p:cNvPr id="121" name=""/>
            <p:cNvSpPr/>
            <p:nvPr/>
          </p:nvSpPr>
          <p:spPr>
            <a:xfrm>
              <a:off x="5959440" y="4721400"/>
              <a:ext cx="243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34240" y="465624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38800" y="4656240"/>
              <a:ext cx="10188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07000" y="4656240"/>
              <a:ext cx="10188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58120" y="4656240"/>
              <a:ext cx="101520" cy="141120"/>
            </a:xfrm>
            <a:prstGeom prst="flowChartConnector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62120" y="1523880"/>
            <a:ext cx="739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62120" y="1447920"/>
            <a:ext cx="7470720" cy="150840"/>
            <a:chOff x="762120" y="1447920"/>
            <a:chExt cx="7470720" cy="150840"/>
          </a:xfrm>
        </p:grpSpPr>
        <p:sp>
          <p:nvSpPr>
            <p:cNvPr id="128" name=""/>
            <p:cNvSpPr/>
            <p:nvPr/>
          </p:nvSpPr>
          <p:spPr>
            <a:xfrm>
              <a:off x="762120" y="1457280"/>
              <a:ext cx="101520" cy="1414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3132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16800" y="1447920"/>
              <a:ext cx="10188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264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88120" y="1447920"/>
              <a:ext cx="1033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73960" y="1447920"/>
              <a:ext cx="10296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61240" y="1457280"/>
              <a:ext cx="101520" cy="1414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4672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32200" y="1447920"/>
              <a:ext cx="10188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18040" y="1447920"/>
              <a:ext cx="10296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03520" y="1447920"/>
              <a:ext cx="1033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9080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7664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90920" y="1447920"/>
            <a:ext cx="101520" cy="141120"/>
          </a:xfrm>
          <a:prstGeom prst="flowChartConnector">
            <a:avLst/>
          </a:pr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51520" y="1461960"/>
            <a:ext cx="101520" cy="1414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2120" y="1447920"/>
            <a:ext cx="7467480" cy="155520"/>
            <a:chOff x="762120" y="1447920"/>
            <a:chExt cx="7467480" cy="155520"/>
          </a:xfrm>
        </p:grpSpPr>
        <p:sp>
          <p:nvSpPr>
            <p:cNvPr id="144" name=""/>
            <p:cNvSpPr/>
            <p:nvPr/>
          </p:nvSpPr>
          <p:spPr>
            <a:xfrm>
              <a:off x="762120" y="1462320"/>
              <a:ext cx="101520" cy="1411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28080" y="1447920"/>
              <a:ext cx="101520" cy="1411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 rot="5400000">
            <a:off x="5943960" y="2816640"/>
            <a:ext cx="101520" cy="1414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908680" y="2938320"/>
            <a:ext cx="151920" cy="1854000"/>
            <a:chOff x="5908680" y="2938320"/>
            <a:chExt cx="151920" cy="1854000"/>
          </a:xfrm>
        </p:grpSpPr>
        <p:sp>
          <p:nvSpPr>
            <p:cNvPr id="148" name=""/>
            <p:cNvSpPr/>
            <p:nvPr/>
          </p:nvSpPr>
          <p:spPr>
            <a:xfrm>
              <a:off x="5988600" y="2938320"/>
              <a:ext cx="0" cy="183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5936760" y="3454200"/>
              <a:ext cx="101880" cy="14544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5930640" y="4079880"/>
              <a:ext cx="101520" cy="14544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5930640" y="4668840"/>
              <a:ext cx="101520" cy="145440"/>
            </a:xfrm>
            <a:prstGeom prst="flowChartConnector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2" name=""/>
          <p:cNvCxnSpPr/>
          <p:nvPr/>
        </p:nvCxnSpPr>
        <p:spPr>
          <a:xfrm flipH="1" rot="16200000">
            <a:off x="5873400" y="4453920"/>
            <a:ext cx="381960" cy="1533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2117880" y="50450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16360" y="522936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宋体"/>
              </a:rPr>
              <a:t>按照这种做法真能得到一个</a:t>
            </a:r>
            <a:r>
              <a:rPr b="1" i="1" lang="zh-CN" sz="3200" spc="-1" strike="noStrike">
                <a:solidFill>
                  <a:srgbClr val="ff0000"/>
                </a:solidFill>
                <a:latin typeface="宋体"/>
              </a:rPr>
              <a:t>直角三角形</a:t>
            </a:r>
            <a:r>
              <a:rPr b="1" i="1" lang="zh-CN" sz="3200" spc="-1" strike="noStrike">
                <a:solidFill>
                  <a:srgbClr val="3333cc"/>
                </a:solidFill>
                <a:latin typeface="宋体"/>
              </a:rPr>
              <a:t>吗？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4762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古埃及人曾用下面的方法得到直角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2205000"/>
            <a:ext cx="484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等距的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一根绳子分成等长的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然后以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结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结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结的长度为边长，用木桩钉成一个三角形，其中一个角便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直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2065320" cy="18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面的三组数分别是一个三角形的三边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281952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295280" y="3710160"/>
            <a:ext cx="7010280" cy="1290600"/>
            <a:chOff x="1295280" y="3710160"/>
            <a:chExt cx="7010280" cy="1290600"/>
          </a:xfrm>
        </p:grpSpPr>
        <p:sp>
          <p:nvSpPr>
            <p:cNvPr id="161" name=""/>
            <p:cNvSpPr/>
            <p:nvPr/>
          </p:nvSpPr>
          <p:spPr>
            <a:xfrm>
              <a:off x="1295280" y="37861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）这三组数都满足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5257800" y="3786120"/>
                  <a:ext cx="1968480" cy="48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3" name=""/>
            <p:cNvSpPr/>
            <p:nvPr/>
          </p:nvSpPr>
          <p:spPr>
            <a:xfrm>
              <a:off x="7162560" y="371016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吗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5280" y="4419360"/>
              <a:ext cx="7010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</a:rPr>
                <a:t>）它们都是直角三角形吗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600200" y="151920"/>
            <a:ext cx="352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黑体"/>
              </a:rPr>
              <a:t>动手画一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8920" y="475920"/>
            <a:ext cx="5877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勾股定理的逆命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79280" y="4941720"/>
            <a:ext cx="8972280" cy="1422720"/>
            <a:chOff x="179280" y="4941720"/>
            <a:chExt cx="8972280" cy="1422720"/>
          </a:xfrm>
        </p:grpSpPr>
        <p:sp>
          <p:nvSpPr>
            <p:cNvPr id="169" name=""/>
            <p:cNvSpPr/>
            <p:nvPr/>
          </p:nvSpPr>
          <p:spPr>
            <a:xfrm>
              <a:off x="179280" y="4941720"/>
              <a:ext cx="8972280" cy="752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Times New Roman"/>
                </a:rPr>
                <a:t>   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如果直角三角形两直角边分别为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斜边为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那么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12240" y="5661000"/>
              <a:ext cx="349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宋体"/>
                </a:rPr>
                <a:t>a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</a:rPr>
                <a:t>2 </a:t>
              </a:r>
              <a:r>
                <a:rPr b="1" lang="en-US" sz="4000" spc="-1" strike="noStrike">
                  <a:solidFill>
                    <a:srgbClr val="0000ff"/>
                  </a:solidFill>
                  <a:latin typeface="宋体"/>
                </a:rPr>
                <a:t>+ b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</a:rPr>
                <a:t>2 </a:t>
              </a:r>
              <a:r>
                <a:rPr b="1" lang="en-US" sz="4000" spc="-1" strike="noStrike">
                  <a:solidFill>
                    <a:srgbClr val="0000ff"/>
                  </a:solidFill>
                  <a:latin typeface="宋体"/>
                </a:rPr>
                <a:t>= c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11280" y="4005360"/>
            <a:ext cx="2743200" cy="609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勾股定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31640" y="1270080"/>
            <a:ext cx="8604360" cy="2191320"/>
            <a:chOff x="431640" y="1270080"/>
            <a:chExt cx="8604360" cy="2191320"/>
          </a:xfrm>
        </p:grpSpPr>
        <p:sp>
          <p:nvSpPr>
            <p:cNvPr id="173" name=""/>
            <p:cNvSpPr/>
            <p:nvPr/>
          </p:nvSpPr>
          <p:spPr>
            <a:xfrm>
              <a:off x="431640" y="1270080"/>
              <a:ext cx="8604360" cy="2191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Times New Roman"/>
                </a:rPr>
                <a:t>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如果三角形的三边长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满足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那么这个三角形是直角三角形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30560" y="2125800"/>
              <a:ext cx="3457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ff"/>
                  </a:solidFill>
                  <a:latin typeface="宋体"/>
                </a:rPr>
                <a:t>a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</a:rPr>
                <a:t>2 </a:t>
              </a:r>
              <a:r>
                <a:rPr b="1" lang="en-US" sz="4600" spc="-1" strike="noStrike">
                  <a:solidFill>
                    <a:srgbClr val="0000ff"/>
                  </a:solidFill>
                  <a:latin typeface="宋体"/>
                </a:rPr>
                <a:t>+ b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</a:rPr>
                <a:t>2 </a:t>
              </a:r>
              <a:r>
                <a:rPr b="1" lang="en-US" sz="4600" spc="-1" strike="noStrike">
                  <a:solidFill>
                    <a:srgbClr val="0000ff"/>
                  </a:solidFill>
                  <a:latin typeface="宋体"/>
                </a:rPr>
                <a:t>= c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</a:rPr>
                <a:t>2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211640" y="3645000"/>
            <a:ext cx="792000" cy="1224000"/>
          </a:xfrm>
          <a:prstGeom prst="upDownArrow">
            <a:avLst>
              <a:gd name="adj1" fmla="val 50000"/>
              <a:gd name="adj2" fmla="val 307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40053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互逆命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1403280" cy="1197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52480" y="3581280"/>
            <a:ext cx="2286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∵ 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’=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4114800"/>
            <a:ext cx="2438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’B’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4572000"/>
            <a:ext cx="2362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5105520"/>
            <a:ext cx="2210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’B’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6019920"/>
            <a:ext cx="2438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’B’ 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5529240"/>
            <a:ext cx="2590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∵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长取正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41911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 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 ≌△ A’B’C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45720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 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= ∠ C’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等三角形对应角相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1480" y="5334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= 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181480" y="2590920"/>
            <a:ext cx="3352680" cy="1572120"/>
            <a:chOff x="5181480" y="2590920"/>
            <a:chExt cx="3352680" cy="1572120"/>
          </a:xfrm>
        </p:grpSpPr>
        <p:sp>
          <p:nvSpPr>
            <p:cNvPr id="188" name=""/>
            <p:cNvSpPr/>
            <p:nvPr/>
          </p:nvSpPr>
          <p:spPr>
            <a:xfrm>
              <a:off x="5415120" y="2590920"/>
              <a:ext cx="311904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C=a=B’C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A=b=C’A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B=c=A’B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81480" y="2755080"/>
              <a:ext cx="155520" cy="1069200"/>
            </a:xfrm>
            <a:custGeom>
              <a:avLst/>
              <a:gdLst>
                <a:gd name="textAreaLeft" fmla="*/ 99360 w 155520"/>
                <a:gd name="textAreaRight" fmla="*/ 155520 w 155520"/>
                <a:gd name="textAreaTop" fmla="*/ 27720 h 1069200"/>
                <a:gd name="textAreaBottom" fmla="*/ 1041480 h 106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219320" y="1828800"/>
            <a:ext cx="96048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3123360" y="1905120"/>
            <a:ext cx="978120" cy="1452960"/>
            <a:chOff x="3123360" y="1905120"/>
            <a:chExt cx="978120" cy="1452960"/>
          </a:xfrm>
        </p:grpSpPr>
        <p:sp>
          <p:nvSpPr>
            <p:cNvPr id="192" name=""/>
            <p:cNvSpPr/>
            <p:nvPr/>
          </p:nvSpPr>
          <p:spPr>
            <a:xfrm flipH="1">
              <a:off x="3247920" y="2060640"/>
              <a:ext cx="711360" cy="1179720"/>
            </a:xfrm>
            <a:prstGeom prst="line">
              <a:avLst/>
            </a:prstGeom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247920" y="3240360"/>
              <a:ext cx="711360" cy="1440"/>
            </a:xfrm>
            <a:prstGeom prst="line">
              <a:avLst/>
            </a:prstGeom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76600" y="324828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59280" y="2060640"/>
              <a:ext cx="1440" cy="1179720"/>
            </a:xfrm>
            <a:prstGeom prst="line">
              <a:avLst/>
            </a:prstGeom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20840" y="258624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30280" y="3222720"/>
              <a:ext cx="44640" cy="42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23360" y="3240360"/>
              <a:ext cx="892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41640" y="3222720"/>
              <a:ext cx="44280" cy="42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02840" y="3240360"/>
              <a:ext cx="936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41640" y="2043360"/>
              <a:ext cx="44280" cy="42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12200" y="1905120"/>
              <a:ext cx="892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'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3859200" y="3098880"/>
              <a:ext cx="75960" cy="152280"/>
              <a:chOff x="3859200" y="3098880"/>
              <a:chExt cx="75960" cy="152280"/>
            </a:xfrm>
          </p:grpSpPr>
          <p:sp>
            <p:nvSpPr>
              <p:cNvPr id="204" name=""/>
              <p:cNvSpPr/>
              <p:nvPr/>
            </p:nvSpPr>
            <p:spPr>
              <a:xfrm>
                <a:off x="3859200" y="309888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859200" y="309888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611280" y="62064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已知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中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B=c  BC=a  CA=b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且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b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c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1052640"/>
            <a:ext cx="4267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求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△ AB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是直角三角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141300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证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画一个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’B’C’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使∠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’=9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,B’C’=a,  C’A’=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81480" y="2133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’B’C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05520" y="5791320"/>
            <a:ext cx="3504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 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直角三角形（直角三角形的定义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0"/>
            <a:ext cx="4724280" cy="685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勾股定理的逆命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5877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勾股定理的逆命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79280" y="4941720"/>
            <a:ext cx="8972280" cy="1422720"/>
            <a:chOff x="179280" y="4941720"/>
            <a:chExt cx="8972280" cy="1422720"/>
          </a:xfrm>
        </p:grpSpPr>
        <p:sp>
          <p:nvSpPr>
            <p:cNvPr id="214" name=""/>
            <p:cNvSpPr/>
            <p:nvPr/>
          </p:nvSpPr>
          <p:spPr>
            <a:xfrm>
              <a:off x="179280" y="4941720"/>
              <a:ext cx="8972280" cy="752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Times New Roman"/>
                </a:rPr>
                <a:t>   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如果直角三角形两直角边分别为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斜边为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那么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12240" y="5661000"/>
              <a:ext cx="349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宋体"/>
                </a:rPr>
                <a:t>a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</a:rPr>
                <a:t>2 </a:t>
              </a:r>
              <a:r>
                <a:rPr b="1" lang="en-US" sz="4000" spc="-1" strike="noStrike">
                  <a:solidFill>
                    <a:srgbClr val="0000ff"/>
                  </a:solidFill>
                  <a:latin typeface="宋体"/>
                </a:rPr>
                <a:t>+ b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</a:rPr>
                <a:t>2 </a:t>
              </a:r>
              <a:r>
                <a:rPr b="1" lang="en-US" sz="4000" spc="-1" strike="noStrike">
                  <a:solidFill>
                    <a:srgbClr val="0000ff"/>
                  </a:solidFill>
                  <a:latin typeface="宋体"/>
                </a:rPr>
                <a:t>= c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24000" y="4005360"/>
            <a:ext cx="2743200" cy="6094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勾股定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39640" y="762120"/>
            <a:ext cx="8604360" cy="2191320"/>
            <a:chOff x="539640" y="762120"/>
            <a:chExt cx="8604360" cy="2191320"/>
          </a:xfrm>
        </p:grpSpPr>
        <p:sp>
          <p:nvSpPr>
            <p:cNvPr id="218" name=""/>
            <p:cNvSpPr/>
            <p:nvPr/>
          </p:nvSpPr>
          <p:spPr>
            <a:xfrm>
              <a:off x="539640" y="762120"/>
              <a:ext cx="8604360" cy="2191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Times New Roman"/>
                </a:rPr>
                <a:t>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如果三角形的三边长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满足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那么这个三角形是直角三角形。且边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年所对的角为直角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38560" y="1617480"/>
              <a:ext cx="3457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ff"/>
                  </a:solidFill>
                  <a:latin typeface="宋体"/>
                </a:rPr>
                <a:t>a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</a:rPr>
                <a:t>2 </a:t>
              </a:r>
              <a:r>
                <a:rPr b="1" lang="en-US" sz="4600" spc="-1" strike="noStrike">
                  <a:solidFill>
                    <a:srgbClr val="0000ff"/>
                  </a:solidFill>
                  <a:latin typeface="宋体"/>
                </a:rPr>
                <a:t>+ b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</a:rPr>
                <a:t>2 </a:t>
              </a:r>
              <a:r>
                <a:rPr b="1" lang="en-US" sz="4600" spc="-1" strike="noStrike">
                  <a:solidFill>
                    <a:srgbClr val="0000ff"/>
                  </a:solidFill>
                  <a:latin typeface="宋体"/>
                </a:rPr>
                <a:t>= c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</a:rPr>
                <a:t>2</a:t>
              </a:r>
              <a:endParaRPr b="0" lang="en-US" sz="4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211640" y="3645000"/>
            <a:ext cx="792000" cy="1224000"/>
          </a:xfrm>
          <a:prstGeom prst="upDownArrow">
            <a:avLst>
              <a:gd name="adj1" fmla="val 50000"/>
              <a:gd name="adj2" fmla="val 3076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386064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互逆命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1197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335560" y="0"/>
            <a:ext cx="109512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逆定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16840" y="3879720"/>
            <a:ext cx="79020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定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7238880" y="53085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42920" y="-360"/>
            <a:ext cx="41907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定理与逆定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0" y="-136800"/>
            <a:ext cx="3124080" cy="1095480"/>
            <a:chOff x="0" y="-136800"/>
            <a:chExt cx="3124080" cy="1095480"/>
          </a:xfrm>
        </p:grpSpPr>
        <p:sp>
          <p:nvSpPr>
            <p:cNvPr id="230" name=""/>
            <p:cNvSpPr/>
            <p:nvPr/>
          </p:nvSpPr>
          <p:spPr>
            <a:xfrm>
              <a:off x="0" y="0"/>
              <a:ext cx="3124080" cy="958680"/>
            </a:xfrm>
            <a:prstGeom prst="horizontalScroll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1" name="" descr=""/>
            <p:cNvPicPr/>
            <p:nvPr/>
          </p:nvPicPr>
          <p:blipFill>
            <a:blip r:embed="rId4"/>
            <a:stretch/>
          </p:blipFill>
          <p:spPr>
            <a:xfrm>
              <a:off x="1066680" y="181080"/>
              <a:ext cx="8384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52280" y="-13680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开启        智慧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0" y="3573360"/>
            <a:ext cx="8763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已经学习了一些互逆的定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勾股定理及其逆定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直线平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错角相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错角相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直线平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50292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一想</a:t>
            </a:r>
            <a:r>
              <a:rPr b="0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互逆命题与互逆定理有何关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773360"/>
            <a:ext cx="8305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一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定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逆命题经过证明是真命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那么它是一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定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两个定理称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互逆定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中一个定理称另一个定理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逆定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52280" y="1197000"/>
            <a:ext cx="899172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条直线平行，内错角相等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两个实数相等，那么它们的平方相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两个实数相等，那么它们的绝对值相等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全等三角形的对应角相等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7650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出下列命题的逆命题．这些命题的逆命题成立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05040" y="198792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逆命题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内错角相等，两条直线平行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成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2440" y="306756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逆命题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两个实数的平方相等，那么这两个实数相等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成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84360" y="4364640"/>
            <a:ext cx="600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逆命题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两个实数的绝对值相等，那么这两个实数相等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成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6400" y="537264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逆命题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对应角相等的两个三角形是全等三角形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成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34080" y="5882400"/>
            <a:ext cx="582660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感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命题成立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逆命题有时成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时不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39640" y="0"/>
            <a:ext cx="3581280" cy="685440"/>
            <a:chOff x="539640" y="0"/>
            <a:chExt cx="3581280" cy="685440"/>
          </a:xfrm>
        </p:grpSpPr>
        <p:grpSp>
          <p:nvGrpSpPr>
            <p:cNvPr id="244" name=""/>
            <p:cNvGrpSpPr/>
            <p:nvPr/>
          </p:nvGrpSpPr>
          <p:grpSpPr>
            <a:xfrm>
              <a:off x="539640" y="0"/>
              <a:ext cx="2362320" cy="518760"/>
              <a:chOff x="539640" y="0"/>
              <a:chExt cx="2362320" cy="518760"/>
            </a:xfrm>
          </p:grpSpPr>
          <p:sp>
            <p:nvSpPr>
              <p:cNvPr id="245" name=""/>
              <p:cNvSpPr/>
              <p:nvPr/>
            </p:nvSpPr>
            <p:spPr>
              <a:xfrm>
                <a:off x="539640" y="4860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试一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419920" y="0"/>
                <a:ext cx="1832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2901960" y="1080"/>
              <a:ext cx="121896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539640" y="153720"/>
              <a:ext cx="533520" cy="53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1187280" y="5877000"/>
            <a:ext cx="7956720" cy="533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命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真命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逆命题却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一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真命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2-15T14:13:14Z</dcterms:modified>
  <cp:revision>2</cp:revision>
  <dc:subject/>
  <dc:title>幻灯片 1</dc:title>
</cp:coreProperties>
</file>