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chimes.wav" ContentType="audio/x-wav"/>
  <Override PartName="/ppt/media/image5.jpeg" ContentType="image/jpeg"/>
  <Override PartName="/ppt/media/image6.gif" ContentType="image/gif"/>
  <Override PartName="/ppt/media/image10.jpeg" ContentType="image/jpeg"/>
  <Override PartName="/ppt/media/image11.gif" ContentType="image/gif"/>
  <Override PartName="/ppt/media/image7.jpeg" ContentType="image/jpeg"/>
  <Override PartName="/ppt/media/image8.gif" ContentType="image/gif"/>
  <Override PartName="/ppt/media/image9.gif" ContentType="image/gif"/>
  <Override PartName="/ppt/media/image12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7321-C07E-4972-9809-303DB5B92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4AEA-93F8-475A-90FC-1290BEA9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D911-65F8-40AC-8928-E7634B76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06B1-4839-4158-AA72-B2D50A66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C7E7-6CAB-4811-9152-9449D6ED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04ED-3A5B-41CA-ADE0-9B764F92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40CD-1142-41E2-AA45-2657EB8D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D85F-524C-412F-9E8F-01834964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333F-18A8-4DF2-B78D-EEC314A5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CF63-78B4-4A46-A802-5B9D9992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6CF6-47F3-42A5-8910-C9A794145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182C-A675-4A1D-A657-B97CF643C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338E-F396-4BFD-993A-D67EABFBC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15825-62F5-4EC3-8D88-F0463BEE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B732-DCB0-4D81-A8FA-507A5D22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7C25-1AAE-40C4-942F-EC7E85F8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30E4-9227-42F4-8195-DEA0F0BE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3A42-8630-4429-9B47-751C4DA5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4AF9-FB0F-4388-8457-AE067E61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D904-0D47-4EBF-AD3A-572CB7E3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C6D9-7733-41DF-B2CD-2C1173C5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082EC-C01D-4A92-8675-622FD02F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A2F7-34FE-471D-BB74-3B1607253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C405-FFB4-4CBE-91FF-4CCE164BE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135C-3A3D-4FBD-B52A-94E82C0F633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BA81-8739-468E-BFDC-6C14645CB4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334280" cy="5505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524880" cy="714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堂小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914400" y="1380960"/>
                <a:ext cx="7238880" cy="519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计算：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s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÷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r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÷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÷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c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÷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b</m:t>
                        </m:r>
                        <m:r>
                          <m:t xml:space="preserve">÷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629400" y="70488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初中老师之家www.ls910.com搜集整理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6320" y="-92160"/>
            <a:ext cx="342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课外练习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7360" y="762120"/>
            <a:ext cx="230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计算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7600" y="1676520"/>
            <a:ext cx="4973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(1)(-8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+6)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(-4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7040" y="3641760"/>
            <a:ext cx="852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(3)(9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6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-12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6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6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+8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en-US" sz="6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3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7360" y="2651040"/>
            <a:ext cx="475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(2)(6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6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-9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6080" y="4632480"/>
            <a:ext cx="72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(4)(4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6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-8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6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6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(-2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6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324480" y="609480"/>
            <a:ext cx="20973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初中老师之家www.ls910.com搜集整理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87480" y="1066680"/>
            <a:ext cx="8810280" cy="5029200"/>
            <a:chOff x="87480" y="1066680"/>
            <a:chExt cx="8810280" cy="5029200"/>
          </a:xfrm>
        </p:grpSpPr>
        <p:sp>
          <p:nvSpPr>
            <p:cNvPr id="181" name=""/>
            <p:cNvSpPr/>
            <p:nvPr/>
          </p:nvSpPr>
          <p:spPr>
            <a:xfrm>
              <a:off x="87480" y="3506760"/>
              <a:ext cx="86594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Times New Roman"/>
                </a:rPr>
                <a:t>(6)(    </a:t>
              </a:r>
              <a:r>
                <a:rPr b="1" i="1" lang="en-US" sz="6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6600" spc="-1" strike="noStrike" baseline="30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en-US" sz="6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66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6600" spc="-1" strike="noStrike">
                  <a:solidFill>
                    <a:srgbClr val="000000"/>
                  </a:solidFill>
                  <a:latin typeface="Times New Roman"/>
                </a:rPr>
                <a:t>+   </a:t>
              </a:r>
              <a:r>
                <a:rPr b="1" i="1" lang="en-US" sz="6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6600" spc="-1" strike="noStrike" baseline="30000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1" i="1" lang="en-US" sz="6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6600" spc="-1" strike="noStrike" baseline="30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6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i="1" lang="en-US" sz="6600" spc="-1" strike="noStrike">
                  <a:solidFill>
                    <a:srgbClr val="000000"/>
                  </a:solidFill>
                  <a:latin typeface="Times New Roman"/>
                </a:rPr>
                <a:t>ax</a:t>
              </a:r>
              <a:r>
                <a:rPr b="1" lang="en-US" sz="6600" spc="-1" strike="noStrike" baseline="30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6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99360" y="1066680"/>
              <a:ext cx="8798400" cy="5029200"/>
              <a:chOff x="99360" y="1066680"/>
              <a:chExt cx="8798400" cy="5029200"/>
            </a:xfrm>
          </p:grpSpPr>
          <p:sp>
            <p:nvSpPr>
              <p:cNvPr id="183" name=""/>
              <p:cNvSpPr/>
              <p:nvPr/>
            </p:nvSpPr>
            <p:spPr>
              <a:xfrm>
                <a:off x="99360" y="1066680"/>
                <a:ext cx="76161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000000"/>
                    </a:solidFill>
                    <a:latin typeface="Times New Roman"/>
                  </a:rPr>
                  <a:t>(5)(-7</a:t>
                </a:r>
                <a:r>
                  <a:rPr b="1" i="1" lang="en-US" sz="6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6000" spc="-1" strike="noStrike" baseline="30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1" i="1" lang="en-US" sz="6000" spc="-1" strike="noStrike">
                    <a:solidFill>
                      <a:srgbClr val="000000"/>
                    </a:solidFill>
                    <a:latin typeface="Times New Roman"/>
                  </a:rPr>
                  <a:t>bc</a:t>
                </a:r>
                <a:r>
                  <a:rPr b="1" lang="en-US" sz="60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n-US" sz="6000" spc="-1" strike="noStrike">
                    <a:solidFill>
                      <a:srgbClr val="000000"/>
                    </a:solidFill>
                    <a:latin typeface="Times New Roman"/>
                  </a:rPr>
                  <a:t>+4</a:t>
                </a:r>
                <a:r>
                  <a:rPr b="1" i="1" lang="en-US" sz="6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6000" spc="-1" strike="noStrike" baseline="30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1" i="1" lang="en-US" sz="6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1" lang="en-US" sz="60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n-US" sz="6000" spc="-1" strike="noStrike">
                    <a:solidFill>
                      <a:srgbClr val="000000"/>
                    </a:solidFill>
                    <a:latin typeface="Times New Roman"/>
                  </a:rPr>
                  <a:t>-5</a:t>
                </a:r>
                <a:r>
                  <a:rPr b="1" i="1" lang="en-US" sz="6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60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i="1" lang="en-US" sz="6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1" lang="en-US" sz="6000" spc="-1" strike="noStrike" baseline="30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1" lang="en-US" sz="6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172200" y="1905120"/>
                <a:ext cx="27255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÷(-2</a:t>
                </a:r>
                <a:r>
                  <a:rPr b="1" i="1" lang="en-US" sz="6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r>
                  <a:rPr b="1" lang="en-US" sz="60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i="1" lang="en-US" sz="6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1" lang="en-US" sz="6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292080" y="4691160"/>
                <a:ext cx="235368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÷   </a:t>
                </a:r>
                <a:r>
                  <a:rPr b="1" i="1" lang="en-US" sz="6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x</a:t>
                </a:r>
                <a:r>
                  <a:rPr b="1" lang="en-US" sz="6600" spc="-1" strike="noStrike" baseline="30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86" name=""/>
                  <p:cNvSpPr txBox="1"/>
                  <p:nvPr/>
                </p:nvSpPr>
                <p:spPr>
                  <a:xfrm>
                    <a:off x="6885000" y="4537080"/>
                    <a:ext cx="585720" cy="1558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87" name=""/>
                  <p:cNvSpPr txBox="1"/>
                  <p:nvPr/>
                </p:nvSpPr>
                <p:spPr>
                  <a:xfrm>
                    <a:off x="4065480" y="3200400"/>
                    <a:ext cx="658800" cy="1752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88" name=""/>
                  <p:cNvSpPr txBox="1"/>
                  <p:nvPr/>
                </p:nvSpPr>
                <p:spPr>
                  <a:xfrm>
                    <a:off x="6018120" y="3276720"/>
                    <a:ext cx="1220760" cy="1498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89" name=""/>
                  <p:cNvSpPr txBox="1"/>
                  <p:nvPr/>
                </p:nvSpPr>
                <p:spPr>
                  <a:xfrm>
                    <a:off x="1143000" y="3352680"/>
                    <a:ext cx="1036800" cy="1575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505320" y="5334120"/>
            <a:ext cx="1752480" cy="144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初中老师之家www.ls910.com搜集整理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　计算下列各式，并说说你是怎样计算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143000" y="2362320"/>
                <a:ext cx="6705720" cy="32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m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m</m:t>
                        </m:r>
                        <m:r>
                          <m:t xml:space="preserve">)</m:t>
                        </m:r>
                        <m:r>
                          <m:t xml:space="preserve">÷</m:t>
                        </m:r>
                        <m:r>
                          <m:t xml:space="preserve">m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)</m:t>
                        </m:r>
                        <m:r>
                          <m:t xml:space="preserve">÷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x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÷</m:t>
                        </m:r>
                        <m:r>
                          <m:rPr>
                            <m:lit/>
                            <m:nor/>
                          </m:rPr>
                          <m:t xml:space="preserve">2x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924680" y="594360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76320" y="5943600"/>
            <a:ext cx="1143000" cy="85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初中老师之家www.ls910.com搜集整理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Arial"/>
              </a:rPr>
              <a:t>多项式除以单项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　　 多项式除以单项式，先把这个多项式的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每一项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除以这个单项式，再把所得的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商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相加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初中老师之家www.ls910.com搜集整理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14400" y="304920"/>
            <a:ext cx="5447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6000" spc="-1" strike="noStrike">
                <a:solidFill>
                  <a:srgbClr val="000000"/>
                </a:solidFill>
                <a:latin typeface="Times New Roman"/>
              </a:rPr>
              <a:t>am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6000" spc="-1" strike="noStrike">
                <a:solidFill>
                  <a:srgbClr val="000000"/>
                </a:solidFill>
                <a:latin typeface="Times New Roman"/>
              </a:rPr>
              <a:t>bm+cm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</a:t>
            </a:r>
            <a:r>
              <a:rPr b="1" i="1" lang="zh-CN" sz="6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584360"/>
            <a:ext cx="739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00"/>
                </a:solidFill>
                <a:latin typeface="Times New Roman"/>
              </a:rPr>
              <a:t>=am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</a:t>
            </a:r>
            <a:r>
              <a:rPr b="1" i="1" lang="zh-CN" sz="6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6000" spc="-1" strike="noStrike">
                <a:solidFill>
                  <a:srgbClr val="000000"/>
                </a:solidFill>
                <a:latin typeface="Times New Roman"/>
              </a:rPr>
              <a:t>bm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</a:t>
            </a:r>
            <a:r>
              <a:rPr b="1" i="1" lang="zh-CN" sz="6000" spc="-1" strike="noStrike">
                <a:solidFill>
                  <a:srgbClr val="000000"/>
                </a:solidFill>
                <a:latin typeface="Times New Roman"/>
              </a:rPr>
              <a:t>m+cm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</a:t>
            </a:r>
            <a:r>
              <a:rPr b="1" i="1" lang="zh-CN" sz="6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9144000" cy="3135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848720" y="380880"/>
            <a:ext cx="857160" cy="1108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初中老师之家www.ls910.com搜集整理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2338560"/>
            <a:ext cx="9144000" cy="2309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0" y="4648320"/>
            <a:ext cx="9151920" cy="2209320"/>
            <a:chOff x="0" y="4648320"/>
            <a:chExt cx="9151920" cy="2209320"/>
          </a:xfrm>
        </p:grpSpPr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0" y="4648320"/>
              <a:ext cx="846000" cy="22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3"/>
            <a:stretch/>
          </p:blipFill>
          <p:spPr>
            <a:xfrm>
              <a:off x="2049480" y="4648320"/>
              <a:ext cx="846000" cy="22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4"/>
            <a:stretch/>
          </p:blipFill>
          <p:spPr>
            <a:xfrm>
              <a:off x="4114800" y="4648320"/>
              <a:ext cx="846000" cy="22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5"/>
            <a:stretch/>
          </p:blipFill>
          <p:spPr>
            <a:xfrm>
              <a:off x="6164280" y="4648320"/>
              <a:ext cx="846000" cy="22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6"/>
            <a:stretch/>
          </p:blipFill>
          <p:spPr>
            <a:xfrm>
              <a:off x="8305920" y="4648320"/>
              <a:ext cx="846000" cy="220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"/>
          <p:cNvGrpSpPr/>
          <p:nvPr/>
        </p:nvGrpSpPr>
        <p:grpSpPr>
          <a:xfrm>
            <a:off x="-7920" y="76320"/>
            <a:ext cx="9151920" cy="2209320"/>
            <a:chOff x="-7920" y="76320"/>
            <a:chExt cx="9151920" cy="2209320"/>
          </a:xfrm>
        </p:grpSpPr>
        <p:pic>
          <p:nvPicPr>
            <p:cNvPr id="145" name="" descr=""/>
            <p:cNvPicPr/>
            <p:nvPr/>
          </p:nvPicPr>
          <p:blipFill>
            <a:blip r:embed="rId7"/>
            <a:stretch/>
          </p:blipFill>
          <p:spPr>
            <a:xfrm>
              <a:off x="-7920" y="76320"/>
              <a:ext cx="846000" cy="22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8"/>
            <a:stretch/>
          </p:blipFill>
          <p:spPr>
            <a:xfrm>
              <a:off x="2041560" y="76320"/>
              <a:ext cx="846000" cy="22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9"/>
            <a:stretch/>
          </p:blipFill>
          <p:spPr>
            <a:xfrm>
              <a:off x="4106880" y="76320"/>
              <a:ext cx="846000" cy="22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10"/>
            <a:stretch/>
          </p:blipFill>
          <p:spPr>
            <a:xfrm>
              <a:off x="6156360" y="76320"/>
              <a:ext cx="846000" cy="22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11"/>
            <a:stretch/>
          </p:blipFill>
          <p:spPr>
            <a:xfrm>
              <a:off x="8298000" y="76320"/>
              <a:ext cx="846000" cy="220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初中老师之家www.ls910.com搜集整理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Arial"/>
                <a:ea typeface="华文行楷"/>
              </a:rPr>
              <a:t>探究时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小明在班级联欢晚会上表演的一个魔术节目如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请你在心中想一个自然数，并且先按下列程序运算后，直接告诉他答案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他能马上说出你所想的自然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你知道其中的奥妙在哪里吗？请你用所学的数学知识来进行解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69840" y="304920"/>
            <a:ext cx="1087560" cy="1431720"/>
          </a:xfrm>
          <a:prstGeom prst="rect">
            <a:avLst/>
          </a:prstGeom>
          <a:ln w="0">
            <a:noFill/>
          </a:ln>
        </p:spPr>
      </p:pic>
      <p:grpSp>
        <p:nvGrpSpPr>
          <p:cNvPr id="153" name=""/>
          <p:cNvGrpSpPr/>
          <p:nvPr/>
        </p:nvGrpSpPr>
        <p:grpSpPr>
          <a:xfrm>
            <a:off x="304920" y="4100400"/>
            <a:ext cx="8534160" cy="1556280"/>
            <a:chOff x="304920" y="4100400"/>
            <a:chExt cx="8534160" cy="1556280"/>
          </a:xfrm>
        </p:grpSpPr>
        <p:grpSp>
          <p:nvGrpSpPr>
            <p:cNvPr id="154" name=""/>
            <p:cNvGrpSpPr/>
            <p:nvPr/>
          </p:nvGrpSpPr>
          <p:grpSpPr>
            <a:xfrm>
              <a:off x="304920" y="4100400"/>
              <a:ext cx="8534160" cy="1556280"/>
              <a:chOff x="304920" y="4100400"/>
              <a:chExt cx="8534160" cy="1556280"/>
            </a:xfrm>
          </p:grpSpPr>
          <p:sp>
            <p:nvSpPr>
              <p:cNvPr id="155" name=""/>
              <p:cNvSpPr/>
              <p:nvPr/>
            </p:nvSpPr>
            <p:spPr>
              <a:xfrm>
                <a:off x="304920" y="4100400"/>
                <a:ext cx="914400" cy="8251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4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523880" y="4100400"/>
                <a:ext cx="1676520" cy="8251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zh-CN" sz="4800" spc="-1" strike="noStrike">
                    <a:solidFill>
                      <a:srgbClr val="000000"/>
                    </a:solidFill>
                    <a:latin typeface="Times New Roman"/>
                  </a:rPr>
                  <a:t>平方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505320" y="4100400"/>
                <a:ext cx="1295280" cy="15562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zh-CN" sz="4800" spc="-1" strike="noStrike">
                    <a:solidFill>
                      <a:srgbClr val="000000"/>
                    </a:solidFill>
                    <a:latin typeface="Times New Roman"/>
                  </a:rPr>
                  <a:t>加</a:t>
                </a:r>
                <a:r>
                  <a:rPr b="0" lang="en-US" sz="4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105520" y="4100400"/>
                <a:ext cx="1904760" cy="8251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zh-CN" sz="4800" spc="-1" strike="noStrike">
                    <a:solidFill>
                      <a:srgbClr val="000000"/>
                    </a:solidFill>
                    <a:latin typeface="Times New Roman"/>
                  </a:rPr>
                  <a:t>除以</a:t>
                </a:r>
                <a:r>
                  <a:rPr b="0" lang="zh-CN" sz="4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315200" y="4100400"/>
                <a:ext cx="1523880" cy="8251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800" spc="-1" strike="noStrike">
                    <a:solidFill>
                      <a:srgbClr val="000000"/>
                    </a:solidFill>
                    <a:latin typeface="Times New Roman"/>
                  </a:rPr>
                  <a:t>答案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1219320" y="4557600"/>
              <a:ext cx="6095880" cy="0"/>
              <a:chOff x="1219320" y="4557600"/>
              <a:chExt cx="6095880" cy="0"/>
            </a:xfrm>
          </p:grpSpPr>
          <p:sp>
            <p:nvSpPr>
              <p:cNvPr id="161" name=""/>
              <p:cNvSpPr/>
              <p:nvPr/>
            </p:nvSpPr>
            <p:spPr>
              <a:xfrm>
                <a:off x="1219320" y="455760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200400" y="455760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800600" y="455760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010280" y="455760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初中老师之家www.ls910.com搜集整理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66ff"/>
                </a:solidFill>
                <a:latin typeface="Arial"/>
              </a:rPr>
              <a:t>课堂总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多项式除以单项式法则：多项式除以单项式，先把这个多项式的每一项除以这个多项式，再把所得的商相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应用法则转化多项式除以单项式为单项式除以单项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初中老师之家www.ls910.com搜集整理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28240" y="1980720"/>
            <a:ext cx="8839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运算中应注意的问题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所除的商应写成最简的形式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除式与被除式不能交换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整式混合运算要注意运算顺序，还要注意运用有关的运算公式和性质，使运算简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66ff"/>
                </a:solidFill>
                <a:latin typeface="Arial"/>
              </a:rPr>
              <a:t>课堂总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初中老师之家www.ls910.com搜集整理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38098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复习、预习课本内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作业：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4800" spc="-1" strike="noStrike" baseline="-25000">
                <a:solidFill>
                  <a:srgbClr val="000000"/>
                </a:solidFill>
                <a:latin typeface="Arial"/>
              </a:rPr>
              <a:t>193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3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62120" y="685800"/>
            <a:ext cx="7619760" cy="2819520"/>
            <a:chOff x="762120" y="685800"/>
            <a:chExt cx="7619760" cy="281952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762120" y="685800"/>
              <a:ext cx="7619760" cy="28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2209680" y="974880"/>
              <a:ext cx="4953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00"/>
                  </a:solidFill>
                  <a:latin typeface="Times New Roman"/>
                  <a:ea typeface="华文行楷"/>
                </a:rPr>
                <a:t>仙游金石中学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初中老师之家www.ls910.com搜集整理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0T03:17:52Z</dcterms:created>
  <dc:creator/>
  <dc:description/>
  <dc:language>en-US</dc:language>
  <cp:lastModifiedBy>微软用户</cp:lastModifiedBy>
  <dcterms:modified xsi:type="dcterms:W3CDTF">2011-10-20T00:57:44Z</dcterms:modified>
  <cp:revision>40</cp:revision>
  <dc:subject/>
  <dc:title>课堂小测</dc:title>
</cp:coreProperties>
</file>