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7.wmf" ContentType="image/x-wmf"/>
  <Override PartName="/ppt/media/image29.png" ContentType="image/pn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14D-60BC-4F71-B969-88C717FD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433-2FEB-417C-AED3-0351C8A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17CA8-6D2B-420B-ACBF-01CF7BC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F5B07-15BA-41B6-8B58-44AAB85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6BA66-FC73-4780-93FF-1B9F635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ECA73-41C4-4A18-BD09-6C8AFE6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031A3-2C50-4CD3-BD34-70068E48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3721E-311A-4E6A-A914-3510C69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61FEA-724F-4299-9684-264A1EE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1D12-9515-4152-8CA8-E5A93418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64B26-E800-4293-8826-32A9A68D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947-FA60-4475-8CB4-F64C7CD5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4D9-F403-42D8-8F32-381C717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A8B-E26F-42D2-8415-4B4E0F68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02F-D8D6-4939-AAA7-CC31690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6ED-3E1F-41EC-A2F0-C66B980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BFA1-B0AF-4512-81AF-F58C7110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BAF2-8678-4BC4-A922-3839713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B8A4-7D62-4B8B-ABA8-7F8676CE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A99-B0FC-49FE-AE0A-77FFE9A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FC9-DFB4-4020-9907-989F0EF1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9F1-AA33-4B3D-826A-8B308E1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1472-AD76-44B3-A836-9FB5458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96A-B6E5-47CD-BE9A-65B44056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C92B-F113-4E3C-BFBC-7249FB65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AD9-514D-49B4-9F2C-1839503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CFDC-5206-4A8F-9DC7-3E9A3053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511B-E32F-417C-A9C6-2B3A047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F70C-2B2C-4E0E-BD5D-D0EC5822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48D4-38B3-4B2D-B5B5-E87F2B24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4B0C-3DEB-4112-B500-E39F72C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174-6157-42A3-B783-22D5273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FB06-5BF4-4BAD-BF04-8887D23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4B59-B67A-4020-A0F6-FF07CA7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6D9B-B65C-4420-884D-E85A86F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9E63-6D17-4DC1-9214-6FF85BF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9A2B-D926-4DBF-8978-FF88C91E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5A93-C178-4352-808F-763F9DA0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5FA1-828C-48AE-A059-DD871CE1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5B0E-0BC1-45FE-897C-1594C434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AFD3-71A0-4EEF-A8F4-BE2F1DD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104A-F156-4FD7-9939-84A7A8A1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089-96BA-431A-B2CD-5A57772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8B7B-9CF8-4C39-8B4C-2F6E51C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CB36-C58A-48E7-90D7-2938564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857F-6FC4-4DCE-9024-F28C7E77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279A-4545-4E6E-9365-0B21178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98ED-2818-4F46-B796-E65EC3A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A8FF-972F-47E1-9ABC-2AEDE08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3077-0DEA-480F-888D-E95A600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9EB1-BCD9-452F-B333-9A21B0B6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5619-2D01-4C4C-B142-A67423E9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4769-E305-4A82-809E-ABA83D24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D14-0B7C-4C8B-B788-0636172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D6CBA-EE86-4A4F-8069-13894E6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D14B-FF7F-42FE-8971-84E4214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8E34-4DA7-4538-9BE0-B8E1D4B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28F7-5E3E-4FEC-99F7-2C1FF0D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A93F-42FD-4A76-A250-C7C565E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0426-9ABC-46A2-8D73-43AEE6C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7481-0F17-464D-9E54-A7385E9E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77FFD-FD02-48C4-9995-FC98424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FF29-A25D-44C4-839E-9914304C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0C65-34C8-4832-BE68-5D7CFC2F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B7C-81AB-4E44-8A65-E024CB0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E637-C6E8-47EF-A410-87FF0245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511E-FA28-45B9-AD15-5BFBE908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83D0-DE81-4693-9541-FA8FF52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D47D-6AFC-4D6C-8209-94B5D40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4CA5-BE00-44D1-8BBC-5B3C9B7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EE50-D8D8-4353-9630-CDC07A16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0A51-261A-4025-AE48-8D281E09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D098-8A48-481A-AD75-3320362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9FC5-571E-47A9-9E6A-6DBB7B30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E386-2503-4B07-8F44-BA78ABF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34D-A9C6-42CC-8261-B516D76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F8A3-F4F7-4E91-92E7-3607E47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6F21-BF0A-42EE-9F45-8917F9F1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DE949-CF1E-4AF6-84D7-BC365602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24DCF-CB2A-412B-9340-4E456C74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1AB2-C154-46FF-A8C1-DB87DAD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2385B-7A2E-4F35-B7AB-0C7C136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C70F-188A-4DC3-B046-0D2D825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4A3F1-9AFB-46F8-B2D5-95149B9C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96F32-C47A-4691-BD5B-8CE7B424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9F51-36C4-4573-BA04-5FAE812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5EC-91E6-45FF-8257-01AEBB0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3DB38-90C3-4753-BEAD-6E422E59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0101-FD8E-40EB-9C07-606DBDE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7AEC-399A-47A7-8F12-5833006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2B48-BA78-4C80-B52C-C2DA551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E009-69E3-4AFC-8EEA-B7AD619D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AB5F6-69A2-4404-9015-95407FAC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6CA56-9EB1-474D-A2AA-47DB600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80E3-A232-4230-AE23-00EB006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CFE15-A103-4B09-B714-8DE5441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3C479-8219-4709-8BC5-24D63681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6B9-B8A5-4DD3-8160-CD98656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EA8DE-74B1-498C-9BF7-A788D14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7D07-39B9-4464-ACF6-65503130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1860-F0AA-4866-AF4C-58A3EAB1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5203-D9D3-406B-A259-9FC4650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8960-C10F-442A-8C28-F39BD52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0484-5ABE-412B-8964-2E9C1BBB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092E-F292-4007-8942-2D3F2CB2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D6C9-EDEE-471E-9E17-AF41F312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7A81C-A864-43A9-8C8E-3DABD5D1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AFD97-78D8-4CD4-96B4-4510A2F7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1160-0B5C-4464-9141-9FD374BDE3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265-7CF6-40F0-A3EC-58892AA7E4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203F-45BA-4068-9C8E-CE9E2606FE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ED3-1DB2-41BC-9570-A984171C40F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F2A-F713-4B6C-8CF3-D4DE43E49F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57A-893F-4ED5-9E31-22BFC8DB12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D064-BF06-4183-B83F-4827DB88D5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A95F-9A01-45EC-BC08-FB5B5F7CE1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9D90-76C7-4B7E-913D-CD77C3ED40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200309110016_96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1187280" y="314172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稳定性</a:t>
            </a:r>
            <a:endParaRPr b="1" lang="en-US" sz="8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7" descr="2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6238800"/>
          </a:xfrm>
          <a:prstGeom prst="rect">
            <a:avLst/>
          </a:prstGeom>
          <a:ln w="0">
            <a:noFill/>
          </a:ln>
        </p:spPr>
      </p:pic>
      <p:sp>
        <p:nvSpPr>
          <p:cNvPr id="418" name="Line 55"/>
          <p:cNvSpPr/>
          <p:nvPr/>
        </p:nvSpPr>
        <p:spPr>
          <a:xfrm>
            <a:off x="6048360" y="39178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8380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0" name="Picture 3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328120" y="53352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d1f1f"/>
                </a:solidFill>
                <a:latin typeface="Tahoma"/>
                <a:ea typeface="PMingLiU"/>
              </a:rPr>
              <a:t>四边形的不稳定性有广泛的应用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2" name="Picture 3" descr="4"/>
          <p:cNvPicPr/>
          <p:nvPr/>
        </p:nvPicPr>
        <p:blipFill>
          <a:blip r:embed="rId1"/>
          <a:stretch/>
        </p:blipFill>
        <p:spPr>
          <a:xfrm>
            <a:off x="304920" y="20574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5"/>
          <p:cNvPicPr/>
          <p:nvPr/>
        </p:nvPicPr>
        <p:blipFill>
          <a:blip r:embed="rId2"/>
          <a:stretch/>
        </p:blipFill>
        <p:spPr>
          <a:xfrm>
            <a:off x="4343400" y="1905120"/>
            <a:ext cx="4446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0" y="320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018160" y="30193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边形不具有稳定性，人们往往通过改造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将其变成三角形从而增强其</a:t>
            </a:r>
            <a:r>
              <a:rPr b="1" lang="zh-CN" sz="3200" spc="-1" strike="noStrike">
                <a:solidFill>
                  <a:srgbClr val="ad1f1f"/>
                </a:solidFill>
                <a:latin typeface="Tahoma"/>
                <a:ea typeface="宋体"/>
              </a:rPr>
              <a:t>稳定性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57200" y="0"/>
            <a:ext cx="51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做一做：</a:t>
            </a:r>
            <a:r>
              <a:rPr b="1" lang="en-US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P74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7162920" y="0"/>
            <a:ext cx="1981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547280" y="426708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：要使四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352960" y="4724280"/>
            <a:ext cx="50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五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914400" y="5181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六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251080" y="5638680"/>
            <a:ext cx="581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要使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边形木架不变形，至少要再钉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n-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根木条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议一议：</a:t>
            </a:r>
            <a:r>
              <a:rPr b="1" lang="en-US" sz="66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P76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7315200" y="9144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7085520" y="1276200"/>
            <a:ext cx="13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边形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489240" y="3048120"/>
            <a:ext cx="81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：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个三角形，它们是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,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E,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宋体"/>
              </a:rPr>
              <a:t> 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宋体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E,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C,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E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1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8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4193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3"/>
          <p:cNvSpPr/>
          <p:nvPr/>
        </p:nvSpPr>
        <p:spPr>
          <a:xfrm>
            <a:off x="1446120" y="12952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Tahoma"/>
                <a:ea typeface="宋体"/>
              </a:rPr>
              <a:t>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26040" y="129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Tahoma"/>
                <a:ea typeface="宋体"/>
              </a:rPr>
              <a:t>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702440" y="236232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∠</a:t>
            </a: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C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513960" y="23432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∠</a:t>
            </a: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C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704240" y="335268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∠</a:t>
            </a:r>
            <a:r>
              <a:rPr b="1" lang="en-US" sz="2800" spc="-1" strike="noStrike">
                <a:solidFill>
                  <a:srgbClr val="ad1f1f"/>
                </a:solidFill>
                <a:latin typeface="Tahoma"/>
                <a:ea typeface="바탕"/>
              </a:rPr>
              <a:t>AF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7" name="Group 14"/>
          <p:cNvGrpSpPr/>
          <p:nvPr/>
        </p:nvGrpSpPr>
        <p:grpSpPr>
          <a:xfrm>
            <a:off x="1827000" y="3886200"/>
            <a:ext cx="1379520" cy="916920"/>
            <a:chOff x="1827000" y="3886200"/>
            <a:chExt cx="1379520" cy="916920"/>
          </a:xfrm>
        </p:grpSpPr>
        <p:grpSp>
          <p:nvGrpSpPr>
            <p:cNvPr id="448" name="Group 12"/>
            <p:cNvGrpSpPr/>
            <p:nvPr/>
          </p:nvGrpSpPr>
          <p:grpSpPr>
            <a:xfrm>
              <a:off x="1827000" y="3886200"/>
              <a:ext cx="354600" cy="916920"/>
              <a:chOff x="1827000" y="3886200"/>
              <a:chExt cx="354600" cy="916920"/>
            </a:xfrm>
          </p:grpSpPr>
          <p:sp>
            <p:nvSpPr>
              <p:cNvPr id="449" name="Text Box 8"/>
              <p:cNvSpPr/>
              <p:nvPr/>
            </p:nvSpPr>
            <p:spPr>
              <a:xfrm>
                <a:off x="1827000" y="3886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0" name="Line 10"/>
              <p:cNvSpPr/>
              <p:nvPr/>
            </p:nvSpPr>
            <p:spPr>
              <a:xfrm>
                <a:off x="1828800" y="4343400"/>
                <a:ext cx="290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1" name="Text Box 11"/>
              <p:cNvSpPr/>
              <p:nvPr/>
            </p:nvSpPr>
            <p:spPr>
              <a:xfrm>
                <a:off x="1827000" y="4343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13"/>
            <p:cNvSpPr/>
            <p:nvPr/>
          </p:nvSpPr>
          <p:spPr>
            <a:xfrm>
              <a:off x="2175480" y="407340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"/>
          <p:cNvSpPr/>
          <p:nvPr/>
        </p:nvSpPr>
        <p:spPr>
          <a:xfrm>
            <a:off x="0" y="320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304920" y="380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一个三角形有两条边相等，周长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8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三角形的一边长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求其他两边长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0" y="1371600"/>
            <a:ext cx="9601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：此题有两种情形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三角形的三边长分别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 cm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+2×4=18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得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0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+4&lt;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所以长度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三条线段不能组成三角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）三角形的三边长分别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 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 cm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2X+4=18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解得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7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长度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7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7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三条线段能组成三角形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所以这个三角形其他两边长都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7cm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571400" y="439560"/>
            <a:ext cx="652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=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m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的比是多少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6" name="Group 8"/>
          <p:cNvGrpSpPr/>
          <p:nvPr/>
        </p:nvGrpSpPr>
        <p:grpSpPr>
          <a:xfrm>
            <a:off x="5790960" y="1752480"/>
            <a:ext cx="3048120" cy="1371600"/>
            <a:chOff x="5790960" y="1752480"/>
            <a:chExt cx="3048120" cy="1371600"/>
          </a:xfrm>
        </p:grpSpPr>
        <p:sp>
          <p:nvSpPr>
            <p:cNvPr id="457" name="Line 3"/>
            <p:cNvSpPr/>
            <p:nvPr/>
          </p:nvSpPr>
          <p:spPr>
            <a:xfrm flipH="1">
              <a:off x="5790960" y="1752480"/>
              <a:ext cx="68580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4"/>
            <p:cNvSpPr/>
            <p:nvPr/>
          </p:nvSpPr>
          <p:spPr>
            <a:xfrm flipH="1">
              <a:off x="5791320" y="312408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Line 5"/>
            <p:cNvSpPr/>
            <p:nvPr/>
          </p:nvSpPr>
          <p:spPr>
            <a:xfrm>
              <a:off x="6477120" y="1752480"/>
              <a:ext cx="23619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6477120" y="1752480"/>
              <a:ext cx="0" cy="1371600"/>
            </a:xfrm>
            <a:prstGeom prst="line">
              <a:avLst/>
            </a:prstGeom>
            <a:ln w="381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 flipH="1" flipV="1">
              <a:off x="6324120" y="2133360"/>
              <a:ext cx="25146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2" name="Text Box 9"/>
          <p:cNvSpPr/>
          <p:nvPr/>
        </p:nvSpPr>
        <p:spPr>
          <a:xfrm>
            <a:off x="60199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6243840" y="1371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478840" y="31240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6318360" y="32004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8531640" y="3200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5870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8" name="Group 35"/>
          <p:cNvGrpSpPr/>
          <p:nvPr/>
        </p:nvGrpSpPr>
        <p:grpSpPr>
          <a:xfrm>
            <a:off x="150840" y="1828800"/>
            <a:ext cx="5704920" cy="4517640"/>
            <a:chOff x="150840" y="1828800"/>
            <a:chExt cx="5704920" cy="4517640"/>
          </a:xfrm>
        </p:grpSpPr>
        <p:sp>
          <p:nvSpPr>
            <p:cNvPr id="469" name="Text Box 15"/>
            <p:cNvSpPr/>
            <p:nvPr/>
          </p:nvSpPr>
          <p:spPr>
            <a:xfrm>
              <a:off x="150840" y="1925640"/>
              <a:ext cx="4030560" cy="44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解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바탕"/>
                </a:rPr>
                <a:t>∵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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=                  =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바탕"/>
                </a:rPr>
                <a:t>∴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바탕"/>
                </a:rPr>
                <a:t>BC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×AD=AB×C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바탕"/>
                </a:rPr>
                <a:t>∴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바탕"/>
                </a:rPr>
                <a:t>4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AD=2C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  <a:ea typeface="바탕"/>
                </a:rPr>
                <a:t>      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E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的比是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宋体"/>
                </a:rPr>
                <a:t>                             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70" name="Group 16"/>
            <p:cNvGrpSpPr/>
            <p:nvPr/>
          </p:nvGrpSpPr>
          <p:grpSpPr>
            <a:xfrm>
              <a:off x="2436480" y="1828800"/>
              <a:ext cx="1710720" cy="916920"/>
              <a:chOff x="2436480" y="1828800"/>
              <a:chExt cx="1710720" cy="916920"/>
            </a:xfrm>
          </p:grpSpPr>
          <p:grpSp>
            <p:nvGrpSpPr>
              <p:cNvPr id="471" name="Group 17"/>
              <p:cNvGrpSpPr/>
              <p:nvPr/>
            </p:nvGrpSpPr>
            <p:grpSpPr>
              <a:xfrm>
                <a:off x="2436480" y="1828800"/>
                <a:ext cx="354600" cy="916920"/>
                <a:chOff x="2436480" y="1828800"/>
                <a:chExt cx="354600" cy="916920"/>
              </a:xfrm>
            </p:grpSpPr>
            <p:sp>
              <p:nvSpPr>
                <p:cNvPr id="472" name="Text Box 18"/>
                <p:cNvSpPr/>
                <p:nvPr/>
              </p:nvSpPr>
              <p:spPr>
                <a:xfrm>
                  <a:off x="2436480" y="1828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9"/>
                <p:cNvSpPr/>
                <p:nvPr/>
              </p:nvSpPr>
              <p:spPr>
                <a:xfrm>
                  <a:off x="2438280" y="2286000"/>
                  <a:ext cx="2905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4" name="Text Box 20"/>
                <p:cNvSpPr/>
                <p:nvPr/>
              </p:nvSpPr>
              <p:spPr>
                <a:xfrm>
                  <a:off x="2436480" y="2286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Text Box 21"/>
              <p:cNvSpPr/>
              <p:nvPr/>
            </p:nvSpPr>
            <p:spPr>
              <a:xfrm>
                <a:off x="2792880" y="1969920"/>
                <a:ext cx="135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BC </a:t>
                </a:r>
                <a:r>
                  <a:rPr b="1" lang="en-US" sz="2800" spc="-1" strike="noStrike">
                    <a:solidFill>
                      <a:srgbClr val="990000"/>
                    </a:solidFill>
                    <a:latin typeface="Arial"/>
                    <a:ea typeface="宋体"/>
                  </a:rPr>
                  <a:t>×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A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"/>
            <p:cNvGrpSpPr/>
            <p:nvPr/>
          </p:nvGrpSpPr>
          <p:grpSpPr>
            <a:xfrm>
              <a:off x="4189320" y="1828800"/>
              <a:ext cx="1666440" cy="916920"/>
              <a:chOff x="4189320" y="1828800"/>
              <a:chExt cx="1666440" cy="916920"/>
            </a:xfrm>
          </p:grpSpPr>
          <p:grpSp>
            <p:nvGrpSpPr>
              <p:cNvPr id="477" name="Group 23"/>
              <p:cNvGrpSpPr/>
              <p:nvPr/>
            </p:nvGrpSpPr>
            <p:grpSpPr>
              <a:xfrm>
                <a:off x="4189320" y="1828800"/>
                <a:ext cx="354600" cy="916920"/>
                <a:chOff x="4189320" y="1828800"/>
                <a:chExt cx="354600" cy="916920"/>
              </a:xfrm>
            </p:grpSpPr>
            <p:sp>
              <p:nvSpPr>
                <p:cNvPr id="478" name="Text Box 24"/>
                <p:cNvSpPr/>
                <p:nvPr/>
              </p:nvSpPr>
              <p:spPr>
                <a:xfrm>
                  <a:off x="4189320" y="1828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25"/>
                <p:cNvSpPr/>
                <p:nvPr/>
              </p:nvSpPr>
              <p:spPr>
                <a:xfrm>
                  <a:off x="4191120" y="2286000"/>
                  <a:ext cx="2905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6"/>
                <p:cNvSpPr/>
                <p:nvPr/>
              </p:nvSpPr>
              <p:spPr>
                <a:xfrm>
                  <a:off x="4189320" y="2286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Text Box 27"/>
              <p:cNvSpPr/>
              <p:nvPr/>
            </p:nvSpPr>
            <p:spPr>
              <a:xfrm>
                <a:off x="4555080" y="1969920"/>
                <a:ext cx="130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AB </a:t>
                </a:r>
                <a:r>
                  <a:rPr b="1" lang="en-US" sz="2800" spc="-1" strike="noStrike">
                    <a:solidFill>
                      <a:srgbClr val="990000"/>
                    </a:solidFill>
                    <a:latin typeface="Arial"/>
                    <a:ea typeface="宋体"/>
                  </a:rPr>
                  <a:t>×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 C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28"/>
            <p:cNvGrpSpPr/>
            <p:nvPr/>
          </p:nvGrpSpPr>
          <p:grpSpPr>
            <a:xfrm>
              <a:off x="3732120" y="4343400"/>
              <a:ext cx="550440" cy="916920"/>
              <a:chOff x="3732120" y="4343400"/>
              <a:chExt cx="550440" cy="916920"/>
            </a:xfrm>
          </p:grpSpPr>
          <p:grpSp>
            <p:nvGrpSpPr>
              <p:cNvPr id="483" name="Group 29"/>
              <p:cNvGrpSpPr/>
              <p:nvPr/>
            </p:nvGrpSpPr>
            <p:grpSpPr>
              <a:xfrm>
                <a:off x="3732120" y="4343400"/>
                <a:ext cx="354600" cy="916920"/>
                <a:chOff x="3732120" y="4343400"/>
                <a:chExt cx="354600" cy="916920"/>
              </a:xfrm>
            </p:grpSpPr>
            <p:sp>
              <p:nvSpPr>
                <p:cNvPr id="484" name="Text Box 30"/>
                <p:cNvSpPr/>
                <p:nvPr/>
              </p:nvSpPr>
              <p:spPr>
                <a:xfrm>
                  <a:off x="3732120" y="43434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1"/>
                <p:cNvSpPr/>
                <p:nvPr/>
              </p:nvSpPr>
              <p:spPr>
                <a:xfrm>
                  <a:off x="3733920" y="4800600"/>
                  <a:ext cx="2901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86" name="Text Box 32"/>
                <p:cNvSpPr/>
                <p:nvPr/>
              </p:nvSpPr>
              <p:spPr>
                <a:xfrm>
                  <a:off x="3732120" y="48006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Text Box 33"/>
              <p:cNvSpPr/>
              <p:nvPr/>
            </p:nvSpPr>
            <p:spPr>
              <a:xfrm>
                <a:off x="4098600" y="4516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8915400" cy="2362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10"/>
          <p:cNvPicPr/>
          <p:nvPr/>
        </p:nvPicPr>
        <p:blipFill>
          <a:blip r:embed="rId2"/>
          <a:stretch/>
        </p:blipFill>
        <p:spPr>
          <a:xfrm>
            <a:off x="228600" y="23623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"/>
          <p:cNvSpPr/>
          <p:nvPr/>
        </p:nvSpPr>
        <p:spPr>
          <a:xfrm>
            <a:off x="4393440" y="25146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바탕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∥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1=∠D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∥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2=∠B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的角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BAD= ∠D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1= ∠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1371600" y="563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3300"/>
                </a:solidFill>
                <a:uFillTx/>
                <a:latin typeface="Tahoma"/>
                <a:ea typeface="宋体"/>
              </a:rPr>
              <a:t>小结：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389480" y="3048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一节课你最大的收获是什么？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3" name="Picture 6" descr="DD01352_"/>
          <p:cNvPicPr/>
          <p:nvPr/>
        </p:nvPicPr>
        <p:blipFill>
          <a:blip r:embed="rId1"/>
          <a:stretch/>
        </p:blipFill>
        <p:spPr>
          <a:xfrm>
            <a:off x="6705720" y="228600"/>
            <a:ext cx="1858680" cy="1790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1" descr="BJ3009"/>
          <p:cNvPicPr/>
          <p:nvPr/>
        </p:nvPicPr>
        <p:blipFill>
          <a:blip r:embed="rId1"/>
          <a:stretch/>
        </p:blipFill>
        <p:spPr>
          <a:xfrm>
            <a:off x="1295280" y="990720"/>
            <a:ext cx="7848720" cy="58878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116000" y="4843440"/>
            <a:ext cx="49687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57440" y="6778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d1f1f"/>
                </a:solidFill>
                <a:latin typeface="Arial"/>
                <a:ea typeface="宋体"/>
              </a:rPr>
              <a:t>轻轻的</a:t>
            </a:r>
            <a:r>
              <a:rPr b="0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391400" y="685800"/>
            <a:ext cx="10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我走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2894760" y="13716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正如我轻轻的来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109040" y="25146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d1f1f"/>
                </a:solidFill>
                <a:latin typeface="Arial"/>
                <a:ea typeface="宋体"/>
              </a:rPr>
              <a:t>我轻轻地点击鼠标</a:t>
            </a:r>
            <a:r>
              <a:rPr b="0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1" name="WordArt 9" descr=""/>
          <p:cNvPicPr/>
          <p:nvPr/>
        </p:nvPicPr>
        <p:blipFill>
          <a:blip r:embed="rId2"/>
          <a:stretch/>
        </p:blipFill>
        <p:spPr>
          <a:xfrm>
            <a:off x="3992400" y="3419640"/>
            <a:ext cx="4565880" cy="963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天使1"/>
          <p:cNvPicPr/>
          <p:nvPr/>
        </p:nvPicPr>
        <p:blipFill>
          <a:blip r:embed="rId3"/>
          <a:stretch/>
        </p:blipFill>
        <p:spPr>
          <a:xfrm>
            <a:off x="6705720" y="990720"/>
            <a:ext cx="87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175"/>
                            </p:stCondLst>
                            <p:childTnLst>
                              <p:par>
                                <p:cTn id="176" nodeType="afterEffect" fill="hold" presetClass="entr" presetID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675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-304920" y="2514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  <a:ea typeface="华文新魏"/>
              </a:rPr>
              <a:t>三角形的稳定性在生活中有广泛的应用 ，你能举出一些例子吗？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966320" y="609480"/>
            <a:ext cx="5487120" cy="1800360"/>
          </a:xfrm>
          <a:prstGeom prst="rect">
            <a:avLst/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用三根木棒钉一个三角形，你会发现再也无法改变这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三角形的形状和大小，也就是说，如果一个三角形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三条边固定了，那么三角形的形状和大小就完全确定了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在数学上把三角形的这个性质叫做</a:t>
            </a:r>
            <a:r>
              <a:rPr b="1" lang="zh-CN" sz="2800" spc="-1" strike="noStrike">
                <a:solidFill>
                  <a:srgbClr val="a5644e"/>
                </a:solidFill>
                <a:latin typeface="Tahoma"/>
                <a:ea typeface="宋体"/>
              </a:rPr>
              <a:t>三角形的稳定性</a:t>
            </a:r>
            <a:r>
              <a:rPr b="1" lang="en-US" sz="2800" spc="-1" strike="noStrike">
                <a:solidFill>
                  <a:srgbClr val="a5644e"/>
                </a:solidFill>
                <a:latin typeface="Tahoma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02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05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236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F81246"/>
          <p:cNvPicPr/>
          <p:nvPr/>
        </p:nvPicPr>
        <p:blipFill>
          <a:blip r:embed="rId2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Object 2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9:11:01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2:06Z</dcterms:modified>
  <cp:revision>122</cp:revision>
  <dc:subject>www.12999.com</dc:subject>
  <dc:title>www.12999.com</dc:title>
</cp:coreProperties>
</file>