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6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19.gif" ContentType="image/gif"/>
  <Override PartName="/ppt/media/image18.jpeg" ContentType="image/jpeg"/>
  <Override PartName="/ppt/media/image21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39D-A8F8-449F-A01F-3B16F061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132-64DC-4594-ABA6-9978D555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81EF7-35FB-4CBD-A9EC-2ACACD60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79C3-57EA-4335-A0FB-F73B9C4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ED51B-FC5F-4388-BFDC-918F0749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F182C-913E-48A5-9DC4-D9C224E7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B5EC0-12A8-4F25-8931-0D8EA88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42882-7A05-4D4D-8601-4B89DC64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6FAAF-5F9E-458E-9884-FB31FD13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9B2F8-30F6-4A0F-8FBD-FBF2C35C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A6217-705E-4931-A2BF-97DA65F9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B294A-6539-4447-91BE-0D6186A8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B9A-EEA6-4A14-A0F0-5CAF7A3D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84DBD-5109-4F7E-8F97-B0E0D5E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1D1EB-5C16-4432-8062-756A7F9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6D19C-C890-468C-9766-3DC8A57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F0160-0710-439C-993C-CA3AC897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AA5C4-FF36-4B9F-9E26-4F66913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47DCE-C324-4894-BD88-CA6A99AB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79AA7-887A-4198-832B-5531849D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2AE0D-D656-4B74-9D75-15EC0E65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2EE76-2F38-47D9-81B2-22FF1B9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7A7B4-411E-41EC-A5CF-28A3A478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D68-A957-4E54-A6D6-5200BA0D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E4E48-6066-4902-B2DC-F0129E88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7CD89-7BDE-4CB2-ABFA-C2ADC731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0DA0E-F83F-409B-8815-054D7A0B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3E571-E406-4717-9EBF-EA4B1A09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1DF5E-EACA-4BDA-9A84-7BD78453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B335A-5B94-46A5-934B-E6BA8820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24A91-FA0C-494C-B529-3D6AEBAB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2BD5E-F96E-480E-A093-B65DA47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AAC2C-6AC1-4424-A016-4019BA3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83C0D-B87F-487D-8602-0BE77E92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ED7E-F963-4B7E-923F-D608D099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C6690-D541-461F-B45E-D8028AC7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00C6D-F59F-491F-A083-B03BF9D7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0ADAF-43AB-4246-BB8D-BD5FDA67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053FD-7EF3-49B9-858A-237E1892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8CCCB-B0AA-4607-8978-C29C5439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9EA89-C6C9-4FEB-A0EF-9323530D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7F947-5572-4F0B-904C-2716E67F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FFC0D-5654-4F4F-BE17-FCDECC27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22B94-2C36-4A31-A4F6-EA61087A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3F7D2-726E-490E-B2BE-AF9860E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DCEC-3DE2-401B-BD6B-3ED3BBAC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BCF89-41CC-4808-AC9C-2D26E00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C520A-4ABB-44EC-ADA5-EC829541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93A6A-B62D-40FE-9DA9-B2E14E74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FD1C3-920E-4C91-9189-717AFEC8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F245A-796F-4FB5-80CA-C2E95D3C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97AFA-DA17-4705-9AE4-7B8F2C92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BA6CD-AFEE-4F07-8B49-4EFC0DBB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D52E5-CA20-493D-800D-216759CD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B846C-AA27-4D5C-AFAD-7F8C5676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CEE06-398F-4785-B0A2-30DF4DAF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3EFD-0182-416D-A5D4-75545FA6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726FB-71E3-422A-A72D-773CBC7F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EF36C-6811-4B2D-A166-1D5BCDAB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7F639-0C5C-4861-839D-D673C82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BFFF6-B173-46C3-A9AB-D69AF7A8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9DEA4-44CF-4995-9D33-263CA284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71F42-9F55-4A2B-818E-3BE06B37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B3C99-8C6C-4E29-AF42-97727434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19D2-4DC2-4D24-B1BC-30617591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4DF2-832F-4950-A3A1-BCAC688C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5444-42A8-47D6-8E3B-A5152E27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B68-63FC-4D20-9BB4-37146ED5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E85-5E65-4204-9AD2-09BAF205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4C0F-77B4-48B9-87D4-43D5D717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180D-AF13-4F3D-8AFA-181B687B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E63F-4183-4CE7-8052-5C534F21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A9BC-7759-4FC6-9582-74488EE1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645B-F99B-428F-BA88-EB36F7F9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8D8A-56D2-48F7-8BA1-8C518C13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95ACF-1B7C-45ED-8EB5-765BBF3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9BB2-E14A-4CA9-AD7E-C460D5B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AC446-5CF6-46D7-8CF2-BD6D3BD0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5BE4-B0C5-43C7-BDAF-4C2A1D0C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D80-7C55-44AA-BBCC-E4AB3BE9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BDDD-5279-4138-902C-A162F417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5AE97-D562-42D9-B5F3-F5B4506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A8543-79A0-44C7-86EC-8AD22B5F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FA37-CB56-4C43-AF6A-D704CACE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3A79-385F-48B4-9E04-7F9650ED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1521-04D4-4654-BB37-6EDC534F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D451-3B1A-455E-B721-12C349EE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95AE-D21B-4758-978F-EA550C38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21C4-DA84-42BD-AC71-26538872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78C67-E8D1-4B9A-BE52-5180F48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AD7-0012-44A4-8789-6410EC67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69FAC-F793-47E2-B567-3FA69C95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A094-C7C9-402B-84F6-F6FF1373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9863-FC80-4ABE-8E5F-4659EBA3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43C03-8E99-440F-B346-C951C3BD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559C-83B2-48D5-A4CA-FAA00D1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E5EB-776B-4662-BD3A-DD84B34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6654-91F9-4FBD-8AB1-21B8953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2DD0A-B2E1-477D-93B5-94A656AB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5AF21-B5C0-412D-BFCE-DDD4D80F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86EE2-9502-4EEC-A303-695CBDEC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540-21F8-4EC4-8746-B45379EE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9BBA-88C4-4C9A-9F9C-956A27C0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F102-756D-4E79-94E4-EC518E39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A2BB5-11DB-4056-AF6E-3B62356D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174E9-60DA-443C-B923-5C964756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7F1B-7BC0-4E37-8513-04DC2947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5BAAC-42CF-4E63-833A-C694A2A9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5559-9311-4635-8169-52DDBA6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5AFBF-DE17-43C1-8133-E825541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0BE1-9E23-4398-9EAD-6B01DC1C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6F993-19FD-4930-B459-9EC721EA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EA0-BE26-4EC8-AE7A-D322FB5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2D360-BC31-4790-A7F0-F0D9E202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096E8-B201-42FF-9F28-ED982264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F45E9-1FB0-456C-A16C-BE16907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230D1-53B2-4991-A646-B344156A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4529-4500-45E9-B78B-E7F20A67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6283D-07A2-46F4-93B7-0ECA30B1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F44F3-0663-4602-8A43-03873052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F98C3-4979-45C2-BB86-505D4A1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5C6F-FF5D-4B6D-B052-D5E6CBD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90880-F2E9-402A-B782-B1A1187F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359-E9AB-41EA-9236-6A186318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509D-0995-4F88-8CFA-B96C8D44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BEFA6-A2FB-4F35-86BB-3EB2F4C3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629E3-5887-498C-8AD6-5717BADB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89DB-54B8-4486-9391-F4E160F7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A252-19DA-4FB6-96B9-25CBE181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B089A-1F17-4B7E-92D6-AD7FCEF0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CD302-3566-4E2C-8E87-25D1D54F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8384E-4EFC-4DF2-8A9D-D4BCCC96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E42FA-E025-4677-A4EF-D38DA18D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20468-32DA-4A5F-8C80-29C28258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84E-6165-4E72-B061-A52ADEC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C43B4-5A81-4738-82B4-343CCD7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A6591-8AFD-41FB-BE15-B3C6A16A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5CEFB-FAF0-4227-80CF-87D2E70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4C6D0-5B54-4FD6-9FB1-8509A006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72AF-6878-48AF-8557-871209EA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B0DE-16AA-42B7-AAA5-41BC5A25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77A88-B54B-4147-A514-A3F00F67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2ACFE-B1DF-456E-B11F-B93100F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E10B1-EF32-48F3-8151-C6E14EAC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6C9B7-60F0-47A8-BD51-6A95BFE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B40-F633-465D-AAE4-756088F6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53054-AF29-4C3C-8999-DCAFB60B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F5782-69F2-4E3E-817E-B86CE90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638E9-3464-4267-A537-8A5B613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5267A-77C3-4CFC-85A5-9192009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C4A10-3F45-4048-A8DE-218C2A65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3958-8E9F-42FD-85A6-651D3638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D498E-6696-486F-8833-DF43960B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79F63-8C1F-4C39-B222-C62317D3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B2BA1-315D-40F9-811D-E9A30B17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D3E0D-E58E-455B-A607-34C3CD1B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1C8B-8ED0-498C-96CA-328F8A53AF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C95C-4FE0-4292-A724-E7E8B1D5AE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81EF-2EDC-4FEC-B081-6C582D9D40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0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48BC-A233-48B5-87F5-65779905DC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2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5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D928-F182-4196-9B81-37622578D17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93DA-D4DA-43D3-813D-C877706297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2F07-D612-4427-A415-3D99912E3B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4119-D57C-41FD-80EC-038CB3EB650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440C-3387-46F1-854F-A3720BAC30D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BB95-2B50-4670-B473-B98D901D13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E2B4-974F-46DF-9706-58C7F9E949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0BA1-7724-41FD-BAD8-221E8BFE02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0F3-983C-4B75-90B1-371EE647788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8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3"/>
          <p:cNvGrpSpPr/>
          <p:nvPr/>
        </p:nvGrpSpPr>
        <p:grpSpPr>
          <a:xfrm>
            <a:off x="2195280" y="1052640"/>
            <a:ext cx="1726920" cy="3168000"/>
            <a:chOff x="2195280" y="1052640"/>
            <a:chExt cx="1726920" cy="3168000"/>
          </a:xfrm>
        </p:grpSpPr>
        <p:sp>
          <p:nvSpPr>
            <p:cNvPr id="601" name="Line 4"/>
            <p:cNvSpPr/>
            <p:nvPr/>
          </p:nvSpPr>
          <p:spPr>
            <a:xfrm>
              <a:off x="2195640" y="2830320"/>
              <a:ext cx="1658520" cy="1390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2" name="Line 5"/>
            <p:cNvSpPr/>
            <p:nvPr/>
          </p:nvSpPr>
          <p:spPr>
            <a:xfrm flipH="1">
              <a:off x="3853800" y="1052640"/>
              <a:ext cx="68040" cy="3168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3" name="Line 6"/>
            <p:cNvSpPr/>
            <p:nvPr/>
          </p:nvSpPr>
          <p:spPr>
            <a:xfrm flipH="1">
              <a:off x="2195280" y="1052640"/>
              <a:ext cx="1726920" cy="17776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04" name="Group 7"/>
          <p:cNvGrpSpPr/>
          <p:nvPr/>
        </p:nvGrpSpPr>
        <p:grpSpPr>
          <a:xfrm>
            <a:off x="900000" y="692280"/>
            <a:ext cx="1727280" cy="3241440"/>
            <a:chOff x="900000" y="692280"/>
            <a:chExt cx="1727280" cy="3241440"/>
          </a:xfrm>
        </p:grpSpPr>
        <p:sp>
          <p:nvSpPr>
            <p:cNvPr id="605" name="Line 8"/>
            <p:cNvSpPr/>
            <p:nvPr/>
          </p:nvSpPr>
          <p:spPr>
            <a:xfrm flipH="1">
              <a:off x="2556000" y="692280"/>
              <a:ext cx="71280" cy="324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06" name="Group 9"/>
            <p:cNvGrpSpPr/>
            <p:nvPr/>
          </p:nvGrpSpPr>
          <p:grpSpPr>
            <a:xfrm>
              <a:off x="900000" y="692280"/>
              <a:ext cx="1727280" cy="3241440"/>
              <a:chOff x="900000" y="692280"/>
              <a:chExt cx="1727280" cy="3241440"/>
            </a:xfrm>
          </p:grpSpPr>
          <p:sp>
            <p:nvSpPr>
              <p:cNvPr id="607" name="Line 10"/>
              <p:cNvSpPr/>
              <p:nvPr/>
            </p:nvSpPr>
            <p:spPr>
              <a:xfrm flipH="1">
                <a:off x="900000" y="692280"/>
                <a:ext cx="1727280" cy="1873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8" name="Line 11"/>
              <p:cNvSpPr/>
              <p:nvPr/>
            </p:nvSpPr>
            <p:spPr>
              <a:xfrm>
                <a:off x="900000" y="2565360"/>
                <a:ext cx="1656000" cy="136836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WordArt 12"/>
          <p:cNvSpPr txBox="1"/>
          <p:nvPr/>
        </p:nvSpPr>
        <p:spPr>
          <a:xfrm>
            <a:off x="1371600" y="4243320"/>
            <a:ext cx="65530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 </a:t>
            </a: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全等三角形的判定条件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pic_204324"/>
          <p:cNvPicPr/>
          <p:nvPr/>
        </p:nvPicPr>
        <p:blipFill>
          <a:blip r:embed="rId1"/>
          <a:srcRect l="0" t="0" r="68" b="-71"/>
          <a:stretch/>
        </p:blipFill>
        <p:spPr>
          <a:xfrm>
            <a:off x="-181080" y="189000"/>
            <a:ext cx="9325080" cy="496872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468360" y="521352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因为一个图形经过平移、翻折、旋转后，位置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变化了，但形状、大小都没有改变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900000" y="328680"/>
            <a:ext cx="117324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9" name="WordArt 6"/>
          <p:cNvSpPr txBox="1"/>
          <p:nvPr/>
        </p:nvSpPr>
        <p:spPr>
          <a:xfrm>
            <a:off x="1042920" y="0"/>
            <a:ext cx="18288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回顾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3995640" y="5805360"/>
            <a:ext cx="30243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826920" y="189000"/>
            <a:ext cx="2676240" cy="1668240"/>
            <a:chOff x="826920" y="189000"/>
            <a:chExt cx="2676240" cy="1668240"/>
          </a:xfrm>
        </p:grpSpPr>
        <p:sp>
          <p:nvSpPr>
            <p:cNvPr id="672" name="Freeform 3"/>
            <p:cNvSpPr/>
            <p:nvPr/>
          </p:nvSpPr>
          <p:spPr>
            <a:xfrm>
              <a:off x="1130040" y="447840"/>
              <a:ext cx="1858320" cy="1036440"/>
            </a:xfrm>
            <a:custGeom>
              <a:avLst/>
              <a:gdLst>
                <a:gd name="textAreaLeft" fmla="*/ 0 w 1858320"/>
                <a:gd name="textAreaRight" fmla="*/ 1858680 w 185832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386" h="908">
                  <a:moveTo>
                    <a:pt x="499" y="0"/>
                  </a:moveTo>
                  <a:lnTo>
                    <a:pt x="0" y="907"/>
                  </a:lnTo>
                  <a:cubicBezTo>
                    <a:pt x="462" y="907"/>
                    <a:pt x="924" y="908"/>
                    <a:pt x="1386" y="908"/>
                  </a:cubicBezTo>
                  <a:cubicBezTo>
                    <a:pt x="1090" y="605"/>
                    <a:pt x="499" y="0"/>
                    <a:pt x="499" y="0"/>
                  </a:cubicBezTo>
                  <a:close/>
                </a:path>
              </a:pathLst>
            </a:cu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3" name="Text Box 4"/>
            <p:cNvSpPr/>
            <p:nvPr/>
          </p:nvSpPr>
          <p:spPr>
            <a:xfrm>
              <a:off x="1557720" y="189000"/>
              <a:ext cx="36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4" name="Text Box 5"/>
            <p:cNvSpPr/>
            <p:nvPr/>
          </p:nvSpPr>
          <p:spPr>
            <a:xfrm>
              <a:off x="3016440" y="1430640"/>
              <a:ext cx="48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826920" y="1458360"/>
              <a:ext cx="4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76" name="Group 7"/>
          <p:cNvGrpSpPr/>
          <p:nvPr/>
        </p:nvGrpSpPr>
        <p:grpSpPr>
          <a:xfrm>
            <a:off x="3095640" y="189000"/>
            <a:ext cx="2676240" cy="1665360"/>
            <a:chOff x="3095640" y="189000"/>
            <a:chExt cx="2676240" cy="1665360"/>
          </a:xfrm>
        </p:grpSpPr>
        <p:sp>
          <p:nvSpPr>
            <p:cNvPr id="677" name="Freeform 8"/>
            <p:cNvSpPr/>
            <p:nvPr/>
          </p:nvSpPr>
          <p:spPr>
            <a:xfrm>
              <a:off x="3398760" y="447840"/>
              <a:ext cx="1858320" cy="1036440"/>
            </a:xfrm>
            <a:custGeom>
              <a:avLst/>
              <a:gdLst>
                <a:gd name="textAreaLeft" fmla="*/ 0 w 1858320"/>
                <a:gd name="textAreaRight" fmla="*/ 1858680 w 185832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386" h="908">
                  <a:moveTo>
                    <a:pt x="499" y="0"/>
                  </a:moveTo>
                  <a:lnTo>
                    <a:pt x="0" y="907"/>
                  </a:lnTo>
                  <a:cubicBezTo>
                    <a:pt x="462" y="907"/>
                    <a:pt x="924" y="908"/>
                    <a:pt x="1386" y="908"/>
                  </a:cubicBezTo>
                  <a:cubicBezTo>
                    <a:pt x="1090" y="605"/>
                    <a:pt x="499" y="0"/>
                    <a:pt x="499" y="0"/>
                  </a:cubicBezTo>
                  <a:close/>
                </a:path>
              </a:pathLst>
            </a:cu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8" name="Text Box 9"/>
            <p:cNvSpPr/>
            <p:nvPr/>
          </p:nvSpPr>
          <p:spPr>
            <a:xfrm>
              <a:off x="3826440" y="189000"/>
              <a:ext cx="36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9" name="Text Box 10"/>
            <p:cNvSpPr/>
            <p:nvPr/>
          </p:nvSpPr>
          <p:spPr>
            <a:xfrm>
              <a:off x="5285160" y="1430640"/>
              <a:ext cx="48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80" name="Text Box 11"/>
            <p:cNvSpPr/>
            <p:nvPr/>
          </p:nvSpPr>
          <p:spPr>
            <a:xfrm>
              <a:off x="3095640" y="1458360"/>
              <a:ext cx="4266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81" name="Text Box 12"/>
          <p:cNvSpPr/>
          <p:nvPr/>
        </p:nvSpPr>
        <p:spPr>
          <a:xfrm>
            <a:off x="539640" y="1916280"/>
            <a:ext cx="727236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华文新魏"/>
              </a:rPr>
              <a:t>观察图形思考：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如上图，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BC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与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DEF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全等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BC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与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DEF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重合时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与顶点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重合的点是哪个点？       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重合的角是哪个角？       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与边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重合的边是哪条边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13"/>
          <p:cNvSpPr/>
          <p:nvPr/>
        </p:nvSpPr>
        <p:spPr>
          <a:xfrm>
            <a:off x="6300720" y="35002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点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3" name="Text Box 14"/>
          <p:cNvSpPr/>
          <p:nvPr/>
        </p:nvSpPr>
        <p:spPr>
          <a:xfrm>
            <a:off x="826920" y="406080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能够互相重合的顶点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对应顶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6337440" y="450540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828720" y="50688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能够互相重合的角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6458040" y="55134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D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900000" y="609300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能够互相重合的边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对应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8" name="Text Box 19"/>
          <p:cNvSpPr/>
          <p:nvPr/>
        </p:nvSpPr>
        <p:spPr>
          <a:xfrm>
            <a:off x="3354840" y="1425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374240" y="689760"/>
            <a:ext cx="1409400" cy="61963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你能找出图中所有的对应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顶点、对应角、对应边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1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6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7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70" fill="hold"/>
                                        <p:tgtEl>
                                          <p:spTgt spid="6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6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826920" y="189000"/>
            <a:ext cx="2676240" cy="1668240"/>
            <a:chOff x="826920" y="189000"/>
            <a:chExt cx="2676240" cy="1668240"/>
          </a:xfrm>
        </p:grpSpPr>
        <p:sp>
          <p:nvSpPr>
            <p:cNvPr id="691" name="Freeform 3"/>
            <p:cNvSpPr/>
            <p:nvPr/>
          </p:nvSpPr>
          <p:spPr>
            <a:xfrm>
              <a:off x="1130040" y="447840"/>
              <a:ext cx="1858320" cy="1036440"/>
            </a:xfrm>
            <a:custGeom>
              <a:avLst/>
              <a:gdLst>
                <a:gd name="textAreaLeft" fmla="*/ 0 w 1858320"/>
                <a:gd name="textAreaRight" fmla="*/ 1858680 w 185832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386" h="908">
                  <a:moveTo>
                    <a:pt x="499" y="0"/>
                  </a:moveTo>
                  <a:lnTo>
                    <a:pt x="0" y="907"/>
                  </a:lnTo>
                  <a:cubicBezTo>
                    <a:pt x="462" y="907"/>
                    <a:pt x="924" y="908"/>
                    <a:pt x="1386" y="908"/>
                  </a:cubicBezTo>
                  <a:cubicBezTo>
                    <a:pt x="1090" y="605"/>
                    <a:pt x="499" y="0"/>
                    <a:pt x="499" y="0"/>
                  </a:cubicBezTo>
                  <a:close/>
                </a:path>
              </a:pathLst>
            </a:cu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2" name="Text Box 4"/>
            <p:cNvSpPr/>
            <p:nvPr/>
          </p:nvSpPr>
          <p:spPr>
            <a:xfrm>
              <a:off x="1557720" y="189000"/>
              <a:ext cx="36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3" name="Text Box 5"/>
            <p:cNvSpPr/>
            <p:nvPr/>
          </p:nvSpPr>
          <p:spPr>
            <a:xfrm>
              <a:off x="3016440" y="1430640"/>
              <a:ext cx="48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26920" y="1458360"/>
              <a:ext cx="4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95" name="Group 7"/>
          <p:cNvGrpSpPr/>
          <p:nvPr/>
        </p:nvGrpSpPr>
        <p:grpSpPr>
          <a:xfrm>
            <a:off x="3095640" y="189000"/>
            <a:ext cx="2676240" cy="1665360"/>
            <a:chOff x="3095640" y="189000"/>
            <a:chExt cx="2676240" cy="1665360"/>
          </a:xfrm>
        </p:grpSpPr>
        <p:sp>
          <p:nvSpPr>
            <p:cNvPr id="696" name="Freeform 8"/>
            <p:cNvSpPr/>
            <p:nvPr/>
          </p:nvSpPr>
          <p:spPr>
            <a:xfrm>
              <a:off x="3398760" y="447840"/>
              <a:ext cx="1858320" cy="1036440"/>
            </a:xfrm>
            <a:custGeom>
              <a:avLst/>
              <a:gdLst>
                <a:gd name="textAreaLeft" fmla="*/ 0 w 1858320"/>
                <a:gd name="textAreaRight" fmla="*/ 1858680 w 185832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386" h="908">
                  <a:moveTo>
                    <a:pt x="499" y="0"/>
                  </a:moveTo>
                  <a:lnTo>
                    <a:pt x="0" y="907"/>
                  </a:lnTo>
                  <a:cubicBezTo>
                    <a:pt x="462" y="907"/>
                    <a:pt x="924" y="908"/>
                    <a:pt x="1386" y="908"/>
                  </a:cubicBezTo>
                  <a:cubicBezTo>
                    <a:pt x="1090" y="605"/>
                    <a:pt x="499" y="0"/>
                    <a:pt x="499" y="0"/>
                  </a:cubicBezTo>
                  <a:close/>
                </a:path>
              </a:pathLst>
            </a:cu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7" name="Text Box 9"/>
            <p:cNvSpPr/>
            <p:nvPr/>
          </p:nvSpPr>
          <p:spPr>
            <a:xfrm>
              <a:off x="3826440" y="189000"/>
              <a:ext cx="36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8" name="Text Box 10"/>
            <p:cNvSpPr/>
            <p:nvPr/>
          </p:nvSpPr>
          <p:spPr>
            <a:xfrm>
              <a:off x="5285160" y="1430640"/>
              <a:ext cx="48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9" name="Text Box 11"/>
            <p:cNvSpPr/>
            <p:nvPr/>
          </p:nvSpPr>
          <p:spPr>
            <a:xfrm>
              <a:off x="3095640" y="1458360"/>
              <a:ext cx="4266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00" name="Text Box 15"/>
          <p:cNvSpPr/>
          <p:nvPr/>
        </p:nvSpPr>
        <p:spPr>
          <a:xfrm>
            <a:off x="1042920" y="2421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与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828720" y="1844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对应角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1128600" y="52293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AC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D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00000" y="463860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对应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3354840" y="1425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7374240" y="689760"/>
            <a:ext cx="1409400" cy="61963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你能找出图中所有的对应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顶点、对应角、对应边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6" name="Text Box 21"/>
          <p:cNvSpPr/>
          <p:nvPr/>
        </p:nvSpPr>
        <p:spPr>
          <a:xfrm>
            <a:off x="1042920" y="29210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与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7" name="Text Box 22"/>
          <p:cNvSpPr/>
          <p:nvPr/>
        </p:nvSpPr>
        <p:spPr>
          <a:xfrm>
            <a:off x="1042920" y="34257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与∠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8" name="Text Box 23"/>
          <p:cNvSpPr/>
          <p:nvPr/>
        </p:nvSpPr>
        <p:spPr>
          <a:xfrm>
            <a:off x="3505320" y="5229360"/>
            <a:ext cx="25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A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D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9" name="Text Box 24"/>
          <p:cNvSpPr/>
          <p:nvPr/>
        </p:nvSpPr>
        <p:spPr>
          <a:xfrm>
            <a:off x="1116000" y="580248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C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F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7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1835280" y="189000"/>
            <a:ext cx="2675880" cy="1668240"/>
            <a:chOff x="1835280" y="189000"/>
            <a:chExt cx="2675880" cy="1668240"/>
          </a:xfrm>
        </p:grpSpPr>
        <p:sp>
          <p:nvSpPr>
            <p:cNvPr id="711" name="Freeform 3"/>
            <p:cNvSpPr/>
            <p:nvPr/>
          </p:nvSpPr>
          <p:spPr>
            <a:xfrm>
              <a:off x="2138400" y="447840"/>
              <a:ext cx="1858320" cy="1036440"/>
            </a:xfrm>
            <a:custGeom>
              <a:avLst/>
              <a:gdLst>
                <a:gd name="textAreaLeft" fmla="*/ 0 w 1858320"/>
                <a:gd name="textAreaRight" fmla="*/ 1858680 w 185832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386" h="908">
                  <a:moveTo>
                    <a:pt x="499" y="0"/>
                  </a:moveTo>
                  <a:lnTo>
                    <a:pt x="0" y="907"/>
                  </a:lnTo>
                  <a:cubicBezTo>
                    <a:pt x="462" y="907"/>
                    <a:pt x="924" y="908"/>
                    <a:pt x="1386" y="908"/>
                  </a:cubicBezTo>
                  <a:cubicBezTo>
                    <a:pt x="1090" y="605"/>
                    <a:pt x="499" y="0"/>
                    <a:pt x="499" y="0"/>
                  </a:cubicBezTo>
                  <a:close/>
                </a:path>
              </a:pathLst>
            </a:cu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2" name="Text Box 4"/>
            <p:cNvSpPr/>
            <p:nvPr/>
          </p:nvSpPr>
          <p:spPr>
            <a:xfrm>
              <a:off x="2566080" y="189000"/>
              <a:ext cx="36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3" name="Text Box 5"/>
            <p:cNvSpPr/>
            <p:nvPr/>
          </p:nvSpPr>
          <p:spPr>
            <a:xfrm>
              <a:off x="4024440" y="1430640"/>
              <a:ext cx="48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4" name="Text Box 6"/>
            <p:cNvSpPr/>
            <p:nvPr/>
          </p:nvSpPr>
          <p:spPr>
            <a:xfrm>
              <a:off x="1835280" y="1458360"/>
              <a:ext cx="42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15" name="Group 7"/>
          <p:cNvGrpSpPr/>
          <p:nvPr/>
        </p:nvGrpSpPr>
        <p:grpSpPr>
          <a:xfrm>
            <a:off x="4103640" y="189000"/>
            <a:ext cx="2676240" cy="1665360"/>
            <a:chOff x="4103640" y="189000"/>
            <a:chExt cx="2676240" cy="1665360"/>
          </a:xfrm>
        </p:grpSpPr>
        <p:sp>
          <p:nvSpPr>
            <p:cNvPr id="716" name="Freeform 8"/>
            <p:cNvSpPr/>
            <p:nvPr/>
          </p:nvSpPr>
          <p:spPr>
            <a:xfrm>
              <a:off x="4406760" y="447840"/>
              <a:ext cx="1858320" cy="1036440"/>
            </a:xfrm>
            <a:custGeom>
              <a:avLst/>
              <a:gdLst>
                <a:gd name="textAreaLeft" fmla="*/ 0 w 1858320"/>
                <a:gd name="textAreaRight" fmla="*/ 1858680 w 185832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386" h="908">
                  <a:moveTo>
                    <a:pt x="499" y="0"/>
                  </a:moveTo>
                  <a:lnTo>
                    <a:pt x="0" y="907"/>
                  </a:lnTo>
                  <a:cubicBezTo>
                    <a:pt x="462" y="907"/>
                    <a:pt x="924" y="908"/>
                    <a:pt x="1386" y="908"/>
                  </a:cubicBezTo>
                  <a:cubicBezTo>
                    <a:pt x="1090" y="605"/>
                    <a:pt x="499" y="0"/>
                    <a:pt x="499" y="0"/>
                  </a:cubicBezTo>
                  <a:close/>
                </a:path>
              </a:pathLst>
            </a:cu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7" name="Text Box 9"/>
            <p:cNvSpPr/>
            <p:nvPr/>
          </p:nvSpPr>
          <p:spPr>
            <a:xfrm>
              <a:off x="4834440" y="189000"/>
              <a:ext cx="36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8" name="Text Box 10"/>
            <p:cNvSpPr/>
            <p:nvPr/>
          </p:nvSpPr>
          <p:spPr>
            <a:xfrm>
              <a:off x="6293160" y="1430640"/>
              <a:ext cx="48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4103640" y="1458360"/>
              <a:ext cx="4266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20" name="Text Box 12"/>
          <p:cNvSpPr/>
          <p:nvPr/>
        </p:nvSpPr>
        <p:spPr>
          <a:xfrm>
            <a:off x="4362840" y="141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396720" y="20462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全等，记作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△DEF”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2" name="Text Box 14"/>
          <p:cNvSpPr/>
          <p:nvPr/>
        </p:nvSpPr>
        <p:spPr>
          <a:xfrm>
            <a:off x="1403280" y="2708280"/>
            <a:ext cx="691200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记两个三角形全等时，通常把表示对应顶点的字母写在对应的位置上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3" name="WordArt 15"/>
          <p:cNvSpPr txBox="1"/>
          <p:nvPr/>
        </p:nvSpPr>
        <p:spPr>
          <a:xfrm>
            <a:off x="539640" y="4292640"/>
            <a:ext cx="424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4e3b3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全等三角形的性质：</a:t>
            </a:r>
            <a:endParaRPr b="1" lang="en-US" sz="1400" spc="1" strike="noStrike">
              <a:ln w="9360">
                <a:solidFill>
                  <a:srgbClr val="4e3b3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68360" y="4941720"/>
            <a:ext cx="662472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宋体"/>
              </a:rPr>
              <a:t>1.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对应边相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2268360" y="5805360"/>
            <a:ext cx="66247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宋体"/>
              </a:rPr>
              <a:t>2.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对应角相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0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4494240" cy="2708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3"/>
          <p:cNvSpPr/>
          <p:nvPr/>
        </p:nvSpPr>
        <p:spPr>
          <a:xfrm>
            <a:off x="438120" y="836640"/>
            <a:ext cx="983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，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≌△D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如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=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=7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B=30 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C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CB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BC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　　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7128000" y="134136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319120" y="17733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7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6135480" y="17733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31" name="Picture 7" descr="N_183"/>
          <p:cNvPicPr/>
          <p:nvPr/>
        </p:nvPicPr>
        <p:blipFill>
          <a:blip r:embed="rId2"/>
          <a:stretch/>
        </p:blipFill>
        <p:spPr>
          <a:xfrm>
            <a:off x="-36360" y="-100080"/>
            <a:ext cx="1258560" cy="119232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8"/>
          <p:cNvSpPr/>
          <p:nvPr/>
        </p:nvSpPr>
        <p:spPr>
          <a:xfrm>
            <a:off x="1006560" y="1573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课前练一练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179280" y="1125360"/>
            <a:ext cx="87854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已知△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ADF≌△CBE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，则结论：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AF=CE ;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②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BEC=∠DFA ③BE=CF ④DF=BE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，正确的个数是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(   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Ａ）１个（Ｂ）２个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Ｃ）３个（Ｄ）４个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34" name="Picture 5" descr=""/>
          <p:cNvPicPr/>
          <p:nvPr/>
        </p:nvPicPr>
        <p:blipFill>
          <a:blip r:embed="rId1"/>
          <a:stretch/>
        </p:blipFill>
        <p:spPr>
          <a:xfrm>
            <a:off x="3059280" y="4292640"/>
            <a:ext cx="3095280" cy="2336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35" name="Text Box 6"/>
          <p:cNvSpPr/>
          <p:nvPr/>
        </p:nvSpPr>
        <p:spPr>
          <a:xfrm>
            <a:off x="97308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3348000" y="333000"/>
            <a:ext cx="5400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　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某检查人员到工厂检查三角形模型尺寸是否合格。其中标准模型尺寸如图，如果你是检查人员，你至少需要量出几个数据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才能判断出两个三角形模型全等呢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737" name="Picture 3" descr="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62640" y="3637080"/>
            <a:ext cx="609840" cy="457200"/>
          </a:xfrm>
          <a:prstGeom prst="rect">
            <a:avLst/>
          </a:prstGeom>
          <a:ln w="0">
            <a:noFill/>
          </a:ln>
        </p:spPr>
      </p:pic>
      <p:sp>
        <p:nvSpPr>
          <p:cNvPr id="738" name="AutoShape 4"/>
          <p:cNvSpPr/>
          <p:nvPr/>
        </p:nvSpPr>
        <p:spPr>
          <a:xfrm>
            <a:off x="324000" y="2852640"/>
            <a:ext cx="2663640" cy="1584360"/>
          </a:xfrm>
          <a:prstGeom prst="triangle">
            <a:avLst>
              <a:gd name="adj" fmla="val 69458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755640" y="3141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270036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1476360" y="386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1835280" y="30463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2426760" y="3909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γ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4" name="Text Box 10"/>
          <p:cNvSpPr/>
          <p:nvPr/>
        </p:nvSpPr>
        <p:spPr>
          <a:xfrm>
            <a:off x="698760" y="39290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5" name="Arc 11"/>
          <p:cNvSpPr/>
          <p:nvPr/>
        </p:nvSpPr>
        <p:spPr>
          <a:xfrm>
            <a:off x="611280" y="4221000"/>
            <a:ext cx="71280" cy="216000"/>
          </a:xfrm>
          <a:custGeom>
            <a:avLst/>
            <a:gdLst>
              <a:gd name="textAreaLeft" fmla="*/ 0 w 71280"/>
              <a:gd name="textAreaRight" fmla="*/ 71640 w 7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6" name="Arc 12"/>
          <p:cNvSpPr/>
          <p:nvPr/>
        </p:nvSpPr>
        <p:spPr>
          <a:xfrm flipV="1">
            <a:off x="1863720" y="2996640"/>
            <a:ext cx="420840" cy="144360"/>
          </a:xfrm>
          <a:custGeom>
            <a:avLst/>
            <a:gdLst>
              <a:gd name="textAreaLeft" fmla="*/ 0 w 420840"/>
              <a:gd name="textAreaRight" fmla="*/ 421200 w 4208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fill="none" w="21058" h="21600">
                <a:moveTo>
                  <a:pt x="-1" y="107"/>
                </a:moveTo>
                <a:cubicBezTo>
                  <a:pt x="716" y="36"/>
                  <a:pt x="1436" y="-1"/>
                  <a:pt x="2157" y="0"/>
                </a:cubicBezTo>
                <a:cubicBezTo>
                  <a:pt x="10015" y="0"/>
                  <a:pt x="17254" y="4268"/>
                  <a:pt x="21058" y="11144"/>
                </a:cubicBezTo>
              </a:path>
              <a:path stroke="0" w="21058" h="21600">
                <a:moveTo>
                  <a:pt x="-1" y="107"/>
                </a:moveTo>
                <a:cubicBezTo>
                  <a:pt x="716" y="36"/>
                  <a:pt x="1436" y="-1"/>
                  <a:pt x="2157" y="0"/>
                </a:cubicBezTo>
                <a:cubicBezTo>
                  <a:pt x="10015" y="0"/>
                  <a:pt x="17254" y="4268"/>
                  <a:pt x="21058" y="11144"/>
                </a:cubicBezTo>
                <a:lnTo>
                  <a:pt x="2157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7" name="Arc 13"/>
          <p:cNvSpPr/>
          <p:nvPr/>
        </p:nvSpPr>
        <p:spPr>
          <a:xfrm flipH="1">
            <a:off x="2843280" y="4235400"/>
            <a:ext cx="71280" cy="201600"/>
          </a:xfrm>
          <a:custGeom>
            <a:avLst/>
            <a:gdLst>
              <a:gd name="textAreaLeft" fmla="*/ 360 w 71280"/>
              <a:gd name="textAreaRight" fmla="*/ 72000 w 712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fill="none" w="21600" h="20206">
                <a:moveTo>
                  <a:pt x="7633" y="-1"/>
                </a:moveTo>
                <a:cubicBezTo>
                  <a:pt x="16038" y="3174"/>
                  <a:pt x="21600" y="11221"/>
                  <a:pt x="21600" y="20206"/>
                </a:cubicBezTo>
              </a:path>
              <a:path stroke="0" w="21600" h="20206">
                <a:moveTo>
                  <a:pt x="7633" y="-1"/>
                </a:moveTo>
                <a:cubicBezTo>
                  <a:pt x="16038" y="3174"/>
                  <a:pt x="21600" y="11221"/>
                  <a:pt x="21600" y="20206"/>
                </a:cubicBezTo>
                <a:lnTo>
                  <a:pt x="0" y="202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8" name="AutoShape 14"/>
          <p:cNvSpPr/>
          <p:nvPr/>
        </p:nvSpPr>
        <p:spPr>
          <a:xfrm>
            <a:off x="304920" y="168120"/>
            <a:ext cx="3962160" cy="1219320"/>
          </a:xfrm>
          <a:prstGeom prst="cloudCallout">
            <a:avLst>
              <a:gd name="adj1" fmla="val -42027"/>
              <a:gd name="adj2" fmla="val 70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49" name="Picture 15" descr="0025"/>
          <p:cNvPicPr/>
          <p:nvPr/>
        </p:nvPicPr>
        <p:blipFill>
          <a:blip r:embed="rId3"/>
          <a:stretch/>
        </p:blipFill>
        <p:spPr>
          <a:xfrm>
            <a:off x="914400" y="1539720"/>
            <a:ext cx="3009960" cy="1675080"/>
          </a:xfrm>
          <a:prstGeom prst="rect">
            <a:avLst/>
          </a:prstGeom>
          <a:ln w="0">
            <a:noFill/>
          </a:ln>
        </p:spPr>
      </p:pic>
      <p:sp>
        <p:nvSpPr>
          <p:cNvPr id="750" name="WordArt 16"/>
          <p:cNvSpPr txBox="1"/>
          <p:nvPr/>
        </p:nvSpPr>
        <p:spPr>
          <a:xfrm>
            <a:off x="770040" y="428760"/>
            <a:ext cx="28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帮帮我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51" name="WordArt 17"/>
          <p:cNvSpPr txBox="1"/>
          <p:nvPr/>
        </p:nvSpPr>
        <p:spPr>
          <a:xfrm>
            <a:off x="3492360" y="5157720"/>
            <a:ext cx="532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探索全等三角形的判定条件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52" name="AutoShape 18"/>
          <p:cNvSpPr/>
          <p:nvPr/>
        </p:nvSpPr>
        <p:spPr>
          <a:xfrm>
            <a:off x="250920" y="4797360"/>
            <a:ext cx="2663640" cy="1584360"/>
          </a:xfrm>
          <a:prstGeom prst="triangle">
            <a:avLst>
              <a:gd name="adj" fmla="val 69458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4"/>
          <p:cNvGrpSpPr/>
          <p:nvPr/>
        </p:nvGrpSpPr>
        <p:grpSpPr>
          <a:xfrm>
            <a:off x="0" y="0"/>
            <a:ext cx="3203640" cy="1192320"/>
            <a:chOff x="0" y="0"/>
            <a:chExt cx="3203640" cy="1192320"/>
          </a:xfrm>
        </p:grpSpPr>
        <p:pic>
          <p:nvPicPr>
            <p:cNvPr id="754" name="Picture 5" descr="N_18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258920" cy="11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6"/>
            <p:cNvSpPr/>
            <p:nvPr/>
          </p:nvSpPr>
          <p:spPr>
            <a:xfrm>
              <a:off x="1042920" y="25704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想一想：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56" name="Text Box 7"/>
          <p:cNvSpPr/>
          <p:nvPr/>
        </p:nvSpPr>
        <p:spPr>
          <a:xfrm>
            <a:off x="179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）面积相等的两个三角形一定全等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57" name="Picture 9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616720" cy="30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34920" y="1125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）周长相等的两个三角形一定全等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59" name="Picture 5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881440" cy="24526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6" descr=""/>
          <p:cNvPicPr/>
          <p:nvPr/>
        </p:nvPicPr>
        <p:blipFill>
          <a:blip r:embed="rId2"/>
          <a:stretch/>
        </p:blipFill>
        <p:spPr>
          <a:xfrm>
            <a:off x="5398920" y="1700280"/>
            <a:ext cx="1621080" cy="3163680"/>
          </a:xfrm>
          <a:prstGeom prst="rect">
            <a:avLst/>
          </a:prstGeom>
          <a:ln w="0">
            <a:noFill/>
          </a:ln>
        </p:spPr>
      </p:pic>
      <p:grpSp>
        <p:nvGrpSpPr>
          <p:cNvPr id="761" name="Group 7"/>
          <p:cNvGrpSpPr/>
          <p:nvPr/>
        </p:nvGrpSpPr>
        <p:grpSpPr>
          <a:xfrm>
            <a:off x="0" y="0"/>
            <a:ext cx="3203640" cy="1192320"/>
            <a:chOff x="0" y="0"/>
            <a:chExt cx="3203640" cy="1192320"/>
          </a:xfrm>
        </p:grpSpPr>
        <p:pic>
          <p:nvPicPr>
            <p:cNvPr id="762" name="Picture 8" descr="N_18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58920" cy="11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9"/>
            <p:cNvSpPr/>
            <p:nvPr/>
          </p:nvSpPr>
          <p:spPr>
            <a:xfrm>
              <a:off x="1042920" y="25704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想一想：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5"/>
          <p:cNvGrpSpPr/>
          <p:nvPr/>
        </p:nvGrpSpPr>
        <p:grpSpPr>
          <a:xfrm>
            <a:off x="0" y="0"/>
            <a:ext cx="3708000" cy="1192320"/>
            <a:chOff x="0" y="0"/>
            <a:chExt cx="3708000" cy="1192320"/>
          </a:xfrm>
        </p:grpSpPr>
        <p:pic>
          <p:nvPicPr>
            <p:cNvPr id="765" name="Picture 6" descr="N_18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56920" cy="11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7"/>
            <p:cNvSpPr/>
            <p:nvPr/>
          </p:nvSpPr>
          <p:spPr>
            <a:xfrm>
              <a:off x="1207080" y="257040"/>
              <a:ext cx="250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再想一想：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67" name="WordArt 8"/>
          <p:cNvSpPr txBox="1"/>
          <p:nvPr/>
        </p:nvSpPr>
        <p:spPr>
          <a:xfrm>
            <a:off x="539640" y="1082520"/>
            <a:ext cx="424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4e3b3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全等三角形的性质：</a:t>
            </a:r>
            <a:endParaRPr b="1" lang="en-US" sz="1400" spc="1" strike="noStrike">
              <a:ln w="9360">
                <a:solidFill>
                  <a:srgbClr val="4e3b3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268360" y="1731960"/>
            <a:ext cx="662472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宋体"/>
              </a:rPr>
              <a:t>1.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对应边相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2268360" y="2595600"/>
            <a:ext cx="6624720" cy="76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宋体"/>
              </a:rPr>
              <a:t>2.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宋体"/>
              </a:rPr>
              <a:t>全等三角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对应角相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695960" y="3500280"/>
            <a:ext cx="582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知道：若两个三角形的三条边、三个角分别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应相等，则这两个三角形全等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1" name="WordArt 12"/>
          <p:cNvSpPr txBox="1"/>
          <p:nvPr/>
        </p:nvSpPr>
        <p:spPr>
          <a:xfrm>
            <a:off x="2124000" y="5084640"/>
            <a:ext cx="424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4e3b3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一定要六个条件那么多吗？</a:t>
            </a:r>
            <a:endParaRPr b="1" lang="en-US" sz="1400" spc="1" strike="noStrike">
              <a:ln w="9360">
                <a:solidFill>
                  <a:srgbClr val="4e3b3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wipe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WordArt 2"/>
          <p:cNvSpPr txBox="1"/>
          <p:nvPr/>
        </p:nvSpPr>
        <p:spPr>
          <a:xfrm rot="618600">
            <a:off x="755280" y="981000"/>
            <a:ext cx="6696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欣赏生活中的三角形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0" y="0"/>
            <a:ext cx="5363280" cy="1192320"/>
            <a:chOff x="0" y="0"/>
            <a:chExt cx="5363280" cy="1192320"/>
          </a:xfrm>
        </p:grpSpPr>
        <p:pic>
          <p:nvPicPr>
            <p:cNvPr id="773" name="Picture 3" descr="N_18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07440" cy="11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4"/>
            <p:cNvSpPr/>
            <p:nvPr/>
          </p:nvSpPr>
          <p:spPr>
            <a:xfrm>
              <a:off x="1746000" y="257040"/>
              <a:ext cx="361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我们确实可以减少一些条件：</a:t>
              </a:r>
              <a:endParaRPr b="1" lang="en-US" sz="36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75" name="Text Box 8"/>
          <p:cNvSpPr/>
          <p:nvPr/>
        </p:nvSpPr>
        <p:spPr>
          <a:xfrm>
            <a:off x="1707840" y="1378080"/>
            <a:ext cx="581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知道：由于三角形的内角和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如果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个角对应相等，那么另一个角必然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也相等。这样我们只要三条边，两个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角相等五个条件就够了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6" name="WordArt 9"/>
          <p:cNvSpPr txBox="1"/>
          <p:nvPr/>
        </p:nvSpPr>
        <p:spPr>
          <a:xfrm>
            <a:off x="971640" y="2852640"/>
            <a:ext cx="6769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4e3b3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问题：</a:t>
            </a:r>
            <a:endParaRPr b="1" lang="en-US" sz="1400" spc="1" strike="noStrike">
              <a:ln w="9360">
                <a:solidFill>
                  <a:srgbClr val="4e3b3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4e3b3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能否再减少一些？</a:t>
            </a:r>
            <a:endParaRPr b="1" lang="en-US" sz="1400" spc="1" strike="noStrike">
              <a:ln w="9360">
                <a:solidFill>
                  <a:srgbClr val="4e3b3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4e3b3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对六个条件而言至少要有几个元素分别对应相等，两个三角形才全等呢？</a:t>
            </a:r>
            <a:endParaRPr b="1" lang="en-US" sz="1400" spc="1" strike="noStrike">
              <a:ln w="9360">
                <a:solidFill>
                  <a:srgbClr val="4e3b3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778" name="Picture 3" descr="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62640" y="246528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5" descr="议一议 "/>
          <p:cNvPicPr/>
          <p:nvPr/>
        </p:nvPicPr>
        <p:blipFill>
          <a:blip r:embed="rId3"/>
          <a:stretch/>
        </p:blipFill>
        <p:spPr>
          <a:xfrm>
            <a:off x="0" y="0"/>
            <a:ext cx="2970360" cy="13032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4"/>
          <p:cNvSpPr/>
          <p:nvPr/>
        </p:nvSpPr>
        <p:spPr>
          <a:xfrm>
            <a:off x="250920" y="3389400"/>
            <a:ext cx="8893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１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当两个三角形只有一组对应边相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或一组对应角相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时，它们全等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1" name="WordArt 6"/>
          <p:cNvSpPr txBox="1"/>
          <p:nvPr/>
        </p:nvSpPr>
        <p:spPr>
          <a:xfrm>
            <a:off x="539640" y="1413000"/>
            <a:ext cx="331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让我们从最简单的开始吧？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2" name="WordArt 7"/>
          <p:cNvSpPr txBox="1"/>
          <p:nvPr/>
        </p:nvSpPr>
        <p:spPr>
          <a:xfrm>
            <a:off x="826920" y="2637000"/>
            <a:ext cx="316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4e3b3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一个条件</a:t>
            </a:r>
            <a:endParaRPr b="1" lang="en-US" sz="1400" spc="1" strike="noStrike">
              <a:ln w="9360">
                <a:solidFill>
                  <a:srgbClr val="4e3b3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166320" y="620280"/>
            <a:ext cx="8977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Franklin Gothic Book"/>
              </a:rPr>
              <a:t>、两个三角形中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有两组对应边分别相等（假如为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3cm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和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5cm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，它们全等吗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4" name="Text Box 3"/>
          <p:cNvSpPr/>
          <p:nvPr/>
        </p:nvSpPr>
        <p:spPr>
          <a:xfrm>
            <a:off x="1464120" y="2924280"/>
            <a:ext cx="67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有两组对应角分别相等（分别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它们全等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85" name="Picture 5" descr="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5445000"/>
            <a:ext cx="1193760" cy="895320"/>
          </a:xfrm>
          <a:prstGeom prst="rect">
            <a:avLst/>
          </a:prstGeom>
          <a:ln w="0">
            <a:noFill/>
          </a:ln>
        </p:spPr>
      </p:pic>
      <p:sp>
        <p:nvSpPr>
          <p:cNvPr id="786" name="WordArt 6"/>
          <p:cNvSpPr txBox="1"/>
          <p:nvPr/>
        </p:nvSpPr>
        <p:spPr>
          <a:xfrm>
            <a:off x="468360" y="260280"/>
            <a:ext cx="331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两个条件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787" name="Group 7"/>
          <p:cNvGrpSpPr/>
          <p:nvPr/>
        </p:nvGrpSpPr>
        <p:grpSpPr>
          <a:xfrm>
            <a:off x="4140360" y="4865400"/>
            <a:ext cx="2592360" cy="1225800"/>
            <a:chOff x="4140360" y="4865400"/>
            <a:chExt cx="2592360" cy="1225800"/>
          </a:xfrm>
        </p:grpSpPr>
        <p:sp>
          <p:nvSpPr>
            <p:cNvPr id="788" name="Line 8"/>
            <p:cNvSpPr/>
            <p:nvPr/>
          </p:nvSpPr>
          <p:spPr>
            <a:xfrm>
              <a:off x="4859640" y="594684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789" name="Group 9"/>
            <p:cNvGrpSpPr/>
            <p:nvPr/>
          </p:nvGrpSpPr>
          <p:grpSpPr>
            <a:xfrm>
              <a:off x="4140360" y="4865400"/>
              <a:ext cx="2592360" cy="1225800"/>
              <a:chOff x="4140360" y="4865400"/>
              <a:chExt cx="2592360" cy="1225800"/>
            </a:xfrm>
          </p:grpSpPr>
          <p:sp>
            <p:nvSpPr>
              <p:cNvPr id="790" name="Line 10"/>
              <p:cNvSpPr/>
              <p:nvPr/>
            </p:nvSpPr>
            <p:spPr>
              <a:xfrm flipH="1" flipV="1">
                <a:off x="4140360" y="4865400"/>
                <a:ext cx="7192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91" name="Line 11"/>
              <p:cNvSpPr/>
              <p:nvPr/>
            </p:nvSpPr>
            <p:spPr>
              <a:xfrm>
                <a:off x="5724720" y="5730840"/>
                <a:ext cx="0" cy="36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92" name="Line 12"/>
              <p:cNvSpPr/>
              <p:nvPr/>
            </p:nvSpPr>
            <p:spPr>
              <a:xfrm>
                <a:off x="4284720" y="5299200"/>
                <a:ext cx="289080" cy="14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93" name="Line 13"/>
              <p:cNvSpPr/>
              <p:nvPr/>
            </p:nvSpPr>
            <p:spPr>
              <a:xfrm>
                <a:off x="4212000" y="5154480"/>
                <a:ext cx="288720" cy="14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94" name="Line 14"/>
              <p:cNvSpPr/>
              <p:nvPr/>
            </p:nvSpPr>
            <p:spPr>
              <a:xfrm>
                <a:off x="4140360" y="4865760"/>
                <a:ext cx="259236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5" name="Group 15"/>
          <p:cNvGrpSpPr/>
          <p:nvPr/>
        </p:nvGrpSpPr>
        <p:grpSpPr>
          <a:xfrm>
            <a:off x="1868400" y="4938840"/>
            <a:ext cx="1913040" cy="1224000"/>
            <a:chOff x="1868400" y="4938840"/>
            <a:chExt cx="1913040" cy="1224000"/>
          </a:xfrm>
        </p:grpSpPr>
        <p:sp>
          <p:nvSpPr>
            <p:cNvPr id="796" name="Line 16"/>
            <p:cNvSpPr/>
            <p:nvPr/>
          </p:nvSpPr>
          <p:spPr>
            <a:xfrm>
              <a:off x="1908360" y="594720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7" name="Line 17"/>
            <p:cNvSpPr/>
            <p:nvPr/>
          </p:nvSpPr>
          <p:spPr>
            <a:xfrm flipV="1">
              <a:off x="1868400" y="4960080"/>
              <a:ext cx="871920" cy="96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2843280" y="580248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>
              <a:off x="2266920" y="5299560"/>
              <a:ext cx="289080" cy="14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00" name="Line 20"/>
            <p:cNvSpPr/>
            <p:nvPr/>
          </p:nvSpPr>
          <p:spPr>
            <a:xfrm>
              <a:off x="2195640" y="5370840"/>
              <a:ext cx="28872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01" name="Line 21"/>
            <p:cNvSpPr/>
            <p:nvPr/>
          </p:nvSpPr>
          <p:spPr>
            <a:xfrm>
              <a:off x="2772000" y="4938840"/>
              <a:ext cx="1008000" cy="10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02" name="Text Box 22"/>
          <p:cNvSpPr/>
          <p:nvPr/>
        </p:nvSpPr>
        <p:spPr>
          <a:xfrm>
            <a:off x="2910600" y="6234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两组边相等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31 L -0.32274 -0.00023 E">
                                      <p:cBhvr>
                                        <p:cTn id="421" dur="2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1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4"/>
          <p:cNvSpPr/>
          <p:nvPr/>
        </p:nvSpPr>
        <p:spPr>
          <a:xfrm>
            <a:off x="1693080" y="1413000"/>
            <a:ext cx="51336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有一组对应边、一组对应角角分别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分别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，它们全等吗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04" name="Picture 5" descr="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5445000"/>
            <a:ext cx="1193760" cy="895320"/>
          </a:xfrm>
          <a:prstGeom prst="rect">
            <a:avLst/>
          </a:prstGeom>
          <a:ln w="0">
            <a:noFill/>
          </a:ln>
        </p:spPr>
      </p:pic>
      <p:sp>
        <p:nvSpPr>
          <p:cNvPr id="805" name="WordArt 6"/>
          <p:cNvSpPr txBox="1"/>
          <p:nvPr/>
        </p:nvSpPr>
        <p:spPr>
          <a:xfrm>
            <a:off x="468360" y="260280"/>
            <a:ext cx="331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两个条件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6" name="Text Box 23"/>
          <p:cNvSpPr/>
          <p:nvPr/>
        </p:nvSpPr>
        <p:spPr>
          <a:xfrm>
            <a:off x="1503720" y="2987640"/>
            <a:ext cx="417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这条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边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角的邻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7" name="Text Box 24"/>
          <p:cNvSpPr/>
          <p:nvPr/>
        </p:nvSpPr>
        <p:spPr>
          <a:xfrm>
            <a:off x="1524240" y="3946680"/>
            <a:ext cx="417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这条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边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角的对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4" descr="议一议 "/>
          <p:cNvPicPr/>
          <p:nvPr/>
        </p:nvPicPr>
        <p:blipFill>
          <a:blip r:embed="rId1"/>
          <a:stretch/>
        </p:blipFill>
        <p:spPr>
          <a:xfrm>
            <a:off x="0" y="0"/>
            <a:ext cx="2970360" cy="130320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5"/>
          <p:cNvSpPr/>
          <p:nvPr/>
        </p:nvSpPr>
        <p:spPr>
          <a:xfrm>
            <a:off x="0" y="0"/>
            <a:ext cx="20509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归     纳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0" name="WordArt 6"/>
          <p:cNvSpPr txBox="1"/>
          <p:nvPr/>
        </p:nvSpPr>
        <p:spPr>
          <a:xfrm>
            <a:off x="826920" y="1628640"/>
            <a:ext cx="2449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4e3b3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一个条件</a:t>
            </a:r>
            <a:endParaRPr b="1" lang="en-US" sz="1400" spc="1" strike="noStrike">
              <a:ln w="9360">
                <a:solidFill>
                  <a:srgbClr val="4e3b3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811" name="WordArt 7"/>
          <p:cNvSpPr txBox="1"/>
          <p:nvPr/>
        </p:nvSpPr>
        <p:spPr>
          <a:xfrm>
            <a:off x="900000" y="278136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两个条件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12" name="Object 9" descr=""/>
          <p:cNvPicPr/>
          <p:nvPr/>
        </p:nvPicPr>
        <p:blipFill>
          <a:blip r:embed="rId2"/>
          <a:stretch/>
        </p:blipFill>
        <p:spPr>
          <a:xfrm>
            <a:off x="3276720" y="1341360"/>
            <a:ext cx="3024000" cy="1233720"/>
          </a:xfrm>
          <a:prstGeom prst="rect">
            <a:avLst/>
          </a:prstGeom>
          <a:ln w="0">
            <a:noFill/>
          </a:ln>
        </p:spPr>
      </p:pic>
      <p:pic>
        <p:nvPicPr>
          <p:cNvPr id="813" name="Object 11" descr=""/>
          <p:cNvPicPr/>
          <p:nvPr/>
        </p:nvPicPr>
        <p:blipFill>
          <a:blip r:embed="rId3"/>
          <a:stretch/>
        </p:blipFill>
        <p:spPr>
          <a:xfrm>
            <a:off x="3132000" y="2782800"/>
            <a:ext cx="2952720" cy="1844640"/>
          </a:xfrm>
          <a:prstGeom prst="rect">
            <a:avLst/>
          </a:prstGeom>
          <a:ln w="0">
            <a:noFill/>
          </a:ln>
        </p:spPr>
      </p:pic>
      <p:pic>
        <p:nvPicPr>
          <p:cNvPr id="814" name="Object 14" descr=""/>
          <p:cNvPicPr/>
          <p:nvPr/>
        </p:nvPicPr>
        <p:blipFill>
          <a:blip r:embed="rId4"/>
          <a:stretch/>
        </p:blipFill>
        <p:spPr>
          <a:xfrm>
            <a:off x="6156360" y="3641760"/>
            <a:ext cx="2232000" cy="1230120"/>
          </a:xfrm>
          <a:prstGeom prst="rect">
            <a:avLst/>
          </a:prstGeom>
          <a:ln w="0">
            <a:noFill/>
          </a:ln>
        </p:spPr>
      </p:pic>
      <p:sp>
        <p:nvSpPr>
          <p:cNvPr id="815" name="WordArt 18"/>
          <p:cNvSpPr txBox="1"/>
          <p:nvPr/>
        </p:nvSpPr>
        <p:spPr>
          <a:xfrm>
            <a:off x="2700360" y="522936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条件都还不够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324000" y="1052640"/>
            <a:ext cx="835164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再增加一个条件有哪几种情况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7" name="Rectangle 3"/>
          <p:cNvSpPr/>
          <p:nvPr/>
        </p:nvSpPr>
        <p:spPr>
          <a:xfrm>
            <a:off x="684360" y="1187280"/>
            <a:ext cx="6767280" cy="2531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、两边一角；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、两角一边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、边边边；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、角角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3565440" y="2927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宋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9" name="WordArt 7"/>
          <p:cNvSpPr txBox="1"/>
          <p:nvPr/>
        </p:nvSpPr>
        <p:spPr>
          <a:xfrm>
            <a:off x="395280" y="189000"/>
            <a:ext cx="331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三个条件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20" name="WordArt 8"/>
          <p:cNvSpPr txBox="1"/>
          <p:nvPr/>
        </p:nvSpPr>
        <p:spPr>
          <a:xfrm>
            <a:off x="2700360" y="4292640"/>
            <a:ext cx="223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条件够了吗？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AutoShape 4"/>
          <p:cNvSpPr/>
          <p:nvPr/>
        </p:nvSpPr>
        <p:spPr>
          <a:xfrm>
            <a:off x="304920" y="168120"/>
            <a:ext cx="3962160" cy="1219320"/>
          </a:xfrm>
          <a:prstGeom prst="cloudCallout">
            <a:avLst>
              <a:gd name="adj1" fmla="val -42027"/>
              <a:gd name="adj2" fmla="val 70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2" name="WordArt 5"/>
          <p:cNvSpPr txBox="1"/>
          <p:nvPr/>
        </p:nvSpPr>
        <p:spPr>
          <a:xfrm>
            <a:off x="770040" y="428760"/>
            <a:ext cx="264960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小结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3054600" y="18352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回顾全等三角形的性质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2260440" y="2633760"/>
            <a:ext cx="481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经过探索发现要判定两个三角形全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需要满足三条对应边，三个对应角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时对应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4211640" y="4124160"/>
            <a:ext cx="131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经过探索发现要判定两个三角形全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仅仅一个或两个条件对应相等是不够的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7"/>
          <p:cNvPicPr/>
          <p:nvPr/>
        </p:nvPicPr>
        <p:blipFill>
          <a:blip r:embed="rId1"/>
          <a:stretch/>
        </p:blipFill>
        <p:spPr>
          <a:xfrm>
            <a:off x="3367080" y="1822320"/>
            <a:ext cx="2492280" cy="281952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3"/>
          <p:cNvGrpSpPr/>
          <p:nvPr/>
        </p:nvGrpSpPr>
        <p:grpSpPr>
          <a:xfrm>
            <a:off x="2555640" y="981000"/>
            <a:ext cx="1224000" cy="4176720"/>
            <a:chOff x="2555640" y="981000"/>
            <a:chExt cx="1224000" cy="4176720"/>
          </a:xfrm>
        </p:grpSpPr>
        <p:sp>
          <p:nvSpPr>
            <p:cNvPr id="613" name="Line 4"/>
            <p:cNvSpPr/>
            <p:nvPr/>
          </p:nvSpPr>
          <p:spPr>
            <a:xfrm>
              <a:off x="2556000" y="981000"/>
              <a:ext cx="0" cy="381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4" name="Line 5"/>
            <p:cNvSpPr/>
            <p:nvPr/>
          </p:nvSpPr>
          <p:spPr>
            <a:xfrm>
              <a:off x="2556000" y="4797360"/>
              <a:ext cx="122364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5" name="Line 6"/>
            <p:cNvSpPr/>
            <p:nvPr/>
          </p:nvSpPr>
          <p:spPr>
            <a:xfrm flipH="1" flipV="1">
              <a:off x="2555640" y="981000"/>
              <a:ext cx="1223640" cy="417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9"/>
          <p:cNvPicPr/>
          <p:nvPr/>
        </p:nvPicPr>
        <p:blipFill>
          <a:blip r:embed="rId1"/>
          <a:stretch/>
        </p:blipFill>
        <p:spPr>
          <a:xfrm>
            <a:off x="1332000" y="620640"/>
            <a:ext cx="6335640" cy="583272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3"/>
          <p:cNvGrpSpPr/>
          <p:nvPr/>
        </p:nvGrpSpPr>
        <p:grpSpPr>
          <a:xfrm>
            <a:off x="3059280" y="4005360"/>
            <a:ext cx="3025080" cy="1944360"/>
            <a:chOff x="3059280" y="4005360"/>
            <a:chExt cx="3025080" cy="1944360"/>
          </a:xfrm>
        </p:grpSpPr>
        <p:sp>
          <p:nvSpPr>
            <p:cNvPr id="618" name="Line 4"/>
            <p:cNvSpPr/>
            <p:nvPr/>
          </p:nvSpPr>
          <p:spPr>
            <a:xfrm>
              <a:off x="3059280" y="4005360"/>
              <a:ext cx="78480" cy="19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9" name="Line 5"/>
            <p:cNvSpPr/>
            <p:nvPr/>
          </p:nvSpPr>
          <p:spPr>
            <a:xfrm>
              <a:off x="4454640" y="4379400"/>
              <a:ext cx="1629720" cy="29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0" name="Line 6"/>
            <p:cNvSpPr/>
            <p:nvPr/>
          </p:nvSpPr>
          <p:spPr>
            <a:xfrm flipH="1">
              <a:off x="3137400" y="4677480"/>
              <a:ext cx="2946600" cy="1196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1" name="Line 7"/>
            <p:cNvSpPr/>
            <p:nvPr/>
          </p:nvSpPr>
          <p:spPr>
            <a:xfrm>
              <a:off x="3059280" y="4005360"/>
              <a:ext cx="232200" cy="75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2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554508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"/>
          <p:cNvGrpSpPr/>
          <p:nvPr/>
        </p:nvGrpSpPr>
        <p:grpSpPr>
          <a:xfrm>
            <a:off x="3780000" y="1773000"/>
            <a:ext cx="3743280" cy="2232000"/>
            <a:chOff x="3780000" y="1773000"/>
            <a:chExt cx="3743280" cy="2232000"/>
          </a:xfrm>
        </p:grpSpPr>
        <p:sp>
          <p:nvSpPr>
            <p:cNvPr id="624" name="Line 4"/>
            <p:cNvSpPr/>
            <p:nvPr/>
          </p:nvSpPr>
          <p:spPr>
            <a:xfrm flipH="1">
              <a:off x="3780000" y="1773360"/>
              <a:ext cx="2016000" cy="223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5" name="Line 5"/>
            <p:cNvSpPr/>
            <p:nvPr/>
          </p:nvSpPr>
          <p:spPr>
            <a:xfrm flipV="1">
              <a:off x="3780000" y="3765960"/>
              <a:ext cx="3743280" cy="23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6" name="Line 6"/>
            <p:cNvSpPr/>
            <p:nvPr/>
          </p:nvSpPr>
          <p:spPr>
            <a:xfrm flipH="1" flipV="1">
              <a:off x="5796000" y="1773000"/>
              <a:ext cx="1727280" cy="199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5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40072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3"/>
          <p:cNvGrpSpPr/>
          <p:nvPr/>
        </p:nvGrpSpPr>
        <p:grpSpPr>
          <a:xfrm>
            <a:off x="4140360" y="907560"/>
            <a:ext cx="3384000" cy="2881080"/>
            <a:chOff x="4140360" y="907560"/>
            <a:chExt cx="3384000" cy="2881080"/>
          </a:xfrm>
        </p:grpSpPr>
        <p:sp>
          <p:nvSpPr>
            <p:cNvPr id="629" name="Line 4"/>
            <p:cNvSpPr/>
            <p:nvPr/>
          </p:nvSpPr>
          <p:spPr>
            <a:xfrm flipH="1">
              <a:off x="4140360" y="907920"/>
              <a:ext cx="2199600" cy="234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0" name="Line 5"/>
            <p:cNvSpPr/>
            <p:nvPr/>
          </p:nvSpPr>
          <p:spPr>
            <a:xfrm>
              <a:off x="4140360" y="3248640"/>
              <a:ext cx="3384000" cy="54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1" name="Line 6"/>
            <p:cNvSpPr/>
            <p:nvPr/>
          </p:nvSpPr>
          <p:spPr>
            <a:xfrm flipH="1" flipV="1">
              <a:off x="6339960" y="907560"/>
              <a:ext cx="1184400" cy="28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 advTm="6000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3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472360"/>
          </a:xfrm>
          <a:prstGeom prst="rect">
            <a:avLst/>
          </a:prstGeom>
          <a:ln w="0">
            <a:noFill/>
          </a:ln>
        </p:spPr>
      </p:pic>
      <p:sp>
        <p:nvSpPr>
          <p:cNvPr id="633" name="Line 3"/>
          <p:cNvSpPr/>
          <p:nvPr/>
        </p:nvSpPr>
        <p:spPr>
          <a:xfrm>
            <a:off x="1763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34" name="Group 4"/>
          <p:cNvGrpSpPr/>
          <p:nvPr/>
        </p:nvGrpSpPr>
        <p:grpSpPr>
          <a:xfrm>
            <a:off x="1402920" y="1844280"/>
            <a:ext cx="6193080" cy="3745080"/>
            <a:chOff x="1402920" y="1844280"/>
            <a:chExt cx="6193080" cy="3745080"/>
          </a:xfrm>
        </p:grpSpPr>
        <p:sp>
          <p:nvSpPr>
            <p:cNvPr id="635" name="Line 5"/>
            <p:cNvSpPr/>
            <p:nvPr/>
          </p:nvSpPr>
          <p:spPr>
            <a:xfrm flipH="1">
              <a:off x="1402920" y="1844640"/>
              <a:ext cx="3095640" cy="374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1403280" y="5424120"/>
              <a:ext cx="6192720" cy="16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37" name="Line 7"/>
            <p:cNvSpPr/>
            <p:nvPr/>
          </p:nvSpPr>
          <p:spPr>
            <a:xfrm flipH="1" flipV="1">
              <a:off x="4498560" y="1844280"/>
              <a:ext cx="3097080" cy="35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ransition advTm="6000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1"/>
          <a:stretch/>
        </p:blipFill>
        <p:spPr>
          <a:xfrm>
            <a:off x="900000" y="981000"/>
            <a:ext cx="7056720" cy="518472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3"/>
          <p:cNvGrpSpPr/>
          <p:nvPr/>
        </p:nvGrpSpPr>
        <p:grpSpPr>
          <a:xfrm>
            <a:off x="5796000" y="2204640"/>
            <a:ext cx="1655640" cy="865440"/>
            <a:chOff x="5796000" y="2204640"/>
            <a:chExt cx="1655640" cy="865440"/>
          </a:xfrm>
        </p:grpSpPr>
        <p:sp>
          <p:nvSpPr>
            <p:cNvPr id="640" name="Line 4"/>
            <p:cNvSpPr/>
            <p:nvPr/>
          </p:nvSpPr>
          <p:spPr>
            <a:xfrm flipV="1">
              <a:off x="5796000" y="2636640"/>
              <a:ext cx="28872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6084720" y="2636640"/>
              <a:ext cx="142920" cy="2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2" name="Line 6"/>
            <p:cNvSpPr/>
            <p:nvPr/>
          </p:nvSpPr>
          <p:spPr>
            <a:xfrm flipV="1">
              <a:off x="6227640" y="2420280"/>
              <a:ext cx="289080" cy="50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3" name="Line 7"/>
            <p:cNvSpPr/>
            <p:nvPr/>
          </p:nvSpPr>
          <p:spPr>
            <a:xfrm>
              <a:off x="6516720" y="2420640"/>
              <a:ext cx="287280" cy="2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 flipV="1">
              <a:off x="5796000" y="2493360"/>
              <a:ext cx="165564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5" name="Line 9"/>
            <p:cNvSpPr/>
            <p:nvPr/>
          </p:nvSpPr>
          <p:spPr>
            <a:xfrm flipV="1">
              <a:off x="6877080" y="2204640"/>
              <a:ext cx="287280" cy="43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46" name="Line 10"/>
            <p:cNvSpPr/>
            <p:nvPr/>
          </p:nvSpPr>
          <p:spPr>
            <a:xfrm>
              <a:off x="7164360" y="2205000"/>
              <a:ext cx="287280" cy="288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47" name="Group 11"/>
          <p:cNvGrpSpPr/>
          <p:nvPr/>
        </p:nvGrpSpPr>
        <p:grpSpPr>
          <a:xfrm>
            <a:off x="1547280" y="1989000"/>
            <a:ext cx="6480720" cy="2880000"/>
            <a:chOff x="1547280" y="1989000"/>
            <a:chExt cx="6480720" cy="2880000"/>
          </a:xfrm>
        </p:grpSpPr>
        <p:sp>
          <p:nvSpPr>
            <p:cNvPr id="648" name="Line 12"/>
            <p:cNvSpPr/>
            <p:nvPr/>
          </p:nvSpPr>
          <p:spPr>
            <a:xfrm flipV="1">
              <a:off x="1547640" y="1989000"/>
              <a:ext cx="6480360" cy="288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49" name="Group 13"/>
            <p:cNvGrpSpPr/>
            <p:nvPr/>
          </p:nvGrpSpPr>
          <p:grpSpPr>
            <a:xfrm>
              <a:off x="1547280" y="1989000"/>
              <a:ext cx="6480720" cy="2880000"/>
              <a:chOff x="1547280" y="1989000"/>
              <a:chExt cx="6480720" cy="2880000"/>
            </a:xfrm>
          </p:grpSpPr>
          <p:sp>
            <p:nvSpPr>
              <p:cNvPr id="650" name="Line 14"/>
              <p:cNvSpPr/>
              <p:nvPr/>
            </p:nvSpPr>
            <p:spPr>
              <a:xfrm flipH="1">
                <a:off x="1547280" y="2492280"/>
                <a:ext cx="1511640" cy="2376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1" name="Line 15"/>
              <p:cNvSpPr/>
              <p:nvPr/>
            </p:nvSpPr>
            <p:spPr>
              <a:xfrm flipV="1">
                <a:off x="3059280" y="1989000"/>
                <a:ext cx="4968720" cy="503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16"/>
          <p:cNvGrpSpPr/>
          <p:nvPr/>
        </p:nvGrpSpPr>
        <p:grpSpPr>
          <a:xfrm>
            <a:off x="2916360" y="2565000"/>
            <a:ext cx="503280" cy="2808000"/>
            <a:chOff x="2916360" y="2565000"/>
            <a:chExt cx="503280" cy="2808000"/>
          </a:xfrm>
        </p:grpSpPr>
        <p:sp>
          <p:nvSpPr>
            <p:cNvPr id="653" name="AutoShape 17"/>
            <p:cNvSpPr/>
            <p:nvPr/>
          </p:nvSpPr>
          <p:spPr>
            <a:xfrm rot="16200000">
              <a:off x="2796120" y="2828160"/>
              <a:ext cx="886680" cy="360360"/>
            </a:xfrm>
            <a:prstGeom prst="triangle">
              <a:avLst>
                <a:gd name="adj" fmla="val 52292"/>
              </a:avLst>
            </a:prstGeom>
            <a:noFill/>
            <a:ln w="381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4" name="AutoShape 18"/>
            <p:cNvSpPr/>
            <p:nvPr/>
          </p:nvSpPr>
          <p:spPr>
            <a:xfrm rot="16200000">
              <a:off x="2688840" y="4713840"/>
              <a:ext cx="886680" cy="431640"/>
            </a:xfrm>
            <a:prstGeom prst="triangle">
              <a:avLst>
                <a:gd name="adj" fmla="val 52292"/>
              </a:avLst>
            </a:prstGeom>
            <a:noFill/>
            <a:ln w="381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55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3"/>
          <p:cNvGrpSpPr/>
          <p:nvPr/>
        </p:nvGrpSpPr>
        <p:grpSpPr>
          <a:xfrm>
            <a:off x="2195280" y="1052640"/>
            <a:ext cx="1726920" cy="3168000"/>
            <a:chOff x="2195280" y="1052640"/>
            <a:chExt cx="1726920" cy="3168000"/>
          </a:xfrm>
        </p:grpSpPr>
        <p:sp>
          <p:nvSpPr>
            <p:cNvPr id="657" name="Line 4"/>
            <p:cNvSpPr/>
            <p:nvPr/>
          </p:nvSpPr>
          <p:spPr>
            <a:xfrm>
              <a:off x="2195640" y="2830320"/>
              <a:ext cx="1658520" cy="1390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8" name="Line 5"/>
            <p:cNvSpPr/>
            <p:nvPr/>
          </p:nvSpPr>
          <p:spPr>
            <a:xfrm flipH="1">
              <a:off x="3853800" y="1052640"/>
              <a:ext cx="68040" cy="3168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9" name="Line 6"/>
            <p:cNvSpPr/>
            <p:nvPr/>
          </p:nvSpPr>
          <p:spPr>
            <a:xfrm flipH="1">
              <a:off x="2195280" y="1052640"/>
              <a:ext cx="1726920" cy="17776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60" name="Group 7"/>
          <p:cNvGrpSpPr/>
          <p:nvPr/>
        </p:nvGrpSpPr>
        <p:grpSpPr>
          <a:xfrm>
            <a:off x="900000" y="692280"/>
            <a:ext cx="1727280" cy="3241440"/>
            <a:chOff x="900000" y="692280"/>
            <a:chExt cx="1727280" cy="3241440"/>
          </a:xfrm>
        </p:grpSpPr>
        <p:sp>
          <p:nvSpPr>
            <p:cNvPr id="661" name="Line 8"/>
            <p:cNvSpPr/>
            <p:nvPr/>
          </p:nvSpPr>
          <p:spPr>
            <a:xfrm flipH="1">
              <a:off x="2556000" y="692280"/>
              <a:ext cx="71280" cy="324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62" name="Group 9"/>
            <p:cNvGrpSpPr/>
            <p:nvPr/>
          </p:nvGrpSpPr>
          <p:grpSpPr>
            <a:xfrm>
              <a:off x="900000" y="692280"/>
              <a:ext cx="1727280" cy="3241440"/>
              <a:chOff x="900000" y="692280"/>
              <a:chExt cx="1727280" cy="3241440"/>
            </a:xfrm>
          </p:grpSpPr>
          <p:sp>
            <p:nvSpPr>
              <p:cNvPr id="663" name="Line 10"/>
              <p:cNvSpPr/>
              <p:nvPr/>
            </p:nvSpPr>
            <p:spPr>
              <a:xfrm flipH="1">
                <a:off x="900000" y="692280"/>
                <a:ext cx="1727280" cy="1873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64" name="Line 11"/>
              <p:cNvSpPr/>
              <p:nvPr/>
            </p:nvSpPr>
            <p:spPr>
              <a:xfrm>
                <a:off x="900000" y="2565360"/>
                <a:ext cx="1656000" cy="136836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665" name="WordArt 13"/>
          <p:cNvSpPr txBox="1"/>
          <p:nvPr/>
        </p:nvSpPr>
        <p:spPr>
          <a:xfrm>
            <a:off x="1371600" y="4243320"/>
            <a:ext cx="65530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全等－－几个三角形之间的一种特殊关系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1:25:40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8:41Z</dcterms:modified>
  <cp:revision>191</cp:revision>
  <dc:subject>www.12999.com</dc:subject>
  <dc:title>www.12999.com</dc:title>
</cp:coreProperties>
</file>