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13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28.wmf" ContentType="image/x-wmf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504-75D4-4C98-856B-C2B9CE32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F01-0EF4-4196-83C9-B166B6F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F6E62-2F11-4B4F-8361-DCEB7FA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DC88A-0F92-48E1-A6BA-2FB082F3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597C7-C341-4652-86EA-E63F05C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410BA-A031-41CB-B1EA-E04D046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A2575-C52D-4E6F-9C70-582F90D3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F97DE-FC9F-4F2A-B87A-EF202A7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A7F57-9BE1-4861-A4BE-1FE195B5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05D68-77D2-43FA-ABA2-D1A02CAE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73A5-07EF-4109-A137-AE1D5A9B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9D6-60CD-4CD4-A48A-134686D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E15-C11E-4E96-A2A5-A8AA3A8E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9AFC-EC5C-4092-BFD9-1F5575E0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9C5A-15D7-46F1-97B8-F2FA767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A9B8-5904-4D3B-B1D0-16D77068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A568-0045-407E-A68F-CBC1764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A968-A823-4A86-B85C-95649B7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9565-9930-446F-AB79-77B54F20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081E-7170-4286-B960-85F607E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431-4F9F-4DCB-9485-FB881D1A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6D77-8E0F-4B45-B7CB-D3668B4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7E5B-4692-4332-A331-48503E0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3A7E-035B-4DEF-9D42-03127C5F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A107-6F2F-4A72-8098-C4B92410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005C-7A97-4984-A899-562DFDD1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6D6C-F8AD-469A-8FDA-B2C264CB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6C20-807E-4B2B-B91E-2196B821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00B1-D269-4BBE-8512-45252521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BEE2-D130-467C-B90C-74F1037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941B-5C27-4D68-9216-79625AD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0C1-0075-4CC4-82A2-FAA6B90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7DAC-7EF8-4DB9-BBA2-CDB2E7F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97D5-BF18-4015-B1B6-890ED0A0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AFB3-2284-4F95-919A-8CBA7D7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FE27-58EE-4E01-B8AD-968C1E2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ED10-A5CC-49C3-A7F8-F661CC3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1EB6-A32A-4117-A581-BEB1DC4B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57BB-5805-4490-AFB9-DBC985C7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18BC-F1BB-49DB-A4CD-2DEBD7C4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1D1B-0C1E-405A-BF4F-A512E70C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78CE-1D5D-4BE7-B667-4ED1301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E3C-412C-4410-A466-9EFC4C2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C907-EEA4-4B14-AFBB-098BE56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783D-30C0-48A8-850D-B1BE5131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C599-9229-4B34-B25E-3CD4A3B5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6124-6476-4F17-9712-7C0DBB2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5111-4362-4EA3-AF52-B2A7D13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E0D5-F4C0-4334-8C50-75D76C6C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900B-2DC0-4F49-9FF0-FABB3884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2B3E-C426-4642-A4B0-B8BA4407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6508-C587-427C-B1DB-6AA996B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DC2A-FE70-4D6F-8052-68B7B338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75C-9795-4D82-A849-5BA5996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EDD3-6201-453F-85B0-F23EDE2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481C-67F9-470D-A380-399AC3E0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1A5E-EE74-46EB-BF64-048142BB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59EB-FFB1-42C7-9AE3-00E6E43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C01B1-88C5-4C47-BE2A-DEDCBD38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27B9-ED61-4B82-8AE7-F0EB23D7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679B-A3DD-4243-AC34-F84E705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402E-1D8A-4396-B005-D8EB948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C1965-25D2-4356-8CA5-5E3E393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AF685-6D59-4761-89D8-82DAE14A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3A4-ABAC-4D96-B7DD-C61F30B5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185A-F36F-4109-AAD0-D78A15C9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7227-0993-42FA-99BD-C57ACB1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1444-487D-434B-A28B-500EBA9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478D-63BA-4C18-AD8D-09FDCCD4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13663-353F-4E7F-940C-7A7B6395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DEED0-62A8-4C8A-8333-2E9431C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BC17-30C1-4593-86E4-E7A2195E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DB51-ACD2-430B-948B-1BB3CD6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69856-5E6D-4F31-8ECD-C1D64CDA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D384C-7318-4951-95DB-89BC852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B7D-9448-4B28-9A5F-ECD42B7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63A6-075E-4A5C-8895-406A2CAA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0CCD8-5F89-4398-B196-393B7366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BD50-7C9D-453F-9B45-B9981CC9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39AA-F726-467A-8CE9-A7725359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8465D-55F5-43F5-A1C9-282F9D4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71CC7-C387-4DD4-B640-826F699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B091-F305-4083-83BE-38AD92B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5E79C-08E1-4452-8854-51DA301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FA94-5405-49F9-9D8B-81F087A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575D-62F2-4A72-BBDA-C81C738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4D9-9D60-4AAA-9A70-F02DD65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6247-8165-4449-96FD-B71F5D7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6C79D-6E77-4CF5-9AA5-972081C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57E6-DAA4-45E4-A3AD-89E7F54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4F59-B3B2-48C6-B59F-B8228C35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8C49D-A90F-47A9-8FB0-157B7ED3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424F4-738A-45D7-8A98-AA10BD54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5AEC2-2E5A-4D0D-8DB4-83A4FC0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F7BE3-FFDC-4947-83A0-2AE3B63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ED841-F542-4FCE-878F-CE3742BA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E563-151A-4CF1-A3BF-F7F24E62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011-1BD1-4E24-86BB-6BED9BEC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883E1-2536-489C-A0F1-F629143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2BCAC-8DF8-407B-AB97-23E3603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A559-1267-489D-B55D-EE05105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A6A4-6564-4F2D-A599-BF631FA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D0F70-1671-4643-8671-0E7414D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75B5B-C739-42FF-9742-21B54AAC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F590-7774-448F-99E4-D7DF0392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DBB3D-F22C-48EB-A922-32F8314B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AA88-4F40-4A81-8865-DEBE9A5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99CB3-20DF-40FB-9D7E-338F30E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BF36-779F-408A-94D5-FC896315A13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5EB-1A33-4CD4-ADC7-D22E8912D85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7E4-61EE-408D-8E70-B24708AF972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4505-5FF6-431C-8DA6-B2B0365B76B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C98C-B9EB-4271-A34F-6569D9B330F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1DE5-B3C5-4D08-A3F0-A107F61C876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82C-6452-4B9B-86EE-D31F9F3AC7A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15D-5203-4A45-B634-5D76A6897CE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20A-EA98-4845-A267-26A3AB85B74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3"/>
          <p:cNvSpPr txBox="1"/>
          <p:nvPr/>
        </p:nvSpPr>
        <p:spPr>
          <a:xfrm>
            <a:off x="1116000" y="1557360"/>
            <a:ext cx="6324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全等三角形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911160" y="712800"/>
            <a:ext cx="60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人教版八年级上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2133720" y="19810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08000" y="3429000"/>
            <a:ext cx="878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全等三角形的性质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三角形对应边相等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全等三角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对应角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1" name="Picture 4" descr="未命名1"/>
          <p:cNvPicPr/>
          <p:nvPr/>
        </p:nvPicPr>
        <p:blipFill>
          <a:blip r:embed="rId1"/>
          <a:stretch/>
        </p:blipFill>
        <p:spPr>
          <a:xfrm>
            <a:off x="974880" y="476280"/>
            <a:ext cx="2733480" cy="2619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未命名1"/>
          <p:cNvPicPr/>
          <p:nvPr/>
        </p:nvPicPr>
        <p:blipFill>
          <a:blip r:embed="rId2"/>
          <a:stretch/>
        </p:blipFill>
        <p:spPr>
          <a:xfrm>
            <a:off x="4665600" y="770040"/>
            <a:ext cx="2714760" cy="2371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未命名1"/>
          <p:cNvPicPr/>
          <p:nvPr/>
        </p:nvPicPr>
        <p:blipFill>
          <a:blip r:embed="rId3"/>
          <a:stretch/>
        </p:blipFill>
        <p:spPr>
          <a:xfrm>
            <a:off x="971640" y="476280"/>
            <a:ext cx="2733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20231E-007 L 0.40156 -5.20231E-007 E">
                                      <p:cBhvr>
                                        <p:cTn id="191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533520" y="157176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68580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tretch/>
        </p:blipFill>
        <p:spPr>
          <a:xfrm>
            <a:off x="971640" y="1270080"/>
            <a:ext cx="2879640" cy="1765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2"/>
          <a:stretch/>
        </p:blipFill>
        <p:spPr>
          <a:xfrm>
            <a:off x="4788000" y="1270080"/>
            <a:ext cx="2857320" cy="17668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6"/>
          <p:cNvSpPr/>
          <p:nvPr/>
        </p:nvSpPr>
        <p:spPr>
          <a:xfrm>
            <a:off x="1116000" y="3286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如图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∵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 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BC≌△D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2268360" y="494172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=∠D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B=∠E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C=∠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2268360" y="4510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全等三角形的对应边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2268360" y="5518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全等三角形的对应角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2124000" y="3933720"/>
            <a:ext cx="56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∴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A B=D E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A C=D F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BC= E 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-28440" y="1628640"/>
            <a:ext cx="69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≌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求出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内角的度数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4" name="WordArt 3" descr="weave"/>
          <p:cNvPicPr/>
          <p:nvPr/>
        </p:nvPicPr>
        <p:blipFill>
          <a:blip r:embed="rId1"/>
          <a:stretch/>
        </p:blipFill>
        <p:spPr>
          <a:xfrm>
            <a:off x="158760" y="603360"/>
            <a:ext cx="5052960" cy="664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未命名1"/>
          <p:cNvPicPr/>
          <p:nvPr/>
        </p:nvPicPr>
        <p:blipFill>
          <a:blip r:embed="rId2"/>
          <a:stretch/>
        </p:blipFill>
        <p:spPr>
          <a:xfrm>
            <a:off x="5724360" y="1413000"/>
            <a:ext cx="3476880" cy="20764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468360" y="3213000"/>
            <a:ext cx="59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：∵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≌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1187280" y="37180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∴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E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∠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116000" y="42940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        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18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°= 6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609200" y="5445000"/>
            <a:ext cx="59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答：△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E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内角的度数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466560" y="1557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图是一个等边三角形，你能利用折纸的方法把它分成两个全等的三角形吗？你能把它分成三个，四个全等的三角形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1" name="WordArt 3" descr="weave"/>
          <p:cNvPicPr/>
          <p:nvPr/>
        </p:nvPicPr>
        <p:blipFill>
          <a:blip r:embed="rId1"/>
          <a:stretch/>
        </p:blipFill>
        <p:spPr>
          <a:xfrm>
            <a:off x="231840" y="676440"/>
            <a:ext cx="5052960" cy="66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未命名1"/>
          <p:cNvPicPr/>
          <p:nvPr/>
        </p:nvPicPr>
        <p:blipFill>
          <a:blip r:embed="rId2"/>
          <a:stretch/>
        </p:blipFill>
        <p:spPr>
          <a:xfrm>
            <a:off x="468360" y="3070080"/>
            <a:ext cx="2287440" cy="2374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未命名1"/>
          <p:cNvPicPr/>
          <p:nvPr/>
        </p:nvPicPr>
        <p:blipFill>
          <a:blip r:embed="rId3"/>
          <a:stretch/>
        </p:blipFill>
        <p:spPr>
          <a:xfrm>
            <a:off x="5724360" y="3070080"/>
            <a:ext cx="2187720" cy="2273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未命名1"/>
          <p:cNvPicPr/>
          <p:nvPr/>
        </p:nvPicPr>
        <p:blipFill>
          <a:blip r:embed="rId4"/>
          <a:stretch/>
        </p:blipFill>
        <p:spPr>
          <a:xfrm>
            <a:off x="3132000" y="3141720"/>
            <a:ext cx="2232000" cy="23270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未命名1"/>
          <p:cNvPicPr/>
          <p:nvPr/>
        </p:nvPicPr>
        <p:blipFill>
          <a:blip r:embed="rId5"/>
          <a:stretch/>
        </p:blipFill>
        <p:spPr>
          <a:xfrm>
            <a:off x="6443640" y="907920"/>
            <a:ext cx="2438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未命名1"/>
          <p:cNvPicPr/>
          <p:nvPr/>
        </p:nvPicPr>
        <p:blipFill>
          <a:blip r:embed="rId1"/>
          <a:stretch/>
        </p:blipFill>
        <p:spPr>
          <a:xfrm>
            <a:off x="5796000" y="981000"/>
            <a:ext cx="2828880" cy="217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6210360" y="3851280"/>
                <a:ext cx="114120" cy="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8" name="Text Box 3"/>
          <p:cNvSpPr/>
          <p:nvPr/>
        </p:nvSpPr>
        <p:spPr>
          <a:xfrm>
            <a:off x="468360" y="1341360"/>
            <a:ext cx="66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图所示，已知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D≌△AC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请找出对应边及对应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9" name="WordArt 4" descr="weave"/>
          <p:cNvPicPr/>
          <p:nvPr/>
        </p:nvPicPr>
        <p:blipFill>
          <a:blip r:embed="rId2"/>
          <a:stretch/>
        </p:blipFill>
        <p:spPr>
          <a:xfrm>
            <a:off x="231840" y="530280"/>
            <a:ext cx="4833720" cy="6699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395280" y="328608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图：已知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对应顶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B=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EF=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E=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若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=7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=3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EF=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F=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1" name="Picture 6" descr="未命名1"/>
          <p:cNvPicPr/>
          <p:nvPr/>
        </p:nvPicPr>
        <p:blipFill>
          <a:blip r:embed="rId3"/>
          <a:stretch/>
        </p:blipFill>
        <p:spPr>
          <a:xfrm>
            <a:off x="6227640" y="3284640"/>
            <a:ext cx="29163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03280" y="1125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通过本节课的学习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你有什么收获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619280" y="119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-206640" y="3213000"/>
            <a:ext cx="10335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468360" y="233352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全等形的定义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图形叫做全等形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042920" y="292428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三角形叫做全等三角形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971640" y="3429000"/>
            <a:ext cx="907416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表示方法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ABC≌△D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对应点要写在对应的位置上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)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042920" y="4508640"/>
            <a:ext cx="68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性质：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对应边相等，对应角相等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971640" y="5013360"/>
            <a:ext cx="68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会用全等三角形的性质解决简单的问题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-283320" y="477720"/>
            <a:ext cx="1542240" cy="1557360"/>
            <a:chOff x="-283320" y="477720"/>
            <a:chExt cx="1542240" cy="1557360"/>
          </a:xfrm>
        </p:grpSpPr>
        <p:sp>
          <p:nvSpPr>
            <p:cNvPr id="631" name="AutoShape 11"/>
            <p:cNvSpPr/>
            <p:nvPr/>
          </p:nvSpPr>
          <p:spPr>
            <a:xfrm>
              <a:off x="108000" y="477720"/>
              <a:ext cx="1150920" cy="1557360"/>
            </a:xfrm>
            <a:prstGeom prst="vertic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2" name="Text Box 12"/>
            <p:cNvSpPr/>
            <p:nvPr/>
          </p:nvSpPr>
          <p:spPr>
            <a:xfrm>
              <a:off x="-283320" y="693720"/>
              <a:ext cx="1399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小结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3" name="AutoShape 13"/>
          <p:cNvSpPr/>
          <p:nvPr/>
        </p:nvSpPr>
        <p:spPr>
          <a:xfrm>
            <a:off x="826920" y="3141720"/>
            <a:ext cx="287640" cy="2158920"/>
          </a:xfrm>
          <a:custGeom>
            <a:avLst/>
            <a:gdLst>
              <a:gd name="textAreaLeft" fmla="*/ 183960 w 287640"/>
              <a:gd name="textAreaRight" fmla="*/ 288000 w 28764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6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468360" y="206208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做题：教科书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.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复习巩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题 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运用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做题：教科书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拓广探索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5" name="WordArt 3" descr="weave"/>
          <p:cNvPicPr/>
          <p:nvPr/>
        </p:nvPicPr>
        <p:blipFill>
          <a:blip r:embed="rId1"/>
          <a:stretch/>
        </p:blipFill>
        <p:spPr>
          <a:xfrm>
            <a:off x="165240" y="530280"/>
            <a:ext cx="50529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2220480" y="19177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欢迎您提出宝贵意见和建议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4500720" y="4581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这两张图片里都有形状、大小相同的图形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2" name="WordArt 3"/>
          <p:cNvSpPr txBox="1"/>
          <p:nvPr/>
        </p:nvSpPr>
        <p:spPr>
          <a:xfrm>
            <a:off x="826920" y="4005360"/>
            <a:ext cx="28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4e3b30"/>
                </a:soli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宋体"/>
              </a:rPr>
              <a:t>找一找</a:t>
            </a:r>
            <a:endParaRPr b="1" lang="en-US" sz="1400" spc="1" strike="noStrike">
              <a:ln w="0">
                <a:noFill/>
              </a:ln>
              <a:solidFill>
                <a:srgbClr val="4e3b30"/>
              </a:soli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4788000" y="981000"/>
            <a:ext cx="3995640" cy="2808360"/>
            <a:chOff x="4788000" y="981000"/>
            <a:chExt cx="3995640" cy="2808360"/>
          </a:xfrm>
        </p:grpSpPr>
        <p:sp>
          <p:nvSpPr>
            <p:cNvPr id="404" name="AutoShape 5"/>
            <p:cNvSpPr/>
            <p:nvPr/>
          </p:nvSpPr>
          <p:spPr>
            <a:xfrm>
              <a:off x="5290920" y="1908000"/>
              <a:ext cx="988200" cy="940320"/>
            </a:xfrm>
            <a:prstGeom prst="hexagon">
              <a:avLst>
                <a:gd name="adj" fmla="val 2627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5" name="AutoShape 6"/>
            <p:cNvSpPr/>
            <p:nvPr/>
          </p:nvSpPr>
          <p:spPr>
            <a:xfrm>
              <a:off x="5535360" y="1420200"/>
              <a:ext cx="484920" cy="487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 rot="18023400">
              <a:off x="4928760" y="178092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7" name="AutoShape 8"/>
            <p:cNvSpPr/>
            <p:nvPr/>
          </p:nvSpPr>
          <p:spPr>
            <a:xfrm>
              <a:off x="6033960" y="2385360"/>
              <a:ext cx="484920" cy="487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8" name="AutoShape 9"/>
            <p:cNvSpPr/>
            <p:nvPr/>
          </p:nvSpPr>
          <p:spPr>
            <a:xfrm rot="10800000">
              <a:off x="5525640" y="2838240"/>
              <a:ext cx="516600" cy="49068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09" name="AutoShape 10"/>
            <p:cNvSpPr/>
            <p:nvPr/>
          </p:nvSpPr>
          <p:spPr>
            <a:xfrm>
              <a:off x="5041440" y="237564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0" name="AutoShape 11"/>
            <p:cNvSpPr/>
            <p:nvPr/>
          </p:nvSpPr>
          <p:spPr>
            <a:xfrm rot="18023400">
              <a:off x="5951880" y="180540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1" name="AutoShape 12"/>
            <p:cNvSpPr/>
            <p:nvPr/>
          </p:nvSpPr>
          <p:spPr>
            <a:xfrm>
              <a:off x="579384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AutoShape 13"/>
            <p:cNvSpPr/>
            <p:nvPr/>
          </p:nvSpPr>
          <p:spPr>
            <a:xfrm>
              <a:off x="6279120" y="191304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AutoShape 14"/>
            <p:cNvSpPr/>
            <p:nvPr/>
          </p:nvSpPr>
          <p:spPr>
            <a:xfrm>
              <a:off x="7285320" y="190332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AutoShape 15"/>
            <p:cNvSpPr/>
            <p:nvPr/>
          </p:nvSpPr>
          <p:spPr>
            <a:xfrm>
              <a:off x="7529760" y="141552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5" name="AutoShape 16"/>
            <p:cNvSpPr/>
            <p:nvPr/>
          </p:nvSpPr>
          <p:spPr>
            <a:xfrm rot="18023400">
              <a:off x="6923160" y="177624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AutoShape 17"/>
            <p:cNvSpPr/>
            <p:nvPr/>
          </p:nvSpPr>
          <p:spPr>
            <a:xfrm>
              <a:off x="8028360" y="236088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AutoShape 18"/>
            <p:cNvSpPr/>
            <p:nvPr/>
          </p:nvSpPr>
          <p:spPr>
            <a:xfrm rot="10800000">
              <a:off x="7506720" y="2833920"/>
              <a:ext cx="516240" cy="4903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8" name="AutoShape 19"/>
            <p:cNvSpPr/>
            <p:nvPr/>
          </p:nvSpPr>
          <p:spPr>
            <a:xfrm>
              <a:off x="7035840" y="2370960"/>
              <a:ext cx="484920" cy="4874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9" name="AutoShape 20"/>
            <p:cNvSpPr/>
            <p:nvPr/>
          </p:nvSpPr>
          <p:spPr>
            <a:xfrm rot="18023400">
              <a:off x="7946280" y="1800720"/>
              <a:ext cx="556560" cy="4550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AutoShape 21"/>
            <p:cNvSpPr/>
            <p:nvPr/>
          </p:nvSpPr>
          <p:spPr>
            <a:xfrm>
              <a:off x="6537600" y="1420200"/>
              <a:ext cx="484920" cy="487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AutoShape 22"/>
            <p:cNvSpPr/>
            <p:nvPr/>
          </p:nvSpPr>
          <p:spPr>
            <a:xfrm rot="10800000">
              <a:off x="6528600" y="2838240"/>
              <a:ext cx="516240" cy="49068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AutoShape 23"/>
            <p:cNvSpPr/>
            <p:nvPr/>
          </p:nvSpPr>
          <p:spPr>
            <a:xfrm>
              <a:off x="479196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AutoShape 24"/>
            <p:cNvSpPr/>
            <p:nvPr/>
          </p:nvSpPr>
          <p:spPr>
            <a:xfrm>
              <a:off x="679572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AutoShape 25"/>
            <p:cNvSpPr/>
            <p:nvPr/>
          </p:nvSpPr>
          <p:spPr>
            <a:xfrm>
              <a:off x="676368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AutoShape 26"/>
            <p:cNvSpPr/>
            <p:nvPr/>
          </p:nvSpPr>
          <p:spPr>
            <a:xfrm>
              <a:off x="579384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AutoShape 27"/>
            <p:cNvSpPr/>
            <p:nvPr/>
          </p:nvSpPr>
          <p:spPr>
            <a:xfrm>
              <a:off x="776556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AutoShape 28"/>
            <p:cNvSpPr/>
            <p:nvPr/>
          </p:nvSpPr>
          <p:spPr>
            <a:xfrm>
              <a:off x="4788000" y="284868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AutoShape 29"/>
            <p:cNvSpPr/>
            <p:nvPr/>
          </p:nvSpPr>
          <p:spPr>
            <a:xfrm>
              <a:off x="7795440" y="981000"/>
              <a:ext cx="988200" cy="940680"/>
            </a:xfrm>
            <a:prstGeom prst="hexagon">
              <a:avLst>
                <a:gd name="adj" fmla="val 2626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395280" y="0"/>
            <a:ext cx="4372920" cy="4463280"/>
            <a:chOff x="395280" y="0"/>
            <a:chExt cx="4372920" cy="4463280"/>
          </a:xfrm>
        </p:grpSpPr>
        <p:sp>
          <p:nvSpPr>
            <p:cNvPr id="430" name="AutoShape 31"/>
            <p:cNvSpPr/>
            <p:nvPr/>
          </p:nvSpPr>
          <p:spPr>
            <a:xfrm>
              <a:off x="395280" y="0"/>
              <a:ext cx="4372920" cy="44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133640" y="2491200"/>
              <a:ext cx="986400" cy="9349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133640" y="2956680"/>
              <a:ext cx="986400" cy="881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19" h="233">
                  <a:moveTo>
                    <a:pt x="0" y="124"/>
                  </a:moveTo>
                  <a:lnTo>
                    <a:pt x="219" y="233"/>
                  </a:lnTo>
                  <a:lnTo>
                    <a:pt x="219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133640" y="1555560"/>
              <a:ext cx="986400" cy="935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133640" y="2025000"/>
              <a:ext cx="986400" cy="9313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219" h="246">
                  <a:moveTo>
                    <a:pt x="0" y="123"/>
                  </a:moveTo>
                  <a:lnTo>
                    <a:pt x="219" y="246"/>
                  </a:lnTo>
                  <a:lnTo>
                    <a:pt x="219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133640" y="1090080"/>
              <a:ext cx="986400" cy="9349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9" h="247">
                  <a:moveTo>
                    <a:pt x="0" y="123"/>
                  </a:moveTo>
                  <a:lnTo>
                    <a:pt x="219" y="247"/>
                  </a:lnTo>
                  <a:lnTo>
                    <a:pt x="219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2120040" y="2956680"/>
              <a:ext cx="923040" cy="88164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05" h="233">
                  <a:moveTo>
                    <a:pt x="0" y="233"/>
                  </a:moveTo>
                  <a:lnTo>
                    <a:pt x="205" y="110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043080" y="2491200"/>
              <a:ext cx="986400" cy="881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19" h="233">
                  <a:moveTo>
                    <a:pt x="0" y="233"/>
                  </a:moveTo>
                  <a:lnTo>
                    <a:pt x="219" y="110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2120040" y="2491200"/>
              <a:ext cx="923040" cy="88164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205" h="233">
                  <a:moveTo>
                    <a:pt x="205" y="233"/>
                  </a:moveTo>
                  <a:lnTo>
                    <a:pt x="205" y="0"/>
                  </a:lnTo>
                  <a:lnTo>
                    <a:pt x="0" y="123"/>
                  </a:lnTo>
                  <a:lnTo>
                    <a:pt x="205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043080" y="2025000"/>
              <a:ext cx="986400" cy="88236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19" h="233">
                  <a:moveTo>
                    <a:pt x="219" y="233"/>
                  </a:moveTo>
                  <a:lnTo>
                    <a:pt x="219" y="0"/>
                  </a:lnTo>
                  <a:lnTo>
                    <a:pt x="0" y="123"/>
                  </a:lnTo>
                  <a:lnTo>
                    <a:pt x="219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2120040" y="2025000"/>
              <a:ext cx="923040" cy="93132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205" h="246">
                  <a:moveTo>
                    <a:pt x="0" y="246"/>
                  </a:moveTo>
                  <a:lnTo>
                    <a:pt x="205" y="123"/>
                  </a:lnTo>
                  <a:lnTo>
                    <a:pt x="0" y="0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2120040" y="624960"/>
              <a:ext cx="923040" cy="93060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205" h="246">
                  <a:moveTo>
                    <a:pt x="205" y="0"/>
                  </a:moveTo>
                  <a:lnTo>
                    <a:pt x="0" y="123"/>
                  </a:lnTo>
                  <a:lnTo>
                    <a:pt x="205" y="24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043080" y="624960"/>
              <a:ext cx="986400" cy="93060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219" h="246">
                  <a:moveTo>
                    <a:pt x="0" y="0"/>
                  </a:moveTo>
                  <a:lnTo>
                    <a:pt x="0" y="246"/>
                  </a:lnTo>
                  <a:lnTo>
                    <a:pt x="21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2120040" y="1090080"/>
              <a:ext cx="923040" cy="93492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05" h="247">
                  <a:moveTo>
                    <a:pt x="0" y="0"/>
                  </a:moveTo>
                  <a:lnTo>
                    <a:pt x="0" y="247"/>
                  </a:lnTo>
                  <a:lnTo>
                    <a:pt x="205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3043080" y="1090080"/>
              <a:ext cx="986400" cy="9349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9" h="247">
                  <a:moveTo>
                    <a:pt x="219" y="0"/>
                  </a:moveTo>
                  <a:lnTo>
                    <a:pt x="0" y="123"/>
                  </a:lnTo>
                  <a:lnTo>
                    <a:pt x="219" y="24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2120040" y="1555560"/>
              <a:ext cx="923040" cy="93564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205" h="247">
                  <a:moveTo>
                    <a:pt x="0" y="124"/>
                  </a:moveTo>
                  <a:lnTo>
                    <a:pt x="205" y="247"/>
                  </a:lnTo>
                  <a:lnTo>
                    <a:pt x="205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3043080" y="1555560"/>
              <a:ext cx="986400" cy="93564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219" h="247">
                  <a:moveTo>
                    <a:pt x="219" y="124"/>
                  </a:moveTo>
                  <a:lnTo>
                    <a:pt x="0" y="0"/>
                  </a:lnTo>
                  <a:lnTo>
                    <a:pt x="0" y="247"/>
                  </a:lnTo>
                  <a:lnTo>
                    <a:pt x="219" y="12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3043080" y="1555560"/>
              <a:ext cx="3960" cy="935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3043080" y="155556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9" name="Line 50"/>
            <p:cNvSpPr/>
            <p:nvPr/>
          </p:nvSpPr>
          <p:spPr>
            <a:xfrm flipH="1">
              <a:off x="3043080" y="2025000"/>
              <a:ext cx="986400" cy="465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Line 51"/>
            <p:cNvSpPr/>
            <p:nvPr/>
          </p:nvSpPr>
          <p:spPr>
            <a:xfrm>
              <a:off x="2120040" y="2025000"/>
              <a:ext cx="923040" cy="465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Line 52"/>
            <p:cNvSpPr/>
            <p:nvPr/>
          </p:nvSpPr>
          <p:spPr>
            <a:xfrm flipH="1">
              <a:off x="2120040" y="1555560"/>
              <a:ext cx="92304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H="1">
              <a:off x="3043080" y="109008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4029840" y="1090080"/>
              <a:ext cx="3960" cy="9349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>
              <a:off x="2120040" y="1090080"/>
              <a:ext cx="3960" cy="9349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2120040" y="109008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3043080" y="624960"/>
              <a:ext cx="3960" cy="9306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3043080" y="62496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 flipH="1">
              <a:off x="2120040" y="62496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3043080" y="624960"/>
              <a:ext cx="3960" cy="9306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Line 61"/>
            <p:cNvSpPr/>
            <p:nvPr/>
          </p:nvSpPr>
          <p:spPr>
            <a:xfrm flipH="1">
              <a:off x="2120040" y="249120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Line 62"/>
            <p:cNvSpPr/>
            <p:nvPr/>
          </p:nvSpPr>
          <p:spPr>
            <a:xfrm>
              <a:off x="2120040" y="2025000"/>
              <a:ext cx="3960" cy="9313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Line 63"/>
            <p:cNvSpPr/>
            <p:nvPr/>
          </p:nvSpPr>
          <p:spPr>
            <a:xfrm>
              <a:off x="4029840" y="2025000"/>
              <a:ext cx="3960" cy="8823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Line 64"/>
            <p:cNvSpPr/>
            <p:nvPr/>
          </p:nvSpPr>
          <p:spPr>
            <a:xfrm>
              <a:off x="3043080" y="2491200"/>
              <a:ext cx="986400" cy="4161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Line 65"/>
            <p:cNvSpPr/>
            <p:nvPr/>
          </p:nvSpPr>
          <p:spPr>
            <a:xfrm>
              <a:off x="3043080" y="2491200"/>
              <a:ext cx="3960" cy="881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2120040" y="2956680"/>
              <a:ext cx="923040" cy="4161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H="1">
              <a:off x="3043080" y="290772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Line 68"/>
            <p:cNvSpPr/>
            <p:nvPr/>
          </p:nvSpPr>
          <p:spPr>
            <a:xfrm>
              <a:off x="3043080" y="2491200"/>
              <a:ext cx="3960" cy="881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Line 69"/>
            <p:cNvSpPr/>
            <p:nvPr/>
          </p:nvSpPr>
          <p:spPr>
            <a:xfrm flipH="1">
              <a:off x="2120040" y="3372840"/>
              <a:ext cx="92304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Line 70"/>
            <p:cNvSpPr/>
            <p:nvPr/>
          </p:nvSpPr>
          <p:spPr>
            <a:xfrm>
              <a:off x="2120040" y="2956680"/>
              <a:ext cx="3960" cy="881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Line 71"/>
            <p:cNvSpPr/>
            <p:nvPr/>
          </p:nvSpPr>
          <p:spPr>
            <a:xfrm>
              <a:off x="1133640" y="155556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Line 72"/>
            <p:cNvSpPr/>
            <p:nvPr/>
          </p:nvSpPr>
          <p:spPr>
            <a:xfrm flipH="1">
              <a:off x="1133640" y="109008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Line 73"/>
            <p:cNvSpPr/>
            <p:nvPr/>
          </p:nvSpPr>
          <p:spPr>
            <a:xfrm>
              <a:off x="1133640" y="249120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Line 74"/>
            <p:cNvSpPr/>
            <p:nvPr/>
          </p:nvSpPr>
          <p:spPr>
            <a:xfrm flipH="1">
              <a:off x="1133640" y="2025000"/>
              <a:ext cx="986400" cy="465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>
              <a:off x="1133640" y="1555560"/>
              <a:ext cx="5040" cy="9356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>
              <a:off x="1133640" y="155556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Line 77"/>
            <p:cNvSpPr/>
            <p:nvPr/>
          </p:nvSpPr>
          <p:spPr>
            <a:xfrm>
              <a:off x="1133640" y="3426120"/>
              <a:ext cx="986400" cy="4118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Line 78"/>
            <p:cNvSpPr/>
            <p:nvPr/>
          </p:nvSpPr>
          <p:spPr>
            <a:xfrm flipH="1">
              <a:off x="1133640" y="2956680"/>
              <a:ext cx="986400" cy="469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Line 79"/>
            <p:cNvSpPr/>
            <p:nvPr/>
          </p:nvSpPr>
          <p:spPr>
            <a:xfrm>
              <a:off x="1133640" y="2491200"/>
              <a:ext cx="5040" cy="9349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>
              <a:off x="1133640" y="2491200"/>
              <a:ext cx="986400" cy="46512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2700360" y="693720"/>
            <a:ext cx="64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举出现实生活中能够完全重合的图形的例子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1" name="WordArt 3" descr=""/>
          <p:cNvPicPr/>
          <p:nvPr/>
        </p:nvPicPr>
        <p:blipFill>
          <a:blip r:embed="rId1"/>
          <a:stretch/>
        </p:blipFill>
        <p:spPr>
          <a:xfrm>
            <a:off x="390600" y="585720"/>
            <a:ext cx="2200320" cy="12924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4"/>
          <p:cNvSpPr/>
          <p:nvPr/>
        </p:nvSpPr>
        <p:spPr>
          <a:xfrm>
            <a:off x="971640" y="2349360"/>
            <a:ext cx="2736720" cy="2448000"/>
          </a:xfrm>
          <a:custGeom>
            <a:avLst/>
            <a:gdLst>
              <a:gd name="textAreaLeft" fmla="*/ 845640 w 2736720"/>
              <a:gd name="textAreaRight" fmla="*/ 1891080 w 273672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2736850" h="2447925">
                <a:moveTo>
                  <a:pt x="3" y="935022"/>
                </a:moveTo>
                <a:lnTo>
                  <a:pt x="1045390" y="935028"/>
                </a:lnTo>
                <a:lnTo>
                  <a:pt x="1368425" y="0"/>
                </a:lnTo>
                <a:lnTo>
                  <a:pt x="1691460" y="935028"/>
                </a:lnTo>
                <a:lnTo>
                  <a:pt x="2736847" y="935022"/>
                </a:lnTo>
                <a:lnTo>
                  <a:pt x="1891108" y="1512893"/>
                </a:lnTo>
                <a:lnTo>
                  <a:pt x="2214159" y="2447917"/>
                </a:lnTo>
                <a:lnTo>
                  <a:pt x="1368425" y="1870035"/>
                </a:lnTo>
                <a:lnTo>
                  <a:pt x="522691" y="2447917"/>
                </a:lnTo>
                <a:lnTo>
                  <a:pt x="845742" y="1512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4932360" y="2349360"/>
            <a:ext cx="2736720" cy="2448000"/>
          </a:xfrm>
          <a:custGeom>
            <a:avLst/>
            <a:gdLst>
              <a:gd name="textAreaLeft" fmla="*/ 845640 w 2736720"/>
              <a:gd name="textAreaRight" fmla="*/ 1891080 w 273672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2736850" h="2447925">
                <a:moveTo>
                  <a:pt x="3" y="935022"/>
                </a:moveTo>
                <a:lnTo>
                  <a:pt x="1045390" y="935028"/>
                </a:lnTo>
                <a:lnTo>
                  <a:pt x="1368425" y="0"/>
                </a:lnTo>
                <a:lnTo>
                  <a:pt x="1691460" y="935028"/>
                </a:lnTo>
                <a:lnTo>
                  <a:pt x="2736847" y="935022"/>
                </a:lnTo>
                <a:lnTo>
                  <a:pt x="1891108" y="1512893"/>
                </a:lnTo>
                <a:lnTo>
                  <a:pt x="2214159" y="2447917"/>
                </a:lnTo>
                <a:lnTo>
                  <a:pt x="1368425" y="1870035"/>
                </a:lnTo>
                <a:lnTo>
                  <a:pt x="522691" y="2447917"/>
                </a:lnTo>
                <a:lnTo>
                  <a:pt x="845742" y="1512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4932360" y="2349360"/>
            <a:ext cx="2736720" cy="2448000"/>
          </a:xfrm>
          <a:custGeom>
            <a:avLst/>
            <a:gdLst>
              <a:gd name="textAreaLeft" fmla="*/ 845640 w 2736720"/>
              <a:gd name="textAreaRight" fmla="*/ 1891080 w 273672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2736850" h="2447925">
                <a:moveTo>
                  <a:pt x="3" y="935022"/>
                </a:moveTo>
                <a:lnTo>
                  <a:pt x="1045390" y="935028"/>
                </a:lnTo>
                <a:lnTo>
                  <a:pt x="1368425" y="0"/>
                </a:lnTo>
                <a:lnTo>
                  <a:pt x="1691460" y="935028"/>
                </a:lnTo>
                <a:lnTo>
                  <a:pt x="2736847" y="935022"/>
                </a:lnTo>
                <a:lnTo>
                  <a:pt x="1891108" y="1512893"/>
                </a:lnTo>
                <a:lnTo>
                  <a:pt x="2214159" y="2447917"/>
                </a:lnTo>
                <a:lnTo>
                  <a:pt x="1368425" y="1870035"/>
                </a:lnTo>
                <a:lnTo>
                  <a:pt x="522691" y="2447917"/>
                </a:lnTo>
                <a:lnTo>
                  <a:pt x="845742" y="15128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16 -2.42775E-006 L -2.5E-006 -2.42775E-006 E">
                                      <p:cBhvr>
                                        <p:cTn id="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3203640" y="549360"/>
            <a:ext cx="259380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81d06"/>
                </a:solidFill>
                <a:latin typeface="Arial"/>
                <a:ea typeface="华文行楷"/>
              </a:rPr>
              <a:t>  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rcRect l="2310" t="0" r="0" b="0"/>
          <a:stretch/>
        </p:blipFill>
        <p:spPr>
          <a:xfrm>
            <a:off x="0" y="477720"/>
            <a:ext cx="3543480" cy="48690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"/>
          <p:cNvSpPr/>
          <p:nvPr/>
        </p:nvSpPr>
        <p:spPr>
          <a:xfrm>
            <a:off x="3564000" y="1341360"/>
            <a:ext cx="1944720" cy="3240000"/>
          </a:xfrm>
          <a:prstGeom prst="wedgeRoundRectCallout">
            <a:avLst>
              <a:gd name="adj1" fmla="val 37018"/>
              <a:gd name="adj2" fmla="val 60287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1bc3"/>
                </a:solidFill>
                <a:latin typeface="华文新魏"/>
                <a:ea typeface="华文新魏"/>
              </a:rPr>
              <a:t>两张纸重合  后 剪纸，得到的两个图形 大 小、形状相同</a:t>
            </a:r>
            <a:r>
              <a:rPr b="1" lang="zh-CN" sz="2800" spc="-1" strike="noStrike">
                <a:solidFill>
                  <a:srgbClr val="371bc3"/>
                </a:solidFill>
                <a:latin typeface="Arial"/>
                <a:ea typeface="幼圆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2021040" y="5634360"/>
            <a:ext cx="5340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Times New Roman"/>
                <a:ea typeface="华文新魏"/>
              </a:rPr>
              <a:t>全等形</a:t>
            </a:r>
            <a:r>
              <a:rPr b="0" lang="zh-CN" sz="3600" spc="-1" strike="noStrike">
                <a:solidFill>
                  <a:srgbClr val="4e3b3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4e3b30"/>
                </a:solidFill>
                <a:latin typeface="Arial"/>
                <a:ea typeface="华文行楷"/>
              </a:rPr>
              <a:t>能够完全重合的图形叫做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全等形</a:t>
            </a:r>
            <a:r>
              <a:rPr b="0" lang="zh-CN" sz="3600" spc="-1" strike="noStrike">
                <a:solidFill>
                  <a:srgbClr val="4e3b30"/>
                </a:solidFill>
                <a:latin typeface="Arial"/>
                <a:ea typeface="华文行楷"/>
              </a:rPr>
              <a:t>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9" name="Picture 6" descr=""/>
          <p:cNvPicPr/>
          <p:nvPr/>
        </p:nvPicPr>
        <p:blipFill>
          <a:blip r:embed="rId2"/>
          <a:srcRect l="2310" t="0" r="0" b="0"/>
          <a:stretch/>
        </p:blipFill>
        <p:spPr>
          <a:xfrm>
            <a:off x="5580000" y="477720"/>
            <a:ext cx="3541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6360" y="54936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将一块三角板按在纸板上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画下图形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照样裁下纸板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395280" y="1125360"/>
            <a:ext cx="3673440" cy="2232360"/>
            <a:chOff x="395280" y="1125360"/>
            <a:chExt cx="3673440" cy="2232360"/>
          </a:xfrm>
        </p:grpSpPr>
        <p:grpSp>
          <p:nvGrpSpPr>
            <p:cNvPr id="492" name="Group 4"/>
            <p:cNvGrpSpPr/>
            <p:nvPr/>
          </p:nvGrpSpPr>
          <p:grpSpPr>
            <a:xfrm>
              <a:off x="395280" y="1125360"/>
              <a:ext cx="3673440" cy="2232360"/>
              <a:chOff x="395280" y="1125360"/>
              <a:chExt cx="3673440" cy="2232360"/>
            </a:xfrm>
          </p:grpSpPr>
          <p:sp>
            <p:nvSpPr>
              <p:cNvPr id="493" name="AutoShape 5"/>
              <p:cNvSpPr/>
              <p:nvPr/>
            </p:nvSpPr>
            <p:spPr>
              <a:xfrm>
                <a:off x="595440" y="1746000"/>
                <a:ext cx="2405160" cy="1611720"/>
              </a:xfrm>
              <a:prstGeom prst="triangle">
                <a:avLst>
                  <a:gd name="adj" fmla="val 22333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Rectangle 6"/>
              <p:cNvSpPr/>
              <p:nvPr/>
            </p:nvSpPr>
            <p:spPr>
              <a:xfrm>
                <a:off x="395280" y="1125360"/>
                <a:ext cx="3673440" cy="2232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5" name="Line 7"/>
            <p:cNvSpPr/>
            <p:nvPr/>
          </p:nvSpPr>
          <p:spPr>
            <a:xfrm flipV="1">
              <a:off x="595440" y="1373760"/>
              <a:ext cx="668520" cy="1983240"/>
            </a:xfrm>
            <a:prstGeom prst="line">
              <a:avLst/>
            </a:prstGeom>
            <a:ln w="38160">
              <a:solidFill>
                <a:srgbClr val="00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6" name="Line 8"/>
            <p:cNvSpPr/>
            <p:nvPr/>
          </p:nvSpPr>
          <p:spPr>
            <a:xfrm flipH="1" flipV="1">
              <a:off x="661320" y="1373760"/>
              <a:ext cx="2338920" cy="1983240"/>
            </a:xfrm>
            <a:prstGeom prst="line">
              <a:avLst/>
            </a:prstGeom>
            <a:ln w="38160">
              <a:solidFill>
                <a:srgbClr val="000c0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97" name="Picture 9" descr="MCj02340680000[1]"/>
          <p:cNvPicPr/>
          <p:nvPr/>
        </p:nvPicPr>
        <p:blipFill>
          <a:blip r:embed="rId1"/>
          <a:stretch/>
        </p:blipFill>
        <p:spPr>
          <a:xfrm>
            <a:off x="2413080" y="2854440"/>
            <a:ext cx="1582560" cy="14605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0"/>
          <p:cNvSpPr/>
          <p:nvPr/>
        </p:nvSpPr>
        <p:spPr>
          <a:xfrm>
            <a:off x="4429080" y="1341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裁下的纸板和样板的形状、大小是否 完 全 一样？能完全重合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11"/>
          <p:cNvGrpSpPr/>
          <p:nvPr/>
        </p:nvGrpSpPr>
        <p:grpSpPr>
          <a:xfrm>
            <a:off x="252360" y="4581360"/>
            <a:ext cx="6097680" cy="1513440"/>
            <a:chOff x="252360" y="4581360"/>
            <a:chExt cx="6097680" cy="1513440"/>
          </a:xfrm>
        </p:grpSpPr>
        <p:sp>
          <p:nvSpPr>
            <p:cNvPr id="500" name="Rectangle 12"/>
            <p:cNvSpPr/>
            <p:nvPr/>
          </p:nvSpPr>
          <p:spPr>
            <a:xfrm>
              <a:off x="1476360" y="5513400"/>
              <a:ext cx="282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全等三角形：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01" name="Group 13"/>
            <p:cNvGrpSpPr/>
            <p:nvPr/>
          </p:nvGrpSpPr>
          <p:grpSpPr>
            <a:xfrm>
              <a:off x="3492000" y="4581360"/>
              <a:ext cx="2858040" cy="581400"/>
              <a:chOff x="3492000" y="4581360"/>
              <a:chExt cx="2858040" cy="581400"/>
            </a:xfrm>
          </p:grpSpPr>
          <p:sp>
            <p:nvSpPr>
              <p:cNvPr id="502" name="Rectangle 14"/>
              <p:cNvSpPr/>
              <p:nvPr/>
            </p:nvSpPr>
            <p:spPr>
              <a:xfrm>
                <a:off x="4508280" y="4581360"/>
                <a:ext cx="184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宋体"/>
                  </a:rPr>
                  <a:t>能够</a:t>
                </a: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华文彩云"/>
                  </a:rPr>
                  <a:t>完全重合</a:t>
                </a:r>
                <a:r>
                  <a:rPr b="1" lang="zh-CN" sz="3200" spc="-1" strike="noStrike">
                    <a:solidFill>
                      <a:srgbClr val="008000"/>
                    </a:solidFill>
                    <a:latin typeface="Arial"/>
                    <a:ea typeface="宋体"/>
                  </a:rPr>
                  <a:t>的两个图形。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3" name="Rectangle 15"/>
              <p:cNvSpPr/>
              <p:nvPr/>
            </p:nvSpPr>
            <p:spPr>
              <a:xfrm>
                <a:off x="3492000" y="46670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04" name="Rectangle 16"/>
            <p:cNvSpPr/>
            <p:nvPr/>
          </p:nvSpPr>
          <p:spPr>
            <a:xfrm>
              <a:off x="1436760" y="4581360"/>
              <a:ext cx="239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全等形：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5" name="AutoShape 17"/>
            <p:cNvSpPr/>
            <p:nvPr/>
          </p:nvSpPr>
          <p:spPr>
            <a:xfrm>
              <a:off x="1307880" y="4725720"/>
              <a:ext cx="113040" cy="1349640"/>
            </a:xfrm>
            <a:custGeom>
              <a:avLst/>
              <a:gdLst>
                <a:gd name="textAreaLeft" fmla="*/ 72360 w 113040"/>
                <a:gd name="textAreaRight" fmla="*/ 113400 w 113040"/>
                <a:gd name="textAreaTop" fmla="*/ 34920 h 1349640"/>
                <a:gd name="textAreaBottom" fmla="*/ 1314720 h 134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52360" y="51116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宋体"/>
                </a:rPr>
                <a:t>定 义</a:t>
              </a:r>
              <a:r>
                <a:rPr b="1" lang="zh-CN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  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7" name="Rectangle 19"/>
          <p:cNvSpPr/>
          <p:nvPr/>
        </p:nvSpPr>
        <p:spPr>
          <a:xfrm>
            <a:off x="3708360" y="5518080"/>
            <a:ext cx="55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能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彩云"/>
              </a:rPr>
              <a:t>完全重合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的两个三角形。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81080" y="55180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结论：平移、翻折、旋转前后的图形全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187280" y="126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平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61128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翻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059280" y="692280"/>
            <a:ext cx="1655640" cy="1150920"/>
          </a:xfrm>
          <a:prstGeom prst="triangle">
            <a:avLst>
              <a:gd name="adj" fmla="val 71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6553080" y="685800"/>
            <a:ext cx="1656000" cy="1150920"/>
          </a:xfrm>
          <a:prstGeom prst="triangle">
            <a:avLst>
              <a:gd name="adj" fmla="val 71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3048120" y="685800"/>
            <a:ext cx="1655640" cy="1150920"/>
          </a:xfrm>
          <a:prstGeom prst="triangle">
            <a:avLst>
              <a:gd name="adj" fmla="val 71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4" name="WordArt 8" descr="weave"/>
          <p:cNvPicPr/>
          <p:nvPr/>
        </p:nvPicPr>
        <p:blipFill>
          <a:blip r:embed="rId1"/>
          <a:stretch/>
        </p:blipFill>
        <p:spPr>
          <a:xfrm>
            <a:off x="92160" y="530280"/>
            <a:ext cx="1755720" cy="6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Object 9"/>
          <p:cNvGraphicFramePr/>
          <p:nvPr/>
        </p:nvGraphicFramePr>
        <p:xfrm>
          <a:off x="4394160" y="177804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94160" y="17780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7" name="Picture 10" descr="za"/>
          <p:cNvPicPr/>
          <p:nvPr/>
        </p:nvPicPr>
        <p:blipFill>
          <a:blip r:embed="rId4"/>
          <a:stretch/>
        </p:blipFill>
        <p:spPr>
          <a:xfrm>
            <a:off x="468360" y="1916280"/>
            <a:ext cx="5238720" cy="3809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4"/>
          <p:cNvPicPr/>
          <p:nvPr/>
        </p:nvPicPr>
        <p:blipFill>
          <a:blip r:embed="rId5"/>
          <a:stretch/>
        </p:blipFill>
        <p:spPr>
          <a:xfrm>
            <a:off x="2274840" y="2060640"/>
            <a:ext cx="1505160" cy="27334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2"/>
          <p:cNvSpPr/>
          <p:nvPr/>
        </p:nvSpPr>
        <p:spPr>
          <a:xfrm>
            <a:off x="3780000" y="2997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旋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0" name="Picture 13" descr="12"/>
          <p:cNvPicPr/>
          <p:nvPr/>
        </p:nvPicPr>
        <p:blipFill>
          <a:blip r:embed="rId6"/>
          <a:stretch/>
        </p:blipFill>
        <p:spPr>
          <a:xfrm>
            <a:off x="4643280" y="1484280"/>
            <a:ext cx="5239080" cy="3809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33"/>
          <p:cNvPicPr/>
          <p:nvPr/>
        </p:nvPicPr>
        <p:blipFill>
          <a:blip r:embed="rId7"/>
          <a:stretch/>
        </p:blipFill>
        <p:spPr>
          <a:xfrm>
            <a:off x="5051520" y="2421000"/>
            <a:ext cx="3552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0.00023 L 0.38195 0.00023 E">
                                      <p:cBhvr>
                                        <p:cTn id="44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3750840" y="41497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</a:rPr>
              <a:t>互相重合的边叫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对应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639240" y="27813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</a:rPr>
              <a:t>互相重合的顶点叫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对应顶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3673080" y="53737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</a:rPr>
              <a:t>互相重合的角叫做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5" name="Group 5"/>
          <p:cNvGrpSpPr/>
          <p:nvPr/>
        </p:nvGrpSpPr>
        <p:grpSpPr>
          <a:xfrm>
            <a:off x="1476360" y="3429000"/>
            <a:ext cx="1463760" cy="520560"/>
            <a:chOff x="1476360" y="3429000"/>
            <a:chExt cx="1463760" cy="520560"/>
          </a:xfrm>
        </p:grpSpPr>
        <p:sp>
          <p:nvSpPr>
            <p:cNvPr id="526" name="Text Box 6"/>
            <p:cNvSpPr/>
            <p:nvPr/>
          </p:nvSpPr>
          <p:spPr>
            <a:xfrm>
              <a:off x="1476360" y="342900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        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AutoShape 7"/>
            <p:cNvSpPr/>
            <p:nvPr/>
          </p:nvSpPr>
          <p:spPr>
            <a:xfrm>
              <a:off x="1892160" y="3616200"/>
              <a:ext cx="533520" cy="152640"/>
            </a:xfrm>
            <a:prstGeom prst="leftRightArrow">
              <a:avLst>
                <a:gd name="adj1" fmla="val 50000"/>
                <a:gd name="adj2" fmla="val 695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8" name="Group 8"/>
          <p:cNvGrpSpPr/>
          <p:nvPr/>
        </p:nvGrpSpPr>
        <p:grpSpPr>
          <a:xfrm>
            <a:off x="3886200" y="3448080"/>
            <a:ext cx="1463760" cy="520560"/>
            <a:chOff x="3886200" y="3448080"/>
            <a:chExt cx="1463760" cy="520560"/>
          </a:xfrm>
        </p:grpSpPr>
        <p:sp>
          <p:nvSpPr>
            <p:cNvPr id="529" name="Text Box 9"/>
            <p:cNvSpPr/>
            <p:nvPr/>
          </p:nvSpPr>
          <p:spPr>
            <a:xfrm>
              <a:off x="3886200" y="344808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       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AutoShape 10"/>
            <p:cNvSpPr/>
            <p:nvPr/>
          </p:nvSpPr>
          <p:spPr>
            <a:xfrm>
              <a:off x="4305240" y="3638520"/>
              <a:ext cx="533520" cy="152640"/>
            </a:xfrm>
            <a:prstGeom prst="leftRightArrow">
              <a:avLst>
                <a:gd name="adj1" fmla="val 50000"/>
                <a:gd name="adj2" fmla="val 695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6308640" y="3429000"/>
            <a:ext cx="1463760" cy="520560"/>
            <a:chOff x="6308640" y="3429000"/>
            <a:chExt cx="1463760" cy="520560"/>
          </a:xfrm>
        </p:grpSpPr>
        <p:sp>
          <p:nvSpPr>
            <p:cNvPr id="532" name="Text Box 12"/>
            <p:cNvSpPr/>
            <p:nvPr/>
          </p:nvSpPr>
          <p:spPr>
            <a:xfrm>
              <a:off x="6308640" y="342900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       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AutoShape 13"/>
            <p:cNvSpPr/>
            <p:nvPr/>
          </p:nvSpPr>
          <p:spPr>
            <a:xfrm>
              <a:off x="6724440" y="3600360"/>
              <a:ext cx="533520" cy="152640"/>
            </a:xfrm>
            <a:prstGeom prst="leftRightArrow">
              <a:avLst>
                <a:gd name="adj1" fmla="val 50000"/>
                <a:gd name="adj2" fmla="val 695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4" name="Text Box 14"/>
          <p:cNvSpPr/>
          <p:nvPr/>
        </p:nvSpPr>
        <p:spPr>
          <a:xfrm>
            <a:off x="1371600" y="4743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809880" y="474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6095880" y="474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1693080" y="587700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Rectangle 18"/>
          <p:cNvSpPr/>
          <p:nvPr/>
        </p:nvSpPr>
        <p:spPr>
          <a:xfrm>
            <a:off x="3946320" y="58690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Rectangle 19"/>
          <p:cNvSpPr/>
          <p:nvPr/>
        </p:nvSpPr>
        <p:spPr>
          <a:xfrm>
            <a:off x="6176160" y="5850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0" name="Group 20"/>
          <p:cNvGrpSpPr/>
          <p:nvPr/>
        </p:nvGrpSpPr>
        <p:grpSpPr>
          <a:xfrm>
            <a:off x="1404360" y="765000"/>
            <a:ext cx="2274120" cy="1899720"/>
            <a:chOff x="1404360" y="765000"/>
            <a:chExt cx="2274120" cy="1899720"/>
          </a:xfrm>
        </p:grpSpPr>
        <p:sp>
          <p:nvSpPr>
            <p:cNvPr id="541" name="AutoShape 21"/>
            <p:cNvSpPr/>
            <p:nvPr/>
          </p:nvSpPr>
          <p:spPr>
            <a:xfrm>
              <a:off x="1691640" y="980640"/>
              <a:ext cx="1656720" cy="1584360"/>
            </a:xfrm>
            <a:prstGeom prst="triangle">
              <a:avLst>
                <a:gd name="adj" fmla="val 50000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Text Box 22"/>
            <p:cNvSpPr/>
            <p:nvPr/>
          </p:nvSpPr>
          <p:spPr>
            <a:xfrm>
              <a:off x="2124720" y="76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1404360" y="220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Text Box 24"/>
            <p:cNvSpPr/>
            <p:nvPr/>
          </p:nvSpPr>
          <p:spPr>
            <a:xfrm>
              <a:off x="3278160" y="220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4717440" y="693720"/>
            <a:ext cx="2022120" cy="2260080"/>
            <a:chOff x="4717440" y="693720"/>
            <a:chExt cx="2022120" cy="2260080"/>
          </a:xfrm>
        </p:grpSpPr>
        <p:sp>
          <p:nvSpPr>
            <p:cNvPr id="546" name="AutoShape 26"/>
            <p:cNvSpPr/>
            <p:nvPr/>
          </p:nvSpPr>
          <p:spPr>
            <a:xfrm>
              <a:off x="4860360" y="982440"/>
              <a:ext cx="1655640" cy="1584360"/>
            </a:xfrm>
            <a:prstGeom prst="triangle">
              <a:avLst>
                <a:gd name="adj" fmla="val 50000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Text Box 27"/>
            <p:cNvSpPr/>
            <p:nvPr/>
          </p:nvSpPr>
          <p:spPr>
            <a:xfrm>
              <a:off x="5652360" y="693720"/>
              <a:ext cx="3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ad1f1f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28"/>
            <p:cNvSpPr/>
            <p:nvPr/>
          </p:nvSpPr>
          <p:spPr>
            <a:xfrm>
              <a:off x="4717440" y="249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ad1f1f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Text Box 29"/>
            <p:cNvSpPr/>
            <p:nvPr/>
          </p:nvSpPr>
          <p:spPr>
            <a:xfrm>
              <a:off x="6373080" y="249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ad1f1f"/>
                  </a:solidFill>
                  <a:latin typeface="Arial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458 0 E">
                                      <p:cBhvr>
                                        <p:cTn id="9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AutoShape 2"/>
          <p:cNvSpPr/>
          <p:nvPr/>
        </p:nvSpPr>
        <p:spPr>
          <a:xfrm rot="21592800">
            <a:off x="755640" y="2349360"/>
            <a:ext cx="3429000" cy="17748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 rot="21592800">
            <a:off x="5292720" y="234936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04616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54160" y="3718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414180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558144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4862160" y="3718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867888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58" name="Group 10"/>
          <p:cNvGrpSpPr/>
          <p:nvPr/>
        </p:nvGrpSpPr>
        <p:grpSpPr>
          <a:xfrm>
            <a:off x="1099800" y="1125360"/>
            <a:ext cx="6669720" cy="630000"/>
            <a:chOff x="1099800" y="1125360"/>
            <a:chExt cx="6669720" cy="630000"/>
          </a:xfrm>
        </p:grpSpPr>
        <p:sp>
          <p:nvSpPr>
            <p:cNvPr id="559" name="Text Box 11"/>
            <p:cNvSpPr/>
            <p:nvPr/>
          </p:nvSpPr>
          <p:spPr>
            <a:xfrm>
              <a:off x="6095160" y="12348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读作“全等于”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60" name="Group 12"/>
            <p:cNvGrpSpPr/>
            <p:nvPr/>
          </p:nvGrpSpPr>
          <p:grpSpPr>
            <a:xfrm>
              <a:off x="1099800" y="1125360"/>
              <a:ext cx="3680280" cy="609840"/>
              <a:chOff x="1099800" y="1125360"/>
              <a:chExt cx="3680280" cy="609840"/>
            </a:xfrm>
          </p:grpSpPr>
          <p:sp>
            <p:nvSpPr>
              <p:cNvPr id="561" name="Text Box 13"/>
              <p:cNvSpPr/>
              <p:nvPr/>
            </p:nvSpPr>
            <p:spPr>
              <a:xfrm>
                <a:off x="1099800" y="1211040"/>
                <a:ext cx="3680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全等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”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用符号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”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</a:rPr>
                  <a:t>来表示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2" name="Rectangle 14"/>
              <p:cNvSpPr/>
              <p:nvPr/>
            </p:nvSpPr>
            <p:spPr>
              <a:xfrm>
                <a:off x="3251160" y="1125360"/>
                <a:ext cx="636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≌</a:t>
                </a:r>
                <a:endParaRPr b="1" lang="en-US" sz="4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AutoShape 15"/>
          <p:cNvSpPr/>
          <p:nvPr/>
        </p:nvSpPr>
        <p:spPr>
          <a:xfrm rot="21592800">
            <a:off x="755640" y="2349360"/>
            <a:ext cx="3429000" cy="1776600"/>
          </a:xfrm>
          <a:prstGeom prst="triangle">
            <a:avLst>
              <a:gd name="adj" fmla="val 2711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24000" y="5518080"/>
            <a:ext cx="684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注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通常对应顶点写在对应位置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930400" y="4784760"/>
            <a:ext cx="84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18"/>
              <p:cNvSpPr txBox="1"/>
              <p:nvPr/>
            </p:nvSpPr>
            <p:spPr>
              <a:xfrm>
                <a:off x="411480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67" name="Group 19"/>
          <p:cNvGrpSpPr/>
          <p:nvPr/>
        </p:nvGrpSpPr>
        <p:grpSpPr>
          <a:xfrm>
            <a:off x="2844720" y="4508640"/>
            <a:ext cx="3043800" cy="823320"/>
            <a:chOff x="2844720" y="4508640"/>
            <a:chExt cx="3043800" cy="823320"/>
          </a:xfrm>
        </p:grpSpPr>
        <p:sp>
          <p:nvSpPr>
            <p:cNvPr id="568" name="Rectangle 20"/>
            <p:cNvSpPr/>
            <p:nvPr/>
          </p:nvSpPr>
          <p:spPr>
            <a:xfrm>
              <a:off x="3996000" y="4508640"/>
              <a:ext cx="636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≌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2844720" y="4653720"/>
              <a:ext cx="136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∆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B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Text Box 22"/>
            <p:cNvSpPr/>
            <p:nvPr/>
          </p:nvSpPr>
          <p:spPr>
            <a:xfrm>
              <a:off x="4645440" y="465372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∆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1" name="Text Box 23"/>
          <p:cNvSpPr/>
          <p:nvPr/>
        </p:nvSpPr>
        <p:spPr>
          <a:xfrm>
            <a:off x="1690560" y="46864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作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38200" y="15685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852720" y="32860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2195640" y="1917720"/>
            <a:ext cx="1655280" cy="3396600"/>
            <a:chOff x="2195640" y="1917720"/>
            <a:chExt cx="1655280" cy="3396600"/>
          </a:xfrm>
        </p:grpSpPr>
        <p:grpSp>
          <p:nvGrpSpPr>
            <p:cNvPr id="575" name="Group 5"/>
            <p:cNvGrpSpPr/>
            <p:nvPr/>
          </p:nvGrpSpPr>
          <p:grpSpPr>
            <a:xfrm>
              <a:off x="2555280" y="2208960"/>
              <a:ext cx="1295640" cy="2664000"/>
              <a:chOff x="2555280" y="2208960"/>
              <a:chExt cx="1295640" cy="2664000"/>
            </a:xfrm>
          </p:grpSpPr>
          <p:sp>
            <p:nvSpPr>
              <p:cNvPr id="576" name="AutoShape 6"/>
              <p:cNvSpPr/>
              <p:nvPr/>
            </p:nvSpPr>
            <p:spPr>
              <a:xfrm>
                <a:off x="2555280" y="2208960"/>
                <a:ext cx="1294920" cy="12960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7" name="AutoShape 7"/>
              <p:cNvSpPr/>
              <p:nvPr/>
            </p:nvSpPr>
            <p:spPr>
              <a:xfrm flipV="1">
                <a:off x="2555640" y="3504240"/>
                <a:ext cx="1295280" cy="1368360"/>
              </a:xfrm>
              <a:prstGeom prst="triangle">
                <a:avLst>
                  <a:gd name="adj" fmla="val 50023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78" name="Text Box 8"/>
            <p:cNvSpPr/>
            <p:nvPr/>
          </p:nvSpPr>
          <p:spPr>
            <a:xfrm>
              <a:off x="2891160" y="19177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9" name="Text Box 9"/>
            <p:cNvSpPr/>
            <p:nvPr/>
          </p:nvSpPr>
          <p:spPr>
            <a:xfrm>
              <a:off x="2195640" y="32893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3059640" y="49460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81" name="Group 11"/>
          <p:cNvGrpSpPr/>
          <p:nvPr/>
        </p:nvGrpSpPr>
        <p:grpSpPr>
          <a:xfrm>
            <a:off x="5435640" y="2205000"/>
            <a:ext cx="2079360" cy="2672640"/>
            <a:chOff x="5435640" y="2205000"/>
            <a:chExt cx="2079360" cy="2672640"/>
          </a:xfrm>
        </p:grpSpPr>
        <p:sp>
          <p:nvSpPr>
            <p:cNvPr id="582" name="AutoShape 12"/>
            <p:cNvSpPr/>
            <p:nvPr/>
          </p:nvSpPr>
          <p:spPr>
            <a:xfrm>
              <a:off x="5724360" y="2349720"/>
              <a:ext cx="1369800" cy="2303640"/>
            </a:xfrm>
            <a:prstGeom prst="flowChartCollat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Text Box 13"/>
            <p:cNvSpPr/>
            <p:nvPr/>
          </p:nvSpPr>
          <p:spPr>
            <a:xfrm>
              <a:off x="5435640" y="22050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7021080" y="2205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Text Box 15"/>
            <p:cNvSpPr/>
            <p:nvPr/>
          </p:nvSpPr>
          <p:spPr>
            <a:xfrm>
              <a:off x="6084000" y="3285000"/>
              <a:ext cx="49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6" name="Text Box 16"/>
            <p:cNvSpPr/>
            <p:nvPr/>
          </p:nvSpPr>
          <p:spPr>
            <a:xfrm>
              <a:off x="7021080" y="45093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Text Box 17"/>
            <p:cNvSpPr/>
            <p:nvPr/>
          </p:nvSpPr>
          <p:spPr>
            <a:xfrm>
              <a:off x="5435640" y="450936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88" name="Text Box 18"/>
          <p:cNvSpPr/>
          <p:nvPr/>
        </p:nvSpPr>
        <p:spPr>
          <a:xfrm>
            <a:off x="828720" y="82224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请你说出下面两个图中全等三角形的表示方法以及他们的对应元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2:00:28Z</dcterms:created>
  <dc:creator>www.12999.com</dc:creator>
  <dc:description>www.12999.com</dc:description>
  <cp:keywords>www.12999.com</cp:keywords>
  <dc:language>en-US</dc:language>
  <cp:lastModifiedBy>Administrator</cp:lastModifiedBy>
  <cp:lastPrinted>1899-12-30T00:00:00Z</cp:lastPrinted>
  <dcterms:modified xsi:type="dcterms:W3CDTF">2014-07-19T01:20:54Z</dcterms:modified>
  <cp:revision>6</cp:revision>
  <dc:subject>www.12999.com</dc:subject>
  <dc:title>www.12999.com</dc:title>
</cp:coreProperties>
</file>