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type.wav" ContentType="audio/x-wav"/>
  <Override PartName="/ppt/media/image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AE80-1D8C-42B0-B2B1-F883DB4B6D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2AEE-6995-4F65-93ED-FD9679ABA1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EEFE-183D-42D6-9055-FE550C0F8F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A6F1-D75A-4C1A-B51B-914873ADD4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3EC1-3DEB-422A-9E05-4E34C50BE9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3CF3-856A-4B60-83AF-553CFA03FF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8FE5-869A-454E-A2DA-5C6FCEA0F3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AE4-6ABC-4F11-80A3-D98FE5450C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8C8A-C70D-4ED6-A969-26D18435CF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4CF-3F15-488F-9EF4-11405BC5A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BA62-BACD-441F-A9A7-785A3B411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0C72-3DB1-4886-B5B4-D6C5E60303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88D-02AC-4C2B-9D52-C319FD40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741-0917-4F36-8687-9E5C496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E98C-08EC-4629-8F7E-3FB28C58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CBB0D-CF77-4BDB-9FA3-5351A015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A4DDD-F696-4D4E-A656-17FD3DF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B20D6-2B98-454B-8A3F-940406A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02811-5989-4FD9-95F7-14811AA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CDC5C-DA40-4262-974C-8C92907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0748D-E2F0-4608-A447-F0DE3AEE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B860F-042A-446D-AE11-7E46EA8E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FA0BC-E0B3-4332-903E-06A7A102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82A-F4C4-4CC5-9C57-26166FFC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751-FA8C-4FB8-8D55-981A1E7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7A6C-50DD-45E9-B1B5-64C96163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FB15-988D-4894-A339-F9758D27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7B56-0581-4C78-9F15-880A76F7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34A-AB3E-4233-AAC9-53351DF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2D1-73D1-4BB3-9A12-D0876BC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C78-16D7-4A09-AF59-D415544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8BA7-96AA-4C75-8552-FF3A6EA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758-CC23-4433-8199-7757C9B4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2A4D-919E-4B7D-9EE6-026D215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1742-A474-4C7E-8AD3-CA6A205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3E8A-8072-4EE1-A619-876B6519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3578-EBE7-4566-91B6-1BF09EEF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E3E-D429-4C62-809C-82580CFD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48A9-E815-4E70-951B-660FC98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5C57-7EEF-4885-BAF0-6F509CA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36CE-0E09-4FDC-B41E-0BB72FB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2260-A075-4554-BF98-7FDF3084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9887-F390-4B58-8E26-043710F0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485-CCEF-4AED-8148-08BF12B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A7E4-4BF0-4578-8847-2E29788B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F749-870F-49A2-905F-A0D529D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9AA6-D1A4-48DA-942E-CE85289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E1F1-812F-4052-90AA-4305EDB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10BE-EC09-4FA8-8FBB-2E87F3D9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A4E3-3281-4FF5-9144-16498F23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6EC7-47C7-4F0E-A480-49C001EE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3AF0-A72C-4C4A-A64D-CB272E76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6722-D164-4191-AE82-65822FF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5585-476A-476C-86E7-9BD4969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EE8-E29C-452F-98A3-E583A0C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473A-5A88-4076-9B79-A0101839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2E9C-3117-4833-B782-3576ADC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08ED6-E6D7-42C5-AB82-2FEEDF3C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74DF-BE10-4F22-BD0B-16EC4EFC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52557-F094-4148-B387-394D287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B313-4D4A-45ED-ACC6-D44B03A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F229-214B-40AA-AE1F-DAA68492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ACF0-72B9-4C6D-AD8F-506BA90E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B066-81FD-48C0-861D-61AE0F07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B068-A012-47F7-82E5-36C70AD2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337-7F66-49CA-880D-8D0E8B45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AAF8-0EAB-4AD4-8421-EBE12C09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9F1D-FB79-4D06-9A6E-C7FD0FA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EEF96-EA60-4523-BFD4-48755009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35B1-B5D4-4643-9436-B8CE0027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3ECC-6671-4ACA-8E3A-3BA5A1E4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101D-931F-4A81-B2B9-E88438E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A273-63BC-40E9-8F52-82A3B0B4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04D9-87B8-4C27-9D07-749ED2B1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644A-9C6B-4605-A411-1DFC6CE9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A15E-58C8-466C-BB26-F62F5AE6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038-161E-4FEC-AC3D-CE162183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7396A-5A82-4B1A-80CC-C0DE6822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8B77-909C-40C9-9C15-7ED511DC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B8E8-0762-4340-9DC6-AB56F1AC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E9ED6-200B-4E1E-A69D-E790BA8B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1288-43C0-4F1C-88FF-105BFFF1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85E2D-36FB-4CCA-8FD9-9816F496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1EB8-D2B8-4161-B598-73936F0C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654F6-2FA1-4F4D-813F-74ADBDC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4E1C-D99D-4FBD-A1F3-2D9498C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CC26-B0F5-47F3-98E5-3CB0950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746-59A0-4C01-A685-D9E5774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39EB-3776-4944-81AC-10D4374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6D67D-F14A-485F-A44D-7FF42A61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23B2-3ECE-4F27-AE9C-EFD62CE6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6AAA0-9EBB-43F9-97A0-F91446FF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CFEB-CCCE-4988-AC62-F6C9021D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AAF5-7D57-4993-9528-27803C4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A969F-8A69-4E93-8CFB-A230845D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14BB-B4F3-4125-81E8-84823698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5F31-C436-46AC-8142-4F7FF828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3BB5-827F-436D-B6F7-A16A4103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40D-5DEE-4586-8608-6FEA42D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88F6-C3DA-4800-9892-FC57D569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30402-5CD8-4621-9EAD-E64829D3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FD46-A0B8-43A9-99FF-FBC1A3FB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2B6D9-4E08-486D-834D-284DF46A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352E-5A95-452A-8E8E-9B55500B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2099-6EAD-4E66-BEBE-30718DC4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6CB9-653E-4EC6-BF46-E7D03C5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14BA4-89BE-4563-B5E9-0BE13283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CA6F-16D1-42EC-8733-A925F02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2EB8C-E118-4A19-B4DD-37444209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53A-89BF-426A-9A86-B12A9E1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6CBA8-214A-4FD0-AF62-44B5429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DA79-E4B0-44F6-B1DC-B2345D1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EEEAD-CEFF-4039-90DB-D495D2F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4D47-1FEE-4C1A-8BD0-C0C9738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5E872-6811-4262-8BFF-42203FF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A02C4-8CB6-4D85-93B2-E1A98506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6BD0-B82B-4A12-94EE-BFF268F9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C9C1-6F93-46B2-B00F-4B30DA17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4860A-EBE6-4F18-A0B3-63EAC32C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287C4-2EF4-431E-8A58-92BF7FBE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D475-5190-4C30-9ADD-9D84B1F7CDD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A525-290E-4A3F-8D17-24CC8E8106B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1A0-F383-4875-B121-BC9AF09CA04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5BA-0253-4F1C-9FC2-B2B0DDD13CC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754-8895-4404-90C4-17490519B33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9C2-8054-417C-8A52-47ABE681C74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F357-D52C-410C-92E8-ECBA49194C8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02EB-67DF-442D-A578-EF3A9225C33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391-6C47-40F6-B64A-688F7723365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81040" y="26431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角的平分线的性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249800" cy="1238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2"/>
          <p:cNvSpPr/>
          <p:nvPr/>
        </p:nvSpPr>
        <p:spPr>
          <a:xfrm>
            <a:off x="324000" y="90792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直线表示三条相互交叉的公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现要建一个货物中转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要求它到三条公路的距离相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则可供选择的地址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处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两处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三处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四处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395280" y="386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分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由于没有限制在何处选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故要求的地址共有四处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0" name="Group 34"/>
          <p:cNvGrpSpPr/>
          <p:nvPr/>
        </p:nvGrpSpPr>
        <p:grpSpPr>
          <a:xfrm>
            <a:off x="6089760" y="3663720"/>
            <a:ext cx="2514240" cy="2286360"/>
            <a:chOff x="6089760" y="3663720"/>
            <a:chExt cx="2514240" cy="2286360"/>
          </a:xfrm>
        </p:grpSpPr>
        <p:sp>
          <p:nvSpPr>
            <p:cNvPr id="531" name="Line 35"/>
            <p:cNvSpPr/>
            <p:nvPr/>
          </p:nvSpPr>
          <p:spPr>
            <a:xfrm>
              <a:off x="6089760" y="3968640"/>
              <a:ext cx="251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2" name="Line 36"/>
            <p:cNvSpPr/>
            <p:nvPr/>
          </p:nvSpPr>
          <p:spPr>
            <a:xfrm flipV="1">
              <a:off x="6089760" y="3663720"/>
              <a:ext cx="2224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Line 37"/>
            <p:cNvSpPr/>
            <p:nvPr/>
          </p:nvSpPr>
          <p:spPr>
            <a:xfrm>
              <a:off x="7636680" y="374004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2843280" cy="25351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395280" y="112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角的两边的距离相等的点在角的平分线上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55640" y="255384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⊥O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⊥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576360" y="185112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数学语言表示为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324000" y="189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课时小结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-360" y="1197000"/>
            <a:ext cx="867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1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、已知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:BD⊥AM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于点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D,CE⊥AN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于点  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E,BD,CE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交点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F,CF=BF,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求证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: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点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F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在∠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A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的平分线上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4643280" y="2576520"/>
            <a:ext cx="3657600" cy="2724120"/>
            <a:chOff x="4643280" y="2576520"/>
            <a:chExt cx="3657600" cy="2724120"/>
          </a:xfrm>
        </p:grpSpPr>
        <p:sp>
          <p:nvSpPr>
            <p:cNvPr id="541" name="Line 5"/>
            <p:cNvSpPr/>
            <p:nvPr/>
          </p:nvSpPr>
          <p:spPr>
            <a:xfrm flipH="1">
              <a:off x="4871880" y="2862360"/>
              <a:ext cx="22860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4948200" y="4767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7"/>
            <p:cNvSpPr/>
            <p:nvPr/>
          </p:nvSpPr>
          <p:spPr>
            <a:xfrm>
              <a:off x="6243480" y="362412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6548400" y="3395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12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Text Box 13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5938920" y="41576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Text Box 19"/>
            <p:cNvSpPr/>
            <p:nvPr/>
          </p:nvSpPr>
          <p:spPr>
            <a:xfrm>
              <a:off x="64720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Text Box 20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7" name="Text Box 21"/>
            <p:cNvSpPr/>
            <p:nvPr/>
          </p:nvSpPr>
          <p:spPr>
            <a:xfrm>
              <a:off x="5938920" y="41576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8" name="Text Box 22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Text Box 23"/>
            <p:cNvSpPr/>
            <p:nvPr/>
          </p:nvSpPr>
          <p:spPr>
            <a:xfrm>
              <a:off x="5938920" y="3319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4871880" y="47671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1" name="Text Box 25"/>
            <p:cNvSpPr/>
            <p:nvPr/>
          </p:nvSpPr>
          <p:spPr>
            <a:xfrm>
              <a:off x="7920000" y="4705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Text Box 26"/>
            <p:cNvSpPr/>
            <p:nvPr/>
          </p:nvSpPr>
          <p:spPr>
            <a:xfrm>
              <a:off x="6438960" y="4719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Text Box 27"/>
            <p:cNvSpPr/>
            <p:nvPr/>
          </p:nvSpPr>
          <p:spPr>
            <a:xfrm>
              <a:off x="6777000" y="472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Text Box 28"/>
            <p:cNvSpPr/>
            <p:nvPr/>
          </p:nvSpPr>
          <p:spPr>
            <a:xfrm>
              <a:off x="6556320" y="3887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Text Box 29"/>
            <p:cNvSpPr/>
            <p:nvPr/>
          </p:nvSpPr>
          <p:spPr>
            <a:xfrm>
              <a:off x="6813360" y="25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M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Text Box 30"/>
            <p:cNvSpPr/>
            <p:nvPr/>
          </p:nvSpPr>
          <p:spPr>
            <a:xfrm>
              <a:off x="6288120" y="3011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Text Box 31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8" name="TextBox 34"/>
          <p:cNvSpPr/>
          <p:nvPr/>
        </p:nvSpPr>
        <p:spPr>
          <a:xfrm>
            <a:off x="324000" y="260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拓展提高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31640" y="1033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会用尺规作角的平分线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1886760" y="24004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角的平分线上的点到角的两边的距离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902600" y="173196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角的平分线的性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0" name="Group 5"/>
          <p:cNvGrpSpPr/>
          <p:nvPr/>
        </p:nvGrpSpPr>
        <p:grpSpPr>
          <a:xfrm>
            <a:off x="5364000" y="2781360"/>
            <a:ext cx="2971800" cy="2898000"/>
            <a:chOff x="5364000" y="2781360"/>
            <a:chExt cx="2971800" cy="2898000"/>
          </a:xfrm>
        </p:grpSpPr>
        <p:sp>
          <p:nvSpPr>
            <p:cNvPr id="411" name="Text Box 6"/>
            <p:cNvSpPr/>
            <p:nvPr/>
          </p:nvSpPr>
          <p:spPr>
            <a:xfrm>
              <a:off x="5364000" y="4076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Text Box 7"/>
            <p:cNvSpPr/>
            <p:nvPr/>
          </p:nvSpPr>
          <p:spPr>
            <a:xfrm>
              <a:off x="7878600" y="415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Text Box 8"/>
            <p:cNvSpPr/>
            <p:nvPr/>
          </p:nvSpPr>
          <p:spPr>
            <a:xfrm>
              <a:off x="7192800" y="521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6278400" y="3848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7181640" y="278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>
              <a:off x="5821200" y="4228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 flipH="1">
              <a:off x="5821200" y="3238200"/>
              <a:ext cx="1589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8" name="Line 13"/>
            <p:cNvSpPr/>
            <p:nvPr/>
          </p:nvSpPr>
          <p:spPr>
            <a:xfrm flipH="1" flipV="1">
              <a:off x="5831640" y="4228560"/>
              <a:ext cx="1589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9" name="Arc 14"/>
            <p:cNvSpPr/>
            <p:nvPr/>
          </p:nvSpPr>
          <p:spPr>
            <a:xfrm>
              <a:off x="6202080" y="4000320"/>
              <a:ext cx="152280" cy="228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Arc 15"/>
            <p:cNvSpPr/>
            <p:nvPr/>
          </p:nvSpPr>
          <p:spPr>
            <a:xfrm>
              <a:off x="6125760" y="4228920"/>
              <a:ext cx="76320" cy="19656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Text Box 16"/>
            <p:cNvSpPr/>
            <p:nvPr/>
          </p:nvSpPr>
          <p:spPr>
            <a:xfrm>
              <a:off x="6278400" y="415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Text Box 17"/>
            <p:cNvSpPr/>
            <p:nvPr/>
          </p:nvSpPr>
          <p:spPr>
            <a:xfrm>
              <a:off x="7268760" y="3848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 flipH="1" flipV="1">
              <a:off x="6906600" y="3546000"/>
              <a:ext cx="43812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Line 19"/>
            <p:cNvSpPr/>
            <p:nvPr/>
          </p:nvSpPr>
          <p:spPr>
            <a:xfrm>
              <a:off x="6717960" y="3676320"/>
              <a:ext cx="11124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Line 20"/>
            <p:cNvSpPr/>
            <p:nvPr/>
          </p:nvSpPr>
          <p:spPr>
            <a:xfrm flipV="1">
              <a:off x="6808320" y="3695400"/>
              <a:ext cx="20988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 flipH="1">
              <a:off x="6903360" y="4232160"/>
              <a:ext cx="43812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 flipV="1">
              <a:off x="6660720" y="4608360"/>
              <a:ext cx="11124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6794280" y="4627440"/>
              <a:ext cx="20952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Text Box 24"/>
            <p:cNvSpPr/>
            <p:nvPr/>
          </p:nvSpPr>
          <p:spPr>
            <a:xfrm>
              <a:off x="6617880" y="3162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6621120" y="4838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1" name="Rectangle 26"/>
          <p:cNvSpPr/>
          <p:nvPr/>
        </p:nvSpPr>
        <p:spPr>
          <a:xfrm>
            <a:off x="998280" y="4130640"/>
            <a:ext cx="31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⊥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Rectangle 27"/>
          <p:cNvSpPr/>
          <p:nvPr/>
        </p:nvSpPr>
        <p:spPr>
          <a:xfrm>
            <a:off x="1005480" y="35542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平分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Rectangle 28"/>
          <p:cNvSpPr/>
          <p:nvPr/>
        </p:nvSpPr>
        <p:spPr>
          <a:xfrm>
            <a:off x="720720" y="47052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29"/>
          <p:cNvSpPr/>
          <p:nvPr/>
        </p:nvSpPr>
        <p:spPr>
          <a:xfrm>
            <a:off x="324000" y="29624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数学语言表述</a:t>
            </a: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Box 32"/>
          <p:cNvSpPr/>
          <p:nvPr/>
        </p:nvSpPr>
        <p:spPr>
          <a:xfrm>
            <a:off x="17928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复习回顾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4e3b30"/>
                </a:solidFill>
                <a:latin typeface="黑体"/>
                <a:ea typeface="黑体"/>
              </a:rPr>
              <a:t>反过来，到一个角的两边的距离相等的点是否一定在这个角的平分线上呢？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842920" cy="2535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4"/>
          <p:cNvSpPr/>
          <p:nvPr/>
        </p:nvSpPr>
        <p:spPr>
          <a:xfrm>
            <a:off x="826920" y="2138760"/>
            <a:ext cx="73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已知：如图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,QD⊥O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E⊥O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点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为垂足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D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求证：点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在∠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AO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的平分线上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250920" y="404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思考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0" y="2421000"/>
            <a:ext cx="738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D⊥O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E⊥O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已知）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　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D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E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垂直的定义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t△QD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t△QE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公共边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D=Q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Rt△QDO≌Rt△QE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　 ∴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   ∴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在∠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-181080" y="587880"/>
            <a:ext cx="84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QD⊥O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E⊥O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为垂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求证：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的平分线上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tretch/>
        </p:blipFill>
        <p:spPr>
          <a:xfrm>
            <a:off x="6192720" y="3486240"/>
            <a:ext cx="2843280" cy="25351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7"/>
          <p:cNvSpPr/>
          <p:nvPr/>
        </p:nvSpPr>
        <p:spPr>
          <a:xfrm>
            <a:off x="1116000" y="3860640"/>
            <a:ext cx="71280" cy="648000"/>
          </a:xfrm>
          <a:custGeom>
            <a:avLst/>
            <a:gdLst>
              <a:gd name="textAreaLeft" fmla="*/ 45720 w 71280"/>
              <a:gd name="textAreaRight" fmla="*/ 71640 w 7128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6192720" y="1268280"/>
            <a:ext cx="2843280" cy="25354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179280" y="7160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到角的两边的距离相等的点在角的平分线上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0" y="249984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⊥O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⊥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0" y="19796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数学语言表示为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179280" y="39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角的平分线上的点到角的两边的距离相等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0" y="4713840"/>
            <a:ext cx="95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⊥OA,QE⊥OB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∴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324000" y="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归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71280" y="436680"/>
            <a:ext cx="8533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如图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, △ABC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角平分线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M,CN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交于点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求证：点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到三边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CA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87280" y="2276640"/>
            <a:ext cx="608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M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平分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M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3" name="Group 15"/>
          <p:cNvGrpSpPr/>
          <p:nvPr/>
        </p:nvGrpSpPr>
        <p:grpSpPr>
          <a:xfrm>
            <a:off x="5996160" y="1771560"/>
            <a:ext cx="3112920" cy="2449440"/>
            <a:chOff x="5996160" y="1771560"/>
            <a:chExt cx="3112920" cy="2449440"/>
          </a:xfrm>
        </p:grpSpPr>
        <p:grpSp>
          <p:nvGrpSpPr>
            <p:cNvPr id="454" name="Group 16"/>
            <p:cNvGrpSpPr/>
            <p:nvPr/>
          </p:nvGrpSpPr>
          <p:grpSpPr>
            <a:xfrm>
              <a:off x="5996160" y="1771560"/>
              <a:ext cx="3112920" cy="2449440"/>
              <a:chOff x="5996160" y="1771560"/>
              <a:chExt cx="3112920" cy="2449440"/>
            </a:xfrm>
          </p:grpSpPr>
          <p:grpSp>
            <p:nvGrpSpPr>
              <p:cNvPr id="455" name="Group 17"/>
              <p:cNvGrpSpPr/>
              <p:nvPr/>
            </p:nvGrpSpPr>
            <p:grpSpPr>
              <a:xfrm>
                <a:off x="6421680" y="2074320"/>
                <a:ext cx="2133360" cy="1537200"/>
                <a:chOff x="6421680" y="2074320"/>
                <a:chExt cx="2133360" cy="1537200"/>
              </a:xfrm>
            </p:grpSpPr>
            <p:sp>
              <p:nvSpPr>
                <p:cNvPr id="456" name="Line 18"/>
                <p:cNvSpPr/>
                <p:nvPr/>
              </p:nvSpPr>
              <p:spPr>
                <a:xfrm>
                  <a:off x="6421680" y="36115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9"/>
                <p:cNvSpPr/>
                <p:nvPr/>
              </p:nvSpPr>
              <p:spPr>
                <a:xfrm>
                  <a:off x="7638840" y="20746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0"/>
                <p:cNvSpPr/>
                <p:nvPr/>
              </p:nvSpPr>
              <p:spPr>
                <a:xfrm flipV="1">
                  <a:off x="6421680" y="20743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Text Box 21"/>
              <p:cNvSpPr/>
              <p:nvPr/>
            </p:nvSpPr>
            <p:spPr>
              <a:xfrm>
                <a:off x="7280280" y="17715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0" name="Text Box 22"/>
              <p:cNvSpPr/>
              <p:nvPr/>
            </p:nvSpPr>
            <p:spPr>
              <a:xfrm>
                <a:off x="5996160" y="3306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1" name="Text Box 23"/>
              <p:cNvSpPr/>
              <p:nvPr/>
            </p:nvSpPr>
            <p:spPr>
              <a:xfrm>
                <a:off x="8575920" y="3382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2" name="Text Box 24"/>
              <p:cNvSpPr/>
              <p:nvPr/>
            </p:nvSpPr>
            <p:spPr>
              <a:xfrm>
                <a:off x="7280280" y="25797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463" name="Group 25"/>
              <p:cNvGrpSpPr/>
              <p:nvPr/>
            </p:nvGrpSpPr>
            <p:grpSpPr>
              <a:xfrm>
                <a:off x="6235920" y="1771560"/>
                <a:ext cx="2568600" cy="2449440"/>
                <a:chOff x="6235920" y="1771560"/>
                <a:chExt cx="2568600" cy="2449440"/>
              </a:xfrm>
            </p:grpSpPr>
            <p:sp>
              <p:nvSpPr>
                <p:cNvPr id="464" name="Line 26"/>
                <p:cNvSpPr/>
                <p:nvPr/>
              </p:nvSpPr>
              <p:spPr>
                <a:xfrm flipH="1">
                  <a:off x="7488000" y="1771560"/>
                  <a:ext cx="179640" cy="244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27"/>
                <p:cNvSpPr/>
                <p:nvPr/>
              </p:nvSpPr>
              <p:spPr>
                <a:xfrm flipV="1">
                  <a:off x="6235920" y="2590200"/>
                  <a:ext cx="2319480" cy="11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"/>
                <p:cNvSpPr/>
                <p:nvPr/>
              </p:nvSpPr>
              <p:spPr>
                <a:xfrm>
                  <a:off x="6432840" y="2468520"/>
                  <a:ext cx="2371680" cy="12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29"/>
                <p:cNvSpPr/>
                <p:nvPr/>
              </p:nvSpPr>
              <p:spPr>
                <a:xfrm>
                  <a:off x="6421680" y="36115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30"/>
                <p:cNvSpPr/>
                <p:nvPr/>
              </p:nvSpPr>
              <p:spPr>
                <a:xfrm>
                  <a:off x="7639200" y="207468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31"/>
                <p:cNvSpPr/>
                <p:nvPr/>
              </p:nvSpPr>
              <p:spPr>
                <a:xfrm flipV="1">
                  <a:off x="6421680" y="207432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32"/>
            <p:cNvSpPr/>
            <p:nvPr/>
          </p:nvSpPr>
          <p:spPr>
            <a:xfrm>
              <a:off x="8042400" y="2304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6670800" y="2304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2" name="Group 34"/>
          <p:cNvGrpSpPr/>
          <p:nvPr/>
        </p:nvGrpSpPr>
        <p:grpSpPr>
          <a:xfrm>
            <a:off x="6900840" y="2276640"/>
            <a:ext cx="1633680" cy="1721520"/>
            <a:chOff x="6900840" y="2276640"/>
            <a:chExt cx="1633680" cy="1721520"/>
          </a:xfrm>
        </p:grpSpPr>
        <p:grpSp>
          <p:nvGrpSpPr>
            <p:cNvPr id="473" name="Group 35"/>
            <p:cNvGrpSpPr/>
            <p:nvPr/>
          </p:nvGrpSpPr>
          <p:grpSpPr>
            <a:xfrm>
              <a:off x="7120080" y="2601720"/>
              <a:ext cx="1025280" cy="1048680"/>
              <a:chOff x="7120080" y="2601720"/>
              <a:chExt cx="1025280" cy="1048680"/>
            </a:xfrm>
          </p:grpSpPr>
          <p:sp>
            <p:nvSpPr>
              <p:cNvPr id="474" name="Line 36"/>
              <p:cNvSpPr/>
              <p:nvPr/>
            </p:nvSpPr>
            <p:spPr>
              <a:xfrm flipH="1" flipV="1">
                <a:off x="7548120" y="3072960"/>
                <a:ext cx="3240" cy="577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5" name="Line 37"/>
              <p:cNvSpPr/>
              <p:nvPr/>
            </p:nvSpPr>
            <p:spPr>
              <a:xfrm flipV="1">
                <a:off x="7548480" y="2812320"/>
                <a:ext cx="447840" cy="27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Line 38"/>
              <p:cNvSpPr/>
              <p:nvPr/>
            </p:nvSpPr>
            <p:spPr>
              <a:xfrm>
                <a:off x="7120080" y="2737800"/>
                <a:ext cx="42840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Line 39"/>
              <p:cNvSpPr/>
              <p:nvPr/>
            </p:nvSpPr>
            <p:spPr>
              <a:xfrm>
                <a:off x="7548480" y="3399840"/>
                <a:ext cx="223920" cy="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8" name="Line 40"/>
              <p:cNvSpPr/>
              <p:nvPr/>
            </p:nvSpPr>
            <p:spPr>
              <a:xfrm>
                <a:off x="7791480" y="34045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9" name="Line 41"/>
              <p:cNvSpPr/>
              <p:nvPr/>
            </p:nvSpPr>
            <p:spPr>
              <a:xfrm>
                <a:off x="7194600" y="2601720"/>
                <a:ext cx="14904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0" name="Line 42"/>
              <p:cNvSpPr/>
              <p:nvPr/>
            </p:nvSpPr>
            <p:spPr>
              <a:xfrm flipH="1">
                <a:off x="7250040" y="2714040"/>
                <a:ext cx="9360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1" name="Line 43"/>
              <p:cNvSpPr/>
              <p:nvPr/>
            </p:nvSpPr>
            <p:spPr>
              <a:xfrm>
                <a:off x="7846920" y="2918880"/>
                <a:ext cx="13032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2" name="Line 44"/>
              <p:cNvSpPr/>
              <p:nvPr/>
            </p:nvSpPr>
            <p:spPr>
              <a:xfrm flipV="1">
                <a:off x="7977240" y="2974320"/>
                <a:ext cx="16812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45"/>
            <p:cNvSpPr/>
            <p:nvPr/>
          </p:nvSpPr>
          <p:spPr>
            <a:xfrm>
              <a:off x="6900840" y="22766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Text Box 46"/>
            <p:cNvSpPr/>
            <p:nvPr/>
          </p:nvSpPr>
          <p:spPr>
            <a:xfrm>
              <a:off x="7446960" y="35384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Text Box 47"/>
            <p:cNvSpPr/>
            <p:nvPr/>
          </p:nvSpPr>
          <p:spPr>
            <a:xfrm>
              <a:off x="8097840" y="26352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6" name="Rectangle 48"/>
          <p:cNvSpPr/>
          <p:nvPr/>
        </p:nvSpPr>
        <p:spPr>
          <a:xfrm>
            <a:off x="-36360" y="3284640"/>
            <a:ext cx="824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=P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角平分线上的点到这个角的两边距离相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Rectangle 49"/>
          <p:cNvSpPr/>
          <p:nvPr/>
        </p:nvSpPr>
        <p:spPr>
          <a:xfrm>
            <a:off x="216000" y="4352760"/>
            <a:ext cx="556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PE=P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50"/>
          <p:cNvSpPr/>
          <p:nvPr/>
        </p:nvSpPr>
        <p:spPr>
          <a:xfrm>
            <a:off x="345960" y="4816440"/>
            <a:ext cx="556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=P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51"/>
          <p:cNvSpPr/>
          <p:nvPr/>
        </p:nvSpPr>
        <p:spPr>
          <a:xfrm>
            <a:off x="345960" y="5264280"/>
            <a:ext cx="6869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三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108000" y="135252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：过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⊥A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⊥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F⊥A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Box 43"/>
          <p:cNvSpPr/>
          <p:nvPr/>
        </p:nvSpPr>
        <p:spPr>
          <a:xfrm>
            <a:off x="324000" y="-27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一练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82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如图，已知△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外角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C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平分线相交于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求证：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A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94" name="Object 4"/>
          <p:cNvGraphicFramePr/>
          <p:nvPr/>
        </p:nvGraphicFramePr>
        <p:xfrm>
          <a:off x="5294160" y="2276640"/>
          <a:ext cx="381492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4160" y="2276640"/>
                    <a:ext cx="381492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5"/>
          <p:cNvSpPr/>
          <p:nvPr/>
        </p:nvSpPr>
        <p:spPr>
          <a:xfrm>
            <a:off x="216000" y="1836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1224000" y="191304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G⊥A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H⊥A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⊥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 flipH="1" flipV="1">
            <a:off x="7637400" y="3120840"/>
            <a:ext cx="504720" cy="64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 flipV="1">
            <a:off x="8151840" y="380952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7236000" y="276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7885080" y="463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 flipH="1">
            <a:off x="7308360" y="3809880"/>
            <a:ext cx="884520" cy="266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877080" y="3773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504720" y="292104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C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， 　　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⊥A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⊥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490680" y="394812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360360" y="436104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又∵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B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， 　　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⊥A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⊥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490680" y="529740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2507040" y="529740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4248000" y="52974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DA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　　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108000" y="3618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如图，在△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AB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中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是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B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的中点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E⊥AB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F⊥A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垂足分别是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E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F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且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BE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CF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求证：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AD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是△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AB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的角平分线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1" name="Group 12"/>
          <p:cNvGrpSpPr/>
          <p:nvPr/>
        </p:nvGrpSpPr>
        <p:grpSpPr>
          <a:xfrm>
            <a:off x="2484360" y="2262240"/>
            <a:ext cx="3527280" cy="3544560"/>
            <a:chOff x="2484360" y="2262240"/>
            <a:chExt cx="3527280" cy="3544560"/>
          </a:xfrm>
        </p:grpSpPr>
        <p:pic>
          <p:nvPicPr>
            <p:cNvPr id="512" name="Picture 5" descr=""/>
            <p:cNvPicPr/>
            <p:nvPr/>
          </p:nvPicPr>
          <p:blipFill>
            <a:blip r:embed="rId1"/>
            <a:stretch/>
          </p:blipFill>
          <p:spPr>
            <a:xfrm>
              <a:off x="2652480" y="2492280"/>
              <a:ext cx="27831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6"/>
            <p:cNvSpPr/>
            <p:nvPr/>
          </p:nvSpPr>
          <p:spPr>
            <a:xfrm>
              <a:off x="3851280" y="2262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4" name="Text Box 7"/>
            <p:cNvSpPr/>
            <p:nvPr/>
          </p:nvSpPr>
          <p:spPr>
            <a:xfrm>
              <a:off x="2484360" y="50706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5219640" y="50706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2700360" y="44370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5003640" y="45086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3851280" y="5286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0" y="-27000"/>
            <a:ext cx="2808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知识应用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08000" y="260280"/>
            <a:ext cx="5256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如图，为了促进当地旅游发展，某地要在三条公路围成的一块平地上修建一个度假村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要使这个度假村到三条公路的距离相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应在何处修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1" name="Group 5"/>
          <p:cNvGrpSpPr/>
          <p:nvPr/>
        </p:nvGrpSpPr>
        <p:grpSpPr>
          <a:xfrm>
            <a:off x="5442120" y="980640"/>
            <a:ext cx="2514240" cy="2286360"/>
            <a:chOff x="5442120" y="980640"/>
            <a:chExt cx="2514240" cy="2286360"/>
          </a:xfrm>
        </p:grpSpPr>
        <p:sp>
          <p:nvSpPr>
            <p:cNvPr id="522" name="Line 6"/>
            <p:cNvSpPr/>
            <p:nvPr/>
          </p:nvSpPr>
          <p:spPr>
            <a:xfrm>
              <a:off x="5442120" y="1285560"/>
              <a:ext cx="251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V="1">
              <a:off x="5442120" y="980640"/>
              <a:ext cx="2224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Line 8"/>
            <p:cNvSpPr/>
            <p:nvPr/>
          </p:nvSpPr>
          <p:spPr>
            <a:xfrm>
              <a:off x="6989040" y="105696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5" name="Rectangle 9"/>
          <p:cNvSpPr/>
          <p:nvPr/>
        </p:nvSpPr>
        <p:spPr>
          <a:xfrm>
            <a:off x="324000" y="393372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想一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108000" y="4581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确定度假村的位置时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定要画出三个角的平分线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你是怎样思考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你是如何证明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2:30:12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4:27Z</dcterms:modified>
  <cp:revision>53</cp:revision>
  <dc:subject>www.12999.com</dc:subject>
  <dc:title>www.12999.com</dc:title>
</cp:coreProperties>
</file>