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7.png" ContentType="image/png"/>
  <Override PartName="/ppt/media/image1.jpeg" ContentType="image/jpeg"/>
  <Override PartName="/ppt/media/camera.wav" ContentType="audio/x-wav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1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7BE-21CA-4BA3-A13D-4B00206185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9E47-1E81-4478-92BE-C857F0465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A9B-C7E4-4972-9D6C-382EA7AB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EAC-A617-46DD-B5DF-7C47938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E4F31-6803-415E-8E36-F032CC08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BD0B9-CC8F-4379-8DBE-73A3A8A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ADBC2-2D16-43BD-AACA-A64AD77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A824C-724C-4CF2-8E0C-6FD6978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3C4A-75A2-4546-8A05-9942603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78B2B-2E0D-46DC-AC38-1AF8D2D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B44E0-1B3A-4634-934B-D9E88F4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E35F1-A713-4F81-B75C-3D984B8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ABE4E-2D3A-4E3E-A69A-CE2F56F0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D78-3D46-4940-9449-5FCB6B51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466-34FC-4D7B-8382-8F7C87E8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DA7-E329-415E-A2CE-9ED72F43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05A4-2B6D-44B3-A843-AF19F90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4F1-F7BC-4886-A9F1-91A0374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51A4-A592-4F92-894B-DDE4CF7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069-CF43-4A32-82A4-1F29A68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588-6DF3-4372-B826-1C291404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0B63-40FD-4986-BA21-1FA616B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F84-923A-48D0-B2E8-8616A77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6F43-2E3E-4486-AE49-D7C3395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6F62-5413-42A6-ADCB-149FC1E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7891-DCAF-4E73-BC95-11D7CA2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157-8BF9-4F37-908C-9F29301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F986-B79A-4AA5-92B0-BA0DA9D9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E70E-4188-4C2A-BACD-FFCED638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79F8-B307-4D36-8A5B-7129F2A0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7F18-BF05-4F3D-8207-10AC268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F864-499D-4E67-A164-3AECDCF5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4873-42E3-443A-911D-0E40E83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BF9-B5D6-4997-A423-096FD05E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5B55-22D6-46CC-823D-832CEC31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739F-6A3F-4845-A4BD-A4BC880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E17F-4CE9-4C97-8418-C54D1AC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DC1D-CC08-4952-8122-9991FD4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D4EA-E6FA-497E-9A9A-591D3FFD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5E27-FBAE-4899-932A-0B82F4DA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3CED-93CF-424F-9C76-CC4D1884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C368-5692-4E47-B202-B3219511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7D3E-E388-4B02-BF74-BEBF058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DC7E-B9FA-4878-80AC-577B60E9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4D7-DDAF-4E61-9BDF-3F1C3F5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22A8-9814-469D-A775-4A4FBE5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F0DA-7B15-4C32-898C-D93696B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F307-9CEC-40D8-AF20-8DC83C98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40E5-8A24-4310-85A8-493DC970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B7C9-6E9B-4E3E-A04C-686065E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39A0-8DB4-4868-BF33-E222A37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D477-FCF0-48F5-A5DB-D91A648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7D5F-A01D-4C4D-85CB-8EAFD3E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1C59-149A-4256-965E-595868E5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77562-2740-4A6A-BB35-F4F1DF0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DCB-772F-4720-9D0D-8F0E721D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E387-13B1-4463-B043-9F027D4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A94F-8E43-4394-ABF3-FE6896E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E26A-5A9F-436A-86A3-B3AC2D9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A7E6-DC07-478E-8F76-F627DA9F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4230-648B-475A-BB8D-5113CB71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286D-CAF3-4778-941B-85D5578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AD5BA-1653-4EF4-8BCA-0383D19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A148-6039-4972-9536-7FF146C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2839-7D63-4287-8C47-22198F62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BF069-BFDA-4E45-94FC-10D188B3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C2F-955D-468D-AF64-1E2E90C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DCB00-7E1C-48E3-8FA8-50B54A58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7A25-6655-42ED-84CC-C2D71D91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3148-46F0-40CA-97F0-D07D55F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D80A-9B98-470A-8823-F26D2C67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C857-BFD4-4F3B-AD15-31F70E3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9652-60E2-44E1-8AD7-985296D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E2BE0-0138-47A9-A15F-0DF5C794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1FD2-EBED-447E-B4FC-B7F72BF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4634-5F7E-4F5B-9385-FED5E0F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23AC-635B-47A9-B862-372DD8E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70A-7AB9-425E-B3B5-5E64D07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10B5-2C05-4174-B83E-9C43D4D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9395-DEA4-4950-B99F-69A90875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91C4-3FC6-4EBD-AFFB-C176547F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9F626-A2CE-45E3-AC4E-31EED96F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98DA-A105-436E-8724-F0D2DFC2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A7B90-A45A-4A95-B03D-A254289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A09CF-E49D-4577-97CE-04E6B49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509E-3240-4A48-B746-63617DA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87C9-0E4B-4ED6-AB56-78D4386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B1C3-E77F-40E3-B8E5-AA2582E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D12-6EA1-4FE8-92EF-C595256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ED73-C81E-4996-A1B3-ABF5B6D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3D0DD-AEBE-4EBE-AD7C-8132BEE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4210-2CFF-4D9F-B3CE-25DE429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D0A6A-8744-42BF-8581-407F9CC3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C3C0-7587-4D12-A589-5E37AEE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4F9D-9BA0-4CAF-BA86-E37FC210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89D3-2A34-47A2-8C8E-AAF81A6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8405-B0BD-4740-9A8D-2BC32163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6A41E-E294-45D0-833A-EF12FB9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F30ED-3057-49F7-BE83-A54D1640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CFB-6B70-4EB6-A333-2AD8CAF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05BB0-BBE2-4902-89DE-B6CE26D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C385-1802-44DA-A789-EE3075F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028F-31D7-46E5-BC01-04AEA4FC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03B3-FF82-434F-9FB4-AC35196A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B1CE-355F-4E77-A4A8-152EEB0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86C9-CECD-4C2A-9354-C4D8C8B7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DB8F4-CB12-4BF3-B781-478577C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4707-4DF3-4D79-AACD-7A252513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C5636-906B-4736-AA3B-909D40D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94DED-97D1-4DB2-9760-B45DF87D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1E5-F5FE-4E2D-8E40-7E4B571D9A3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E620-D085-49E5-8AEF-8EED0B78BCD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FF51-C6DE-4D62-98A6-98053AA6A72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CD3-D00B-43A0-90D7-EBF45099D87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31B-ADE6-4C3B-A652-B4FB24710BE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429-E424-49D9-8409-103924A1D15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143-36F9-4F41-B3B1-F6912BE15B2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F8C2-6B8B-492E-BDA0-FD3501F67FE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370-1501-4038-BB94-CB1666501CD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712800" y="2511360"/>
            <a:ext cx="84376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4038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826920" y="1108080"/>
            <a:ext cx="44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轴对称的性质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533520" y="2362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应点连线段被对称轴垂直平分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533520" y="3733920"/>
            <a:ext cx="72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应线段相等，对应角相等。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228600" y="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探究三      请同学们动手做一 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304920" y="533520"/>
            <a:ext cx="8686440" cy="1152000"/>
            <a:chOff x="304920" y="533520"/>
            <a:chExt cx="8686440" cy="1152000"/>
          </a:xfrm>
        </p:grpSpPr>
        <p:sp>
          <p:nvSpPr>
            <p:cNvPr id="574" name="Text Box 4"/>
            <p:cNvSpPr/>
            <p:nvPr/>
          </p:nvSpPr>
          <p:spPr>
            <a:xfrm>
              <a:off x="304920" y="596880"/>
              <a:ext cx="868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木条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钉在一起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垂直平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                  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上的点，分别量一量点                  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距离，你有什么发现？ 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75" name="Group 5"/>
            <p:cNvGrpSpPr/>
            <p:nvPr/>
          </p:nvGrpSpPr>
          <p:grpSpPr>
            <a:xfrm>
              <a:off x="6249240" y="533520"/>
              <a:ext cx="1999800" cy="649800"/>
              <a:chOff x="6249240" y="533520"/>
              <a:chExt cx="1999800" cy="649800"/>
            </a:xfrm>
          </p:grpSpPr>
          <mc:AlternateContent>
            <mc:Choice xmlns:a14="http://schemas.microsoft.com/office/drawing/2010/main" Requires="a14">
              <p:sp>
                <p:nvSpPr>
                  <p:cNvPr id="576" name="Object 6"/>
                  <p:cNvSpPr txBox="1"/>
                  <p:nvPr/>
                </p:nvSpPr>
                <p:spPr>
                  <a:xfrm>
                    <a:off x="7239240" y="533520"/>
                    <a:ext cx="456840" cy="64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7" name="Object 7"/>
                  <p:cNvSpPr txBox="1"/>
                  <p:nvPr/>
                </p:nvSpPr>
                <p:spPr>
                  <a:xfrm>
                    <a:off x="6726240" y="533520"/>
                    <a:ext cx="45288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8" name="Object 8"/>
                  <p:cNvSpPr txBox="1"/>
                  <p:nvPr/>
                </p:nvSpPr>
                <p:spPr>
                  <a:xfrm>
                    <a:off x="6249240" y="533520"/>
                    <a:ext cx="381240" cy="55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9" name="Rectangle 14"/>
              <p:cNvSpPr/>
              <p:nvPr/>
            </p:nvSpPr>
            <p:spPr>
              <a:xfrm>
                <a:off x="7731720" y="682560"/>
                <a:ext cx="517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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5"/>
            <p:cNvGrpSpPr/>
            <p:nvPr/>
          </p:nvGrpSpPr>
          <p:grpSpPr>
            <a:xfrm>
              <a:off x="3645720" y="991440"/>
              <a:ext cx="2157480" cy="694080"/>
              <a:chOff x="3645720" y="991440"/>
              <a:chExt cx="2157480" cy="694080"/>
            </a:xfrm>
          </p:grpSpPr>
          <mc:AlternateContent>
            <mc:Choice xmlns:a14="http://schemas.microsoft.com/office/drawing/2010/main" Requires="a14">
              <p:sp>
                <p:nvSpPr>
                  <p:cNvPr id="581" name="Object 16"/>
                  <p:cNvSpPr txBox="1"/>
                  <p:nvPr/>
                </p:nvSpPr>
                <p:spPr>
                  <a:xfrm>
                    <a:off x="5029920" y="1063080"/>
                    <a:ext cx="403560" cy="57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2" name="Object 17"/>
                  <p:cNvSpPr txBox="1"/>
                  <p:nvPr/>
                </p:nvSpPr>
                <p:spPr>
                  <a:xfrm>
                    <a:off x="4494600" y="1063080"/>
                    <a:ext cx="427320" cy="57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3" name="Object 18"/>
                  <p:cNvSpPr txBox="1"/>
                  <p:nvPr/>
                </p:nvSpPr>
                <p:spPr>
                  <a:xfrm>
                    <a:off x="3995640" y="1063080"/>
                    <a:ext cx="393840" cy="57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84" name="Rectangle 19"/>
              <p:cNvSpPr/>
              <p:nvPr/>
            </p:nvSpPr>
            <p:spPr>
              <a:xfrm>
                <a:off x="4281840" y="1164960"/>
                <a:ext cx="3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，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Rectangle 20"/>
              <p:cNvSpPr/>
              <p:nvPr/>
            </p:nvSpPr>
            <p:spPr>
              <a:xfrm>
                <a:off x="4854600" y="1164960"/>
                <a:ext cx="3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，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Rectangle 21"/>
              <p:cNvSpPr/>
              <p:nvPr/>
            </p:nvSpPr>
            <p:spPr>
              <a:xfrm>
                <a:off x="5331960" y="11649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，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87" name="Group 22"/>
              <p:cNvGrpSpPr/>
              <p:nvPr/>
            </p:nvGrpSpPr>
            <p:grpSpPr>
              <a:xfrm>
                <a:off x="3645720" y="991440"/>
                <a:ext cx="2157480" cy="531000"/>
                <a:chOff x="3645720" y="991440"/>
                <a:chExt cx="2157480" cy="531000"/>
              </a:xfrm>
            </p:grpSpPr>
            <p:sp>
              <p:nvSpPr>
                <p:cNvPr id="588" name="AutoShape 23"/>
                <p:cNvSpPr/>
                <p:nvPr/>
              </p:nvSpPr>
              <p:spPr>
                <a:xfrm>
                  <a:off x="3645720" y="1171080"/>
                  <a:ext cx="6836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24"/>
                <p:cNvSpPr/>
                <p:nvPr/>
              </p:nvSpPr>
              <p:spPr>
                <a:xfrm>
                  <a:off x="5464080" y="991440"/>
                  <a:ext cx="3391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MT Extra"/>
                      <a:ea typeface="MT Extra"/>
                    </a:rPr>
                    <a:t>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90" name="Picture 25" descr="pic_204354"/>
          <p:cNvPicPr/>
          <p:nvPr/>
        </p:nvPicPr>
        <p:blipFill>
          <a:blip r:embed="rId1"/>
          <a:srcRect l="74507" t="70697" r="9085" b="14018"/>
          <a:stretch/>
        </p:blipFill>
        <p:spPr>
          <a:xfrm>
            <a:off x="0" y="2057400"/>
            <a:ext cx="5029200" cy="48006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7"/>
          <p:cNvSpPr/>
          <p:nvPr/>
        </p:nvSpPr>
        <p:spPr>
          <a:xfrm>
            <a:off x="5410080" y="1447920"/>
            <a:ext cx="45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5105520" y="3505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垂直平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Text Box 30"/>
          <p:cNvSpPr/>
          <p:nvPr/>
        </p:nvSpPr>
        <p:spPr>
          <a:xfrm>
            <a:off x="5181480" y="4495680"/>
            <a:ext cx="39625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A=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B  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B=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B</a:t>
            </a:r>
            <a:endParaRPr b="1" lang="en-US" sz="3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………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1" lang="en-US" sz="3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5105520" y="2514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段垂直平分线上的点与这条线段两个端点的距离相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5334120" y="1981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结论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pic_204355"/>
          <p:cNvPicPr/>
          <p:nvPr/>
        </p:nvPicPr>
        <p:blipFill>
          <a:blip r:embed="rId1"/>
          <a:srcRect l="72690" t="46319" r="4543" b="38396"/>
          <a:stretch/>
        </p:blipFill>
        <p:spPr>
          <a:xfrm>
            <a:off x="5943600" y="190512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152280" y="838080"/>
            <a:ext cx="8991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一根木棒和一根弹性均匀的橡皮筋，做一 个简易的“弓”，“箭”通过木棒中央的孔射出去，怎样才能保持射出去的方向与木棒垂直呢？为什么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68580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8001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68580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457200" y="22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只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AB=B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就可以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304920" y="56386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0" y="49528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一条线段两个端点距离相等的点，在这条线段的垂直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518112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533520" y="34894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宋体"/>
              </a:rPr>
              <a:t>∴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宋体"/>
              </a:rPr>
              <a:t>点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宋体"/>
              </a:rPr>
              <a:t>B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宋体"/>
              </a:rPr>
              <a:t>在线段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宋体"/>
              </a:rPr>
              <a:t>AC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宋体"/>
              </a:rPr>
              <a:t>的垂直平分线上</a:t>
            </a:r>
            <a:endParaRPr b="1" lang="en-US" sz="3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33520" y="280368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∵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AB=BC</a:t>
            </a:r>
            <a:endParaRPr b="1" lang="en-US" sz="3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Box 16"/>
          <p:cNvSpPr/>
          <p:nvPr/>
        </p:nvSpPr>
        <p:spPr>
          <a:xfrm>
            <a:off x="152280" y="15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探究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Rectangle 2" descr=""/>
          <p:cNvPicPr/>
          <p:nvPr/>
        </p:nvPicPr>
        <p:blipFill>
          <a:blip r:embed="rId1"/>
          <a:stretch/>
        </p:blipFill>
        <p:spPr>
          <a:xfrm>
            <a:off x="-201600" y="146160"/>
            <a:ext cx="3182760" cy="134784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9528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线段垂直平分线上的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066680" y="2002680"/>
            <a:ext cx="4535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到线段两端的距离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04920" y="3046680"/>
            <a:ext cx="756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之，到线段两端的距离相等的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1523880" y="3589920"/>
            <a:ext cx="70567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这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线段垂直平分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878040" y="4415400"/>
            <a:ext cx="7199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，线段垂直平分线可以看作到线段两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端的距离相等的所有点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集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-201600" y="476280"/>
            <a:ext cx="4097160" cy="118116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一条街道旁有两个小区，在街道什么位置建一个供水站，使它与两个小区的距离相等？请你帮助设计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2"/>
          <a:stretch/>
        </p:blipFill>
        <p:spPr>
          <a:xfrm>
            <a:off x="1695600" y="3048120"/>
            <a:ext cx="53910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2" descr=""/>
          <p:cNvPicPr/>
          <p:nvPr/>
        </p:nvPicPr>
        <p:blipFill>
          <a:blip r:embed="rId1"/>
          <a:stretch/>
        </p:blipFill>
        <p:spPr>
          <a:xfrm>
            <a:off x="-201600" y="633240"/>
            <a:ext cx="2573280" cy="11829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如图所示，在△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中，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B=A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＝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N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是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B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垂直平分线，且有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C=2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求△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CN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周长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619" name="Object 4"/>
          <p:cNvGraphicFramePr/>
          <p:nvPr/>
        </p:nvGraphicFramePr>
        <p:xfrm>
          <a:off x="6305400" y="2341440"/>
          <a:ext cx="2838600" cy="30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5400" y="2341440"/>
                    <a:ext cx="283860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1" name="Picture 5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280980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-115920" y="907920"/>
            <a:ext cx="3627360" cy="8416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8153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．如图，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D⊥B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D=D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点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在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E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垂直平分线上，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B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E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长度有什么关系？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B+BD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与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DE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有什么关系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4" name="Picture 4" descr="114-4"/>
          <p:cNvPicPr/>
          <p:nvPr/>
        </p:nvPicPr>
        <p:blipFill>
          <a:blip r:embed="rId2"/>
          <a:stretch/>
        </p:blipFill>
        <p:spPr>
          <a:xfrm>
            <a:off x="4870440" y="3506760"/>
            <a:ext cx="427356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结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0" y="990720"/>
            <a:ext cx="938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、经过线段的中点并且垂直于这条线段直线，叫做这条线段的垂直平分线</a:t>
            </a:r>
            <a:endParaRPr b="1" lang="en-US" sz="2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0" y="5334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何把实际问题抽象或转化为几何模型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495000" y="32004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对称的性质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380880" y="370836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1)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对应点连线段被对称轴垂直平分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0" name="Rectangle 7" descr=""/>
          <p:cNvPicPr/>
          <p:nvPr/>
        </p:nvPicPr>
        <p:blipFill>
          <a:blip r:embed="rId1"/>
          <a:stretch/>
        </p:blipFill>
        <p:spPr>
          <a:xfrm>
            <a:off x="-85680" y="4413240"/>
            <a:ext cx="6114960" cy="8352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8"/>
          <p:cNvSpPr/>
          <p:nvPr/>
        </p:nvSpPr>
        <p:spPr>
          <a:xfrm>
            <a:off x="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）线段垂直平行线上的点与这条线段连两个端点的距离相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0" y="2133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）与一条线段两个端点距离相等的点，在这条线段的垂直平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线上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52280" y="228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议一议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523880" y="1371600"/>
          <a:ext cx="4559400" cy="4089240"/>
        </p:xfrm>
        <a:graphic>
          <a:graphicData uri="http://schemas.openxmlformats.org/drawingml/2006/table">
            <a:tbl>
              <a:tblPr/>
              <a:tblGrid>
                <a:gridCol w="1130400"/>
                <a:gridCol w="1143000"/>
                <a:gridCol w="1131840"/>
                <a:gridCol w="1154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Line 30"/>
          <p:cNvSpPr/>
          <p:nvPr/>
        </p:nvSpPr>
        <p:spPr>
          <a:xfrm flipH="1">
            <a:off x="1523520" y="1371600"/>
            <a:ext cx="1143000" cy="403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Line 31"/>
          <p:cNvSpPr/>
          <p:nvPr/>
        </p:nvSpPr>
        <p:spPr>
          <a:xfrm flipH="1">
            <a:off x="1600200" y="1333440"/>
            <a:ext cx="3330720" cy="4076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Line 32"/>
          <p:cNvSpPr/>
          <p:nvPr/>
        </p:nvSpPr>
        <p:spPr>
          <a:xfrm flipH="1">
            <a:off x="1600200" y="1371600"/>
            <a:ext cx="2209680" cy="4038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Line 33"/>
          <p:cNvSpPr/>
          <p:nvPr/>
        </p:nvSpPr>
        <p:spPr>
          <a:xfrm flipH="1">
            <a:off x="1600200" y="1371600"/>
            <a:ext cx="4495680" cy="4038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Line 34"/>
          <p:cNvSpPr/>
          <p:nvPr/>
        </p:nvSpPr>
        <p:spPr>
          <a:xfrm flipH="1">
            <a:off x="1676520" y="2438280"/>
            <a:ext cx="4419360" cy="29718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Line 35"/>
          <p:cNvSpPr/>
          <p:nvPr/>
        </p:nvSpPr>
        <p:spPr>
          <a:xfrm flipH="1">
            <a:off x="1523880" y="3429000"/>
            <a:ext cx="4572000" cy="205740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Line 36"/>
          <p:cNvSpPr/>
          <p:nvPr/>
        </p:nvSpPr>
        <p:spPr>
          <a:xfrm flipH="1">
            <a:off x="1600200" y="4419720"/>
            <a:ext cx="4495680" cy="106668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Arc 37"/>
          <p:cNvSpPr/>
          <p:nvPr/>
        </p:nvSpPr>
        <p:spPr>
          <a:xfrm rot="9807600">
            <a:off x="2502720" y="1935000"/>
            <a:ext cx="133560" cy="113040"/>
          </a:xfrm>
          <a:custGeom>
            <a:avLst/>
            <a:gdLst>
              <a:gd name="textAreaLeft" fmla="*/ 0 w 133560"/>
              <a:gd name="textAreaRight" fmla="*/ 133920 w 13356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fill="none" w="21600" h="328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558"/>
                  <a:pt x="20512" y="29441"/>
                  <a:pt x="18454" y="32823"/>
                </a:cubicBezTo>
              </a:path>
              <a:path stroke="0" w="21600" h="328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558"/>
                  <a:pt x="20512" y="29441"/>
                  <a:pt x="18454" y="32823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Arc 38"/>
          <p:cNvSpPr/>
          <p:nvPr/>
        </p:nvSpPr>
        <p:spPr>
          <a:xfrm rot="9807600">
            <a:off x="3584160" y="1828440"/>
            <a:ext cx="225360" cy="74520"/>
          </a:xfrm>
          <a:custGeom>
            <a:avLst/>
            <a:gdLst>
              <a:gd name="textAreaLeft" fmla="*/ 0 w 225360"/>
              <a:gd name="textAreaRight" fmla="*/ 225720 w 2253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fill="none" w="30212" h="21600">
                <a:moveTo>
                  <a:pt x="0" y="1791"/>
                </a:moveTo>
                <a:cubicBezTo>
                  <a:pt x="2717" y="609"/>
                  <a:pt x="5648" y="-1"/>
                  <a:pt x="8612" y="0"/>
                </a:cubicBezTo>
                <a:cubicBezTo>
                  <a:pt x="20541" y="0"/>
                  <a:pt x="30212" y="9670"/>
                  <a:pt x="30212" y="21600"/>
                </a:cubicBezTo>
              </a:path>
              <a:path stroke="0" w="30212" h="21600">
                <a:moveTo>
                  <a:pt x="0" y="1791"/>
                </a:moveTo>
                <a:cubicBezTo>
                  <a:pt x="2717" y="609"/>
                  <a:pt x="5648" y="-1"/>
                  <a:pt x="8612" y="0"/>
                </a:cubicBezTo>
                <a:cubicBezTo>
                  <a:pt x="20541" y="0"/>
                  <a:pt x="30212" y="9670"/>
                  <a:pt x="30212" y="21600"/>
                </a:cubicBezTo>
                <a:lnTo>
                  <a:pt x="861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Arc 39"/>
          <p:cNvSpPr/>
          <p:nvPr/>
        </p:nvSpPr>
        <p:spPr>
          <a:xfrm rot="9807600">
            <a:off x="4742640" y="1523160"/>
            <a:ext cx="157320" cy="187560"/>
          </a:xfrm>
          <a:custGeom>
            <a:avLst/>
            <a:gdLst>
              <a:gd name="textAreaLeft" fmla="*/ 0 w 157320"/>
              <a:gd name="textAreaRight" fmla="*/ 157680 w 1573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fill="none" w="21426" h="21600">
                <a:moveTo>
                  <a:pt x="-1" y="0"/>
                </a:moveTo>
                <a:cubicBezTo>
                  <a:pt x="10872" y="0"/>
                  <a:pt x="20050" y="8081"/>
                  <a:pt x="21426" y="18866"/>
                </a:cubicBezTo>
              </a:path>
              <a:path stroke="0" w="21426" h="21600">
                <a:moveTo>
                  <a:pt x="-1" y="0"/>
                </a:moveTo>
                <a:cubicBezTo>
                  <a:pt x="10872" y="0"/>
                  <a:pt x="20050" y="8081"/>
                  <a:pt x="21426" y="1886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Arc 40"/>
          <p:cNvSpPr/>
          <p:nvPr/>
        </p:nvSpPr>
        <p:spPr>
          <a:xfrm rot="9807600">
            <a:off x="5932440" y="1523520"/>
            <a:ext cx="131760" cy="152640"/>
          </a:xfrm>
          <a:custGeom>
            <a:avLst/>
            <a:gdLst>
              <a:gd name="textAreaLeft" fmla="*/ 0 w 131760"/>
              <a:gd name="textAreaRight" fmla="*/ 132120 w 13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Arc 41"/>
          <p:cNvSpPr/>
          <p:nvPr/>
        </p:nvSpPr>
        <p:spPr>
          <a:xfrm rot="9807600">
            <a:off x="5902200" y="2535120"/>
            <a:ext cx="209520" cy="184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fill="none" w="21600" h="31731">
                <a:moveTo>
                  <a:pt x="5474" y="0"/>
                </a:moveTo>
                <a:cubicBezTo>
                  <a:pt x="14974" y="2489"/>
                  <a:pt x="21600" y="11074"/>
                  <a:pt x="21600" y="20895"/>
                </a:cubicBezTo>
                <a:cubicBezTo>
                  <a:pt x="21600" y="24700"/>
                  <a:pt x="20594" y="28438"/>
                  <a:pt x="18685" y="31731"/>
                </a:cubicBezTo>
              </a:path>
              <a:path stroke="0" w="21600" h="31731">
                <a:moveTo>
                  <a:pt x="5474" y="0"/>
                </a:moveTo>
                <a:cubicBezTo>
                  <a:pt x="14974" y="2489"/>
                  <a:pt x="21600" y="11074"/>
                  <a:pt x="21600" y="20895"/>
                </a:cubicBezTo>
                <a:cubicBezTo>
                  <a:pt x="21600" y="24700"/>
                  <a:pt x="20594" y="28438"/>
                  <a:pt x="18685" y="31731"/>
                </a:cubicBezTo>
                <a:lnTo>
                  <a:pt x="0" y="20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Arc 42"/>
          <p:cNvSpPr/>
          <p:nvPr/>
        </p:nvSpPr>
        <p:spPr>
          <a:xfrm rot="9807600">
            <a:off x="5794200" y="3345840"/>
            <a:ext cx="276480" cy="376200"/>
          </a:xfrm>
          <a:custGeom>
            <a:avLst/>
            <a:gdLst>
              <a:gd name="textAreaLeft" fmla="*/ 0 w 276480"/>
              <a:gd name="textAreaRight" fmla="*/ 276840 w 2764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19406" h="21442">
                <a:moveTo>
                  <a:pt x="2607" y="0"/>
                </a:moveTo>
                <a:cubicBezTo>
                  <a:pt x="9871" y="883"/>
                  <a:pt x="16193" y="5383"/>
                  <a:pt x="19406" y="11956"/>
                </a:cubicBezTo>
              </a:path>
              <a:path stroke="0" w="19406" h="21442">
                <a:moveTo>
                  <a:pt x="2607" y="0"/>
                </a:moveTo>
                <a:cubicBezTo>
                  <a:pt x="9871" y="883"/>
                  <a:pt x="16193" y="5383"/>
                  <a:pt x="19406" y="11956"/>
                </a:cubicBezTo>
                <a:lnTo>
                  <a:pt x="0" y="214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Arc 43"/>
          <p:cNvSpPr/>
          <p:nvPr/>
        </p:nvSpPr>
        <p:spPr>
          <a:xfrm rot="9055800">
            <a:off x="5826960" y="4408200"/>
            <a:ext cx="298440" cy="330120"/>
          </a:xfrm>
          <a:custGeom>
            <a:avLst/>
            <a:gdLst>
              <a:gd name="textAreaLeft" fmla="*/ 0 w 298440"/>
              <a:gd name="textAreaRight" fmla="*/ 298800 w 298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fill="none" w="21600" h="33899">
                <a:moveTo>
                  <a:pt x="5642" y="-1"/>
                </a:moveTo>
                <a:cubicBezTo>
                  <a:pt x="15059" y="2548"/>
                  <a:pt x="21600" y="11093"/>
                  <a:pt x="21600" y="20850"/>
                </a:cubicBezTo>
                <a:cubicBezTo>
                  <a:pt x="21600" y="25561"/>
                  <a:pt x="20059" y="30144"/>
                  <a:pt x="17212" y="33898"/>
                </a:cubicBezTo>
              </a:path>
              <a:path stroke="0" w="21600" h="33899">
                <a:moveTo>
                  <a:pt x="5642" y="-1"/>
                </a:moveTo>
                <a:cubicBezTo>
                  <a:pt x="15059" y="2548"/>
                  <a:pt x="21600" y="11093"/>
                  <a:pt x="21600" y="20850"/>
                </a:cubicBezTo>
                <a:cubicBezTo>
                  <a:pt x="21600" y="25561"/>
                  <a:pt x="20059" y="30144"/>
                  <a:pt x="17212" y="33898"/>
                </a:cubicBezTo>
                <a:lnTo>
                  <a:pt x="0" y="208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44"/>
          <p:cNvSpPr/>
          <p:nvPr/>
        </p:nvSpPr>
        <p:spPr>
          <a:xfrm>
            <a:off x="56386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45"/>
          <p:cNvSpPr/>
          <p:nvPr/>
        </p:nvSpPr>
        <p:spPr>
          <a:xfrm>
            <a:off x="579312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46"/>
          <p:cNvSpPr/>
          <p:nvPr/>
        </p:nvSpPr>
        <p:spPr>
          <a:xfrm>
            <a:off x="5715000" y="3581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Text Box 47"/>
          <p:cNvSpPr/>
          <p:nvPr/>
        </p:nvSpPr>
        <p:spPr>
          <a:xfrm>
            <a:off x="5761080" y="463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48"/>
          <p:cNvSpPr/>
          <p:nvPr/>
        </p:nvSpPr>
        <p:spPr>
          <a:xfrm>
            <a:off x="469440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49"/>
          <p:cNvSpPr/>
          <p:nvPr/>
        </p:nvSpPr>
        <p:spPr>
          <a:xfrm>
            <a:off x="347508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50"/>
          <p:cNvSpPr/>
          <p:nvPr/>
        </p:nvSpPr>
        <p:spPr>
          <a:xfrm>
            <a:off x="24242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51"/>
          <p:cNvSpPr/>
          <p:nvPr/>
        </p:nvSpPr>
        <p:spPr>
          <a:xfrm>
            <a:off x="6858000" y="1905120"/>
            <a:ext cx="18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能求出这七个角的和吗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99140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8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5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6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 Box 7"/>
          <p:cNvSpPr/>
          <p:nvPr/>
        </p:nvSpPr>
        <p:spPr>
          <a:xfrm>
            <a:off x="254160" y="2286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1338120" y="2249640"/>
          <a:ext cx="3495960" cy="12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8120" y="2249640"/>
                    <a:ext cx="34959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9"/>
          <p:cNvGraphicFramePr/>
          <p:nvPr/>
        </p:nvGraphicFramePr>
        <p:xfrm>
          <a:off x="1501920" y="3079800"/>
          <a:ext cx="3092400" cy="88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70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01920" y="3079800"/>
                    <a:ext cx="3092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10"/>
          <p:cNvGraphicFramePr/>
          <p:nvPr/>
        </p:nvGraphicFramePr>
        <p:xfrm>
          <a:off x="533520" y="3524400"/>
          <a:ext cx="2590560" cy="828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72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3520" y="3524400"/>
                    <a:ext cx="2590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11"/>
          <p:cNvGraphicFramePr/>
          <p:nvPr/>
        </p:nvGraphicFramePr>
        <p:xfrm>
          <a:off x="533520" y="3905280"/>
          <a:ext cx="4343400" cy="1809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3520" y="3905280"/>
                    <a:ext cx="43434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12"/>
          <p:cNvGraphicFramePr/>
          <p:nvPr/>
        </p:nvGraphicFramePr>
        <p:xfrm>
          <a:off x="304920" y="609480"/>
          <a:ext cx="6019560" cy="1352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6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4920" y="609480"/>
                    <a:ext cx="60195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TextBox 14"/>
          <p:cNvSpPr/>
          <p:nvPr/>
        </p:nvSpPr>
        <p:spPr>
          <a:xfrm>
            <a:off x="0" y="60948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712800" y="324000"/>
            <a:ext cx="8437680" cy="110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781200" y="1600200"/>
          <a:ext cx="8362800" cy="4357800"/>
        </p:xfrm>
        <a:graphic>
          <a:graphicData uri="http://schemas.openxmlformats.org/drawingml/2006/table">
            <a:tbl>
              <a:tblPr/>
              <a:tblGrid>
                <a:gridCol w="1474560"/>
                <a:gridCol w="2852640"/>
                <a:gridCol w="403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轴对称图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两个图形成轴对称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区别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＿个图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＿个图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联系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１．沿一条直线折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直线两旁的部分能够＿＿＿＿．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２．都有＿＿＿＿．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３．如果把一个轴对称图形沿对称轴分成两个图形，那么这两个图形关于这条直线＿＿＿；如果把两个成轴对称的图形看成一个图形，那么这个图形就是＿＿＿＿．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09" name="Text Box 20"/>
          <p:cNvSpPr/>
          <p:nvPr/>
        </p:nvSpPr>
        <p:spPr>
          <a:xfrm>
            <a:off x="255600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601200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两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205092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互相重合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349236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对称轴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2050920" y="501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对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6659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轴对称图形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7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"/>
          <p:cNvSpPr/>
          <p:nvPr/>
        </p:nvSpPr>
        <p:spPr>
          <a:xfrm>
            <a:off x="395280" y="849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判断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95280" y="2505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选择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95280" y="41623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操作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画出下面图形的对称轴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1189080" y="127800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飞机图不一定是轴对称图形。              （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半圆有无数条对称轴。    　              （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17"/>
          <p:cNvSpPr/>
          <p:nvPr/>
        </p:nvSpPr>
        <p:spPr>
          <a:xfrm>
            <a:off x="7956720" y="11415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8028000" y="1782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1189080" y="299412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   有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   )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条对称轴。         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A. 5      B. 10     C. 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下面汉字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   )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是轴对称图形。  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字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小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日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1619280" y="292248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2698920" y="297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3132000" y="34988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26" name="Group 23"/>
          <p:cNvGrpSpPr/>
          <p:nvPr/>
        </p:nvGrpSpPr>
        <p:grpSpPr>
          <a:xfrm>
            <a:off x="6392880" y="5097600"/>
            <a:ext cx="1439640" cy="1363320"/>
            <a:chOff x="6392880" y="5097600"/>
            <a:chExt cx="1439640" cy="1363320"/>
          </a:xfrm>
        </p:grpSpPr>
        <p:sp>
          <p:nvSpPr>
            <p:cNvPr id="427" name="Oval 24"/>
            <p:cNvSpPr/>
            <p:nvPr/>
          </p:nvSpPr>
          <p:spPr>
            <a:xfrm>
              <a:off x="6392880" y="509760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Oval 25"/>
            <p:cNvSpPr/>
            <p:nvPr/>
          </p:nvSpPr>
          <p:spPr>
            <a:xfrm>
              <a:off x="6999120" y="509760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Oval 26"/>
            <p:cNvSpPr/>
            <p:nvPr/>
          </p:nvSpPr>
          <p:spPr>
            <a:xfrm>
              <a:off x="6697080" y="562716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0" name="Group 27"/>
          <p:cNvGrpSpPr/>
          <p:nvPr/>
        </p:nvGrpSpPr>
        <p:grpSpPr>
          <a:xfrm>
            <a:off x="6248160" y="4876920"/>
            <a:ext cx="1800360" cy="1944720"/>
            <a:chOff x="6248160" y="4876920"/>
            <a:chExt cx="1800360" cy="1944720"/>
          </a:xfrm>
        </p:grpSpPr>
        <p:sp>
          <p:nvSpPr>
            <p:cNvPr id="431" name="Line 28"/>
            <p:cNvSpPr/>
            <p:nvPr/>
          </p:nvSpPr>
          <p:spPr>
            <a:xfrm>
              <a:off x="7112160" y="4876920"/>
              <a:ext cx="0" cy="1944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Line 29"/>
            <p:cNvSpPr/>
            <p:nvPr/>
          </p:nvSpPr>
          <p:spPr>
            <a:xfrm flipV="1">
              <a:off x="6392880" y="5165640"/>
              <a:ext cx="1655640" cy="936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 flipH="1" flipV="1">
              <a:off x="6248160" y="5165640"/>
              <a:ext cx="1655640" cy="10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4" name="AutoShape 31"/>
          <p:cNvSpPr/>
          <p:nvPr/>
        </p:nvSpPr>
        <p:spPr>
          <a:xfrm>
            <a:off x="2120760" y="5168880"/>
            <a:ext cx="1440000" cy="1440000"/>
          </a:xfrm>
          <a:prstGeom prst="plus">
            <a:avLst>
              <a:gd name="adj" fmla="val 25000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Line 32"/>
          <p:cNvSpPr/>
          <p:nvPr/>
        </p:nvSpPr>
        <p:spPr>
          <a:xfrm>
            <a:off x="2841480" y="4952880"/>
            <a:ext cx="0" cy="194328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Line 33"/>
          <p:cNvSpPr/>
          <p:nvPr/>
        </p:nvSpPr>
        <p:spPr>
          <a:xfrm>
            <a:off x="1905120" y="588816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Line 34"/>
          <p:cNvSpPr/>
          <p:nvPr/>
        </p:nvSpPr>
        <p:spPr>
          <a:xfrm>
            <a:off x="2192400" y="5240160"/>
            <a:ext cx="1368360" cy="13687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Line 35"/>
          <p:cNvSpPr/>
          <p:nvPr/>
        </p:nvSpPr>
        <p:spPr>
          <a:xfrm flipV="1">
            <a:off x="2192400" y="5239800"/>
            <a:ext cx="1297080" cy="129708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Box 37"/>
          <p:cNvSpPr/>
          <p:nvPr/>
        </p:nvSpPr>
        <p:spPr>
          <a:xfrm>
            <a:off x="152280" y="152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复习巩固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1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395280" y="62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判断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1187280" y="1052640"/>
            <a:ext cx="777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如果一个图形沿着一条直线对折，两侧的图形能够完全重合，这个图形就是轴对称图形。           （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正方形只有两条对称轴。                  （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8028000" y="1913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7956720" y="126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395280" y="256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选择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189080" y="308304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长方形有（  ）条对称轴。     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Arial Unicode MS"/>
              </a:rPr>
              <a:t>A. 1       B. 2       C. 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下面的数字</a:t>
            </a: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   )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是轴对称图形。</a:t>
            </a:r>
            <a:r>
              <a:rPr b="1" lang="en-US" sz="2400" spc="-1" strike="noStrike">
                <a:solidFill>
                  <a:srgbClr val="003300"/>
                </a:solidFill>
                <a:latin typeface="Arial Narrow"/>
                <a:ea typeface="楷体_GB2312"/>
              </a:rPr>
              <a:t>A. 3       B. 9       C. 7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421080" y="3587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205080" y="3068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395280" y="4149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操作题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画出下面图形的对称轴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 flipV="1">
            <a:off x="2209680" y="4941000"/>
            <a:ext cx="1297080" cy="15130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5667480" y="4937040"/>
            <a:ext cx="1439640" cy="1440000"/>
          </a:xfrm>
          <a:prstGeom prst="rect">
            <a:avLst/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2857680" y="4654440"/>
            <a:ext cx="0" cy="194328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6388200" y="4648320"/>
            <a:ext cx="0" cy="19447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380200" y="5656320"/>
            <a:ext cx="208728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Line 17"/>
          <p:cNvSpPr/>
          <p:nvPr/>
        </p:nvSpPr>
        <p:spPr>
          <a:xfrm>
            <a:off x="5451480" y="4721400"/>
            <a:ext cx="1871640" cy="18716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 flipV="1">
            <a:off x="5522760" y="4792680"/>
            <a:ext cx="1729080" cy="17287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Box 20"/>
          <p:cNvSpPr/>
          <p:nvPr/>
        </p:nvSpPr>
        <p:spPr>
          <a:xfrm>
            <a:off x="0" y="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复习巩固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774720" y="49320"/>
            <a:ext cx="6245280" cy="1120320"/>
            <a:chOff x="774720" y="49320"/>
            <a:chExt cx="6245280" cy="1120320"/>
          </a:xfrm>
        </p:grpSpPr>
        <p:sp>
          <p:nvSpPr>
            <p:cNvPr id="458" name="Text Box 5"/>
            <p:cNvSpPr/>
            <p:nvPr/>
          </p:nvSpPr>
          <p:spPr>
            <a:xfrm>
              <a:off x="774720" y="49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八年级   学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3924360" y="590400"/>
              <a:ext cx="309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60" name="Rectangle 10" descr=""/>
          <p:cNvPicPr/>
          <p:nvPr/>
        </p:nvPicPr>
        <p:blipFill>
          <a:blip r:embed="rId1"/>
          <a:stretch/>
        </p:blipFill>
        <p:spPr>
          <a:xfrm>
            <a:off x="-115920" y="682560"/>
            <a:ext cx="1706760" cy="9511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1"/>
          <p:cNvSpPr/>
          <p:nvPr/>
        </p:nvSpPr>
        <p:spPr>
          <a:xfrm>
            <a:off x="690480" y="161820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图，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称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=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=5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2" name="Group 12"/>
          <p:cNvGrpSpPr/>
          <p:nvPr/>
        </p:nvGrpSpPr>
        <p:grpSpPr>
          <a:xfrm>
            <a:off x="4867200" y="2773440"/>
            <a:ext cx="3024000" cy="2520720"/>
            <a:chOff x="4867200" y="2773440"/>
            <a:chExt cx="3024000" cy="2520720"/>
          </a:xfrm>
        </p:grpSpPr>
        <p:sp>
          <p:nvSpPr>
            <p:cNvPr id="463" name="AutoShape 13"/>
            <p:cNvSpPr/>
            <p:nvPr/>
          </p:nvSpPr>
          <p:spPr>
            <a:xfrm rot="17002200">
              <a:off x="5617440" y="3120480"/>
              <a:ext cx="1465560" cy="149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AutoShape 14"/>
            <p:cNvSpPr/>
            <p:nvPr/>
          </p:nvSpPr>
          <p:spPr>
            <a:xfrm rot="11514000">
              <a:off x="5391000" y="3512160"/>
              <a:ext cx="1715040" cy="12283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5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Text Box 15"/>
            <p:cNvSpPr/>
            <p:nvPr/>
          </p:nvSpPr>
          <p:spPr>
            <a:xfrm>
              <a:off x="6426360" y="2773440"/>
              <a:ext cx="4845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4867200" y="3145680"/>
              <a:ext cx="5907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5562360" y="4502160"/>
              <a:ext cx="516600" cy="6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7300440" y="3515400"/>
              <a:ext cx="590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5209920" y="3636360"/>
              <a:ext cx="5907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Text Box 20"/>
            <p:cNvSpPr/>
            <p:nvPr/>
          </p:nvSpPr>
          <p:spPr>
            <a:xfrm>
              <a:off x="6779160" y="4502160"/>
              <a:ext cx="5907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21"/>
            <p:cNvSpPr/>
            <p:nvPr/>
          </p:nvSpPr>
          <p:spPr>
            <a:xfrm>
              <a:off x="7300440" y="3022200"/>
              <a:ext cx="5907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Line 22"/>
            <p:cNvSpPr/>
            <p:nvPr/>
          </p:nvSpPr>
          <p:spPr>
            <a:xfrm>
              <a:off x="6426360" y="3197880"/>
              <a:ext cx="0" cy="2096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3" name="Text Box 23"/>
          <p:cNvSpPr/>
          <p:nvPr/>
        </p:nvSpPr>
        <p:spPr>
          <a:xfrm>
            <a:off x="5226120" y="2197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2c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7170840" y="22701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55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0"/>
          <p:cNvSpPr/>
          <p:nvPr/>
        </p:nvSpPr>
        <p:spPr>
          <a:xfrm>
            <a:off x="971640" y="1125360"/>
            <a:ext cx="547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图，把一圆形纸片两次对折后，得到右图，然后沿虚线剪开，得到两部分，其中一部分展开后的平面图形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6" name="Group 11"/>
          <p:cNvGrpSpPr/>
          <p:nvPr/>
        </p:nvGrpSpPr>
        <p:grpSpPr>
          <a:xfrm>
            <a:off x="6516720" y="1628640"/>
            <a:ext cx="2160360" cy="2160360"/>
            <a:chOff x="6516720" y="1628640"/>
            <a:chExt cx="2160360" cy="2160360"/>
          </a:xfrm>
        </p:grpSpPr>
        <p:sp>
          <p:nvSpPr>
            <p:cNvPr id="477" name="AutoShape 12"/>
            <p:cNvSpPr/>
            <p:nvPr/>
          </p:nvSpPr>
          <p:spPr>
            <a:xfrm>
              <a:off x="6516720" y="1628640"/>
              <a:ext cx="21603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Arc 13"/>
            <p:cNvSpPr/>
            <p:nvPr/>
          </p:nvSpPr>
          <p:spPr>
            <a:xfrm>
              <a:off x="6761160" y="1873080"/>
              <a:ext cx="1654200" cy="1654200"/>
            </a:xfrm>
            <a:custGeom>
              <a:avLst/>
              <a:gdLst>
                <a:gd name="textAreaLeft" fmla="*/ 0 w 1654200"/>
                <a:gd name="textAreaRight" fmla="*/ 1654560 w 165420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1" y="0"/>
                    <a:pt x="21588" y="9657"/>
                    <a:pt x="21599" y="21579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1" y="0"/>
                    <a:pt x="21588" y="9657"/>
                    <a:pt x="21599" y="2157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6761160" y="3525480"/>
              <a:ext cx="1652400" cy="1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Line 15"/>
            <p:cNvSpPr/>
            <p:nvPr/>
          </p:nvSpPr>
          <p:spPr>
            <a:xfrm>
              <a:off x="6761160" y="1873080"/>
              <a:ext cx="1440" cy="16524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Line 16"/>
            <p:cNvSpPr/>
            <p:nvPr/>
          </p:nvSpPr>
          <p:spPr>
            <a:xfrm>
              <a:off x="6791400" y="2565000"/>
              <a:ext cx="393480" cy="957240"/>
            </a:xfrm>
            <a:prstGeom prst="line">
              <a:avLst/>
            </a:prstGeom>
            <a:ln w="414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82" name="Group 17"/>
          <p:cNvGrpSpPr/>
          <p:nvPr/>
        </p:nvGrpSpPr>
        <p:grpSpPr>
          <a:xfrm>
            <a:off x="1187280" y="4437000"/>
            <a:ext cx="6283080" cy="2021400"/>
            <a:chOff x="1187280" y="4437000"/>
            <a:chExt cx="6283080" cy="2021400"/>
          </a:xfrm>
        </p:grpSpPr>
        <p:grpSp>
          <p:nvGrpSpPr>
            <p:cNvPr id="483" name="Group 18"/>
            <p:cNvGrpSpPr/>
            <p:nvPr/>
          </p:nvGrpSpPr>
          <p:grpSpPr>
            <a:xfrm>
              <a:off x="6298920" y="4437000"/>
              <a:ext cx="1171440" cy="1171440"/>
              <a:chOff x="6298920" y="4437000"/>
              <a:chExt cx="1171440" cy="1171440"/>
            </a:xfrm>
          </p:grpSpPr>
          <p:sp>
            <p:nvSpPr>
              <p:cNvPr id="484" name="Oval 19"/>
              <p:cNvSpPr/>
              <p:nvPr/>
            </p:nvSpPr>
            <p:spPr>
              <a:xfrm>
                <a:off x="6689520" y="4817880"/>
                <a:ext cx="409320" cy="40968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5" name="Oval 20"/>
              <p:cNvSpPr/>
              <p:nvPr/>
            </p:nvSpPr>
            <p:spPr>
              <a:xfrm>
                <a:off x="6298920" y="4437000"/>
                <a:ext cx="1171440" cy="117144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1"/>
            <p:cNvGrpSpPr/>
            <p:nvPr/>
          </p:nvGrpSpPr>
          <p:grpSpPr>
            <a:xfrm>
              <a:off x="4643280" y="4437000"/>
              <a:ext cx="1171440" cy="1171800"/>
              <a:chOff x="4643280" y="4437000"/>
              <a:chExt cx="1171440" cy="1171800"/>
            </a:xfrm>
          </p:grpSpPr>
          <p:sp>
            <p:nvSpPr>
              <p:cNvPr id="487" name="Oval 22"/>
              <p:cNvSpPr/>
              <p:nvPr/>
            </p:nvSpPr>
            <p:spPr>
              <a:xfrm>
                <a:off x="4643280" y="4437000"/>
                <a:ext cx="1171440" cy="11718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8" name="Line 23"/>
              <p:cNvSpPr/>
              <p:nvPr/>
            </p:nvSpPr>
            <p:spPr>
              <a:xfrm flipH="1">
                <a:off x="5014080" y="4789440"/>
                <a:ext cx="199800" cy="36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9" name="Line 24"/>
              <p:cNvSpPr/>
              <p:nvPr/>
            </p:nvSpPr>
            <p:spPr>
              <a:xfrm flipH="1">
                <a:off x="5014080" y="5141880"/>
                <a:ext cx="41868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0" name="Line 25"/>
              <p:cNvSpPr/>
              <p:nvPr/>
            </p:nvSpPr>
            <p:spPr>
              <a:xfrm>
                <a:off x="5214600" y="4789440"/>
                <a:ext cx="218520" cy="35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6"/>
            <p:cNvGrpSpPr/>
            <p:nvPr/>
          </p:nvGrpSpPr>
          <p:grpSpPr>
            <a:xfrm>
              <a:off x="1187280" y="4437000"/>
              <a:ext cx="1171440" cy="1171800"/>
              <a:chOff x="1187280" y="4437000"/>
              <a:chExt cx="1171440" cy="1171800"/>
            </a:xfrm>
          </p:grpSpPr>
          <p:sp>
            <p:nvSpPr>
              <p:cNvPr id="492" name="Oval 27"/>
              <p:cNvSpPr/>
              <p:nvPr/>
            </p:nvSpPr>
            <p:spPr>
              <a:xfrm>
                <a:off x="1187280" y="4437000"/>
                <a:ext cx="1171440" cy="11718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Line 28"/>
              <p:cNvSpPr/>
              <p:nvPr/>
            </p:nvSpPr>
            <p:spPr>
              <a:xfrm>
                <a:off x="1539360" y="5141880"/>
                <a:ext cx="49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Line 29"/>
              <p:cNvSpPr/>
              <p:nvPr/>
            </p:nvSpPr>
            <p:spPr>
              <a:xfrm>
                <a:off x="2034720" y="4894200"/>
                <a:ext cx="1440" cy="24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5" name="Line 30"/>
              <p:cNvSpPr/>
              <p:nvPr/>
            </p:nvSpPr>
            <p:spPr>
              <a:xfrm>
                <a:off x="1539360" y="4894200"/>
                <a:ext cx="49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6" name="Line 31"/>
              <p:cNvSpPr/>
              <p:nvPr/>
            </p:nvSpPr>
            <p:spPr>
              <a:xfrm>
                <a:off x="1539360" y="4894200"/>
                <a:ext cx="1440" cy="24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32"/>
            <p:cNvGrpSpPr/>
            <p:nvPr/>
          </p:nvGrpSpPr>
          <p:grpSpPr>
            <a:xfrm>
              <a:off x="2842920" y="4437000"/>
              <a:ext cx="1171440" cy="1171440"/>
              <a:chOff x="2842920" y="4437000"/>
              <a:chExt cx="1171440" cy="1171440"/>
            </a:xfrm>
          </p:grpSpPr>
          <p:sp>
            <p:nvSpPr>
              <p:cNvPr id="498" name="Oval 33"/>
              <p:cNvSpPr/>
              <p:nvPr/>
            </p:nvSpPr>
            <p:spPr>
              <a:xfrm>
                <a:off x="2842920" y="4437000"/>
                <a:ext cx="1171440" cy="117144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9" name="Line 34"/>
              <p:cNvSpPr/>
              <p:nvPr/>
            </p:nvSpPr>
            <p:spPr>
              <a:xfrm flipH="1">
                <a:off x="3280680" y="4741560"/>
                <a:ext cx="14292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0" name="Line 35"/>
              <p:cNvSpPr/>
              <p:nvPr/>
            </p:nvSpPr>
            <p:spPr>
              <a:xfrm>
                <a:off x="3281040" y="5027400"/>
                <a:ext cx="152280" cy="27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1" name="Line 36"/>
              <p:cNvSpPr/>
              <p:nvPr/>
            </p:nvSpPr>
            <p:spPr>
              <a:xfrm flipH="1">
                <a:off x="3432960" y="5018040"/>
                <a:ext cx="14292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2" name="Line 37"/>
              <p:cNvSpPr/>
              <p:nvPr/>
            </p:nvSpPr>
            <p:spPr>
              <a:xfrm>
                <a:off x="3423960" y="4741560"/>
                <a:ext cx="1522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3" name="Text Box 38"/>
            <p:cNvSpPr/>
            <p:nvPr/>
          </p:nvSpPr>
          <p:spPr>
            <a:xfrm>
              <a:off x="1474560" y="587700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4" name="Text Box 39"/>
            <p:cNvSpPr/>
            <p:nvPr/>
          </p:nvSpPr>
          <p:spPr>
            <a:xfrm>
              <a:off x="3203280" y="580536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Text Box 40"/>
            <p:cNvSpPr/>
            <p:nvPr/>
          </p:nvSpPr>
          <p:spPr>
            <a:xfrm>
              <a:off x="5003640" y="580536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Text Box 41"/>
            <p:cNvSpPr/>
            <p:nvPr/>
          </p:nvSpPr>
          <p:spPr>
            <a:xfrm>
              <a:off x="6732360" y="5732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7" name="Text Box 42"/>
          <p:cNvSpPr/>
          <p:nvPr/>
        </p:nvSpPr>
        <p:spPr>
          <a:xfrm>
            <a:off x="3191040" y="32004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3"/>
          <p:cNvGrpSpPr/>
          <p:nvPr/>
        </p:nvGrpSpPr>
        <p:grpSpPr>
          <a:xfrm>
            <a:off x="1295280" y="1066680"/>
            <a:ext cx="7010640" cy="1191240"/>
            <a:chOff x="1295280" y="1066680"/>
            <a:chExt cx="7010640" cy="1191240"/>
          </a:xfrm>
        </p:grpSpPr>
        <p:sp>
          <p:nvSpPr>
            <p:cNvPr id="509" name="Text Box 4"/>
            <p:cNvSpPr/>
            <p:nvPr/>
          </p:nvSpPr>
          <p:spPr>
            <a:xfrm>
              <a:off x="1295280" y="1066680"/>
              <a:ext cx="701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如图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△              关于直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称，点     、  、    分别是点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对称点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线段　　、　　、　　与直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什么关系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? 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5"/>
                <p:cNvSpPr txBox="1"/>
                <p:nvPr/>
              </p:nvSpPr>
              <p:spPr>
                <a:xfrm>
                  <a:off x="1752480" y="1523880"/>
                  <a:ext cx="3812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6"/>
                <p:cNvSpPr txBox="1"/>
                <p:nvPr/>
              </p:nvSpPr>
              <p:spPr>
                <a:xfrm>
                  <a:off x="2209680" y="1523880"/>
                  <a:ext cx="3812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7"/>
                <p:cNvSpPr txBox="1"/>
                <p:nvPr/>
              </p:nvSpPr>
              <p:spPr>
                <a:xfrm>
                  <a:off x="2819520" y="1523880"/>
                  <a:ext cx="3808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8"/>
                <p:cNvSpPr txBox="1"/>
                <p:nvPr/>
              </p:nvSpPr>
              <p:spPr>
                <a:xfrm>
                  <a:off x="3962520" y="1143000"/>
                  <a:ext cx="91440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9"/>
                <p:cNvSpPr txBox="1"/>
                <p:nvPr/>
              </p:nvSpPr>
              <p:spPr>
                <a:xfrm>
                  <a:off x="2590920" y="1904760"/>
                  <a:ext cx="6094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5" name="Object 10"/>
                <p:cNvSpPr txBox="1"/>
                <p:nvPr/>
              </p:nvSpPr>
              <p:spPr>
                <a:xfrm>
                  <a:off x="1676520" y="1904760"/>
                  <a:ext cx="7696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Object 11"/>
                <p:cNvSpPr txBox="1"/>
                <p:nvPr/>
              </p:nvSpPr>
              <p:spPr>
                <a:xfrm>
                  <a:off x="3429000" y="1904760"/>
                  <a:ext cx="6094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7" name="Text Box 12"/>
          <p:cNvSpPr/>
          <p:nvPr/>
        </p:nvSpPr>
        <p:spPr>
          <a:xfrm>
            <a:off x="304920" y="304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探究一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3886200" y="4267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ＡＰ＝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124080" y="4876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ＭＰＡ＝∠　　　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5"/>
              <p:cNvSpPr txBox="1"/>
              <p:nvPr/>
            </p:nvSpPr>
            <p:spPr>
              <a:xfrm>
                <a:off x="5334120" y="4343400"/>
                <a:ext cx="990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16"/>
              <p:cNvSpPr txBox="1"/>
              <p:nvPr/>
            </p:nvSpPr>
            <p:spPr>
              <a:xfrm>
                <a:off x="5715000" y="4876920"/>
                <a:ext cx="1063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P {</m:t>
                        </m:r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7"/>
              <p:cNvSpPr txBox="1"/>
              <p:nvPr/>
            </p:nvSpPr>
            <p:spPr>
              <a:xfrm>
                <a:off x="7315200" y="4876920"/>
                <a:ext cx="654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3" name="Group 18"/>
          <p:cNvGrpSpPr/>
          <p:nvPr/>
        </p:nvGrpSpPr>
        <p:grpSpPr>
          <a:xfrm>
            <a:off x="3048120" y="3048120"/>
            <a:ext cx="6400440" cy="1169280"/>
            <a:chOff x="3048120" y="3048120"/>
            <a:chExt cx="6400440" cy="1169280"/>
          </a:xfrm>
        </p:grpSpPr>
        <p:sp>
          <p:nvSpPr>
            <p:cNvPr id="524" name="Text Box 19"/>
            <p:cNvSpPr/>
            <p:nvPr/>
          </p:nvSpPr>
          <p:spPr>
            <a:xfrm>
              <a:off x="3048120" y="3048120"/>
              <a:ext cx="6400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将△ＡＢＣ和△　　　　沿ＭＮ折叠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后，点Ａ与点　　重合，于是有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5" name="Object 20"/>
                <p:cNvSpPr txBox="1"/>
                <p:nvPr/>
              </p:nvSpPr>
              <p:spPr>
                <a:xfrm>
                  <a:off x="5386320" y="3754080"/>
                  <a:ext cx="75924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6" name="Object 21"/>
                <p:cNvSpPr txBox="1"/>
                <p:nvPr/>
              </p:nvSpPr>
              <p:spPr>
                <a:xfrm>
                  <a:off x="5563800" y="3124080"/>
                  <a:ext cx="1599840" cy="38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27" name="Picture 22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28530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0" y="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探究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228600" y="685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用上述方法，你还能得其它的结论吗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380880" y="1219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209680" y="1219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=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533520" y="1828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DB= ∠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609480" y="2590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C= ∠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2514600" y="259092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 {</m:t>
                        </m:r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2438280" y="1828800"/>
                <a:ext cx="1113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 {</m:t>
                        </m:r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3124080" y="1295280"/>
                <a:ext cx="8384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4"/>
              <p:cNvSpPr txBox="1"/>
              <p:nvPr/>
            </p:nvSpPr>
            <p:spPr>
              <a:xfrm>
                <a:off x="1295280" y="1273320"/>
                <a:ext cx="762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8" name="Group 15"/>
          <p:cNvGrpSpPr/>
          <p:nvPr/>
        </p:nvGrpSpPr>
        <p:grpSpPr>
          <a:xfrm>
            <a:off x="762120" y="3352680"/>
            <a:ext cx="6629400" cy="398880"/>
            <a:chOff x="762120" y="3352680"/>
            <a:chExt cx="6629400" cy="398880"/>
          </a:xfrm>
        </p:grpSpPr>
        <p:sp>
          <p:nvSpPr>
            <p:cNvPr id="539" name="Text Box 16"/>
            <p:cNvSpPr/>
            <p:nvPr/>
          </p:nvSpPr>
          <p:spPr>
            <a:xfrm>
              <a:off x="762120" y="335268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由                  ，                                              ，你能得什么结论？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40" name="Group 17"/>
            <p:cNvGrpSpPr/>
            <p:nvPr/>
          </p:nvGrpSpPr>
          <p:grpSpPr>
            <a:xfrm>
              <a:off x="1447920" y="3352680"/>
              <a:ext cx="1371600" cy="398880"/>
              <a:chOff x="1447920" y="3352680"/>
              <a:chExt cx="1371600" cy="398880"/>
            </a:xfrm>
          </p:grpSpPr>
          <p:sp>
            <p:nvSpPr>
              <p:cNvPr id="541" name="Text Box 18"/>
              <p:cNvSpPr/>
              <p:nvPr/>
            </p:nvSpPr>
            <p:spPr>
              <a:xfrm>
                <a:off x="1447920" y="33526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ＡＰ＝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2" name="Object 19"/>
                  <p:cNvSpPr txBox="1"/>
                  <p:nvPr/>
                </p:nvSpPr>
                <p:spPr>
                  <a:xfrm>
                    <a:off x="2209680" y="3396960"/>
                    <a:ext cx="542880" cy="33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3" name="Group 20"/>
            <p:cNvGrpSpPr/>
            <p:nvPr/>
          </p:nvGrpSpPr>
          <p:grpSpPr>
            <a:xfrm>
              <a:off x="2895840" y="3352680"/>
              <a:ext cx="3119400" cy="398880"/>
              <a:chOff x="2895840" y="3352680"/>
              <a:chExt cx="3119400" cy="398880"/>
            </a:xfrm>
          </p:grpSpPr>
          <p:sp>
            <p:nvSpPr>
              <p:cNvPr id="544" name="Text Box 21"/>
              <p:cNvSpPr/>
              <p:nvPr/>
            </p:nvSpPr>
            <p:spPr>
              <a:xfrm>
                <a:off x="2895840" y="3352680"/>
                <a:ext cx="30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∠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ＭＰＡ＝∠　　　＝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5" name="Object 22"/>
                  <p:cNvSpPr txBox="1"/>
                  <p:nvPr/>
                </p:nvSpPr>
                <p:spPr>
                  <a:xfrm>
                    <a:off x="4542120" y="3411000"/>
                    <a:ext cx="730080" cy="3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 {</m:t>
                            </m:r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46" name="Object 23"/>
                  <p:cNvSpPr txBox="1"/>
                  <p:nvPr/>
                </p:nvSpPr>
                <p:spPr>
                  <a:xfrm>
                    <a:off x="5562720" y="3352680"/>
                    <a:ext cx="45252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47" name="Text Box 24"/>
          <p:cNvSpPr/>
          <p:nvPr/>
        </p:nvSpPr>
        <p:spPr>
          <a:xfrm>
            <a:off x="83808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        的中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5867280" y="40384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N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6"/>
              <p:cNvSpPr txBox="1"/>
              <p:nvPr/>
            </p:nvSpPr>
            <p:spPr>
              <a:xfrm>
                <a:off x="7010280" y="4038480"/>
                <a:ext cx="762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27"/>
              <p:cNvSpPr txBox="1"/>
              <p:nvPr/>
            </p:nvSpPr>
            <p:spPr>
              <a:xfrm>
                <a:off x="2057400" y="4038480"/>
                <a:ext cx="914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1" name="Text Box 28"/>
          <p:cNvSpPr/>
          <p:nvPr/>
        </p:nvSpPr>
        <p:spPr>
          <a:xfrm>
            <a:off x="152280" y="4800600"/>
            <a:ext cx="60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结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066680" y="4952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称轴所在的直线经过对称点连线段的 中点，并且垂直于这条直线线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3" name="Picture 30" descr=""/>
          <p:cNvPicPr/>
          <p:nvPr/>
        </p:nvPicPr>
        <p:blipFill>
          <a:blip r:embed="rId1"/>
          <a:stretch/>
        </p:blipFill>
        <p:spPr>
          <a:xfrm>
            <a:off x="5757840" y="0"/>
            <a:ext cx="3386160" cy="32767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731520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315200" y="167652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5228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线段的垂直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过线段的中点并且垂直于这条线段直线，叫做这条线段的垂直平分线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2860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轴对称的性质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8088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果两个图形关于某条直线对称，那么对称轴是任何一对应点连线段的垂直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28600" y="3048120"/>
            <a:ext cx="464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如果一 个图形是轴对称图形，那么对称轴是任何一对应点连线段的垂直平分线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762120" y="4343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垂直平分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762120" y="4952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垂直平分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762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垂直平分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4" name="Picture 10" descr="pic_204354"/>
          <p:cNvPicPr/>
          <p:nvPr/>
        </p:nvPicPr>
        <p:blipFill>
          <a:blip r:embed="rId1"/>
          <a:srcRect l="62696" t="48757" r="9994" b="37786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5" name="Object 11"/>
              <p:cNvSpPr txBox="1"/>
              <p:nvPr/>
            </p:nvSpPr>
            <p:spPr>
              <a:xfrm>
                <a:off x="2438280" y="4343400"/>
                <a:ext cx="99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2"/>
              <p:cNvSpPr txBox="1"/>
              <p:nvPr/>
            </p:nvSpPr>
            <p:spPr>
              <a:xfrm>
                <a:off x="2590920" y="56386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3"/>
              <p:cNvSpPr txBox="1"/>
              <p:nvPr/>
            </p:nvSpPr>
            <p:spPr>
              <a:xfrm>
                <a:off x="2514600" y="4952880"/>
                <a:ext cx="838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7:23Z</dcterms:modified>
  <cp:revision>19</cp:revision>
  <dc:subject>www.12999.com</dc:subject>
  <dc:title>www.12999.com</dc:title>
</cp:coreProperties>
</file>