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4.jpeg" ContentType="image/jpe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E47-5340-4F21-A058-A264E9C4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5B19-699E-430C-9B90-48A676C6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9794B-D998-4722-8C03-1F9ED91A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FA59F-6360-4FE5-8947-A06AA91B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B5D35-2A79-437D-8734-F4637DCB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56DA0-263C-44CF-B012-6DEB9A7D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52B1D-CACC-4495-A6D7-70CD86BB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EBB2F-6383-48AB-8F47-AF2F2F51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2DD31-B907-4F19-9853-ACC10351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2E306-35E0-4515-9834-32E7D498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3DAB4-65CD-4AC2-A857-50EF0B69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F95-8C4F-46FD-A7FA-DA0AC332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6CA-4DD5-4D5F-A519-6EF671CD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7AEC-994D-4ECF-B5A3-9AE08058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CC24-FF16-46F7-A629-B6F0C7B8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74BE-7791-4FFF-AE64-3A098544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24D0-B449-4D47-BBCA-8E50146F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2A35-165D-4140-A799-15A8F97A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7AA6-5169-45E3-B07C-E1B1D6BF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0A1E-7057-4FE3-965E-A44EA2C4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449-19F0-4A69-9905-5EC4D3A4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0C96-22E9-4BBF-AB67-C950350D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8AEB-A20F-4A40-B5AC-EE828ED8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5FFF-3024-4CD9-84A7-C7C43EF7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E81E-260C-4EE7-A88D-A5EB1805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9448-39A4-4442-9D7D-F0AFF1A4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14308-E333-40B3-845D-E7D63E34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727F6-CB34-404F-99A2-84282824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BE7A6-1184-4E08-A6F0-0936BC04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70667-2B3A-4FCA-A8CE-FFC79F63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5844A-65EA-4133-8B05-37B62613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207F-324F-4FF9-8BF0-BC5DCF10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7390D-E2DF-4F63-99BB-89416C16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7CF55-680A-4367-86C0-31C71EE7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C1974-5B1C-4873-BDE9-D645BA0A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FA1A5-7892-4A07-978C-A80B5E69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D48C-1605-475F-AD7D-053D1DD6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F42D5-3B55-4896-AEC9-2B62C23F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AC795-807D-4EBE-A521-89CA4CD5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65827-B582-406D-9819-B7361D31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A58F0-7DA3-4BFC-8E7E-83E82325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73B9C-2A56-436F-AA44-3297A36F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037-0AE4-4F13-AF3F-60476383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3112B-2E56-481E-8D94-16A17E89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839BA-7ACD-4789-96A8-1A45A118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0DEFA-DFC9-4564-8256-9087E347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23790-C140-4648-A1BA-DDB978CE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416C5-DAB6-4D7E-963C-7A3A33EB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A1EE8-F698-411B-AC7B-00837772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18ACF-DA9E-44C8-AF2C-1B93EC21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00978-EF9E-4BF3-85CE-76B6EF4F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A4750-BECA-40BC-A57D-BD0C6140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24F5F-E91C-4264-8318-433410FF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6F2-FBD8-4E13-908B-F73456D8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50D58-2CED-4102-B2F1-39DB28DC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C6D28-EB4F-4A11-8603-071F2F8B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85639-0C72-4265-B94E-452BA2BC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A45A3-EFF2-434A-94D3-A44733D1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F6ACA-614C-4B70-AF34-1B5F0F63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B60BA-EF55-47EC-A0E0-BD0F24B5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C133B-EA80-4EC2-89BD-2921AF8B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BF0C3-F602-406B-BB1C-40A0B7E8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893FC-A4C9-4E03-9B3B-4957395C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D2024-EBB0-4A65-9E63-433A9DE2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AE5-C90A-4A55-8E93-971F8875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BA99A-F57E-4C26-AD27-CAB1FD86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2B812-8B00-4F69-842C-FBA163C7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48D80-5B1A-4FC1-9228-5358E0B3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AB3E9-9023-44EB-A988-F84D2964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6BDB3-E213-4559-91DC-C45C2503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DB4C3-1029-4011-9F02-80743231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24FB0-74F8-46E0-84DD-BBA8EE9D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FCB63-B815-4F4B-8570-4BAADBB8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A8D31-65B4-4A92-9D0E-739F8C25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A0FCC-E006-41B9-A80F-AA111291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8AB-40CD-4C1F-B983-DB557F75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452C8-C425-4F9E-AB90-A651DD4F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CE098-331D-44A8-83B7-8BA0BAF8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F535F-E291-4F52-8DA6-DFDA267C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646C3-9B97-41A1-BF47-198BB973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7CD9F-478D-403B-A5ED-2A643D2D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B8C55-1A75-4879-8DDB-1ADF0C9B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2CB90-B05B-4F42-8EC9-DF989ED1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BCFB9-11F0-4834-9650-10663C8D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AA92C-9A78-491A-AEA2-C9611B75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A669B-5391-4D0F-B9CE-DCA02F42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B87-265F-4101-B394-757B72B7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509E1-A70F-4DA3-8CBC-BE411976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52B32-724B-4ED9-8A34-48067F56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2BB78-DA26-4A7C-BDCC-165DD50C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4322A-50AD-4154-8AFE-0473D7FD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FAD9E-9B5D-4C46-ABF7-FDFB3690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7035E-AD4C-4D2D-9955-647474E5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5569E-F55C-40A8-B013-BA708F2B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4284E-7601-4A4A-885C-1D12F6F1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C4AA4-579A-42FE-90B9-8D5001F2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D4692-FD7A-4AAC-BBFA-B6B3ACF6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B3B-9912-4C5A-A979-F2C43C2C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F0237-1BB8-4576-B727-811814EE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7D9F3-C856-47F3-A72C-0A437C64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2329D-BC5B-4FFE-89ED-6EF9D554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50E96-4A3C-4DC3-B2D4-42472D89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CE60B-295E-4A6C-8F22-351545D5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CBB43-D24F-4E43-9008-280D33A0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E7487-0EC4-49B0-833F-E142AC88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C6347-8F9D-4BBC-B20A-228DCE45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2A002-8619-451D-AE9F-6D5CC34F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1BF3C-D4E7-4118-BA55-4BACCFFD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8C89-0AE1-4C7B-BE73-76DDDDA868C3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5C2A-6779-42F8-BA2C-7F232D82E63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3B1F-5A65-4DB5-81AA-76BD6EBB706F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57B1-EC17-4B4C-A70C-301009CA017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A65F-D903-4B4B-BFB9-A6978151F576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8C09-140E-48C3-B04E-A769B82D5D4E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BBA2-D824-4E28-90D1-20DBA18C496F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A1A1-6F06-4B44-920E-52F97D632F0F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236F-D6A4-40DF-8BE6-F889ABFB5B8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8"/>
          <p:cNvSpPr/>
          <p:nvPr/>
        </p:nvSpPr>
        <p:spPr>
          <a:xfrm>
            <a:off x="1619280" y="249228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轴对称（三）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9144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如图：请找出一点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，使点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到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两点的距离相等，并且点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在∠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ACB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的平分线上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2124000" y="2995560"/>
            <a:ext cx="50292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6.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如图，∠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AOB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内一点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P</a:t>
            </a:r>
            <a:r>
              <a:rPr b="1" lang="en-US" sz="3600" spc="-1" strike="noStrike" baseline="-25000">
                <a:solidFill>
                  <a:srgbClr val="4e3b30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P</a:t>
            </a:r>
            <a:r>
              <a:rPr b="1" lang="en-US" sz="3600" spc="-1" strike="noStrike" baseline="-25000">
                <a:solidFill>
                  <a:srgbClr val="4e3b3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分别为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关于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OA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OB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的对称点， 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P</a:t>
            </a:r>
            <a:r>
              <a:rPr b="1" lang="en-US" sz="3600" spc="-1" strike="noStrike" baseline="-25000">
                <a:solidFill>
                  <a:srgbClr val="4e3b30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P</a:t>
            </a:r>
            <a:r>
              <a:rPr b="1" lang="en-US" sz="3600" spc="-1" strike="noStrike" baseline="-25000">
                <a:solidFill>
                  <a:srgbClr val="4e3b3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交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OA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于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M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，交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OB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于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N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，若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P</a:t>
            </a:r>
            <a:r>
              <a:rPr b="1" lang="en-US" sz="3600" spc="-1" strike="noStrike" baseline="-25000">
                <a:solidFill>
                  <a:srgbClr val="4e3b30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P</a:t>
            </a:r>
            <a:r>
              <a:rPr b="1" lang="en-US" sz="3600" spc="-1" strike="noStrike" baseline="-25000">
                <a:solidFill>
                  <a:srgbClr val="4e3b30"/>
                </a:solidFill>
                <a:latin typeface="宋体"/>
              </a:rPr>
              <a:t>2 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=5cm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，求△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的周长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3351240" y="2205000"/>
            <a:ext cx="4029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9144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7.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如图，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E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为∠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AOB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的平分线上一点，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EC⊥OA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ED⊥OB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，垂足分别为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。求证：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OE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为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CD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的垂直平分线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2173320" y="2352600"/>
            <a:ext cx="53528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9144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8.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如图，长方形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ABCD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沿着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AE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折叠，使点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落在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BC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边上的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F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点处，如果∠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BAF=60</a:t>
            </a:r>
            <a:r>
              <a:rPr b="1" lang="en-US" sz="3600" spc="-1" strike="noStrike" baseline="30000">
                <a:solidFill>
                  <a:srgbClr val="4e3b30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求∠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DAE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，∠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AEF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的度数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340000" y="2637000"/>
            <a:ext cx="451476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9.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如图，把一张长方形纸片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ABCD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对折，使点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落在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E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处与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AD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交于点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O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，请写出图中所有相等的线段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4" descr=""/>
          <p:cNvPicPr/>
          <p:nvPr/>
        </p:nvPicPr>
        <p:blipFill>
          <a:blip r:embed="rId1"/>
          <a:stretch/>
        </p:blipFill>
        <p:spPr>
          <a:xfrm>
            <a:off x="3732120" y="2084400"/>
            <a:ext cx="42958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例 如图，点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和点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关于某条直线成轴对称，你能作出这条直线吗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6191280" cy="14778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6"/>
          <p:cNvSpPr/>
          <p:nvPr/>
        </p:nvSpPr>
        <p:spPr>
          <a:xfrm>
            <a:off x="324000" y="765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想一想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如图，与图形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成轴对称的是哪个图形？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画出它们的对称轴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3961080" cy="3746160"/>
          </a:xfrm>
          <a:prstGeom prst="rect">
            <a:avLst/>
          </a:prstGeom>
          <a:ln w="0">
            <a:noFill/>
          </a:ln>
        </p:spPr>
      </p:pic>
      <p:sp>
        <p:nvSpPr>
          <p:cNvPr id="405" name="TextBox 7"/>
          <p:cNvSpPr/>
          <p:nvPr/>
        </p:nvSpPr>
        <p:spPr>
          <a:xfrm>
            <a:off x="179280" y="33336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练习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828036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问题：对于轴对称图形而言，如何作出它们的对称轴呢？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只要找到任意一组对应点，作出对应点所连线段的垂直平分线，就得到此图形的对称轴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395280" y="6224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想一想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你能作出五角星的其它对称轴吗？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62600" cy="2739960"/>
          </a:xfrm>
          <a:prstGeom prst="rect">
            <a:avLst/>
          </a:prstGeom>
          <a:ln w="0">
            <a:noFill/>
          </a:ln>
        </p:spPr>
      </p:pic>
      <p:sp>
        <p:nvSpPr>
          <p:cNvPr id="410" name="TextBox 6"/>
          <p:cNvSpPr/>
          <p:nvPr/>
        </p:nvSpPr>
        <p:spPr>
          <a:xfrm>
            <a:off x="324000" y="765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试一试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如图，角是轴对称图形吗？如果是，它的对称轴是什么？请画出来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340000" y="2421000"/>
            <a:ext cx="4032360" cy="39542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250920" y="549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练一练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9144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2.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如图，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A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B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是路边两个新建小区，要在路边增设一个公共汽车站。使两个小区到车站的路程一样长，该公共汽车站应建在什么地方？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1835280" y="2638440"/>
            <a:ext cx="64818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9144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某地有两所大学和两条相交叉的公路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OA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OB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，现计划修建一个物资仓库，希望仓库到两所大学的距离相等，到两条公路的距离也相等，请你确定该点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59817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变式训练：某地有两所大学和两条相交叉的公路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OA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OB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，现计划修建一个物资仓库，希望仓库到两所大学的距离相等，到两条公路的距离也相等，请你确定该点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5" descr=""/>
          <p:cNvPicPr/>
          <p:nvPr/>
        </p:nvPicPr>
        <p:blipFill>
          <a:blip r:embed="rId1"/>
          <a:stretch/>
        </p:blipFill>
        <p:spPr>
          <a:xfrm>
            <a:off x="828720" y="3268800"/>
            <a:ext cx="59817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0:42:46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7:30Z</dcterms:modified>
  <cp:revision>24</cp:revision>
  <dc:subject>www.12999.com</dc:subject>
  <dc:title>www.12999.com</dc:title>
</cp:coreProperties>
</file>