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19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9.png" ContentType="image/png"/>
  <Override PartName="/ppt/media/image34.png" ContentType="image/png"/>
  <Override PartName="/ppt/media/image16.jpeg" ContentType="image/jpeg"/>
  <Override PartName="/ppt/media/chimes.wav" ContentType="audio/x-wav"/>
  <Override PartName="/ppt/media/image8.jpeg" ContentType="image/jpeg"/>
  <Override PartName="/ppt/media/image35.png" ContentType="image/png"/>
  <Override PartName="/ppt/media/image5.png" ContentType="image/png"/>
  <Override PartName="/ppt/media/image31.png" ContentType="image/png"/>
  <Override PartName="/ppt/media/image30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2.png" ContentType="image/png"/>
  <Override PartName="/ppt/media/image36.png" ContentType="image/png"/>
  <Override PartName="/ppt/media/image6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3.gif" ContentType="image/gif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7.png" ContentType="image/pn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C80-9D01-40F0-A0C2-210DCA37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1C5-2D0D-42CF-9662-E59B4EB8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9A456-7AB2-42C9-BC02-50D1E7ED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CC160-5BD5-416E-A3DF-B1946A0F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F5B9D-FD07-4DE3-B8CE-E438BF51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4FF26-C9F8-4468-B915-689AF69E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07F8A-6C36-4E22-9403-9369BAF5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C99A2-98BC-4A75-A94D-F09A88C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8C228-EF0C-488C-8C1A-304CC73C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624CE-2503-4DE5-9E51-74D60DA2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8A06A-57CC-4803-9048-F0FBB0AF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F585D-6410-456B-902B-CB25BFA2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FBA-D23D-4326-992F-E179D1BA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D404E-056D-4B3B-8D25-A58E451C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8FB41-D2A3-4A51-B4BE-340D4F1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673DB-1CE0-4CEE-9D5D-90B87F8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44F50-0962-49DF-BD9D-59820FDF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10537-20EF-41CE-9D33-2979BDE4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9EF0E-60D0-4037-9DDF-3446558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30AC7-FBD6-4CD2-BB2D-A4DDCD15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A2FE3-D8E4-4B57-AA85-9312182E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73DC6-0E05-45BF-8CD1-3EC36353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0CCFE-7B3C-43C2-A49B-657B071A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76B-836C-49F5-9114-05A29B84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521A4-D488-4232-982C-29393414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E69B7-B4D2-4267-BDA4-242621A2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BA979-897F-40A7-A50F-30FAC62A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3160E-CF60-424D-BECA-51FBDB16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5EAF2-50BA-4BB6-8B9B-DA73E5E2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7C516-093D-44E9-9FB3-EACAEE1F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6DD1C-C8B4-48A9-9CEC-D23F0062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CCC28-AEAD-4355-BD81-406594A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97D11-636D-4FA7-A160-45D65D4F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78CCD-E56F-43B5-B48A-3003CC4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7050-B4B4-402F-A6C3-4739ABB5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2D912-FB35-4E20-8C71-F114DE13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241A1-340E-4E63-906F-8A6D221D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FF44D-4669-419B-9F3C-6A71C64B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318E-D8C1-44BE-9338-42C0CF0E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19AF-2E2E-4006-8149-A9168E76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E09E-4738-4B5F-B5CC-C2CFE6D1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8EEE-F501-4177-B4B1-FEA5CCE4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B2F4-3E28-434F-A920-0AB296E8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886C-D52B-4A54-A07F-DD3701BB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C3E-538C-4B29-ACB5-0BE39393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5F13-5D38-41CC-9BC2-CD4987B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4FCE-7B6B-4066-A29B-9EA24006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0102-8536-4723-B37A-C0BB9215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2433-7388-45A7-B874-C6EFB6F1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6306-C25C-4438-B382-FC9E2FD3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0196-C05A-4860-B942-A438BBC2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6DEF-DC88-41EB-83D8-7DA46823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10728-14AB-440B-9B1B-A5D7F9EB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9729-1BD7-45BB-BB83-D90F5FE9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4C26-C350-4D7D-ACD2-80390E03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CC7-298A-4EB4-833A-E12379FD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CEBC7-4990-4DAD-8D2C-4D599505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E437-33B1-4287-9DE7-C49721B3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209D-12C5-4E84-BDF5-44568D4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4ABE-F328-492B-B16B-92F93DD7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DA3A5-1B21-439A-B1F6-9F148522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F9E47-9618-4AA0-BA30-5EEDD60F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BA91-7F7B-4D2E-BBE3-5084FD62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17BD-29EA-45ED-A7A4-30DAEDDA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39AD-3324-4D44-8F7D-D5E7C2EE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62CCB-EDE5-4300-B7B5-0954DA9B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B71-AE32-407C-AC3A-2322FF52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44287-35E7-439E-8A22-790B1759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9716-A882-4705-BB3C-6CD8C68C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9829D-02F9-4B40-9514-27B99DF6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0628-5979-4164-A502-81B570AA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6A11-8D1A-47FB-88FB-326DE738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6A74A-5725-474D-B5AD-AA002B61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5C1ED-F4E0-463D-ADF9-2585B3A4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C124-EC27-4F31-809B-73B87467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23DA8-CFB3-498C-A066-040E2F9E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E3EFD-ABC1-4A82-924F-E6191AFC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B41-B5F1-4E08-8E7F-CEBB5786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32EB-00FF-4126-8163-5335FE2C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BFE1D-6290-4D41-96B7-A27E97AA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DEB7F-661F-435A-A1CD-7BF42D49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51312-7ADB-4225-8F8C-A3979F47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55FDD-F0C8-4ADA-95A3-6A77E4A4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B5DF7-033B-4B62-9A24-1A235F1B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9912-494B-4BA7-80CD-22D71B9C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2B15-C0FB-4864-986D-2116E624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76D1F-D29D-4A42-A4F0-D7E5FE72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B731C-A32B-4844-B709-76586A8C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E01-4FF8-4CE5-B642-613819D5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6D1E7-2B32-4A88-8901-7C27E5C2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6B3FD-64CA-4FBF-87E8-1553E3DC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BD45D-B942-4ED7-A40A-28C2193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A9B8-01F2-4BAF-A4B6-4DDDF3C1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E9225-20BB-4796-B42B-6ADF6AA1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4C308-F3DD-4CC2-80E7-159B4D0F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40A64-4D52-461F-90DC-BB23DB2C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294CE-6167-4468-A1BB-453A152D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D1901-B6DD-4BBA-B9FB-130E5575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2808C-4175-4880-9906-03E841D2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576-C816-4698-AA16-478DA5CE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5525B-741A-48C9-8517-8405253D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DDF6F-05A9-4F65-82CB-9C4E16B9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A08B-1177-4E78-BAB3-F55FE7E8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D4B56-7CCA-4DE8-9463-E0EF293B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00DA6-3A78-4C15-9C4B-8EC4F8E4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73031-4698-4C4D-B82F-5C5D06E0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8B34D-7AFF-473F-9C9E-779EC7C4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69829-E9F5-4F34-93DD-CC4994F5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C5E93-C92E-497E-B121-92DFF728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A1710-E0A0-4D1E-9A03-644F87E9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8D5-D25E-40CC-926B-CEC0018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30305-29F1-41E9-B254-0D865C5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5DF7D-9DDD-4D96-B580-3A0FD5D5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9F3CF-D10F-4165-9DF4-4E85C4EC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67AA3-7EF7-4710-9DD0-3059E7E7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2AFB0-9C0F-43A0-8068-26E4BEC7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22318-27BB-499E-9061-099BC168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6E652-92E5-4814-A113-E343D78D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AB334-673F-4577-9008-8B250E53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50FB4-0FD9-4269-9E2E-FC912336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50FF9-1852-4E3B-A554-530E90F3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904-1C46-4F23-8CD8-23A8E77D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D9B72-70D5-4818-A6F5-BDAF1D30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A29C3-2826-47DE-87F8-C1CD356E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205A1-108C-4F61-9B29-849943D5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4E871-8BC8-4700-801D-7654127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4EED5-6E60-49E4-88DC-7EC2ADA7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152B7-AF1B-4904-9846-D0B09C2A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6423F-A24A-484F-9E7F-A0E4649A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9FA12-4F08-48C5-894D-76DFD7E7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02F50-4E49-4BE3-9C42-5ADFB283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3EA54-3895-4B6D-B418-450F77F1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48E2-092E-40F4-A135-F86D2F327C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77DB-10E7-4776-A0D9-6D203D8E15B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2A0C-1859-452D-BFA6-2AF0343C550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7781-0F57-4044-A2AC-FCF5B20A95A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BE7F-01DB-4751-AF32-3CA0FD2C3F6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3639-0CF4-4251-9073-64F078D05D9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DB02-FB95-4566-A88C-4A006668734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FC36-DFD0-41C9-AB4A-F3873104FE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C39B-1F8A-40A9-9C91-9376EB128B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302C-78C2-4C7B-A14D-DBCC0243115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45ED-4D56-4165-9AC1-AB0407BF286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Image7958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40244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xxsx3bp14"/>
          <p:cNvPicPr/>
          <p:nvPr/>
        </p:nvPicPr>
        <p:blipFill>
          <a:blip r:embed="rId1"/>
          <a:srcRect l="10028" t="57354" r="12923" b="19234"/>
          <a:stretch/>
        </p:blipFill>
        <p:spPr>
          <a:xfrm>
            <a:off x="324000" y="1916280"/>
            <a:ext cx="8820000" cy="372888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3"/>
          <p:cNvGrpSpPr/>
          <p:nvPr/>
        </p:nvGrpSpPr>
        <p:grpSpPr>
          <a:xfrm>
            <a:off x="1548000" y="2757600"/>
            <a:ext cx="502920" cy="1143000"/>
            <a:chOff x="1548000" y="2757600"/>
            <a:chExt cx="502920" cy="1143000"/>
          </a:xfrm>
        </p:grpSpPr>
        <p:pic>
          <p:nvPicPr>
            <p:cNvPr id="607" name="Picture 4" descr="xxsx3bp14"/>
            <p:cNvPicPr/>
            <p:nvPr/>
          </p:nvPicPr>
          <p:blipFill>
            <a:blip r:embed="rId2"/>
            <a:srcRect l="62435" t="62583" r="32986" b="30220"/>
            <a:stretch/>
          </p:blipFill>
          <p:spPr>
            <a:xfrm flipH="1">
              <a:off x="1548000" y="275760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Line 5"/>
            <p:cNvSpPr/>
            <p:nvPr/>
          </p:nvSpPr>
          <p:spPr>
            <a:xfrm>
              <a:off x="2050920" y="330768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09" name="Group 6"/>
          <p:cNvGrpSpPr/>
          <p:nvPr/>
        </p:nvGrpSpPr>
        <p:grpSpPr>
          <a:xfrm>
            <a:off x="3665520" y="3912840"/>
            <a:ext cx="502920" cy="1143000"/>
            <a:chOff x="3665520" y="3912840"/>
            <a:chExt cx="502920" cy="1143000"/>
          </a:xfrm>
        </p:grpSpPr>
        <p:pic>
          <p:nvPicPr>
            <p:cNvPr id="610" name="Picture 7" descr="xxsx3bp14"/>
            <p:cNvPicPr/>
            <p:nvPr/>
          </p:nvPicPr>
          <p:blipFill>
            <a:blip r:embed="rId3"/>
            <a:srcRect l="62435" t="62583" r="32986" b="30220"/>
            <a:stretch/>
          </p:blipFill>
          <p:spPr>
            <a:xfrm flipH="1" rot="10800000">
              <a:off x="3666600" y="391284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Line 8"/>
            <p:cNvSpPr/>
            <p:nvPr/>
          </p:nvSpPr>
          <p:spPr>
            <a:xfrm flipV="1">
              <a:off x="3665520" y="392832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12" name="Group 9"/>
          <p:cNvGrpSpPr/>
          <p:nvPr/>
        </p:nvGrpSpPr>
        <p:grpSpPr>
          <a:xfrm>
            <a:off x="5781960" y="2752560"/>
            <a:ext cx="502920" cy="1143000"/>
            <a:chOff x="5781960" y="2752560"/>
            <a:chExt cx="502920" cy="1143000"/>
          </a:xfrm>
        </p:grpSpPr>
        <p:pic>
          <p:nvPicPr>
            <p:cNvPr id="613" name="Picture 10" descr="xxsx3bp14"/>
            <p:cNvPicPr/>
            <p:nvPr/>
          </p:nvPicPr>
          <p:blipFill>
            <a:blip r:embed="rId4"/>
            <a:srcRect l="62435" t="62583" r="32986" b="30220"/>
            <a:stretch/>
          </p:blipFill>
          <p:spPr>
            <a:xfrm flipH="1">
              <a:off x="5781960" y="2752560"/>
              <a:ext cx="5018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Line 11"/>
            <p:cNvSpPr/>
            <p:nvPr/>
          </p:nvSpPr>
          <p:spPr>
            <a:xfrm>
              <a:off x="6284880" y="3302640"/>
              <a:ext cx="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5" name="Text Box 12"/>
          <p:cNvSpPr/>
          <p:nvPr/>
        </p:nvSpPr>
        <p:spPr>
          <a:xfrm>
            <a:off x="755640" y="981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方格纸上画出轴对称图形的另一半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512" descr="图片1"/>
          <p:cNvPicPr/>
          <p:nvPr/>
        </p:nvPicPr>
        <p:blipFill>
          <a:blip r:embed="rId1"/>
          <a:stretch/>
        </p:blipFill>
        <p:spPr>
          <a:xfrm>
            <a:off x="2268360" y="2133720"/>
            <a:ext cx="719280" cy="24476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"/>
          <p:cNvSpPr/>
          <p:nvPr/>
        </p:nvSpPr>
        <p:spPr>
          <a:xfrm>
            <a:off x="900000" y="75420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094480" y="539640"/>
            <a:ext cx="385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堂活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a5644e"/>
                </a:solidFill>
                <a:latin typeface="Arial"/>
                <a:ea typeface="宋体"/>
              </a:rPr>
              <a:t>画出下面图形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另一半</a:t>
            </a:r>
            <a:r>
              <a:rPr b="1" lang="en-US" sz="3200" spc="-1" strike="noStrike">
                <a:solidFill>
                  <a:srgbClr val="a5644e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9" name="Group 5"/>
          <p:cNvGrpSpPr/>
          <p:nvPr/>
        </p:nvGrpSpPr>
        <p:grpSpPr>
          <a:xfrm>
            <a:off x="1371600" y="5456160"/>
            <a:ext cx="6781680" cy="925560"/>
            <a:chOff x="1371600" y="5456160"/>
            <a:chExt cx="6781680" cy="925560"/>
          </a:xfrm>
        </p:grpSpPr>
        <p:pic>
          <p:nvPicPr>
            <p:cNvPr id="620" name="Picture 6" descr="6"/>
            <p:cNvPicPr/>
            <p:nvPr/>
          </p:nvPicPr>
          <p:blipFill>
            <a:blip r:embed="rId2"/>
            <a:stretch/>
          </p:blipFill>
          <p:spPr>
            <a:xfrm>
              <a:off x="1371600" y="5760720"/>
              <a:ext cx="685800" cy="6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7" descr="15"/>
            <p:cNvPicPr/>
            <p:nvPr/>
          </p:nvPicPr>
          <p:blipFill>
            <a:blip r:embed="rId3"/>
            <a:stretch/>
          </p:blipFill>
          <p:spPr>
            <a:xfrm>
              <a:off x="5943600" y="560844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8" descr="22"/>
            <p:cNvPicPr/>
            <p:nvPr/>
          </p:nvPicPr>
          <p:blipFill>
            <a:blip r:embed="rId4"/>
            <a:stretch/>
          </p:blipFill>
          <p:spPr>
            <a:xfrm>
              <a:off x="4343400" y="5684760"/>
              <a:ext cx="762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9" descr="23"/>
            <p:cNvPicPr/>
            <p:nvPr/>
          </p:nvPicPr>
          <p:blipFill>
            <a:blip r:embed="rId5"/>
            <a:stretch/>
          </p:blipFill>
          <p:spPr>
            <a:xfrm>
              <a:off x="7467480" y="5684760"/>
              <a:ext cx="68580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10" descr="33"/>
            <p:cNvPicPr/>
            <p:nvPr/>
          </p:nvPicPr>
          <p:blipFill>
            <a:blip r:embed="rId6"/>
            <a:stretch/>
          </p:blipFill>
          <p:spPr>
            <a:xfrm>
              <a:off x="2743200" y="545616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5" name="Picture 656" descr="图片7"/>
          <p:cNvPicPr/>
          <p:nvPr/>
        </p:nvPicPr>
        <p:blipFill>
          <a:blip r:embed="rId7"/>
          <a:stretch/>
        </p:blipFill>
        <p:spPr>
          <a:xfrm>
            <a:off x="4284720" y="2924280"/>
            <a:ext cx="343836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"/>
          <p:cNvGraphicFramePr/>
          <p:nvPr/>
        </p:nvGraphicFramePr>
        <p:xfrm>
          <a:off x="1581120" y="1341360"/>
          <a:ext cx="6086520" cy="4064040"/>
        </p:xfrm>
        <a:graphic>
          <a:graphicData uri="http://schemas.openxmlformats.org/drawingml/2006/table">
            <a:tbl>
              <a:tblPr/>
              <a:tblGrid>
                <a:gridCol w="676440"/>
                <a:gridCol w="676080"/>
                <a:gridCol w="676440"/>
                <a:gridCol w="676080"/>
                <a:gridCol w="676440"/>
                <a:gridCol w="676080"/>
                <a:gridCol w="676440"/>
                <a:gridCol w="676080"/>
                <a:gridCol w="6764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7" name="Picture 724" descr="图片1"/>
          <p:cNvPicPr/>
          <p:nvPr/>
        </p:nvPicPr>
        <p:blipFill>
          <a:blip r:embed="rId8"/>
          <a:stretch/>
        </p:blipFill>
        <p:spPr>
          <a:xfrm>
            <a:off x="2843280" y="2133720"/>
            <a:ext cx="790560" cy="2447640"/>
          </a:xfrm>
          <a:prstGeom prst="rect">
            <a:avLst/>
          </a:prstGeom>
          <a:ln w="0">
            <a:noFill/>
          </a:ln>
        </p:spPr>
      </p:pic>
      <p:sp>
        <p:nvSpPr>
          <p:cNvPr id="628" name="Line 725"/>
          <p:cNvSpPr/>
          <p:nvPr/>
        </p:nvSpPr>
        <p:spPr>
          <a:xfrm>
            <a:off x="2916360" y="1341360"/>
            <a:ext cx="0" cy="403236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29" name="Picture 735" descr="图片7"/>
          <p:cNvPicPr/>
          <p:nvPr/>
        </p:nvPicPr>
        <p:blipFill>
          <a:blip r:embed="rId9"/>
          <a:stretch/>
        </p:blipFill>
        <p:spPr>
          <a:xfrm>
            <a:off x="4284720" y="2139840"/>
            <a:ext cx="3438360" cy="857520"/>
          </a:xfrm>
          <a:prstGeom prst="rect">
            <a:avLst/>
          </a:prstGeom>
          <a:ln w="0">
            <a:noFill/>
          </a:ln>
        </p:spPr>
      </p:pic>
      <p:sp>
        <p:nvSpPr>
          <p:cNvPr id="630" name="Line 736"/>
          <p:cNvSpPr/>
          <p:nvPr/>
        </p:nvSpPr>
        <p:spPr>
          <a:xfrm>
            <a:off x="4067280" y="2997360"/>
            <a:ext cx="388944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2"/>
          <p:cNvSpPr/>
          <p:nvPr/>
        </p:nvSpPr>
        <p:spPr>
          <a:xfrm>
            <a:off x="457344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755640" y="26028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练一练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3" name="Text Box 27"/>
          <p:cNvSpPr/>
          <p:nvPr/>
        </p:nvSpPr>
        <p:spPr>
          <a:xfrm>
            <a:off x="611280" y="105264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Text Box 28"/>
          <p:cNvSpPr/>
          <p:nvPr/>
        </p:nvSpPr>
        <p:spPr>
          <a:xfrm>
            <a:off x="539640" y="1197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在方格纸上画出下面图形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另一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1332000" y="1881360"/>
          <a:ext cx="6254640" cy="4144680"/>
        </p:xfrm>
        <a:graphic>
          <a:graphicData uri="http://schemas.openxmlformats.org/drawingml/2006/table">
            <a:tbl>
              <a:tblPr/>
              <a:tblGrid>
                <a:gridCol w="625320"/>
                <a:gridCol w="625680"/>
                <a:gridCol w="625320"/>
                <a:gridCol w="625320"/>
                <a:gridCol w="625680"/>
                <a:gridCol w="625320"/>
                <a:gridCol w="625680"/>
                <a:gridCol w="625320"/>
                <a:gridCol w="625680"/>
                <a:gridCol w="62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6" name="Picture 168" descr="图片12"/>
          <p:cNvPicPr/>
          <p:nvPr/>
        </p:nvPicPr>
        <p:blipFill>
          <a:blip r:embed="rId1"/>
          <a:stretch/>
        </p:blipFill>
        <p:spPr>
          <a:xfrm>
            <a:off x="1946160" y="2822400"/>
            <a:ext cx="1257480" cy="21909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69" descr="图片12"/>
          <p:cNvPicPr/>
          <p:nvPr/>
        </p:nvPicPr>
        <p:blipFill>
          <a:blip r:embed="rId2"/>
          <a:stretch/>
        </p:blipFill>
        <p:spPr>
          <a:xfrm>
            <a:off x="3203640" y="2822400"/>
            <a:ext cx="1257120" cy="21909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78" descr="图片15"/>
          <p:cNvPicPr/>
          <p:nvPr/>
        </p:nvPicPr>
        <p:blipFill>
          <a:blip r:embed="rId3"/>
          <a:stretch/>
        </p:blipFill>
        <p:spPr>
          <a:xfrm>
            <a:off x="5048280" y="3429000"/>
            <a:ext cx="1971720" cy="53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79" descr="图片15"/>
          <p:cNvPicPr/>
          <p:nvPr/>
        </p:nvPicPr>
        <p:blipFill>
          <a:blip r:embed="rId4"/>
          <a:stretch/>
        </p:blipFill>
        <p:spPr>
          <a:xfrm>
            <a:off x="5048280" y="3933720"/>
            <a:ext cx="1971720" cy="533520"/>
          </a:xfrm>
          <a:prstGeom prst="rect">
            <a:avLst/>
          </a:prstGeom>
          <a:ln w="0">
            <a:noFill/>
          </a:ln>
        </p:spPr>
      </p:pic>
      <p:sp>
        <p:nvSpPr>
          <p:cNvPr id="640" name="Line 180"/>
          <p:cNvSpPr/>
          <p:nvPr/>
        </p:nvSpPr>
        <p:spPr>
          <a:xfrm>
            <a:off x="3203640" y="2421000"/>
            <a:ext cx="0" cy="30956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Line 181"/>
          <p:cNvSpPr/>
          <p:nvPr/>
        </p:nvSpPr>
        <p:spPr>
          <a:xfrm>
            <a:off x="4643280" y="3933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2463840" cy="1351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u=3700756704,2857821100&amp;gp=-26"/>
          <p:cNvPicPr/>
          <p:nvPr/>
        </p:nvPicPr>
        <p:blipFill>
          <a:blip r:embed="rId2"/>
          <a:stretch/>
        </p:blipFill>
        <p:spPr>
          <a:xfrm>
            <a:off x="420840" y="1484280"/>
            <a:ext cx="2279520" cy="3673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u=4144399373,217081363&amp;gp=-36"/>
          <p:cNvPicPr/>
          <p:nvPr/>
        </p:nvPicPr>
        <p:blipFill>
          <a:blip r:embed="rId3"/>
          <a:stretch/>
        </p:blipFill>
        <p:spPr>
          <a:xfrm>
            <a:off x="4788000" y="141300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1" descr="20060626090758295"/>
          <p:cNvPicPr/>
          <p:nvPr/>
        </p:nvPicPr>
        <p:blipFill>
          <a:blip r:embed="rId4"/>
          <a:stretch/>
        </p:blipFill>
        <p:spPr>
          <a:xfrm>
            <a:off x="3132000" y="4292640"/>
            <a:ext cx="5116680" cy="115236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12"/>
          <p:cNvSpPr/>
          <p:nvPr/>
        </p:nvSpPr>
        <p:spPr>
          <a:xfrm>
            <a:off x="1968120" y="566640"/>
            <a:ext cx="45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面的图形哪些是轴对称图形？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1042920" y="5229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2914560" y="3429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3203640" y="544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4859280" y="5516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6156360" y="5516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7523280" y="5589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6012000" y="37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xxsx3bp13"/>
          <p:cNvPicPr/>
          <p:nvPr/>
        </p:nvPicPr>
        <p:blipFill>
          <a:blip r:embed="rId1"/>
          <a:srcRect l="9757" t="6941" r="4721" b="46927"/>
          <a:stretch/>
        </p:blipFill>
        <p:spPr>
          <a:xfrm>
            <a:off x="34920" y="-27000"/>
            <a:ext cx="9145440" cy="6864480"/>
          </a:xfrm>
          <a:prstGeom prst="rect">
            <a:avLst/>
          </a:prstGeom>
          <a:ln w="0">
            <a:noFill/>
          </a:ln>
        </p:spPr>
      </p:pic>
      <p:grpSp>
        <p:nvGrpSpPr>
          <p:cNvPr id="513" name="Group 3"/>
          <p:cNvGrpSpPr/>
          <p:nvPr/>
        </p:nvGrpSpPr>
        <p:grpSpPr>
          <a:xfrm>
            <a:off x="4572000" y="2276640"/>
            <a:ext cx="863640" cy="574560"/>
            <a:chOff x="4572000" y="2276640"/>
            <a:chExt cx="863640" cy="574560"/>
          </a:xfrm>
        </p:grpSpPr>
        <p:sp>
          <p:nvSpPr>
            <p:cNvPr id="514" name="Line 4"/>
            <p:cNvSpPr/>
            <p:nvPr/>
          </p:nvSpPr>
          <p:spPr>
            <a:xfrm>
              <a:off x="4572000" y="2635200"/>
              <a:ext cx="288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5" name="Line 5"/>
            <p:cNvSpPr/>
            <p:nvPr/>
          </p:nvSpPr>
          <p:spPr>
            <a:xfrm flipV="1">
              <a:off x="4860720" y="2276640"/>
              <a:ext cx="57492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16" name="Group 6"/>
          <p:cNvGrpSpPr/>
          <p:nvPr/>
        </p:nvGrpSpPr>
        <p:grpSpPr>
          <a:xfrm>
            <a:off x="7308720" y="4221000"/>
            <a:ext cx="863640" cy="574560"/>
            <a:chOff x="7308720" y="4221000"/>
            <a:chExt cx="863640" cy="574560"/>
          </a:xfrm>
        </p:grpSpPr>
        <p:sp>
          <p:nvSpPr>
            <p:cNvPr id="517" name="Line 7"/>
            <p:cNvSpPr/>
            <p:nvPr/>
          </p:nvSpPr>
          <p:spPr>
            <a:xfrm>
              <a:off x="7308720" y="4579560"/>
              <a:ext cx="288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 flipV="1">
              <a:off x="7597440" y="4221000"/>
              <a:ext cx="57492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19" name="Group 9"/>
          <p:cNvGrpSpPr/>
          <p:nvPr/>
        </p:nvGrpSpPr>
        <p:grpSpPr>
          <a:xfrm>
            <a:off x="1476360" y="4292640"/>
            <a:ext cx="863640" cy="574560"/>
            <a:chOff x="1476360" y="4292640"/>
            <a:chExt cx="863640" cy="574560"/>
          </a:xfrm>
        </p:grpSpPr>
        <p:sp>
          <p:nvSpPr>
            <p:cNvPr id="520" name="Line 10"/>
            <p:cNvSpPr/>
            <p:nvPr/>
          </p:nvSpPr>
          <p:spPr>
            <a:xfrm>
              <a:off x="1476360" y="4651200"/>
              <a:ext cx="288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Line 11"/>
            <p:cNvSpPr/>
            <p:nvPr/>
          </p:nvSpPr>
          <p:spPr>
            <a:xfrm flipV="1">
              <a:off x="1765080" y="4292640"/>
              <a:ext cx="57492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2" name="Group 12"/>
          <p:cNvGrpSpPr/>
          <p:nvPr/>
        </p:nvGrpSpPr>
        <p:grpSpPr>
          <a:xfrm>
            <a:off x="7020000" y="2565360"/>
            <a:ext cx="863640" cy="574560"/>
            <a:chOff x="7020000" y="2565360"/>
            <a:chExt cx="863640" cy="574560"/>
          </a:xfrm>
        </p:grpSpPr>
        <p:sp>
          <p:nvSpPr>
            <p:cNvPr id="523" name="Line 13"/>
            <p:cNvSpPr/>
            <p:nvPr/>
          </p:nvSpPr>
          <p:spPr>
            <a:xfrm>
              <a:off x="7020000" y="2923920"/>
              <a:ext cx="288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4" name="Line 14"/>
            <p:cNvSpPr/>
            <p:nvPr/>
          </p:nvSpPr>
          <p:spPr>
            <a:xfrm flipV="1">
              <a:off x="7308720" y="2565360"/>
              <a:ext cx="57492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7812000" y="6021360"/>
            <a:ext cx="863640" cy="574560"/>
            <a:chOff x="7812000" y="6021360"/>
            <a:chExt cx="863640" cy="574560"/>
          </a:xfrm>
        </p:grpSpPr>
        <p:sp>
          <p:nvSpPr>
            <p:cNvPr id="526" name="Line 16"/>
            <p:cNvSpPr/>
            <p:nvPr/>
          </p:nvSpPr>
          <p:spPr>
            <a:xfrm>
              <a:off x="7812000" y="6379920"/>
              <a:ext cx="288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7" name="Line 17"/>
            <p:cNvSpPr/>
            <p:nvPr/>
          </p:nvSpPr>
          <p:spPr>
            <a:xfrm flipV="1">
              <a:off x="8100720" y="6021360"/>
              <a:ext cx="57492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4140360" y="6093000"/>
            <a:ext cx="862920" cy="574560"/>
            <a:chOff x="4140360" y="6093000"/>
            <a:chExt cx="862920" cy="574560"/>
          </a:xfrm>
        </p:grpSpPr>
        <p:sp>
          <p:nvSpPr>
            <p:cNvPr id="529" name="Line 19"/>
            <p:cNvSpPr/>
            <p:nvPr/>
          </p:nvSpPr>
          <p:spPr>
            <a:xfrm>
              <a:off x="4140360" y="6451560"/>
              <a:ext cx="288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0" name="Line 20"/>
            <p:cNvSpPr/>
            <p:nvPr/>
          </p:nvSpPr>
          <p:spPr>
            <a:xfrm flipV="1">
              <a:off x="4428720" y="6093000"/>
              <a:ext cx="574560" cy="574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1" name="Line 21"/>
          <p:cNvSpPr/>
          <p:nvPr/>
        </p:nvSpPr>
        <p:spPr>
          <a:xfrm>
            <a:off x="4614840" y="784080"/>
            <a:ext cx="14400" cy="238140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Line 22"/>
          <p:cNvSpPr/>
          <p:nvPr/>
        </p:nvSpPr>
        <p:spPr>
          <a:xfrm>
            <a:off x="1951200" y="2832120"/>
            <a:ext cx="0" cy="172872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Line 23"/>
          <p:cNvSpPr/>
          <p:nvPr/>
        </p:nvSpPr>
        <p:spPr>
          <a:xfrm>
            <a:off x="3214800" y="4849920"/>
            <a:ext cx="0" cy="172872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Line 24"/>
          <p:cNvSpPr/>
          <p:nvPr/>
        </p:nvSpPr>
        <p:spPr>
          <a:xfrm flipH="1">
            <a:off x="6429240" y="938160"/>
            <a:ext cx="1758960" cy="188604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Line 25"/>
          <p:cNvSpPr/>
          <p:nvPr/>
        </p:nvSpPr>
        <p:spPr>
          <a:xfrm>
            <a:off x="7335720" y="4702320"/>
            <a:ext cx="0" cy="199224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Line 26"/>
          <p:cNvSpPr/>
          <p:nvPr/>
        </p:nvSpPr>
        <p:spPr>
          <a:xfrm flipH="1">
            <a:off x="6489720" y="2933640"/>
            <a:ext cx="1682640" cy="1700280"/>
          </a:xfrm>
          <a:prstGeom prst="line">
            <a:avLst/>
          </a:prstGeom>
          <a:ln w="2844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xxsx3bp14"/>
          <p:cNvPicPr/>
          <p:nvPr/>
        </p:nvPicPr>
        <p:blipFill>
          <a:blip r:embed="rId1"/>
          <a:srcRect l="7061" t="6941" r="13437" b="53078"/>
          <a:stretch/>
        </p:blipFill>
        <p:spPr>
          <a:xfrm>
            <a:off x="0" y="189000"/>
            <a:ext cx="9144000" cy="63961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3"/>
          <p:cNvGrpSpPr/>
          <p:nvPr/>
        </p:nvGrpSpPr>
        <p:grpSpPr>
          <a:xfrm>
            <a:off x="3995640" y="3141720"/>
            <a:ext cx="505080" cy="358560"/>
            <a:chOff x="3995640" y="3141720"/>
            <a:chExt cx="505080" cy="358560"/>
          </a:xfrm>
        </p:grpSpPr>
        <p:sp>
          <p:nvSpPr>
            <p:cNvPr id="539" name="Line 4"/>
            <p:cNvSpPr/>
            <p:nvPr/>
          </p:nvSpPr>
          <p:spPr>
            <a:xfrm>
              <a:off x="3995640" y="3365280"/>
              <a:ext cx="16884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0" name="Line 5"/>
            <p:cNvSpPr/>
            <p:nvPr/>
          </p:nvSpPr>
          <p:spPr>
            <a:xfrm flipV="1">
              <a:off x="4164480" y="3141720"/>
              <a:ext cx="336240" cy="35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1" name="Group 6"/>
          <p:cNvGrpSpPr/>
          <p:nvPr/>
        </p:nvGrpSpPr>
        <p:grpSpPr>
          <a:xfrm>
            <a:off x="5940360" y="3212640"/>
            <a:ext cx="504360" cy="358920"/>
            <a:chOff x="5940360" y="3212640"/>
            <a:chExt cx="504360" cy="358920"/>
          </a:xfrm>
        </p:grpSpPr>
        <p:sp>
          <p:nvSpPr>
            <p:cNvPr id="542" name="Line 7"/>
            <p:cNvSpPr/>
            <p:nvPr/>
          </p:nvSpPr>
          <p:spPr>
            <a:xfrm>
              <a:off x="5940360" y="3436920"/>
              <a:ext cx="16848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V="1">
              <a:off x="6108840" y="3212640"/>
              <a:ext cx="335880" cy="358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4" name="Group 9"/>
          <p:cNvGrpSpPr/>
          <p:nvPr/>
        </p:nvGrpSpPr>
        <p:grpSpPr>
          <a:xfrm>
            <a:off x="8101080" y="3141720"/>
            <a:ext cx="504360" cy="358560"/>
            <a:chOff x="8101080" y="3141720"/>
            <a:chExt cx="504360" cy="358560"/>
          </a:xfrm>
        </p:grpSpPr>
        <p:sp>
          <p:nvSpPr>
            <p:cNvPr id="545" name="Line 10"/>
            <p:cNvSpPr/>
            <p:nvPr/>
          </p:nvSpPr>
          <p:spPr>
            <a:xfrm>
              <a:off x="8101080" y="3365280"/>
              <a:ext cx="16848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Line 11"/>
            <p:cNvSpPr/>
            <p:nvPr/>
          </p:nvSpPr>
          <p:spPr>
            <a:xfrm flipV="1">
              <a:off x="8269560" y="3141720"/>
              <a:ext cx="335880" cy="35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7" name="Group 12"/>
          <p:cNvGrpSpPr/>
          <p:nvPr/>
        </p:nvGrpSpPr>
        <p:grpSpPr>
          <a:xfrm>
            <a:off x="1763640" y="4797000"/>
            <a:ext cx="504360" cy="358920"/>
            <a:chOff x="1763640" y="4797000"/>
            <a:chExt cx="504360" cy="358920"/>
          </a:xfrm>
        </p:grpSpPr>
        <p:sp>
          <p:nvSpPr>
            <p:cNvPr id="548" name="Line 13"/>
            <p:cNvSpPr/>
            <p:nvPr/>
          </p:nvSpPr>
          <p:spPr>
            <a:xfrm>
              <a:off x="1763640" y="5021280"/>
              <a:ext cx="16848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Line 14"/>
            <p:cNvSpPr/>
            <p:nvPr/>
          </p:nvSpPr>
          <p:spPr>
            <a:xfrm flipV="1">
              <a:off x="1932120" y="4797000"/>
              <a:ext cx="335880" cy="358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50" name="Group 15"/>
          <p:cNvGrpSpPr/>
          <p:nvPr/>
        </p:nvGrpSpPr>
        <p:grpSpPr>
          <a:xfrm>
            <a:off x="4037040" y="4865760"/>
            <a:ext cx="504360" cy="358560"/>
            <a:chOff x="4037040" y="4865760"/>
            <a:chExt cx="504360" cy="358560"/>
          </a:xfrm>
        </p:grpSpPr>
        <p:sp>
          <p:nvSpPr>
            <p:cNvPr id="551" name="Line 16"/>
            <p:cNvSpPr/>
            <p:nvPr/>
          </p:nvSpPr>
          <p:spPr>
            <a:xfrm>
              <a:off x="4037040" y="5089320"/>
              <a:ext cx="16848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2" name="Line 17"/>
            <p:cNvSpPr/>
            <p:nvPr/>
          </p:nvSpPr>
          <p:spPr>
            <a:xfrm flipV="1">
              <a:off x="4205520" y="4865760"/>
              <a:ext cx="335880" cy="35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53" name="Group 18"/>
          <p:cNvGrpSpPr/>
          <p:nvPr/>
        </p:nvGrpSpPr>
        <p:grpSpPr>
          <a:xfrm>
            <a:off x="5940360" y="4869000"/>
            <a:ext cx="504360" cy="358560"/>
            <a:chOff x="5940360" y="4869000"/>
            <a:chExt cx="504360" cy="358560"/>
          </a:xfrm>
        </p:grpSpPr>
        <p:sp>
          <p:nvSpPr>
            <p:cNvPr id="554" name="Line 19"/>
            <p:cNvSpPr/>
            <p:nvPr/>
          </p:nvSpPr>
          <p:spPr>
            <a:xfrm>
              <a:off x="5940360" y="5092560"/>
              <a:ext cx="168480" cy="134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Line 20"/>
            <p:cNvSpPr/>
            <p:nvPr/>
          </p:nvSpPr>
          <p:spPr>
            <a:xfrm flipV="1">
              <a:off x="6108840" y="4869000"/>
              <a:ext cx="335880" cy="358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5"/>
          <p:cNvSpPr/>
          <p:nvPr/>
        </p:nvSpPr>
        <p:spPr>
          <a:xfrm>
            <a:off x="1332000" y="22860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宋体"/>
              </a:rPr>
              <a:t>连一连。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2567160" y="1733400"/>
            <a:ext cx="4009680" cy="3391200"/>
          </a:xfrm>
          <a:prstGeom prst="rect">
            <a:avLst/>
          </a:prstGeom>
          <a:ln w="0">
            <a:noFill/>
          </a:ln>
        </p:spPr>
      </p:pic>
      <p:sp>
        <p:nvSpPr>
          <p:cNvPr id="558" name="Line 8"/>
          <p:cNvSpPr/>
          <p:nvPr/>
        </p:nvSpPr>
        <p:spPr>
          <a:xfrm>
            <a:off x="3564000" y="2276640"/>
            <a:ext cx="1800000" cy="23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 flipV="1">
            <a:off x="3635280" y="2349360"/>
            <a:ext cx="172872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Line 11"/>
          <p:cNvSpPr/>
          <p:nvPr/>
        </p:nvSpPr>
        <p:spPr>
          <a:xfrm flipV="1">
            <a:off x="3564000" y="3357360"/>
            <a:ext cx="1800000" cy="12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2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9266400" cy="1566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7561080" cy="4500360"/>
          </a:xfrm>
          <a:prstGeom prst="rect">
            <a:avLst/>
          </a:prstGeom>
          <a:ln w="0">
            <a:noFill/>
          </a:ln>
        </p:spPr>
      </p:pic>
      <p:sp>
        <p:nvSpPr>
          <p:cNvPr id="563" name="Line 6"/>
          <p:cNvSpPr/>
          <p:nvPr/>
        </p:nvSpPr>
        <p:spPr>
          <a:xfrm>
            <a:off x="1835280" y="2997360"/>
            <a:ext cx="3744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Line 7"/>
          <p:cNvSpPr/>
          <p:nvPr/>
        </p:nvSpPr>
        <p:spPr>
          <a:xfrm>
            <a:off x="4067280" y="2852640"/>
            <a:ext cx="3673440" cy="237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Line 8"/>
          <p:cNvSpPr/>
          <p:nvPr/>
        </p:nvSpPr>
        <p:spPr>
          <a:xfrm flipH="1">
            <a:off x="1907640" y="3068640"/>
            <a:ext cx="381636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Line 9"/>
          <p:cNvSpPr/>
          <p:nvPr/>
        </p:nvSpPr>
        <p:spPr>
          <a:xfrm flipH="1">
            <a:off x="3995640" y="2997360"/>
            <a:ext cx="410544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xxsx3bp12"/>
          <p:cNvPicPr/>
          <p:nvPr/>
        </p:nvPicPr>
        <p:blipFill>
          <a:blip r:embed="rId1"/>
          <a:srcRect l="18808" t="65120" r="73105" b="23002"/>
          <a:stretch/>
        </p:blipFill>
        <p:spPr>
          <a:xfrm>
            <a:off x="955800" y="2305080"/>
            <a:ext cx="1736640" cy="35449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" descr="xxsx3bp12"/>
          <p:cNvPicPr/>
          <p:nvPr/>
        </p:nvPicPr>
        <p:blipFill>
          <a:blip r:embed="rId2"/>
          <a:srcRect l="73105" t="65120" r="18808" b="23002"/>
          <a:stretch/>
        </p:blipFill>
        <p:spPr>
          <a:xfrm>
            <a:off x="2685960" y="2306520"/>
            <a:ext cx="1576440" cy="3544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xxsx3bp12"/>
          <p:cNvPicPr/>
          <p:nvPr/>
        </p:nvPicPr>
        <p:blipFill>
          <a:blip r:embed="rId3"/>
          <a:srcRect l="52985" t="65048" r="39291" b="23156"/>
          <a:stretch/>
        </p:blipFill>
        <p:spPr>
          <a:xfrm>
            <a:off x="4402080" y="1859040"/>
            <a:ext cx="1841400" cy="39132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xxsx3bp12"/>
          <p:cNvPicPr/>
          <p:nvPr/>
        </p:nvPicPr>
        <p:blipFill>
          <a:blip r:embed="rId4"/>
          <a:srcRect l="39291" t="65048" r="52985" b="23156"/>
          <a:stretch/>
        </p:blipFill>
        <p:spPr>
          <a:xfrm>
            <a:off x="6202440" y="1859040"/>
            <a:ext cx="1841400" cy="3913200"/>
          </a:xfrm>
          <a:prstGeom prst="rect">
            <a:avLst/>
          </a:prstGeom>
          <a:ln w="0">
            <a:noFill/>
          </a:ln>
        </p:spPr>
      </p:pic>
      <p:sp>
        <p:nvSpPr>
          <p:cNvPr id="571" name="Line 6"/>
          <p:cNvSpPr/>
          <p:nvPr/>
        </p:nvSpPr>
        <p:spPr>
          <a:xfrm>
            <a:off x="2700360" y="2060640"/>
            <a:ext cx="0" cy="4032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>
            <a:off x="6227640" y="1844640"/>
            <a:ext cx="0" cy="4321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73" name="Picture 8" descr=""/>
          <p:cNvPicPr/>
          <p:nvPr/>
        </p:nvPicPr>
        <p:blipFill>
          <a:blip r:embed="rId5"/>
          <a:stretch/>
        </p:blipFill>
        <p:spPr>
          <a:xfrm>
            <a:off x="684360" y="766800"/>
            <a:ext cx="76327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83" descr="图片13"/>
          <p:cNvPicPr/>
          <p:nvPr/>
        </p:nvPicPr>
        <p:blipFill>
          <a:blip r:embed="rId1"/>
          <a:srcRect l="0" t="0" r="7477" b="-9430"/>
          <a:stretch/>
        </p:blipFill>
        <p:spPr>
          <a:xfrm>
            <a:off x="2268360" y="2728800"/>
            <a:ext cx="784440" cy="8445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1779480" y="1617840"/>
            <a:ext cx="567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900000" y="660240"/>
            <a:ext cx="7488360" cy="119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644e"/>
                </a:solidFill>
                <a:latin typeface="Times New Roman"/>
                <a:ea typeface="宋体"/>
              </a:rPr>
              <a:t>   </a:t>
            </a:r>
            <a:r>
              <a:rPr b="1" lang="zh-CN" sz="4400" spc="-1" strike="noStrike">
                <a:solidFill>
                  <a:srgbClr val="a5644e"/>
                </a:solidFill>
                <a:latin typeface="Times New Roman"/>
                <a:ea typeface="宋体"/>
              </a:rPr>
              <a:t>画出下面图形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另一半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5919840" y="343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523880" y="2131920"/>
          <a:ext cx="2327400" cy="2017800"/>
        </p:xfrm>
        <a:graphic>
          <a:graphicData uri="http://schemas.openxmlformats.org/drawingml/2006/table">
            <a:tbl>
              <a:tblPr/>
              <a:tblGrid>
                <a:gridCol w="776520"/>
                <a:gridCol w="734760"/>
                <a:gridCol w="81612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5124600" y="2189160"/>
          <a:ext cx="2327040" cy="2031840"/>
        </p:xfrm>
        <a:graphic>
          <a:graphicData uri="http://schemas.openxmlformats.org/drawingml/2006/table">
            <a:tbl>
              <a:tblPr/>
              <a:tblGrid>
                <a:gridCol w="776160"/>
                <a:gridCol w="735120"/>
                <a:gridCol w="8157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Oval 81"/>
          <p:cNvSpPr/>
          <p:nvPr/>
        </p:nvSpPr>
        <p:spPr>
          <a:xfrm>
            <a:off x="684360" y="620640"/>
            <a:ext cx="502920" cy="79236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82"/>
          <p:cNvSpPr/>
          <p:nvPr/>
        </p:nvSpPr>
        <p:spPr>
          <a:xfrm>
            <a:off x="684360" y="6922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2" name="Picture 84" descr="图片13"/>
          <p:cNvPicPr/>
          <p:nvPr/>
        </p:nvPicPr>
        <p:blipFill>
          <a:blip r:embed="rId2"/>
          <a:srcRect l="0" t="0" r="7477" b="-9430"/>
          <a:stretch/>
        </p:blipFill>
        <p:spPr>
          <a:xfrm>
            <a:off x="5875200" y="2800440"/>
            <a:ext cx="784440" cy="844560"/>
          </a:xfrm>
          <a:prstGeom prst="rect">
            <a:avLst/>
          </a:prstGeom>
          <a:ln w="0">
            <a:noFill/>
          </a:ln>
        </p:spPr>
      </p:pic>
      <p:sp>
        <p:nvSpPr>
          <p:cNvPr id="583" name="Line 85"/>
          <p:cNvSpPr/>
          <p:nvPr/>
        </p:nvSpPr>
        <p:spPr>
          <a:xfrm>
            <a:off x="1547640" y="2133720"/>
            <a:ext cx="2303640" cy="20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4" name="Picture 92" descr="图片13"/>
          <p:cNvPicPr/>
          <p:nvPr/>
        </p:nvPicPr>
        <p:blipFill>
          <a:blip r:embed="rId3"/>
          <a:srcRect l="7477" t="-9430" r="0" b="0"/>
          <a:stretch/>
        </p:blipFill>
        <p:spPr>
          <a:xfrm>
            <a:off x="5867280" y="2728800"/>
            <a:ext cx="784440" cy="844560"/>
          </a:xfrm>
          <a:prstGeom prst="rect">
            <a:avLst/>
          </a:prstGeom>
          <a:ln w="0">
            <a:noFill/>
          </a:ln>
        </p:spPr>
      </p:pic>
      <p:sp>
        <p:nvSpPr>
          <p:cNvPr id="585" name="Line 90"/>
          <p:cNvSpPr/>
          <p:nvPr/>
        </p:nvSpPr>
        <p:spPr>
          <a:xfrm>
            <a:off x="5148360" y="2205000"/>
            <a:ext cx="2303280" cy="20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AutoShape 93"/>
          <p:cNvSpPr/>
          <p:nvPr/>
        </p:nvSpPr>
        <p:spPr>
          <a:xfrm>
            <a:off x="4211640" y="285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7" name="Picture 155" descr="1152146842326"/>
          <p:cNvPicPr/>
          <p:nvPr/>
        </p:nvPicPr>
        <p:blipFill>
          <a:blip r:embed="rId4"/>
          <a:stretch/>
        </p:blipFill>
        <p:spPr>
          <a:xfrm>
            <a:off x="209520" y="5300640"/>
            <a:ext cx="86104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685800" y="1484280"/>
          <a:ext cx="3094200" cy="310824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5880"/>
                <a:gridCol w="514440"/>
                <a:gridCol w="515880"/>
                <a:gridCol w="516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078520" y="1557360"/>
          <a:ext cx="3093840" cy="3108240"/>
        </p:xfrm>
        <a:graphic>
          <a:graphicData uri="http://schemas.openxmlformats.org/drawingml/2006/table">
            <a:tbl>
              <a:tblPr/>
              <a:tblGrid>
                <a:gridCol w="501480"/>
                <a:gridCol w="530280"/>
                <a:gridCol w="515880"/>
                <a:gridCol w="514440"/>
                <a:gridCol w="515880"/>
                <a:gridCol w="515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Line 332"/>
          <p:cNvSpPr/>
          <p:nvPr/>
        </p:nvSpPr>
        <p:spPr>
          <a:xfrm>
            <a:off x="226836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1" name="Picture 345" descr="图片15"/>
          <p:cNvPicPr/>
          <p:nvPr/>
        </p:nvPicPr>
        <p:blipFill>
          <a:blip r:embed="rId1"/>
          <a:stretch/>
        </p:blipFill>
        <p:spPr>
          <a:xfrm>
            <a:off x="1692360" y="2492280"/>
            <a:ext cx="561960" cy="10810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49" descr="图片15"/>
          <p:cNvPicPr/>
          <p:nvPr/>
        </p:nvPicPr>
        <p:blipFill>
          <a:blip r:embed="rId2"/>
          <a:stretch/>
        </p:blipFill>
        <p:spPr>
          <a:xfrm>
            <a:off x="6084720" y="2563920"/>
            <a:ext cx="562320" cy="10810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50" descr="图片15"/>
          <p:cNvPicPr/>
          <p:nvPr/>
        </p:nvPicPr>
        <p:blipFill>
          <a:blip r:embed="rId3"/>
          <a:stretch/>
        </p:blipFill>
        <p:spPr>
          <a:xfrm>
            <a:off x="6640560" y="2565360"/>
            <a:ext cx="523800" cy="1079640"/>
          </a:xfrm>
          <a:prstGeom prst="rect">
            <a:avLst/>
          </a:prstGeom>
          <a:ln w="0">
            <a:noFill/>
          </a:ln>
        </p:spPr>
      </p:pic>
      <p:sp>
        <p:nvSpPr>
          <p:cNvPr id="594" name="Line 353"/>
          <p:cNvSpPr/>
          <p:nvPr/>
        </p:nvSpPr>
        <p:spPr>
          <a:xfrm>
            <a:off x="2268360" y="1484280"/>
            <a:ext cx="0" cy="3097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Line 354"/>
          <p:cNvSpPr/>
          <p:nvPr/>
        </p:nvSpPr>
        <p:spPr>
          <a:xfrm>
            <a:off x="6659640" y="1557360"/>
            <a:ext cx="0" cy="3097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AutoShape 355"/>
          <p:cNvSpPr/>
          <p:nvPr/>
        </p:nvSpPr>
        <p:spPr>
          <a:xfrm>
            <a:off x="3995640" y="30686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7" name="Group 356"/>
          <p:cNvGrpSpPr/>
          <p:nvPr/>
        </p:nvGrpSpPr>
        <p:grpSpPr>
          <a:xfrm>
            <a:off x="1260360" y="549360"/>
            <a:ext cx="7127640" cy="364680"/>
            <a:chOff x="1260360" y="549360"/>
            <a:chExt cx="7127640" cy="364680"/>
          </a:xfrm>
        </p:grpSpPr>
        <p:sp>
          <p:nvSpPr>
            <p:cNvPr id="598" name="Line 357"/>
            <p:cNvSpPr/>
            <p:nvPr/>
          </p:nvSpPr>
          <p:spPr>
            <a:xfrm>
              <a:off x="1260360" y="671040"/>
              <a:ext cx="2741400" cy="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9" name="Line 358"/>
            <p:cNvSpPr/>
            <p:nvPr/>
          </p:nvSpPr>
          <p:spPr>
            <a:xfrm>
              <a:off x="5646600" y="671040"/>
              <a:ext cx="2741400" cy="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0" name="AutoShape 359"/>
            <p:cNvSpPr/>
            <p:nvPr/>
          </p:nvSpPr>
          <p:spPr>
            <a:xfrm>
              <a:off x="4001760" y="549360"/>
              <a:ext cx="457200" cy="243000"/>
            </a:xfrm>
            <a:prstGeom prst="diamond">
              <a:avLst/>
            </a:prstGeom>
            <a:noFill/>
            <a:ln w="1908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1" name="AutoShape 360"/>
            <p:cNvSpPr/>
            <p:nvPr/>
          </p:nvSpPr>
          <p:spPr>
            <a:xfrm>
              <a:off x="5189760" y="549360"/>
              <a:ext cx="456480" cy="243000"/>
            </a:xfrm>
            <a:prstGeom prst="diamond">
              <a:avLst/>
            </a:prstGeom>
            <a:noFill/>
            <a:ln w="1908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2" name="AutoShape 361"/>
            <p:cNvSpPr/>
            <p:nvPr/>
          </p:nvSpPr>
          <p:spPr>
            <a:xfrm>
              <a:off x="4458960" y="549360"/>
              <a:ext cx="730800" cy="364680"/>
            </a:xfrm>
            <a:prstGeom prst="diamond">
              <a:avLst/>
            </a:prstGeom>
            <a:noFill/>
            <a:ln w="1908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fbeec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603" name="Picture 362" descr="017"/>
          <p:cNvPicPr/>
          <p:nvPr/>
        </p:nvPicPr>
        <p:blipFill>
          <a:blip r:embed="rId4"/>
          <a:stretch/>
        </p:blipFill>
        <p:spPr>
          <a:xfrm>
            <a:off x="430200" y="3333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63" descr="1152146842326"/>
          <p:cNvPicPr/>
          <p:nvPr/>
        </p:nvPicPr>
        <p:blipFill>
          <a:blip r:embed="rId5"/>
          <a:stretch/>
        </p:blipFill>
        <p:spPr>
          <a:xfrm>
            <a:off x="209520" y="5300640"/>
            <a:ext cx="861048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0:41:26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9:01Z</dcterms:modified>
  <cp:revision>25</cp:revision>
  <dc:subject>www.12999.com</dc:subject>
  <dc:title>www.12999.com</dc:title>
</cp:coreProperties>
</file>