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8.jpeg" ContentType="image/jpeg"/>
  <Override PartName="/ppt/media/image15.png" ContentType="image/png"/>
  <Override PartName="/ppt/media/image5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0.gif" ContentType="image/gif"/>
  <Override PartName="/ppt/media/image16.jpeg" ContentType="image/jpeg"/>
  <Override PartName="/ppt/media/chimes.wav" ContentType="audio/x-wav"/>
  <Override PartName="/ppt/media/drumroll.wav" ContentType="audio/x-wav"/>
  <Override PartName="/ppt/media/image19.png" ContentType="image/png"/>
  <Override PartName="/ppt/media/image6.wmf" ContentType="image/x-wmf"/>
  <Override PartName="/ppt/media/image20.gif" ContentType="image/gif"/>
  <Override PartName="/ppt/media/image13.jpeg" ContentType="image/jpeg"/>
  <Override PartName="/ppt/media/image11.png" ContentType="image/png"/>
  <Override PartName="/ppt/media/coin.wav" ContentType="audio/x-wav"/>
  <Override PartName="/ppt/media/image8.png" ContentType="image/png"/>
  <Override PartName="/ppt/media/image21.gif" ContentType="image/gif"/>
  <Override PartName="/ppt/media/image4.jpeg" ContentType="image/jpeg"/>
  <Override PartName="/ppt/media/suction.wav" ContentType="audio/x-wav"/>
  <Override PartName="/ppt/media/hammer.wav" ContentType="audio/x-wav"/>
  <Override PartName="/ppt/media/image2.jpeg" ContentType="image/jpeg"/>
  <Override PartName="/ppt/media/image3.jpeg" ContentType="image/jpeg"/>
  <Override PartName="/ppt/media/voltage.wav" ContentType="audio/x-wav"/>
  <Override PartName="/ppt/media/type.wav" ContentType="audio/x-wav"/>
  <Override PartName="/ppt/media/image14.gif" ContentType="image/gif"/>
  <Override PartName="/ppt/media/whoosh.wav" ContentType="audio/x-wav"/>
  <Override PartName="/ppt/media/breeze.wav" ContentType="audio/x-wav"/>
  <Override PartName="/ppt/media/applause.wav" ContentType="audio/x-wav"/>
  <Override PartName="/ppt/media/image17.jpeg" ContentType="image/jpeg"/>
  <Override PartName="/ppt/media/image12.gif" ContentType="image/gif"/>
  <Override PartName="/ppt/media/CAMERA.WAV" ContentType="audio/x-wav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363-2EF0-479E-9CF2-206C96BF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CF1B-78FF-4D3D-AC8E-B74BC4BA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54E38-712C-482E-A202-01CA7343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5C395-6EB3-46E6-BEA5-7A70485C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8530A-1E50-4249-ACDF-465ECFCC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40490-0B42-4AEA-9C73-CF4EBFB4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16873-7B71-4C2F-B91E-9D947A35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18A86-5D14-4F73-9BA7-5F9FE1A6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911C9-C677-4199-A740-824285C7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29860-CC92-4626-87E1-CC517498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48EA6-63E9-4695-B336-CA80E649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3E489-3F8B-4138-93B0-40113207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D16-A7EF-4A61-8B12-45D9A5B2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284B1-46E0-4B3B-94E5-60993EFA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E0119-CF79-4396-84A9-95A7B0CF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D78D8-2CC1-435E-B451-0A1E3200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B4423-8B14-4E29-B126-3F7E9529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29A86-973C-4F69-A636-57E1CF32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8CAAE-47BD-4AC2-A5C1-685A6F2B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4C8E6-81B8-47F2-94B8-F592B870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C8DA2-B4CE-4558-AC47-70254D4E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5E018-4FA4-4E45-B1A3-BF1CEBCB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AC648-DF4E-4498-8BC6-07D8C4C8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9B6-834C-4706-8C4A-10520ABF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1D9D8-A997-4417-893B-39F9BB95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17A65-A457-48AA-8D34-DF04838C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B0737-2822-4335-8848-C0646597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39614-A27D-4E07-BB56-A5DCE471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8D105-1826-4208-89BB-79DEA92B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65D97-1FEA-4DE6-906E-8590E433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D9D41-2964-4AAC-8230-739D4256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3F65A-8531-4F83-9405-7C24CC08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6FB89-BADA-4F4D-BF16-AC305119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0D439-8A3C-46D0-A9BB-E6AEE1E6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F5A0-B3BB-4F5B-BADD-364B1CBC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90F65-BE71-4355-B47A-015F8410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79797-9CD0-498D-A006-762896A2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364CA-8748-414B-8320-8282E1BA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C681E8-EE24-45A0-8415-96BB818B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B7437A-7C98-48CD-9180-BF717BFC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AA74EF-CA14-42D6-AA60-941F197C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DAEC18-DDCB-4DCC-8D9F-7431EF3D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974012-F2FE-4558-B586-E3232ADC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4F97BA-E0A2-4C4D-895F-5AEBBEC0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5DA5C2-D523-4C8B-8F75-7FDE6A78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D210-989C-4A53-A0E7-0E1F6E7B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6E2177-62F7-4986-996B-D6067C18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E88F9C-C08C-402B-9DCD-578A6422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8D5C22-9F87-422C-8C1F-B14107DB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27DA3C-1AE2-4A97-BCAF-F8929647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E29B0A-B7E4-49A5-8E7F-053F765F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E49E1-9FC6-45E7-B4D9-5AC92E9E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3AA92-79E7-4289-A322-CA346D06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0AEE06-6C1D-4EDD-993A-55984354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5F566-4DD7-48B5-B7C7-CB7D4F17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3BFFE-225D-435C-9A0B-C93E5ABC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4D82-0FD2-4376-8618-CA0018E2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4B88C-17A2-40ED-8F22-05B51932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2C68C-8DAA-446E-879E-5CB8A163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5B99C-2474-44F4-AFA7-EF9DCBFE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1212E4-8B4A-4AC3-8EB9-0D8EB84E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1AA0F-09A2-4ED0-B0E1-0C68081E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41CC6-E7C2-4A88-824B-B89FEBBD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A56BE-815A-4A97-A6D9-24C40E99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7D90BB-FE61-4CFA-A1E9-8BD14759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C844B3-93D3-4CF2-84EA-F3E6DEF2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CA6F5E-E225-417E-8146-4699A758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4865-3E3B-4313-B7B7-66770FAF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081187-946A-48FF-B5D9-9B3B7641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74A06B-5CB7-44E5-A495-94CB5E8B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2079E4-3278-429C-B979-83F9B954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94BCF1-5AC3-480C-AA3F-3B685BE2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97E83-10A2-48AE-9685-927B84A1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4F596D-E402-49E7-927A-78E4AC1D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77D16F-1FF7-4089-9C68-71D032B5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FB669F-D5B7-4209-8C80-97D26BAA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25FAEA-A2A7-4F23-A0D8-5967D4E4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EEE7A1-76C0-45DB-B2FD-10CF4C28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E047-00FE-4E03-8033-98B4BCB3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166E28-327C-4008-867E-C6D07F9C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63E2E8-2DF7-49B4-B7DE-3649119D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8C3095-D190-4598-810A-B963EC0A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2981F5-506D-4A5E-9536-7F28A650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9FC00-A6EA-4BF3-98CD-B6C35188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5C360B-076A-4AF4-A467-577A3EE1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31F1F1-4765-470A-BF64-2D1C8250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D81136-A0B3-437F-B6AD-EE558367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721088-743D-42AE-A76D-03F8B58C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DC7408-9C25-43BB-85A6-3039B455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9A9E-8F7B-4A84-B693-BB30A1AB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98BBC1-68C0-40E6-8732-59F02BF2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FBFE2D-AA81-4C7B-A0D3-38C456B6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43DBC1-95CE-45C0-ACCA-DD8C8A98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A6D93E-52ED-493F-89CF-4C2872F6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B25A25-C396-4494-BBE0-5EF0CEF2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4ABAB0-6592-455F-81A0-038AF765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7D2A3A-17FE-4107-8F9D-5FF05B51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C710EE-B5AF-4AD4-BACE-CD14648F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0B3AD9-2A41-472A-8538-A29ED042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BB6515-E438-44C8-B3B3-E6AC15ED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7D17-76F9-4785-B48E-5E957E5F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706ED9-1F37-4B4A-AFD8-15579E53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604FE3-DF4E-4593-9600-1D52CCC3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793A76-1F7B-46E1-A3F1-ABC1AE32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08E9-8832-49F7-B9E1-250F2A8F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4FA3-22F3-4952-828A-70586613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F632-673D-4064-983F-A0536141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8347-FF93-4FFF-9261-33657BE2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2FE8-EC6B-4109-990A-BD9754AE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D2EB-CC34-41AD-8B56-55D9A4A1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F9232-18C9-44E3-9508-96488D94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F15F0-5EC6-47AF-8593-512A2DDD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05A9E-BE18-47D5-B16D-9F296957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72363-BA8F-4660-8C08-5C5A85D7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5A634-9A12-4319-AE0E-FFCEE969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018-AF8C-407C-9A5B-EA4752DD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3DF18-5506-4BB1-80B2-5DAA5128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9B615-1F19-4ED5-9D4B-F2E2E364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FEC61-8570-4723-A31A-E54AA721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B2EF1-85C4-4D9A-B6F0-3CDA4854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BEB2F-5C45-451C-9597-C567C02E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FBB3B-4D02-4007-90A1-BE4943E0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3214C-47D5-4EF9-803B-4CD02E7D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7C1EB-33E8-498F-AD47-FAB65BEA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FFC2A-0F17-4E25-BF26-751A2435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0EA20-142A-4C64-8237-120F26F6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AF0-DC3C-45C9-B0B1-796724A7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5C326-DFC5-4A24-8086-8CE288FD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E795D-37F5-4A28-97A0-82B02A9E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558B2-6FD3-44FE-B29C-79449D87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B3AF3-0657-4563-851E-3732C4BA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3BE25-2CAF-4EFF-AF2D-6B1DA472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65EF1-26B4-4998-9084-3DF77379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C114D-B8B8-4676-9F1E-406511F0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BE719-4DFC-4990-B030-2B15B663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00C28-527B-4287-814A-9924E372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48E6B-CE95-42A8-9C91-CD0FDBCF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6CC-CDC2-4D77-A0F4-C91D2AFE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F9B8E-513C-4C6C-88F3-08B2E8F0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35B41-20B4-4EE2-B686-D9E7E8EA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55ED9-DE42-4CE2-80A9-73246ADD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9AA15-ED8B-4C37-AD5A-2268CC42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812E2-790A-4B86-B3A4-7800CF90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19B6E-5936-4572-8322-B445F991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B072A-5360-4737-B2B0-CF6BF67F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0F522-7766-4861-B2D1-676E11BE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2C488-16C3-482B-81F1-4D9E22B6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07E2E-217F-4A53-B305-AB88D227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444-AA3D-4236-BBDF-17FB3824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D4AA7-671F-444B-B926-142D4CF4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E8282-383D-4BF1-8196-76174790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D8972-B1BF-45FB-BDAD-5E76BAC9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6B674-967A-4C20-AD1E-3EBD66AA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D9AC5-585F-438E-9485-54CF807A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43AB3-2AC4-4391-ADAD-BF56A520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1D529-AC49-4560-8650-DB63FFE1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24BA1-4200-4543-9514-96775B7F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AFF53-F7CC-4411-A22B-AE06A629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83871-ED20-43B1-98E1-55A237C8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C844-24AA-43EC-8F77-DD0FB098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9CAC2-937D-4152-B389-DA3C9966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034FC-7AE4-453B-99DA-8C9CF531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29FE8-457D-4B9D-BB48-5C5B3D77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19C4A-466A-4B87-B789-2C1AE0FF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F541B-A28C-4BAE-B79D-0AFA8F96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A6DCA-B741-45A3-8901-D2D0DF82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657B5-888D-4DE3-B85E-B1ACF3A3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8E10D-334E-4953-A68B-3EFC063F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F507F-7052-4348-BE65-DF8543C7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F8252-AA37-409E-8D29-3DB30707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DF4-C316-4613-993D-88151391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59170-5A47-4BB2-BDFB-82C26195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79E82-5E4D-48C8-B906-311D5A00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18976-AF67-4B6F-8565-F1F285E7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D3493-CB7F-41CB-B123-2DE1D16A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3AFC0-0C38-493E-9D81-C8AE0507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69E07-1C2E-40A2-9733-FCA72B54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2EA2E-59B5-4BA8-9BC8-7C7401C2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954D1-B670-495B-A304-32739BCE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3EE9A-333D-4504-A8B7-688A11D0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EBCBD-79F1-4758-9381-C87D5A1C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092D-DB38-46FB-8807-D6D01476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7BE6F-1107-446E-A215-E01BEFE5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73C92-B724-43BD-A036-37488DA3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4F3D8-456E-4AFA-98E2-071560E4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E666F-8F40-468C-BC0B-62D0B3A0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4AD2F-4C48-4587-A31E-16BA3F52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41F34-C28E-4FBE-98A0-06417FE7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71E93-3D42-4D92-B611-C8F9D396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7F336-440C-4AE7-8616-FC20911C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D8284-C0A9-42EA-BB06-86D30FD0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88D1E-D2B7-43B2-8205-D8B362F0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3045-6BC7-4F60-9361-107F9A20278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424080" y="1523880"/>
            <a:ext cx="1033560" cy="2895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平面直角坐标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94F0-3BA4-4CEA-9819-1FE0ACA825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-424080" y="1523880"/>
            <a:ext cx="1033560" cy="2895840"/>
          </a:xfrm>
          <a:prstGeom prst="rect">
            <a:avLst/>
          </a:prstGeom>
          <a:solidFill>
            <a:srgbClr val="b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a4"/>
                </a:solidFill>
                <a:latin typeface="Times New Roman"/>
                <a:ea typeface="华文行楷"/>
              </a:rPr>
              <a:t>平面直角坐标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1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1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2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2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9895-B00B-48A7-BE32-D2188F9275F7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7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7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8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8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EACC-3C0B-4EB3-A2E5-63B376A5CFDB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2087-16F3-4C34-A0E2-E5B7B4596486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4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56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7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7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7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7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28AC-B77E-4F11-A507-9BE20D4998D7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2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3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63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63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64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64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85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86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89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4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4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D875-8CD5-4E52-9D2E-F43F37F9C1E1}" type="slidenum">
              <a:rPr b="1" lang="zh-CN" sz="2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33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73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dt" idx="4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ftr" idx="4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sldNum" idx="4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D6D2-CF40-4631-A2F5-C383CF853CE4}" type="slidenum">
              <a:rPr b="1" lang="zh-CN" sz="2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1A5C-7698-4F4F-9897-3C832B6FDF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0C8D-5D83-413B-A524-90A98945E9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424080" y="1523880"/>
            <a:ext cx="1033560" cy="2895840"/>
          </a:xfrm>
          <a:prstGeom prst="rect">
            <a:avLst/>
          </a:prstGeom>
          <a:solidFill>
            <a:srgbClr val="b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a4"/>
                </a:solidFill>
                <a:latin typeface="Times New Roman"/>
                <a:ea typeface="华文行楷"/>
              </a:rPr>
              <a:t>平面直角坐标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CEF9-B562-430B-B41E-CC59A2F6BF9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AFA6-6B5A-4BFE-9046-0E2DC9081D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424080" y="1523880"/>
            <a:ext cx="1033560" cy="289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平面直角坐标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2DCB-B2DC-4022-8883-C167398A07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424080" y="1523880"/>
            <a:ext cx="1033560" cy="289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平面直角坐标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EA5C-F50E-4907-8198-84848CDB807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424080" y="1523880"/>
            <a:ext cx="1033560" cy="28958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平面直角坐标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BEFF-E900-4870-B0C9-B3CA295E221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82ED-6ED9-4606-95CF-E79CC57FE4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-424080" y="1523880"/>
            <a:ext cx="1033560" cy="2895840"/>
          </a:xfrm>
          <a:prstGeom prst="rect">
            <a:avLst/>
          </a:prstGeom>
          <a:solidFill>
            <a:srgbClr val="b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a4"/>
                </a:solidFill>
                <a:latin typeface="Times New Roman"/>
                <a:ea typeface="华文行楷"/>
              </a:rPr>
              <a:t>平面直角坐标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image" Target="../media/image10.gif"/><Relationship Id="rId9" Type="http://schemas.openxmlformats.org/officeDocument/2006/relationships/audio" Target="file:///tmp/home/.config/libreoffice/4/user/gallery/hammer.wav" TargetMode="External"/><Relationship Id="rId10" Type="http://schemas.microsoft.com/office/2007/relationships/media" Target="file:///tmp/home/.config/libreoffice/4/user/gallery/hammer.wav" TargetMode="Externa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2.gif"/><Relationship Id="rId14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audio" Target="../media/suction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audio" Target="../media/suction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audio" Target="../media/hammer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4.xml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3.jpeg"/><Relationship Id="rId3" Type="http://schemas.openxmlformats.org/officeDocument/2006/relationships/audio" Target="../media/hammer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3.xml"/><Relationship Id="rId7" Type="http://schemas.openxmlformats.org/officeDocument/2006/relationships/slide" Target="slide10.xml"/><Relationship Id="rId8" Type="http://schemas.openxmlformats.org/officeDocument/2006/relationships/slide" Target="slide15.xml"/><Relationship Id="rId9" Type="http://schemas.openxmlformats.org/officeDocument/2006/relationships/slide" Target="slide20.xml"/><Relationship Id="rId10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19.png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4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audio" Target="../media/chimes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audio" Target="../media/hammer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audio" Target="../media/whoosh.wav"/><Relationship Id="rId6" Type="http://schemas.openxmlformats.org/officeDocument/2006/relationships/audio" Target="../media/chimes.wav"/><Relationship Id="rId7" Type="http://schemas.openxmlformats.org/officeDocument/2006/relationships/audio" Target="../media/hammer.wav"/><Relationship Id="rId8" Type="http://schemas.openxmlformats.org/officeDocument/2006/relationships/audio" Target="../media/whoo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audio" Target="../media/chimes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audio" Target="../media/hammer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chimes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hammer.wav"/><Relationship Id="rId19" Type="http://schemas.openxmlformats.org/officeDocument/2006/relationships/audio" Target="../media/suction.wav"/><Relationship Id="rId20" Type="http://schemas.openxmlformats.org/officeDocument/2006/relationships/audio" Target="../media/hammer.wav"/><Relationship Id="rId21" Type="http://schemas.openxmlformats.org/officeDocument/2006/relationships/audio" Target="../media/chimes.wav"/><Relationship Id="rId22" Type="http://schemas.openxmlformats.org/officeDocument/2006/relationships/audio" Target="../media/suction.wav"/><Relationship Id="rId23" Type="http://schemas.openxmlformats.org/officeDocument/2006/relationships/audio" Target="../media/hammer.wav"/><Relationship Id="rId24" Type="http://schemas.openxmlformats.org/officeDocument/2006/relationships/audio" Target="../media/chimes.wav"/><Relationship Id="rId25" Type="http://schemas.openxmlformats.org/officeDocument/2006/relationships/audio" Target="../media/type.wav"/><Relationship Id="rId26" Type="http://schemas.openxmlformats.org/officeDocument/2006/relationships/audio" Target="../media/suction.wav"/><Relationship Id="rId27" Type="http://schemas.openxmlformats.org/officeDocument/2006/relationships/audio" Target="../media/coin.wav"/><Relationship Id="rId28" Type="http://schemas.openxmlformats.org/officeDocument/2006/relationships/audio" Target="../media/hammer.wav"/><Relationship Id="rId29" Type="http://schemas.openxmlformats.org/officeDocument/2006/relationships/audio" Target="../media/hammer.wav"/><Relationship Id="rId30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hammer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3564000" y="2349360"/>
            <a:ext cx="4895640" cy="4176720"/>
          </a:xfrm>
          <a:custGeom>
            <a:avLst/>
            <a:gdLst>
              <a:gd name="textAreaLeft" fmla="*/ 2432160 w 4895640"/>
              <a:gd name="textAreaRight" fmla="*/ 2463480 w 4895640"/>
              <a:gd name="textAreaTop" fmla="*/ 2075040 h 4176720"/>
              <a:gd name="textAreaBottom" fmla="*/ 210168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731" y="10731"/>
                </a:lnTo>
                <a:lnTo>
                  <a:pt x="10800" y="0"/>
                </a:lnTo>
                <a:lnTo>
                  <a:pt x="10869" y="10731"/>
                </a:lnTo>
                <a:lnTo>
                  <a:pt x="21600" y="10800"/>
                </a:lnTo>
                <a:lnTo>
                  <a:pt x="10869" y="10869"/>
                </a:lnTo>
                <a:lnTo>
                  <a:pt x="10800" y="21600"/>
                </a:lnTo>
                <a:lnTo>
                  <a:pt x="10731" y="10869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0" y="235080"/>
            <a:ext cx="8892720" cy="6622560"/>
            <a:chOff x="0" y="235080"/>
            <a:chExt cx="8892720" cy="6622560"/>
          </a:xfrm>
        </p:grpSpPr>
        <p:pic>
          <p:nvPicPr>
            <p:cNvPr id="780" name="" descr=""/>
            <p:cNvPicPr/>
            <p:nvPr/>
          </p:nvPicPr>
          <p:blipFill>
            <a:blip r:embed="rId1"/>
            <a:stretch/>
          </p:blipFill>
          <p:spPr>
            <a:xfrm>
              <a:off x="0" y="5268240"/>
              <a:ext cx="1543320" cy="1589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81" name=""/>
            <p:cNvGraphicFramePr/>
            <p:nvPr/>
          </p:nvGraphicFramePr>
          <p:xfrm>
            <a:off x="0" y="378720"/>
            <a:ext cx="1543320" cy="159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8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378720"/>
                      <a:ext cx="1543320" cy="159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3" name=""/>
            <p:cNvGraphicFramePr/>
            <p:nvPr/>
          </p:nvGraphicFramePr>
          <p:xfrm>
            <a:off x="7496280" y="235080"/>
            <a:ext cx="1396440" cy="1592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496280" y="235080"/>
                      <a:ext cx="1396440" cy="159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5" name=""/>
            <p:cNvGraphicFramePr/>
            <p:nvPr/>
          </p:nvGraphicFramePr>
          <p:xfrm>
            <a:off x="7275960" y="5265000"/>
            <a:ext cx="1543320" cy="1592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275960" y="5265000"/>
                      <a:ext cx="1543320" cy="159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87" name="" descr=""/>
          <p:cNvPicPr/>
          <p:nvPr/>
        </p:nvPicPr>
        <p:blipFill>
          <a:blip r:embed="rId8"/>
          <a:stretch/>
        </p:blipFill>
        <p:spPr>
          <a:xfrm>
            <a:off x="8381880" y="5229360"/>
            <a:ext cx="762120" cy="133344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2052720" y="148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平面直角坐标系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84360" y="5950080"/>
            <a:ext cx="47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Times New Roman"/>
                <a:ea typeface="幼圆"/>
              </a:rPr>
              <a:t>易门县六街中学</a:t>
            </a:r>
            <a:r>
              <a:rPr b="1" lang="zh-CN" sz="2000" spc="-1" strike="noStrike">
                <a:solidFill>
                  <a:srgbClr val="0066ff"/>
                </a:solidFill>
                <a:latin typeface="Broadway"/>
                <a:ea typeface="幼圆"/>
              </a:rPr>
              <a:t>罗云膑 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  <a:ea typeface="幼圆"/>
              </a:rPr>
              <a:t>朱琼梅制作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009520" y="620640"/>
            <a:ext cx="196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b800"/>
                </a:solidFill>
                <a:latin typeface="Broadway"/>
                <a:ea typeface="宋体"/>
              </a:rPr>
              <a:t>北师大版数学教材八年级上册</a:t>
            </a:r>
            <a:br>
              <a:rPr sz="1800"/>
            </a:br>
            <a:r>
              <a:rPr b="1" lang="zh-CN" sz="1800" spc="-1" strike="noStrike">
                <a:solidFill>
                  <a:srgbClr val="ffb800"/>
                </a:solidFill>
                <a:latin typeface="Broadway"/>
                <a:ea typeface="宋体"/>
              </a:rPr>
              <a:t>          </a:t>
            </a:r>
            <a:br>
              <a:rPr sz="1800"/>
            </a:b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1" name="">
            <a:hlinkClick r:id="" action="ppaction://hlinkshowjump?jump=nextslide"/>
          </p:cNvPr>
          <p:cNvSpPr/>
          <p:nvPr/>
        </p:nvSpPr>
        <p:spPr>
          <a:xfrm>
            <a:off x="7236000" y="6237360"/>
            <a:ext cx="863280" cy="576360"/>
          </a:xfrm>
          <a:custGeom>
            <a:avLst/>
            <a:gdLst>
              <a:gd name="textAreaLeft" fmla="*/ 37080 w 863280"/>
              <a:gd name="textAreaRight" fmla="*/ 826200 w 863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46" h="21600">
                <a:moveTo>
                  <a:pt x="0" y="0"/>
                </a:moveTo>
                <a:lnTo>
                  <a:pt x="32346" y="0"/>
                </a:lnTo>
                <a:lnTo>
                  <a:pt x="32346" y="21600"/>
                </a:lnTo>
                <a:lnTo>
                  <a:pt x="0" y="21600"/>
                </a:lnTo>
                <a:close/>
              </a:path>
              <a:path fill="lightenLess" w="32346" h="21600">
                <a:moveTo>
                  <a:pt x="0" y="0"/>
                </a:moveTo>
                <a:lnTo>
                  <a:pt x="32346" y="0"/>
                </a:lnTo>
                <a:lnTo>
                  <a:pt x="30946" y="1400"/>
                </a:lnTo>
                <a:lnTo>
                  <a:pt x="1400" y="1400"/>
                </a:lnTo>
                <a:close/>
              </a:path>
              <a:path fill="darken" w="32346" h="21600">
                <a:moveTo>
                  <a:pt x="32346" y="0"/>
                </a:moveTo>
                <a:lnTo>
                  <a:pt x="32346" y="21600"/>
                </a:lnTo>
                <a:lnTo>
                  <a:pt x="30946" y="20200"/>
                </a:lnTo>
                <a:lnTo>
                  <a:pt x="30946" y="1400"/>
                </a:lnTo>
                <a:close/>
              </a:path>
              <a:path fill="darkenLess" w="32346" h="21600">
                <a:moveTo>
                  <a:pt x="32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6" y="20200"/>
                </a:lnTo>
                <a:close/>
              </a:path>
              <a:path fill="lighten" w="32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6" h="21600">
                <a:moveTo>
                  <a:pt x="9167" y="3794"/>
                </a:moveTo>
                <a:lnTo>
                  <a:pt x="23180" y="10800"/>
                </a:lnTo>
                <a:lnTo>
                  <a:pt x="916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2" name="" descr="">
            <a:hlinkClick r:id="" action="ppaction://media"/>
          </p:cNvPr>
          <p:cNvPicPr/>
          <p:nvPr>
            <a:audi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93" name="">
            <a:hlinkClick r:id="rId12" action="ppaction://hlinksldjump"/>
          </p:cNvPr>
          <p:cNvSpPr/>
          <p:nvPr/>
        </p:nvSpPr>
        <p:spPr>
          <a:xfrm>
            <a:off x="7236000" y="638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Broadway"/>
                <a:ea typeface="华文行楷"/>
              </a:rPr>
              <a:t>上课啦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284720" y="5084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Broadway"/>
                <a:ea typeface="华文行楷"/>
              </a:rPr>
              <a:t>坐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308720" y="4437000"/>
            <a:ext cx="1224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004080" y="188388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7" name="Picture 10" descr="442295725"/>
          <p:cNvPicPr/>
          <p:nvPr/>
        </p:nvPicPr>
        <p:blipFill>
          <a:blip r:embed="rId13"/>
          <a:stretch/>
        </p:blipFill>
        <p:spPr>
          <a:xfrm>
            <a:off x="395280" y="1844640"/>
            <a:ext cx="2195640" cy="294336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1258920" y="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Broadway"/>
                <a:ea typeface="华文中宋"/>
              </a:rPr>
              <a:t>获云南省课件制作赛二等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2222 -0.13873 C 0.01007 -0.13873 0.11598 -0.2837 0.11598 -0.4615 C 0.11598 -0.2837 0.22153 -0.14127 0.35417 -0.14127 C 0.22153 -0.14127 0.11788 0.00647 0.11788 0.18474 C 0.11788 0.00647 0.01007 -0.13873 -0.12222 -0.13873 Z">
                                      <p:cBhvr>
                                        <p:cTn id="12" dur="20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72185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7" name=""/>
          <p:cNvGrpSpPr/>
          <p:nvPr/>
        </p:nvGrpSpPr>
        <p:grpSpPr>
          <a:xfrm>
            <a:off x="1547640" y="533520"/>
            <a:ext cx="6858000" cy="6324480"/>
            <a:chOff x="1547640" y="533520"/>
            <a:chExt cx="6858000" cy="6324480"/>
          </a:xfrm>
        </p:grpSpPr>
        <p:grpSp>
          <p:nvGrpSpPr>
            <p:cNvPr id="1378" name=""/>
            <p:cNvGrpSpPr/>
            <p:nvPr/>
          </p:nvGrpSpPr>
          <p:grpSpPr>
            <a:xfrm>
              <a:off x="4290840" y="533520"/>
              <a:ext cx="838080" cy="6324480"/>
              <a:chOff x="4290840" y="533520"/>
              <a:chExt cx="838080" cy="6324480"/>
            </a:xfrm>
          </p:grpSpPr>
          <p:grpSp>
            <p:nvGrpSpPr>
              <p:cNvPr id="1379" name=""/>
              <p:cNvGrpSpPr/>
              <p:nvPr/>
            </p:nvGrpSpPr>
            <p:grpSpPr>
              <a:xfrm>
                <a:off x="4441680" y="542880"/>
                <a:ext cx="461880" cy="6315120"/>
                <a:chOff x="4441680" y="542880"/>
                <a:chExt cx="461880" cy="631512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4786200" y="3622680"/>
                  <a:ext cx="144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4748040" y="542880"/>
                  <a:ext cx="1440" cy="6315120"/>
                </a:xfrm>
                <a:prstGeom prst="line">
                  <a:avLst/>
                </a:prstGeom>
                <a:ln w="38160">
                  <a:solidFill>
                    <a:srgbClr val="00008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H="1">
                  <a:off x="4707720" y="744480"/>
                  <a:ext cx="155880" cy="180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H="1">
                  <a:off x="4707720" y="116532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H="1">
                  <a:off x="4707720" y="158436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4542120" y="1447920"/>
                  <a:ext cx="146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9900"/>
                      </a:solidFill>
                      <a:latin typeface="MS Sans Serif"/>
                      <a:ea typeface="宋体"/>
                    </a:rPr>
                    <a:t>5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H="1">
                  <a:off x="4707720" y="2004840"/>
                  <a:ext cx="155880" cy="180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 flipH="1">
                  <a:off x="4707720" y="242568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 flipH="1">
                  <a:off x="4707720" y="2860560"/>
                  <a:ext cx="155880" cy="180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H="1">
                  <a:off x="4707720" y="3279600"/>
                  <a:ext cx="155880" cy="180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 flipH="1">
                  <a:off x="4707720" y="412128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 flipH="1">
                  <a:off x="4707720" y="454032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H="1">
                  <a:off x="4707720" y="497520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H="1">
                  <a:off x="4707720" y="539604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flipH="1">
                  <a:off x="4707720" y="5816520"/>
                  <a:ext cx="155880" cy="180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458960" y="5645160"/>
                  <a:ext cx="2293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MS Sans Serif"/>
                      <a:ea typeface="宋体"/>
                    </a:rPr>
                    <a:t>-5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H="1">
                  <a:off x="4707720" y="665640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 flipH="1">
                  <a:off x="4748040" y="6246720"/>
                  <a:ext cx="155520" cy="180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458960" y="4343400"/>
                  <a:ext cx="2293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MS Sans Serif"/>
                      <a:ea typeface="宋体"/>
                    </a:rPr>
                    <a:t>-2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4458960" y="4784760"/>
                  <a:ext cx="2293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9900"/>
                      </a:solidFill>
                      <a:latin typeface="MS Sans Serif"/>
                      <a:ea typeface="宋体"/>
                    </a:rPr>
                    <a:t>-3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4458960" y="5181480"/>
                  <a:ext cx="2293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MS Sans Serif"/>
                      <a:ea typeface="宋体"/>
                    </a:rPr>
                    <a:t>-4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458960" y="3962520"/>
                  <a:ext cx="2293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MS Sans Serif"/>
                      <a:ea typeface="宋体"/>
                    </a:rPr>
                    <a:t>-1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4542120" y="2286000"/>
                  <a:ext cx="146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MS Sans Serif"/>
                      <a:ea typeface="宋体"/>
                    </a:rPr>
                    <a:t>3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4542120" y="2743200"/>
                  <a:ext cx="146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MS Sans Serif"/>
                      <a:ea typeface="宋体"/>
                    </a:rPr>
                    <a:t>2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542120" y="1828800"/>
                  <a:ext cx="146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9900"/>
                      </a:solidFill>
                      <a:latin typeface="MS Sans Serif"/>
                      <a:ea typeface="宋体"/>
                    </a:rPr>
                    <a:t>4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4516560" y="3124080"/>
                  <a:ext cx="146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MS Sans Serif"/>
                      <a:ea typeface="宋体"/>
                    </a:rPr>
                    <a:t>1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4441680" y="6019920"/>
                  <a:ext cx="2142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Times New Roman"/>
                      <a:ea typeface="宋体"/>
                    </a:rPr>
                    <a:t>-6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516560" y="990720"/>
                  <a:ext cx="146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MS Sans Serif"/>
                      <a:ea typeface="宋体"/>
                    </a:rPr>
                    <a:t>6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8" name=""/>
              <p:cNvSpPr/>
              <p:nvPr/>
            </p:nvSpPr>
            <p:spPr>
              <a:xfrm>
                <a:off x="4366800" y="5335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fcd14"/>
                    </a:solidFill>
                    <a:latin typeface="Times New Roman"/>
                    <a:ea typeface="宋体"/>
                  </a:rPr>
                  <a:t>y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290840" y="6400800"/>
                <a:ext cx="7617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1547640" y="3581280"/>
              <a:ext cx="6858000" cy="612360"/>
              <a:chOff x="1547640" y="3581280"/>
              <a:chExt cx="6858000" cy="612360"/>
            </a:xfrm>
          </p:grpSpPr>
          <p:grpSp>
            <p:nvGrpSpPr>
              <p:cNvPr id="1411" name=""/>
              <p:cNvGrpSpPr/>
              <p:nvPr/>
            </p:nvGrpSpPr>
            <p:grpSpPr>
              <a:xfrm>
                <a:off x="1547640" y="3581280"/>
                <a:ext cx="6858000" cy="612360"/>
                <a:chOff x="1547640" y="3581280"/>
                <a:chExt cx="6858000" cy="612360"/>
              </a:xfrm>
            </p:grpSpPr>
            <p:grpSp>
              <p:nvGrpSpPr>
                <p:cNvPr id="1412" name=""/>
                <p:cNvGrpSpPr/>
                <p:nvPr/>
              </p:nvGrpSpPr>
              <p:grpSpPr>
                <a:xfrm>
                  <a:off x="5206680" y="3622680"/>
                  <a:ext cx="422280" cy="155520"/>
                  <a:chOff x="5206680" y="3622680"/>
                  <a:chExt cx="422280" cy="155520"/>
                </a:xfrm>
              </p:grpSpPr>
              <p:sp>
                <p:nvSpPr>
                  <p:cNvPr id="1413" name=""/>
                  <p:cNvSpPr/>
                  <p:nvPr/>
                </p:nvSpPr>
                <p:spPr>
                  <a:xfrm>
                    <a:off x="5206680" y="362268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5627520" y="362268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5" name=""/>
                <p:cNvGrpSpPr/>
                <p:nvPr/>
              </p:nvGrpSpPr>
              <p:grpSpPr>
                <a:xfrm>
                  <a:off x="1547640" y="3581280"/>
                  <a:ext cx="6858000" cy="612360"/>
                  <a:chOff x="1547640" y="3581280"/>
                  <a:chExt cx="6858000" cy="612360"/>
                </a:xfrm>
              </p:grpSpPr>
              <p:sp>
                <p:nvSpPr>
                  <p:cNvPr id="1416" name=""/>
                  <p:cNvSpPr/>
                  <p:nvPr/>
                </p:nvSpPr>
                <p:spPr>
                  <a:xfrm>
                    <a:off x="2666880" y="362268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3087360" y="3622680"/>
                    <a:ext cx="180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3508200" y="362268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3944520" y="3622680"/>
                    <a:ext cx="180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4365360" y="362268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6063840" y="3622680"/>
                    <a:ext cx="180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6484680" y="362268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6905160" y="3622680"/>
                    <a:ext cx="180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7324560" y="362268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7745040" y="3581280"/>
                    <a:ext cx="180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26" name=""/>
                  <p:cNvGrpSpPr/>
                  <p:nvPr/>
                </p:nvGrpSpPr>
                <p:grpSpPr>
                  <a:xfrm>
                    <a:off x="1547640" y="3581280"/>
                    <a:ext cx="6858000" cy="612360"/>
                    <a:chOff x="1547640" y="3581280"/>
                    <a:chExt cx="6858000" cy="612360"/>
                  </a:xfrm>
                </p:grpSpPr>
                <p:sp>
                  <p:nvSpPr>
                    <p:cNvPr id="1427" name=""/>
                    <p:cNvSpPr/>
                    <p:nvPr/>
                  </p:nvSpPr>
                  <p:spPr>
                    <a:xfrm>
                      <a:off x="1623600" y="3732120"/>
                      <a:ext cx="6324840" cy="1800"/>
                    </a:xfrm>
                    <a:prstGeom prst="line">
                      <a:avLst/>
                    </a:prstGeom>
                    <a:ln w="38160">
                      <a:solidFill>
                        <a:srgbClr val="6699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8" name=""/>
                    <p:cNvSpPr/>
                    <p:nvPr/>
                  </p:nvSpPr>
                  <p:spPr>
                    <a:xfrm>
                      <a:off x="1827000" y="3622680"/>
                      <a:ext cx="1440" cy="155520"/>
                    </a:xfrm>
                    <a:prstGeom prst="line">
                      <a:avLst/>
                    </a:prstGeom>
                    <a:ln w="158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9" name=""/>
                    <p:cNvSpPr/>
                    <p:nvPr/>
                  </p:nvSpPr>
                  <p:spPr>
                    <a:xfrm>
                      <a:off x="2247480" y="3622680"/>
                      <a:ext cx="1800" cy="155520"/>
                    </a:xfrm>
                    <a:prstGeom prst="line">
                      <a:avLst/>
                    </a:prstGeom>
                    <a:ln w="158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30" name=""/>
                    <p:cNvGrpSpPr/>
                    <p:nvPr/>
                  </p:nvGrpSpPr>
                  <p:grpSpPr>
                    <a:xfrm>
                      <a:off x="1547640" y="3581280"/>
                      <a:ext cx="6858000" cy="612360"/>
                      <a:chOff x="1547640" y="3581280"/>
                      <a:chExt cx="6858000" cy="612360"/>
                    </a:xfrm>
                  </p:grpSpPr>
                  <p:sp>
                    <p:nvSpPr>
                      <p:cNvPr id="1431" name=""/>
                      <p:cNvSpPr/>
                      <p:nvPr/>
                    </p:nvSpPr>
                    <p:spPr>
                      <a:xfrm>
                        <a:off x="2541240" y="377820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fcd14"/>
                            </a:solidFill>
                            <a:latin typeface="MS Sans Serif"/>
                            <a:ea typeface="宋体"/>
                          </a:rPr>
                          <a:t>-5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2" name=""/>
                      <p:cNvSpPr/>
                      <p:nvPr/>
                    </p:nvSpPr>
                    <p:spPr>
                      <a:xfrm>
                        <a:off x="6823080" y="3809880"/>
                        <a:ext cx="14688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0000"/>
                            </a:solidFill>
                            <a:latin typeface="MS Sans Serif"/>
                            <a:ea typeface="宋体"/>
                          </a:rPr>
                          <a:t>5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3" name=""/>
                      <p:cNvSpPr/>
                      <p:nvPr/>
                    </p:nvSpPr>
                    <p:spPr>
                      <a:xfrm>
                        <a:off x="3298320" y="380988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fcd14"/>
                            </a:solidFill>
                            <a:latin typeface="MS Sans Serif"/>
                            <a:ea typeface="宋体"/>
                          </a:rPr>
                          <a:t>-3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4" name=""/>
                      <p:cNvSpPr/>
                      <p:nvPr/>
                    </p:nvSpPr>
                    <p:spPr>
                      <a:xfrm>
                        <a:off x="2917440" y="379404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0000"/>
                            </a:solidFill>
                            <a:latin typeface="MS Sans Serif"/>
                            <a:ea typeface="宋体"/>
                          </a:rPr>
                          <a:t>-4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5" name=""/>
                      <p:cNvSpPr/>
                      <p:nvPr/>
                    </p:nvSpPr>
                    <p:spPr>
                      <a:xfrm>
                        <a:off x="6409080" y="3809880"/>
                        <a:ext cx="14688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0000"/>
                            </a:solidFill>
                            <a:latin typeface="MS Sans Serif"/>
                            <a:ea typeface="宋体"/>
                          </a:rPr>
                          <a:t>4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6" name=""/>
                      <p:cNvSpPr/>
                      <p:nvPr/>
                    </p:nvSpPr>
                    <p:spPr>
                      <a:xfrm>
                        <a:off x="3755520" y="379404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fcd14"/>
                            </a:solidFill>
                            <a:latin typeface="MS Sans Serif"/>
                            <a:ea typeface="宋体"/>
                          </a:rPr>
                          <a:t>-2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7" name=""/>
                      <p:cNvSpPr/>
                      <p:nvPr/>
                    </p:nvSpPr>
                    <p:spPr>
                      <a:xfrm>
                        <a:off x="5964480" y="3809880"/>
                        <a:ext cx="14688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0000"/>
                            </a:solidFill>
                            <a:latin typeface="MS Sans Serif"/>
                            <a:ea typeface="宋体"/>
                          </a:rPr>
                          <a:t>3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8" name=""/>
                      <p:cNvSpPr/>
                      <p:nvPr/>
                    </p:nvSpPr>
                    <p:spPr>
                      <a:xfrm>
                        <a:off x="4212720" y="379404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fcd14"/>
                            </a:solidFill>
                            <a:latin typeface="MS Sans Serif"/>
                            <a:ea typeface="宋体"/>
                          </a:rPr>
                          <a:t>-1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9" name=""/>
                      <p:cNvSpPr/>
                      <p:nvPr/>
                    </p:nvSpPr>
                    <p:spPr>
                      <a:xfrm>
                        <a:off x="5583240" y="3809880"/>
                        <a:ext cx="14688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fcd14"/>
                            </a:solidFill>
                            <a:latin typeface="MS Sans Serif"/>
                            <a:ea typeface="宋体"/>
                          </a:rPr>
                          <a:t>2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40" name=""/>
                      <p:cNvSpPr/>
                      <p:nvPr/>
                    </p:nvSpPr>
                    <p:spPr>
                      <a:xfrm>
                        <a:off x="5126040" y="3809880"/>
                        <a:ext cx="14688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fcd14"/>
                            </a:solidFill>
                            <a:latin typeface="MS Sans Serif"/>
                            <a:ea typeface="宋体"/>
                          </a:rPr>
                          <a:t>1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41" name=""/>
                      <p:cNvSpPr/>
                      <p:nvPr/>
                    </p:nvSpPr>
                    <p:spPr>
                      <a:xfrm>
                        <a:off x="2155320" y="380988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0000"/>
                            </a:solidFill>
                            <a:latin typeface="MS Sans Serif"/>
                            <a:ea typeface="宋体"/>
                          </a:rPr>
                          <a:t>-6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42" name=""/>
                      <p:cNvSpPr/>
                      <p:nvPr/>
                    </p:nvSpPr>
                    <p:spPr>
                      <a:xfrm>
                        <a:off x="7259760" y="3809880"/>
                        <a:ext cx="14688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fcd14"/>
                            </a:solidFill>
                            <a:latin typeface="MS Sans Serif"/>
                            <a:ea typeface="宋体"/>
                          </a:rPr>
                          <a:t>6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43" name=""/>
                      <p:cNvSpPr/>
                      <p:nvPr/>
                    </p:nvSpPr>
                    <p:spPr>
                      <a:xfrm>
                        <a:off x="4443120" y="3581280"/>
                        <a:ext cx="12952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800" spc="-1" strike="noStrike">
                            <a:solidFill>
                              <a:srgbClr val="007a77"/>
                            </a:solidFill>
                            <a:latin typeface="Times New Roman"/>
                            <a:ea typeface="宋体"/>
                          </a:rPr>
                          <a:t>o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44" name=""/>
                      <p:cNvSpPr/>
                      <p:nvPr/>
                    </p:nvSpPr>
                    <p:spPr>
                      <a:xfrm>
                        <a:off x="1547640" y="3733920"/>
                        <a:ext cx="761760" cy="457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45" name=""/>
                      <p:cNvSpPr/>
                      <p:nvPr/>
                    </p:nvSpPr>
                    <p:spPr>
                      <a:xfrm>
                        <a:off x="7643520" y="3733920"/>
                        <a:ext cx="7621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fcd14"/>
                            </a:solidFill>
                            <a:latin typeface="Times New Roman"/>
                            <a:ea typeface="宋体"/>
                          </a:rPr>
                          <a:t>X</a:t>
                        </a:r>
                        <a:endParaRPr b="0" lang="en-US" sz="24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446" name=""/>
              <p:cNvSpPr/>
              <p:nvPr/>
            </p:nvSpPr>
            <p:spPr>
              <a:xfrm>
                <a:off x="4748040" y="3581280"/>
                <a:ext cx="0" cy="15264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447" name=""/>
          <p:cNvGrpSpPr/>
          <p:nvPr/>
        </p:nvGrpSpPr>
        <p:grpSpPr>
          <a:xfrm>
            <a:off x="7885080" y="5734080"/>
            <a:ext cx="914400" cy="784080"/>
            <a:chOff x="7885080" y="5734080"/>
            <a:chExt cx="914400" cy="784080"/>
          </a:xfrm>
        </p:grpSpPr>
        <p:sp>
          <p:nvSpPr>
            <p:cNvPr id="1448" name=""/>
            <p:cNvSpPr/>
            <p:nvPr/>
          </p:nvSpPr>
          <p:spPr>
            <a:xfrm>
              <a:off x="7885080" y="5756040"/>
              <a:ext cx="184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8037360" y="5734080"/>
              <a:ext cx="762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450" name=""/>
          <p:cNvSpPr/>
          <p:nvPr/>
        </p:nvSpPr>
        <p:spPr>
          <a:xfrm>
            <a:off x="5894280" y="1839960"/>
            <a:ext cx="10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3,4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234200" y="28440"/>
            <a:ext cx="10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2843280" y="1557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-4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6262560" y="53006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-4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692360" y="5013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宋体"/>
              </a:rPr>
              <a:t>-6,-3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700360" y="1557360"/>
            <a:ext cx="12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094440" y="53434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845320" y="1477800"/>
            <a:ext cx="123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108160" y="237492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036880" y="235116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2050920" y="4508640"/>
            <a:ext cx="43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059280" y="51166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宋体"/>
              </a:rPr>
              <a:t>E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276720" y="4869000"/>
            <a:ext cx="123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35280" y="4724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084720" y="15573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宋体"/>
              </a:rPr>
              <a:t>K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110760" y="5300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-3,-4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724800" y="4021200"/>
            <a:ext cx="123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588000" y="450864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宋体"/>
              </a:rPr>
              <a:t>H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6711480" y="450864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5,-2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502320" y="26082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J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315120" y="2320920"/>
            <a:ext cx="58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4559400" y="1496880"/>
            <a:ext cx="58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a77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2289600" y="2349360"/>
            <a:ext cx="12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  <a:ea typeface="宋体"/>
              </a:rPr>
              <a:t>-6,2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987640" y="1916280"/>
            <a:ext cx="144360" cy="1443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6670080" y="2637000"/>
            <a:ext cx="8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宋体"/>
                <a:ea typeface="宋体"/>
              </a:rPr>
              <a:t>（</a:t>
            </a:r>
            <a:r>
              <a:rPr b="1" lang="zh-CN" sz="1800" spc="-1" strike="noStrike">
                <a:solidFill>
                  <a:srgbClr val="009900"/>
                </a:solidFill>
                <a:latin typeface="宋体"/>
                <a:ea typeface="宋体"/>
              </a:rPr>
              <a:t>4,2</a:t>
            </a:r>
            <a:r>
              <a:rPr b="1" lang="zh-CN" sz="1800" spc="-1" strike="noStrike">
                <a:solidFill>
                  <a:srgbClr val="009900"/>
                </a:solidFill>
                <a:latin typeface="宋体"/>
                <a:ea typeface="宋体"/>
              </a:rPr>
              <a:t>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6329520" y="4840200"/>
            <a:ext cx="123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4971960" y="2792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第一象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293920" y="27511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第二象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444040" y="3994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第三象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5230440" y="4100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第四象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0" y="0"/>
            <a:ext cx="44658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Broadway"/>
                <a:ea typeface="华文行楷"/>
              </a:rPr>
              <a:t>问题探究１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Broadway"/>
                <a:ea typeface="华文行楷"/>
              </a:rPr>
              <a:t>　</a:t>
            </a:r>
            <a:r>
              <a:rPr b="1" lang="zh-CN" sz="2400" spc="-1" strike="noStrike">
                <a:solidFill>
                  <a:srgbClr val="ff5050"/>
                </a:solidFill>
                <a:latin typeface="Broadway"/>
                <a:ea typeface="黑体"/>
              </a:rPr>
              <a:t>各个象限中点的坐标的符号特点是什么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5137200" y="3141720"/>
            <a:ext cx="11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1122"/>
                </a:solidFill>
                <a:latin typeface="宋体"/>
                <a:ea typeface="宋体"/>
              </a:rPr>
              <a:t>(+ ,+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268360" y="3068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1122"/>
                </a:solidFill>
                <a:latin typeface="宋体"/>
                <a:ea typeface="宋体"/>
              </a:rPr>
              <a:t>(-</a:t>
            </a:r>
            <a:r>
              <a:rPr b="1" lang="zh-CN" sz="3200" spc="-1" strike="noStrike">
                <a:solidFill>
                  <a:srgbClr val="f91122"/>
                </a:solidFill>
                <a:latin typeface="宋体"/>
                <a:ea typeface="宋体"/>
              </a:rPr>
              <a:t>，</a:t>
            </a:r>
            <a:r>
              <a:rPr b="1" lang="zh-CN" sz="3200" spc="-1" strike="noStrike">
                <a:solidFill>
                  <a:srgbClr val="f91122"/>
                </a:solidFill>
                <a:latin typeface="宋体"/>
                <a:ea typeface="宋体"/>
              </a:rPr>
              <a:t>+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283840" y="4281480"/>
            <a:ext cx="11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1122"/>
                </a:solidFill>
                <a:latin typeface="宋体"/>
                <a:ea typeface="宋体"/>
              </a:rPr>
              <a:t>(-</a:t>
            </a:r>
            <a:r>
              <a:rPr b="1" lang="zh-CN" sz="3200" spc="-1" strike="noStrike">
                <a:solidFill>
                  <a:srgbClr val="f91122"/>
                </a:solidFill>
                <a:latin typeface="宋体"/>
                <a:ea typeface="宋体"/>
              </a:rPr>
              <a:t>，</a:t>
            </a:r>
            <a:r>
              <a:rPr b="1" lang="zh-CN" sz="3200" spc="-1" strike="noStrike">
                <a:solidFill>
                  <a:srgbClr val="f91122"/>
                </a:solidFill>
                <a:latin typeface="宋体"/>
                <a:ea typeface="宋体"/>
              </a:rPr>
              <a:t>-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007600" y="4440240"/>
            <a:ext cx="12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1122"/>
                </a:solidFill>
                <a:latin typeface="宋体"/>
                <a:ea typeface="宋体"/>
              </a:rPr>
              <a:t>(+</a:t>
            </a:r>
            <a:r>
              <a:rPr b="1" lang="zh-CN" sz="3200" spc="-1" strike="noStrike">
                <a:solidFill>
                  <a:srgbClr val="f91122"/>
                </a:solidFill>
                <a:latin typeface="宋体"/>
                <a:ea typeface="宋体"/>
              </a:rPr>
              <a:t>，</a:t>
            </a:r>
            <a:r>
              <a:rPr b="1" lang="zh-CN" sz="3200" spc="-1" strike="noStrike">
                <a:solidFill>
                  <a:srgbClr val="f91122"/>
                </a:solidFill>
                <a:latin typeface="宋体"/>
                <a:ea typeface="宋体"/>
              </a:rPr>
              <a:t>-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5" name="">
            <a:hlinkClick r:id="rId1" action="ppaction://hlinksldjump"/>
          </p:cNvPr>
          <p:cNvSpPr/>
          <p:nvPr/>
        </p:nvSpPr>
        <p:spPr>
          <a:xfrm>
            <a:off x="7596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6" name="">
            <a:hlinkClick r:id="rId2" action="ppaction://hlinksldjump"/>
          </p:cNvPr>
          <p:cNvSpPr/>
          <p:nvPr/>
        </p:nvSpPr>
        <p:spPr>
          <a:xfrm>
            <a:off x="7451640" y="645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Broadway"/>
                <a:ea typeface="华文彩云"/>
              </a:rPr>
              <a:t>首    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7" name="">
            <a:hlinkClick r:id="rId3" action="ppaction://hlinksldjump"/>
          </p:cNvPr>
          <p:cNvSpPr/>
          <p:nvPr/>
        </p:nvSpPr>
        <p:spPr>
          <a:xfrm>
            <a:off x="8388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8" name="">
            <a:hlinkClick r:id="rId4" action="ppaction://hlinksldjump"/>
          </p:cNvPr>
          <p:cNvSpPr/>
          <p:nvPr/>
        </p:nvSpPr>
        <p:spPr>
          <a:xfrm>
            <a:off x="8280360" y="64533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Broadway"/>
                <a:ea typeface="华文彩云"/>
              </a:rPr>
              <a:t>返     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9" name=""/>
          <p:cNvGraphicFramePr/>
          <p:nvPr/>
        </p:nvGraphicFramePr>
        <p:xfrm>
          <a:off x="1663560" y="757080"/>
          <a:ext cx="6048000" cy="3568680"/>
        </p:xfrm>
        <a:graphic>
          <a:graphicData uri="http://schemas.openxmlformats.org/drawingml/2006/table">
            <a:tbl>
              <a:tblPr/>
              <a:tblGrid>
                <a:gridCol w="2014920"/>
                <a:gridCol w="403308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点的坐标的符号特点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一象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二象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三象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四象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0" name=""/>
          <p:cNvGraphicFramePr/>
          <p:nvPr/>
        </p:nvGraphicFramePr>
        <p:xfrm>
          <a:off x="1657440" y="4879800"/>
          <a:ext cx="6048360" cy="1087560"/>
        </p:xfrm>
        <a:graphic>
          <a:graphicData uri="http://schemas.openxmlformats.org/drawingml/2006/table">
            <a:tbl>
              <a:tblPr/>
              <a:tblGrid>
                <a:gridCol w="2016000"/>
                <a:gridCol w="403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X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轴上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纵坐标为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轴上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横坐标为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1" name=""/>
          <p:cNvSpPr/>
          <p:nvPr/>
        </p:nvSpPr>
        <p:spPr>
          <a:xfrm>
            <a:off x="4822560" y="1341360"/>
            <a:ext cx="13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1122"/>
                </a:solidFill>
                <a:latin typeface="宋体"/>
                <a:ea typeface="宋体"/>
              </a:rPr>
              <a:t>(+ ,+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4757400" y="2060640"/>
            <a:ext cx="152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91122"/>
                </a:solidFill>
                <a:latin typeface="宋体"/>
                <a:ea typeface="宋体"/>
              </a:rPr>
              <a:t>(-</a:t>
            </a:r>
            <a:r>
              <a:rPr b="1" lang="zh-CN" sz="4000" spc="-1" strike="noStrike">
                <a:solidFill>
                  <a:srgbClr val="f91122"/>
                </a:solidFill>
                <a:latin typeface="宋体"/>
                <a:ea typeface="宋体"/>
              </a:rPr>
              <a:t>，</a:t>
            </a:r>
            <a:r>
              <a:rPr b="1" lang="zh-CN" sz="4000" spc="-1" strike="noStrike">
                <a:solidFill>
                  <a:srgbClr val="f91122"/>
                </a:solidFill>
                <a:latin typeface="宋体"/>
                <a:ea typeface="宋体"/>
              </a:rPr>
              <a:t>+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4836600" y="2924280"/>
            <a:ext cx="139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91122"/>
                </a:solidFill>
                <a:latin typeface="宋体"/>
                <a:ea typeface="宋体"/>
              </a:rPr>
              <a:t>(-</a:t>
            </a:r>
            <a:r>
              <a:rPr b="1" lang="zh-CN" sz="4000" spc="-1" strike="noStrike">
                <a:solidFill>
                  <a:srgbClr val="f91122"/>
                </a:solidFill>
                <a:latin typeface="宋体"/>
                <a:ea typeface="宋体"/>
              </a:rPr>
              <a:t>，</a:t>
            </a:r>
            <a:r>
              <a:rPr b="1" lang="zh-CN" sz="4000" spc="-1" strike="noStrike">
                <a:solidFill>
                  <a:srgbClr val="f91122"/>
                </a:solidFill>
                <a:latin typeface="宋体"/>
                <a:ea typeface="宋体"/>
              </a:rPr>
              <a:t>-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4811400" y="3573360"/>
            <a:ext cx="152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91122"/>
                </a:solidFill>
                <a:latin typeface="宋体"/>
                <a:ea typeface="宋体"/>
              </a:rPr>
              <a:t>(+</a:t>
            </a:r>
            <a:r>
              <a:rPr b="1" lang="zh-CN" sz="4000" spc="-1" strike="noStrike">
                <a:solidFill>
                  <a:srgbClr val="f91122"/>
                </a:solidFill>
                <a:latin typeface="宋体"/>
                <a:ea typeface="宋体"/>
              </a:rPr>
              <a:t>，</a:t>
            </a:r>
            <a:r>
              <a:rPr b="1" lang="zh-CN" sz="4000" spc="-1" strike="noStrike">
                <a:solidFill>
                  <a:srgbClr val="f91122"/>
                </a:solidFill>
                <a:latin typeface="宋体"/>
                <a:ea typeface="宋体"/>
              </a:rPr>
              <a:t>-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705720" y="4724280"/>
            <a:ext cx="6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1122"/>
                </a:solidFill>
                <a:latin typeface="宋体"/>
                <a:ea typeface="宋体"/>
              </a:rPr>
              <a:t>0</a:t>
            </a:r>
            <a:r>
              <a:rPr b="1" lang="en-US" sz="4000" spc="-1" strike="noStrike">
                <a:solidFill>
                  <a:srgbClr val="f91122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44520" y="5373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1122"/>
                </a:solidFill>
                <a:latin typeface="宋体"/>
                <a:ea typeface="宋体"/>
              </a:rPr>
              <a:t>0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7" name="">
            <a:hlinkClick r:id="rId2" action="ppaction://hlinksldjump"/>
          </p:cNvPr>
          <p:cNvSpPr/>
          <p:nvPr/>
        </p:nvSpPr>
        <p:spPr>
          <a:xfrm>
            <a:off x="7596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8" name="">
            <a:hlinkClick r:id="rId3" action="ppaction://hlinksldjump"/>
          </p:cNvPr>
          <p:cNvSpPr/>
          <p:nvPr/>
        </p:nvSpPr>
        <p:spPr>
          <a:xfrm>
            <a:off x="7451640" y="645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Broadway"/>
                <a:ea typeface="华文彩云"/>
              </a:rPr>
              <a:t>首    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9" name="">
            <a:hlinkClick r:id="rId4" action="ppaction://hlinksldjump"/>
          </p:cNvPr>
          <p:cNvSpPr/>
          <p:nvPr/>
        </p:nvSpPr>
        <p:spPr>
          <a:xfrm>
            <a:off x="8388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0" name="">
            <a:hlinkClick r:id="rId5" action="ppaction://hlinksldjump"/>
          </p:cNvPr>
          <p:cNvSpPr/>
          <p:nvPr/>
        </p:nvSpPr>
        <p:spPr>
          <a:xfrm>
            <a:off x="8280360" y="64533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Broadway"/>
                <a:ea typeface="华文彩云"/>
              </a:rPr>
              <a:t>返     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1" name=""/>
          <p:cNvGraphicFramePr/>
          <p:nvPr/>
        </p:nvGraphicFramePr>
        <p:xfrm>
          <a:off x="1042920" y="757080"/>
          <a:ext cx="6842160" cy="5080320"/>
        </p:xfrm>
        <a:graphic>
          <a:graphicData uri="http://schemas.openxmlformats.org/drawingml/2006/table">
            <a:tbl>
              <a:tblPr/>
              <a:tblGrid>
                <a:gridCol w="2281320"/>
                <a:gridCol w="4560840"/>
              </a:tblGrid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2" name=""/>
          <p:cNvSpPr/>
          <p:nvPr/>
        </p:nvSpPr>
        <p:spPr>
          <a:xfrm>
            <a:off x="4934880" y="1662120"/>
            <a:ext cx="167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91122"/>
                </a:solidFill>
                <a:latin typeface="黑体"/>
                <a:ea typeface="黑体"/>
              </a:rPr>
              <a:t>+    +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730760" y="2662200"/>
            <a:ext cx="213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91122"/>
                </a:solidFill>
                <a:latin typeface="黑体"/>
                <a:ea typeface="黑体"/>
              </a:rPr>
              <a:t>-   +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097960" y="3689280"/>
            <a:ext cx="126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91122"/>
                </a:solidFill>
                <a:latin typeface="黑体"/>
                <a:ea typeface="黑体"/>
              </a:rPr>
              <a:t>-   -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040720" y="4626000"/>
            <a:ext cx="145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91122"/>
                </a:solidFill>
                <a:latin typeface="黑体"/>
                <a:ea typeface="黑体"/>
              </a:rPr>
              <a:t>+   -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4934880" y="9936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Broadway"/>
                <a:ea typeface="宋体"/>
              </a:rPr>
              <a:t>点的坐标的符号特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907640" y="1916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Broadway"/>
                <a:ea typeface="宋体"/>
              </a:rPr>
              <a:t>一象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1765080" y="2997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Broadway"/>
                <a:ea typeface="宋体"/>
              </a:rPr>
              <a:t>二象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6720" y="400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Broadway"/>
                <a:ea typeface="宋体"/>
              </a:rPr>
              <a:t>三象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1765080" y="5013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Broadway"/>
                <a:ea typeface="宋体"/>
              </a:rPr>
              <a:t>四象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1" name="">
            <a:hlinkClick r:id="rId2" action="ppaction://hlinksldjump"/>
          </p:cNvPr>
          <p:cNvSpPr/>
          <p:nvPr/>
        </p:nvSpPr>
        <p:spPr>
          <a:xfrm>
            <a:off x="7596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2" name="">
            <a:hlinkClick r:id="rId3" action="ppaction://hlinksldjump"/>
          </p:cNvPr>
          <p:cNvSpPr/>
          <p:nvPr/>
        </p:nvSpPr>
        <p:spPr>
          <a:xfrm>
            <a:off x="7451640" y="645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Broadway"/>
                <a:ea typeface="华文彩云"/>
              </a:rPr>
              <a:t>首    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3" name="">
            <a:hlinkClick r:id="rId4" action="ppaction://hlinksldjump"/>
          </p:cNvPr>
          <p:cNvSpPr/>
          <p:nvPr/>
        </p:nvSpPr>
        <p:spPr>
          <a:xfrm>
            <a:off x="8388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4" name="">
            <a:hlinkClick r:id="rId5" action="ppaction://hlinksldjump"/>
          </p:cNvPr>
          <p:cNvSpPr/>
          <p:nvPr/>
        </p:nvSpPr>
        <p:spPr>
          <a:xfrm>
            <a:off x="8280360" y="64533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Broadway"/>
                <a:ea typeface="华文彩云"/>
              </a:rPr>
              <a:t>返     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5" name=""/>
          <p:cNvGrpSpPr/>
          <p:nvPr/>
        </p:nvGrpSpPr>
        <p:grpSpPr>
          <a:xfrm>
            <a:off x="1547640" y="533520"/>
            <a:ext cx="6858000" cy="6324480"/>
            <a:chOff x="1547640" y="533520"/>
            <a:chExt cx="6858000" cy="6324480"/>
          </a:xfrm>
        </p:grpSpPr>
        <p:grpSp>
          <p:nvGrpSpPr>
            <p:cNvPr id="1516" name=""/>
            <p:cNvGrpSpPr/>
            <p:nvPr/>
          </p:nvGrpSpPr>
          <p:grpSpPr>
            <a:xfrm>
              <a:off x="4290840" y="533520"/>
              <a:ext cx="838080" cy="6324480"/>
              <a:chOff x="4290840" y="533520"/>
              <a:chExt cx="838080" cy="6324480"/>
            </a:xfrm>
          </p:grpSpPr>
          <p:grpSp>
            <p:nvGrpSpPr>
              <p:cNvPr id="1517" name=""/>
              <p:cNvGrpSpPr/>
              <p:nvPr/>
            </p:nvGrpSpPr>
            <p:grpSpPr>
              <a:xfrm>
                <a:off x="4441680" y="542880"/>
                <a:ext cx="461880" cy="6315120"/>
                <a:chOff x="4441680" y="542880"/>
                <a:chExt cx="461880" cy="6315120"/>
              </a:xfrm>
            </p:grpSpPr>
            <p:sp>
              <p:nvSpPr>
                <p:cNvPr id="1518" name=""/>
                <p:cNvSpPr/>
                <p:nvPr/>
              </p:nvSpPr>
              <p:spPr>
                <a:xfrm>
                  <a:off x="4786200" y="3622680"/>
                  <a:ext cx="144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4748040" y="542880"/>
                  <a:ext cx="1440" cy="6315120"/>
                </a:xfrm>
                <a:prstGeom prst="line">
                  <a:avLst/>
                </a:prstGeom>
                <a:ln w="38160">
                  <a:solidFill>
                    <a:srgbClr val="00008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 flipH="1">
                  <a:off x="4707720" y="744480"/>
                  <a:ext cx="155880" cy="180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flipH="1">
                  <a:off x="4707720" y="116532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flipH="1">
                  <a:off x="4707720" y="158436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4542120" y="1447920"/>
                  <a:ext cx="146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9900"/>
                      </a:solidFill>
                      <a:latin typeface="MS Sans Serif"/>
                      <a:ea typeface="宋体"/>
                    </a:rPr>
                    <a:t>5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flipH="1">
                  <a:off x="4707720" y="2004840"/>
                  <a:ext cx="155880" cy="180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 flipH="1">
                  <a:off x="4707720" y="242568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 flipH="1">
                  <a:off x="4707720" y="2860560"/>
                  <a:ext cx="155880" cy="180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flipH="1">
                  <a:off x="4707720" y="3279600"/>
                  <a:ext cx="155880" cy="180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 flipH="1">
                  <a:off x="4707720" y="412128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flipH="1">
                  <a:off x="4707720" y="454032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flipH="1">
                  <a:off x="4707720" y="497520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 flipH="1">
                  <a:off x="4707720" y="539604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 flipH="1">
                  <a:off x="4707720" y="5816520"/>
                  <a:ext cx="155880" cy="180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4458960" y="5645160"/>
                  <a:ext cx="2293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MS Sans Serif"/>
                      <a:ea typeface="宋体"/>
                    </a:rPr>
                    <a:t>-5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 flipH="1">
                  <a:off x="4707720" y="665640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 flipH="1">
                  <a:off x="4748040" y="6246720"/>
                  <a:ext cx="155520" cy="180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4458960" y="4343400"/>
                  <a:ext cx="2293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MS Sans Serif"/>
                      <a:ea typeface="宋体"/>
                    </a:rPr>
                    <a:t>-2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4458960" y="4784760"/>
                  <a:ext cx="2293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9900"/>
                      </a:solidFill>
                      <a:latin typeface="MS Sans Serif"/>
                      <a:ea typeface="宋体"/>
                    </a:rPr>
                    <a:t>-3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458960" y="5181480"/>
                  <a:ext cx="2293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MS Sans Serif"/>
                      <a:ea typeface="宋体"/>
                    </a:rPr>
                    <a:t>-4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4458960" y="3962520"/>
                  <a:ext cx="2293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MS Sans Serif"/>
                      <a:ea typeface="宋体"/>
                    </a:rPr>
                    <a:t>-1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4542120" y="2286000"/>
                  <a:ext cx="146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MS Sans Serif"/>
                      <a:ea typeface="宋体"/>
                    </a:rPr>
                    <a:t>3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4542120" y="2743200"/>
                  <a:ext cx="146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MS Sans Serif"/>
                      <a:ea typeface="宋体"/>
                    </a:rPr>
                    <a:t>2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4542120" y="1828800"/>
                  <a:ext cx="146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9900"/>
                      </a:solidFill>
                      <a:latin typeface="MS Sans Serif"/>
                      <a:ea typeface="宋体"/>
                    </a:rPr>
                    <a:t>4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4516560" y="3124080"/>
                  <a:ext cx="146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MS Sans Serif"/>
                      <a:ea typeface="宋体"/>
                    </a:rPr>
                    <a:t>1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4441680" y="6019920"/>
                  <a:ext cx="2142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Times New Roman"/>
                      <a:ea typeface="宋体"/>
                    </a:rPr>
                    <a:t>-6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4516560" y="990720"/>
                  <a:ext cx="146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MS Sans Serif"/>
                      <a:ea typeface="宋体"/>
                    </a:rPr>
                    <a:t>6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6" name=""/>
              <p:cNvSpPr/>
              <p:nvPr/>
            </p:nvSpPr>
            <p:spPr>
              <a:xfrm>
                <a:off x="4366800" y="5335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fcd14"/>
                    </a:solidFill>
                    <a:latin typeface="Times New Roman"/>
                    <a:ea typeface="宋体"/>
                  </a:rPr>
                  <a:t>y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290840" y="6400800"/>
                <a:ext cx="7617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1547640" y="3581280"/>
              <a:ext cx="6858000" cy="612360"/>
              <a:chOff x="1547640" y="3581280"/>
              <a:chExt cx="6858000" cy="612360"/>
            </a:xfrm>
          </p:grpSpPr>
          <p:grpSp>
            <p:nvGrpSpPr>
              <p:cNvPr id="1549" name=""/>
              <p:cNvGrpSpPr/>
              <p:nvPr/>
            </p:nvGrpSpPr>
            <p:grpSpPr>
              <a:xfrm>
                <a:off x="1547640" y="3581280"/>
                <a:ext cx="6858000" cy="612360"/>
                <a:chOff x="1547640" y="3581280"/>
                <a:chExt cx="6858000" cy="612360"/>
              </a:xfrm>
            </p:grpSpPr>
            <p:grpSp>
              <p:nvGrpSpPr>
                <p:cNvPr id="1550" name=""/>
                <p:cNvGrpSpPr/>
                <p:nvPr/>
              </p:nvGrpSpPr>
              <p:grpSpPr>
                <a:xfrm>
                  <a:off x="5206680" y="3622680"/>
                  <a:ext cx="422280" cy="155520"/>
                  <a:chOff x="5206680" y="3622680"/>
                  <a:chExt cx="422280" cy="15552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>
                    <a:off x="5206680" y="362268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5627520" y="362268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3" name=""/>
                <p:cNvGrpSpPr/>
                <p:nvPr/>
              </p:nvGrpSpPr>
              <p:grpSpPr>
                <a:xfrm>
                  <a:off x="1547640" y="3581280"/>
                  <a:ext cx="6858000" cy="612360"/>
                  <a:chOff x="1547640" y="3581280"/>
                  <a:chExt cx="6858000" cy="612360"/>
                </a:xfrm>
              </p:grpSpPr>
              <p:sp>
                <p:nvSpPr>
                  <p:cNvPr id="1554" name=""/>
                  <p:cNvSpPr/>
                  <p:nvPr/>
                </p:nvSpPr>
                <p:spPr>
                  <a:xfrm>
                    <a:off x="2666880" y="362268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>
                    <a:off x="3087360" y="3622680"/>
                    <a:ext cx="180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3508200" y="362268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3944520" y="3622680"/>
                    <a:ext cx="180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4365360" y="362268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6063840" y="3622680"/>
                    <a:ext cx="180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>
                    <a:off x="6484680" y="362268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>
                    <a:off x="6905160" y="3622680"/>
                    <a:ext cx="180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7324560" y="362268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7745040" y="3581280"/>
                    <a:ext cx="180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64" name=""/>
                  <p:cNvGrpSpPr/>
                  <p:nvPr/>
                </p:nvGrpSpPr>
                <p:grpSpPr>
                  <a:xfrm>
                    <a:off x="1547640" y="3581280"/>
                    <a:ext cx="6858000" cy="612360"/>
                    <a:chOff x="1547640" y="3581280"/>
                    <a:chExt cx="6858000" cy="612360"/>
                  </a:xfrm>
                </p:grpSpPr>
                <p:sp>
                  <p:nvSpPr>
                    <p:cNvPr id="1565" name=""/>
                    <p:cNvSpPr/>
                    <p:nvPr/>
                  </p:nvSpPr>
                  <p:spPr>
                    <a:xfrm>
                      <a:off x="1623600" y="3732120"/>
                      <a:ext cx="6324840" cy="1800"/>
                    </a:xfrm>
                    <a:prstGeom prst="line">
                      <a:avLst/>
                    </a:prstGeom>
                    <a:ln w="38160">
                      <a:solidFill>
                        <a:srgbClr val="6699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"/>
                    <p:cNvSpPr/>
                    <p:nvPr/>
                  </p:nvSpPr>
                  <p:spPr>
                    <a:xfrm>
                      <a:off x="1827000" y="3622680"/>
                      <a:ext cx="1440" cy="155520"/>
                    </a:xfrm>
                    <a:prstGeom prst="line">
                      <a:avLst/>
                    </a:prstGeom>
                    <a:ln w="158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7" name=""/>
                    <p:cNvSpPr/>
                    <p:nvPr/>
                  </p:nvSpPr>
                  <p:spPr>
                    <a:xfrm>
                      <a:off x="2247480" y="3622680"/>
                      <a:ext cx="1800" cy="155520"/>
                    </a:xfrm>
                    <a:prstGeom prst="line">
                      <a:avLst/>
                    </a:prstGeom>
                    <a:ln w="158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68" name=""/>
                    <p:cNvGrpSpPr/>
                    <p:nvPr/>
                  </p:nvGrpSpPr>
                  <p:grpSpPr>
                    <a:xfrm>
                      <a:off x="1547640" y="3581280"/>
                      <a:ext cx="6858000" cy="612360"/>
                      <a:chOff x="1547640" y="3581280"/>
                      <a:chExt cx="6858000" cy="612360"/>
                    </a:xfrm>
                  </p:grpSpPr>
                  <p:sp>
                    <p:nvSpPr>
                      <p:cNvPr id="1569" name=""/>
                      <p:cNvSpPr/>
                      <p:nvPr/>
                    </p:nvSpPr>
                    <p:spPr>
                      <a:xfrm>
                        <a:off x="2541240" y="377820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fcd14"/>
                            </a:solidFill>
                            <a:latin typeface="MS Sans Serif"/>
                            <a:ea typeface="宋体"/>
                          </a:rPr>
                          <a:t>-5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0" name=""/>
                      <p:cNvSpPr/>
                      <p:nvPr/>
                    </p:nvSpPr>
                    <p:spPr>
                      <a:xfrm>
                        <a:off x="6823080" y="3809880"/>
                        <a:ext cx="14688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0000"/>
                            </a:solidFill>
                            <a:latin typeface="MS Sans Serif"/>
                            <a:ea typeface="宋体"/>
                          </a:rPr>
                          <a:t>5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1" name=""/>
                      <p:cNvSpPr/>
                      <p:nvPr/>
                    </p:nvSpPr>
                    <p:spPr>
                      <a:xfrm>
                        <a:off x="3298320" y="380988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fcd14"/>
                            </a:solidFill>
                            <a:latin typeface="MS Sans Serif"/>
                            <a:ea typeface="宋体"/>
                          </a:rPr>
                          <a:t>-3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2" name=""/>
                      <p:cNvSpPr/>
                      <p:nvPr/>
                    </p:nvSpPr>
                    <p:spPr>
                      <a:xfrm>
                        <a:off x="2917440" y="379404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0000"/>
                            </a:solidFill>
                            <a:latin typeface="MS Sans Serif"/>
                            <a:ea typeface="宋体"/>
                          </a:rPr>
                          <a:t>-4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3" name=""/>
                      <p:cNvSpPr/>
                      <p:nvPr/>
                    </p:nvSpPr>
                    <p:spPr>
                      <a:xfrm>
                        <a:off x="6409080" y="3809880"/>
                        <a:ext cx="14688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0000"/>
                            </a:solidFill>
                            <a:latin typeface="MS Sans Serif"/>
                            <a:ea typeface="宋体"/>
                          </a:rPr>
                          <a:t>4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4" name=""/>
                      <p:cNvSpPr/>
                      <p:nvPr/>
                    </p:nvSpPr>
                    <p:spPr>
                      <a:xfrm>
                        <a:off x="3755520" y="379404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fcd14"/>
                            </a:solidFill>
                            <a:latin typeface="MS Sans Serif"/>
                            <a:ea typeface="宋体"/>
                          </a:rPr>
                          <a:t>-2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5" name=""/>
                      <p:cNvSpPr/>
                      <p:nvPr/>
                    </p:nvSpPr>
                    <p:spPr>
                      <a:xfrm>
                        <a:off x="5964480" y="3809880"/>
                        <a:ext cx="14688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0000"/>
                            </a:solidFill>
                            <a:latin typeface="MS Sans Serif"/>
                            <a:ea typeface="宋体"/>
                          </a:rPr>
                          <a:t>3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6" name=""/>
                      <p:cNvSpPr/>
                      <p:nvPr/>
                    </p:nvSpPr>
                    <p:spPr>
                      <a:xfrm>
                        <a:off x="4212720" y="379404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fcd14"/>
                            </a:solidFill>
                            <a:latin typeface="MS Sans Serif"/>
                            <a:ea typeface="宋体"/>
                          </a:rPr>
                          <a:t>-1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7" name=""/>
                      <p:cNvSpPr/>
                      <p:nvPr/>
                    </p:nvSpPr>
                    <p:spPr>
                      <a:xfrm>
                        <a:off x="5583240" y="3809880"/>
                        <a:ext cx="14688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fcd14"/>
                            </a:solidFill>
                            <a:latin typeface="MS Sans Serif"/>
                            <a:ea typeface="宋体"/>
                          </a:rPr>
                          <a:t>2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8" name=""/>
                      <p:cNvSpPr/>
                      <p:nvPr/>
                    </p:nvSpPr>
                    <p:spPr>
                      <a:xfrm>
                        <a:off x="5126040" y="3809880"/>
                        <a:ext cx="14688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fcd14"/>
                            </a:solidFill>
                            <a:latin typeface="MS Sans Serif"/>
                            <a:ea typeface="宋体"/>
                          </a:rPr>
                          <a:t>1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9" name=""/>
                      <p:cNvSpPr/>
                      <p:nvPr/>
                    </p:nvSpPr>
                    <p:spPr>
                      <a:xfrm>
                        <a:off x="2155320" y="380988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0000"/>
                            </a:solidFill>
                            <a:latin typeface="MS Sans Serif"/>
                            <a:ea typeface="宋体"/>
                          </a:rPr>
                          <a:t>-6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0" name=""/>
                      <p:cNvSpPr/>
                      <p:nvPr/>
                    </p:nvSpPr>
                    <p:spPr>
                      <a:xfrm>
                        <a:off x="7259760" y="3809880"/>
                        <a:ext cx="14688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fcd14"/>
                            </a:solidFill>
                            <a:latin typeface="MS Sans Serif"/>
                            <a:ea typeface="宋体"/>
                          </a:rPr>
                          <a:t>6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1" name=""/>
                      <p:cNvSpPr/>
                      <p:nvPr/>
                    </p:nvSpPr>
                    <p:spPr>
                      <a:xfrm>
                        <a:off x="4443120" y="3581280"/>
                        <a:ext cx="12952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800" spc="-1" strike="noStrike">
                            <a:solidFill>
                              <a:srgbClr val="007a77"/>
                            </a:solidFill>
                            <a:latin typeface="Times New Roman"/>
                            <a:ea typeface="宋体"/>
                          </a:rPr>
                          <a:t>o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2" name=""/>
                      <p:cNvSpPr/>
                      <p:nvPr/>
                    </p:nvSpPr>
                    <p:spPr>
                      <a:xfrm>
                        <a:off x="1547640" y="3733920"/>
                        <a:ext cx="76176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3" name=""/>
                      <p:cNvSpPr/>
                      <p:nvPr/>
                    </p:nvSpPr>
                    <p:spPr>
                      <a:xfrm>
                        <a:off x="7643520" y="3733920"/>
                        <a:ext cx="7621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fcd14"/>
                            </a:solidFill>
                            <a:latin typeface="Times New Roman"/>
                            <a:ea typeface="宋体"/>
                          </a:rPr>
                          <a:t>X</a:t>
                        </a:r>
                        <a:endParaRPr b="0" lang="en-US" sz="24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584" name=""/>
              <p:cNvSpPr/>
              <p:nvPr/>
            </p:nvSpPr>
            <p:spPr>
              <a:xfrm>
                <a:off x="4748040" y="3581280"/>
                <a:ext cx="0" cy="15264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1585" name=""/>
          <p:cNvSpPr/>
          <p:nvPr/>
        </p:nvSpPr>
        <p:spPr>
          <a:xfrm>
            <a:off x="7236000" y="404640"/>
            <a:ext cx="10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1908000" y="3357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  <a:ea typeface="宋体"/>
              </a:rPr>
              <a:t>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6775560" y="32274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I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703920" y="3197160"/>
            <a:ext cx="53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91122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2175840" y="328464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ec321e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f91122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ec321e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4716360" y="58341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1122"/>
                </a:solidFill>
                <a:latin typeface="Arial"/>
                <a:ea typeface="宋体"/>
              </a:rPr>
              <a:t>F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4623840" y="616572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91122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0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宋体"/>
              </a:rPr>
              <a:t>,-6</a:t>
            </a:r>
            <a:r>
              <a:rPr b="1" lang="zh-CN" sz="2400" spc="-1" strike="noStrike">
                <a:solidFill>
                  <a:srgbClr val="f91122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4548240" y="5678640"/>
            <a:ext cx="123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a77"/>
                </a:solidFill>
                <a:latin typeface="Times New Roman"/>
                <a:ea typeface="宋体"/>
              </a:rPr>
              <a:t>·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050920" y="3213000"/>
            <a:ext cx="44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91122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4788000" y="1557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1122"/>
                </a:solidFill>
                <a:latin typeface="Times New Roman"/>
                <a:ea typeface="宋体"/>
              </a:rPr>
              <a:t>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4559400" y="1496880"/>
            <a:ext cx="58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a77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6912720" y="3298680"/>
            <a:ext cx="8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宋体"/>
                <a:ea typeface="宋体"/>
              </a:rPr>
              <a:t>（</a:t>
            </a:r>
            <a:r>
              <a:rPr b="1" lang="zh-CN" sz="1800" spc="-1" strike="noStrike">
                <a:solidFill>
                  <a:srgbClr val="ec321e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7a77"/>
                </a:solidFill>
                <a:latin typeface="宋体"/>
                <a:ea typeface="宋体"/>
              </a:rPr>
              <a:t>,0</a:t>
            </a:r>
            <a:r>
              <a:rPr b="1" lang="zh-CN" sz="1800" spc="-1" strike="noStrike">
                <a:solidFill>
                  <a:srgbClr val="007a77"/>
                </a:solidFill>
                <a:latin typeface="宋体"/>
                <a:ea typeface="宋体"/>
              </a:rPr>
              <a:t>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013720" y="1398600"/>
            <a:ext cx="8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宋体"/>
                <a:ea typeface="宋体"/>
              </a:rPr>
              <a:t>(0,</a:t>
            </a:r>
            <a:r>
              <a:rPr b="1" lang="en-US" sz="2400" spc="-1" strike="noStrike">
                <a:solidFill>
                  <a:srgbClr val="00ff00"/>
                </a:solidFill>
                <a:latin typeface="宋体"/>
                <a:ea typeface="宋体"/>
              </a:rPr>
              <a:t>4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4572000" y="1484280"/>
            <a:ext cx="58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a77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93000" y="40464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X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轴上，点的纵坐标为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709200" y="1130400"/>
            <a:ext cx="34056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y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轴上，点的横坐标为</a:t>
            </a:r>
            <a:r>
              <a:rPr b="1" lang="zh-CN" sz="2800" spc="-1" strike="noStrike">
                <a:solidFill>
                  <a:srgbClr val="007a77"/>
                </a:solidFill>
                <a:latin typeface="Broadway"/>
                <a:ea typeface="华文行楷"/>
              </a:rPr>
              <a:t>＿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Broadway"/>
                <a:ea typeface="华文行楷"/>
              </a:rPr>
              <a:t>　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0" y="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Broadway"/>
                <a:ea typeface="华文行楷"/>
              </a:rPr>
              <a:t>探究问题２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0" y="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Broadway"/>
                <a:ea typeface="华文行楷"/>
              </a:rPr>
              <a:t>探究问题２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3607560" y="260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1122"/>
                </a:solidFill>
                <a:latin typeface="宋体"/>
                <a:ea typeface="宋体"/>
              </a:rPr>
              <a:t>0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3520080" y="9669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1122"/>
                </a:solidFill>
                <a:latin typeface="宋体"/>
                <a:ea typeface="宋体"/>
              </a:rPr>
              <a:t>0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5" name="">
            <a:hlinkClick r:id="rId1" action="ppaction://hlinksldjump"/>
          </p:cNvPr>
          <p:cNvSpPr/>
          <p:nvPr/>
        </p:nvSpPr>
        <p:spPr>
          <a:xfrm>
            <a:off x="7596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6" name="">
            <a:hlinkClick r:id="rId2" action="ppaction://hlinksldjump"/>
          </p:cNvPr>
          <p:cNvSpPr/>
          <p:nvPr/>
        </p:nvSpPr>
        <p:spPr>
          <a:xfrm>
            <a:off x="7451640" y="645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Broadway"/>
                <a:ea typeface="华文彩云"/>
              </a:rPr>
              <a:t>首    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7" name="">
            <a:hlinkClick r:id="rId3" action="ppaction://hlinksldjump"/>
          </p:cNvPr>
          <p:cNvSpPr/>
          <p:nvPr/>
        </p:nvSpPr>
        <p:spPr>
          <a:xfrm>
            <a:off x="8388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8" name="">
            <a:hlinkClick r:id="rId4" action="ppaction://hlinksldjump"/>
          </p:cNvPr>
          <p:cNvSpPr/>
          <p:nvPr/>
        </p:nvSpPr>
        <p:spPr>
          <a:xfrm>
            <a:off x="8280360" y="64533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Broadway"/>
                <a:ea typeface="华文彩云"/>
              </a:rPr>
              <a:t>返     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9" name=""/>
          <p:cNvGrpSpPr/>
          <p:nvPr/>
        </p:nvGrpSpPr>
        <p:grpSpPr>
          <a:xfrm>
            <a:off x="1547640" y="533520"/>
            <a:ext cx="6858000" cy="6324480"/>
            <a:chOff x="1547640" y="533520"/>
            <a:chExt cx="6858000" cy="6324480"/>
          </a:xfrm>
        </p:grpSpPr>
        <p:grpSp>
          <p:nvGrpSpPr>
            <p:cNvPr id="1610" name=""/>
            <p:cNvGrpSpPr/>
            <p:nvPr/>
          </p:nvGrpSpPr>
          <p:grpSpPr>
            <a:xfrm>
              <a:off x="4290840" y="533520"/>
              <a:ext cx="838080" cy="6324480"/>
              <a:chOff x="4290840" y="533520"/>
              <a:chExt cx="838080" cy="6324480"/>
            </a:xfrm>
          </p:grpSpPr>
          <p:grpSp>
            <p:nvGrpSpPr>
              <p:cNvPr id="1611" name=""/>
              <p:cNvGrpSpPr/>
              <p:nvPr/>
            </p:nvGrpSpPr>
            <p:grpSpPr>
              <a:xfrm>
                <a:off x="4441680" y="542880"/>
                <a:ext cx="461880" cy="6315120"/>
                <a:chOff x="4441680" y="542880"/>
                <a:chExt cx="461880" cy="6315120"/>
              </a:xfrm>
            </p:grpSpPr>
            <p:sp>
              <p:nvSpPr>
                <p:cNvPr id="1612" name=""/>
                <p:cNvSpPr/>
                <p:nvPr/>
              </p:nvSpPr>
              <p:spPr>
                <a:xfrm>
                  <a:off x="4786200" y="3622680"/>
                  <a:ext cx="144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4748040" y="542880"/>
                  <a:ext cx="1440" cy="6315120"/>
                </a:xfrm>
                <a:prstGeom prst="line">
                  <a:avLst/>
                </a:prstGeom>
                <a:ln w="38160">
                  <a:solidFill>
                    <a:srgbClr val="00008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H="1">
                  <a:off x="4707720" y="744480"/>
                  <a:ext cx="155880" cy="180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>
                  <a:off x="4707720" y="116532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H="1">
                  <a:off x="4707720" y="158436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4542120" y="1447920"/>
                  <a:ext cx="146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9900"/>
                      </a:solidFill>
                      <a:latin typeface="MS Sans Serif"/>
                      <a:ea typeface="宋体"/>
                    </a:rPr>
                    <a:t>5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H="1">
                  <a:off x="4707720" y="2004840"/>
                  <a:ext cx="155880" cy="180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H="1">
                  <a:off x="4707720" y="242568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flipH="1">
                  <a:off x="4707720" y="2860560"/>
                  <a:ext cx="155880" cy="180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flipH="1">
                  <a:off x="4707720" y="3279600"/>
                  <a:ext cx="155880" cy="180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H="1">
                  <a:off x="4707720" y="412128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H="1">
                  <a:off x="4707720" y="454032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flipH="1">
                  <a:off x="4707720" y="497520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H="1">
                  <a:off x="4707720" y="539604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flipH="1">
                  <a:off x="4707720" y="5816520"/>
                  <a:ext cx="155880" cy="180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4458960" y="5645160"/>
                  <a:ext cx="2293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MS Sans Serif"/>
                      <a:ea typeface="宋体"/>
                    </a:rPr>
                    <a:t>-5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H="1">
                  <a:off x="4707720" y="6656400"/>
                  <a:ext cx="155880" cy="144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flipH="1">
                  <a:off x="4748040" y="6246720"/>
                  <a:ext cx="155520" cy="180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4458960" y="4343400"/>
                  <a:ext cx="2293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MS Sans Serif"/>
                      <a:ea typeface="宋体"/>
                    </a:rPr>
                    <a:t>-2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4458960" y="4784760"/>
                  <a:ext cx="2293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9900"/>
                      </a:solidFill>
                      <a:latin typeface="MS Sans Serif"/>
                      <a:ea typeface="宋体"/>
                    </a:rPr>
                    <a:t>-3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4458960" y="5181480"/>
                  <a:ext cx="2293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MS Sans Serif"/>
                      <a:ea typeface="宋体"/>
                    </a:rPr>
                    <a:t>-4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4458960" y="3962520"/>
                  <a:ext cx="2293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MS Sans Serif"/>
                      <a:ea typeface="宋体"/>
                    </a:rPr>
                    <a:t>-1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4542120" y="2286000"/>
                  <a:ext cx="146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MS Sans Serif"/>
                      <a:ea typeface="宋体"/>
                    </a:rPr>
                    <a:t>3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4542120" y="2743200"/>
                  <a:ext cx="146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MS Sans Serif"/>
                      <a:ea typeface="宋体"/>
                    </a:rPr>
                    <a:t>2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4542120" y="1828800"/>
                  <a:ext cx="146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9900"/>
                      </a:solidFill>
                      <a:latin typeface="MS Sans Serif"/>
                      <a:ea typeface="宋体"/>
                    </a:rPr>
                    <a:t>4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4516560" y="3124080"/>
                  <a:ext cx="146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MS Sans Serif"/>
                      <a:ea typeface="宋体"/>
                    </a:rPr>
                    <a:t>1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4441680" y="6019920"/>
                  <a:ext cx="2142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Times New Roman"/>
                      <a:ea typeface="宋体"/>
                    </a:rPr>
                    <a:t>-6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4516560" y="990720"/>
                  <a:ext cx="146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fcd14"/>
                      </a:solidFill>
                      <a:latin typeface="MS Sans Serif"/>
                      <a:ea typeface="宋体"/>
                    </a:rPr>
                    <a:t>6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0" name=""/>
              <p:cNvSpPr/>
              <p:nvPr/>
            </p:nvSpPr>
            <p:spPr>
              <a:xfrm>
                <a:off x="4366800" y="5335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fcd14"/>
                    </a:solidFill>
                    <a:latin typeface="Times New Roman"/>
                    <a:ea typeface="宋体"/>
                  </a:rPr>
                  <a:t>y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4290840" y="6400800"/>
                <a:ext cx="7617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642" name=""/>
            <p:cNvGrpSpPr/>
            <p:nvPr/>
          </p:nvGrpSpPr>
          <p:grpSpPr>
            <a:xfrm>
              <a:off x="1547640" y="3581280"/>
              <a:ext cx="6858000" cy="612360"/>
              <a:chOff x="1547640" y="3581280"/>
              <a:chExt cx="6858000" cy="612360"/>
            </a:xfrm>
          </p:grpSpPr>
          <p:grpSp>
            <p:nvGrpSpPr>
              <p:cNvPr id="1643" name=""/>
              <p:cNvGrpSpPr/>
              <p:nvPr/>
            </p:nvGrpSpPr>
            <p:grpSpPr>
              <a:xfrm>
                <a:off x="1547640" y="3581280"/>
                <a:ext cx="6858000" cy="612360"/>
                <a:chOff x="1547640" y="3581280"/>
                <a:chExt cx="6858000" cy="612360"/>
              </a:xfrm>
            </p:grpSpPr>
            <p:grpSp>
              <p:nvGrpSpPr>
                <p:cNvPr id="1644" name=""/>
                <p:cNvGrpSpPr/>
                <p:nvPr/>
              </p:nvGrpSpPr>
              <p:grpSpPr>
                <a:xfrm>
                  <a:off x="5206680" y="3622680"/>
                  <a:ext cx="422280" cy="155520"/>
                  <a:chOff x="5206680" y="3622680"/>
                  <a:chExt cx="422280" cy="155520"/>
                </a:xfrm>
              </p:grpSpPr>
              <p:sp>
                <p:nvSpPr>
                  <p:cNvPr id="1645" name=""/>
                  <p:cNvSpPr/>
                  <p:nvPr/>
                </p:nvSpPr>
                <p:spPr>
                  <a:xfrm>
                    <a:off x="5206680" y="362268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>
                    <a:off x="5627520" y="362268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"/>
                <p:cNvGrpSpPr/>
                <p:nvPr/>
              </p:nvGrpSpPr>
              <p:grpSpPr>
                <a:xfrm>
                  <a:off x="1547640" y="3581280"/>
                  <a:ext cx="6858000" cy="612360"/>
                  <a:chOff x="1547640" y="3581280"/>
                  <a:chExt cx="6858000" cy="612360"/>
                </a:xfrm>
              </p:grpSpPr>
              <p:sp>
                <p:nvSpPr>
                  <p:cNvPr id="1648" name=""/>
                  <p:cNvSpPr/>
                  <p:nvPr/>
                </p:nvSpPr>
                <p:spPr>
                  <a:xfrm>
                    <a:off x="2666880" y="362268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>
                    <a:off x="3087360" y="3622680"/>
                    <a:ext cx="180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3508200" y="362268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>
                    <a:off x="3944520" y="3622680"/>
                    <a:ext cx="180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>
                    <a:off x="4365360" y="362268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6063840" y="3622680"/>
                    <a:ext cx="180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>
                    <a:off x="6484680" y="362268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>
                    <a:off x="6905160" y="3622680"/>
                    <a:ext cx="180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7324560" y="362268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>
                    <a:off x="7745040" y="3581280"/>
                    <a:ext cx="180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58" name=""/>
                  <p:cNvGrpSpPr/>
                  <p:nvPr/>
                </p:nvGrpSpPr>
                <p:grpSpPr>
                  <a:xfrm>
                    <a:off x="1547640" y="3581280"/>
                    <a:ext cx="6858000" cy="612360"/>
                    <a:chOff x="1547640" y="3581280"/>
                    <a:chExt cx="6858000" cy="612360"/>
                  </a:xfrm>
                </p:grpSpPr>
                <p:sp>
                  <p:nvSpPr>
                    <p:cNvPr id="1659" name=""/>
                    <p:cNvSpPr/>
                    <p:nvPr/>
                  </p:nvSpPr>
                  <p:spPr>
                    <a:xfrm>
                      <a:off x="1623600" y="3732120"/>
                      <a:ext cx="6324840" cy="1800"/>
                    </a:xfrm>
                    <a:prstGeom prst="line">
                      <a:avLst/>
                    </a:prstGeom>
                    <a:ln w="38160">
                      <a:solidFill>
                        <a:srgbClr val="6699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0" name=""/>
                    <p:cNvSpPr/>
                    <p:nvPr/>
                  </p:nvSpPr>
                  <p:spPr>
                    <a:xfrm>
                      <a:off x="1827000" y="3622680"/>
                      <a:ext cx="1440" cy="155520"/>
                    </a:xfrm>
                    <a:prstGeom prst="line">
                      <a:avLst/>
                    </a:prstGeom>
                    <a:ln w="158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1" name=""/>
                    <p:cNvSpPr/>
                    <p:nvPr/>
                  </p:nvSpPr>
                  <p:spPr>
                    <a:xfrm>
                      <a:off x="2247480" y="3622680"/>
                      <a:ext cx="1800" cy="155520"/>
                    </a:xfrm>
                    <a:prstGeom prst="line">
                      <a:avLst/>
                    </a:prstGeom>
                    <a:ln w="158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662" name=""/>
                    <p:cNvGrpSpPr/>
                    <p:nvPr/>
                  </p:nvGrpSpPr>
                  <p:grpSpPr>
                    <a:xfrm>
                      <a:off x="1547640" y="3581280"/>
                      <a:ext cx="6858000" cy="612360"/>
                      <a:chOff x="1547640" y="3581280"/>
                      <a:chExt cx="6858000" cy="612360"/>
                    </a:xfrm>
                  </p:grpSpPr>
                  <p:sp>
                    <p:nvSpPr>
                      <p:cNvPr id="1663" name=""/>
                      <p:cNvSpPr/>
                      <p:nvPr/>
                    </p:nvSpPr>
                    <p:spPr>
                      <a:xfrm>
                        <a:off x="2541240" y="377820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fcd14"/>
                            </a:solidFill>
                            <a:latin typeface="MS Sans Serif"/>
                            <a:ea typeface="宋体"/>
                          </a:rPr>
                          <a:t>-5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4" name=""/>
                      <p:cNvSpPr/>
                      <p:nvPr/>
                    </p:nvSpPr>
                    <p:spPr>
                      <a:xfrm>
                        <a:off x="6823080" y="3809880"/>
                        <a:ext cx="14688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0000"/>
                            </a:solidFill>
                            <a:latin typeface="MS Sans Serif"/>
                            <a:ea typeface="宋体"/>
                          </a:rPr>
                          <a:t>5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5" name=""/>
                      <p:cNvSpPr/>
                      <p:nvPr/>
                    </p:nvSpPr>
                    <p:spPr>
                      <a:xfrm>
                        <a:off x="3298320" y="380988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fcd14"/>
                            </a:solidFill>
                            <a:latin typeface="MS Sans Serif"/>
                            <a:ea typeface="宋体"/>
                          </a:rPr>
                          <a:t>-3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6" name=""/>
                      <p:cNvSpPr/>
                      <p:nvPr/>
                    </p:nvSpPr>
                    <p:spPr>
                      <a:xfrm>
                        <a:off x="2917440" y="379404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0000"/>
                            </a:solidFill>
                            <a:latin typeface="MS Sans Serif"/>
                            <a:ea typeface="宋体"/>
                          </a:rPr>
                          <a:t>-4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7" name=""/>
                      <p:cNvSpPr/>
                      <p:nvPr/>
                    </p:nvSpPr>
                    <p:spPr>
                      <a:xfrm>
                        <a:off x="6409080" y="3809880"/>
                        <a:ext cx="14688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0000"/>
                            </a:solidFill>
                            <a:latin typeface="MS Sans Serif"/>
                            <a:ea typeface="宋体"/>
                          </a:rPr>
                          <a:t>4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8" name=""/>
                      <p:cNvSpPr/>
                      <p:nvPr/>
                    </p:nvSpPr>
                    <p:spPr>
                      <a:xfrm>
                        <a:off x="3755520" y="379404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fcd14"/>
                            </a:solidFill>
                            <a:latin typeface="MS Sans Serif"/>
                            <a:ea typeface="宋体"/>
                          </a:rPr>
                          <a:t>-2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9" name=""/>
                      <p:cNvSpPr/>
                      <p:nvPr/>
                    </p:nvSpPr>
                    <p:spPr>
                      <a:xfrm>
                        <a:off x="5964480" y="3809880"/>
                        <a:ext cx="14688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0000"/>
                            </a:solidFill>
                            <a:latin typeface="MS Sans Serif"/>
                            <a:ea typeface="宋体"/>
                          </a:rPr>
                          <a:t>3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0" name=""/>
                      <p:cNvSpPr/>
                      <p:nvPr/>
                    </p:nvSpPr>
                    <p:spPr>
                      <a:xfrm>
                        <a:off x="4212720" y="379404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fcd14"/>
                            </a:solidFill>
                            <a:latin typeface="MS Sans Serif"/>
                            <a:ea typeface="宋体"/>
                          </a:rPr>
                          <a:t>-1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1" name=""/>
                      <p:cNvSpPr/>
                      <p:nvPr/>
                    </p:nvSpPr>
                    <p:spPr>
                      <a:xfrm>
                        <a:off x="5583240" y="3809880"/>
                        <a:ext cx="14688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fcd14"/>
                            </a:solidFill>
                            <a:latin typeface="MS Sans Serif"/>
                            <a:ea typeface="宋体"/>
                          </a:rPr>
                          <a:t>2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2" name=""/>
                      <p:cNvSpPr/>
                      <p:nvPr/>
                    </p:nvSpPr>
                    <p:spPr>
                      <a:xfrm>
                        <a:off x="5126040" y="3809880"/>
                        <a:ext cx="14688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fcd14"/>
                            </a:solidFill>
                            <a:latin typeface="MS Sans Serif"/>
                            <a:ea typeface="宋体"/>
                          </a:rPr>
                          <a:t>1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3" name=""/>
                      <p:cNvSpPr/>
                      <p:nvPr/>
                    </p:nvSpPr>
                    <p:spPr>
                      <a:xfrm>
                        <a:off x="2155320" y="380988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0000"/>
                            </a:solidFill>
                            <a:latin typeface="MS Sans Serif"/>
                            <a:ea typeface="宋体"/>
                          </a:rPr>
                          <a:t>-6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4" name=""/>
                      <p:cNvSpPr/>
                      <p:nvPr/>
                    </p:nvSpPr>
                    <p:spPr>
                      <a:xfrm>
                        <a:off x="7259760" y="3809880"/>
                        <a:ext cx="14688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fcd14"/>
                            </a:solidFill>
                            <a:latin typeface="MS Sans Serif"/>
                            <a:ea typeface="宋体"/>
                          </a:rPr>
                          <a:t>6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5" name=""/>
                      <p:cNvSpPr/>
                      <p:nvPr/>
                    </p:nvSpPr>
                    <p:spPr>
                      <a:xfrm>
                        <a:off x="4443120" y="3581280"/>
                        <a:ext cx="12952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800" spc="-1" strike="noStrike">
                            <a:solidFill>
                              <a:srgbClr val="007a77"/>
                            </a:solidFill>
                            <a:latin typeface="Times New Roman"/>
                            <a:ea typeface="宋体"/>
                          </a:rPr>
                          <a:t>o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6" name=""/>
                      <p:cNvSpPr/>
                      <p:nvPr/>
                    </p:nvSpPr>
                    <p:spPr>
                      <a:xfrm>
                        <a:off x="1547640" y="3733920"/>
                        <a:ext cx="761760" cy="457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7" name=""/>
                      <p:cNvSpPr/>
                      <p:nvPr/>
                    </p:nvSpPr>
                    <p:spPr>
                      <a:xfrm>
                        <a:off x="7643520" y="3733920"/>
                        <a:ext cx="7621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fcd14"/>
                            </a:solidFill>
                            <a:latin typeface="Times New Roman"/>
                            <a:ea typeface="宋体"/>
                          </a:rPr>
                          <a:t>X</a:t>
                        </a:r>
                        <a:endParaRPr b="0" lang="en-US" sz="24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678" name=""/>
              <p:cNvSpPr/>
              <p:nvPr/>
            </p:nvSpPr>
            <p:spPr>
              <a:xfrm>
                <a:off x="4748040" y="3581280"/>
                <a:ext cx="0" cy="15264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679" name=""/>
          <p:cNvGrpSpPr/>
          <p:nvPr/>
        </p:nvGrpSpPr>
        <p:grpSpPr>
          <a:xfrm>
            <a:off x="7885080" y="5734080"/>
            <a:ext cx="914400" cy="784080"/>
            <a:chOff x="7885080" y="5734080"/>
            <a:chExt cx="914400" cy="784080"/>
          </a:xfrm>
        </p:grpSpPr>
        <p:sp>
          <p:nvSpPr>
            <p:cNvPr id="1680" name=""/>
            <p:cNvSpPr/>
            <p:nvPr/>
          </p:nvSpPr>
          <p:spPr>
            <a:xfrm>
              <a:off x="7885080" y="5756040"/>
              <a:ext cx="184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8037360" y="5734080"/>
              <a:ext cx="762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682" name=""/>
          <p:cNvSpPr/>
          <p:nvPr/>
        </p:nvSpPr>
        <p:spPr>
          <a:xfrm>
            <a:off x="5894280" y="1839960"/>
            <a:ext cx="10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3,4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2843280" y="1557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-4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262560" y="53006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-4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908000" y="3357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  <a:ea typeface="宋体"/>
              </a:rPr>
              <a:t>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692360" y="5013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宋体"/>
              </a:rPr>
              <a:t>-6,-3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2700360" y="1557360"/>
            <a:ext cx="12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6515280" y="2795400"/>
            <a:ext cx="1440" cy="2549880"/>
            <a:chOff x="6515280" y="2795400"/>
            <a:chExt cx="1440" cy="2549880"/>
          </a:xfrm>
        </p:grpSpPr>
        <p:sp>
          <p:nvSpPr>
            <p:cNvPr id="1689" name=""/>
            <p:cNvSpPr/>
            <p:nvPr/>
          </p:nvSpPr>
          <p:spPr>
            <a:xfrm flipV="1">
              <a:off x="6515280" y="2795400"/>
              <a:ext cx="0" cy="9349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516720" y="3716280"/>
              <a:ext cx="0" cy="1629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691" name=""/>
          <p:cNvSpPr/>
          <p:nvPr/>
        </p:nvSpPr>
        <p:spPr>
          <a:xfrm>
            <a:off x="6094440" y="53434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692" name=""/>
          <p:cNvGrpSpPr/>
          <p:nvPr/>
        </p:nvGrpSpPr>
        <p:grpSpPr>
          <a:xfrm>
            <a:off x="3059280" y="1989000"/>
            <a:ext cx="2947680" cy="28800"/>
            <a:chOff x="3059280" y="1989000"/>
            <a:chExt cx="2947680" cy="28800"/>
          </a:xfrm>
        </p:grpSpPr>
        <p:sp>
          <p:nvSpPr>
            <p:cNvPr id="1693" name=""/>
            <p:cNvSpPr/>
            <p:nvPr/>
          </p:nvSpPr>
          <p:spPr>
            <a:xfrm>
              <a:off x="4643280" y="1989000"/>
              <a:ext cx="1363680" cy="28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3059280" y="1989000"/>
              <a:ext cx="1692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695" name=""/>
          <p:cNvSpPr/>
          <p:nvPr/>
        </p:nvSpPr>
        <p:spPr>
          <a:xfrm>
            <a:off x="5845320" y="1477800"/>
            <a:ext cx="123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2227320" y="2852640"/>
            <a:ext cx="11160" cy="2151000"/>
            <a:chOff x="2227320" y="2852640"/>
            <a:chExt cx="11160" cy="2151000"/>
          </a:xfrm>
        </p:grpSpPr>
        <p:sp>
          <p:nvSpPr>
            <p:cNvPr id="1697" name=""/>
            <p:cNvSpPr/>
            <p:nvPr/>
          </p:nvSpPr>
          <p:spPr>
            <a:xfrm>
              <a:off x="2227320" y="3774960"/>
              <a:ext cx="0" cy="12286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238480" y="2852640"/>
              <a:ext cx="0" cy="8636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699" name=""/>
          <p:cNvSpPr/>
          <p:nvPr/>
        </p:nvSpPr>
        <p:spPr>
          <a:xfrm>
            <a:off x="2108160" y="237492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2036880" y="235116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2050920" y="4508640"/>
            <a:ext cx="43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3059280" y="51166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宋体"/>
              </a:rPr>
              <a:t>E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3276720" y="4869000"/>
            <a:ext cx="123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2175840" y="328464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ec321e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f91122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ec321e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1835280" y="4724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6084720" y="15573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宋体"/>
              </a:rPr>
              <a:t>K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3110760" y="5300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-3,-4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6502320" y="26082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J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315120" y="2320920"/>
            <a:ext cx="58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2036880" y="321300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91122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2218320" y="2349360"/>
            <a:ext cx="12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  <a:ea typeface="宋体"/>
              </a:rPr>
              <a:t>-6,2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2987640" y="1916280"/>
            <a:ext cx="144360" cy="1443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6670080" y="2637000"/>
            <a:ext cx="8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宋体"/>
                <a:ea typeface="宋体"/>
              </a:rPr>
              <a:t>（</a:t>
            </a:r>
            <a:r>
              <a:rPr b="1" lang="zh-CN" sz="1800" spc="-1" strike="noStrike">
                <a:solidFill>
                  <a:srgbClr val="009900"/>
                </a:solidFill>
                <a:latin typeface="宋体"/>
                <a:ea typeface="宋体"/>
              </a:rPr>
              <a:t>4,2</a:t>
            </a:r>
            <a:r>
              <a:rPr b="1" lang="zh-CN" sz="1800" spc="-1" strike="noStrike">
                <a:solidFill>
                  <a:srgbClr val="009900"/>
                </a:solidFill>
                <a:latin typeface="宋体"/>
                <a:ea typeface="宋体"/>
              </a:rPr>
              <a:t>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714" name=""/>
          <p:cNvGrpSpPr/>
          <p:nvPr/>
        </p:nvGrpSpPr>
        <p:grpSpPr>
          <a:xfrm>
            <a:off x="3462480" y="5373720"/>
            <a:ext cx="3065400" cy="0"/>
            <a:chOff x="3462480" y="5373720"/>
            <a:chExt cx="3065400" cy="0"/>
          </a:xfrm>
        </p:grpSpPr>
        <p:sp>
          <p:nvSpPr>
            <p:cNvPr id="1715" name=""/>
            <p:cNvSpPr/>
            <p:nvPr/>
          </p:nvSpPr>
          <p:spPr>
            <a:xfrm>
              <a:off x="4759200" y="5373720"/>
              <a:ext cx="1768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3462480" y="537372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717" name=""/>
          <p:cNvSpPr/>
          <p:nvPr/>
        </p:nvSpPr>
        <p:spPr>
          <a:xfrm>
            <a:off x="6329520" y="4840200"/>
            <a:ext cx="123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68360" y="260280"/>
            <a:ext cx="38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　　线段ＡＫ、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Ｇ与Ｘ轴有什么位置关系？点Ａ点Ｋ的纵坐标有什么特点？点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点Ｇ呢？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5076720" y="26028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  <a:ea typeface="宋体"/>
              </a:rPr>
              <a:t>　　线段ＢＤ、ＧＪ与Ｘ轴有什么位置关系？点Ｂ点Ｄ的横坐标有什么特点？ 点Ｇ点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  <a:ea typeface="宋体"/>
              </a:rPr>
              <a:t>J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  <a:ea typeface="宋体"/>
              </a:rPr>
              <a:t>呢？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0" y="-572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Broadway"/>
                <a:ea typeface="华文行楷"/>
              </a:rPr>
              <a:t>问题探究</a:t>
            </a:r>
            <a:r>
              <a:rPr b="0" lang="zh-CN" sz="2400" spc="-1" strike="noStrike">
                <a:solidFill>
                  <a:srgbClr val="0066ff"/>
                </a:solidFill>
                <a:latin typeface="Broadway"/>
                <a:ea typeface="华文行楷"/>
              </a:rPr>
              <a:t>3</a:t>
            </a:r>
            <a:r>
              <a:rPr b="0" lang="zh-CN" sz="2400" spc="-1" strike="noStrike">
                <a:solidFill>
                  <a:srgbClr val="0066ff"/>
                </a:solidFill>
                <a:latin typeface="Broadway"/>
                <a:ea typeface="华文行楷"/>
              </a:rPr>
              <a:t>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1" name="">
            <a:hlinkClick r:id="rId1" action="ppaction://hlinksldjump"/>
          </p:cNvPr>
          <p:cNvSpPr/>
          <p:nvPr/>
        </p:nvSpPr>
        <p:spPr>
          <a:xfrm>
            <a:off x="7596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2" name="">
            <a:hlinkClick r:id="rId2" action="ppaction://hlinksldjump"/>
          </p:cNvPr>
          <p:cNvSpPr/>
          <p:nvPr/>
        </p:nvSpPr>
        <p:spPr>
          <a:xfrm>
            <a:off x="7451640" y="645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Broadway"/>
                <a:ea typeface="华文彩云"/>
              </a:rPr>
              <a:t>首    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3" name="">
            <a:hlinkClick r:id="rId3" action="ppaction://hlinksldjump"/>
          </p:cNvPr>
          <p:cNvSpPr/>
          <p:nvPr/>
        </p:nvSpPr>
        <p:spPr>
          <a:xfrm>
            <a:off x="8388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4" name="">
            <a:hlinkClick r:id="rId4" action="ppaction://hlinksldjump"/>
          </p:cNvPr>
          <p:cNvSpPr/>
          <p:nvPr/>
        </p:nvSpPr>
        <p:spPr>
          <a:xfrm>
            <a:off x="8280360" y="64533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Broadway"/>
                <a:ea typeface="华文彩云"/>
              </a:rPr>
              <a:t>返     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20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4" dur="1000" autoRev="1" fill="hold"/>
                                        <p:tgtEl>
                                          <p:spTgt spid="16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2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1000" autoRev="1" fill="hold"/>
                                        <p:tgtEl>
                                          <p:spTgt spid="17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2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1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500" autoRev="1" fill="hold"/>
                                        <p:tgtEl>
                                          <p:spTgt spid="16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500" autoRev="1" fill="hold"/>
                                        <p:tgtEl>
                                          <p:spTgt spid="16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"/>
          <p:cNvSpPr/>
          <p:nvPr/>
        </p:nvSpPr>
        <p:spPr>
          <a:xfrm>
            <a:off x="76320" y="144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304920" y="609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727" name=""/>
          <p:cNvGrpSpPr/>
          <p:nvPr/>
        </p:nvGrpSpPr>
        <p:grpSpPr>
          <a:xfrm>
            <a:off x="228600" y="609480"/>
            <a:ext cx="10744200" cy="916920"/>
            <a:chOff x="228600" y="609480"/>
            <a:chExt cx="10744200" cy="916920"/>
          </a:xfrm>
        </p:grpSpPr>
        <p:sp>
          <p:nvSpPr>
            <p:cNvPr id="1728" name=""/>
            <p:cNvSpPr/>
            <p:nvPr/>
          </p:nvSpPr>
          <p:spPr>
            <a:xfrm>
              <a:off x="380880" y="6094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、点（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-1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，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）在（      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28600" y="1066680"/>
              <a:ext cx="1074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A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、第一象限；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B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、第二象限；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C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、第三象限；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D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、第四象限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304920" y="1981080"/>
            <a:ext cx="9372600" cy="1282680"/>
            <a:chOff x="304920" y="1981080"/>
            <a:chExt cx="9372600" cy="1282680"/>
          </a:xfrm>
        </p:grpSpPr>
        <p:sp>
          <p:nvSpPr>
            <p:cNvPr id="1731" name=""/>
            <p:cNvSpPr/>
            <p:nvPr/>
          </p:nvSpPr>
          <p:spPr>
            <a:xfrm>
              <a:off x="304920" y="1981080"/>
              <a:ext cx="807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、若点（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，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Y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）在第四象限内，则（        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62120" y="243828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A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、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，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Y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同是正数                      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B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、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，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Y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同是负数                       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C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、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是正数，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Y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是负数              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D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、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是负数，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Y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是正数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324000" y="3573360"/>
            <a:ext cx="8610480" cy="1214640"/>
            <a:chOff x="324000" y="3573360"/>
            <a:chExt cx="8610480" cy="1214640"/>
          </a:xfrm>
        </p:grpSpPr>
        <p:sp>
          <p:nvSpPr>
            <p:cNvPr id="1734" name=""/>
            <p:cNvSpPr/>
            <p:nvPr/>
          </p:nvSpPr>
          <p:spPr>
            <a:xfrm>
              <a:off x="324000" y="3573360"/>
              <a:ext cx="861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、横坐标是正数，纵坐标的绝对值是正数的点在（        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62120" y="396252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A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、第一、三象限                     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B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、第二、四象限                   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C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、第二、三象限                     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D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、第一、四象限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736" name=""/>
          <p:cNvSpPr/>
          <p:nvPr/>
        </p:nvSpPr>
        <p:spPr>
          <a:xfrm>
            <a:off x="304920" y="525780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、若点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）在第二象限，则点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）在（     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、第一象限；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、第二象限；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、第三象限；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D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、第四象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3200400" y="533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715000" y="1905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46748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7380360" y="5157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24768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Broadway"/>
                <a:ea typeface="宋体"/>
              </a:rPr>
              <a:t>练兵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2" name="">
            <a:hlinkClick r:id="rId2" action="ppaction://hlinksldjump"/>
          </p:cNvPr>
          <p:cNvSpPr/>
          <p:nvPr/>
        </p:nvSpPr>
        <p:spPr>
          <a:xfrm>
            <a:off x="7596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3" name="">
            <a:hlinkClick r:id="rId3" action="ppaction://hlinksldjump"/>
          </p:cNvPr>
          <p:cNvSpPr/>
          <p:nvPr/>
        </p:nvSpPr>
        <p:spPr>
          <a:xfrm>
            <a:off x="7451640" y="645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Broadway"/>
                <a:ea typeface="华文彩云"/>
              </a:rPr>
              <a:t>首    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4" name="">
            <a:hlinkClick r:id="rId4" action="ppaction://hlinksldjump"/>
          </p:cNvPr>
          <p:cNvSpPr/>
          <p:nvPr/>
        </p:nvSpPr>
        <p:spPr>
          <a:xfrm>
            <a:off x="8388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5" name="">
            <a:hlinkClick r:id="rId5" action="ppaction://hlinksldjump"/>
          </p:cNvPr>
          <p:cNvSpPr/>
          <p:nvPr/>
        </p:nvSpPr>
        <p:spPr>
          <a:xfrm>
            <a:off x="8280360" y="64533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Broadway"/>
                <a:ea typeface="华文彩云"/>
              </a:rPr>
              <a:t>返     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如果同一直角坐标系下两个点的横坐标相同，那么过这两点的线段（       ）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平行于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轴  （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平行于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经过原点   （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以上都不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503280" y="3068640"/>
            <a:ext cx="716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、点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M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- 2,-1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）在第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象限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点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N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4,6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）在第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象限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、若点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X, Y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）的坐标满足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X•Y = 0,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则点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上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6114600" y="90792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340000" y="47815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Broadway"/>
                <a:ea typeface="黑体"/>
              </a:rPr>
              <a:t>横轴或纵轴上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4211640" y="306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Broadway"/>
                <a:ea typeface="黑体"/>
              </a:rPr>
              <a:t>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3132000" y="3500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Broadway"/>
                <a:ea typeface="黑体"/>
              </a:rPr>
              <a:t>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2" name="">
            <a:hlinkClick r:id="rId2" action="ppaction://hlinksldjump"/>
          </p:cNvPr>
          <p:cNvSpPr/>
          <p:nvPr/>
        </p:nvSpPr>
        <p:spPr>
          <a:xfrm>
            <a:off x="7596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3" name="">
            <a:hlinkClick r:id="rId3" action="ppaction://hlinksldjump"/>
          </p:cNvPr>
          <p:cNvSpPr/>
          <p:nvPr/>
        </p:nvSpPr>
        <p:spPr>
          <a:xfrm>
            <a:off x="7451640" y="645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Broadway"/>
                <a:ea typeface="华文彩云"/>
              </a:rPr>
              <a:t>首    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4" name="">
            <a:hlinkClick r:id="rId4" action="ppaction://hlinksldjump"/>
          </p:cNvPr>
          <p:cNvSpPr/>
          <p:nvPr/>
        </p:nvSpPr>
        <p:spPr>
          <a:xfrm>
            <a:off x="8388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5" name="">
            <a:hlinkClick r:id="rId5" action="ppaction://hlinksldjump"/>
          </p:cNvPr>
          <p:cNvSpPr/>
          <p:nvPr/>
        </p:nvSpPr>
        <p:spPr>
          <a:xfrm>
            <a:off x="8280360" y="64533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Broadway"/>
                <a:ea typeface="华文彩云"/>
              </a:rPr>
              <a:t>返     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/>
          <p:nvPr/>
        </p:nvSpPr>
        <p:spPr>
          <a:xfrm>
            <a:off x="230040" y="122400"/>
            <a:ext cx="271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5200" bIns="36000" anchor="b">
            <a:noAutofit/>
          </a:bodyPr>
          <a:p>
            <a:pPr algn="just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7a77"/>
                </a:solidFill>
                <a:latin typeface="Arial"/>
                <a:ea typeface="宋体"/>
              </a:rPr>
              <a:t>zuobaio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1110600" y="0"/>
            <a:ext cx="5712120" cy="6019560"/>
            <a:chOff x="1110600" y="0"/>
            <a:chExt cx="5712120" cy="6019560"/>
          </a:xfrm>
        </p:grpSpPr>
        <p:grpSp>
          <p:nvGrpSpPr>
            <p:cNvPr id="1758" name=""/>
            <p:cNvGrpSpPr/>
            <p:nvPr/>
          </p:nvGrpSpPr>
          <p:grpSpPr>
            <a:xfrm>
              <a:off x="1110600" y="307440"/>
              <a:ext cx="5712120" cy="5712120"/>
              <a:chOff x="1110600" y="307440"/>
              <a:chExt cx="5712120" cy="5712120"/>
            </a:xfrm>
          </p:grpSpPr>
          <p:sp>
            <p:nvSpPr>
              <p:cNvPr id="1759" name=""/>
              <p:cNvSpPr/>
              <p:nvPr/>
            </p:nvSpPr>
            <p:spPr>
              <a:xfrm flipV="1">
                <a:off x="3955320" y="307440"/>
                <a:ext cx="21960" cy="5712120"/>
              </a:xfrm>
              <a:prstGeom prst="line">
                <a:avLst/>
              </a:prstGeom>
              <a:ln w="36000">
                <a:solidFill>
                  <a:srgbClr val="f91122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 txBox="1"/>
              <p:nvPr/>
            </p:nvSpPr>
            <p:spPr>
              <a:xfrm rot="10800000">
                <a:off x="1110600" y="3152160"/>
                <a:ext cx="5712120" cy="2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840" bIns="-2484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761" name=""/>
            <p:cNvSpPr/>
            <p:nvPr/>
          </p:nvSpPr>
          <p:spPr>
            <a:xfrm>
              <a:off x="4154400" y="0"/>
              <a:ext cx="558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>
                <a:lnSpc>
                  <a:spcPts val="2662"/>
                </a:lnSpc>
                <a:spcBef>
                  <a:spcPts val="13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y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336600" y="3129120"/>
            <a:ext cx="8607240" cy="601560"/>
            <a:chOff x="336600" y="3129120"/>
            <a:chExt cx="8607240" cy="601560"/>
          </a:xfrm>
        </p:grpSpPr>
        <p:sp>
          <p:nvSpPr>
            <p:cNvPr id="1763" name=""/>
            <p:cNvSpPr/>
            <p:nvPr/>
          </p:nvSpPr>
          <p:spPr>
            <a:xfrm>
              <a:off x="3720960" y="3273480"/>
              <a:ext cx="487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>
                <a:lnSpc>
                  <a:spcPts val="2662"/>
                </a:lnSpc>
                <a:spcBef>
                  <a:spcPts val="13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O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764" name=""/>
            <p:cNvGrpSpPr/>
            <p:nvPr/>
          </p:nvGrpSpPr>
          <p:grpSpPr>
            <a:xfrm>
              <a:off x="336600" y="3129120"/>
              <a:ext cx="8607240" cy="471600"/>
              <a:chOff x="336600" y="3129120"/>
              <a:chExt cx="8607240" cy="471600"/>
            </a:xfrm>
          </p:grpSpPr>
          <p:grpSp>
            <p:nvGrpSpPr>
              <p:cNvPr id="1765" name=""/>
              <p:cNvGrpSpPr/>
              <p:nvPr/>
            </p:nvGrpSpPr>
            <p:grpSpPr>
              <a:xfrm>
                <a:off x="336600" y="3129120"/>
                <a:ext cx="8607240" cy="7920"/>
                <a:chOff x="336600" y="3129120"/>
                <a:chExt cx="8607240" cy="7920"/>
              </a:xfrm>
            </p:grpSpPr>
            <p:sp>
              <p:nvSpPr>
                <p:cNvPr id="1766" name=""/>
                <p:cNvSpPr/>
                <p:nvPr/>
              </p:nvSpPr>
              <p:spPr>
                <a:xfrm flipV="1">
                  <a:off x="336600" y="3129120"/>
                  <a:ext cx="8607240" cy="7920"/>
                </a:xfrm>
                <a:prstGeom prst="line">
                  <a:avLst/>
                </a:prstGeom>
                <a:ln w="36000">
                  <a:solidFill>
                    <a:srgbClr val="008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767" name=""/>
                <p:cNvSpPr txBox="1"/>
                <p:nvPr/>
              </p:nvSpPr>
              <p:spPr>
                <a:xfrm>
                  <a:off x="336600" y="3129120"/>
                  <a:ext cx="8607240" cy="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8880" bIns="-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8" name=""/>
              <p:cNvSpPr/>
              <p:nvPr/>
            </p:nvSpPr>
            <p:spPr>
              <a:xfrm>
                <a:off x="8640360" y="3143520"/>
                <a:ext cx="303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36000" anchor="t">
                <a:noAutofit/>
              </a:bodyPr>
              <a:p>
                <a:pPr>
                  <a:lnSpc>
                    <a:spcPts val="2662"/>
                  </a:lnSpc>
                  <a:spcBef>
                    <a:spcPts val="13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x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1769" name=""/>
          <p:cNvSpPr/>
          <p:nvPr/>
        </p:nvSpPr>
        <p:spPr>
          <a:xfrm>
            <a:off x="3894120" y="3054240"/>
            <a:ext cx="142920" cy="142920"/>
          </a:xfrm>
          <a:prstGeom prst="ellipse">
            <a:avLst/>
          </a:prstGeom>
          <a:solidFill>
            <a:srgbClr val="000c0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770" name=""/>
          <p:cNvGrpSpPr/>
          <p:nvPr/>
        </p:nvGrpSpPr>
        <p:grpSpPr>
          <a:xfrm>
            <a:off x="468360" y="907920"/>
            <a:ext cx="8313480" cy="5683320"/>
            <a:chOff x="468360" y="907920"/>
            <a:chExt cx="8313480" cy="5683320"/>
          </a:xfrm>
        </p:grpSpPr>
        <p:sp>
          <p:nvSpPr>
            <p:cNvPr id="1771" name=""/>
            <p:cNvSpPr/>
            <p:nvPr/>
          </p:nvSpPr>
          <p:spPr>
            <a:xfrm>
              <a:off x="468360" y="1493640"/>
              <a:ext cx="130644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839960" y="1493640"/>
              <a:ext cx="130644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68360" y="2135160"/>
              <a:ext cx="130644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839960" y="2135160"/>
              <a:ext cx="130644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68360" y="2771640"/>
              <a:ext cx="13064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839960" y="2771640"/>
              <a:ext cx="13064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68360" y="3413160"/>
              <a:ext cx="130644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839960" y="3413160"/>
              <a:ext cx="130644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68360" y="4054320"/>
              <a:ext cx="130644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839960" y="4054320"/>
              <a:ext cx="130644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68360" y="4694040"/>
              <a:ext cx="130644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839960" y="4694040"/>
              <a:ext cx="130644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68360" y="5332320"/>
              <a:ext cx="130644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839960" y="5332320"/>
              <a:ext cx="130644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925560" y="5972040"/>
              <a:ext cx="130644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42880" y="928440"/>
              <a:ext cx="1033560" cy="4683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黄   平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979640" y="928440"/>
              <a:ext cx="1030320" cy="4683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李   鑫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42880" y="1604880"/>
              <a:ext cx="1033560" cy="4683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田   静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979640" y="2859120"/>
              <a:ext cx="1030320" cy="46332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张   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979640" y="1620720"/>
              <a:ext cx="1030320" cy="46368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李   科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954440" y="2246040"/>
              <a:ext cx="1109520" cy="4683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虞苗苗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42880" y="2260440"/>
              <a:ext cx="1033560" cy="46512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阿   米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42880" y="2876400"/>
              <a:ext cx="1033560" cy="46512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郭   璐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42880" y="3520800"/>
              <a:ext cx="1033560" cy="46368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王   璐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971720" y="3524040"/>
              <a:ext cx="1033560" cy="4683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郑   怡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979640" y="4162320"/>
              <a:ext cx="1108080" cy="46368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崔珊珊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36760" y="4154400"/>
              <a:ext cx="1108080" cy="4683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权智威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42880" y="4816440"/>
              <a:ext cx="1109880" cy="4683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陈学良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42880" y="5425920"/>
              <a:ext cx="1033560" cy="46368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金下靖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979640" y="4798800"/>
              <a:ext cx="1030320" cy="46368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陈   巍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979640" y="5425920"/>
              <a:ext cx="1030320" cy="46368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张   天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441960" y="928440"/>
              <a:ext cx="1028880" cy="46512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91122"/>
                  </a:solidFill>
                  <a:latin typeface="Arial"/>
                  <a:ea typeface="宋体"/>
                </a:rPr>
                <a:t>卢   璐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423240" y="1609560"/>
              <a:ext cx="1106280" cy="4683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91122"/>
                  </a:solidFill>
                  <a:latin typeface="Arial"/>
                  <a:ea typeface="宋体"/>
                </a:rPr>
                <a:t>木妮热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423240" y="2246040"/>
              <a:ext cx="1029960" cy="4683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91122"/>
                  </a:solidFill>
                  <a:latin typeface="Arial"/>
                  <a:ea typeface="宋体"/>
                </a:rPr>
                <a:t>陈   昕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397680" y="2859120"/>
              <a:ext cx="1033560" cy="46332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tile tx="0" ty="0" sx="100000" sy="100000" algn="ctr"/>
            </a:blipFill>
            <a:ln w="72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  <a:ea typeface="宋体"/>
                </a:rPr>
                <a:t>王玉巧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380040" y="3503520"/>
              <a:ext cx="1109880" cy="4665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91122"/>
                  </a:solidFill>
                  <a:latin typeface="Arial"/>
                  <a:ea typeface="宋体"/>
                </a:rPr>
                <a:t>李文斐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380040" y="4146480"/>
              <a:ext cx="1033560" cy="46512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91122"/>
                  </a:solidFill>
                  <a:latin typeface="Arial"/>
                  <a:ea typeface="宋体"/>
                </a:rPr>
                <a:t>王   斐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380040" y="4781520"/>
              <a:ext cx="1109880" cy="4665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91122"/>
                  </a:solidFill>
                  <a:latin typeface="Arial"/>
                  <a:ea typeface="宋体"/>
                </a:rPr>
                <a:t>时晓伟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380040" y="5425920"/>
              <a:ext cx="1109880" cy="46692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91122"/>
                  </a:solidFill>
                  <a:latin typeface="Arial"/>
                  <a:ea typeface="宋体"/>
                </a:rPr>
                <a:t>王甚琨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888800" y="925560"/>
              <a:ext cx="1104840" cy="46332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杨    杨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910760" y="1604880"/>
              <a:ext cx="1108080" cy="4683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漆佳莹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888800" y="2271600"/>
              <a:ext cx="1104840" cy="4683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石    颖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936320" y="2847960"/>
              <a:ext cx="1033560" cy="4683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兰   鸯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907880" y="3492360"/>
              <a:ext cx="1104840" cy="4683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孙    良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893480" y="4118040"/>
              <a:ext cx="1108080" cy="46800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陈东媛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910760" y="4798800"/>
              <a:ext cx="1033560" cy="46368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魏   娜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893480" y="5414760"/>
              <a:ext cx="1108080" cy="4683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齐晓雪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293880" y="4781520"/>
              <a:ext cx="1033560" cy="4665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吕   鹏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311520" y="4128840"/>
              <a:ext cx="1108080" cy="4683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马长江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300360" y="3484440"/>
              <a:ext cx="1109520" cy="4683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刘光玺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319440" y="2263680"/>
              <a:ext cx="1108080" cy="4683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张    博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336720" y="2859120"/>
              <a:ext cx="1108080" cy="4665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杨子伟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336720" y="1638360"/>
              <a:ext cx="1108080" cy="46800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韩丽娟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336720" y="954000"/>
              <a:ext cx="1028880" cy="46512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宫   珊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665840" y="907920"/>
              <a:ext cx="1033560" cy="46692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王   涛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654680" y="1604880"/>
              <a:ext cx="1108080" cy="46512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艾能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672320" y="2239920"/>
              <a:ext cx="1109520" cy="46332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王淳惠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643880" y="2828880"/>
              <a:ext cx="1109520" cy="4683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高    翔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632720" y="3473280"/>
              <a:ext cx="1104840" cy="4683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党    璐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654680" y="4154400"/>
              <a:ext cx="1108080" cy="46512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颜文婷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654680" y="4762440"/>
              <a:ext cx="1108080" cy="468360"/>
            </a:xfrm>
            <a:prstGeom prst="rect">
              <a:avLst/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b">
              <a:noAutofit/>
            </a:bodyPr>
            <a:p>
              <a:pPr algn="just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闵    静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832" name=""/>
          <p:cNvSpPr/>
          <p:nvPr/>
        </p:nvSpPr>
        <p:spPr>
          <a:xfrm>
            <a:off x="0" y="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Broadway"/>
                <a:ea typeface="宋体"/>
              </a:rPr>
              <a:t>请大家找出自己座位的坐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3" name="">
            <a:hlinkClick r:id="rId3" action="ppaction://hlinksldjump"/>
          </p:cNvPr>
          <p:cNvSpPr/>
          <p:nvPr/>
        </p:nvSpPr>
        <p:spPr>
          <a:xfrm>
            <a:off x="7596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4" name="">
            <a:hlinkClick r:id="rId4" action="ppaction://hlinksldjump"/>
          </p:cNvPr>
          <p:cNvSpPr/>
          <p:nvPr/>
        </p:nvSpPr>
        <p:spPr>
          <a:xfrm>
            <a:off x="7451640" y="645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Broadway"/>
                <a:ea typeface="华文彩云"/>
              </a:rPr>
              <a:t>首    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5" name="">
            <a:hlinkClick r:id="rId5" action="ppaction://hlinksldjump"/>
          </p:cNvPr>
          <p:cNvSpPr/>
          <p:nvPr/>
        </p:nvSpPr>
        <p:spPr>
          <a:xfrm>
            <a:off x="8388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6" name="">
            <a:hlinkClick r:id="rId6" action="ppaction://hlinksldjump"/>
          </p:cNvPr>
          <p:cNvSpPr/>
          <p:nvPr/>
        </p:nvSpPr>
        <p:spPr>
          <a:xfrm>
            <a:off x="8280360" y="64533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Broadway"/>
                <a:ea typeface="华文彩云"/>
              </a:rPr>
              <a:t>返     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7" name=""/>
          <p:cNvGraphicFramePr/>
          <p:nvPr/>
        </p:nvGraphicFramePr>
        <p:xfrm>
          <a:off x="457200" y="274680"/>
          <a:ext cx="8229600" cy="586404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38" name=""/>
          <p:cNvGrpSpPr/>
          <p:nvPr/>
        </p:nvGrpSpPr>
        <p:grpSpPr>
          <a:xfrm>
            <a:off x="5148360" y="2421000"/>
            <a:ext cx="1366920" cy="1008360"/>
            <a:chOff x="5148360" y="2421000"/>
            <a:chExt cx="1366920" cy="1008360"/>
          </a:xfrm>
        </p:grpSpPr>
        <p:sp>
          <p:nvSpPr>
            <p:cNvPr id="1839" name=""/>
            <p:cNvSpPr/>
            <p:nvPr/>
          </p:nvSpPr>
          <p:spPr>
            <a:xfrm>
              <a:off x="5435640" y="270828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教学楼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148360" y="2421000"/>
              <a:ext cx="358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cc"/>
                  </a:solidFill>
                  <a:latin typeface="Arial"/>
                  <a:ea typeface="宋体"/>
                </a:rPr>
                <a:t>．</a:t>
              </a:r>
              <a:endParaRPr b="0" lang="en-US" sz="6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5940360" y="1844640"/>
            <a:ext cx="1440000" cy="1008360"/>
            <a:chOff x="5940360" y="1844640"/>
            <a:chExt cx="1440000" cy="1008360"/>
          </a:xfrm>
        </p:grpSpPr>
        <p:sp>
          <p:nvSpPr>
            <p:cNvPr id="1842" name=""/>
            <p:cNvSpPr/>
            <p:nvPr/>
          </p:nvSpPr>
          <p:spPr>
            <a:xfrm>
              <a:off x="5940360" y="1844640"/>
              <a:ext cx="57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740616"/>
                  </a:solidFill>
                  <a:latin typeface="Arial"/>
                  <a:ea typeface="宋体"/>
                </a:rPr>
                <a:t>．</a:t>
              </a:r>
              <a:endParaRPr b="0" lang="en-US" sz="6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443640" y="2133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40616"/>
                  </a:solidFill>
                  <a:latin typeface="Arial"/>
                  <a:ea typeface="宋体"/>
                </a:rPr>
                <a:t>运动场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6804000" y="2997360"/>
            <a:ext cx="1152720" cy="1008360"/>
            <a:chOff x="6804000" y="2997360"/>
            <a:chExt cx="1152720" cy="1008360"/>
          </a:xfrm>
        </p:grpSpPr>
        <p:sp>
          <p:nvSpPr>
            <p:cNvPr id="1845" name=""/>
            <p:cNvSpPr/>
            <p:nvPr/>
          </p:nvSpPr>
          <p:spPr>
            <a:xfrm>
              <a:off x="6948360" y="328464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实验楼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804000" y="2997360"/>
              <a:ext cx="360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．</a:t>
              </a:r>
              <a:endParaRPr b="0" lang="en-US" sz="6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179280" y="4221000"/>
            <a:ext cx="8453520" cy="736560"/>
            <a:chOff x="179280" y="4221000"/>
            <a:chExt cx="8453520" cy="736560"/>
          </a:xfrm>
        </p:grpSpPr>
        <p:grpSp>
          <p:nvGrpSpPr>
            <p:cNvPr id="1848" name=""/>
            <p:cNvGrpSpPr/>
            <p:nvPr/>
          </p:nvGrpSpPr>
          <p:grpSpPr>
            <a:xfrm>
              <a:off x="352440" y="4221000"/>
              <a:ext cx="8280360" cy="144720"/>
              <a:chOff x="352440" y="4221000"/>
              <a:chExt cx="8280360" cy="144720"/>
            </a:xfrm>
          </p:grpSpPr>
          <p:sp>
            <p:nvSpPr>
              <p:cNvPr id="1849" name=""/>
              <p:cNvSpPr/>
              <p:nvPr/>
            </p:nvSpPr>
            <p:spPr>
              <a:xfrm>
                <a:off x="352440" y="4365720"/>
                <a:ext cx="828036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256080" y="4221000"/>
                <a:ext cx="0" cy="14472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062480" y="4221000"/>
                <a:ext cx="0" cy="14472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899120" y="4221000"/>
                <a:ext cx="0" cy="14472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421240" y="4221000"/>
                <a:ext cx="0" cy="14472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779640" y="4221000"/>
                <a:ext cx="0" cy="14472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2944800" y="4221000"/>
                <a:ext cx="0" cy="14472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2138400" y="4221000"/>
                <a:ext cx="0" cy="14472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301760" y="4221000"/>
                <a:ext cx="0" cy="14472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82400" y="4221000"/>
                <a:ext cx="0" cy="14472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859" name=""/>
            <p:cNvGrpSpPr/>
            <p:nvPr/>
          </p:nvGrpSpPr>
          <p:grpSpPr>
            <a:xfrm>
              <a:off x="179280" y="4280040"/>
              <a:ext cx="8453520" cy="677520"/>
              <a:chOff x="179280" y="4280040"/>
              <a:chExt cx="8453520" cy="677520"/>
            </a:xfrm>
          </p:grpSpPr>
          <p:sp>
            <p:nvSpPr>
              <p:cNvPr id="1860" name=""/>
              <p:cNvSpPr/>
              <p:nvPr/>
            </p:nvSpPr>
            <p:spPr>
              <a:xfrm>
                <a:off x="8200800" y="443700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宋体"/>
                    <a:ea typeface="宋体"/>
                  </a:rPr>
                  <a:t>X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249880" y="429264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宋体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6070320" y="4292640"/>
                <a:ext cx="57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宋体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6905520" y="428004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宋体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681680" y="4294080"/>
                <a:ext cx="57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宋体"/>
                    <a:ea typeface="宋体"/>
                  </a:rPr>
                  <a:t>4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3448080" y="429408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宋体"/>
                    <a:ea typeface="宋体"/>
                  </a:rPr>
                  <a:t>-1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2643120" y="4292640"/>
                <a:ext cx="58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宋体"/>
                    <a:ea typeface="宋体"/>
                  </a:rPr>
                  <a:t>-2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792080" y="4292640"/>
                <a:ext cx="57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宋体"/>
                    <a:ea typeface="宋体"/>
                  </a:rPr>
                  <a:t>-3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957240" y="428004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宋体"/>
                    <a:ea typeface="宋体"/>
                  </a:rPr>
                  <a:t>-4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79280" y="428004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宋体"/>
                    <a:ea typeface="宋体"/>
                  </a:rPr>
                  <a:t>-5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870" name=""/>
          <p:cNvGrpSpPr/>
          <p:nvPr/>
        </p:nvGrpSpPr>
        <p:grpSpPr>
          <a:xfrm>
            <a:off x="4067280" y="188640"/>
            <a:ext cx="1190520" cy="6105240"/>
            <a:chOff x="4067280" y="188640"/>
            <a:chExt cx="1190520" cy="6105240"/>
          </a:xfrm>
        </p:grpSpPr>
        <p:grpSp>
          <p:nvGrpSpPr>
            <p:cNvPr id="1871" name=""/>
            <p:cNvGrpSpPr/>
            <p:nvPr/>
          </p:nvGrpSpPr>
          <p:grpSpPr>
            <a:xfrm>
              <a:off x="4572000" y="850680"/>
              <a:ext cx="173160" cy="5270760"/>
              <a:chOff x="4572000" y="850680"/>
              <a:chExt cx="173160" cy="5270760"/>
            </a:xfrm>
          </p:grpSpPr>
          <p:sp>
            <p:nvSpPr>
              <p:cNvPr id="1872" name=""/>
              <p:cNvSpPr/>
              <p:nvPr/>
            </p:nvSpPr>
            <p:spPr>
              <a:xfrm flipV="1">
                <a:off x="4572000" y="850680"/>
                <a:ext cx="173160" cy="1404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4572000" y="1427040"/>
                <a:ext cx="173160" cy="1440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V="1">
                <a:off x="4572000" y="2003400"/>
                <a:ext cx="173160" cy="1440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V="1">
                <a:off x="4572000" y="2622600"/>
                <a:ext cx="173160" cy="1440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V="1">
                <a:off x="4572000" y="3198600"/>
                <a:ext cx="173160" cy="1404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V="1">
                <a:off x="4572000" y="3774960"/>
                <a:ext cx="173160" cy="1440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V="1">
                <a:off x="4572000" y="4365360"/>
                <a:ext cx="173160" cy="1404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V="1">
                <a:off x="4572000" y="4941720"/>
                <a:ext cx="173160" cy="1440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V="1">
                <a:off x="4572000" y="5516280"/>
                <a:ext cx="173160" cy="1404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V="1">
                <a:off x="4572000" y="6107040"/>
                <a:ext cx="173160" cy="1440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882" name=""/>
            <p:cNvGrpSpPr/>
            <p:nvPr/>
          </p:nvGrpSpPr>
          <p:grpSpPr>
            <a:xfrm>
              <a:off x="4067280" y="188640"/>
              <a:ext cx="1190520" cy="6105240"/>
              <a:chOff x="4067280" y="188640"/>
              <a:chExt cx="1190520" cy="6105240"/>
            </a:xfrm>
          </p:grpSpPr>
          <p:grpSp>
            <p:nvGrpSpPr>
              <p:cNvPr id="1883" name=""/>
              <p:cNvGrpSpPr/>
              <p:nvPr/>
            </p:nvGrpSpPr>
            <p:grpSpPr>
              <a:xfrm>
                <a:off x="4242960" y="188640"/>
                <a:ext cx="1014840" cy="6048360"/>
                <a:chOff x="4242960" y="188640"/>
                <a:chExt cx="1014840" cy="6048360"/>
              </a:xfrm>
            </p:grpSpPr>
            <p:grpSp>
              <p:nvGrpSpPr>
                <p:cNvPr id="1884" name=""/>
                <p:cNvGrpSpPr/>
                <p:nvPr/>
              </p:nvGrpSpPr>
              <p:grpSpPr>
                <a:xfrm>
                  <a:off x="4466880" y="188640"/>
                  <a:ext cx="790920" cy="6048360"/>
                  <a:chOff x="4466880" y="188640"/>
                  <a:chExt cx="790920" cy="6048360"/>
                </a:xfrm>
              </p:grpSpPr>
              <p:grpSp>
                <p:nvGrpSpPr>
                  <p:cNvPr id="1885" name=""/>
                  <p:cNvGrpSpPr/>
                  <p:nvPr/>
                </p:nvGrpSpPr>
                <p:grpSpPr>
                  <a:xfrm>
                    <a:off x="4537800" y="188640"/>
                    <a:ext cx="720000" cy="6048360"/>
                    <a:chOff x="4537800" y="188640"/>
                    <a:chExt cx="720000" cy="6048360"/>
                  </a:xfrm>
                </p:grpSpPr>
                <p:sp>
                  <p:nvSpPr>
                    <p:cNvPr id="1886" name=""/>
                    <p:cNvSpPr/>
                    <p:nvPr/>
                  </p:nvSpPr>
                  <p:spPr>
                    <a:xfrm flipV="1">
                      <a:off x="4537800" y="188640"/>
                      <a:ext cx="0" cy="6048360"/>
                    </a:xfrm>
                    <a:prstGeom prst="line">
                      <a:avLst/>
                    </a:prstGeom>
                    <a:ln w="57240">
                      <a:solidFill>
                        <a:srgbClr val="0033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7" name=""/>
                    <p:cNvSpPr/>
                    <p:nvPr/>
                  </p:nvSpPr>
                  <p:spPr>
                    <a:xfrm>
                      <a:off x="4681800" y="333360"/>
                      <a:ext cx="5760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宋体"/>
                          <a:ea typeface="宋体"/>
                        </a:rPr>
                        <a:t>Y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88" name=""/>
                  <p:cNvSpPr/>
                  <p:nvPr/>
                </p:nvSpPr>
                <p:spPr>
                  <a:xfrm>
                    <a:off x="4466880" y="4292640"/>
                    <a:ext cx="142200" cy="142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9" name=""/>
                <p:cNvSpPr/>
                <p:nvPr/>
              </p:nvSpPr>
              <p:spPr>
                <a:xfrm>
                  <a:off x="4242960" y="426708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a77"/>
                      </a:solidFill>
                      <a:latin typeface="宋体"/>
                      <a:ea typeface="宋体"/>
                    </a:rPr>
                    <a:t>0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0" name=""/>
              <p:cNvGrpSpPr/>
              <p:nvPr/>
            </p:nvGrpSpPr>
            <p:grpSpPr>
              <a:xfrm>
                <a:off x="4067280" y="606600"/>
                <a:ext cx="732960" cy="5687280"/>
                <a:chOff x="4067280" y="606600"/>
                <a:chExt cx="732960" cy="568728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4225680" y="3529080"/>
                  <a:ext cx="57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ff"/>
                      </a:solidFill>
                      <a:latin typeface="宋体"/>
                      <a:ea typeface="宋体"/>
                    </a:rPr>
                    <a:t>1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4211640" y="2938320"/>
                  <a:ext cx="574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ff"/>
                      </a:solidFill>
                      <a:latin typeface="宋体"/>
                      <a:ea typeface="宋体"/>
                    </a:rPr>
                    <a:t>2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4209840" y="2378160"/>
                  <a:ext cx="57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ff"/>
                      </a:solidFill>
                      <a:latin typeface="宋体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4182840" y="1787400"/>
                  <a:ext cx="57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ff"/>
                      </a:solidFill>
                      <a:latin typeface="宋体"/>
                      <a:ea typeface="宋体"/>
                    </a:rPr>
                    <a:t>4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4195800" y="1225440"/>
                  <a:ext cx="574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ff"/>
                      </a:solidFill>
                      <a:latin typeface="宋体"/>
                      <a:ea typeface="宋体"/>
                    </a:rPr>
                    <a:t>5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176720" y="606600"/>
                  <a:ext cx="574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ff"/>
                      </a:solidFill>
                      <a:latin typeface="宋体"/>
                      <a:ea typeface="宋体"/>
                    </a:rPr>
                    <a:t>6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067280" y="4667400"/>
                  <a:ext cx="57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ff"/>
                      </a:solidFill>
                      <a:latin typeface="宋体"/>
                      <a:ea typeface="宋体"/>
                    </a:rPr>
                    <a:t>-1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97160" y="5272200"/>
                  <a:ext cx="588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ff"/>
                      </a:solidFill>
                      <a:latin typeface="宋体"/>
                      <a:ea typeface="宋体"/>
                    </a:rPr>
                    <a:t>-2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67280" y="5834160"/>
                  <a:ext cx="57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ff"/>
                      </a:solidFill>
                      <a:latin typeface="宋体"/>
                      <a:ea typeface="宋体"/>
                    </a:rPr>
                    <a:t>-3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00" name=""/>
          <p:cNvSpPr/>
          <p:nvPr/>
        </p:nvSpPr>
        <p:spPr>
          <a:xfrm>
            <a:off x="5508720" y="2924280"/>
            <a:ext cx="71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(1,2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7164360" y="3500280"/>
            <a:ext cx="7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(3,1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6300720" y="2349360"/>
            <a:ext cx="7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宋体"/>
              </a:rPr>
              <a:t>(2,3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932360" y="4508640"/>
            <a:ext cx="936720" cy="609480"/>
          </a:xfrm>
          <a:prstGeom prst="wedgeEllipseCallout">
            <a:avLst>
              <a:gd name="adj1" fmla="val -88134"/>
              <a:gd name="adj2" fmla="val -68490"/>
            </a:avLst>
          </a:prstGeom>
          <a:solidFill>
            <a:srgbClr val="bbe0e3"/>
          </a:solidFill>
          <a:ln w="12600">
            <a:solidFill>
              <a:srgbClr val="740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大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4500720" y="4292640"/>
            <a:ext cx="144360" cy="142920"/>
          </a:xfrm>
          <a:prstGeom prst="ellipse">
            <a:avLst/>
          </a:prstGeom>
          <a:solidFill>
            <a:srgbClr val="000c0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5435640" y="1197000"/>
            <a:ext cx="71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  <a:ea typeface="宋体"/>
              </a:rPr>
              <a:t>(1,5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906" name=""/>
          <p:cNvGrpSpPr/>
          <p:nvPr/>
        </p:nvGrpSpPr>
        <p:grpSpPr>
          <a:xfrm>
            <a:off x="5148360" y="692280"/>
            <a:ext cx="934920" cy="1008360"/>
            <a:chOff x="5148360" y="692280"/>
            <a:chExt cx="934920" cy="1008360"/>
          </a:xfrm>
        </p:grpSpPr>
        <p:sp>
          <p:nvSpPr>
            <p:cNvPr id="1907" name=""/>
            <p:cNvSpPr/>
            <p:nvPr/>
          </p:nvSpPr>
          <p:spPr>
            <a:xfrm>
              <a:off x="5435640" y="9079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fcd14"/>
                  </a:solidFill>
                  <a:latin typeface="Arial"/>
                  <a:ea typeface="宋体"/>
                </a:rPr>
                <a:t>食堂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148360" y="692280"/>
              <a:ext cx="28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fcd14"/>
                  </a:solidFill>
                  <a:latin typeface="Arial"/>
                  <a:ea typeface="宋体"/>
                </a:rPr>
                <a:t>．</a:t>
              </a:r>
              <a:endParaRPr b="0" lang="en-US" sz="6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909" name=""/>
          <p:cNvSpPr/>
          <p:nvPr/>
        </p:nvSpPr>
        <p:spPr>
          <a:xfrm>
            <a:off x="117360" y="260280"/>
            <a:ext cx="10335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Broadway"/>
                <a:ea typeface="宋体"/>
              </a:rPr>
              <a:t>小街中学平面示意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7596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7451640" y="645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Broadway"/>
                <a:ea typeface="华文彩云"/>
              </a:rPr>
              <a:t>首    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8388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8280360" y="64533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Broadway"/>
                <a:ea typeface="华文彩云"/>
              </a:rPr>
              <a:t>返     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5" name=""/>
          <p:cNvGraphicFramePr/>
          <p:nvPr/>
        </p:nvGraphicFramePr>
        <p:xfrm>
          <a:off x="468360" y="189000"/>
          <a:ext cx="8207280" cy="6210360"/>
        </p:xfrm>
        <a:graphic>
          <a:graphicData uri="http://schemas.openxmlformats.org/drawingml/2006/table">
            <a:tbl>
              <a:tblPr/>
              <a:tblGrid>
                <a:gridCol w="718920"/>
                <a:gridCol w="649440"/>
                <a:gridCol w="684360"/>
                <a:gridCol w="682560"/>
                <a:gridCol w="684000"/>
                <a:gridCol w="684360"/>
                <a:gridCol w="684360"/>
                <a:gridCol w="684000"/>
                <a:gridCol w="684360"/>
                <a:gridCol w="682560"/>
                <a:gridCol w="684360"/>
                <a:gridCol w="68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16" name=""/>
          <p:cNvGrpSpPr/>
          <p:nvPr/>
        </p:nvGrpSpPr>
        <p:grpSpPr>
          <a:xfrm>
            <a:off x="5867280" y="2492280"/>
            <a:ext cx="1295640" cy="865440"/>
            <a:chOff x="5867280" y="2492280"/>
            <a:chExt cx="1295640" cy="865440"/>
          </a:xfrm>
        </p:grpSpPr>
        <p:sp>
          <p:nvSpPr>
            <p:cNvPr id="1917" name=""/>
            <p:cNvSpPr/>
            <p:nvPr/>
          </p:nvSpPr>
          <p:spPr>
            <a:xfrm>
              <a:off x="6012000" y="2492280"/>
              <a:ext cx="1150920" cy="576360"/>
            </a:xfrm>
            <a:prstGeom prst="wedgeEllipseCallout">
              <a:avLst>
                <a:gd name="adj1" fmla="val -51518"/>
                <a:gd name="adj2" fmla="val 82504"/>
              </a:avLst>
            </a:prstGeom>
            <a:solidFill>
              <a:srgbClr val="ebf7ff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小街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867280" y="3213000"/>
              <a:ext cx="144720" cy="1447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3152520" y="374040"/>
            <a:ext cx="1509840" cy="1796760"/>
            <a:chOff x="3152520" y="374040"/>
            <a:chExt cx="1509840" cy="1796760"/>
          </a:xfrm>
        </p:grpSpPr>
        <p:sp>
          <p:nvSpPr>
            <p:cNvPr id="1920" name=""/>
            <p:cNvSpPr/>
            <p:nvPr/>
          </p:nvSpPr>
          <p:spPr>
            <a:xfrm rot="450600">
              <a:off x="4469760" y="627480"/>
              <a:ext cx="144360" cy="14436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921" name=""/>
            <p:cNvGrpSpPr/>
            <p:nvPr/>
          </p:nvGrpSpPr>
          <p:grpSpPr>
            <a:xfrm>
              <a:off x="3152520" y="374040"/>
              <a:ext cx="1509840" cy="1796760"/>
              <a:chOff x="3152520" y="374040"/>
              <a:chExt cx="1509840" cy="1796760"/>
            </a:xfrm>
          </p:grpSpPr>
          <p:grpSp>
            <p:nvGrpSpPr>
              <p:cNvPr id="1922" name=""/>
              <p:cNvGrpSpPr/>
              <p:nvPr/>
            </p:nvGrpSpPr>
            <p:grpSpPr>
              <a:xfrm>
                <a:off x="3402360" y="1129680"/>
                <a:ext cx="1260000" cy="1041120"/>
                <a:chOff x="3402360" y="1129680"/>
                <a:chExt cx="1260000" cy="1041120"/>
              </a:xfrm>
            </p:grpSpPr>
            <p:sp>
              <p:nvSpPr>
                <p:cNvPr id="1923" name=""/>
                <p:cNvSpPr/>
                <p:nvPr/>
              </p:nvSpPr>
              <p:spPr>
                <a:xfrm rot="450600">
                  <a:off x="4509360" y="1138320"/>
                  <a:ext cx="144000" cy="1447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 flipH="1" rot="658800">
                  <a:off x="3459240" y="1357560"/>
                  <a:ext cx="1137960" cy="711000"/>
                </a:xfrm>
                <a:prstGeom prst="wedgeEllipseCallout">
                  <a:avLst>
                    <a:gd name="adj1" fmla="val -39865"/>
                    <a:gd name="adj2" fmla="val -81351"/>
                  </a:avLst>
                </a:prstGeom>
                <a:solidFill>
                  <a:srgbClr val="66ff33"/>
                </a:solidFill>
                <a:ln w="93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00ff"/>
                      </a:solidFill>
                      <a:latin typeface="Arial"/>
                      <a:ea typeface="楷体_GB2312"/>
                    </a:rPr>
                    <a:t>易门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5" name=""/>
              <p:cNvSpPr/>
              <p:nvPr/>
            </p:nvSpPr>
            <p:spPr>
              <a:xfrm rot="517200">
                <a:off x="3194280" y="450720"/>
                <a:ext cx="1076040" cy="644400"/>
              </a:xfrm>
              <a:prstGeom prst="wedgeEllipseCallout">
                <a:avLst>
                  <a:gd name="adj1" fmla="val 78907"/>
                  <a:gd name="adj2" fmla="val -30861"/>
                </a:avLst>
              </a:prstGeom>
              <a:solidFill>
                <a:srgbClr val="0099ff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ff"/>
                    </a:solidFill>
                    <a:latin typeface="Arial"/>
                    <a:ea typeface="楷体_GB2312"/>
                  </a:rPr>
                  <a:t>六街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926" name=""/>
          <p:cNvGrpSpPr/>
          <p:nvPr/>
        </p:nvGrpSpPr>
        <p:grpSpPr>
          <a:xfrm>
            <a:off x="0" y="0"/>
            <a:ext cx="9144000" cy="7174080"/>
            <a:chOff x="0" y="0"/>
            <a:chExt cx="9144000" cy="7174080"/>
          </a:xfrm>
        </p:grpSpPr>
        <p:grpSp>
          <p:nvGrpSpPr>
            <p:cNvPr id="1927" name=""/>
            <p:cNvGrpSpPr/>
            <p:nvPr/>
          </p:nvGrpSpPr>
          <p:grpSpPr>
            <a:xfrm>
              <a:off x="0" y="0"/>
              <a:ext cx="9144000" cy="7174080"/>
              <a:chOff x="0" y="0"/>
              <a:chExt cx="9144000" cy="7174080"/>
            </a:xfrm>
          </p:grpSpPr>
          <p:sp>
            <p:nvSpPr>
              <p:cNvPr id="1928" name=""/>
              <p:cNvSpPr/>
              <p:nvPr/>
            </p:nvSpPr>
            <p:spPr>
              <a:xfrm flipV="1">
                <a:off x="5262480" y="0"/>
                <a:ext cx="0" cy="71740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0" y="3789360"/>
                <a:ext cx="9144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8707320" y="371628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3366ff"/>
                    </a:solidFill>
                    <a:latin typeface="Arial"/>
                    <a:ea typeface="宋体"/>
                  </a:rPr>
                  <a:t>x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294160" y="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y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932" name=""/>
            <p:cNvSpPr/>
            <p:nvPr/>
          </p:nvSpPr>
          <p:spPr>
            <a:xfrm>
              <a:off x="4927320" y="36450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99"/>
                  </a:solidFill>
                  <a:latin typeface="Arial"/>
                  <a:ea typeface="宋体"/>
                </a:rPr>
                <a:t>0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221440" y="3746520"/>
              <a:ext cx="71280" cy="7128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934" name=""/>
          <p:cNvSpPr/>
          <p:nvPr/>
        </p:nvSpPr>
        <p:spPr>
          <a:xfrm>
            <a:off x="4427640" y="260280"/>
            <a:ext cx="328680" cy="21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7596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7451640" y="645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Broadway"/>
                <a:ea typeface="华文彩云"/>
              </a:rPr>
              <a:t>首    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8388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8280360" y="64533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Broadway"/>
                <a:ea typeface="华文彩云"/>
              </a:rPr>
              <a:t>返     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77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2" dur="770" fill="hold"/>
                                        <p:tgtEl>
                                          <p:spTgt spid="19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4" dur="77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6" dur="77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>
            <a:hlinkClick r:id="rId1" action="ppaction://hlinksldjump"/>
          </p:cNvPr>
          <p:cNvSpPr/>
          <p:nvPr/>
        </p:nvSpPr>
        <p:spPr>
          <a:xfrm>
            <a:off x="900000" y="2060640"/>
            <a:ext cx="273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cb00"/>
              </a:gs>
              <a:gs pos="50000">
                <a:srgbClr val="ffff00"/>
              </a:gs>
              <a:gs pos="100000">
                <a:srgbClr val="cbc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、校园平面示意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0" name="">
            <a:hlinkClick r:id="rId2" action="ppaction://hlinksldjump"/>
          </p:cNvPr>
          <p:cNvSpPr/>
          <p:nvPr/>
        </p:nvSpPr>
        <p:spPr>
          <a:xfrm>
            <a:off x="826920" y="3141720"/>
            <a:ext cx="2808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aa7e"/>
              </a:gs>
              <a:gs pos="50000">
                <a:srgbClr val="ffd69f"/>
              </a:gs>
              <a:gs pos="100000">
                <a:srgbClr val="cbaa7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、平面直角坐标系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1" name="">
            <a:hlinkClick r:id="rId3" action="ppaction://hlinksldjump"/>
          </p:cNvPr>
          <p:cNvSpPr/>
          <p:nvPr/>
        </p:nvSpPr>
        <p:spPr>
          <a:xfrm>
            <a:off x="826920" y="4221000"/>
            <a:ext cx="2808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1cb51"/>
              </a:gs>
              <a:gs pos="50000">
                <a:srgbClr val="66ff66"/>
              </a:gs>
              <a:gs pos="100000">
                <a:srgbClr val="51cb5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、牛刀小试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2" name="">
            <a:hlinkClick r:id="rId4" action="ppaction://hlinksldjump"/>
          </p:cNvPr>
          <p:cNvSpPr/>
          <p:nvPr/>
        </p:nvSpPr>
        <p:spPr>
          <a:xfrm>
            <a:off x="900000" y="5300640"/>
            <a:ext cx="2881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a0a0"/>
              </a:gs>
              <a:gs pos="50000">
                <a:srgbClr val="ffc9c9"/>
              </a:gs>
              <a:gs pos="100000">
                <a:srgbClr val="cba0a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、认识横纵坐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3" name="">
            <a:hlinkClick r:id="rId5" action="ppaction://hlinksldjump"/>
          </p:cNvPr>
          <p:cNvSpPr/>
          <p:nvPr/>
        </p:nvSpPr>
        <p:spPr>
          <a:xfrm>
            <a:off x="5508720" y="2060640"/>
            <a:ext cx="2448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9a9cb"/>
              </a:gs>
              <a:gs pos="50000">
                <a:srgbClr val="d5d5ff"/>
              </a:gs>
              <a:gs pos="100000">
                <a:srgbClr val="a9a9c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、举手抢答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4" name="">
            <a:hlinkClick r:id="rId6" action="ppaction://hlinksldjump"/>
          </p:cNvPr>
          <p:cNvSpPr/>
          <p:nvPr/>
        </p:nvSpPr>
        <p:spPr>
          <a:xfrm>
            <a:off x="3059280" y="765000"/>
            <a:ext cx="25923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学生课前准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5" name="">
            <a:hlinkClick r:id="rId7" action="ppaction://hlinksldjump"/>
          </p:cNvPr>
          <p:cNvSpPr/>
          <p:nvPr/>
        </p:nvSpPr>
        <p:spPr>
          <a:xfrm>
            <a:off x="5580000" y="3141720"/>
            <a:ext cx="2592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、问题探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6" name="">
            <a:hlinkClick r:id="rId8" action="ppaction://hlinksldjump"/>
          </p:cNvPr>
          <p:cNvSpPr/>
          <p:nvPr/>
        </p:nvSpPr>
        <p:spPr>
          <a:xfrm>
            <a:off x="5508720" y="4221000"/>
            <a:ext cx="2663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7</a:t>
            </a:r>
            <a:r>
              <a:rPr b="1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、练兵场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7" name="">
            <a:hlinkClick r:id="rId9" action="ppaction://hlinksldjump"/>
          </p:cNvPr>
          <p:cNvSpPr/>
          <p:nvPr/>
        </p:nvSpPr>
        <p:spPr>
          <a:xfrm>
            <a:off x="5435640" y="5300640"/>
            <a:ext cx="2808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8</a:t>
            </a:r>
            <a:r>
              <a:rPr b="1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、小结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39640" y="765000"/>
            <a:ext cx="10080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Broadway"/>
                <a:ea typeface="华文彩云"/>
              </a:rPr>
              <a:t>首页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9" name="">
            <a:hlinkClick r:id="" action="ppaction://hlinkshowjump?jump=endshow"/>
          </p:cNvPr>
          <p:cNvSpPr/>
          <p:nvPr/>
        </p:nvSpPr>
        <p:spPr>
          <a:xfrm>
            <a:off x="179280" y="6093000"/>
            <a:ext cx="540000" cy="765000"/>
          </a:xfrm>
          <a:custGeom>
            <a:avLst/>
            <a:gdLst>
              <a:gd name="textAreaLeft" fmla="*/ 72360 w 540000"/>
              <a:gd name="textAreaRight" fmla="*/ 467640 w 540000"/>
              <a:gd name="textAreaTop" fmla="*/ 133920 h 765000"/>
              <a:gd name="textAreaBottom" fmla="*/ 554760 h 76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0" name="">
            <a:hlinkClick r:id="" action="ppaction://hlinkshowjump?jump=endshow"/>
          </p:cNvPr>
          <p:cNvSpPr/>
          <p:nvPr/>
        </p:nvSpPr>
        <p:spPr>
          <a:xfrm>
            <a:off x="0" y="623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Broadway"/>
                <a:ea typeface="华文彩云"/>
              </a:rPr>
              <a:t>退出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9" name="" descr=""/>
          <p:cNvPicPr/>
          <p:nvPr/>
        </p:nvPicPr>
        <p:blipFill>
          <a:blip r:embed="rId2"/>
          <a:stretch/>
        </p:blipFill>
        <p:spPr>
          <a:xfrm flipH="1" rot="1359600">
            <a:off x="18720" y="5919840"/>
            <a:ext cx="1042920" cy="969840"/>
          </a:xfrm>
          <a:prstGeom prst="rect">
            <a:avLst/>
          </a:prstGeom>
          <a:ln w="0">
            <a:noFill/>
          </a:ln>
        </p:spPr>
      </p:pic>
      <p:sp>
        <p:nvSpPr>
          <p:cNvPr id="1940" name=""/>
          <p:cNvSpPr/>
          <p:nvPr/>
        </p:nvSpPr>
        <p:spPr>
          <a:xfrm>
            <a:off x="755640" y="615636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宋体"/>
              </a:rPr>
              <a:t>１、这节课你有什么收获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宋体"/>
              </a:rPr>
              <a:t>?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宋体"/>
              </a:rPr>
              <a:t>　　　　　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3018240" y="3645000"/>
            <a:ext cx="8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Broadway"/>
                <a:ea typeface="宋体"/>
              </a:rPr>
              <a:t>２、你还有什么问题？</a:t>
            </a:r>
            <a:r>
              <a:rPr b="1" lang="zh-CN" sz="1800" spc="-1" strike="noStrike">
                <a:solidFill>
                  <a:srgbClr val="007a77"/>
                </a:solidFill>
                <a:latin typeface="Broadway"/>
                <a:ea typeface="华文行楷"/>
              </a:rPr>
              <a:t>　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42" name="" descr=""/>
          <p:cNvPicPr/>
          <p:nvPr/>
        </p:nvPicPr>
        <p:blipFill>
          <a:blip r:embed="rId3"/>
          <a:stretch/>
        </p:blipFill>
        <p:spPr>
          <a:xfrm rot="1359000">
            <a:off x="7019640" y="5786280"/>
            <a:ext cx="1152360" cy="1071720"/>
          </a:xfrm>
          <a:prstGeom prst="rect">
            <a:avLst/>
          </a:prstGeom>
          <a:ln w="0">
            <a:noFill/>
          </a:ln>
        </p:spPr>
      </p:pic>
      <p:sp>
        <p:nvSpPr>
          <p:cNvPr id="1943" name=""/>
          <p:cNvSpPr/>
          <p:nvPr/>
        </p:nvSpPr>
        <p:spPr>
          <a:xfrm>
            <a:off x="7596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7451640" y="645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Broadway"/>
                <a:ea typeface="华文彩云"/>
              </a:rPr>
              <a:t>首    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8388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8280360" y="64533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Broadway"/>
                <a:ea typeface="华文彩云"/>
              </a:rPr>
              <a:t>返     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46821E-006 L -1.94444E-006 -0.5956 E">
                                      <p:cBhvr>
                                        <p:cTn id="563" dur="3000" fill="hold"/>
                                        <p:tgtEl>
                                          <p:spTgt spid="1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evt="end">
                                        <p:tn val="562"/>
                                      </p:cond>
                                    </p:stCondLst>
                                  </p:cTn>
                                  <p:tgtEl>
                                    <p:spTgt spid="1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64162E-006 L 0.00781 -0.56809 E">
                                      <p:cBhvr>
                                        <p:cTn id="566" dur="3000" fill="hold"/>
                                        <p:tgtEl>
                                          <p:spTgt spid="19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67" dur="1" fill="hold">
                                    <p:stCondLst>
                                      <p:cond evt="end">
                                        <p:tn val="565"/>
                                      </p:cond>
                                    </p:stCondLst>
                                  </p:cTn>
                                  <p:tgtEl>
                                    <p:spTgt spid="19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6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-3.05556E-006 -2.02312E-006 L -3.05556E-006 -0.54404 E">
                                      <p:cBhvr>
                                        <p:cTn id="569" dur="3000" fill="hold"/>
                                        <p:tgtEl>
                                          <p:spTgt spid="19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9" name="公园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0" name="" descr=""/>
          <p:cNvPicPr/>
          <p:nvPr/>
        </p:nvPicPr>
        <p:blipFill>
          <a:blip r:embed="rId3"/>
          <a:stretch/>
        </p:blipFill>
        <p:spPr>
          <a:xfrm>
            <a:off x="6084720" y="3284640"/>
            <a:ext cx="73080" cy="73080"/>
          </a:xfrm>
          <a:prstGeom prst="rect">
            <a:avLst/>
          </a:prstGeom>
          <a:ln w="0">
            <a:noFill/>
          </a:ln>
        </p:spPr>
      </p:pic>
      <p:pic>
        <p:nvPicPr>
          <p:cNvPr id="1951" name="" descr=""/>
          <p:cNvPicPr/>
          <p:nvPr/>
        </p:nvPicPr>
        <p:blipFill>
          <a:blip r:embed="rId4"/>
          <a:stretch/>
        </p:blipFill>
        <p:spPr>
          <a:xfrm>
            <a:off x="2340000" y="4724280"/>
            <a:ext cx="3024000" cy="1252800"/>
          </a:xfrm>
          <a:prstGeom prst="rect">
            <a:avLst/>
          </a:prstGeom>
          <a:ln w="0">
            <a:noFill/>
          </a:ln>
        </p:spPr>
      </p:pic>
      <p:sp>
        <p:nvSpPr>
          <p:cNvPr id="1952" name=""/>
          <p:cNvSpPr txBox="1"/>
          <p:nvPr/>
        </p:nvSpPr>
        <p:spPr>
          <a:xfrm>
            <a:off x="3348000" y="4797360"/>
            <a:ext cx="1224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0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同学们满载而归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953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54" name=""/>
          <p:cNvSpPr/>
          <p:nvPr/>
        </p:nvSpPr>
        <p:spPr>
          <a:xfrm>
            <a:off x="2340000" y="620640"/>
            <a:ext cx="611964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200" spc="-1" strike="noStrike">
                <a:solidFill>
                  <a:srgbClr val="ff00ff"/>
                </a:solidFill>
                <a:latin typeface="Broadway"/>
                <a:ea typeface="华文行楷"/>
              </a:rPr>
              <a:t>再见</a:t>
            </a:r>
            <a:r>
              <a:rPr b="1" lang="zh-CN" sz="9600" spc="-1" strike="noStrike">
                <a:solidFill>
                  <a:srgbClr val="ff00ff"/>
                </a:solidFill>
                <a:latin typeface="Broadway"/>
                <a:ea typeface="华文行楷"/>
              </a:rPr>
              <a:t>！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1763640" y="6033960"/>
            <a:ext cx="6516720" cy="825480"/>
          </a:xfrm>
          <a:prstGeom prst="rect">
            <a:avLst/>
          </a:prstGeom>
          <a:gradFill rotWithShape="0">
            <a:gsLst>
              <a:gs pos="0">
                <a:srgbClr val="ffffff">
                  <a:alpha val="86274"/>
                </a:srgbClr>
              </a:gs>
              <a:gs pos="100000">
                <a:srgbClr val="00ff00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云南省玉溪市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幼圆"/>
              </a:rPr>
              <a:t>易门县六街中学   </a:t>
            </a:r>
            <a:r>
              <a:rPr b="1" lang="zh-CN" sz="2000" spc="-1" strike="noStrike">
                <a:solidFill>
                  <a:srgbClr val="0000ff"/>
                </a:solidFill>
                <a:latin typeface="Broadway"/>
                <a:ea typeface="幼圆"/>
              </a:rPr>
              <a:t>罗云膑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幼圆"/>
              </a:rPr>
              <a:t>朱琼梅    制作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幼圆"/>
              </a:rPr>
              <a:t>Email:zqmlyb@yahoo.com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5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957" name="" descr=""/>
          <p:cNvPicPr/>
          <p:nvPr/>
        </p:nvPicPr>
        <p:blipFill>
          <a:blip r:embed="rId7"/>
          <a:stretch/>
        </p:blipFill>
        <p:spPr>
          <a:xfrm>
            <a:off x="7308720" y="907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958" name="" descr=""/>
          <p:cNvPicPr/>
          <p:nvPr/>
        </p:nvPicPr>
        <p:blipFill>
          <a:blip r:embed="rId8"/>
          <a:stretch/>
        </p:blipFill>
        <p:spPr>
          <a:xfrm>
            <a:off x="819144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959" name="" descr=""/>
          <p:cNvPicPr/>
          <p:nvPr/>
        </p:nvPicPr>
        <p:blipFill>
          <a:blip r:embed="rId9"/>
          <a:stretch/>
        </p:blipFill>
        <p:spPr>
          <a:xfrm>
            <a:off x="680400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960" name="" descr=""/>
          <p:cNvPicPr/>
          <p:nvPr/>
        </p:nvPicPr>
        <p:blipFill>
          <a:blip r:embed="rId10"/>
          <a:stretch/>
        </p:blipFill>
        <p:spPr>
          <a:xfrm>
            <a:off x="0" y="1197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961" name="" descr=""/>
          <p:cNvPicPr/>
          <p:nvPr/>
        </p:nvPicPr>
        <p:blipFill>
          <a:blip r:embed="rId11"/>
          <a:stretch/>
        </p:blipFill>
        <p:spPr>
          <a:xfrm>
            <a:off x="3348000" y="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0" dur="72185" fill="hold"/>
                                        <p:tgtEl>
                                          <p:spTgt spid="19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1332000" y="2637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Broadway"/>
                <a:ea typeface="华文行楷"/>
              </a:rPr>
              <a:t>请同学们按数学电影票号码，对号入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1187280" y="12682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学生课前准备：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3" name="">
            <a:hlinkClick r:id="rId1" action="ppaction://hlinksldjump"/>
          </p:cNvPr>
          <p:cNvSpPr/>
          <p:nvPr/>
        </p:nvSpPr>
        <p:spPr>
          <a:xfrm>
            <a:off x="7667640" y="6381720"/>
            <a:ext cx="936720" cy="476280"/>
          </a:xfrm>
          <a:custGeom>
            <a:avLst/>
            <a:gdLst>
              <a:gd name="textAreaLeft" fmla="*/ 30600 w 936720"/>
              <a:gd name="textAreaRight" fmla="*/ 906120 w 936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2466" h="21600">
                <a:moveTo>
                  <a:pt x="0" y="0"/>
                </a:moveTo>
                <a:lnTo>
                  <a:pt x="42466" y="0"/>
                </a:lnTo>
                <a:lnTo>
                  <a:pt x="42466" y="21600"/>
                </a:lnTo>
                <a:lnTo>
                  <a:pt x="0" y="21600"/>
                </a:lnTo>
                <a:close/>
              </a:path>
              <a:path fill="lightenLess" w="42466" h="21600">
                <a:moveTo>
                  <a:pt x="0" y="0"/>
                </a:moveTo>
                <a:lnTo>
                  <a:pt x="42466" y="0"/>
                </a:lnTo>
                <a:lnTo>
                  <a:pt x="41066" y="1400"/>
                </a:lnTo>
                <a:lnTo>
                  <a:pt x="1400" y="1400"/>
                </a:lnTo>
                <a:close/>
              </a:path>
              <a:path fill="darken" w="42466" h="21600">
                <a:moveTo>
                  <a:pt x="42466" y="0"/>
                </a:moveTo>
                <a:lnTo>
                  <a:pt x="42466" y="21600"/>
                </a:lnTo>
                <a:lnTo>
                  <a:pt x="41066" y="20200"/>
                </a:lnTo>
                <a:lnTo>
                  <a:pt x="41066" y="1400"/>
                </a:lnTo>
                <a:close/>
              </a:path>
              <a:path fill="darkenLess" w="42466" h="21600">
                <a:moveTo>
                  <a:pt x="42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66" y="20200"/>
                </a:lnTo>
                <a:close/>
              </a:path>
              <a:path fill="lighten" w="42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66" h="21600">
                <a:moveTo>
                  <a:pt x="14226" y="10800"/>
                </a:moveTo>
                <a:lnTo>
                  <a:pt x="28239" y="3794"/>
                </a:lnTo>
                <a:lnTo>
                  <a:pt x="2823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4" name="">
            <a:hlinkClick r:id="rId2" action="ppaction://hlinksldjump"/>
          </p:cNvPr>
          <p:cNvSpPr/>
          <p:nvPr/>
        </p:nvSpPr>
        <p:spPr>
          <a:xfrm>
            <a:off x="7740720" y="645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Broadway"/>
                <a:ea typeface="华文彩云"/>
              </a:rPr>
              <a:t>首    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>
            <a:hlinkClick r:id="rId1" action="ppaction://hlinksldjump"/>
          </p:cNvPr>
          <p:cNvSpPr/>
          <p:nvPr/>
        </p:nvSpPr>
        <p:spPr>
          <a:xfrm>
            <a:off x="644364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457200" y="274680"/>
          <a:ext cx="8229600" cy="586404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17" name=""/>
          <p:cNvGrpSpPr/>
          <p:nvPr/>
        </p:nvGrpSpPr>
        <p:grpSpPr>
          <a:xfrm>
            <a:off x="5148360" y="2421000"/>
            <a:ext cx="1366920" cy="1008360"/>
            <a:chOff x="5148360" y="2421000"/>
            <a:chExt cx="1366920" cy="1008360"/>
          </a:xfrm>
        </p:grpSpPr>
        <p:sp>
          <p:nvSpPr>
            <p:cNvPr id="818" name=""/>
            <p:cNvSpPr/>
            <p:nvPr/>
          </p:nvSpPr>
          <p:spPr>
            <a:xfrm>
              <a:off x="5435640" y="270828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教学楼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148360" y="2421000"/>
              <a:ext cx="358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cc"/>
                  </a:solidFill>
                  <a:latin typeface="Arial"/>
                  <a:ea typeface="宋体"/>
                </a:rPr>
                <a:t>．</a:t>
              </a:r>
              <a:endParaRPr b="0" lang="en-US" sz="6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4000" y="2997360"/>
            <a:ext cx="1152720" cy="1008360"/>
            <a:chOff x="6804000" y="2997360"/>
            <a:chExt cx="1152720" cy="1008360"/>
          </a:xfrm>
        </p:grpSpPr>
        <p:sp>
          <p:nvSpPr>
            <p:cNvPr id="821" name=""/>
            <p:cNvSpPr/>
            <p:nvPr/>
          </p:nvSpPr>
          <p:spPr>
            <a:xfrm>
              <a:off x="6948360" y="328464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实验楼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804000" y="2997360"/>
              <a:ext cx="360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．</a:t>
              </a:r>
              <a:endParaRPr b="0" lang="en-US" sz="6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36440" y="4221000"/>
            <a:ext cx="8495640" cy="675720"/>
            <a:chOff x="136440" y="4221000"/>
            <a:chExt cx="8495640" cy="675720"/>
          </a:xfrm>
        </p:grpSpPr>
        <p:grpSp>
          <p:nvGrpSpPr>
            <p:cNvPr id="824" name=""/>
            <p:cNvGrpSpPr/>
            <p:nvPr/>
          </p:nvGrpSpPr>
          <p:grpSpPr>
            <a:xfrm>
              <a:off x="310320" y="4221000"/>
              <a:ext cx="8321760" cy="144720"/>
              <a:chOff x="310320" y="4221000"/>
              <a:chExt cx="8321760" cy="144720"/>
            </a:xfrm>
          </p:grpSpPr>
          <p:sp>
            <p:nvSpPr>
              <p:cNvPr id="825" name=""/>
              <p:cNvSpPr/>
              <p:nvPr/>
            </p:nvSpPr>
            <p:spPr>
              <a:xfrm>
                <a:off x="310320" y="4365720"/>
                <a:ext cx="832176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243480" y="4221000"/>
                <a:ext cx="0" cy="14472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053840" y="4221000"/>
                <a:ext cx="0" cy="14472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894800" y="4221000"/>
                <a:ext cx="0" cy="14472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404680" y="4221000"/>
                <a:ext cx="0" cy="14472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54800" y="4221000"/>
                <a:ext cx="0" cy="14472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915640" y="4221000"/>
                <a:ext cx="0" cy="14472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105280" y="4221000"/>
                <a:ext cx="0" cy="14472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264320" y="4221000"/>
                <a:ext cx="0" cy="14472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40640" y="4221000"/>
                <a:ext cx="0" cy="14472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136440" y="4280040"/>
              <a:ext cx="8495640" cy="616680"/>
              <a:chOff x="136440" y="4280040"/>
              <a:chExt cx="8495640" cy="616680"/>
            </a:xfrm>
          </p:grpSpPr>
          <p:sp>
            <p:nvSpPr>
              <p:cNvPr id="836" name=""/>
              <p:cNvSpPr/>
              <p:nvPr/>
            </p:nvSpPr>
            <p:spPr>
              <a:xfrm>
                <a:off x="8197920" y="4437000"/>
                <a:ext cx="434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66"/>
                    </a:solidFill>
                    <a:latin typeface="Broadway"/>
                    <a:ea typeface="宋体"/>
                  </a:rPr>
                  <a:t>东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32240" y="4292640"/>
                <a:ext cx="577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宋体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057000" y="4292640"/>
                <a:ext cx="57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宋体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896160" y="4280040"/>
                <a:ext cx="577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宋体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76280" y="4294080"/>
                <a:ext cx="57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宋体"/>
                    <a:ea typeface="宋体"/>
                  </a:rPr>
                  <a:t>4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421440" y="4294080"/>
                <a:ext cx="577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宋体"/>
                    <a:ea typeface="宋体"/>
                  </a:rPr>
                  <a:t>-1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612520" y="4292640"/>
                <a:ext cx="59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宋体"/>
                    <a:ea typeface="宋体"/>
                  </a:rPr>
                  <a:t>-2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757160" y="4292640"/>
                <a:ext cx="57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宋体"/>
                    <a:ea typeface="宋体"/>
                  </a:rPr>
                  <a:t>-3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918000" y="4280040"/>
                <a:ext cx="577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宋体"/>
                    <a:ea typeface="宋体"/>
                  </a:rPr>
                  <a:t>-4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36440" y="4280040"/>
                <a:ext cx="577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宋体"/>
                    <a:ea typeface="宋体"/>
                  </a:rPr>
                  <a:t>-5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846" name=""/>
          <p:cNvGrpSpPr/>
          <p:nvPr/>
        </p:nvGrpSpPr>
        <p:grpSpPr>
          <a:xfrm>
            <a:off x="4067280" y="188640"/>
            <a:ext cx="1190520" cy="6105240"/>
            <a:chOff x="4067280" y="188640"/>
            <a:chExt cx="1190520" cy="6105240"/>
          </a:xfrm>
        </p:grpSpPr>
        <p:grpSp>
          <p:nvGrpSpPr>
            <p:cNvPr id="847" name=""/>
            <p:cNvGrpSpPr/>
            <p:nvPr/>
          </p:nvGrpSpPr>
          <p:grpSpPr>
            <a:xfrm>
              <a:off x="4572000" y="850680"/>
              <a:ext cx="173160" cy="5270760"/>
              <a:chOff x="4572000" y="850680"/>
              <a:chExt cx="173160" cy="5270760"/>
            </a:xfrm>
          </p:grpSpPr>
          <p:sp>
            <p:nvSpPr>
              <p:cNvPr id="848" name=""/>
              <p:cNvSpPr/>
              <p:nvPr/>
            </p:nvSpPr>
            <p:spPr>
              <a:xfrm flipV="1">
                <a:off x="4572000" y="850680"/>
                <a:ext cx="173160" cy="1404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4572000" y="1427040"/>
                <a:ext cx="173160" cy="1440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4572000" y="2003400"/>
                <a:ext cx="173160" cy="1440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4572000" y="2622600"/>
                <a:ext cx="173160" cy="1440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4572000" y="3198600"/>
                <a:ext cx="173160" cy="1404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4572000" y="3774960"/>
                <a:ext cx="173160" cy="1440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4572000" y="4365360"/>
                <a:ext cx="173160" cy="1404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4572000" y="4941720"/>
                <a:ext cx="173160" cy="1440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4572000" y="5516280"/>
                <a:ext cx="173160" cy="1404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4572000" y="6107040"/>
                <a:ext cx="173160" cy="1440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4067280" y="188640"/>
              <a:ext cx="1190520" cy="6105240"/>
              <a:chOff x="4067280" y="188640"/>
              <a:chExt cx="1190520" cy="610524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4242960" y="188640"/>
                <a:ext cx="1014840" cy="6048360"/>
                <a:chOff x="4242960" y="188640"/>
                <a:chExt cx="1014840" cy="6048360"/>
              </a:xfrm>
            </p:grpSpPr>
            <p:grpSp>
              <p:nvGrpSpPr>
                <p:cNvPr id="860" name=""/>
                <p:cNvGrpSpPr/>
                <p:nvPr/>
              </p:nvGrpSpPr>
              <p:grpSpPr>
                <a:xfrm>
                  <a:off x="4466880" y="188640"/>
                  <a:ext cx="790920" cy="6048360"/>
                  <a:chOff x="4466880" y="188640"/>
                  <a:chExt cx="790920" cy="6048360"/>
                </a:xfrm>
              </p:grpSpPr>
              <p:grpSp>
                <p:nvGrpSpPr>
                  <p:cNvPr id="861" name=""/>
                  <p:cNvGrpSpPr/>
                  <p:nvPr/>
                </p:nvGrpSpPr>
                <p:grpSpPr>
                  <a:xfrm>
                    <a:off x="4537800" y="188640"/>
                    <a:ext cx="720000" cy="6048360"/>
                    <a:chOff x="4537800" y="188640"/>
                    <a:chExt cx="720000" cy="6048360"/>
                  </a:xfrm>
                </p:grpSpPr>
                <p:sp>
                  <p:nvSpPr>
                    <p:cNvPr id="862" name=""/>
                    <p:cNvSpPr/>
                    <p:nvPr/>
                  </p:nvSpPr>
                  <p:spPr>
                    <a:xfrm flipV="1">
                      <a:off x="4537800" y="188640"/>
                      <a:ext cx="0" cy="6048360"/>
                    </a:xfrm>
                    <a:prstGeom prst="line">
                      <a:avLst/>
                    </a:prstGeom>
                    <a:ln w="57240">
                      <a:solidFill>
                        <a:srgbClr val="0033cc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4681800" y="333360"/>
                      <a:ext cx="576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ff"/>
                          </a:solidFill>
                          <a:latin typeface="Broadway"/>
                          <a:ea typeface="宋体"/>
                        </a:rPr>
                        <a:t>北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4" name=""/>
                  <p:cNvSpPr/>
                  <p:nvPr/>
                </p:nvSpPr>
                <p:spPr>
                  <a:xfrm>
                    <a:off x="4466880" y="4292640"/>
                    <a:ext cx="142200" cy="142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5" name=""/>
                <p:cNvSpPr/>
                <p:nvPr/>
              </p:nvSpPr>
              <p:spPr>
                <a:xfrm>
                  <a:off x="4242960" y="426708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a77"/>
                      </a:solidFill>
                      <a:latin typeface="宋体"/>
                      <a:ea typeface="宋体"/>
                    </a:rPr>
                    <a:t>0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6" name=""/>
              <p:cNvGrpSpPr/>
              <p:nvPr/>
            </p:nvGrpSpPr>
            <p:grpSpPr>
              <a:xfrm>
                <a:off x="4067280" y="606600"/>
                <a:ext cx="732960" cy="5687280"/>
                <a:chOff x="4067280" y="606600"/>
                <a:chExt cx="732960" cy="568728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4225680" y="3529080"/>
                  <a:ext cx="57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ff"/>
                      </a:solidFill>
                      <a:latin typeface="宋体"/>
                      <a:ea typeface="宋体"/>
                    </a:rPr>
                    <a:t>1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4211640" y="2938320"/>
                  <a:ext cx="574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ff"/>
                      </a:solidFill>
                      <a:latin typeface="宋体"/>
                      <a:ea typeface="宋体"/>
                    </a:rPr>
                    <a:t>2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4209840" y="2378160"/>
                  <a:ext cx="57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ff"/>
                      </a:solidFill>
                      <a:latin typeface="宋体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4182840" y="1787400"/>
                  <a:ext cx="57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ff"/>
                      </a:solidFill>
                      <a:latin typeface="宋体"/>
                      <a:ea typeface="宋体"/>
                    </a:rPr>
                    <a:t>4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4195800" y="1225440"/>
                  <a:ext cx="574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ff"/>
                      </a:solidFill>
                      <a:latin typeface="宋体"/>
                      <a:ea typeface="宋体"/>
                    </a:rPr>
                    <a:t>5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4176720" y="606600"/>
                  <a:ext cx="574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ff"/>
                      </a:solidFill>
                      <a:latin typeface="宋体"/>
                      <a:ea typeface="宋体"/>
                    </a:rPr>
                    <a:t>6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067280" y="4667400"/>
                  <a:ext cx="57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ff"/>
                      </a:solidFill>
                      <a:latin typeface="宋体"/>
                      <a:ea typeface="宋体"/>
                    </a:rPr>
                    <a:t>-1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4097160" y="5272200"/>
                  <a:ext cx="588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ff"/>
                      </a:solidFill>
                      <a:latin typeface="宋体"/>
                      <a:ea typeface="宋体"/>
                    </a:rPr>
                    <a:t>-2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4067280" y="5834160"/>
                  <a:ext cx="57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ff"/>
                      </a:solidFill>
                      <a:latin typeface="宋体"/>
                      <a:ea typeface="宋体"/>
                    </a:rPr>
                    <a:t>-3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76" name=""/>
          <p:cNvSpPr/>
          <p:nvPr/>
        </p:nvSpPr>
        <p:spPr>
          <a:xfrm>
            <a:off x="117360" y="260280"/>
            <a:ext cx="10335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Broadway"/>
                <a:ea typeface="宋体"/>
              </a:rPr>
              <a:t>小街中学平面示意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508720" y="2924280"/>
            <a:ext cx="71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(1,2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164360" y="3500280"/>
            <a:ext cx="7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(3,1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572000" y="4797360"/>
            <a:ext cx="936720" cy="609840"/>
          </a:xfrm>
          <a:prstGeom prst="wedgeEllipseCallout">
            <a:avLst>
              <a:gd name="adj1" fmla="val -48134"/>
              <a:gd name="adj2" fmla="val -118231"/>
            </a:avLst>
          </a:prstGeom>
          <a:solidFill>
            <a:srgbClr val="bbe0e3"/>
          </a:solidFill>
          <a:ln w="12600">
            <a:solidFill>
              <a:srgbClr val="740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大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484520" y="4278240"/>
            <a:ext cx="14472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8264520" y="44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东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744800" y="324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Broadway"/>
                <a:ea typeface="宋体"/>
              </a:rPr>
              <a:t>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4559400" y="221760"/>
            <a:ext cx="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515360" y="4365720"/>
            <a:ext cx="107928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5" name="">
            <a:hlinkClick r:id="rId2" action="ppaction://hlinksldjump"/>
          </p:cNvPr>
          <p:cNvSpPr/>
          <p:nvPr/>
        </p:nvSpPr>
        <p:spPr>
          <a:xfrm>
            <a:off x="795672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6" name="">
            <a:hlinkClick r:id="rId3" action="ppaction://hlinksldjump"/>
          </p:cNvPr>
          <p:cNvSpPr/>
          <p:nvPr/>
        </p:nvSpPr>
        <p:spPr>
          <a:xfrm>
            <a:off x="6372360" y="6491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Broadway"/>
                <a:ea typeface="华文彩云"/>
              </a:rPr>
              <a:t>首    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7" name="">
            <a:hlinkClick r:id="rId4" action="ppaction://hlinksldjump"/>
          </p:cNvPr>
          <p:cNvSpPr/>
          <p:nvPr/>
        </p:nvSpPr>
        <p:spPr>
          <a:xfrm>
            <a:off x="7812000" y="645336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Broadway"/>
                <a:ea typeface="华文彩云"/>
              </a:rPr>
              <a:t>返     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"/>
          <p:cNvGrpSpPr/>
          <p:nvPr/>
        </p:nvGrpSpPr>
        <p:grpSpPr>
          <a:xfrm>
            <a:off x="2340000" y="1125360"/>
            <a:ext cx="4278240" cy="3571920"/>
            <a:chOff x="2340000" y="1125360"/>
            <a:chExt cx="4278240" cy="3571920"/>
          </a:xfrm>
        </p:grpSpPr>
        <p:sp>
          <p:nvSpPr>
            <p:cNvPr id="889" name=""/>
            <p:cNvSpPr/>
            <p:nvPr/>
          </p:nvSpPr>
          <p:spPr>
            <a:xfrm>
              <a:off x="2340000" y="2651040"/>
              <a:ext cx="4175280" cy="0"/>
            </a:xfrm>
            <a:prstGeom prst="line">
              <a:avLst/>
            </a:prstGeom>
            <a:ln w="5724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354400" y="3170160"/>
              <a:ext cx="4174920" cy="0"/>
            </a:xfrm>
            <a:prstGeom prst="line">
              <a:avLst/>
            </a:prstGeom>
            <a:ln w="5724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354400" y="3675240"/>
              <a:ext cx="4174920" cy="0"/>
            </a:xfrm>
            <a:prstGeom prst="line">
              <a:avLst/>
            </a:prstGeom>
            <a:ln w="5724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368800" y="4206960"/>
              <a:ext cx="4248000" cy="0"/>
            </a:xfrm>
            <a:prstGeom prst="line">
              <a:avLst/>
            </a:prstGeom>
            <a:ln w="5724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70240" y="4697280"/>
              <a:ext cx="4248000" cy="0"/>
            </a:xfrm>
            <a:prstGeom prst="line">
              <a:avLst/>
            </a:prstGeom>
            <a:ln w="5724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354400" y="2133720"/>
              <a:ext cx="4174920" cy="0"/>
            </a:xfrm>
            <a:prstGeom prst="line">
              <a:avLst/>
            </a:prstGeom>
            <a:ln w="5724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54400" y="1657440"/>
              <a:ext cx="4174920" cy="0"/>
            </a:xfrm>
            <a:prstGeom prst="line">
              <a:avLst/>
            </a:prstGeom>
            <a:ln w="5724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54400" y="1125360"/>
              <a:ext cx="4174920" cy="0"/>
            </a:xfrm>
            <a:prstGeom prst="line">
              <a:avLst/>
            </a:prstGeom>
            <a:ln w="5724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897" name=""/>
          <p:cNvSpPr/>
          <p:nvPr/>
        </p:nvSpPr>
        <p:spPr>
          <a:xfrm flipV="1">
            <a:off x="2373480" y="1628280"/>
            <a:ext cx="2414520" cy="2556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549680" y="5229360"/>
            <a:ext cx="70488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讲  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916360" y="333360"/>
            <a:ext cx="71892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Broadway"/>
                <a:ea typeface="新宋体"/>
              </a:rPr>
              <a:t>教师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219640" y="333360"/>
            <a:ext cx="72072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Broadway"/>
                <a:ea typeface="新宋体"/>
              </a:rPr>
              <a:t>教师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 flipV="1">
            <a:off x="4753080" y="1654200"/>
            <a:ext cx="46080" cy="30240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996440" y="1073160"/>
            <a:ext cx="11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99cc99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532400" y="1197000"/>
            <a:ext cx="4856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刘明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836720" y="4437000"/>
            <a:ext cx="5394960" cy="747000"/>
            <a:chOff x="1836720" y="4437000"/>
            <a:chExt cx="5394960" cy="747000"/>
          </a:xfrm>
        </p:grpSpPr>
        <p:grpSp>
          <p:nvGrpSpPr>
            <p:cNvPr id="905" name=""/>
            <p:cNvGrpSpPr/>
            <p:nvPr/>
          </p:nvGrpSpPr>
          <p:grpSpPr>
            <a:xfrm>
              <a:off x="2349360" y="4437000"/>
              <a:ext cx="4329720" cy="251640"/>
              <a:chOff x="2349360" y="4437000"/>
              <a:chExt cx="4329720" cy="251640"/>
            </a:xfrm>
          </p:grpSpPr>
          <p:sp>
            <p:nvSpPr>
              <p:cNvPr id="906" name=""/>
              <p:cNvSpPr/>
              <p:nvPr/>
            </p:nvSpPr>
            <p:spPr>
              <a:xfrm>
                <a:off x="2349360" y="4680000"/>
                <a:ext cx="268560" cy="2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907" name=""/>
              <p:cNvGrpSpPr/>
              <p:nvPr/>
            </p:nvGrpSpPr>
            <p:grpSpPr>
              <a:xfrm>
                <a:off x="2360520" y="4437000"/>
                <a:ext cx="4318560" cy="251640"/>
                <a:chOff x="2360520" y="4437000"/>
                <a:chExt cx="4318560" cy="251640"/>
              </a:xfrm>
            </p:grpSpPr>
            <p:grpSp>
              <p:nvGrpSpPr>
                <p:cNvPr id="908" name=""/>
                <p:cNvGrpSpPr/>
                <p:nvPr/>
              </p:nvGrpSpPr>
              <p:grpSpPr>
                <a:xfrm>
                  <a:off x="2360520" y="4460760"/>
                  <a:ext cx="613080" cy="227880"/>
                  <a:chOff x="2360520" y="4460760"/>
                  <a:chExt cx="613080" cy="227880"/>
                </a:xfrm>
              </p:grpSpPr>
              <p:sp>
                <p:nvSpPr>
                  <p:cNvPr id="909" name=""/>
                  <p:cNvSpPr/>
                  <p:nvPr/>
                </p:nvSpPr>
                <p:spPr>
                  <a:xfrm>
                    <a:off x="2360520" y="4460760"/>
                    <a:ext cx="0" cy="2278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2973600" y="4460760"/>
                    <a:ext cx="0" cy="2278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1" name=""/>
                <p:cNvGrpSpPr/>
                <p:nvPr/>
              </p:nvGrpSpPr>
              <p:grpSpPr>
                <a:xfrm>
                  <a:off x="3588480" y="4460760"/>
                  <a:ext cx="613440" cy="227880"/>
                  <a:chOff x="3588480" y="4460760"/>
                  <a:chExt cx="613440" cy="227880"/>
                </a:xfrm>
              </p:grpSpPr>
              <p:sp>
                <p:nvSpPr>
                  <p:cNvPr id="912" name=""/>
                  <p:cNvSpPr/>
                  <p:nvPr/>
                </p:nvSpPr>
                <p:spPr>
                  <a:xfrm>
                    <a:off x="3588480" y="4460760"/>
                    <a:ext cx="0" cy="2278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4201920" y="4460760"/>
                    <a:ext cx="0" cy="2278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4" name=""/>
                <p:cNvGrpSpPr/>
                <p:nvPr/>
              </p:nvGrpSpPr>
              <p:grpSpPr>
                <a:xfrm>
                  <a:off x="4791240" y="4460760"/>
                  <a:ext cx="613440" cy="227880"/>
                  <a:chOff x="4791240" y="4460760"/>
                  <a:chExt cx="613440" cy="227880"/>
                </a:xfrm>
              </p:grpSpPr>
              <p:sp>
                <p:nvSpPr>
                  <p:cNvPr id="915" name=""/>
                  <p:cNvSpPr/>
                  <p:nvPr/>
                </p:nvSpPr>
                <p:spPr>
                  <a:xfrm>
                    <a:off x="4791240" y="4460760"/>
                    <a:ext cx="0" cy="2278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404680" y="4460760"/>
                    <a:ext cx="0" cy="2278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7" name=""/>
                <p:cNvGrpSpPr/>
                <p:nvPr/>
              </p:nvGrpSpPr>
              <p:grpSpPr>
                <a:xfrm>
                  <a:off x="6066000" y="4437000"/>
                  <a:ext cx="613080" cy="227880"/>
                  <a:chOff x="6066000" y="4437000"/>
                  <a:chExt cx="613080" cy="227880"/>
                </a:xfrm>
              </p:grpSpPr>
              <p:sp>
                <p:nvSpPr>
                  <p:cNvPr id="918" name=""/>
                  <p:cNvSpPr/>
                  <p:nvPr/>
                </p:nvSpPr>
                <p:spPr>
                  <a:xfrm>
                    <a:off x="6066000" y="4437000"/>
                    <a:ext cx="0" cy="2278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6679080" y="4437000"/>
                    <a:ext cx="0" cy="2278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0" name=""/>
            <p:cNvGrpSpPr/>
            <p:nvPr/>
          </p:nvGrpSpPr>
          <p:grpSpPr>
            <a:xfrm>
              <a:off x="1836720" y="4651200"/>
              <a:ext cx="5394960" cy="532800"/>
              <a:chOff x="1836720" y="4651200"/>
              <a:chExt cx="5394960" cy="532800"/>
            </a:xfrm>
          </p:grpSpPr>
          <p:sp>
            <p:nvSpPr>
              <p:cNvPr id="921" name=""/>
              <p:cNvSpPr/>
              <p:nvPr/>
            </p:nvSpPr>
            <p:spPr>
              <a:xfrm>
                <a:off x="6868080" y="47242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66"/>
                    </a:solidFill>
                    <a:latin typeface="Times New Roman"/>
                    <a:ea typeface="宋体"/>
                  </a:rPr>
                  <a:t>列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836720" y="4686480"/>
                <a:ext cx="521964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773440" y="4724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Times New Roman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421080" y="4724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Times New Roman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997440" y="4724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66"/>
                    </a:solidFill>
                    <a:latin typeface="Times New Roman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445440" y="4724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Times New Roman"/>
                    <a:ea typeface="宋体"/>
                  </a:rPr>
                  <a:t>7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869080" y="4724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Times New Roman"/>
                    <a:ea typeface="宋体"/>
                  </a:rPr>
                  <a:t>6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221440" y="4724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Times New Roman"/>
                    <a:ea typeface="宋体"/>
                  </a:rPr>
                  <a:t>5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562280" y="46512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91122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930" name=""/>
          <p:cNvGrpSpPr/>
          <p:nvPr/>
        </p:nvGrpSpPr>
        <p:grpSpPr>
          <a:xfrm>
            <a:off x="1827720" y="333360"/>
            <a:ext cx="835920" cy="4983120"/>
            <a:chOff x="1827720" y="333360"/>
            <a:chExt cx="835920" cy="4983120"/>
          </a:xfrm>
        </p:grpSpPr>
        <p:sp>
          <p:nvSpPr>
            <p:cNvPr id="931" name=""/>
            <p:cNvSpPr/>
            <p:nvPr/>
          </p:nvSpPr>
          <p:spPr>
            <a:xfrm>
              <a:off x="1827720" y="333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Times New Roman"/>
                  <a:ea typeface="宋体"/>
                </a:rPr>
                <a:t>行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909440" y="4581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Times New Roman"/>
                  <a:ea typeface="宋体"/>
                </a:rPr>
                <a:t>0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2340000" y="333360"/>
              <a:ext cx="323640" cy="4983120"/>
              <a:chOff x="2340000" y="333360"/>
              <a:chExt cx="323640" cy="4983120"/>
            </a:xfrm>
          </p:grpSpPr>
          <p:sp>
            <p:nvSpPr>
              <p:cNvPr id="934" name=""/>
              <p:cNvSpPr/>
              <p:nvPr/>
            </p:nvSpPr>
            <p:spPr>
              <a:xfrm flipV="1">
                <a:off x="2355840" y="333360"/>
                <a:ext cx="6120" cy="498312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355840" y="3664080"/>
                <a:ext cx="266760" cy="2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357280" y="4205520"/>
                <a:ext cx="268200" cy="2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392200" y="1113120"/>
                <a:ext cx="266760" cy="2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396880" y="700200"/>
                <a:ext cx="266760" cy="2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346120" y="3162600"/>
                <a:ext cx="266760" cy="2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351160" y="2648160"/>
                <a:ext cx="266400" cy="2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340000" y="2116440"/>
                <a:ext cx="266760" cy="2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381040" y="1640160"/>
                <a:ext cx="266760" cy="2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1909800" y="400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  <a:ea typeface="宋体"/>
                </a:rPr>
                <a:t>1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90980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098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  <a:ea typeface="宋体"/>
                </a:rPr>
                <a:t>3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909800" y="24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  <a:ea typeface="宋体"/>
                </a:rPr>
                <a:t>4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909800" y="191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  <a:ea typeface="宋体"/>
                </a:rPr>
                <a:t>5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90008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909800" y="90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  <a:ea typeface="宋体"/>
                </a:rPr>
                <a:t>7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2268360" y="4581360"/>
            <a:ext cx="142920" cy="142920"/>
          </a:xfrm>
          <a:prstGeom prst="ellipse">
            <a:avLst/>
          </a:prstGeom>
          <a:solidFill>
            <a:srgbClr val="f91122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1" name="">
            <a:hlinkClick r:id="rId2" action="ppaction://hlinksldjump"/>
          </p:cNvPr>
          <p:cNvSpPr/>
          <p:nvPr/>
        </p:nvSpPr>
        <p:spPr>
          <a:xfrm>
            <a:off x="730872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2" name="">
            <a:hlinkClick r:id="rId3" action="ppaction://hlinksldjump"/>
          </p:cNvPr>
          <p:cNvSpPr/>
          <p:nvPr/>
        </p:nvSpPr>
        <p:spPr>
          <a:xfrm>
            <a:off x="7236000" y="6491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Broadway"/>
                <a:ea typeface="华文彩云"/>
              </a:rPr>
              <a:t>首    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3" name="">
            <a:hlinkClick r:id="rId4" action="ppaction://hlinksldjump"/>
          </p:cNvPr>
          <p:cNvSpPr/>
          <p:nvPr/>
        </p:nvSpPr>
        <p:spPr>
          <a:xfrm>
            <a:off x="8388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4" name="">
            <a:hlinkClick r:id="rId5" action="ppaction://hlinksldjump"/>
          </p:cNvPr>
          <p:cNvSpPr/>
          <p:nvPr/>
        </p:nvSpPr>
        <p:spPr>
          <a:xfrm>
            <a:off x="8280360" y="64533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Broadway"/>
                <a:ea typeface="华文彩云"/>
              </a:rPr>
              <a:t>返     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4284720" y="200160"/>
            <a:ext cx="838080" cy="6596640"/>
            <a:chOff x="4284720" y="200160"/>
            <a:chExt cx="838080" cy="6596640"/>
          </a:xfrm>
        </p:grpSpPr>
        <p:grpSp>
          <p:nvGrpSpPr>
            <p:cNvPr id="956" name=""/>
            <p:cNvGrpSpPr/>
            <p:nvPr/>
          </p:nvGrpSpPr>
          <p:grpSpPr>
            <a:xfrm>
              <a:off x="4435560" y="209880"/>
              <a:ext cx="461880" cy="6586920"/>
              <a:chOff x="4435560" y="209880"/>
              <a:chExt cx="461880" cy="6586920"/>
            </a:xfrm>
          </p:grpSpPr>
          <p:sp>
            <p:nvSpPr>
              <p:cNvPr id="957" name=""/>
              <p:cNvSpPr/>
              <p:nvPr/>
            </p:nvSpPr>
            <p:spPr>
              <a:xfrm>
                <a:off x="4780080" y="3422160"/>
                <a:ext cx="1440" cy="1620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41920" y="209880"/>
                <a:ext cx="1440" cy="6586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4701600" y="42012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>
                <a:off x="4701600" y="85896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4701600" y="129600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536000" y="115380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  <a:ea typeface="宋体"/>
                  </a:rPr>
                  <a:t>5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4701600" y="173484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4701600" y="217368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4701600" y="262728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4701600" y="306432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4701600" y="394236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4701600" y="437940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4701600" y="483300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4701600" y="527184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4701600" y="571068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452840" y="553176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  <a:ea typeface="宋体"/>
                  </a:rPr>
                  <a:t>-5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4701600" y="658656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4741920" y="6159240"/>
                <a:ext cx="15552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52840" y="417384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  <a:ea typeface="宋体"/>
                  </a:rPr>
                  <a:t>-2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452840" y="463428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  <a:ea typeface="宋体"/>
                  </a:rPr>
                  <a:t>-3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452840" y="504828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  <a:ea typeface="宋体"/>
                  </a:rPr>
                  <a:t>-4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452840" y="377676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  <a:ea typeface="宋体"/>
                  </a:rPr>
                  <a:t>-1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536000" y="202788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  <a:ea typeface="宋体"/>
                  </a:rPr>
                  <a:t>3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36000" y="250488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536000" y="155088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  <a:ea typeface="宋体"/>
                  </a:rPr>
                  <a:t>4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510440" y="290196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435560" y="5922720"/>
                <a:ext cx="214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宋体"/>
                  </a:rPr>
                  <a:t>-6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10440" y="67680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  <a:ea typeface="宋体"/>
                  </a:rPr>
                  <a:t>6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4360680" y="2001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y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284720" y="6320520"/>
              <a:ext cx="761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826920" y="3357720"/>
            <a:ext cx="8314920" cy="612000"/>
            <a:chOff x="826920" y="3357720"/>
            <a:chExt cx="8314920" cy="612000"/>
          </a:xfrm>
        </p:grpSpPr>
        <p:grpSp>
          <p:nvGrpSpPr>
            <p:cNvPr id="988" name=""/>
            <p:cNvGrpSpPr/>
            <p:nvPr/>
          </p:nvGrpSpPr>
          <p:grpSpPr>
            <a:xfrm>
              <a:off x="826920" y="3357720"/>
              <a:ext cx="8314920" cy="612000"/>
              <a:chOff x="826920" y="3357720"/>
              <a:chExt cx="8314920" cy="612000"/>
            </a:xfrm>
          </p:grpSpPr>
          <p:grpSp>
            <p:nvGrpSpPr>
              <p:cNvPr id="989" name=""/>
              <p:cNvGrpSpPr/>
              <p:nvPr/>
            </p:nvGrpSpPr>
            <p:grpSpPr>
              <a:xfrm>
                <a:off x="5263920" y="3398760"/>
                <a:ext cx="511200" cy="155160"/>
                <a:chOff x="5263920" y="3398760"/>
                <a:chExt cx="511200" cy="15516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5263920" y="3398760"/>
                  <a:ext cx="144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773680" y="3398760"/>
                  <a:ext cx="144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826920" y="3357720"/>
                <a:ext cx="8314920" cy="612000"/>
                <a:chOff x="826920" y="3357720"/>
                <a:chExt cx="8314920" cy="61200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2184120" y="3398760"/>
                  <a:ext cx="144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2693880" y="3398760"/>
                  <a:ext cx="216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204360" y="3398760"/>
                  <a:ext cx="144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733200" y="3398760"/>
                  <a:ext cx="216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243680" y="3398760"/>
                  <a:ext cx="144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303240" y="3398760"/>
                  <a:ext cx="216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813720" y="3398760"/>
                  <a:ext cx="144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323480" y="3398760"/>
                  <a:ext cx="216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832160" y="3398760"/>
                  <a:ext cx="144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8341920" y="3357720"/>
                  <a:ext cx="216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pSp>
              <p:nvGrpSpPr>
                <p:cNvPr id="1003" name=""/>
                <p:cNvGrpSpPr/>
                <p:nvPr/>
              </p:nvGrpSpPr>
              <p:grpSpPr>
                <a:xfrm>
                  <a:off x="826920" y="3357720"/>
                  <a:ext cx="8314920" cy="612000"/>
                  <a:chOff x="826920" y="3357720"/>
                  <a:chExt cx="8314920" cy="612000"/>
                </a:xfrm>
              </p:grpSpPr>
              <p:sp>
                <p:nvSpPr>
                  <p:cNvPr id="1004" name=""/>
                  <p:cNvSpPr/>
                  <p:nvPr/>
                </p:nvSpPr>
                <p:spPr>
                  <a:xfrm>
                    <a:off x="918720" y="3508200"/>
                    <a:ext cx="7669080" cy="14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1165320" y="3398760"/>
                    <a:ext cx="1440" cy="15516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1675440" y="3398760"/>
                    <a:ext cx="2160" cy="15516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07" name=""/>
                  <p:cNvGrpSpPr/>
                  <p:nvPr/>
                </p:nvGrpSpPr>
                <p:grpSpPr>
                  <a:xfrm>
                    <a:off x="826920" y="3357720"/>
                    <a:ext cx="8314920" cy="612000"/>
                    <a:chOff x="826920" y="3357720"/>
                    <a:chExt cx="8314920" cy="612000"/>
                  </a:xfrm>
                </p:grpSpPr>
                <p:sp>
                  <p:nvSpPr>
                    <p:cNvPr id="1008" name=""/>
                    <p:cNvSpPr/>
                    <p:nvPr/>
                  </p:nvSpPr>
                  <p:spPr>
                    <a:xfrm>
                      <a:off x="2031480" y="355428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-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"/>
                    <p:cNvSpPr/>
                    <p:nvPr/>
                  </p:nvSpPr>
                  <p:spPr>
                    <a:xfrm>
                      <a:off x="7223760" y="358596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>
                      <a:off x="2949480" y="358596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-3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>
                      <a:off x="2487600" y="357012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-4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>
                      <a:off x="6722280" y="358596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"/>
                    <p:cNvSpPr/>
                    <p:nvPr/>
                  </p:nvSpPr>
                  <p:spPr>
                    <a:xfrm>
                      <a:off x="3503880" y="357012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-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>
                      <a:off x="6182280" y="358596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4058280" y="357012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-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5720400" y="358596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5166000" y="358596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>
                      <a:off x="1563480" y="358596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-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9" name=""/>
                    <p:cNvSpPr/>
                    <p:nvPr/>
                  </p:nvSpPr>
                  <p:spPr>
                    <a:xfrm>
                      <a:off x="7754040" y="358596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>
                      <a:off x="4337640" y="3357720"/>
                      <a:ext cx="15703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>
                      <a:off x="826920" y="3510000"/>
                      <a:ext cx="923400" cy="45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2" name=""/>
                    <p:cNvSpPr/>
                    <p:nvPr/>
                  </p:nvSpPr>
                  <p:spPr>
                    <a:xfrm>
                      <a:off x="8218080" y="3510000"/>
                      <a:ext cx="9237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023" name=""/>
            <p:cNvSpPr/>
            <p:nvPr/>
          </p:nvSpPr>
          <p:spPr>
            <a:xfrm>
              <a:off x="4708080" y="335772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6934320" y="386064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轴或横轴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300720" y="234936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第一象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050920" y="256536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第二象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444040" y="5157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第三象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044760" y="522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第四象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rot="561600">
            <a:off x="4716360" y="2781360"/>
            <a:ext cx="1443240" cy="647640"/>
          </a:xfrm>
          <a:prstGeom prst="cloudCallout">
            <a:avLst>
              <a:gd name="adj1" fmla="val -41472"/>
              <a:gd name="adj2" fmla="val 68689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a4"/>
                </a:solidFill>
                <a:latin typeface="Times New Roman"/>
                <a:ea typeface="宋体"/>
              </a:rPr>
              <a:t>原点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859280" y="0"/>
            <a:ext cx="45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y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轴或纵轴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79280" y="134136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Broadway"/>
                <a:ea typeface="宋体"/>
              </a:rPr>
              <a:t>在平面内，两条互相</a:t>
            </a:r>
            <a:r>
              <a:rPr b="1" lang="zh-CN" sz="2400" spc="-1" strike="noStrike">
                <a:solidFill>
                  <a:srgbClr val="ff3300"/>
                </a:solidFill>
                <a:latin typeface="Broadway"/>
                <a:ea typeface="宋体"/>
              </a:rPr>
              <a:t>垂直</a:t>
            </a:r>
            <a:r>
              <a:rPr b="1" lang="zh-CN" sz="2400" spc="-1" strike="noStrike">
                <a:solidFill>
                  <a:srgbClr val="007a77"/>
                </a:solidFill>
                <a:latin typeface="Broadway"/>
                <a:ea typeface="宋体"/>
              </a:rPr>
              <a:t>且有</a:t>
            </a:r>
            <a:r>
              <a:rPr b="1" lang="zh-CN" sz="2400" spc="-1" strike="noStrike">
                <a:solidFill>
                  <a:srgbClr val="ff3300"/>
                </a:solidFill>
                <a:latin typeface="Broadway"/>
                <a:ea typeface="宋体"/>
              </a:rPr>
              <a:t>公共 </a:t>
            </a:r>
            <a:r>
              <a:rPr b="1" lang="zh-CN" sz="2400" spc="-1" strike="noStrike">
                <a:solidFill>
                  <a:srgbClr val="007a77"/>
                </a:solidFill>
                <a:latin typeface="Broadway"/>
                <a:ea typeface="宋体"/>
              </a:rPr>
              <a:t>原点的</a:t>
            </a:r>
            <a:r>
              <a:rPr b="1" lang="zh-CN" sz="2400" spc="-1" strike="noStrike">
                <a:solidFill>
                  <a:srgbClr val="ff3300"/>
                </a:solidFill>
                <a:latin typeface="Broadway"/>
                <a:ea typeface="宋体"/>
              </a:rPr>
              <a:t>数轴</a:t>
            </a:r>
            <a:r>
              <a:rPr b="1" lang="zh-CN" sz="2400" spc="-1" strike="noStrike">
                <a:solidFill>
                  <a:srgbClr val="007a77"/>
                </a:solidFill>
                <a:latin typeface="Broadway"/>
                <a:ea typeface="宋体"/>
              </a:rPr>
              <a:t>组成平面直角坐标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042920" y="0"/>
            <a:ext cx="38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面直角坐标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3" name="">
            <a:hlinkClick r:id="rId1" action="ppaction://hlinksldjump"/>
          </p:cNvPr>
          <p:cNvSpPr/>
          <p:nvPr/>
        </p:nvSpPr>
        <p:spPr>
          <a:xfrm>
            <a:off x="709128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4" name="">
            <a:hlinkClick r:id="rId2" action="ppaction://hlinksldjump"/>
          </p:cNvPr>
          <p:cNvSpPr/>
          <p:nvPr/>
        </p:nvSpPr>
        <p:spPr>
          <a:xfrm>
            <a:off x="7020000" y="645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Broadway"/>
                <a:ea typeface="华文彩云"/>
              </a:rPr>
              <a:t>首    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5" name="">
            <a:hlinkClick r:id="rId3" action="ppaction://hlinksldjump"/>
          </p:cNvPr>
          <p:cNvSpPr/>
          <p:nvPr/>
        </p:nvSpPr>
        <p:spPr>
          <a:xfrm>
            <a:off x="8388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6" name="">
            <a:hlinkClick r:id="rId4" action="ppaction://hlinksldjump"/>
          </p:cNvPr>
          <p:cNvSpPr/>
          <p:nvPr/>
        </p:nvSpPr>
        <p:spPr>
          <a:xfrm>
            <a:off x="8280360" y="645336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c00"/>
                </a:solidFill>
                <a:latin typeface="Broadway"/>
                <a:ea typeface="华文彩云"/>
              </a:rPr>
              <a:t>返     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"/>
          <p:cNvGrpSpPr/>
          <p:nvPr/>
        </p:nvGrpSpPr>
        <p:grpSpPr>
          <a:xfrm>
            <a:off x="4700520" y="90360"/>
            <a:ext cx="838080" cy="6577920"/>
            <a:chOff x="4700520" y="90360"/>
            <a:chExt cx="838080" cy="6577920"/>
          </a:xfrm>
        </p:grpSpPr>
        <p:grpSp>
          <p:nvGrpSpPr>
            <p:cNvPr id="1038" name=""/>
            <p:cNvGrpSpPr/>
            <p:nvPr/>
          </p:nvGrpSpPr>
          <p:grpSpPr>
            <a:xfrm>
              <a:off x="4851360" y="100080"/>
              <a:ext cx="461880" cy="6568200"/>
              <a:chOff x="4851360" y="100080"/>
              <a:chExt cx="461880" cy="6568200"/>
            </a:xfrm>
          </p:grpSpPr>
          <p:sp>
            <p:nvSpPr>
              <p:cNvPr id="1039" name=""/>
              <p:cNvSpPr/>
              <p:nvPr/>
            </p:nvSpPr>
            <p:spPr>
              <a:xfrm>
                <a:off x="5195880" y="3303360"/>
                <a:ext cx="1440" cy="1616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157720" y="100080"/>
                <a:ext cx="1440" cy="6568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5117400" y="30960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5117400" y="74736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5117400" y="118332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951800" y="104112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  <a:ea typeface="宋体"/>
                  </a:rPr>
                  <a:t>5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5117400" y="162036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5117400" y="205812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>
                <a:off x="5117400" y="251064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>
                <a:off x="5117400" y="294660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5117400" y="382176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5117400" y="425772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5117400" y="471024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5117400" y="514764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>
                <a:off x="5117400" y="558504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868640" y="540684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  <a:ea typeface="宋体"/>
                  </a:rPr>
                  <a:t>-5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>
                <a:off x="5117400" y="645876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5157720" y="6032520"/>
                <a:ext cx="15552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868640" y="405288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  <a:ea typeface="宋体"/>
                  </a:rPr>
                  <a:t>-2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868640" y="451188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  <a:ea typeface="宋体"/>
                  </a:rPr>
                  <a:t>-3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868640" y="492480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  <a:ea typeface="宋体"/>
                  </a:rPr>
                  <a:t>-4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868640" y="365688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  <a:ea typeface="宋体"/>
                  </a:rPr>
                  <a:t>-1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951800" y="191304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  <a:ea typeface="宋体"/>
                  </a:rPr>
                  <a:t>3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951800" y="238860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951800" y="143748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  <a:ea typeface="宋体"/>
                  </a:rPr>
                  <a:t>4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926240" y="278460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851360" y="5796720"/>
                <a:ext cx="214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宋体"/>
                  </a:rPr>
                  <a:t>-6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26240" y="56556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  <a:ea typeface="宋体"/>
                  </a:rPr>
                  <a:t>6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067" name=""/>
            <p:cNvSpPr/>
            <p:nvPr/>
          </p:nvSpPr>
          <p:spPr>
            <a:xfrm>
              <a:off x="4776480" y="90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3e3ff"/>
                  </a:solidFill>
                  <a:latin typeface="Times New Roman"/>
                  <a:ea typeface="宋体"/>
                </a:rPr>
                <a:t>y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700520" y="6193080"/>
              <a:ext cx="761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477800" y="3284640"/>
            <a:ext cx="7881840" cy="612000"/>
            <a:chOff x="1477800" y="3284640"/>
            <a:chExt cx="7881840" cy="612000"/>
          </a:xfrm>
        </p:grpSpPr>
        <p:grpSp>
          <p:nvGrpSpPr>
            <p:cNvPr id="1070" name=""/>
            <p:cNvGrpSpPr/>
            <p:nvPr/>
          </p:nvGrpSpPr>
          <p:grpSpPr>
            <a:xfrm>
              <a:off x="1477800" y="3284640"/>
              <a:ext cx="7881840" cy="612000"/>
              <a:chOff x="1477800" y="3284640"/>
              <a:chExt cx="7881840" cy="612000"/>
            </a:xfrm>
          </p:grpSpPr>
          <p:grpSp>
            <p:nvGrpSpPr>
              <p:cNvPr id="1071" name=""/>
              <p:cNvGrpSpPr/>
              <p:nvPr/>
            </p:nvGrpSpPr>
            <p:grpSpPr>
              <a:xfrm>
                <a:off x="5683680" y="3325680"/>
                <a:ext cx="484920" cy="155160"/>
                <a:chOff x="5683680" y="3325680"/>
                <a:chExt cx="484920" cy="15516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5683680" y="3325680"/>
                  <a:ext cx="144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167160" y="3325680"/>
                  <a:ext cx="144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1477800" y="3284640"/>
                <a:ext cx="7881840" cy="612000"/>
                <a:chOff x="1477800" y="3284640"/>
                <a:chExt cx="7881840" cy="6120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2764080" y="3325680"/>
                  <a:ext cx="144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247560" y="3325680"/>
                  <a:ext cx="180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3731040" y="3325680"/>
                  <a:ext cx="144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4232520" y="3325680"/>
                  <a:ext cx="180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716360" y="3325680"/>
                  <a:ext cx="144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6668640" y="3325680"/>
                  <a:ext cx="180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7152480" y="3325680"/>
                  <a:ext cx="144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7635600" y="3325680"/>
                  <a:ext cx="180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8118000" y="3325680"/>
                  <a:ext cx="144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8601120" y="3284640"/>
                  <a:ext cx="180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pSp>
              <p:nvGrpSpPr>
                <p:cNvPr id="1085" name=""/>
                <p:cNvGrpSpPr/>
                <p:nvPr/>
              </p:nvGrpSpPr>
              <p:grpSpPr>
                <a:xfrm>
                  <a:off x="1477800" y="3284640"/>
                  <a:ext cx="7881840" cy="612000"/>
                  <a:chOff x="1477800" y="3284640"/>
                  <a:chExt cx="7881840" cy="61200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>
                    <a:off x="1564920" y="3435120"/>
                    <a:ext cx="7269480" cy="14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1798560" y="3325680"/>
                    <a:ext cx="1440" cy="15516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2282040" y="3325680"/>
                    <a:ext cx="1800" cy="15516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89" name=""/>
                  <p:cNvGrpSpPr/>
                  <p:nvPr/>
                </p:nvGrpSpPr>
                <p:grpSpPr>
                  <a:xfrm>
                    <a:off x="1477800" y="3284640"/>
                    <a:ext cx="7881840" cy="612000"/>
                    <a:chOff x="1477800" y="3284640"/>
                    <a:chExt cx="7881840" cy="612000"/>
                  </a:xfrm>
                </p:grpSpPr>
                <p:sp>
                  <p:nvSpPr>
                    <p:cNvPr id="1090" name=""/>
                    <p:cNvSpPr/>
                    <p:nvPr/>
                  </p:nvSpPr>
                  <p:spPr>
                    <a:xfrm>
                      <a:off x="2619720" y="348120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-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7540920" y="351288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3489120" y="351288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-3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>
                      <a:off x="3051360" y="349704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-4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>
                      <a:off x="7064640" y="351288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>
                      <a:off x="4014720" y="349704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-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>
                      <a:off x="6553800" y="351288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4540320" y="349704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-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>
                      <a:off x="6116040" y="351288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9" name=""/>
                    <p:cNvSpPr/>
                    <p:nvPr/>
                  </p:nvSpPr>
                  <p:spPr>
                    <a:xfrm>
                      <a:off x="5590440" y="351288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>
                      <a:off x="2175480" y="351288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-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>
                      <a:off x="8042760" y="351288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MS Sans Serif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>
                      <a:off x="4805640" y="3284640"/>
                      <a:ext cx="14886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>
                      <a:off x="1477800" y="3436920"/>
                      <a:ext cx="875160" cy="45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8483760" y="3436920"/>
                      <a:ext cx="8758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105" name=""/>
            <p:cNvSpPr/>
            <p:nvPr/>
          </p:nvSpPr>
          <p:spPr>
            <a:xfrm>
              <a:off x="5156640" y="328464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0" y="189000"/>
            <a:ext cx="4465800" cy="1281600"/>
            <a:chOff x="0" y="189000"/>
            <a:chExt cx="4465800" cy="1281600"/>
          </a:xfrm>
        </p:grpSpPr>
        <p:sp>
          <p:nvSpPr>
            <p:cNvPr id="1107" name=""/>
            <p:cNvSpPr/>
            <p:nvPr/>
          </p:nvSpPr>
          <p:spPr>
            <a:xfrm>
              <a:off x="0" y="1010880"/>
              <a:ext cx="446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3e3ff"/>
                  </a:solidFill>
                  <a:latin typeface="Broadway"/>
                  <a:ea typeface="宋体"/>
                </a:rPr>
                <a:t>请同学们在方格纸上画一个平面直角坐标系，画好后，左右的同学比一比，互相写个分数！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87560" y="189000"/>
              <a:ext cx="18716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e3e3ff"/>
                  </a:solidFill>
                  <a:latin typeface="Arial"/>
                  <a:ea typeface="宋体"/>
                </a:rPr>
                <a:t>         </a:t>
              </a:r>
              <a:br>
                <a:rPr sz="4000"/>
              </a:br>
              <a:r>
                <a:rPr b="0" lang="zh-CN" sz="3200" spc="-1" strike="noStrike">
                  <a:solidFill>
                    <a:srgbClr val="e3e3ff"/>
                  </a:solidFill>
                  <a:latin typeface="Arial"/>
                  <a:ea typeface="宋体"/>
                </a:rPr>
                <a:t>牛刀小试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109" name="">
            <a:hlinkClick r:id="rId1" action="ppaction://hlinksldjump"/>
          </p:cNvPr>
          <p:cNvSpPr/>
          <p:nvPr/>
        </p:nvSpPr>
        <p:spPr>
          <a:xfrm>
            <a:off x="7596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0" name="">
            <a:hlinkClick r:id="rId2" action="ppaction://hlinksldjump"/>
          </p:cNvPr>
          <p:cNvSpPr/>
          <p:nvPr/>
        </p:nvSpPr>
        <p:spPr>
          <a:xfrm>
            <a:off x="7451640" y="645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Broadway"/>
                <a:ea typeface="华文彩云"/>
              </a:rPr>
              <a:t>首    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1" name="">
            <a:hlinkClick r:id="rId3" action="ppaction://hlinksldjump"/>
          </p:cNvPr>
          <p:cNvSpPr/>
          <p:nvPr/>
        </p:nvSpPr>
        <p:spPr>
          <a:xfrm>
            <a:off x="8388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2" name="">
            <a:hlinkClick r:id="rId4" action="ppaction://hlinksldjump"/>
          </p:cNvPr>
          <p:cNvSpPr/>
          <p:nvPr/>
        </p:nvSpPr>
        <p:spPr>
          <a:xfrm>
            <a:off x="8280360" y="64533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Broadway"/>
                <a:ea typeface="华文彩云"/>
              </a:rPr>
              <a:t>返     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2195640" y="5803920"/>
            <a:ext cx="2447640" cy="1440"/>
          </a:xfrm>
          <a:prstGeom prst="line">
            <a:avLst/>
          </a:prstGeom>
          <a:ln w="572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195640" y="3716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475640" y="3716280"/>
            <a:ext cx="705240" cy="2088720"/>
            <a:chOff x="1475640" y="3716280"/>
            <a:chExt cx="705240" cy="2088720"/>
          </a:xfrm>
        </p:grpSpPr>
        <p:sp>
          <p:nvSpPr>
            <p:cNvPr id="1116" name=""/>
            <p:cNvSpPr/>
            <p:nvPr/>
          </p:nvSpPr>
          <p:spPr>
            <a:xfrm flipH="1" rot="16200000">
              <a:off x="775440" y="4415760"/>
              <a:ext cx="2088720" cy="689400"/>
            </a:xfrm>
            <a:prstGeom prst="rtTriangle">
              <a:avLst/>
            </a:prstGeom>
            <a:solidFill>
              <a:srgbClr val="ffffff">
                <a:alpha val="19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117" name=""/>
            <p:cNvGrpSpPr/>
            <p:nvPr/>
          </p:nvGrpSpPr>
          <p:grpSpPr>
            <a:xfrm>
              <a:off x="2041920" y="3716280"/>
              <a:ext cx="138960" cy="179280"/>
              <a:chOff x="2041920" y="3716280"/>
              <a:chExt cx="138960" cy="179280"/>
            </a:xfrm>
          </p:grpSpPr>
          <p:sp>
            <p:nvSpPr>
              <p:cNvPr id="1118" name=""/>
              <p:cNvSpPr/>
              <p:nvPr/>
            </p:nvSpPr>
            <p:spPr>
              <a:xfrm>
                <a:off x="2041920" y="3716280"/>
                <a:ext cx="0" cy="179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H="1">
                <a:off x="2041920" y="3895560"/>
                <a:ext cx="1389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120" name=""/>
          <p:cNvGrpSpPr/>
          <p:nvPr/>
        </p:nvGrpSpPr>
        <p:grpSpPr>
          <a:xfrm>
            <a:off x="2325600" y="5012640"/>
            <a:ext cx="2303280" cy="763920"/>
            <a:chOff x="2325600" y="5012640"/>
            <a:chExt cx="2303280" cy="763920"/>
          </a:xfrm>
        </p:grpSpPr>
        <p:sp>
          <p:nvSpPr>
            <p:cNvPr id="1121" name=""/>
            <p:cNvSpPr/>
            <p:nvPr/>
          </p:nvSpPr>
          <p:spPr>
            <a:xfrm flipH="1">
              <a:off x="2325600" y="5012640"/>
              <a:ext cx="2303280" cy="747000"/>
            </a:xfrm>
            <a:prstGeom prst="rtTriangle">
              <a:avLst/>
            </a:prstGeom>
            <a:solidFill>
              <a:srgbClr val="ffffff">
                <a:alpha val="19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430880" y="5626440"/>
              <a:ext cx="198000" cy="150120"/>
              <a:chOff x="4430880" y="5626440"/>
              <a:chExt cx="198000" cy="150120"/>
            </a:xfrm>
          </p:grpSpPr>
          <p:sp>
            <p:nvSpPr>
              <p:cNvPr id="1123" name=""/>
              <p:cNvSpPr/>
              <p:nvPr/>
            </p:nvSpPr>
            <p:spPr>
              <a:xfrm flipH="1">
                <a:off x="4430880" y="5626440"/>
                <a:ext cx="198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4430880" y="5626440"/>
                <a:ext cx="0" cy="150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125" name=""/>
          <p:cNvGrpSpPr/>
          <p:nvPr/>
        </p:nvGrpSpPr>
        <p:grpSpPr>
          <a:xfrm>
            <a:off x="4200480" y="533520"/>
            <a:ext cx="838080" cy="6324480"/>
            <a:chOff x="4200480" y="533520"/>
            <a:chExt cx="838080" cy="6324480"/>
          </a:xfrm>
        </p:grpSpPr>
        <p:grpSp>
          <p:nvGrpSpPr>
            <p:cNvPr id="1126" name=""/>
            <p:cNvGrpSpPr/>
            <p:nvPr/>
          </p:nvGrpSpPr>
          <p:grpSpPr>
            <a:xfrm>
              <a:off x="4351320" y="542880"/>
              <a:ext cx="461880" cy="6315120"/>
              <a:chOff x="4351320" y="542880"/>
              <a:chExt cx="461880" cy="6315120"/>
            </a:xfrm>
          </p:grpSpPr>
          <p:sp>
            <p:nvSpPr>
              <p:cNvPr id="1127" name=""/>
              <p:cNvSpPr/>
              <p:nvPr/>
            </p:nvSpPr>
            <p:spPr>
              <a:xfrm>
                <a:off x="4695840" y="3622680"/>
                <a:ext cx="1440" cy="155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657680" y="542880"/>
                <a:ext cx="1440" cy="6315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>
                <a:off x="4617360" y="744480"/>
                <a:ext cx="155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H="1">
                <a:off x="4617360" y="1165320"/>
                <a:ext cx="155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H="1">
                <a:off x="4617360" y="1584360"/>
                <a:ext cx="155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454280" y="1447920"/>
                <a:ext cx="18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>
                <a:off x="4617360" y="2004840"/>
                <a:ext cx="155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>
                <a:off x="4617360" y="2425680"/>
                <a:ext cx="155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H="1">
                <a:off x="4617360" y="2860560"/>
                <a:ext cx="155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4617360" y="3279600"/>
                <a:ext cx="155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617360" y="4121280"/>
                <a:ext cx="155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4617360" y="4540320"/>
                <a:ext cx="155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4617360" y="4975200"/>
                <a:ext cx="155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>
                <a:off x="4617360" y="5396040"/>
                <a:ext cx="155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H="1">
                <a:off x="4617360" y="5816520"/>
                <a:ext cx="155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368600" y="564516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MS Sans Serif"/>
                    <a:ea typeface="宋体"/>
                  </a:rPr>
                  <a:t>-5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H="1">
                <a:off x="4617360" y="6656400"/>
                <a:ext cx="155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>
                <a:off x="4657680" y="6246720"/>
                <a:ext cx="1555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368600" y="434340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MS Sans Serif"/>
                    <a:ea typeface="宋体"/>
                  </a:rPr>
                  <a:t>-2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368600" y="478476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MS Sans Serif"/>
                    <a:ea typeface="宋体"/>
                  </a:rPr>
                  <a:t>-3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368600" y="518148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MS Sans Serif"/>
                    <a:ea typeface="宋体"/>
                  </a:rPr>
                  <a:t>-4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368600" y="396252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MS Sans Serif"/>
                    <a:ea typeface="宋体"/>
                  </a:rPr>
                  <a:t>-1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454280" y="2286000"/>
                <a:ext cx="1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454280" y="2743200"/>
                <a:ext cx="1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454280" y="1828800"/>
                <a:ext cx="1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426200" y="312408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3e3ff"/>
                    </a:solidFill>
                    <a:latin typeface="MS Sans Serif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351320" y="6019920"/>
                <a:ext cx="214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Times New Roman"/>
                    <a:ea typeface="宋体"/>
                  </a:rPr>
                  <a:t>-6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429080" y="99072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155" name=""/>
            <p:cNvSpPr/>
            <p:nvPr/>
          </p:nvSpPr>
          <p:spPr>
            <a:xfrm>
              <a:off x="4276440" y="533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y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200480" y="64008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4140360" y="134136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6443640" y="1614600"/>
            <a:ext cx="215640" cy="2158920"/>
            <a:chOff x="6443640" y="1614600"/>
            <a:chExt cx="215640" cy="2158920"/>
          </a:xfrm>
        </p:grpSpPr>
        <p:sp>
          <p:nvSpPr>
            <p:cNvPr id="1159" name=""/>
            <p:cNvSpPr/>
            <p:nvPr/>
          </p:nvSpPr>
          <p:spPr>
            <a:xfrm>
              <a:off x="6443640" y="1614600"/>
              <a:ext cx="0" cy="2158920"/>
            </a:xfrm>
            <a:prstGeom prst="line">
              <a:avLst/>
            </a:prstGeom>
            <a:ln cap="rnd" w="57240">
              <a:solidFill>
                <a:srgbClr val="00ff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160" name=""/>
            <p:cNvGrpSpPr/>
            <p:nvPr/>
          </p:nvGrpSpPr>
          <p:grpSpPr>
            <a:xfrm>
              <a:off x="6443640" y="3500280"/>
              <a:ext cx="215640" cy="215640"/>
              <a:chOff x="6443640" y="3500280"/>
              <a:chExt cx="215640" cy="215640"/>
            </a:xfrm>
          </p:grpSpPr>
          <p:sp>
            <p:nvSpPr>
              <p:cNvPr id="1161" name=""/>
              <p:cNvSpPr/>
              <p:nvPr/>
            </p:nvSpPr>
            <p:spPr>
              <a:xfrm>
                <a:off x="6443640" y="3500280"/>
                <a:ext cx="215640" cy="0"/>
              </a:xfrm>
              <a:prstGeom prst="line">
                <a:avLst/>
              </a:prstGeom>
              <a:ln w="2844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659280" y="3500280"/>
                <a:ext cx="0" cy="215640"/>
              </a:xfrm>
              <a:prstGeom prst="line">
                <a:avLst/>
              </a:prstGeom>
              <a:ln w="2844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1163" name=""/>
          <p:cNvSpPr/>
          <p:nvPr/>
        </p:nvSpPr>
        <p:spPr>
          <a:xfrm>
            <a:off x="6300720" y="105264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宋体"/>
              </a:rPr>
              <a:t>P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227640" y="765000"/>
            <a:ext cx="4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a77"/>
                </a:solidFill>
                <a:latin typeface="Arial"/>
                <a:ea typeface="宋体"/>
              </a:rPr>
              <a:t>．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 rot="10800000">
            <a:off x="6227640" y="3716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867280" y="4005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P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的横坐标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1476360" y="3573360"/>
            <a:ext cx="6858000" cy="612360"/>
            <a:chOff x="1476360" y="3573360"/>
            <a:chExt cx="6858000" cy="612360"/>
          </a:xfrm>
        </p:grpSpPr>
        <p:grpSp>
          <p:nvGrpSpPr>
            <p:cNvPr id="1168" name=""/>
            <p:cNvGrpSpPr/>
            <p:nvPr/>
          </p:nvGrpSpPr>
          <p:grpSpPr>
            <a:xfrm>
              <a:off x="1476360" y="3573360"/>
              <a:ext cx="6858000" cy="612360"/>
              <a:chOff x="1476360" y="3573360"/>
              <a:chExt cx="6858000" cy="612360"/>
            </a:xfrm>
          </p:grpSpPr>
          <p:grpSp>
            <p:nvGrpSpPr>
              <p:cNvPr id="1169" name=""/>
              <p:cNvGrpSpPr/>
              <p:nvPr/>
            </p:nvGrpSpPr>
            <p:grpSpPr>
              <a:xfrm>
                <a:off x="1476360" y="3573360"/>
                <a:ext cx="6858000" cy="612360"/>
                <a:chOff x="1476360" y="3573360"/>
                <a:chExt cx="6858000" cy="612360"/>
              </a:xfrm>
            </p:grpSpPr>
            <p:grpSp>
              <p:nvGrpSpPr>
                <p:cNvPr id="1170" name=""/>
                <p:cNvGrpSpPr/>
                <p:nvPr/>
              </p:nvGrpSpPr>
              <p:grpSpPr>
                <a:xfrm>
                  <a:off x="5135400" y="3614760"/>
                  <a:ext cx="422280" cy="155520"/>
                  <a:chOff x="5135400" y="3614760"/>
                  <a:chExt cx="422280" cy="15552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>
                    <a:off x="5135400" y="361476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556240" y="361476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3" name=""/>
                <p:cNvGrpSpPr/>
                <p:nvPr/>
              </p:nvGrpSpPr>
              <p:grpSpPr>
                <a:xfrm>
                  <a:off x="1476360" y="3573360"/>
                  <a:ext cx="6858000" cy="612360"/>
                  <a:chOff x="1476360" y="3573360"/>
                  <a:chExt cx="6858000" cy="612360"/>
                </a:xfrm>
              </p:grpSpPr>
              <p:sp>
                <p:nvSpPr>
                  <p:cNvPr id="1174" name=""/>
                  <p:cNvSpPr/>
                  <p:nvPr/>
                </p:nvSpPr>
                <p:spPr>
                  <a:xfrm>
                    <a:off x="2595600" y="361476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3016080" y="3614760"/>
                    <a:ext cx="180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3436920" y="361476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3873240" y="3614760"/>
                    <a:ext cx="180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4294080" y="361476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5992560" y="3614760"/>
                    <a:ext cx="180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6413400" y="361476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6833880" y="3614760"/>
                    <a:ext cx="180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7253280" y="361476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7673760" y="3573360"/>
                    <a:ext cx="180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84" name=""/>
                  <p:cNvGrpSpPr/>
                  <p:nvPr/>
                </p:nvGrpSpPr>
                <p:grpSpPr>
                  <a:xfrm>
                    <a:off x="1476360" y="3573360"/>
                    <a:ext cx="6858000" cy="612360"/>
                    <a:chOff x="1476360" y="3573360"/>
                    <a:chExt cx="6858000" cy="612360"/>
                  </a:xfrm>
                </p:grpSpPr>
                <p:sp>
                  <p:nvSpPr>
                    <p:cNvPr id="1185" name=""/>
                    <p:cNvSpPr/>
                    <p:nvPr/>
                  </p:nvSpPr>
                  <p:spPr>
                    <a:xfrm>
                      <a:off x="1552320" y="3724200"/>
                      <a:ext cx="6324840" cy="180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6" name=""/>
                    <p:cNvSpPr/>
                    <p:nvPr/>
                  </p:nvSpPr>
                  <p:spPr>
                    <a:xfrm>
                      <a:off x="1755720" y="3614760"/>
                      <a:ext cx="1440" cy="155520"/>
                    </a:xfrm>
                    <a:prstGeom prst="line">
                      <a:avLst/>
                    </a:prstGeom>
                    <a:ln w="158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7" name=""/>
                    <p:cNvSpPr/>
                    <p:nvPr/>
                  </p:nvSpPr>
                  <p:spPr>
                    <a:xfrm>
                      <a:off x="2176200" y="3614760"/>
                      <a:ext cx="1800" cy="155520"/>
                    </a:xfrm>
                    <a:prstGeom prst="line">
                      <a:avLst/>
                    </a:prstGeom>
                    <a:ln w="158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88" name=""/>
                    <p:cNvGrpSpPr/>
                    <p:nvPr/>
                  </p:nvGrpSpPr>
                  <p:grpSpPr>
                    <a:xfrm>
                      <a:off x="1476360" y="3573360"/>
                      <a:ext cx="6858000" cy="612360"/>
                      <a:chOff x="1476360" y="3573360"/>
                      <a:chExt cx="6858000" cy="612360"/>
                    </a:xfrm>
                  </p:grpSpPr>
                  <p:sp>
                    <p:nvSpPr>
                      <p:cNvPr id="1189" name=""/>
                      <p:cNvSpPr/>
                      <p:nvPr/>
                    </p:nvSpPr>
                    <p:spPr>
                      <a:xfrm>
                        <a:off x="2469960" y="377028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ffff"/>
                            </a:solidFill>
                            <a:latin typeface="MS Sans Serif"/>
                            <a:ea typeface="宋体"/>
                          </a:rPr>
                          <a:t>-5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0" name=""/>
                      <p:cNvSpPr/>
                      <p:nvPr/>
                    </p:nvSpPr>
                    <p:spPr>
                      <a:xfrm>
                        <a:off x="6754680" y="3801960"/>
                        <a:ext cx="144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1" name=""/>
                      <p:cNvSpPr/>
                      <p:nvPr/>
                    </p:nvSpPr>
                    <p:spPr>
                      <a:xfrm>
                        <a:off x="3227040" y="380196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ffff"/>
                            </a:solidFill>
                            <a:latin typeface="MS Sans Serif"/>
                            <a:ea typeface="宋体"/>
                          </a:rPr>
                          <a:t>-3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2" name=""/>
                      <p:cNvSpPr/>
                      <p:nvPr/>
                    </p:nvSpPr>
                    <p:spPr>
                      <a:xfrm>
                        <a:off x="2846160" y="378612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ffff"/>
                            </a:solidFill>
                            <a:latin typeface="MS Sans Serif"/>
                            <a:ea typeface="宋体"/>
                          </a:rPr>
                          <a:t>-4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3" name=""/>
                      <p:cNvSpPr/>
                      <p:nvPr/>
                    </p:nvSpPr>
                    <p:spPr>
                      <a:xfrm>
                        <a:off x="6340320" y="3801960"/>
                        <a:ext cx="144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4" name=""/>
                      <p:cNvSpPr/>
                      <p:nvPr/>
                    </p:nvSpPr>
                    <p:spPr>
                      <a:xfrm>
                        <a:off x="3684240" y="378612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ffff"/>
                            </a:solidFill>
                            <a:latin typeface="MS Sans Serif"/>
                            <a:ea typeface="宋体"/>
                          </a:rPr>
                          <a:t>-2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5" name=""/>
                      <p:cNvSpPr/>
                      <p:nvPr/>
                    </p:nvSpPr>
                    <p:spPr>
                      <a:xfrm>
                        <a:off x="5895720" y="3801960"/>
                        <a:ext cx="180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6" name=""/>
                      <p:cNvSpPr/>
                      <p:nvPr/>
                    </p:nvSpPr>
                    <p:spPr>
                      <a:xfrm>
                        <a:off x="4141440" y="378612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ffff"/>
                            </a:solidFill>
                            <a:latin typeface="MS Sans Serif"/>
                            <a:ea typeface="宋体"/>
                          </a:rPr>
                          <a:t>-1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7" name=""/>
                      <p:cNvSpPr/>
                      <p:nvPr/>
                    </p:nvSpPr>
                    <p:spPr>
                      <a:xfrm>
                        <a:off x="5514840" y="3801960"/>
                        <a:ext cx="144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8" name=""/>
                      <p:cNvSpPr/>
                      <p:nvPr/>
                    </p:nvSpPr>
                    <p:spPr>
                      <a:xfrm>
                        <a:off x="5057640" y="3801960"/>
                        <a:ext cx="144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9" name=""/>
                      <p:cNvSpPr/>
                      <p:nvPr/>
                    </p:nvSpPr>
                    <p:spPr>
                      <a:xfrm>
                        <a:off x="2084040" y="3801960"/>
                        <a:ext cx="2293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ffff"/>
                            </a:solidFill>
                            <a:latin typeface="MS Sans Serif"/>
                            <a:ea typeface="宋体"/>
                          </a:rPr>
                          <a:t>-6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00" name=""/>
                      <p:cNvSpPr/>
                      <p:nvPr/>
                    </p:nvSpPr>
                    <p:spPr>
                      <a:xfrm>
                        <a:off x="7191360" y="3801960"/>
                        <a:ext cx="144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01" name=""/>
                      <p:cNvSpPr/>
                      <p:nvPr/>
                    </p:nvSpPr>
                    <p:spPr>
                      <a:xfrm>
                        <a:off x="4371840" y="3573360"/>
                        <a:ext cx="12952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ffcc"/>
                            </a:solidFill>
                            <a:latin typeface="Times New Roman"/>
                            <a:ea typeface="宋体"/>
                          </a:rPr>
                          <a:t>o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02" name=""/>
                      <p:cNvSpPr/>
                      <p:nvPr/>
                    </p:nvSpPr>
                    <p:spPr>
                      <a:xfrm>
                        <a:off x="1476360" y="3726000"/>
                        <a:ext cx="761760" cy="457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03" name=""/>
                      <p:cNvSpPr/>
                      <p:nvPr/>
                    </p:nvSpPr>
                    <p:spPr>
                      <a:xfrm>
                        <a:off x="7572240" y="3726000"/>
                        <a:ext cx="7621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ffff99"/>
                            </a:solidFill>
                            <a:latin typeface="Times New Roman"/>
                            <a:ea typeface="宋体"/>
                          </a:rPr>
                          <a:t>X</a:t>
                        </a:r>
                        <a:endParaRPr b="0" lang="en-US" sz="24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204" name=""/>
              <p:cNvSpPr/>
              <p:nvPr/>
            </p:nvSpPr>
            <p:spPr>
              <a:xfrm>
                <a:off x="4676760" y="3573360"/>
                <a:ext cx="0" cy="15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205" name=""/>
            <p:cNvSpPr/>
            <p:nvPr/>
          </p:nvSpPr>
          <p:spPr>
            <a:xfrm>
              <a:off x="4960800" y="3781440"/>
              <a:ext cx="51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3e3ff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5183280" y="0"/>
            <a:ext cx="3960360" cy="717120"/>
            <a:chOff x="5183280" y="0"/>
            <a:chExt cx="3960360" cy="717120"/>
          </a:xfrm>
        </p:grpSpPr>
        <p:sp>
          <p:nvSpPr>
            <p:cNvPr id="1207" name=""/>
            <p:cNvSpPr/>
            <p:nvPr/>
          </p:nvSpPr>
          <p:spPr>
            <a:xfrm>
              <a:off x="5183280" y="0"/>
              <a:ext cx="3960360" cy="69264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fafcfe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623200" y="196560"/>
              <a:ext cx="3373200" cy="520560"/>
            </a:xfrm>
            <a:prstGeom prst="rect">
              <a:avLst/>
            </a:prstGeom>
            <a:noFill/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b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有序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实数对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6431040" y="126828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692360" y="5661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979640" y="515772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．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908000" y="5805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-6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宋体"/>
              </a:rPr>
              <a:t>,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宋体"/>
              </a:rPr>
              <a:t>-5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273000">
            <a:off x="4930920" y="4680"/>
            <a:ext cx="934920" cy="620640"/>
          </a:xfrm>
          <a:prstGeom prst="rect">
            <a:avLst/>
          </a:prstGeom>
          <a:ln w="0">
            <a:noFill/>
          </a:ln>
        </p:spPr>
      </p:pic>
      <p:sp>
        <p:nvSpPr>
          <p:cNvPr id="1214" name=""/>
          <p:cNvSpPr/>
          <p:nvPr/>
        </p:nvSpPr>
        <p:spPr>
          <a:xfrm>
            <a:off x="2050920" y="3141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的横坐标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-6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788000" y="5516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cc"/>
                </a:solidFill>
                <a:latin typeface="Arial"/>
                <a:ea typeface="宋体"/>
              </a:rPr>
              <a:t>点</a:t>
            </a:r>
            <a:r>
              <a:rPr b="1" lang="zh-CN" sz="2400" spc="-1" strike="noStrike">
                <a:solidFill>
                  <a:srgbClr val="00ffcc"/>
                </a:solidFill>
                <a:latin typeface="Arial"/>
                <a:ea typeface="宋体"/>
              </a:rPr>
              <a:t>F</a:t>
            </a:r>
            <a:r>
              <a:rPr b="1" lang="zh-CN" sz="2400" spc="-1" strike="noStrike">
                <a:solidFill>
                  <a:srgbClr val="00ffcc"/>
                </a:solidFill>
                <a:latin typeface="Arial"/>
                <a:ea typeface="宋体"/>
              </a:rPr>
              <a:t>的纵坐标是</a:t>
            </a:r>
            <a:r>
              <a:rPr b="1" lang="zh-CN" sz="2400" spc="-1" strike="noStrike">
                <a:solidFill>
                  <a:srgbClr val="00ffcc"/>
                </a:solidFill>
                <a:latin typeface="Arial"/>
                <a:ea typeface="宋体"/>
              </a:rPr>
              <a:t>-5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788000" y="2637000"/>
            <a:ext cx="1272960" cy="957240"/>
          </a:xfrm>
          <a:prstGeom prst="cloudCallout">
            <a:avLst>
              <a:gd name="adj1" fmla="val -58476"/>
              <a:gd name="adj2" fmla="val 63268"/>
            </a:avLst>
          </a:prstGeom>
          <a:solidFill>
            <a:srgbClr val="00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0,0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572000" y="3645000"/>
            <a:ext cx="14436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3"/>
          <a:stretch/>
        </p:blipFill>
        <p:spPr>
          <a:xfrm rot="376200">
            <a:off x="2513160" y="2910960"/>
            <a:ext cx="144360" cy="2905200"/>
          </a:xfrm>
          <a:prstGeom prst="rect">
            <a:avLst/>
          </a:prstGeom>
          <a:ln w="0">
            <a:noFill/>
          </a:ln>
        </p:spPr>
      </p:pic>
      <p:pic>
        <p:nvPicPr>
          <p:cNvPr id="1219" name="" descr=""/>
          <p:cNvPicPr/>
          <p:nvPr/>
        </p:nvPicPr>
        <p:blipFill>
          <a:blip r:embed="rId4"/>
          <a:stretch/>
        </p:blipFill>
        <p:spPr>
          <a:xfrm rot="1766400">
            <a:off x="2933280" y="3149280"/>
            <a:ext cx="108000" cy="2822400"/>
          </a:xfrm>
          <a:prstGeom prst="rect">
            <a:avLst/>
          </a:prstGeom>
          <a:ln w="0">
            <a:noFill/>
          </a:ln>
        </p:spPr>
      </p:pic>
      <p:sp>
        <p:nvSpPr>
          <p:cNvPr id="1220" name=""/>
          <p:cNvSpPr/>
          <p:nvPr/>
        </p:nvSpPr>
        <p:spPr>
          <a:xfrm>
            <a:off x="250920" y="333360"/>
            <a:ext cx="385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方法：先向横轴作垂线，垂足对应的数就是点的横坐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再向纵轴作垂线，垂足对应的数就是点的纵坐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643280" y="69228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cc"/>
                </a:solidFill>
                <a:latin typeface="Arial"/>
                <a:ea typeface="宋体"/>
              </a:rPr>
              <a:t>点</a:t>
            </a:r>
            <a:r>
              <a:rPr b="1" lang="zh-CN" sz="2400" spc="-1" strike="noStrike">
                <a:solidFill>
                  <a:srgbClr val="00ffcc"/>
                </a:solidFill>
                <a:latin typeface="Arial"/>
                <a:ea typeface="宋体"/>
              </a:rPr>
              <a:t>p</a:t>
            </a:r>
            <a:r>
              <a:rPr b="1" lang="zh-CN" sz="2400" spc="-1" strike="noStrike">
                <a:solidFill>
                  <a:srgbClr val="00ffcc"/>
                </a:solidFill>
                <a:latin typeface="Arial"/>
                <a:ea typeface="宋体"/>
              </a:rPr>
              <a:t>的纵坐标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4643280" y="1557360"/>
            <a:ext cx="1816200" cy="214920"/>
            <a:chOff x="4643280" y="1557360"/>
            <a:chExt cx="1816200" cy="214920"/>
          </a:xfrm>
        </p:grpSpPr>
        <p:sp>
          <p:nvSpPr>
            <p:cNvPr id="1223" name=""/>
            <p:cNvSpPr/>
            <p:nvPr/>
          </p:nvSpPr>
          <p:spPr>
            <a:xfrm>
              <a:off x="4659480" y="1558800"/>
              <a:ext cx="1800000" cy="0"/>
            </a:xfrm>
            <a:prstGeom prst="line">
              <a:avLst/>
            </a:prstGeom>
            <a:ln cap="rnd" w="5724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224" name=""/>
            <p:cNvGrpSpPr/>
            <p:nvPr/>
          </p:nvGrpSpPr>
          <p:grpSpPr>
            <a:xfrm>
              <a:off x="4643280" y="1557360"/>
              <a:ext cx="215640" cy="214920"/>
              <a:chOff x="4643280" y="1557360"/>
              <a:chExt cx="215640" cy="214920"/>
            </a:xfrm>
          </p:grpSpPr>
          <p:sp>
            <p:nvSpPr>
              <p:cNvPr id="1225" name=""/>
              <p:cNvSpPr/>
              <p:nvPr/>
            </p:nvSpPr>
            <p:spPr>
              <a:xfrm>
                <a:off x="4858920" y="1557360"/>
                <a:ext cx="0" cy="21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643280" y="1772280"/>
                <a:ext cx="215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227" name=""/>
          <p:cNvGrpSpPr/>
          <p:nvPr/>
        </p:nvGrpSpPr>
        <p:grpSpPr>
          <a:xfrm>
            <a:off x="2201760" y="3730320"/>
            <a:ext cx="142920" cy="142920"/>
            <a:chOff x="2201760" y="3730320"/>
            <a:chExt cx="142920" cy="142920"/>
          </a:xfrm>
        </p:grpSpPr>
        <p:sp>
          <p:nvSpPr>
            <p:cNvPr id="1228" name=""/>
            <p:cNvSpPr/>
            <p:nvPr/>
          </p:nvSpPr>
          <p:spPr>
            <a:xfrm>
              <a:off x="2201760" y="3873240"/>
              <a:ext cx="142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V="1">
              <a:off x="2344680" y="3730320"/>
              <a:ext cx="0" cy="142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4427640" y="5832720"/>
            <a:ext cx="215280" cy="215640"/>
            <a:chOff x="4427640" y="5832720"/>
            <a:chExt cx="215280" cy="215640"/>
          </a:xfrm>
        </p:grpSpPr>
        <p:sp>
          <p:nvSpPr>
            <p:cNvPr id="1231" name=""/>
            <p:cNvSpPr/>
            <p:nvPr/>
          </p:nvSpPr>
          <p:spPr>
            <a:xfrm flipH="1">
              <a:off x="4427640" y="6048360"/>
              <a:ext cx="2152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4427640" y="5832720"/>
              <a:ext cx="0" cy="215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233" name="">
            <a:hlinkClick r:id="rId5" action="ppaction://hlinksldjump"/>
          </p:cNvPr>
          <p:cNvSpPr/>
          <p:nvPr/>
        </p:nvSpPr>
        <p:spPr>
          <a:xfrm>
            <a:off x="7596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4" name="">
            <a:hlinkClick r:id="rId6" action="ppaction://hlinksldjump"/>
          </p:cNvPr>
          <p:cNvSpPr/>
          <p:nvPr/>
        </p:nvSpPr>
        <p:spPr>
          <a:xfrm>
            <a:off x="7451640" y="645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Broadway"/>
                <a:ea typeface="华文彩云"/>
              </a:rPr>
              <a:t>首    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5" name="">
            <a:hlinkClick r:id="rId7" action="ppaction://hlinksldjump"/>
          </p:cNvPr>
          <p:cNvSpPr/>
          <p:nvPr/>
        </p:nvSpPr>
        <p:spPr>
          <a:xfrm>
            <a:off x="8388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6" name="">
            <a:hlinkClick r:id="rId8" action="ppaction://hlinksldjump"/>
          </p:cNvPr>
          <p:cNvSpPr/>
          <p:nvPr/>
        </p:nvSpPr>
        <p:spPr>
          <a:xfrm>
            <a:off x="8280360" y="64533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Broadway"/>
                <a:ea typeface="华文彩云"/>
              </a:rPr>
              <a:t>返     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5 0.20809 L -0.02465 -0.29549 E">
                                      <p:cBhvr>
                                        <p:cTn id="171" dur="2000" fill="hold"/>
                                        <p:tgtEl>
                                          <p:spTgt spid="1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evt="end">
                                        <p:tn val="170"/>
                                      </p:cond>
                                    </p:stCondLst>
                                  </p:cTn>
                                  <p:tgtEl>
                                    <p:spTgt spid="1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9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7 0.00693 L 0.25052 -0.00509 E">
                                      <p:cBhvr>
                                        <p:cTn id="202" dur="2000" fill="hold"/>
                                        <p:tgtEl>
                                          <p:spTgt spid="1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evt="end">
                                        <p:tn val="201"/>
                                      </p:cond>
                                    </p:stCondLst>
                                  </p:cTn>
                                  <p:tgtEl>
                                    <p:spTgt spid="1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7" name=""/>
          <p:cNvGrpSpPr/>
          <p:nvPr/>
        </p:nvGrpSpPr>
        <p:grpSpPr>
          <a:xfrm>
            <a:off x="5276880" y="0"/>
            <a:ext cx="2932200" cy="6668640"/>
            <a:chOff x="5276880" y="0"/>
            <a:chExt cx="2932200" cy="6668640"/>
          </a:xfrm>
        </p:grpSpPr>
        <p:sp>
          <p:nvSpPr>
            <p:cNvPr id="1238" name=""/>
            <p:cNvSpPr/>
            <p:nvPr/>
          </p:nvSpPr>
          <p:spPr>
            <a:xfrm flipV="1">
              <a:off x="7807680" y="25920"/>
              <a:ext cx="0" cy="659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5276880" y="69120"/>
              <a:ext cx="0" cy="659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6135840" y="52200"/>
              <a:ext cx="0" cy="659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6556680" y="25920"/>
              <a:ext cx="0" cy="659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6977160" y="25920"/>
              <a:ext cx="0" cy="659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7393320" y="0"/>
              <a:ext cx="0" cy="659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5696280" y="63000"/>
              <a:ext cx="0" cy="659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8209080" y="25920"/>
              <a:ext cx="0" cy="659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4351320" y="533520"/>
            <a:ext cx="838080" cy="6324480"/>
            <a:chOff x="4351320" y="533520"/>
            <a:chExt cx="838080" cy="6324480"/>
          </a:xfrm>
        </p:grpSpPr>
        <p:grpSp>
          <p:nvGrpSpPr>
            <p:cNvPr id="1247" name=""/>
            <p:cNvGrpSpPr/>
            <p:nvPr/>
          </p:nvGrpSpPr>
          <p:grpSpPr>
            <a:xfrm>
              <a:off x="4502160" y="542880"/>
              <a:ext cx="461880" cy="6315120"/>
              <a:chOff x="4502160" y="542880"/>
              <a:chExt cx="461880" cy="6315120"/>
            </a:xfrm>
          </p:grpSpPr>
          <p:sp>
            <p:nvSpPr>
              <p:cNvPr id="1248" name=""/>
              <p:cNvSpPr/>
              <p:nvPr/>
            </p:nvSpPr>
            <p:spPr>
              <a:xfrm>
                <a:off x="4846680" y="3622680"/>
                <a:ext cx="1440" cy="15552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808520" y="542880"/>
                <a:ext cx="1440" cy="631512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>
                <a:off x="4768200" y="74448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4768200" y="116532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4768200" y="158436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602600" y="144792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MS Sans Serif"/>
                    <a:ea typeface="宋体"/>
                  </a:rPr>
                  <a:t>5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4768200" y="200484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>
                <a:off x="4768200" y="242568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4768200" y="286056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4768200" y="327960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4768200" y="412128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>
                <a:off x="4768200" y="454032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H="1">
                <a:off x="4768200" y="497520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4768200" y="539604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>
                <a:off x="4768200" y="581652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519440" y="564516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MS Sans Serif"/>
                    <a:ea typeface="宋体"/>
                  </a:rPr>
                  <a:t>-5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4768200" y="665640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>
                <a:off x="4808520" y="6246720"/>
                <a:ext cx="15552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519440" y="434340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MS Sans Serif"/>
                    <a:ea typeface="宋体"/>
                  </a:rPr>
                  <a:t>-2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519440" y="478476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MS Sans Serif"/>
                    <a:ea typeface="宋体"/>
                  </a:rPr>
                  <a:t>-3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519440" y="518148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MS Sans Serif"/>
                    <a:ea typeface="宋体"/>
                  </a:rPr>
                  <a:t>-4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4519440" y="396252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MS Sans Serif"/>
                    <a:ea typeface="宋体"/>
                  </a:rPr>
                  <a:t>-1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4602600" y="228600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MS Sans Serif"/>
                    <a:ea typeface="宋体"/>
                  </a:rPr>
                  <a:t>3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4602600" y="274320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MS Sans Serif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602600" y="182880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MS Sans Serif"/>
                    <a:ea typeface="宋体"/>
                  </a:rPr>
                  <a:t>4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4577040" y="312408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MS Sans Serif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4502160" y="6019920"/>
                <a:ext cx="214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-6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577040" y="99072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MS Sans Serif"/>
                    <a:ea typeface="宋体"/>
                  </a:rPr>
                  <a:t>6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276" name=""/>
            <p:cNvSpPr/>
            <p:nvPr/>
          </p:nvSpPr>
          <p:spPr>
            <a:xfrm>
              <a:off x="4427280" y="533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51320" y="64008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7885080" y="5734080"/>
            <a:ext cx="914400" cy="784080"/>
            <a:chOff x="7885080" y="5734080"/>
            <a:chExt cx="914400" cy="784080"/>
          </a:xfrm>
        </p:grpSpPr>
        <p:sp>
          <p:nvSpPr>
            <p:cNvPr id="1279" name=""/>
            <p:cNvSpPr/>
            <p:nvPr/>
          </p:nvSpPr>
          <p:spPr>
            <a:xfrm>
              <a:off x="7885080" y="5756040"/>
              <a:ext cx="184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037360" y="5734080"/>
              <a:ext cx="762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281" name=""/>
          <p:cNvSpPr/>
          <p:nvPr/>
        </p:nvSpPr>
        <p:spPr>
          <a:xfrm>
            <a:off x="6208560" y="1773360"/>
            <a:ext cx="10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,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7234200" y="28440"/>
            <a:ext cx="10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843280" y="1557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-4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262560" y="53006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-4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050920" y="486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-6,-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-726840" y="1874880"/>
            <a:ext cx="16426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举手抢答坐标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7415640" y="2060640"/>
            <a:ext cx="16426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举手抢答坐标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700360" y="1557360"/>
            <a:ext cx="12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084720" y="53737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954760" y="1463760"/>
            <a:ext cx="123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2324160" y="234936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2108160" y="2320920"/>
            <a:ext cx="44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108160" y="4437000"/>
            <a:ext cx="43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059280" y="51166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387600" y="4854600"/>
            <a:ext cx="123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1862280" y="47466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084720" y="15573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H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425040" y="5035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-3,-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775560" y="4005360"/>
            <a:ext cx="123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588000" y="450864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F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838560" y="445284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5,-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156360" y="26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586600" y="2359080"/>
            <a:ext cx="12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-6,2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073320" y="1916280"/>
            <a:ext cx="144720" cy="1443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493680" y="2637000"/>
            <a:ext cx="8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4,2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372360" y="4869000"/>
            <a:ext cx="123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307" name=""/>
          <p:cNvGrpSpPr/>
          <p:nvPr/>
        </p:nvGrpSpPr>
        <p:grpSpPr>
          <a:xfrm>
            <a:off x="1403280" y="0"/>
            <a:ext cx="6784920" cy="6654960"/>
            <a:chOff x="1403280" y="0"/>
            <a:chExt cx="6784920" cy="6654960"/>
          </a:xfrm>
        </p:grpSpPr>
        <p:sp>
          <p:nvSpPr>
            <p:cNvPr id="1308" name=""/>
            <p:cNvSpPr/>
            <p:nvPr/>
          </p:nvSpPr>
          <p:spPr>
            <a:xfrm>
              <a:off x="1417320" y="4125960"/>
              <a:ext cx="676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417320" y="4538520"/>
              <a:ext cx="676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417320" y="4971960"/>
              <a:ext cx="676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417320" y="5402160"/>
              <a:ext cx="676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417320" y="5819760"/>
              <a:ext cx="676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403280" y="6251400"/>
              <a:ext cx="676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403280" y="6654960"/>
              <a:ext cx="676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17320" y="3733920"/>
              <a:ext cx="676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417320" y="746280"/>
              <a:ext cx="676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417320" y="2424240"/>
              <a:ext cx="676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419120" y="2862360"/>
              <a:ext cx="676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419120" y="3281400"/>
              <a:ext cx="676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404720" y="1163520"/>
              <a:ext cx="676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417320" y="1582560"/>
              <a:ext cx="676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406160" y="384120"/>
              <a:ext cx="676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417320" y="0"/>
              <a:ext cx="676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417320" y="2008080"/>
              <a:ext cx="676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1436760" y="28080"/>
            <a:ext cx="3389400" cy="6669360"/>
            <a:chOff x="1436760" y="28080"/>
            <a:chExt cx="3389400" cy="6669360"/>
          </a:xfrm>
        </p:grpSpPr>
        <p:sp>
          <p:nvSpPr>
            <p:cNvPr id="1326" name=""/>
            <p:cNvSpPr/>
            <p:nvPr/>
          </p:nvSpPr>
          <p:spPr>
            <a:xfrm flipV="1">
              <a:off x="1436760" y="39960"/>
              <a:ext cx="0" cy="661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1893960" y="39960"/>
              <a:ext cx="0" cy="661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2308680" y="32400"/>
              <a:ext cx="0" cy="661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2726280" y="28080"/>
              <a:ext cx="0" cy="661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3148920" y="39960"/>
              <a:ext cx="0" cy="661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3567960" y="87120"/>
              <a:ext cx="0" cy="661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V="1">
              <a:off x="4001400" y="56160"/>
              <a:ext cx="0" cy="661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4420800" y="64800"/>
              <a:ext cx="0" cy="661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4826160" y="39960"/>
              <a:ext cx="0" cy="661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1617840" y="3586320"/>
            <a:ext cx="6858000" cy="612000"/>
            <a:chOff x="1617840" y="3586320"/>
            <a:chExt cx="6858000" cy="612000"/>
          </a:xfrm>
        </p:grpSpPr>
        <p:grpSp>
          <p:nvGrpSpPr>
            <p:cNvPr id="1336" name=""/>
            <p:cNvGrpSpPr/>
            <p:nvPr/>
          </p:nvGrpSpPr>
          <p:grpSpPr>
            <a:xfrm>
              <a:off x="1617840" y="3586320"/>
              <a:ext cx="6858000" cy="612000"/>
              <a:chOff x="1617840" y="3586320"/>
              <a:chExt cx="6858000" cy="612000"/>
            </a:xfrm>
          </p:grpSpPr>
          <p:grpSp>
            <p:nvGrpSpPr>
              <p:cNvPr id="1337" name=""/>
              <p:cNvGrpSpPr/>
              <p:nvPr/>
            </p:nvGrpSpPr>
            <p:grpSpPr>
              <a:xfrm>
                <a:off x="5276880" y="3627360"/>
                <a:ext cx="422280" cy="155160"/>
                <a:chOff x="5276880" y="3627360"/>
                <a:chExt cx="422280" cy="15516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5276880" y="3627360"/>
                  <a:ext cx="144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5697720" y="3627360"/>
                  <a:ext cx="144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0" name=""/>
              <p:cNvGrpSpPr/>
              <p:nvPr/>
            </p:nvGrpSpPr>
            <p:grpSpPr>
              <a:xfrm>
                <a:off x="1617840" y="3586320"/>
                <a:ext cx="6858000" cy="612000"/>
                <a:chOff x="1617840" y="3586320"/>
                <a:chExt cx="6858000" cy="61200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2737080" y="3627360"/>
                  <a:ext cx="144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3157560" y="3627360"/>
                  <a:ext cx="180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3578400" y="3627360"/>
                  <a:ext cx="144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014720" y="3627360"/>
                  <a:ext cx="180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4435560" y="3627360"/>
                  <a:ext cx="144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6134040" y="3627360"/>
                  <a:ext cx="180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554880" y="3627360"/>
                  <a:ext cx="144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975360" y="3627360"/>
                  <a:ext cx="180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7394760" y="3627360"/>
                  <a:ext cx="144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7815240" y="3586320"/>
                  <a:ext cx="1800" cy="15516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pSp>
              <p:nvGrpSpPr>
                <p:cNvPr id="1351" name=""/>
                <p:cNvGrpSpPr/>
                <p:nvPr/>
              </p:nvGrpSpPr>
              <p:grpSpPr>
                <a:xfrm>
                  <a:off x="1617840" y="3586320"/>
                  <a:ext cx="6858000" cy="612000"/>
                  <a:chOff x="1617840" y="3586320"/>
                  <a:chExt cx="6858000" cy="612000"/>
                </a:xfrm>
              </p:grpSpPr>
              <p:sp>
                <p:nvSpPr>
                  <p:cNvPr id="1352" name=""/>
                  <p:cNvSpPr/>
                  <p:nvPr/>
                </p:nvSpPr>
                <p:spPr>
                  <a:xfrm>
                    <a:off x="1693800" y="3736800"/>
                    <a:ext cx="6324840" cy="1440"/>
                  </a:xfrm>
                  <a:prstGeom prst="line">
                    <a:avLst/>
                  </a:prstGeom>
                  <a:ln w="38160">
                    <a:solidFill>
                      <a:srgbClr val="6699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1897200" y="3627360"/>
                    <a:ext cx="1440" cy="15516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2317680" y="3627360"/>
                    <a:ext cx="1800" cy="15516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55" name=""/>
                  <p:cNvGrpSpPr/>
                  <p:nvPr/>
                </p:nvGrpSpPr>
                <p:grpSpPr>
                  <a:xfrm>
                    <a:off x="1617840" y="3586320"/>
                    <a:ext cx="6858000" cy="612000"/>
                    <a:chOff x="1617840" y="3586320"/>
                    <a:chExt cx="6858000" cy="612000"/>
                  </a:xfrm>
                </p:grpSpPr>
                <p:sp>
                  <p:nvSpPr>
                    <p:cNvPr id="1356" name=""/>
                    <p:cNvSpPr/>
                    <p:nvPr/>
                  </p:nvSpPr>
                  <p:spPr>
                    <a:xfrm>
                      <a:off x="2611440" y="378288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Sans Serif"/>
                          <a:ea typeface="宋体"/>
                        </a:rPr>
                        <a:t>-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7" name=""/>
                    <p:cNvSpPr/>
                    <p:nvPr/>
                  </p:nvSpPr>
                  <p:spPr>
                    <a:xfrm>
                      <a:off x="6893280" y="381456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Sans Serif"/>
                          <a:ea typeface="宋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8" name=""/>
                    <p:cNvSpPr/>
                    <p:nvPr/>
                  </p:nvSpPr>
                  <p:spPr>
                    <a:xfrm>
                      <a:off x="3368520" y="381456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Sans Serif"/>
                          <a:ea typeface="宋体"/>
                        </a:rPr>
                        <a:t>-3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9" name=""/>
                    <p:cNvSpPr/>
                    <p:nvPr/>
                  </p:nvSpPr>
                  <p:spPr>
                    <a:xfrm>
                      <a:off x="2987640" y="379872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Sans Serif"/>
                          <a:ea typeface="宋体"/>
                        </a:rPr>
                        <a:t>-4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0" name=""/>
                    <p:cNvSpPr/>
                    <p:nvPr/>
                  </p:nvSpPr>
                  <p:spPr>
                    <a:xfrm>
                      <a:off x="6479280" y="381456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Sans Serif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1" name=""/>
                    <p:cNvSpPr/>
                    <p:nvPr/>
                  </p:nvSpPr>
                  <p:spPr>
                    <a:xfrm>
                      <a:off x="3825720" y="379872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Sans Serif"/>
                          <a:ea typeface="宋体"/>
                        </a:rPr>
                        <a:t>-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2" name=""/>
                    <p:cNvSpPr/>
                    <p:nvPr/>
                  </p:nvSpPr>
                  <p:spPr>
                    <a:xfrm>
                      <a:off x="6034680" y="381456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Sans Serif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3" name=""/>
                    <p:cNvSpPr/>
                    <p:nvPr/>
                  </p:nvSpPr>
                  <p:spPr>
                    <a:xfrm>
                      <a:off x="4282920" y="379872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Sans Serif"/>
                          <a:ea typeface="宋体"/>
                        </a:rPr>
                        <a:t>-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4" name=""/>
                    <p:cNvSpPr/>
                    <p:nvPr/>
                  </p:nvSpPr>
                  <p:spPr>
                    <a:xfrm>
                      <a:off x="5653440" y="381456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Sans Serif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5" name=""/>
                    <p:cNvSpPr/>
                    <p:nvPr/>
                  </p:nvSpPr>
                  <p:spPr>
                    <a:xfrm>
                      <a:off x="5196240" y="381456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Sans Serif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6" name=""/>
                    <p:cNvSpPr/>
                    <p:nvPr/>
                  </p:nvSpPr>
                  <p:spPr>
                    <a:xfrm>
                      <a:off x="2225520" y="381456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Sans Serif"/>
                          <a:ea typeface="宋体"/>
                        </a:rPr>
                        <a:t>-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7" name=""/>
                    <p:cNvSpPr/>
                    <p:nvPr/>
                  </p:nvSpPr>
                  <p:spPr>
                    <a:xfrm>
                      <a:off x="7329960" y="381456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Sans Serif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8" name=""/>
                    <p:cNvSpPr/>
                    <p:nvPr/>
                  </p:nvSpPr>
                  <p:spPr>
                    <a:xfrm>
                      <a:off x="4513320" y="3586320"/>
                      <a:ext cx="12952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9" name=""/>
                    <p:cNvSpPr/>
                    <p:nvPr/>
                  </p:nvSpPr>
                  <p:spPr>
                    <a:xfrm>
                      <a:off x="1617840" y="3738600"/>
                      <a:ext cx="761760" cy="45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0" name=""/>
                    <p:cNvSpPr/>
                    <p:nvPr/>
                  </p:nvSpPr>
                  <p:spPr>
                    <a:xfrm>
                      <a:off x="7713720" y="3738600"/>
                      <a:ext cx="7621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371" name=""/>
            <p:cNvSpPr/>
            <p:nvPr/>
          </p:nvSpPr>
          <p:spPr>
            <a:xfrm>
              <a:off x="4818240" y="3586320"/>
              <a:ext cx="0" cy="1522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372" name=""/>
          <p:cNvSpPr/>
          <p:nvPr/>
        </p:nvSpPr>
        <p:spPr>
          <a:xfrm>
            <a:off x="6372360" y="2335320"/>
            <a:ext cx="58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宋体"/>
              </a:rPr>
              <a:t>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3" name="">
            <a:hlinkClick r:id="rId1" action="ppaction://hlinksldjump"/>
          </p:cNvPr>
          <p:cNvSpPr/>
          <p:nvPr/>
        </p:nvSpPr>
        <p:spPr>
          <a:xfrm>
            <a:off x="7596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4" name="">
            <a:hlinkClick r:id="rId2" action="ppaction://hlinksldjump"/>
          </p:cNvPr>
          <p:cNvSpPr/>
          <p:nvPr/>
        </p:nvSpPr>
        <p:spPr>
          <a:xfrm>
            <a:off x="7451640" y="645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Broadway"/>
                <a:ea typeface="华文彩云"/>
              </a:rPr>
              <a:t>首    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5" name="">
            <a:hlinkClick r:id="rId3" action="ppaction://hlinksldjump"/>
          </p:cNvPr>
          <p:cNvSpPr/>
          <p:nvPr/>
        </p:nvSpPr>
        <p:spPr>
          <a:xfrm>
            <a:off x="8388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6" name="">
            <a:hlinkClick r:id="rId4" action="ppaction://hlinksldjump"/>
          </p:cNvPr>
          <p:cNvSpPr/>
          <p:nvPr/>
        </p:nvSpPr>
        <p:spPr>
          <a:xfrm>
            <a:off x="8280360" y="64533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Broadway"/>
                <a:ea typeface="华文彩云"/>
              </a:rPr>
              <a:t>返     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02:39:54Z</dcterms:created>
  <dc:creator>朱</dc:creator>
  <dc:description/>
  <dc:language>en-US</dc:language>
  <cp:lastModifiedBy>微软用户</cp:lastModifiedBy>
  <dcterms:modified xsi:type="dcterms:W3CDTF">2010-09-07T14:13:51Z</dcterms:modified>
  <cp:revision>210</cp:revision>
  <dc:subject/>
  <dc:title>平面</dc:title>
</cp:coreProperties>
</file>