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E3CE-42EF-4E7C-A3F2-E963AA0DE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CC43-A6E0-4B58-9168-0AD75620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8B89-439F-4835-824E-D37A0B970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685F-061E-47EE-AEB8-D95479753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15790-DCFD-4F20-B2B5-E7F73C785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C1510-9C56-4C03-B125-47D7354C1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B3792-003B-473B-BE02-251A76F58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03CE0-D627-40C9-B8C3-B315DF58E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FAB17-0FA0-4223-B25E-EC65DBA2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45A3B-2CE3-4DC0-8F54-ED6A6611D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5E15A-BA68-4552-B2AD-3C4A470E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5046-B582-4EC5-8272-0855DA8C3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8CAAF-347D-4552-8420-59A47F7E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F4AF9-0144-4AB8-8B30-E815C0F9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73CFC-04B0-46FF-9CFF-61737222B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596A5-EFB0-43B5-A1AA-9DBBD52D6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D3772-B7BF-411D-9A07-125D18803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0E57-BDEB-42F4-A1A0-B78560956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487A-A961-4BEB-B6AB-26331E66C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CEA0-CE46-4CBB-896D-08E6E834B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7BCD-330E-4821-9E26-9F394DB01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D06C-1D93-451B-A648-A1BAFC75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A9AD-3E17-4E03-885A-6B15CE69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F33D-0282-42C2-B22A-81DC5C76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450D0-F56C-4194-9FE9-99FCCBD1B117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46168-DE8D-42B4-89D0-ADCC15DDCD2D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826920" y="907920"/>
            <a:ext cx="756144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三元一次方程组解法思考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82" name=""/>
          <p:cNvSpPr/>
          <p:nvPr/>
        </p:nvSpPr>
        <p:spPr>
          <a:xfrm>
            <a:off x="900000" y="3284640"/>
            <a:ext cx="763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  <a:ea typeface="楷体_GB2312"/>
              </a:rPr>
              <a:t>数学思想</a:t>
            </a:r>
            <a:r>
              <a:rPr b="1" lang="zh-CN" sz="6000" spc="-1" strike="noStrike">
                <a:solidFill>
                  <a:srgbClr val="0033cc"/>
                </a:solidFill>
                <a:latin typeface="Arial"/>
                <a:ea typeface="楷体_GB2312"/>
              </a:rPr>
              <a:t>：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类比思想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8360" y="4724280"/>
            <a:ext cx="835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柞水县瓦房口中学  阮仕来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6320" y="62388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解方程组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484280"/>
            <a:ext cx="117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解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4724280" y="406440"/>
            <a:ext cx="609840" cy="952200"/>
            <a:chOff x="4724280" y="406440"/>
            <a:chExt cx="609840" cy="952200"/>
          </a:xfrm>
        </p:grpSpPr>
        <p:sp>
          <p:nvSpPr>
            <p:cNvPr id="87" name=""/>
            <p:cNvSpPr/>
            <p:nvPr/>
          </p:nvSpPr>
          <p:spPr>
            <a:xfrm>
              <a:off x="4724280" y="40644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ff"/>
                  </a:solidFill>
                  <a:latin typeface="Times New Roman"/>
                </a:rPr>
                <a:t>①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724280" y="8380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99ff"/>
                  </a:solidFill>
                  <a:latin typeface="Times New Roman"/>
                </a:rPr>
                <a:t>②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479520" y="1523880"/>
            <a:ext cx="180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由①得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28800" y="1523880"/>
            <a:ext cx="15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x =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5- y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00400" y="15238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③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2276640"/>
            <a:ext cx="339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把③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代入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②得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43280" y="227664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35-y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+4y= 94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63640" y="4797360"/>
            <a:ext cx="22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解得   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X=23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1700280"/>
            <a:ext cx="2376360" cy="216000"/>
          </a:xfrm>
          <a:prstGeom prst="rightArrow">
            <a:avLst>
              <a:gd name="adj1" fmla="val 50000"/>
              <a:gd name="adj2" fmla="val 275042"/>
            </a:avLst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96000" y="2421000"/>
            <a:ext cx="576360" cy="216000"/>
          </a:xfrm>
          <a:prstGeom prst="rightArrow">
            <a:avLst>
              <a:gd name="adj1" fmla="val 50000"/>
              <a:gd name="adj2" fmla="val 66708"/>
            </a:avLst>
          </a:prstGeom>
          <a:solidFill>
            <a:srgbClr val="0000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03640" y="4653000"/>
            <a:ext cx="1295640" cy="216000"/>
          </a:xfrm>
          <a:prstGeom prst="rightArrow">
            <a:avLst>
              <a:gd name="adj1" fmla="val 50000"/>
              <a:gd name="adj2" fmla="val 149958"/>
            </a:avLst>
          </a:prstGeom>
          <a:solidFill>
            <a:srgbClr val="00ff00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5877000"/>
            <a:ext cx="1871640" cy="216000"/>
          </a:xfrm>
          <a:prstGeom prst="rightArrow">
            <a:avLst>
              <a:gd name="adj1" fmla="val 50000"/>
              <a:gd name="adj2" fmla="val 216625"/>
            </a:avLst>
          </a:prstGeom>
          <a:solidFill>
            <a:srgbClr val="ff0000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516720" y="1484280"/>
            <a:ext cx="1008000" cy="5814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变形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2276640"/>
            <a:ext cx="1008000" cy="58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代入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516720" y="3933720"/>
            <a:ext cx="100008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求解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443640" y="5589720"/>
            <a:ext cx="107964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写解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268360" y="404640"/>
            <a:ext cx="2895480" cy="1144800"/>
            <a:chOff x="2268360" y="404640"/>
            <a:chExt cx="2895480" cy="1144800"/>
          </a:xfrm>
        </p:grpSpPr>
        <p:sp>
          <p:nvSpPr>
            <p:cNvPr id="104" name=""/>
            <p:cNvSpPr/>
            <p:nvPr/>
          </p:nvSpPr>
          <p:spPr>
            <a:xfrm>
              <a:off x="2344680" y="404640"/>
              <a:ext cx="2819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</a:rPr>
                <a:t>x +y = 35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344680" y="968040"/>
              <a:ext cx="2438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</a:rPr>
                <a:t>2x +4 y = 94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68360" y="556920"/>
              <a:ext cx="76320" cy="76212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1042920" y="321300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解得 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y= 12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50920" y="5516640"/>
            <a:ext cx="4107600" cy="1007640"/>
            <a:chOff x="250920" y="5516640"/>
            <a:chExt cx="4107600" cy="1007640"/>
          </a:xfrm>
        </p:grpSpPr>
        <p:sp>
          <p:nvSpPr>
            <p:cNvPr id="109" name=""/>
            <p:cNvSpPr/>
            <p:nvPr/>
          </p:nvSpPr>
          <p:spPr>
            <a:xfrm>
              <a:off x="250920" y="5752440"/>
              <a:ext cx="339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楷体_GB2312"/>
                  <a:ea typeface="楷体_GB2312"/>
                </a:rPr>
                <a:t>∴</a:t>
              </a:r>
              <a:r>
                <a:rPr b="1" lang="zh-CN" sz="2400" spc="-1" strike="noStrike">
                  <a:solidFill>
                    <a:srgbClr val="0033cc"/>
                  </a:solidFill>
                  <a:latin typeface="楷体_GB2312"/>
                  <a:ea typeface="楷体_GB2312"/>
                </a:rPr>
                <a:t>原方程组的解是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3016080" y="5516640"/>
              <a:ext cx="1342440" cy="1007640"/>
              <a:chOff x="3016080" y="5516640"/>
              <a:chExt cx="1342440" cy="1007640"/>
            </a:xfrm>
          </p:grpSpPr>
          <p:sp>
            <p:nvSpPr>
              <p:cNvPr id="111" name=""/>
              <p:cNvSpPr/>
              <p:nvPr/>
            </p:nvSpPr>
            <p:spPr>
              <a:xfrm>
                <a:off x="3104640" y="5516640"/>
                <a:ext cx="125388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33cc"/>
                    </a:solidFill>
                    <a:latin typeface="楷体_GB2312"/>
                    <a:ea typeface="楷体_GB2312"/>
                  </a:rPr>
                  <a:t>x =23</a:t>
                </a:r>
                <a:endParaRPr b="0" lang="en-US" sz="30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104640" y="5918040"/>
                <a:ext cx="1179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33cc"/>
                    </a:solidFill>
                    <a:latin typeface="楷体_GB2312"/>
                    <a:ea typeface="楷体_GB2312"/>
                  </a:rPr>
                  <a:t>y =</a:t>
                </a:r>
                <a:r>
                  <a:rPr b="1" lang="en-US" sz="1800" spc="-1" strike="noStrike">
                    <a:solidFill>
                      <a:srgbClr val="0033cc"/>
                    </a:solidFill>
                    <a:latin typeface="楷体_GB2312"/>
                    <a:ea typeface="楷体_GB2312"/>
                  </a:rPr>
                  <a:t>12</a:t>
                </a: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016080" y="5760720"/>
                <a:ext cx="96840" cy="556920"/>
              </a:xfrm>
              <a:custGeom>
                <a:avLst/>
                <a:gdLst>
                  <a:gd name="textAreaLeft" fmla="*/ 61920 w 96840"/>
                  <a:gd name="textAreaRight" fmla="*/ 97200 w 96840"/>
                  <a:gd name="textAreaTop" fmla="*/ 14400 h 556920"/>
                  <a:gd name="textAreaBottom" fmla="*/ 542520 h 556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114" name=""/>
          <p:cNvSpPr/>
          <p:nvPr/>
        </p:nvSpPr>
        <p:spPr>
          <a:xfrm>
            <a:off x="5364000" y="476280"/>
            <a:ext cx="3025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说说代入消元法</a:t>
            </a: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24360" y="3429000"/>
            <a:ext cx="2519280" cy="216000"/>
          </a:xfrm>
          <a:prstGeom prst="rightArrow">
            <a:avLst>
              <a:gd name="adj1" fmla="val 50000"/>
              <a:gd name="adj2" fmla="val 291583"/>
            </a:avLst>
          </a:prstGeom>
          <a:solidFill>
            <a:srgbClr val="00ff00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400536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把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y= 12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代入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①，得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x +12= 35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9640" y="0"/>
            <a:ext cx="144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类比法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6084720" y="0"/>
            <a:ext cx="2834640" cy="1614240"/>
            <a:chOff x="6084720" y="0"/>
            <a:chExt cx="2834640" cy="1614240"/>
          </a:xfrm>
        </p:grpSpPr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>
                  <a:off x="6084720" y="0"/>
                  <a:ext cx="2417760" cy="161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y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z</m:t>
                              </m:r>
                              <m:r>
                                <m:t xml:space="preserve">=</m:t>
                              </m:r>
                              <m:r>
                                <m:t xml:space="preserve">5</m:t>
                              </m:r>
                            </m:e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2</m:t>
                              </m:r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y</m:t>
                              </m:r>
                              <m:r>
                                <m:t xml:space="preserve">+</m:t>
                              </m:r>
                              <m:r>
                                <m:t xml:space="preserve">z</m:t>
                              </m:r>
                              <m:r>
                                <m:t xml:space="preserve">=</m:t>
                              </m:r>
                              <m:r>
                                <m:t xml:space="preserve">4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21" name=""/>
            <p:cNvSpPr/>
            <p:nvPr/>
          </p:nvSpPr>
          <p:spPr>
            <a:xfrm>
              <a:off x="8523720" y="0"/>
              <a:ext cx="3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33cc"/>
                  </a:solidFill>
                  <a:latin typeface="Arial"/>
                </a:rPr>
                <a:t>①</a:t>
              </a:r>
              <a:endParaRPr b="0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523720" y="550800"/>
              <a:ext cx="3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33cc"/>
                  </a:solidFill>
                  <a:latin typeface="Arial"/>
                </a:rPr>
                <a:t>②</a:t>
              </a:r>
              <a:endParaRPr b="0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523720" y="1054080"/>
              <a:ext cx="3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33cc"/>
                  </a:solidFill>
                  <a:latin typeface="Arial"/>
                </a:rPr>
                <a:t>③</a:t>
              </a:r>
              <a:endParaRPr b="0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539640" y="54936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解：由①得：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x=</a:t>
            </a: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5-y+2z 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④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907920"/>
            <a:ext cx="561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把④代入②得：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(</a:t>
            </a: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5-y+2z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)-y+z=4,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整理得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:-3y+5z=-6   ⑤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9640" y="1844640"/>
            <a:ext cx="5759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把④代入③得：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(</a:t>
            </a: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5-y+2z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)+y-3z=10,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整理得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:-y+z=0      ⑥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0" y="2637000"/>
            <a:ext cx="9144000" cy="925200"/>
            <a:chOff x="0" y="2637000"/>
            <a:chExt cx="9144000" cy="925200"/>
          </a:xfrm>
        </p:grpSpPr>
        <p:sp>
          <p:nvSpPr>
            <p:cNvPr id="128" name=""/>
            <p:cNvSpPr/>
            <p:nvPr/>
          </p:nvSpPr>
          <p:spPr>
            <a:xfrm>
              <a:off x="611280" y="2924280"/>
              <a:ext cx="46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  <a:ea typeface="楷体_GB2312"/>
                </a:rPr>
                <a:t>把⑤、⑥组成二元一次方程组得：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0" y="2637000"/>
              <a:ext cx="9144000" cy="925200"/>
              <a:chOff x="0" y="2637000"/>
              <a:chExt cx="9144000" cy="925200"/>
            </a:xfrm>
          </p:grpSpPr>
          <p:sp>
            <p:nvSpPr>
              <p:cNvPr id="130" name=""/>
              <p:cNvSpPr/>
              <p:nvPr/>
            </p:nvSpPr>
            <p:spPr>
              <a:xfrm>
                <a:off x="0" y="3200400"/>
                <a:ext cx="9144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sp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31" name=""/>
                  <p:cNvSpPr txBox="1"/>
                  <p:nvPr/>
                </p:nvSpPr>
                <p:spPr>
                  <a:xfrm>
                    <a:off x="5219640" y="2637000"/>
                    <a:ext cx="1871640" cy="925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z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e>
                              <m:e/>
                            </m:d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32" name=""/>
              <p:cNvSpPr/>
              <p:nvPr/>
            </p:nvSpPr>
            <p:spPr>
              <a:xfrm>
                <a:off x="7261200" y="2637000"/>
                <a:ext cx="438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33cc"/>
                    </a:solidFill>
                    <a:latin typeface="Arial"/>
                  </a:rPr>
                  <a:t>⑤</a:t>
                </a:r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261200" y="3068640"/>
                <a:ext cx="438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33cc"/>
                    </a:solidFill>
                    <a:latin typeface="Arial"/>
                  </a:rPr>
                  <a:t>⑥</a:t>
                </a:r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134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611280" y="3429000"/>
            <a:ext cx="4681440" cy="984240"/>
            <a:chOff x="611280" y="3429000"/>
            <a:chExt cx="4681440" cy="984240"/>
          </a:xfrm>
        </p:grpSpPr>
        <p:sp>
          <p:nvSpPr>
            <p:cNvPr id="136" name=""/>
            <p:cNvSpPr/>
            <p:nvPr/>
          </p:nvSpPr>
          <p:spPr>
            <a:xfrm>
              <a:off x="611280" y="3645000"/>
              <a:ext cx="460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  <a:ea typeface="楷体_GB2312"/>
                </a:rPr>
                <a:t>解这个二元一次方程组得：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7" name=""/>
                <p:cNvSpPr txBox="1"/>
                <p:nvPr/>
              </p:nvSpPr>
              <p:spPr>
                <a:xfrm>
                  <a:off x="4284720" y="3429000"/>
                  <a:ext cx="1008000" cy="98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y</m:t>
                              </m:r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8" name=""/>
          <p:cNvSpPr/>
          <p:nvPr/>
        </p:nvSpPr>
        <p:spPr>
          <a:xfrm>
            <a:off x="611280" y="4292640"/>
            <a:ext cx="676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把       代入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④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得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x=5-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-3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）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+2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-3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         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解得：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x=2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116000" y="4221000"/>
                <a:ext cx="9367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611280" y="558972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∴ 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原方程组的解是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564000" y="5300640"/>
                <a:ext cx="906480" cy="13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4500720" y="692280"/>
            <a:ext cx="215640" cy="21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88000" y="549360"/>
            <a:ext cx="936360" cy="4597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变形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35640" y="105264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0000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96000" y="907920"/>
            <a:ext cx="93672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代入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435640" y="1989000"/>
            <a:ext cx="360360" cy="216000"/>
          </a:xfrm>
          <a:prstGeom prst="rightArrow">
            <a:avLst>
              <a:gd name="adj1" fmla="val 50000"/>
              <a:gd name="adj2" fmla="val 41708"/>
            </a:avLst>
          </a:prstGeom>
          <a:solidFill>
            <a:srgbClr val="0000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96000" y="1844640"/>
            <a:ext cx="93672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代入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028000" y="2637000"/>
            <a:ext cx="828720" cy="82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消元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组合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667640" y="2924280"/>
            <a:ext cx="358920" cy="287280"/>
          </a:xfrm>
          <a:prstGeom prst="rightArrow">
            <a:avLst>
              <a:gd name="adj1" fmla="val 50000"/>
              <a:gd name="adj2" fmla="val 31234"/>
            </a:avLst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08720" y="3860640"/>
            <a:ext cx="288720" cy="216000"/>
          </a:xfrm>
          <a:prstGeom prst="rightArrow">
            <a:avLst>
              <a:gd name="adj1" fmla="val 50000"/>
              <a:gd name="adj2" fmla="val 33417"/>
            </a:avLst>
          </a:prstGeom>
          <a:solidFill>
            <a:srgbClr val="00ff00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40360" y="3789360"/>
            <a:ext cx="93672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求解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508720" y="486900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00ff00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40360" y="4724280"/>
            <a:ext cx="93672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求解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59280" y="5877000"/>
            <a:ext cx="865080" cy="288720"/>
          </a:xfrm>
          <a:prstGeom prst="rightArrow">
            <a:avLst>
              <a:gd name="adj1" fmla="val 50000"/>
              <a:gd name="adj2" fmla="val 749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940360" y="5734080"/>
            <a:ext cx="936720" cy="45972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写解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627280" y="0"/>
            <a:ext cx="25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代入消元法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835280" y="0"/>
            <a:ext cx="865080" cy="504720"/>
          </a:xfrm>
          <a:prstGeom prst="rightArrow">
            <a:avLst>
              <a:gd name="adj1" fmla="val 50000"/>
              <a:gd name="adj2" fmla="val 42850"/>
            </a:avLst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rcRect l="0" t="0" r="-1590" b="62441"/>
          <a:stretch/>
        </p:blipFill>
        <p:spPr>
          <a:xfrm>
            <a:off x="6588000" y="1484280"/>
            <a:ext cx="241488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47640" y="90792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说一说：下列三元一次方程组用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楷体_GB2312"/>
              </a:rPr>
              <a:t>代入法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如何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楷体_GB2312"/>
              </a:rPr>
              <a:t>消元组合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成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楷体_GB2312"/>
              </a:rPr>
              <a:t>二元一次方程组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？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619280" y="2060640"/>
            <a:ext cx="2334960" cy="1601640"/>
            <a:chOff x="1619280" y="2060640"/>
            <a:chExt cx="2334960" cy="1601640"/>
          </a:xfrm>
        </p:grpSpPr>
        <mc:AlternateContent>
          <mc:Choice xmlns:a14="http://schemas.microsoft.com/office/drawing/2010/main" Requires="a14">
            <p:sp>
              <p:nvSpPr>
                <p:cNvPr id="164" name=""/>
                <p:cNvSpPr txBox="1"/>
                <p:nvPr/>
              </p:nvSpPr>
              <p:spPr>
                <a:xfrm>
                  <a:off x="1619280" y="2065320"/>
                  <a:ext cx="1706400" cy="159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y</m:t>
                              </m:r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y</m:t>
                              </m:r>
                              <m:r>
                                <m:t xml:space="preserve">+</m:t>
                              </m:r>
                              <m:r>
                                <m:t xml:space="preserve">z</m:t>
                              </m:r>
                              <m:r>
                                <m:t xml:space="preserve">=</m:t>
                              </m:r>
                              <m:r>
                                <m:t xml:space="preserve">5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65" name=""/>
            <p:cNvSpPr/>
            <p:nvPr/>
          </p:nvSpPr>
          <p:spPr>
            <a:xfrm>
              <a:off x="3516120" y="206064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①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516120" y="256392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②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516120" y="307332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③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500720" y="1989000"/>
            <a:ext cx="3271680" cy="1630440"/>
            <a:chOff x="4500720" y="1989000"/>
            <a:chExt cx="3271680" cy="1630440"/>
          </a:xfrm>
        </p:grpSpPr>
        <mc:AlternateContent>
          <mc:Choice xmlns:a14="http://schemas.microsoft.com/office/drawing/2010/main" Requires="a14">
            <p:sp>
              <p:nvSpPr>
                <p:cNvPr id="169" name=""/>
                <p:cNvSpPr txBox="1"/>
                <p:nvPr/>
              </p:nvSpPr>
              <p:spPr>
                <a:xfrm>
                  <a:off x="4500720" y="2022480"/>
                  <a:ext cx="2530440" cy="159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4</m:t>
                              </m:r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9</m:t>
                              </m:r>
                              <m:r>
                                <m:t xml:space="preserve">z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7</m:t>
                              </m:r>
                            </m:e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3</m:t>
                              </m:r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y</m:t>
                              </m:r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  <m:r>
                                <m:t xml:space="preserve">z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8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70" name=""/>
            <p:cNvSpPr/>
            <p:nvPr/>
          </p:nvSpPr>
          <p:spPr>
            <a:xfrm>
              <a:off x="7329240" y="198900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①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34280" y="252072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②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334280" y="302400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③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1763640" y="386064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楷体_GB2312"/>
              </a:rPr>
              <a:t>认识提高：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用代入法解三元一次方程组的关键是什么？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03280" y="4869000"/>
            <a:ext cx="6121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如何消去一元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组合成含</a:t>
            </a: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个相同未知数的二元一次方程组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96360" y="4797360"/>
            <a:ext cx="828360" cy="82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消元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组合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236000" y="5084640"/>
            <a:ext cx="358560" cy="287640"/>
          </a:xfrm>
          <a:prstGeom prst="rightArrow">
            <a:avLst>
              <a:gd name="adj1" fmla="val 50000"/>
              <a:gd name="adj2" fmla="val 31164"/>
            </a:avLst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614520" y="1506600"/>
            <a:ext cx="7704000" cy="3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用加减法解方程组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178" name="Object 3"/>
          <p:cNvGraphicFramePr/>
          <p:nvPr/>
        </p:nvGraphicFramePr>
        <p:xfrm>
          <a:off x="900000" y="2060640"/>
          <a:ext cx="2521080" cy="108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9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2060640"/>
                    <a:ext cx="2521080" cy="10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Rectangle 5"/>
          <p:cNvSpPr/>
          <p:nvPr/>
        </p:nvSpPr>
        <p:spPr>
          <a:xfrm>
            <a:off x="0" y="3211920"/>
            <a:ext cx="29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解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由①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×3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得：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967680" y="5856840"/>
            <a:ext cx="167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∴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原方程组的解是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182" name="Object 7"/>
          <p:cNvGraphicFramePr/>
          <p:nvPr/>
        </p:nvGraphicFramePr>
        <p:xfrm>
          <a:off x="3397320" y="5742000"/>
          <a:ext cx="1079280" cy="858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3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97320" y="5742000"/>
                    <a:ext cx="107928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Rectangle 8"/>
          <p:cNvSpPr/>
          <p:nvPr/>
        </p:nvSpPr>
        <p:spPr>
          <a:xfrm>
            <a:off x="3443400" y="199404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①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5" name="Rectangle 9"/>
          <p:cNvSpPr/>
          <p:nvPr/>
        </p:nvSpPr>
        <p:spPr>
          <a:xfrm>
            <a:off x="3477240" y="2527200"/>
            <a:ext cx="4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②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324000" y="4221000"/>
            <a:ext cx="531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由③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-④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得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（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  <a:ea typeface="华文隶书"/>
              </a:rPr>
              <a:t>6x+9y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  <a:ea typeface="华文隶书"/>
              </a:rPr>
              <a:t>）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  <a:ea typeface="华文隶书"/>
              </a:rPr>
              <a:t>-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  <a:ea typeface="华文隶书"/>
              </a:rPr>
              <a:t>（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  <a:ea typeface="华文隶书"/>
              </a:rPr>
              <a:t>6x+8y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  <a:ea typeface="华文隶书"/>
              </a:rPr>
              <a:t>）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  <a:ea typeface="华文隶书"/>
              </a:rPr>
              <a:t>=36-34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                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解得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y=2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7" name="Rectangle 12"/>
          <p:cNvSpPr/>
          <p:nvPr/>
        </p:nvSpPr>
        <p:spPr>
          <a:xfrm>
            <a:off x="179280" y="4724280"/>
            <a:ext cx="45720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把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y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＝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代入①得，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x+3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⊙2=12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        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解得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:x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＝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，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8" name="Rectangle 13"/>
          <p:cNvSpPr/>
          <p:nvPr/>
        </p:nvSpPr>
        <p:spPr>
          <a:xfrm>
            <a:off x="191160" y="3716280"/>
            <a:ext cx="19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由②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×2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得：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9" name="Rectangle 14"/>
          <p:cNvSpPr/>
          <p:nvPr/>
        </p:nvSpPr>
        <p:spPr>
          <a:xfrm>
            <a:off x="1991160" y="3214800"/>
            <a:ext cx="20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6x+9y=36 ③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0" name="Rectangle 15"/>
          <p:cNvSpPr/>
          <p:nvPr/>
        </p:nvSpPr>
        <p:spPr>
          <a:xfrm>
            <a:off x="1954440" y="3767040"/>
            <a:ext cx="20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6x+8y=34 ④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337440" y="2565360"/>
            <a:ext cx="1299960" cy="676440"/>
          </a:xfrm>
          <a:prstGeom prst="wedgeRoundRectCallout">
            <a:avLst>
              <a:gd name="adj1" fmla="val -235712"/>
              <a:gd name="adj2" fmla="val 168546"/>
              <a:gd name="adj3" fmla="val 16667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配绝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99280" y="2562120"/>
            <a:ext cx="1299960" cy="676440"/>
          </a:xfrm>
          <a:prstGeom prst="wedgeRoundRectCallout">
            <a:avLst>
              <a:gd name="adj1" fmla="val -123013"/>
              <a:gd name="adj2" fmla="val 71597"/>
              <a:gd name="adj3" fmla="val 16667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配绝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113360" y="789120"/>
            <a:ext cx="3078000" cy="685800"/>
          </a:xfrm>
          <a:prstGeom prst="wedgeRoundRectCallout">
            <a:avLst>
              <a:gd name="adj1" fmla="val -69444"/>
              <a:gd name="adj2" fmla="val 322916"/>
              <a:gd name="adj3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x+3y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=3⊙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2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413320" y="1554120"/>
            <a:ext cx="3078360" cy="685800"/>
          </a:xfrm>
          <a:prstGeom prst="wedgeRoundRectCallout">
            <a:avLst>
              <a:gd name="adj1" fmla="val -112300"/>
              <a:gd name="adj2" fmla="val 295833"/>
              <a:gd name="adj3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x+4y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=2⊙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7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462720" y="3668760"/>
            <a:ext cx="1143000" cy="509400"/>
          </a:xfrm>
          <a:prstGeom prst="wedgeRoundRectCallout">
            <a:avLst>
              <a:gd name="adj1" fmla="val -121944"/>
              <a:gd name="adj2" fmla="val 108564"/>
              <a:gd name="adj3" fmla="val 16667"/>
            </a:avLst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加减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440400" y="4643280"/>
            <a:ext cx="1143000" cy="509760"/>
          </a:xfrm>
          <a:prstGeom prst="wedgeRoundRectCallout">
            <a:avLst>
              <a:gd name="adj1" fmla="val -182916"/>
              <a:gd name="adj2" fmla="val 12930"/>
              <a:gd name="adj3" fmla="val 16667"/>
            </a:avLst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求解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51560" y="5641920"/>
            <a:ext cx="1143000" cy="509760"/>
          </a:xfrm>
          <a:prstGeom prst="wedgeRoundRectCallout">
            <a:avLst>
              <a:gd name="adj1" fmla="val -228333"/>
              <a:gd name="adj2" fmla="val 57787"/>
              <a:gd name="adj3" fmla="val 16667"/>
            </a:avLst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写解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9640" y="549360"/>
            <a:ext cx="3025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说说代入消元法</a:t>
            </a: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144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类比法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6084720" y="0"/>
            <a:ext cx="2834640" cy="1614240"/>
            <a:chOff x="6084720" y="0"/>
            <a:chExt cx="2834640" cy="1614240"/>
          </a:xfrm>
        </p:grpSpPr>
        <mc:AlternateContent>
          <mc:Choice xmlns:a14="http://schemas.microsoft.com/office/drawing/2010/main" Requires="a14">
            <p:sp>
              <p:nvSpPr>
                <p:cNvPr id="202" name=""/>
                <p:cNvSpPr txBox="1"/>
                <p:nvPr/>
              </p:nvSpPr>
              <p:spPr>
                <a:xfrm>
                  <a:off x="6084720" y="0"/>
                  <a:ext cx="2417760" cy="161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y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z</m:t>
                              </m:r>
                              <m:r>
                                <m:t xml:space="preserve">=</m:t>
                              </m:r>
                              <m:r>
                                <m:t xml:space="preserve">5</m:t>
                              </m:r>
                            </m:e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2</m:t>
                              </m:r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y</m:t>
                              </m:r>
                              <m:r>
                                <m:t xml:space="preserve">+</m:t>
                              </m:r>
                              <m:r>
                                <m:t xml:space="preserve">z</m:t>
                              </m:r>
                              <m:r>
                                <m:t xml:space="preserve">=</m:t>
                              </m:r>
                              <m:r>
                                <m:t xml:space="preserve">4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03" name=""/>
            <p:cNvSpPr/>
            <p:nvPr/>
          </p:nvSpPr>
          <p:spPr>
            <a:xfrm>
              <a:off x="8523720" y="0"/>
              <a:ext cx="3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33cc"/>
                  </a:solidFill>
                  <a:latin typeface="Arial"/>
                </a:rPr>
                <a:t>①</a:t>
              </a:r>
              <a:endParaRPr b="0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523720" y="550800"/>
              <a:ext cx="3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33cc"/>
                  </a:solidFill>
                  <a:latin typeface="Arial"/>
                </a:rPr>
                <a:t>②</a:t>
              </a:r>
              <a:endParaRPr b="0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523720" y="1054080"/>
              <a:ext cx="3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33cc"/>
                  </a:solidFill>
                  <a:latin typeface="Arial"/>
                </a:rPr>
                <a:t>③</a:t>
              </a:r>
              <a:endParaRPr b="0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0" y="620640"/>
            <a:ext cx="680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解：由①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+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②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得：（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x+y-2z)+(2x-y+z)=5+4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整理得： 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3x-z=9  ④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0" y="2637000"/>
            <a:ext cx="9144000" cy="925200"/>
            <a:chOff x="0" y="2637000"/>
            <a:chExt cx="9144000" cy="925200"/>
          </a:xfrm>
        </p:grpSpPr>
        <p:sp>
          <p:nvSpPr>
            <p:cNvPr id="208" name=""/>
            <p:cNvSpPr/>
            <p:nvPr/>
          </p:nvSpPr>
          <p:spPr>
            <a:xfrm>
              <a:off x="611280" y="2924280"/>
              <a:ext cx="46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  <a:ea typeface="楷体_GB2312"/>
                </a:rPr>
                <a:t>把</a:t>
              </a: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④</a:t>
              </a:r>
              <a:r>
                <a:rPr b="1" lang="zh-CN" sz="2400" spc="-1" strike="noStrike">
                  <a:solidFill>
                    <a:srgbClr val="0033cc"/>
                  </a:solidFill>
                  <a:latin typeface="Arial"/>
                  <a:ea typeface="楷体_GB2312"/>
                </a:rPr>
                <a:t>、</a:t>
              </a: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⑤</a:t>
              </a:r>
              <a:r>
                <a:rPr b="1" lang="zh-CN" sz="2400" spc="-1" strike="noStrike">
                  <a:solidFill>
                    <a:srgbClr val="0033cc"/>
                  </a:solidFill>
                  <a:latin typeface="Arial"/>
                  <a:ea typeface="楷体_GB2312"/>
                </a:rPr>
                <a:t>组成二元一次方程组得：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0" y="2637000"/>
              <a:ext cx="9144000" cy="925200"/>
              <a:chOff x="0" y="2637000"/>
              <a:chExt cx="9144000" cy="925200"/>
            </a:xfrm>
          </p:grpSpPr>
          <p:sp>
            <p:nvSpPr>
              <p:cNvPr id="210" name=""/>
              <p:cNvSpPr/>
              <p:nvPr/>
            </p:nvSpPr>
            <p:spPr>
              <a:xfrm>
                <a:off x="0" y="3200400"/>
                <a:ext cx="9144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sp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11" name=""/>
                  <p:cNvSpPr txBox="1"/>
                  <p:nvPr/>
                </p:nvSpPr>
                <p:spPr>
                  <a:xfrm>
                    <a:off x="5334120" y="2637000"/>
                    <a:ext cx="1643040" cy="925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x-z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9</m:t>
                                </m:r>
                              </m:e>
                              <m:e/>
                            </m:d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12" name=""/>
              <p:cNvSpPr/>
              <p:nvPr/>
            </p:nvSpPr>
            <p:spPr>
              <a:xfrm>
                <a:off x="7261920" y="2637000"/>
                <a:ext cx="438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33cc"/>
                    </a:solidFill>
                    <a:latin typeface="Arial"/>
                  </a:rPr>
                  <a:t>④</a:t>
                </a:r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261920" y="3068640"/>
                <a:ext cx="438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33cc"/>
                    </a:solidFill>
                    <a:latin typeface="Arial"/>
                  </a:rPr>
                  <a:t>⑤</a:t>
                </a:r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214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611280" y="3429000"/>
            <a:ext cx="4681440" cy="984240"/>
            <a:chOff x="611280" y="3429000"/>
            <a:chExt cx="4681440" cy="984240"/>
          </a:xfrm>
        </p:grpSpPr>
        <p:sp>
          <p:nvSpPr>
            <p:cNvPr id="216" name=""/>
            <p:cNvSpPr/>
            <p:nvPr/>
          </p:nvSpPr>
          <p:spPr>
            <a:xfrm>
              <a:off x="611280" y="3645000"/>
              <a:ext cx="460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  <a:ea typeface="楷体_GB2312"/>
                </a:rPr>
                <a:t>解这个二元一次方程组得：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7" name=""/>
                <p:cNvSpPr txBox="1"/>
                <p:nvPr/>
              </p:nvSpPr>
              <p:spPr>
                <a:xfrm>
                  <a:off x="4284720" y="3429000"/>
                  <a:ext cx="1008000" cy="98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2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18" name=""/>
          <p:cNvSpPr/>
          <p:nvPr/>
        </p:nvSpPr>
        <p:spPr>
          <a:xfrm>
            <a:off x="611280" y="4292640"/>
            <a:ext cx="676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把       代入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①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得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+y-2(-3)=5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         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解得：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y=-3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1116000" y="4149720"/>
                <a:ext cx="9367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611280" y="558972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∴ 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原方程组的解是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3564000" y="5300640"/>
                <a:ext cx="906480" cy="13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5435640" y="105264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0000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796000" y="907920"/>
            <a:ext cx="93672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加减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435640" y="213372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0000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96000" y="1989000"/>
            <a:ext cx="93672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加减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28000" y="2637000"/>
            <a:ext cx="828720" cy="82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消元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组合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667640" y="2924280"/>
            <a:ext cx="358920" cy="287280"/>
          </a:xfrm>
          <a:prstGeom prst="rightArrow">
            <a:avLst>
              <a:gd name="adj1" fmla="val 50000"/>
              <a:gd name="adj2" fmla="val 31234"/>
            </a:avLst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508720" y="3860640"/>
            <a:ext cx="288720" cy="216000"/>
          </a:xfrm>
          <a:prstGeom prst="rightArrow">
            <a:avLst>
              <a:gd name="adj1" fmla="val 50000"/>
              <a:gd name="adj2" fmla="val 33417"/>
            </a:avLst>
          </a:prstGeom>
          <a:solidFill>
            <a:srgbClr val="00ff00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940360" y="3789360"/>
            <a:ext cx="93672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求解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508720" y="486900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00ff00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940360" y="4724280"/>
            <a:ext cx="93672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求解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859280" y="5877000"/>
            <a:ext cx="865080" cy="288720"/>
          </a:xfrm>
          <a:prstGeom prst="rightArrow">
            <a:avLst>
              <a:gd name="adj1" fmla="val 50000"/>
              <a:gd name="adj2" fmla="val 749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940360" y="5734080"/>
            <a:ext cx="936720" cy="45972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写解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68360" y="0"/>
            <a:ext cx="25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加减消元法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332000" y="0"/>
            <a:ext cx="865080" cy="504720"/>
          </a:xfrm>
          <a:prstGeom prst="rightArrow">
            <a:avLst>
              <a:gd name="adj1" fmla="val 50000"/>
              <a:gd name="adj2" fmla="val 42850"/>
            </a:avLst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1557360"/>
            <a:ext cx="680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由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②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+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③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得：（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x-y+z)+(2x+y-3z)=4+10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整理得：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4x-2z=14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⑤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rcRect l="0" t="0" r="-1590" b="62441"/>
          <a:stretch/>
        </p:blipFill>
        <p:spPr>
          <a:xfrm>
            <a:off x="6516720" y="1557360"/>
            <a:ext cx="241452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547640" y="90792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说一说：下列三元一次方程组用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楷体_GB2312"/>
              </a:rPr>
              <a:t>加减法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如何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楷体_GB2312"/>
              </a:rPr>
              <a:t>消元组合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成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楷体_GB2312"/>
              </a:rPr>
              <a:t>二元一次方程组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？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619280" y="2060640"/>
            <a:ext cx="2334960" cy="1601640"/>
            <a:chOff x="1619280" y="2060640"/>
            <a:chExt cx="2334960" cy="1601640"/>
          </a:xfrm>
        </p:grpSpPr>
        <mc:AlternateContent>
          <mc:Choice xmlns:a14="http://schemas.microsoft.com/office/drawing/2010/main" Requires="a14">
            <p:sp>
              <p:nvSpPr>
                <p:cNvPr id="243" name=""/>
                <p:cNvSpPr txBox="1"/>
                <p:nvPr/>
              </p:nvSpPr>
              <p:spPr>
                <a:xfrm>
                  <a:off x="1619280" y="2065320"/>
                  <a:ext cx="1706400" cy="159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y</m:t>
                              </m:r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y</m:t>
                              </m:r>
                              <m:r>
                                <m:t xml:space="preserve">+</m:t>
                              </m:r>
                              <m:r>
                                <m:t xml:space="preserve">z</m:t>
                              </m:r>
                              <m:r>
                                <m:t xml:space="preserve">=</m:t>
                              </m:r>
                              <m:r>
                                <m:t xml:space="preserve">5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44" name=""/>
            <p:cNvSpPr/>
            <p:nvPr/>
          </p:nvSpPr>
          <p:spPr>
            <a:xfrm>
              <a:off x="3516120" y="206064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①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516120" y="256392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②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516120" y="307332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③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4500720" y="1989000"/>
            <a:ext cx="3271680" cy="1630440"/>
            <a:chOff x="4500720" y="1989000"/>
            <a:chExt cx="3271680" cy="1630440"/>
          </a:xfrm>
        </p:grpSpPr>
        <mc:AlternateContent>
          <mc:Choice xmlns:a14="http://schemas.microsoft.com/office/drawing/2010/main" Requires="a14">
            <p:sp>
              <p:nvSpPr>
                <p:cNvPr id="248" name=""/>
                <p:cNvSpPr txBox="1"/>
                <p:nvPr/>
              </p:nvSpPr>
              <p:spPr>
                <a:xfrm>
                  <a:off x="4500720" y="2022480"/>
                  <a:ext cx="2530440" cy="159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4</m:t>
                              </m:r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9</m:t>
                              </m:r>
                              <m:r>
                                <m:t xml:space="preserve">z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7</m:t>
                              </m:r>
                            </m:e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3</m:t>
                              </m:r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y</m:t>
                              </m:r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  <m:r>
                                <m:t xml:space="preserve">z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8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49" name=""/>
            <p:cNvSpPr/>
            <p:nvPr/>
          </p:nvSpPr>
          <p:spPr>
            <a:xfrm>
              <a:off x="7329240" y="198900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①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334280" y="252072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②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334280" y="302400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③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1763640" y="386064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楷体_GB2312"/>
              </a:rPr>
              <a:t>认识提高：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用加减法解三元一次方程组的关键是什么？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403280" y="4869000"/>
            <a:ext cx="6121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如何消去一元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组合成含</a:t>
            </a: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个相同未知数的二元一次方程组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596360" y="4797360"/>
            <a:ext cx="828360" cy="82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消元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组合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236000" y="5084640"/>
            <a:ext cx="358560" cy="287640"/>
          </a:xfrm>
          <a:prstGeom prst="rightArrow">
            <a:avLst>
              <a:gd name="adj1" fmla="val 50000"/>
              <a:gd name="adj2" fmla="val 31164"/>
            </a:avLst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16000" y="234936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楷体_GB2312"/>
              </a:rPr>
              <a:t>、数学思想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类比思想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44120" y="2852640"/>
            <a:ext cx="299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解三元一次方程组的关键是：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无论用</a:t>
            </a: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代入法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还是</a:t>
            </a: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加减法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都要想办法如何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消去一元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组合成含</a:t>
            </a: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个相同未知数的二元一次方程组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187280" y="16286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提高认识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1258920" y="907920"/>
            <a:ext cx="2693880" cy="6224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7453440" y="3502080"/>
            <a:ext cx="828720" cy="82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消元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组合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093080" y="3789360"/>
            <a:ext cx="358560" cy="287280"/>
          </a:xfrm>
          <a:prstGeom prst="rightArrow">
            <a:avLst>
              <a:gd name="adj1" fmla="val 50000"/>
              <a:gd name="adj2" fmla="val 31203"/>
            </a:avLst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6T10:22:22Z</dcterms:created>
  <dc:creator>User</dc:creator>
  <dc:description/>
  <dc:language>en-US</dc:language>
  <cp:lastModifiedBy>User</cp:lastModifiedBy>
  <dcterms:modified xsi:type="dcterms:W3CDTF">2013-05-06T12:58:07Z</dcterms:modified>
  <cp:revision>13</cp:revision>
  <dc:subject/>
  <dc:title>幻灯片 1</dc:title>
</cp:coreProperties>
</file>