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camera.wav" ContentType="audio/x-wav"/>
  <Override PartName="/ppt/media/breeze.wav" ContentType="audio/x-wav"/>
  <Override PartName="/ppt/media/image1.wmf" ContentType="image/x-wmf"/>
  <Override PartName="/ppt/media/image7.jpeg" ContentType="image/jpeg"/>
  <Override PartName="/ppt/media/voltage.wav" ContentType="audio/x-wav"/>
  <Override PartName="/ppt/media/image5.wmf" ContentType="image/x-wmf"/>
  <Override PartName="/ppt/media/applause.wav" ContentType="audio/x-wav"/>
  <Override PartName="/ppt/media/image11.jpeg" ContentType="image/jpeg"/>
  <Override PartName="/ppt/media/image13.jpeg" ContentType="image/jpeg"/>
  <Override PartName="/ppt/media/image9.jpeg" ContentType="image/jpeg"/>
  <Override PartName="/ppt/media/coin.wav" ContentType="audio/x-wav"/>
  <Override PartName="/ppt/media/image12.jpeg" ContentType="image/jpeg"/>
  <Override PartName="/ppt/media/image4.png" ContentType="image/png"/>
  <Override PartName="/ppt/media/image8.jpeg" ContentType="image/jpeg"/>
  <Override PartName="/ppt/media/image22.jpeg" ContentType="image/jpeg"/>
  <Override PartName="/ppt/media/image15.wmf" ContentType="image/x-wmf"/>
  <Override PartName="/ppt/media/image3.gif" ContentType="image/gif"/>
  <Override PartName="/ppt/media/image23.jpeg" ContentType="image/jpeg"/>
  <Override PartName="/ppt/media/image14.gif" ContentType="image/gif"/>
  <Override PartName="/ppt/media/image6.jpeg" ContentType="image/jpeg"/>
  <Override PartName="/ppt/media/type.wav" ContentType="audio/x-wav"/>
  <Override PartName="/ppt/media/image16.wmf" ContentType="image/x-wmf"/>
  <Override PartName="/ppt/media/image17.wmf" ContentType="image/x-wmf"/>
  <Override PartName="/ppt/media/image20.png" ContentType="image/png"/>
  <Override PartName="/ppt/media/image18.wmf" ContentType="image/x-wmf"/>
  <Override PartName="/ppt/media/image19.wmf" ContentType="image/x-wmf"/>
  <Override PartName="/ppt/media/image2.wmf" ContentType="image/x-wmf"/>
  <Override PartName="/ppt/media/chimes.wav" ContentType="audio/x-wav"/>
  <Override PartName="/ppt/media/click.wav" ContentType="audio/x-wav"/>
  <Override PartName="/ppt/media/image1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7D4-1D4D-4D51-B202-16528DD6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EDE-99DB-4E84-A4AD-0C63B6DF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635-DA64-4A6E-8D5D-94CA0128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91C-D652-47E1-BE71-D922068C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121-2FFE-4DE1-B6CF-AEF0DE87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106-5D2B-4E70-A402-CCFB69DC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88C-DC60-45D8-BDDE-BA963B3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3963-F94C-497E-B50A-35A9870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CD9-8F61-44E5-BB80-F8F60E1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562F-0B7F-4DFF-AD71-38C710E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24D2-6660-4F10-963B-8C0A318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BA2-0CF2-4CDB-9FAF-82A0A45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691-D206-40C6-9A87-062AB59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D412-34D3-4809-B42F-34FACA4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9B5F-119D-4E76-A2FF-2B6593DD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9B0-39B3-4AF7-BD60-804CD097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6BC-34AE-4F53-A1BA-68CEA293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FD8-90B0-4300-9E2F-895918D7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85-CF73-400E-8E3F-7B01A0C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CE8-D4DB-4A75-B8D3-EFF591B7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16A-A679-4B13-87FE-8908740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6C4-AC13-4DAB-9843-364E4F8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86D-6CA9-4A22-9C15-29C20F9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2D1-ED09-4364-B16C-709413A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36B1-56C5-435A-B86F-9F9CBDEA0BA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10B-2814-4821-B2DB-61F05CF82E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breeze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8000" y="836640"/>
            <a:ext cx="468144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4097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我们将收获什么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03640" y="168120"/>
            <a:ext cx="270180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30932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图中的角表示成下列形式，哪些正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哪些不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C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P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P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0" y="38379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73360" y="3381480"/>
            <a:ext cx="204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73360" y="2433240"/>
            <a:ext cx="2046240" cy="9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3292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21080" y="25304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43480" y="33368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6360" y="20606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867280" y="4437000"/>
            <a:ext cx="217440" cy="216000"/>
            <a:chOff x="5867280" y="4437000"/>
            <a:chExt cx="217440" cy="216000"/>
          </a:xfrm>
        </p:grpSpPr>
        <p:sp>
          <p:nvSpPr>
            <p:cNvPr id="332" name=""/>
            <p:cNvSpPr/>
            <p:nvPr/>
          </p:nvSpPr>
          <p:spPr>
            <a:xfrm>
              <a:off x="5867280" y="443700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7280" y="443700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63640" y="4869000"/>
            <a:ext cx="218160" cy="215640"/>
            <a:chOff x="5363640" y="4869000"/>
            <a:chExt cx="218160" cy="215640"/>
          </a:xfrm>
        </p:grpSpPr>
        <p:sp>
          <p:nvSpPr>
            <p:cNvPr id="335" name=""/>
            <p:cNvSpPr/>
            <p:nvPr/>
          </p:nvSpPr>
          <p:spPr>
            <a:xfrm>
              <a:off x="5364000" y="4869000"/>
              <a:ext cx="21780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363640" y="4869000"/>
              <a:ext cx="21780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059280" y="4941720"/>
            <a:ext cx="217440" cy="216000"/>
            <a:chOff x="3059280" y="4941720"/>
            <a:chExt cx="217440" cy="216000"/>
          </a:xfrm>
        </p:grpSpPr>
        <p:sp>
          <p:nvSpPr>
            <p:cNvPr id="338" name=""/>
            <p:cNvSpPr/>
            <p:nvPr/>
          </p:nvSpPr>
          <p:spPr>
            <a:xfrm>
              <a:off x="3059280" y="494172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059280" y="494172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59280" y="4365720"/>
            <a:ext cx="215280" cy="287280"/>
            <a:chOff x="3059280" y="4365720"/>
            <a:chExt cx="215280" cy="287280"/>
          </a:xfrm>
        </p:grpSpPr>
        <p:sp>
          <p:nvSpPr>
            <p:cNvPr id="341" name=""/>
            <p:cNvSpPr/>
            <p:nvPr/>
          </p:nvSpPr>
          <p:spPr>
            <a:xfrm>
              <a:off x="3059280" y="4508640"/>
              <a:ext cx="8532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44600" y="4365720"/>
              <a:ext cx="12996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172360" y="4869000"/>
            <a:ext cx="216000" cy="287280"/>
            <a:chOff x="8172360" y="4869000"/>
            <a:chExt cx="216000" cy="287280"/>
          </a:xfrm>
        </p:grpSpPr>
        <p:sp>
          <p:nvSpPr>
            <p:cNvPr id="344" name=""/>
            <p:cNvSpPr/>
            <p:nvPr/>
          </p:nvSpPr>
          <p:spPr>
            <a:xfrm>
              <a:off x="8172360" y="5011920"/>
              <a:ext cx="8568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258040" y="4869000"/>
              <a:ext cx="13032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335480" y="33321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17080" y="4365360"/>
            <a:ext cx="215280" cy="285480"/>
            <a:chOff x="8317080" y="4365360"/>
            <a:chExt cx="215280" cy="285480"/>
          </a:xfrm>
        </p:grpSpPr>
        <p:sp>
          <p:nvSpPr>
            <p:cNvPr id="348" name=""/>
            <p:cNvSpPr/>
            <p:nvPr/>
          </p:nvSpPr>
          <p:spPr>
            <a:xfrm>
              <a:off x="8317080" y="4507560"/>
              <a:ext cx="85320" cy="14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8402400" y="4365360"/>
              <a:ext cx="129960" cy="28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762280" y="6492960"/>
            <a:ext cx="6480000" cy="179280"/>
            <a:chOff x="2762280" y="6492960"/>
            <a:chExt cx="6480000" cy="179280"/>
          </a:xfrm>
        </p:grpSpPr>
        <p:sp>
          <p:nvSpPr>
            <p:cNvPr id="351" name="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3560" y="6564240"/>
              <a:ext cx="640872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320000">
            <a:off x="-212040" y="337860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080000">
            <a:off x="-427680" y="33786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5840000">
            <a:off x="-649800" y="3391200"/>
            <a:ext cx="6406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5600000">
            <a:off x="-872280" y="34200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4880000">
            <a:off x="-1513440" y="359784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4640000">
            <a:off x="-1716840" y="368676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0" y="2349360"/>
            <a:ext cx="9144000" cy="4262400"/>
            <a:chOff x="0" y="2349360"/>
            <a:chExt cx="9144000" cy="4262400"/>
          </a:xfrm>
        </p:grpSpPr>
        <p:sp>
          <p:nvSpPr>
            <p:cNvPr id="414" name=""/>
            <p:cNvSpPr txBox="1"/>
            <p:nvPr/>
          </p:nvSpPr>
          <p:spPr>
            <a:xfrm>
              <a:off x="8783640" y="6021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C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2138400" y="61545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A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0" y="2349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B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548720" y="5302080"/>
            <a:ext cx="25894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5" y="1359"/>
                </a:moveTo>
                <a:arcTo wR="10800" hR="10800" stAng="-7143209" swAng="7143209"/>
                <a:lnTo>
                  <a:pt x="10800" y="10800"/>
                </a:lnTo>
                <a:close/>
              </a:path>
              <a:path fill="none" w="21600" h="21600">
                <a:moveTo>
                  <a:pt x="5555" y="1359"/>
                </a:moveTo>
                <a:arcTo wR="10800" hR="10800" stAng="-7143209" swAng="7143209"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2000" y="170028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角也可以看做一条射线绕端点旋转所组成的图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1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2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3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4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5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6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7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08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909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11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12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13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414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15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16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717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818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919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2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21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22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323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424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25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626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727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828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929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3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131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232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333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434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35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636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737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838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939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4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141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242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343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444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45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646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747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848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949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5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151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252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353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454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555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656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757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858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959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6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161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661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8360" y="476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定义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4000" y="11142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角也可以看作由一条射线绕着它的端点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而形成的图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58920" y="3979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811520" y="3723480"/>
            <a:ext cx="767880" cy="79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8" y="9964"/>
                </a:moveTo>
                <a:arcTo wR="10800" hR="10800" stAng="-266497" swAng="2765178"/>
                <a:lnTo>
                  <a:pt x="10800" y="10800"/>
                </a:lnTo>
                <a:close/>
              </a:path>
              <a:path fill="none" w="21600" h="21600">
                <a:moveTo>
                  <a:pt x="21568" y="9964"/>
                </a:moveTo>
                <a:arcTo wR="10800" hR="10800" stAng="-266497" swAng="2765178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40360" y="400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角的始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4051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Comic Sans MS"/>
              </a:rPr>
              <a:t>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11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Comic Sans MS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19640" y="2205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cc"/>
                </a:solidFill>
                <a:latin typeface="Times New Roman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64000" y="198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角的终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24000" y="414972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123640" y="2421000"/>
            <a:ext cx="201636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47640" y="4051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Comic Sans MS"/>
              </a:rPr>
              <a:t>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01080" y="630864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84360" y="3860640"/>
            <a:ext cx="0" cy="14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84360" y="3860640"/>
            <a:ext cx="142920" cy="73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1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68360" y="4653000"/>
            <a:ext cx="4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88000" y="479736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258920" y="4941720"/>
            <a:ext cx="3511440" cy="117360"/>
            <a:chOff x="1258920" y="4941720"/>
            <a:chExt cx="3511440" cy="117360"/>
          </a:xfrm>
        </p:grpSpPr>
        <p:sp>
          <p:nvSpPr>
            <p:cNvPr id="437" name=""/>
            <p:cNvSpPr/>
            <p:nvPr/>
          </p:nvSpPr>
          <p:spPr>
            <a:xfrm>
              <a:off x="1274760" y="5014800"/>
              <a:ext cx="34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8920" y="4941720"/>
              <a:ext cx="88920" cy="1173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995640" y="443700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4724280"/>
            <a:ext cx="515880" cy="515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5516640"/>
            <a:ext cx="8088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射线 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A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绕点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旋转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360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度后，回到原来的位置时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所成的角叫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宋体"/>
                <a:ea typeface="华文宋体"/>
              </a:rPr>
              <a:t>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415400">
            <a:off x="2673360" y="2800440"/>
            <a:ext cx="390240" cy="49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87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8762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87280" y="3068640"/>
            <a:ext cx="367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1640" y="2997360"/>
            <a:ext cx="1447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27280" y="2924280"/>
            <a:ext cx="4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29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24360" y="299736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3645000"/>
            <a:ext cx="8088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射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绕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旋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8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度后，终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始边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成一直线时，所成的角叫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907920"/>
            <a:ext cx="468000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射线 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A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绕点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旋转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度后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终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始边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垂直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所成的角叫做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宋体"/>
                <a:ea typeface="华文宋体"/>
              </a:rPr>
              <a:t>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262560" y="549360"/>
            <a:ext cx="2629800" cy="2461320"/>
            <a:chOff x="6262560" y="549360"/>
            <a:chExt cx="2629800" cy="2461320"/>
          </a:xfrm>
        </p:grpSpPr>
        <p:sp>
          <p:nvSpPr>
            <p:cNvPr id="451" name=""/>
            <p:cNvSpPr/>
            <p:nvPr/>
          </p:nvSpPr>
          <p:spPr>
            <a:xfrm flipV="1">
              <a:off x="6532200" y="549360"/>
              <a:ext cx="0" cy="18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262560" y="2215800"/>
              <a:ext cx="2629800" cy="794880"/>
              <a:chOff x="6262560" y="2215800"/>
              <a:chExt cx="2629800" cy="794880"/>
            </a:xfrm>
          </p:grpSpPr>
          <p:sp>
            <p:nvSpPr>
              <p:cNvPr id="453" name=""/>
              <p:cNvSpPr/>
              <p:nvPr/>
            </p:nvSpPr>
            <p:spPr>
              <a:xfrm>
                <a:off x="6262560" y="2287440"/>
                <a:ext cx="28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宋体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59280" y="2307240"/>
                <a:ext cx="42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6505200" y="2364480"/>
                <a:ext cx="2387160" cy="72720"/>
                <a:chOff x="6505200" y="2364480"/>
                <a:chExt cx="2387160" cy="72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515640" y="2409840"/>
                  <a:ext cx="237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05200" y="2364480"/>
                  <a:ext cx="6012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6541920" y="2215800"/>
                <a:ext cx="270720" cy="200880"/>
                <a:chOff x="6541920" y="2215800"/>
                <a:chExt cx="270720" cy="200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541920" y="2215800"/>
                  <a:ext cx="27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02920" y="2215800"/>
                  <a:ext cx="0" cy="20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1" name=""/>
          <p:cNvSpPr/>
          <p:nvPr/>
        </p:nvSpPr>
        <p:spPr>
          <a:xfrm>
            <a:off x="5940360" y="620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620640"/>
            <a:ext cx="936360" cy="2057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43280" y="3933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1700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71640" y="587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6700"/>
                            </p:stCondLst>
                            <p:childTnLst>
                              <p:par>
                                <p:cTn id="9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741960" y="1413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说明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27432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不做特别说明的情况下，我们说的角都指不大于平角的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35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0920" y="333360"/>
            <a:ext cx="1512720" cy="6198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21360" y="1303200"/>
            <a:ext cx="40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隶书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隶书"/>
              </a:rPr>
              <a:t>、角是由两条具有公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隶书"/>
              </a:rPr>
              <a:t>端点的射线组成的图形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79640" y="378936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、角也可以看做一条射线绕端点旋转所组成的图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12000" y="2637000"/>
            <a:ext cx="792360" cy="825120"/>
          </a:xfrm>
          <a:prstGeom prst="rect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Arial"/>
                <a:ea typeface="华文隶书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5300640"/>
            <a:ext cx="792360" cy="825120"/>
          </a:xfrm>
          <a:prstGeom prst="rect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Arial"/>
                <a:ea typeface="华文隶书"/>
              </a:rPr>
              <a:t>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398920" y="5850000"/>
            <a:ext cx="3745080" cy="1008000"/>
            <a:chOff x="5398920" y="5850000"/>
            <a:chExt cx="3745080" cy="100800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539892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26400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539892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324000" y="333360"/>
          <a:ext cx="8496000" cy="552924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1295280"/>
                <a:gridCol w="2881440"/>
                <a:gridCol w="934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图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记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适用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三个大写字母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OB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或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任何角都可以用此方法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8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一个大写字母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当以某一个字母（如</a:t>
                      </a: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O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）为顶点的角只有一个角时可以这样表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一个数字或希腊字母来表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当一个角的内部没有别的角时，可用些法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2195640" y="1700280"/>
            <a:ext cx="1079280" cy="664920"/>
            <a:chOff x="2195640" y="1700280"/>
            <a:chExt cx="1079280" cy="664920"/>
          </a:xfrm>
        </p:grpSpPr>
        <p:sp>
          <p:nvSpPr>
            <p:cNvPr id="480" name=""/>
            <p:cNvSpPr/>
            <p:nvPr/>
          </p:nvSpPr>
          <p:spPr>
            <a:xfrm flipH="1">
              <a:off x="2203200" y="1700280"/>
              <a:ext cx="80928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95640" y="23652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979640" y="2205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148428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2349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40000" y="3141720"/>
            <a:ext cx="1079640" cy="665280"/>
            <a:chOff x="2340000" y="3141720"/>
            <a:chExt cx="1079640" cy="665280"/>
          </a:xfrm>
        </p:grpSpPr>
        <p:sp>
          <p:nvSpPr>
            <p:cNvPr id="486" name=""/>
            <p:cNvSpPr/>
            <p:nvPr/>
          </p:nvSpPr>
          <p:spPr>
            <a:xfrm flipH="1">
              <a:off x="2347200" y="3141720"/>
              <a:ext cx="80964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40000" y="3807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340000" y="4292640"/>
            <a:ext cx="1079640" cy="665280"/>
            <a:chOff x="2340000" y="4292640"/>
            <a:chExt cx="1079640" cy="665280"/>
          </a:xfrm>
        </p:grpSpPr>
        <p:sp>
          <p:nvSpPr>
            <p:cNvPr id="489" name=""/>
            <p:cNvSpPr/>
            <p:nvPr/>
          </p:nvSpPr>
          <p:spPr>
            <a:xfrm flipH="1">
              <a:off x="2347200" y="4292640"/>
              <a:ext cx="80964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40000" y="49579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050920" y="3573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49800" y="5122440"/>
            <a:ext cx="1291680" cy="12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34" y="2966"/>
                </a:moveTo>
                <a:arcTo wR="10800" hR="10800" stAng="-2790067" swAng="1627463"/>
                <a:lnTo>
                  <a:pt x="10800" y="10800"/>
                </a:lnTo>
                <a:close/>
              </a:path>
              <a:path fill="none" w="21600" h="21600">
                <a:moveTo>
                  <a:pt x="18234" y="2966"/>
                </a:moveTo>
                <a:arcTo wR="10800" hR="10800" stAng="-2790067" swAng="1627463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3440" y="4662720"/>
            <a:ext cx="129276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1" y="1024"/>
                </a:moveTo>
                <a:arcTo wR="10800" hR="10800" stAng="-3890598" swAng="1736753"/>
                <a:lnTo>
                  <a:pt x="10800" y="10800"/>
                </a:lnTo>
                <a:close/>
              </a:path>
              <a:path fill="none" w="21600" h="21600">
                <a:moveTo>
                  <a:pt x="15391" y="1024"/>
                </a:moveTo>
                <a:arcTo wR="10800" hR="10800" stAng="-3890598" swAng="1736753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340000" y="4869000"/>
            <a:ext cx="1079640" cy="664920"/>
            <a:chOff x="2340000" y="4869000"/>
            <a:chExt cx="1079640" cy="664920"/>
          </a:xfrm>
        </p:grpSpPr>
        <p:sp>
          <p:nvSpPr>
            <p:cNvPr id="495" name=""/>
            <p:cNvSpPr/>
            <p:nvPr/>
          </p:nvSpPr>
          <p:spPr>
            <a:xfrm flipH="1">
              <a:off x="2347200" y="4869000"/>
              <a:ext cx="80964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55339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916360" y="501336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4437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19640" y="4437000"/>
            <a:ext cx="158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∠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788000" y="5850000"/>
            <a:ext cx="3744720" cy="1008000"/>
            <a:chOff x="4788000" y="5850000"/>
            <a:chExt cx="3744720" cy="1008000"/>
          </a:xfrm>
        </p:grpSpPr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4788000" y="5850000"/>
              <a:ext cx="3744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5652720" y="6066000"/>
              <a:ext cx="27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4788000" y="5850000"/>
              <a:ext cx="86472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00720" y="5732640"/>
            <a:ext cx="792000" cy="792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35640" y="4724280"/>
            <a:ext cx="2232000" cy="935280"/>
          </a:xfrm>
          <a:prstGeom prst="cloudCallout">
            <a:avLst>
              <a:gd name="adj1" fmla="val -44379"/>
              <a:gd name="adj2" fmla="val 70032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4875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你真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09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95280" y="405000"/>
            <a:ext cx="8137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说法正确的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两条具有公共点的射线叫做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平角的两边构成一条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射线是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一点引出的两条线段组成的图形叫做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216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274920" y="112536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6879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判断正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6720" y="16246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两条射线组成的图形叫做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5280" y="3007440"/>
            <a:ext cx="70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角是由一条射线旋转而成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77080" y="1773360"/>
            <a:ext cx="287280" cy="287280"/>
            <a:chOff x="6877080" y="1773360"/>
            <a:chExt cx="287280" cy="287280"/>
          </a:xfrm>
        </p:grpSpPr>
        <p:sp>
          <p:nvSpPr>
            <p:cNvPr id="519" name=""/>
            <p:cNvSpPr/>
            <p:nvPr/>
          </p:nvSpPr>
          <p:spPr>
            <a:xfrm>
              <a:off x="6877080" y="1773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877080" y="1773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805440" y="3236760"/>
            <a:ext cx="287280" cy="287280"/>
            <a:chOff x="6805440" y="3236760"/>
            <a:chExt cx="287280" cy="287280"/>
          </a:xfrm>
        </p:grpSpPr>
        <p:sp>
          <p:nvSpPr>
            <p:cNvPr id="522" name=""/>
            <p:cNvSpPr/>
            <p:nvPr/>
          </p:nvSpPr>
          <p:spPr>
            <a:xfrm>
              <a:off x="6805440" y="32367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805440" y="32367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84720" y="436572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4720" y="45165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好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29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50920" y="819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对角的表示方法理解错误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角可用三个大写字母表示，顶点字母写在中间，每边上的点写在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任何角都可用一个顶点字母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表示角时有时可靠近顶点加上弧线，注上数字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表示角时有时可靠近顶点加上弧线，注上希腊字母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05800" y="33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e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35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708360" y="573408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88000" y="4653000"/>
            <a:ext cx="201600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59280" y="47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太好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0920" y="0"/>
            <a:ext cx="6842160" cy="5375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7020000" cy="4780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260280"/>
            <a:ext cx="7272360" cy="1191240"/>
          </a:xfrm>
          <a:prstGeom prst="rect">
            <a:avLst/>
          </a:prstGeom>
          <a:solidFill>
            <a:srgbClr val="00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角的认识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1557360"/>
            <a:ext cx="7667640" cy="441144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        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学 习 目 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理解角的定义及有关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用运动的观点理解角、直角、平角、周角等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掌握角的表示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度、分、秒的转化和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 repeatCount="5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213336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a) ∠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8120" y="1341360"/>
            <a:ext cx="2799720" cy="2253600"/>
            <a:chOff x="5028120" y="1341360"/>
            <a:chExt cx="2799720" cy="2253600"/>
          </a:xfrm>
        </p:grpSpPr>
        <p:grpSp>
          <p:nvGrpSpPr>
            <p:cNvPr id="542" name=""/>
            <p:cNvGrpSpPr/>
            <p:nvPr/>
          </p:nvGrpSpPr>
          <p:grpSpPr>
            <a:xfrm>
              <a:off x="5028120" y="1671120"/>
              <a:ext cx="2578320" cy="1882800"/>
              <a:chOff x="5028120" y="1671120"/>
              <a:chExt cx="2578320" cy="188280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5028120" y="1671120"/>
                <a:ext cx="2578320" cy="1882800"/>
                <a:chOff x="5028120" y="1671120"/>
                <a:chExt cx="2578320" cy="1882800"/>
              </a:xfrm>
            </p:grpSpPr>
            <p:sp>
              <p:nvSpPr>
                <p:cNvPr id="544" name=""/>
                <p:cNvSpPr/>
                <p:nvPr/>
              </p:nvSpPr>
              <p:spPr>
                <a:xfrm flipH="1">
                  <a:off x="5514120" y="1795680"/>
                  <a:ext cx="95112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514120" y="3202200"/>
                  <a:ext cx="20923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085080" y="1795680"/>
                  <a:ext cx="38016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465240" y="1795680"/>
                  <a:ext cx="76068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5027760" y="2961360"/>
                  <a:ext cx="675720" cy="36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3" y="14120"/>
                      </a:moveTo>
                      <a:arcTo wR="10800" hR="10800" stAng="9725806" swAng="34000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3" y="14120"/>
                      </a:moveTo>
                      <a:arcTo wR="10800" hR="10800" stAng="9725806" swAng="340006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334560" y="1671120"/>
                  <a:ext cx="377640" cy="47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41" y="18989"/>
                      </a:moveTo>
                      <a:arcTo wR="10800" hR="10800" stAng="2958636" swAng="5330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41" y="18989"/>
                      </a:moveTo>
                      <a:arcTo wR="10800" hR="10800" stAng="2958636" swAng="533060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7035120" y="2850480"/>
                  <a:ext cx="379800" cy="703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635" y="3367"/>
                      </a:moveTo>
                      <a:arcTo wR="10800" hR="10800" stAng="-2609640" swAng="26096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635" y="3367"/>
                      </a:moveTo>
                      <a:arcTo wR="10800" hR="10800" stAng="-2609640" swAng="260964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5149440" y="1341360"/>
              <a:ext cx="2678400" cy="2253600"/>
              <a:chOff x="5149440" y="1341360"/>
              <a:chExt cx="2678400" cy="2253600"/>
            </a:xfrm>
          </p:grpSpPr>
          <p:sp>
            <p:nvSpPr>
              <p:cNvPr id="552" name=""/>
              <p:cNvSpPr/>
              <p:nvPr/>
            </p:nvSpPr>
            <p:spPr>
              <a:xfrm>
                <a:off x="6305040" y="1341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149440" y="3135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71600" y="3110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68520" y="313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464240" y="313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328440" y="207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25720" y="27522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28040" y="2727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"/>
          <p:cNvGrpSpPr/>
          <p:nvPr/>
        </p:nvGrpSpPr>
        <p:grpSpPr>
          <a:xfrm>
            <a:off x="4284720" y="2708280"/>
            <a:ext cx="287280" cy="287280"/>
            <a:chOff x="4284720" y="2708280"/>
            <a:chExt cx="287280" cy="287280"/>
          </a:xfrm>
        </p:grpSpPr>
        <p:sp>
          <p:nvSpPr>
            <p:cNvPr id="561" name=""/>
            <p:cNvSpPr/>
            <p:nvPr/>
          </p:nvSpPr>
          <p:spPr>
            <a:xfrm>
              <a:off x="4284720" y="270828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84720" y="270828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284720" y="4581360"/>
            <a:ext cx="287280" cy="287280"/>
            <a:chOff x="4284720" y="4581360"/>
            <a:chExt cx="287280" cy="287280"/>
          </a:xfrm>
        </p:grpSpPr>
        <p:sp>
          <p:nvSpPr>
            <p:cNvPr id="564" name=""/>
            <p:cNvSpPr/>
            <p:nvPr/>
          </p:nvSpPr>
          <p:spPr>
            <a:xfrm>
              <a:off x="4284720" y="4581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284720" y="4581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11640" y="3573360"/>
            <a:ext cx="360360" cy="287280"/>
            <a:chOff x="4211640" y="3573360"/>
            <a:chExt cx="360360" cy="287280"/>
          </a:xfrm>
        </p:grpSpPr>
        <p:sp>
          <p:nvSpPr>
            <p:cNvPr id="567" name=""/>
            <p:cNvSpPr/>
            <p:nvPr/>
          </p:nvSpPr>
          <p:spPr>
            <a:xfrm>
              <a:off x="4211640" y="3716280"/>
              <a:ext cx="14292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354560" y="3573360"/>
              <a:ext cx="21744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008000" y="3562200"/>
            <a:ext cx="37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b) ∠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450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c) ∠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920" y="1197000"/>
            <a:ext cx="60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判断下面说法对不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84720" y="407664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84720" y="4227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76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>
              <a:hlinkClick r:id="rId1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116000" y="1773360"/>
            <a:ext cx="6913440" cy="16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668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48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292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988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476360" y="1916280"/>
            <a:ext cx="5943600" cy="1295280"/>
            <a:chOff x="1476360" y="1916280"/>
            <a:chExt cx="5943600" cy="1295280"/>
          </a:xfrm>
        </p:grpSpPr>
        <p:sp>
          <p:nvSpPr>
            <p:cNvPr id="585" name=""/>
            <p:cNvSpPr/>
            <p:nvPr/>
          </p:nvSpPr>
          <p:spPr>
            <a:xfrm>
              <a:off x="1476360" y="191628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76360" y="260208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76360" y="321156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6708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6236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5764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7696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4960" y="206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90960" y="206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0280" y="20685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00640" y="2678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43040" y="2678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981080" y="3276720"/>
            <a:ext cx="5715000" cy="3202920"/>
            <a:chOff x="1981080" y="3276720"/>
            <a:chExt cx="5715000" cy="3202920"/>
          </a:xfrm>
        </p:grpSpPr>
        <p:sp>
          <p:nvSpPr>
            <p:cNvPr id="598" name=""/>
            <p:cNvSpPr/>
            <p:nvPr/>
          </p:nvSpPr>
          <p:spPr>
            <a:xfrm>
              <a:off x="2286000" y="601992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895480" y="3885840"/>
              <a:ext cx="320040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562360" y="3276720"/>
              <a:ext cx="68580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3154320" y="5870520"/>
              <a:ext cx="110880" cy="13032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0"/>
                  </a:moveTo>
                  <a:cubicBezTo>
                    <a:pt x="36" y="24"/>
                    <a:pt x="50" y="44"/>
                    <a:pt x="70" y="8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5603760" y="5867640"/>
              <a:ext cx="111240" cy="1299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0"/>
                  </a:moveTo>
                  <a:cubicBezTo>
                    <a:pt x="36" y="24"/>
                    <a:pt x="50" y="44"/>
                    <a:pt x="70" y="8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743200" y="5867640"/>
              <a:ext cx="304560" cy="1522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0" y="142"/>
                  </a:moveTo>
                  <a:cubicBezTo>
                    <a:pt x="16" y="118"/>
                    <a:pt x="23" y="87"/>
                    <a:pt x="47" y="71"/>
                  </a:cubicBezTo>
                  <a:cubicBezTo>
                    <a:pt x="153" y="0"/>
                    <a:pt x="89" y="26"/>
                    <a:pt x="247" y="13"/>
                  </a:cubicBezTo>
                  <a:cubicBezTo>
                    <a:pt x="291" y="27"/>
                    <a:pt x="277" y="13"/>
                    <a:pt x="29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20560800">
              <a:off x="5257800" y="5803560"/>
              <a:ext cx="380880" cy="15264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0" y="142"/>
                  </a:moveTo>
                  <a:cubicBezTo>
                    <a:pt x="16" y="118"/>
                    <a:pt x="23" y="87"/>
                    <a:pt x="47" y="71"/>
                  </a:cubicBezTo>
                  <a:cubicBezTo>
                    <a:pt x="153" y="0"/>
                    <a:pt x="89" y="26"/>
                    <a:pt x="247" y="13"/>
                  </a:cubicBezTo>
                  <a:cubicBezTo>
                    <a:pt x="291" y="27"/>
                    <a:pt x="277" y="13"/>
                    <a:pt x="29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0516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360" y="563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056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2200" y="3657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432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78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62560" y="563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04292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将图中的角用不同方法表示出来并填写下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2421000"/>
            <a:ext cx="1008000" cy="4031280"/>
            <a:chOff x="0" y="2421000"/>
            <a:chExt cx="1008000" cy="4031280"/>
          </a:xfrm>
        </p:grpSpPr>
        <p:pic>
          <p:nvPicPr>
            <p:cNvPr id="616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1008000" cy="40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33280" y="3284640"/>
              <a:ext cx="727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0" y="2421000"/>
              <a:ext cx="232560" cy="345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 rot="8773800">
            <a:off x="5356800" y="3011400"/>
            <a:ext cx="1294560" cy="129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1" y="2057"/>
                </a:moveTo>
                <a:arcTo wR="10800" hR="10800" stAng="-3242901" swAng="1829821"/>
                <a:lnTo>
                  <a:pt x="10800" y="10800"/>
                </a:lnTo>
                <a:close/>
              </a:path>
              <a:path fill="none" w="21600" h="21600">
                <a:moveTo>
                  <a:pt x="17141" y="2057"/>
                </a:moveTo>
                <a:arcTo wR="10800" hR="10800" stAng="-3242901" swAng="1829821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64000" y="44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4360" y="33228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找出图中的所有角（不计平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并把它表示出来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95280" y="1413000"/>
            <a:ext cx="3313080" cy="2980440"/>
            <a:chOff x="395280" y="1413000"/>
            <a:chExt cx="3313080" cy="2980440"/>
          </a:xfrm>
        </p:grpSpPr>
        <p:grpSp>
          <p:nvGrpSpPr>
            <p:cNvPr id="623" name=""/>
            <p:cNvGrpSpPr/>
            <p:nvPr/>
          </p:nvGrpSpPr>
          <p:grpSpPr>
            <a:xfrm>
              <a:off x="1115640" y="1844280"/>
              <a:ext cx="1960920" cy="2133360"/>
              <a:chOff x="1115640" y="1844280"/>
              <a:chExt cx="1960920" cy="2133360"/>
            </a:xfrm>
          </p:grpSpPr>
          <p:sp>
            <p:nvSpPr>
              <p:cNvPr id="624" name=""/>
              <p:cNvSpPr/>
              <p:nvPr/>
            </p:nvSpPr>
            <p:spPr>
              <a:xfrm>
                <a:off x="1116000" y="1844280"/>
                <a:ext cx="19605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115640" y="1844280"/>
                <a:ext cx="111996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16000" y="3977640"/>
                <a:ext cx="196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235960" y="1844280"/>
                <a:ext cx="84024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692360" y="14130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9640" y="3933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28720" y="39081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5280" y="1628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71640" y="16030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635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84720" y="407664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84720" y="4227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457200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835280" y="1484280"/>
            <a:ext cx="221760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8000" y="4076640"/>
            <a:ext cx="4267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51280" y="162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42920" y="400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03640" y="47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645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24000" y="115920"/>
            <a:ext cx="7910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图中有几个小于平角的角？请分别表示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35280" y="4076640"/>
            <a:ext cx="4267080" cy="10670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5850000"/>
            <a:ext cx="3745080" cy="1008000"/>
            <a:chOff x="0" y="5850000"/>
            <a:chExt cx="3745080" cy="1008000"/>
          </a:xfrm>
        </p:grpSpPr>
        <p:pic>
          <p:nvPicPr>
            <p:cNvPr id="650" name="" descr=""/>
            <p:cNvPicPr/>
            <p:nvPr/>
          </p:nvPicPr>
          <p:blipFill>
            <a:blip r:embed="rId1"/>
            <a:stretch/>
          </p:blipFill>
          <p:spPr>
            <a:xfrm>
              <a:off x="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86508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2"/>
            <a:stretch/>
          </p:blipFill>
          <p:spPr>
            <a:xfrm>
              <a:off x="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0" y="206064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∠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2781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A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4040" y="126828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DA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08360" y="1197000"/>
            <a:ext cx="4535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你能分别说出它们的顶点、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3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3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57200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514600" y="3773520"/>
            <a:ext cx="3657600" cy="12920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81640" y="4614840"/>
            <a:ext cx="304200" cy="83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58" y="875"/>
                </a:moveTo>
                <a:arcTo wR="10800" hR="10800" stAng="-4006899" swAng="4251673"/>
                <a:lnTo>
                  <a:pt x="10800" y="10800"/>
                </a:lnTo>
                <a:close/>
              </a:path>
              <a:path fill="none" w="21600" h="21600">
                <a:moveTo>
                  <a:pt x="15058" y="875"/>
                </a:moveTo>
                <a:arcTo wR="10800" hR="10800" stAng="-4006899" swAng="4251673"/>
              </a:path>
            </a:pathLst>
          </a:cu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14240" y="2754360"/>
            <a:ext cx="2971800" cy="227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5065560"/>
            <a:ext cx="426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4120" y="2209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05120" y="4726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4795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365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667240" y="4498200"/>
            <a:ext cx="761400" cy="108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07" y="399"/>
                </a:moveTo>
                <a:arcTo wR="10800" hR="10800" stAng="-4462998" swAng="4399021"/>
                <a:lnTo>
                  <a:pt x="10800" y="10800"/>
                </a:lnTo>
                <a:close/>
              </a:path>
              <a:path fill="none" w="21600" h="21600">
                <a:moveTo>
                  <a:pt x="13707" y="399"/>
                </a:moveTo>
                <a:arcTo wR="10800" hR="10800" stAng="-4462998" swAng="4399021"/>
              </a:path>
            </a:pathLst>
          </a:cu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3120" y="654120"/>
            <a:ext cx="79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5029200"/>
            <a:ext cx="4267080" cy="10666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未知"/>
          <p:cNvSpPr/>
          <p:nvPr/>
        </p:nvSpPr>
        <p:spPr>
          <a:xfrm>
            <a:off x="3962520" y="4572000"/>
            <a:ext cx="152280" cy="83808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0" y="0"/>
                </a:moveTo>
                <a:cubicBezTo>
                  <a:pt x="40" y="80"/>
                  <a:pt x="80" y="160"/>
                  <a:pt x="96" y="240"/>
                </a:cubicBezTo>
                <a:cubicBezTo>
                  <a:pt x="112" y="320"/>
                  <a:pt x="96" y="440"/>
                  <a:pt x="96" y="480"/>
                </a:cubicBezTo>
              </a:path>
            </a:pathLst>
          </a:custGeom>
          <a:noFill/>
          <a:ln w="57240">
            <a:solidFill>
              <a:srgbClr val="ffe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未知"/>
          <p:cNvSpPr/>
          <p:nvPr/>
        </p:nvSpPr>
        <p:spPr>
          <a:xfrm>
            <a:off x="4343400" y="5105520"/>
            <a:ext cx="76320" cy="380880"/>
          </a:xfrm>
          <a:custGeom>
            <a:avLst/>
            <a:gdLst/>
            <a:ahLst/>
            <a:rect l="l" t="t" r="r" b="b"/>
            <a:pathLst>
              <a:path w="104" h="288">
                <a:moveTo>
                  <a:pt x="0" y="288"/>
                </a:moveTo>
                <a:cubicBezTo>
                  <a:pt x="16" y="276"/>
                  <a:pt x="32" y="264"/>
                  <a:pt x="48" y="240"/>
                </a:cubicBezTo>
                <a:cubicBezTo>
                  <a:pt x="64" y="216"/>
                  <a:pt x="88" y="184"/>
                  <a:pt x="96" y="144"/>
                </a:cubicBezTo>
                <a:cubicBezTo>
                  <a:pt x="104" y="104"/>
                  <a:pt x="96" y="24"/>
                  <a:pt x="96" y="0"/>
                </a:cubicBezTo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未知"/>
          <p:cNvSpPr/>
          <p:nvPr/>
        </p:nvSpPr>
        <p:spPr>
          <a:xfrm>
            <a:off x="3429000" y="4343400"/>
            <a:ext cx="228600" cy="914400"/>
          </a:xfrm>
          <a:custGeom>
            <a:avLst/>
            <a:gdLst/>
            <a:ahLst/>
            <a:rect l="l" t="t" r="r" b="b"/>
            <a:pathLst>
              <a:path w="152" h="624">
                <a:moveTo>
                  <a:pt x="96" y="624"/>
                </a:moveTo>
                <a:cubicBezTo>
                  <a:pt x="116" y="592"/>
                  <a:pt x="136" y="560"/>
                  <a:pt x="144" y="528"/>
                </a:cubicBezTo>
                <a:cubicBezTo>
                  <a:pt x="152" y="496"/>
                  <a:pt x="144" y="472"/>
                  <a:pt x="144" y="432"/>
                </a:cubicBezTo>
                <a:cubicBezTo>
                  <a:pt x="144" y="392"/>
                  <a:pt x="152" y="336"/>
                  <a:pt x="144" y="288"/>
                </a:cubicBezTo>
                <a:cubicBezTo>
                  <a:pt x="136" y="240"/>
                  <a:pt x="120" y="192"/>
                  <a:pt x="96" y="144"/>
                </a:cubicBezTo>
                <a:cubicBezTo>
                  <a:pt x="72" y="96"/>
                  <a:pt x="36" y="48"/>
                  <a:pt x="0" y="0"/>
                </a:cubicBezTo>
              </a:path>
            </a:pathLst>
          </a:custGeom>
          <a:noFill/>
          <a:ln w="572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2971800" y="4647960"/>
            <a:ext cx="7632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8520" y="168120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∠ B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57560" y="1666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A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99960" y="2617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211120" y="263196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DA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38040" y="365760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DA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861920" y="36576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0" y="5850000"/>
            <a:ext cx="3745080" cy="1008000"/>
            <a:chOff x="0" y="5850000"/>
            <a:chExt cx="3745080" cy="100800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86508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2"/>
            <a:stretch/>
          </p:blipFill>
          <p:spPr>
            <a:xfrm>
              <a:off x="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"/>
          <p:cNvSpPr/>
          <p:nvPr/>
        </p:nvSpPr>
        <p:spPr>
          <a:xfrm>
            <a:off x="324000" y="115920"/>
            <a:ext cx="7910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图中有几个小于平角的角？请分别表示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076b"/>
            </a:gs>
            <a:gs pos="100000">
              <a:srgbClr val="111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2771640" y="18900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21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探  究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21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6" name=""/>
          <p:cNvSpPr/>
          <p:nvPr/>
        </p:nvSpPr>
        <p:spPr>
          <a:xfrm>
            <a:off x="216000" y="1267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没有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6000" y="2059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6000" y="2851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6000" y="393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59280" y="3357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0d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27640" y="119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443640" y="6021360"/>
            <a:ext cx="1944720" cy="333360"/>
          </a:xfrm>
          <a:prstGeom prst="line">
            <a:avLst/>
          </a:prstGeom>
          <a:ln w="284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0072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236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443640" y="5805360"/>
            <a:ext cx="1800360" cy="503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443640" y="5516640"/>
            <a:ext cx="1800360" cy="792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659640" y="38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843880" y="4456080"/>
            <a:ext cx="3058200" cy="2178000"/>
            <a:chOff x="5843880" y="4456080"/>
            <a:chExt cx="3058200" cy="2178000"/>
          </a:xfrm>
        </p:grpSpPr>
        <p:sp>
          <p:nvSpPr>
            <p:cNvPr id="699" name=""/>
            <p:cNvSpPr/>
            <p:nvPr/>
          </p:nvSpPr>
          <p:spPr>
            <a:xfrm>
              <a:off x="7283880" y="4456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07880" y="6113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43880" y="6113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371640" y="4724280"/>
              <a:ext cx="158436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72000" y="638172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8367840" y="5734080"/>
            <a:ext cx="124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4ee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4ee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01080" y="5373720"/>
            <a:ext cx="124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90080" cy="69328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 txBox="1"/>
          <p:nvPr/>
        </p:nvSpPr>
        <p:spPr>
          <a:xfrm>
            <a:off x="1332000" y="2266920"/>
            <a:ext cx="561636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说你的收获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348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1908000" y="836640"/>
            <a:ext cx="5400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祝同学们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进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79360" y="-169920"/>
            <a:ext cx="9675720" cy="7313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916360" y="4221000"/>
            <a:ext cx="2482560" cy="1764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284720" y="907920"/>
            <a:ext cx="1901880" cy="2759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11280" y="1125360"/>
            <a:ext cx="1596960" cy="232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340000" y="1413000"/>
            <a:ext cx="1871640" cy="1861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2290680" cy="27939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916360" y="2060640"/>
            <a:ext cx="834480" cy="277920"/>
            <a:chOff x="2916360" y="2060640"/>
            <a:chExt cx="834480" cy="277920"/>
          </a:xfrm>
        </p:grpSpPr>
        <p:sp>
          <p:nvSpPr>
            <p:cNvPr id="167" name=""/>
            <p:cNvSpPr/>
            <p:nvPr/>
          </p:nvSpPr>
          <p:spPr>
            <a:xfrm>
              <a:off x="2916360" y="2119320"/>
              <a:ext cx="380520" cy="219240"/>
            </a:xfrm>
            <a:prstGeom prst="line">
              <a:avLst/>
            </a:prstGeom>
            <a:ln w="38160">
              <a:solidFill>
                <a:srgbClr val="f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94000" y="2060640"/>
              <a:ext cx="456840" cy="263520"/>
            </a:xfrm>
            <a:prstGeom prst="line">
              <a:avLst/>
            </a:prstGeom>
            <a:ln w="38160">
              <a:solidFill>
                <a:srgbClr val="f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03280" y="1413000"/>
            <a:ext cx="762120" cy="838080"/>
            <a:chOff x="1403280" y="1413000"/>
            <a:chExt cx="762120" cy="838080"/>
          </a:xfrm>
        </p:grpSpPr>
        <p:sp>
          <p:nvSpPr>
            <p:cNvPr id="170" name=""/>
            <p:cNvSpPr/>
            <p:nvPr/>
          </p:nvSpPr>
          <p:spPr>
            <a:xfrm flipV="1">
              <a:off x="1403280" y="1413000"/>
              <a:ext cx="228600" cy="838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403280" y="1641240"/>
              <a:ext cx="76212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58920" y="1628640"/>
            <a:ext cx="838440" cy="1600200"/>
            <a:chOff x="4858920" y="1628640"/>
            <a:chExt cx="838440" cy="1600200"/>
          </a:xfrm>
        </p:grpSpPr>
        <p:sp>
          <p:nvSpPr>
            <p:cNvPr id="173" name=""/>
            <p:cNvSpPr/>
            <p:nvPr/>
          </p:nvSpPr>
          <p:spPr>
            <a:xfrm flipH="1">
              <a:off x="4858920" y="1628640"/>
              <a:ext cx="228600" cy="16002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7880" y="1628640"/>
              <a:ext cx="609480" cy="1523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73480" y="4724280"/>
            <a:ext cx="685800" cy="838080"/>
            <a:chOff x="4173480" y="4724280"/>
            <a:chExt cx="685800" cy="838080"/>
          </a:xfrm>
        </p:grpSpPr>
        <p:sp>
          <p:nvSpPr>
            <p:cNvPr id="176" name=""/>
            <p:cNvSpPr/>
            <p:nvPr/>
          </p:nvSpPr>
          <p:spPr>
            <a:xfrm flipV="1">
              <a:off x="4173480" y="487620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173480" y="47242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41560" y="5526000"/>
            <a:ext cx="838080" cy="1143000"/>
            <a:chOff x="1141560" y="5526000"/>
            <a:chExt cx="838080" cy="1143000"/>
          </a:xfrm>
        </p:grpSpPr>
        <p:sp>
          <p:nvSpPr>
            <p:cNvPr id="179" name=""/>
            <p:cNvSpPr/>
            <p:nvPr/>
          </p:nvSpPr>
          <p:spPr>
            <a:xfrm>
              <a:off x="1141560" y="5526000"/>
              <a:ext cx="83808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446120" y="5830920"/>
              <a:ext cx="533160" cy="838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 rot="20852400">
            <a:off x="5796000" y="3933360"/>
            <a:ext cx="237636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5796000" y="4221000"/>
            <a:ext cx="2016000" cy="1512720"/>
            <a:chOff x="5796000" y="4221000"/>
            <a:chExt cx="2016000" cy="1512720"/>
          </a:xfrm>
        </p:grpSpPr>
        <p:sp>
          <p:nvSpPr>
            <p:cNvPr id="183" name=""/>
            <p:cNvSpPr/>
            <p:nvPr/>
          </p:nvSpPr>
          <p:spPr>
            <a:xfrm flipH="1" flipV="1">
              <a:off x="5796000" y="4365360"/>
              <a:ext cx="1434960" cy="135576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36000" y="4221000"/>
              <a:ext cx="576000" cy="15127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 rot="21064800">
            <a:off x="6227280" y="836280"/>
            <a:ext cx="2664000" cy="26636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94520" y="1484280"/>
            <a:ext cx="1798560" cy="1008000"/>
            <a:chOff x="7094520" y="1484280"/>
            <a:chExt cx="1798560" cy="1008000"/>
          </a:xfrm>
        </p:grpSpPr>
        <p:sp>
          <p:nvSpPr>
            <p:cNvPr id="187" name=""/>
            <p:cNvSpPr/>
            <p:nvPr/>
          </p:nvSpPr>
          <p:spPr>
            <a:xfrm flipH="1" flipV="1">
              <a:off x="7525800" y="1484280"/>
              <a:ext cx="1366920" cy="10080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7094520" y="2276280"/>
              <a:ext cx="1798560" cy="2160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4352760" y="44280"/>
            <a:ext cx="4251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活中的角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291280" y="2060640"/>
            <a:ext cx="1152360" cy="1079280"/>
          </a:xfrm>
          <a:prstGeom prst="ellipse">
            <a:avLst/>
          </a:prstGeom>
          <a:solidFill>
            <a:srgbClr val="9bde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4292640"/>
            <a:ext cx="1584360" cy="1511280"/>
          </a:xfrm>
          <a:prstGeom prst="ellipse">
            <a:avLst/>
          </a:prstGeom>
          <a:solidFill>
            <a:srgbClr val="9bde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5120" y="2637000"/>
            <a:ext cx="1298520" cy="1298520"/>
          </a:xfrm>
          <a:prstGeom prst="ellipse">
            <a:avLst/>
          </a:prstGeom>
          <a:solidFill>
            <a:srgbClr val="9bde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357720"/>
            <a:ext cx="1511280" cy="1511280"/>
          </a:xfrm>
          <a:prstGeom prst="ellipse">
            <a:avLst/>
          </a:prstGeom>
          <a:solidFill>
            <a:srgbClr val="9bde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120" y="4156200"/>
            <a:ext cx="153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99"/>
                </a:solidFill>
                <a:latin typeface="Times New Roman"/>
                <a:ea typeface="幼圆"/>
              </a:rPr>
              <a:t>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79160" y="3341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幼圆"/>
              </a:rPr>
              <a:t>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5040" y="2565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00"/>
                </a:solidFill>
                <a:latin typeface="Times New Roman"/>
                <a:ea typeface="幼圆"/>
              </a:rPr>
              <a:t>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6640" y="1969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Times New Roman"/>
                <a:ea typeface="幼圆"/>
              </a:rPr>
              <a:t>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2133720" cy="947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92360" y="4149720"/>
            <a:ext cx="4032360" cy="1008000"/>
          </a:xfrm>
          <a:prstGeom prst="ellipse">
            <a:avLst/>
          </a:prstGeom>
          <a:gradFill rotWithShape="0">
            <a:gsLst>
              <a:gs pos="0">
                <a:srgbClr val="7aafc9"/>
              </a:gs>
              <a:gs pos="50000">
                <a:srgbClr val="9bdeff">
                  <a:alpha val="59215"/>
                </a:srgbClr>
              </a:gs>
              <a:gs pos="100000">
                <a:srgbClr val="7aafc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47628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公共端点的两条射线组成的图形叫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3640" y="177336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2017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角的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1773360"/>
            <a:ext cx="0" cy="4251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22017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角的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16000" y="3284640"/>
            <a:ext cx="3384720" cy="1731240"/>
            <a:chOff x="1116000" y="3284640"/>
            <a:chExt cx="3384720" cy="1731240"/>
          </a:xfrm>
        </p:grpSpPr>
        <p:sp>
          <p:nvSpPr>
            <p:cNvPr id="207" name=""/>
            <p:cNvSpPr/>
            <p:nvPr/>
          </p:nvSpPr>
          <p:spPr>
            <a:xfrm>
              <a:off x="1116000" y="328464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的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84360" y="455616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的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79280" y="4772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971640" y="442152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4160" y="119376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公共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119376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条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03280" y="3141360"/>
            <a:ext cx="151308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4508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730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476280"/>
            <a:ext cx="889308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角的表示方法课本已经说得比较清楚，请同学们通过课本探究，角有几种表示方法 。请在课本上划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979640" y="2923920"/>
            <a:ext cx="2736720" cy="1657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79640" y="4508640"/>
            <a:ext cx="3313080" cy="7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263700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437000"/>
            <a:ext cx="6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429264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2349360"/>
            <a:ext cx="3348000" cy="3240360"/>
          </a:xfrm>
          <a:prstGeom prst="cloudCallout">
            <a:avLst>
              <a:gd name="adj1" fmla="val -106282"/>
              <a:gd name="adj2" fmla="val -513"/>
            </a:avLst>
          </a:prstGeom>
          <a:solidFill>
            <a:srgbClr val="99cc00"/>
          </a:solidFill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角该叫什么名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106200" y="241776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4920" y="1916280"/>
            <a:ext cx="86364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492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7640" y="2492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123640" y="1413000"/>
            <a:ext cx="863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1413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256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1557360"/>
            <a:ext cx="432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8360" y="256536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15318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198900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78080" y="1197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1001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2421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2492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1080" y="24890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0720" y="24177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3840" y="311616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3141720"/>
            <a:ext cx="201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31417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5640" y="311616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 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21200" y="3006720"/>
            <a:ext cx="7072560" cy="711000"/>
            <a:chOff x="421200" y="3006720"/>
            <a:chExt cx="7072560" cy="711000"/>
          </a:xfrm>
        </p:grpSpPr>
        <p:sp>
          <p:nvSpPr>
            <p:cNvPr id="251" name=""/>
            <p:cNvSpPr/>
            <p:nvPr/>
          </p:nvSpPr>
          <p:spPr>
            <a:xfrm>
              <a:off x="421200" y="30067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9560" y="30751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69360" y="30751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3000" y="30067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062000" y="3125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07320" y="3141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58040" y="31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68720" y="3119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0021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3933720"/>
            <a:ext cx="201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392904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04000" y="39337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6560" y="4724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4724280"/>
            <a:ext cx="11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47214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472140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1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2160" y="2424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42160" y="2421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104760" y="242424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732800" y="1139760"/>
            <a:ext cx="152280" cy="273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227720" y="2508120"/>
            <a:ext cx="152640" cy="2732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659720" y="31417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8307360" y="31417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8236080" y="39481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7588080" y="3948120"/>
            <a:ext cx="152640" cy="272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348000" y="4869000"/>
            <a:ext cx="5111640" cy="1152360"/>
          </a:xfrm>
          <a:prstGeom prst="cloudCallout">
            <a:avLst>
              <a:gd name="adj1" fmla="val -76708"/>
              <a:gd name="adj2" fmla="val -172037"/>
            </a:avLst>
          </a:prstGeom>
          <a:gradFill rotWithShape="0">
            <a:gsLst>
              <a:gs pos="0">
                <a:srgbClr val="ffef66"/>
              </a:gs>
              <a:gs pos="100000">
                <a:srgbClr val="ffc533"/>
              </a:gs>
            </a:gsLst>
            <a:lin ang="5400000"/>
          </a:gra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1280" y="5157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大写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632600">
            <a:off x="1611000" y="5589000"/>
            <a:ext cx="5767200" cy="1028520"/>
          </a:xfrm>
          <a:prstGeom prst="wedgeEllipseCallout">
            <a:avLst>
              <a:gd name="adj1" fmla="val -51726"/>
              <a:gd name="adj2" fmla="val 68865"/>
            </a:avLst>
          </a:prstGeom>
          <a:gradFill rotWithShape="0">
            <a:gsLst>
              <a:gs pos="0">
                <a:srgbClr val="1111e9"/>
              </a:gs>
              <a:gs pos="50000">
                <a:srgbClr val="07076b"/>
              </a:gs>
              <a:gs pos="100000">
                <a:srgbClr val="1111e9"/>
              </a:gs>
            </a:gsLst>
            <a:lin ang="1636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5877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ffef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3640" y="58626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Times New Roman"/>
              </a:rPr>
              <a:t>表示顶点的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 rot="5400000">
            <a:off x="-513360" y="1097640"/>
            <a:ext cx="2701800" cy="88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47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中有几个角？你能把它们表示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844720" y="4362480"/>
            <a:ext cx="352908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844720" y="2273040"/>
            <a:ext cx="1728720" cy="21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68360" y="4218120"/>
            <a:ext cx="5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2720" y="2057400"/>
            <a:ext cx="4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5080" y="4073400"/>
            <a:ext cx="5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844720" y="3428640"/>
            <a:ext cx="273528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2921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16360" y="2204640"/>
            <a:ext cx="2808000" cy="2112840"/>
            <a:chOff x="2916360" y="2204640"/>
            <a:chExt cx="2808000" cy="2112840"/>
          </a:xfrm>
        </p:grpSpPr>
        <p:sp>
          <p:nvSpPr>
            <p:cNvPr id="292" name=""/>
            <p:cNvSpPr/>
            <p:nvPr/>
          </p:nvSpPr>
          <p:spPr>
            <a:xfrm flipV="1">
              <a:off x="2916360" y="2204640"/>
              <a:ext cx="1728360" cy="2112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916360" y="3357360"/>
              <a:ext cx="2808000" cy="93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16360" y="3429000"/>
            <a:ext cx="3528720" cy="960480"/>
            <a:chOff x="2916360" y="3429000"/>
            <a:chExt cx="3528720" cy="960480"/>
          </a:xfrm>
        </p:grpSpPr>
        <p:sp>
          <p:nvSpPr>
            <p:cNvPr id="295" name=""/>
            <p:cNvSpPr/>
            <p:nvPr/>
          </p:nvSpPr>
          <p:spPr>
            <a:xfrm flipV="1">
              <a:off x="2916360" y="4365720"/>
              <a:ext cx="3528720" cy="237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916360" y="3429000"/>
              <a:ext cx="2736360" cy="9367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989440" y="3663360"/>
            <a:ext cx="574200" cy="86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5" y="1326"/>
                </a:moveTo>
                <a:arcTo wR="10800" hR="10800" stAng="-3678582" swAng="3678582"/>
                <a:lnTo>
                  <a:pt x="10800" y="10800"/>
                </a:lnTo>
                <a:close/>
              </a:path>
              <a:path fill="none" w="21600" h="21600">
                <a:moveTo>
                  <a:pt x="15985" y="1326"/>
                </a:moveTo>
                <a:arcTo wR="10800" hR="10800" stAng="-3678582" swAng="367858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3500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56000" y="3468600"/>
            <a:ext cx="1152000" cy="17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4" y="10050"/>
                </a:moveTo>
                <a:arcTo wR="10800" hR="10800" stAng="-238769" swAng="1068028"/>
                <a:lnTo>
                  <a:pt x="10800" y="10800"/>
                </a:lnTo>
                <a:close/>
              </a:path>
              <a:path fill="none" w="21600" h="21600">
                <a:moveTo>
                  <a:pt x="21574" y="10050"/>
                </a:moveTo>
                <a:arcTo wR="10800" hR="10800" stAng="-238769" swAng="1068028"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89440" y="3713040"/>
            <a:ext cx="574200" cy="11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83" y="722"/>
                </a:moveTo>
                <a:arcTo wR="10800" hR="10800" stAng="-4135851" swAng="4528164"/>
                <a:lnTo>
                  <a:pt x="10800" y="10800"/>
                </a:lnTo>
                <a:close/>
              </a:path>
              <a:path fill="none" w="21600" h="21600">
                <a:moveTo>
                  <a:pt x="14683" y="722"/>
                </a:moveTo>
                <a:arcTo wR="10800" hR="10800" stAng="-4135851" swAng="4528164"/>
              </a:path>
            </a:pathLst>
          </a:custGeom>
          <a:noFill/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4000" y="35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1280" y="5157720"/>
            <a:ext cx="7632720" cy="581400"/>
            <a:chOff x="611280" y="5157720"/>
            <a:chExt cx="7632720" cy="581400"/>
          </a:xfrm>
        </p:grpSpPr>
        <p:sp>
          <p:nvSpPr>
            <p:cNvPr id="304" name=""/>
            <p:cNvSpPr/>
            <p:nvPr/>
          </p:nvSpPr>
          <p:spPr>
            <a:xfrm>
              <a:off x="611280" y="5157720"/>
              <a:ext cx="76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答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∠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Times New Roman"/>
                </a:rPr>
                <a:t>、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∠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4498920" y="5305320"/>
              <a:ext cx="3636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7236000" y="5232240"/>
              <a:ext cx="345960" cy="46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3492360" y="3543480"/>
            <a:ext cx="503280" cy="461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3708360" y="4005360"/>
            <a:ext cx="324000" cy="43344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2843280" y="2276280"/>
            <a:ext cx="3673440" cy="2113200"/>
            <a:chOff x="2843280" y="2276280"/>
            <a:chExt cx="3673440" cy="2113200"/>
          </a:xfrm>
        </p:grpSpPr>
        <p:sp>
          <p:nvSpPr>
            <p:cNvPr id="310" name=""/>
            <p:cNvSpPr/>
            <p:nvPr/>
          </p:nvSpPr>
          <p:spPr>
            <a:xfrm>
              <a:off x="2843280" y="4365720"/>
              <a:ext cx="3673440" cy="23760"/>
            </a:xfrm>
            <a:prstGeom prst="line">
              <a:avLst/>
            </a:prstGeom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843280" y="2276280"/>
              <a:ext cx="1728720" cy="2112840"/>
            </a:xfrm>
            <a:prstGeom prst="line">
              <a:avLst/>
            </a:prstGeom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2987280" y="5444640"/>
            <a:ext cx="4824360" cy="863640"/>
          </a:xfrm>
          <a:prstGeom prst="wedgeRoundRectCallout">
            <a:avLst>
              <a:gd name="adj1" fmla="val 35124"/>
              <a:gd name="adj2" fmla="val 166175"/>
              <a:gd name="adj3" fmla="val 16667"/>
            </a:avLst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16200000"/>
          </a:gra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59280" y="56055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ffc5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9280" y="558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51640" y="5589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或希腊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1000" y="404640"/>
            <a:ext cx="44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表示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13248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通常用三个大写字母及符号“∠”表示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33600" y="19152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顶点的字母必须写在中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6218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也可用一个大写字母表示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60600" y="3345120"/>
            <a:ext cx="68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两个或两个以上的角有同一个顶点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能用一个大写字母表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28760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还可用一个数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希腊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，并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的内部靠近角的顶点处画一弧线，写上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希腊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1:53:03Z</dcterms:created>
  <dc:creator/>
  <dc:description/>
  <cp:keywords/>
  <dc:language>en-US</dc:language>
  <cp:lastModifiedBy>微软用户</cp:lastModifiedBy>
  <cp:lastPrinted>1899-12-30T00:00:00Z</cp:lastPrinted>
  <dcterms:modified xsi:type="dcterms:W3CDTF">2012-09-12T00:30:23Z</dcterms:modified>
  <cp:revision>2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94110000000000010250600207f7000400038000</vt:lpwstr>
  </property>
</Properties>
</file>