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D0B-13CB-416D-BE7E-FCC19516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2F9-488B-4D9D-B247-D84EC9E9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0488-0E0A-4075-8EC7-DBCE8808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AB7-EAA1-4908-B45D-426DB74F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C6F3-5F2A-427A-921E-6C936F00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99FB-BDC5-4456-8382-68CB3E3E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DBF1-C574-4EC6-9C50-029D6660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240A-235D-427C-B693-D5B701F0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3902-AA47-45A6-B9F8-0CED525A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78D0-E0E9-4A10-93BA-C71FB3E1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E5F3-23FF-4C2C-A32D-B5BEA4A8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9CB-7032-4288-BA20-4D08122A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470F-2BCE-4D22-BF87-1625F221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D1D6-4DF5-4009-B1DA-BA50AB36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76CC-9B07-4582-9FC7-5144FEA3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B3B7-C4C8-4C6F-84E0-496507DA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19F0-67C6-47AB-933A-0887C72B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07FF0-F1BA-438C-AA9C-D1E8214A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353D8-8085-4D86-81C3-2539EC1D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CCE8D-9E5C-45C9-8EAD-38C67162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00C92-70D2-41D9-A590-A0F5A998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DE877-59FD-4D10-B691-A2C74801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182-C7A1-4FDD-8541-C1E0162C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C9339-0975-4448-953C-0176634B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F71B2-53AB-46E3-A7D5-F48A3E94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8E023-C818-42E4-A9CF-95ED0B76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ADDF5-C49B-49B0-9313-88DE878B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ED7BD-5372-4B46-A8B5-C142B949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4CC46-2DCD-4513-AE09-02873C5E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F1B42-1B2B-40D5-ADF4-616399CD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00269-3FD1-47C6-A184-334C9911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F85D7-FDF3-4411-A818-03A331DD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3E33E-1A62-43AC-AF8E-39430113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CBEC-92DF-4956-8B47-2B7361E5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E42D8-E926-4D49-93B9-E826A04B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0D449-13CA-442E-BD47-ECD274E8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4120F-DEE2-48E7-A2D4-FA7375B7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1048A-21DA-4C76-B141-6ECA79D1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84B04-C54F-4DC4-9F37-F5EFEE89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E862F-E775-4157-81EA-9E50606E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52957-3376-4DC6-83BE-26FE34CB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82935-6EFF-47D9-9E73-70FEB81E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0A76D-EAA3-4559-8C23-B3440F3A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0AC-C6FF-4280-8C77-761529AF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5DC-7860-41E9-9F0D-9943003B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F35-9EAD-40A9-9111-75226D27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E26-1BAA-44B2-ABE3-415A7B83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857A-4AAB-4119-83B9-459909CE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3B9A-3176-47D4-ADE7-BB399E48AA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64B4-9278-48DD-A375-BCEE6C1ABC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25EE-4E10-45C2-9FEE-8B33647BA21A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769C-DCB1-4D10-A082-50D5EC18615D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42080" y="609480"/>
            <a:ext cx="20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实际问题与一元一次方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38120" y="2819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调配问题、工程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83280" y="0"/>
            <a:ext cx="60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例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、某车间有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22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名工人，每人每天可以生产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1200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个螺钉或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2000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螺母。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个螺钉需要配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个螺母，为使每天生产的螺钉和螺母刚好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套，应安排生产螺钉和螺母的工人各多少名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04920" y="12160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分析：每天生产的螺母数量是螺钉数量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1219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倍）时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1241280"/>
            <a:ext cx="18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它们刚好配套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8520" y="1544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9360" y="1552680"/>
            <a:ext cx="49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设应安排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名工人生产螺钉，（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22-x)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名工人生产螺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4440" y="19810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000(22-x)=2×1200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1240" y="26877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解方程，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7040" y="311292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5(22-x)=6x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4880" y="3597120"/>
            <a:ext cx="22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10-5x=6x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06000" y="425592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1x=1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5640" y="491652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=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29680" y="539892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2-x=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16120" y="613584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答：应安排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名工人生产螺钉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名工人生产螺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方法规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2560" y="2819520"/>
            <a:ext cx="338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生产调配问题通常从调配后各量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间的倍、分关系寻找相等关系，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立方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57800" y="6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92400" y="609480"/>
            <a:ext cx="696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一套仪器由一个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部件和三个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部件构成。用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立方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钢材可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个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部件或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4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个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部件。现要用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立方米钢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制作这种仪器，应用多少钢材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部件，多少钢材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部件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恰好配成这种仪器多少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2438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分析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00800" y="2362320"/>
            <a:ext cx="46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根据题意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部件的数量是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部件数量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倍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这一等量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式得方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68880" y="3200400"/>
            <a:ext cx="60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解：设应用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立方米钢材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部件，则应用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6-x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立方米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件，根据 题意得方程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79720" y="407844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0x×3=(6-x) ×2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82760" y="45687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解方程，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43520" y="49928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=(6-x) ×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81960" y="55260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x=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81600" y="605952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=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53040" y="407844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6-x=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571356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答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5715000"/>
            <a:ext cx="59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应用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立方米钢材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部件，应用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立方米钢材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部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-11160"/>
            <a:ext cx="13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98280"/>
            <a:ext cx="70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29360" y="0"/>
            <a:ext cx="466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整理一批图书，由一个人做要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40h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完成。现计划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一部分人先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4h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然后增加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人与他们一起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8h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成这项工作。假设这些人的工作效率相同，具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应先安排多少人工作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752480"/>
            <a:ext cx="66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分析：如果把总工作量设为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，则人均效率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02600" y="1523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190512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18288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人先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4h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70680" y="2077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成的工作量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6240" y="20574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4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10840" y="217332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增加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人后再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8h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完成的工作量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001000" y="2097000"/>
            <a:ext cx="12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8(x+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08080" y="2362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70840" y="261144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这两个工作量之和应等于总工作量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85600" y="2971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301140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设安排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人先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4h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3800" y="2970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则根据题意列方程为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86520" y="34686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4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02360" y="3733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352116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39720" y="342900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8(x+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3733920"/>
            <a:ext cx="5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350532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85800" y="4059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解方程，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27160" y="435924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x+8(x+2)=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27880" y="4968720"/>
            <a:ext cx="26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x+8x+16=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56840" y="5502240"/>
            <a:ext cx="15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2x=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33880" y="5959440"/>
            <a:ext cx="9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=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09480" y="6338880"/>
            <a:ext cx="28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答：应安排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人先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4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62520" y="3449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方法总结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9440" y="4114800"/>
            <a:ext cx="52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解这类问题常常把总工作量看作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并利用“工作量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人均效率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人数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时间”的关系解题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57800" y="6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60948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一条地下管线由甲工程队单独铺设需要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天，由乙工程队单独铺设需要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天。如果由这两个工程队从两端同时施工，要多少天可以铺好这条管线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31320" y="243828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分析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2514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把工作量看作单位“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‘”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，则甲的工作效率为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15200" y="23623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41400" y="2666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13120" y="2819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乙的工作效率为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048120"/>
            <a:ext cx="6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33526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根据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工作效率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工作时间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工作量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，得方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80280" y="4049640"/>
            <a:ext cx="332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解：设要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天可以铺好这条管线，由题意得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6116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4952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4440" y="4753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4800600"/>
            <a:ext cx="3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82880" y="4597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07280" y="4952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7440" y="4800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93080" y="48769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52640" y="5354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解方程，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00720" y="590724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x+x=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29680" y="62881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x=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9760" y="502920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=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07440" y="605952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答：要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天可以铺好这条管线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28600" y="92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归纳小结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83080" y="685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用一元一次方程解决实际问题的基本过程如下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8760" y="1316160"/>
            <a:ext cx="912240" cy="45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实际问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8000" y="1239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</a:rPr>
              <a:t>设未知数，列方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73760" y="1295280"/>
            <a:ext cx="790200" cy="45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一元一次方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55760" y="1851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32080" y="19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2133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3960" y="3276720"/>
            <a:ext cx="1460880" cy="45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实际问题的答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18288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5280" y="1828800"/>
            <a:ext cx="45468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解方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35800" y="2819520"/>
            <a:ext cx="1825200" cy="9471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一元一次方程的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x=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5276400">
            <a:off x="3521880" y="3031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16840" y="3657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检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79480" y="4267080"/>
            <a:ext cx="551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这一过程包括设、列、解、检、答等步骤，即设未知数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列方程，解方程，检验所得结果，确定答案。正确分析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题中的相等关系是列方程的基础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12-06T00:59:5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