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jpeg" ContentType="image/jpeg"/>
  <Override PartName="/ppt/media/image2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9B8A-C4DB-48B8-AAE2-89EAA2F8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6C3F-7372-4C77-B47F-8946B863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8377B-B888-40B3-8A45-FB087A08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98447-ACD2-43D8-B98B-6F6FA6A9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C601C-B217-4AA3-9798-A79197BD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68466-6DC3-4398-975C-03D08D37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F4C20-E481-4C7C-A92D-7BCC89A5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C49DE-3EE8-4CC0-B23F-7A76BAFE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E4070-642D-4F80-A2DF-A35D4278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8A42E-B05C-4AC7-8812-44CD3BE1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35A44-B26A-445C-B70D-CEF57C8D9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DE73-DE64-416D-ADA0-FC41B76AB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BE89-9ADA-4FEF-B268-52729D0FD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9EEE-44EF-471A-B403-9774AC36C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D271-1B1C-461A-8430-9499F329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8C25-D7F3-4679-A0EA-168E3710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F956-A852-46D6-AB2C-36C0A037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FD84-E7FF-46AD-B3D8-27087CD2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BDD9-DF46-4B7C-AB1B-D113400D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79FD-42CE-42BE-BAAE-2989066C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47C1-5B58-4CAB-AEC3-98B88096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46B8-A8CF-4DA9-A791-71F504BA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BDB2-6868-4FD6-BCB9-329A9A18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4309-452F-482C-8F1E-A94176C5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509F-1DE8-4CE1-BCAA-91D16F0C8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E70E-DD71-44EA-ABB8-B39536867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7126A-9076-467A-8B47-74B78561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27422-6A87-4E62-89B1-619B7D3D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930D2-3CFD-4EAB-8E93-C05636EF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766C4-1572-4750-991B-824698E7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C007C-7395-4465-A61E-8F57F237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866E-41F6-46EE-957C-04235F78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A77D0-3C2E-4A78-992D-62FBD4D3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248FE-9FF8-49AD-8463-98ABDAD0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FEDD0-C196-420C-9D32-61785440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C27E7-74BE-49D9-9626-43D1BFD9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28C6C-9880-48E1-8BF5-D1DE0083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1EEDE-1459-459C-A7F4-025E4E79C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BDBBA-76CB-4559-9A10-F0B6C85D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479E1-DB02-474D-A9CA-6D19587A1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EE805-3C7E-4D25-B60A-A4361AE6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C4F9B-45B4-4099-ABF3-39574F19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101E-0DE2-4BCB-8055-6E0EAF4F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CC441-BBED-4F37-8377-1BA26E78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B69CD-CDCD-4497-B91E-7A9EDD2B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39490-1CCF-4C8A-8711-45E22CED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44047-32BF-4D39-8407-8FC0C975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F7AB3-BDE3-4072-9107-90A5D099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F1F5F-D75C-43A6-8601-AED6250B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7D12B-E021-4293-8217-B3B39481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99219-0C09-43F4-9475-AEF362D44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3C7F4-CAA6-4A2B-8315-C46CFBA6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F742D-958B-4C4D-934A-19C322EE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EB16-86E7-4C2C-A916-09DAB740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71CA8-C5A4-454E-9510-2B29F9E4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0211B-D08D-43BD-8F1F-975CE1D2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33785-10AF-4360-8AB2-F774F546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CE04B-037C-401B-A2BA-1B53CDF8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26534-04A4-4188-BE20-88BB0CFC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2B6A4-1C05-4489-8DC6-911B6B53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395E2-A7FC-40E7-937B-B7E74543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86AE8-5B2C-4365-AB24-8ED7CD07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AA3C7-C7A4-41A8-B993-8D031FA9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5720A-F4D5-4020-B12B-6B0BC6F3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90B2-21A7-4E6C-BFD7-7A04F06C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EE6CE-F7CD-455A-92E2-D8A71E8A0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63A44-C83D-4209-95D2-06786D44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5CC4A-946C-42CE-A30D-E60561CF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E6922-8850-4478-A0D0-1698C578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6EB6A-B2CF-4F0C-AC66-3993DA29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192D8-E178-4ADE-AF3A-E7E3DDE9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B7F99-87D6-4767-B1A7-38E1A6D0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A9E72-DFA8-483C-9B56-29D112AD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2ED00-17B9-47EA-BD69-ED52D819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3D6D7-95E2-4F70-8367-A3F7EDFF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A122-BD0F-48EB-9860-EA42A151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B3896-813D-4AD9-B2D5-30C27DFF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AAD42-AAD9-4E87-9F57-CE5C7421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58D3A-FE4B-437F-85A3-FF3420A3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33CF0-F731-422B-9E1E-DD8876D3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75A94-47DE-417F-8FAF-1F107428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A5093-6032-43E7-8D16-28DF64A4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451BE-35AF-4FCB-A9E0-0DEFD17E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B28F6-CC09-42AC-A56A-A7C13749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28EA4-6B78-49FB-9856-E92000F2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116E9-6976-4DBC-B2CC-18A5A6EF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3E04-3871-4D47-A72D-BAD4D056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F95E1-1044-498F-BD96-F333DA39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A6F07-7384-4737-B54A-B8B2E463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4C907-E0BF-4CA3-A7CF-64E16AB2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F957B-C203-48C2-92E3-34CECCA47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7173B-6691-4BCD-8BDE-4423DC81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BB5BA-E078-40F0-BBE1-E9F025F0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66D4B-08A2-451C-9282-076E2B0C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2D9B9-AF2C-47D3-90B1-829060C8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B004B-6B89-4693-BCB2-7AFCEDD1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6510A-2211-41BE-984F-1137CFF1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5C0D-DE9B-46C5-8B48-9805C680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96E61-5896-49C7-B6D3-C22E4148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1C0ED-583D-4C04-8F95-447E5430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93EEE-B5BC-4DA5-BCA1-B02BEC4C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E0A52-4A48-4597-A9C6-402D012E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BDA8E-F83A-4DE6-9AC8-2EA44D8B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4FF3E-5058-40F2-88E0-B9C6AA9C0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7C792-C4CF-4204-A97A-FF621A39A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3E769-F289-4657-A064-355C10C24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35B10-4CA3-4AD1-AEF4-259CD2F3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A3F10-A23A-498E-B2D5-4C74432F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58CB-0419-4AFE-8089-25894848780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7F8D-23A3-4EE7-9177-BE054C54593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004F-0F6A-4A24-BB50-DDA0D257A8E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B61C-568F-4E21-B030-A141A9ECF9E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D606-91F4-40FB-81DD-685B1E90E79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7661-FA5E-4D46-9851-C87F63983DE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EDF3-C71A-432A-9F35-C62636458C1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6518-AFEA-4C4F-AD91-574ACE1B52D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C356-3805-4ED5-9845-37ADE1CE9FA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../&#30446;&#24405;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6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7.xml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4" descr="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5105520"/>
            <a:ext cx="1968480" cy="13208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47"/>
          <p:cNvSpPr/>
          <p:nvPr/>
        </p:nvSpPr>
        <p:spPr>
          <a:xfrm>
            <a:off x="338040" y="5421240"/>
            <a:ext cx="84963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有水平的运动，同样也有上、下、升、降运动，如电梯的升降、汽车的运动、水位的变化，以及与它们相类似的股票问题，都属于要用有理数加法解决的问题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5" name="Text Box 48"/>
          <p:cNvSpPr/>
          <p:nvPr/>
        </p:nvSpPr>
        <p:spPr>
          <a:xfrm>
            <a:off x="518040" y="5410080"/>
            <a:ext cx="704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点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6" name="Text Box 101"/>
          <p:cNvSpPr/>
          <p:nvPr/>
        </p:nvSpPr>
        <p:spPr>
          <a:xfrm>
            <a:off x="3278160" y="1495440"/>
            <a:ext cx="2009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有理数加法的简单应用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57" name="Picture 102" descr="知识点二"/>
          <p:cNvPicPr/>
          <p:nvPr/>
        </p:nvPicPr>
        <p:blipFill>
          <a:blip r:embed="rId1"/>
          <a:stretch/>
        </p:blipFill>
        <p:spPr>
          <a:xfrm>
            <a:off x="914400" y="1447920"/>
            <a:ext cx="1905120" cy="63504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103"/>
          <p:cNvSpPr/>
          <p:nvPr/>
        </p:nvSpPr>
        <p:spPr>
          <a:xfrm>
            <a:off x="1219320" y="2085840"/>
            <a:ext cx="91440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例题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</a:rPr>
              <a:t>2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59" name="Picture 104" descr="典例剖析"/>
          <p:cNvPicPr/>
          <p:nvPr/>
        </p:nvPicPr>
        <p:blipFill>
          <a:blip r:embed="rId2"/>
          <a:stretch/>
        </p:blipFill>
        <p:spPr>
          <a:xfrm>
            <a:off x="1219320" y="838080"/>
            <a:ext cx="1904760" cy="63504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105"/>
          <p:cNvSpPr/>
          <p:nvPr/>
        </p:nvSpPr>
        <p:spPr>
          <a:xfrm>
            <a:off x="609480" y="2092320"/>
            <a:ext cx="8610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一病人每天下午都需要测量血压，该病人上个星期日的收缩压为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0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单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下表是该病人星期一至星期五收缩压的变化情况：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1371600" y="2895480"/>
          <a:ext cx="6683400" cy="963720"/>
        </p:xfrm>
        <a:graphic>
          <a:graphicData uri="http://schemas.openxmlformats.org/drawingml/2006/table">
            <a:tbl>
              <a:tblPr/>
              <a:tblGrid>
                <a:gridCol w="1546200"/>
                <a:gridCol w="1073160"/>
                <a:gridCol w="1015920"/>
                <a:gridCol w="1015920"/>
                <a:gridCol w="1016280"/>
                <a:gridCol w="1015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星期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一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二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三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四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五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收缩压的变化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与前一天的比较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)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+30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单位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0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单位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+17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单位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+18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单位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0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单位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2" name="Text Box 129"/>
          <p:cNvSpPr/>
          <p:nvPr/>
        </p:nvSpPr>
        <p:spPr>
          <a:xfrm>
            <a:off x="1066680" y="38098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注：正号表示血压比前一天升，负号表示比前一天降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)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3" name="Text Box 130"/>
          <p:cNvSpPr/>
          <p:nvPr/>
        </p:nvSpPr>
        <p:spPr>
          <a:xfrm>
            <a:off x="533520" y="411480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上周日相比，该病人星期五的血压是升了还是降了？该病人的收缩压是多少？ 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4" name="Text Box 131"/>
          <p:cNvSpPr/>
          <p:nvPr/>
        </p:nvSpPr>
        <p:spPr>
          <a:xfrm>
            <a:off x="533520" y="47386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   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与上周日相比，该病人的血压升了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5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单位，星期五的收缩压为：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60+25=185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单位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. 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5" name="Text Box 132"/>
          <p:cNvSpPr/>
          <p:nvPr/>
        </p:nvSpPr>
        <p:spPr>
          <a:xfrm>
            <a:off x="409680" y="4724280"/>
            <a:ext cx="1155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解析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6" name="Rectangle 133"/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7" name="Rectangle 134"/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8" name="Rectangle 135">
            <a:hlinkClick r:id="rId3" action="ppaction://hlinksldjump"/>
          </p:cNvPr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9" name="Rectangle 136">
            <a:hlinkClick r:id="rId4" action="ppaction://hlinksldjump"/>
          </p:cNvPr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0" name="Rectangle 137"/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1" name="Rectangle 138"/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2" name="Rectangle 139">
            <a:hlinkClick r:id="rId5" action="ppaction://hlinksldjump"/>
          </p:cNvPr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3" name="Rectangle 140">
            <a:hlinkClick r:id="rId6" action="ppaction://hlinksldjump"/>
          </p:cNvPr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380880" y="14479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借助数轴，规定向左为负，向右为正，回答下列问题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380880" y="51354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某次测试，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为标准，老师记录的成绩为：小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小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小军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则小红的实际得分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小明的实际得分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小军的实际得分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6" name="Text Box 50"/>
          <p:cNvSpPr/>
          <p:nvPr/>
        </p:nvSpPr>
        <p:spPr>
          <a:xfrm>
            <a:off x="1824120" y="21765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7" name="Text Box 51"/>
          <p:cNvSpPr/>
          <p:nvPr/>
        </p:nvSpPr>
        <p:spPr>
          <a:xfrm>
            <a:off x="4572000" y="30193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(-5)+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3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-8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8" name="Text Box 62"/>
          <p:cNvSpPr/>
          <p:nvPr/>
        </p:nvSpPr>
        <p:spPr>
          <a:xfrm>
            <a:off x="4691160" y="218124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+3=8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9" name="Text Box 71"/>
          <p:cNvSpPr/>
          <p:nvPr/>
        </p:nvSpPr>
        <p:spPr>
          <a:xfrm>
            <a:off x="380880" y="18288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小红从原点出发，先向右走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再向右走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共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向右走了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用算式表示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0" name="Text Box 72"/>
          <p:cNvSpPr/>
          <p:nvPr/>
        </p:nvSpPr>
        <p:spPr>
          <a:xfrm>
            <a:off x="380880" y="26668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小军从原点出发，先向左走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再向左走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共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向左走了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用算式表示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1" name="Text Box 73"/>
          <p:cNvSpPr/>
          <p:nvPr/>
        </p:nvSpPr>
        <p:spPr>
          <a:xfrm>
            <a:off x="380880" y="35053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小华从原点出发，先向右走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再向左走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点向右走了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用算式表示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2" name="Text Box 74"/>
          <p:cNvSpPr/>
          <p:nvPr/>
        </p:nvSpPr>
        <p:spPr>
          <a:xfrm>
            <a:off x="380880" y="42829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小明从原点出发，先向左走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再向右走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点向左走了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用算式表示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3" name="Text Box 75"/>
          <p:cNvSpPr/>
          <p:nvPr/>
        </p:nvSpPr>
        <p:spPr>
          <a:xfrm>
            <a:off x="1828800" y="2986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4" name="Text Box 76"/>
          <p:cNvSpPr/>
          <p:nvPr/>
        </p:nvSpPr>
        <p:spPr>
          <a:xfrm>
            <a:off x="2438280" y="3824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5" name="Text Box 77"/>
          <p:cNvSpPr/>
          <p:nvPr/>
        </p:nvSpPr>
        <p:spPr>
          <a:xfrm>
            <a:off x="5105520" y="385776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+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3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2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6" name="Text Box 78"/>
          <p:cNvSpPr/>
          <p:nvPr/>
        </p:nvSpPr>
        <p:spPr>
          <a:xfrm>
            <a:off x="2523960" y="4586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7" name="Text Box 79"/>
          <p:cNvSpPr/>
          <p:nvPr/>
        </p:nvSpPr>
        <p:spPr>
          <a:xfrm>
            <a:off x="5257800" y="4648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5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+3=-2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8" name="Text Box 80"/>
          <p:cNvSpPr/>
          <p:nvPr/>
        </p:nvSpPr>
        <p:spPr>
          <a:xfrm>
            <a:off x="6200640" y="5500800"/>
            <a:ext cx="11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分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9" name="Text Box 81"/>
          <p:cNvSpPr/>
          <p:nvPr/>
        </p:nvSpPr>
        <p:spPr>
          <a:xfrm>
            <a:off x="990720" y="5867280"/>
            <a:ext cx="12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0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分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0" name="Text Box 82"/>
          <p:cNvSpPr/>
          <p:nvPr/>
        </p:nvSpPr>
        <p:spPr>
          <a:xfrm>
            <a:off x="4343400" y="5867280"/>
            <a:ext cx="11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78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分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1" name="Rectangle 83"/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2" name="Rectangle 84"/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3" name="Rectangle 85">
            <a:hlinkClick r:id="rId1" action="ppaction://hlinksldjump"/>
          </p:cNvPr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4" name="Rectangle 86"/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5" name="Rectangle 87"/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6" name="Rectangle 88"/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7" name="Rectangle 89"/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8" name="Rectangle 90"/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99" name="Picture 91" descr="对应练习副本"/>
          <p:cNvPicPr/>
          <p:nvPr/>
        </p:nvPicPr>
        <p:blipFill>
          <a:blip r:embed="rId2"/>
          <a:stretch/>
        </p:blipFill>
        <p:spPr>
          <a:xfrm>
            <a:off x="422280" y="609480"/>
            <a:ext cx="2473200" cy="83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9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4"/>
          <p:cNvSpPr/>
          <p:nvPr/>
        </p:nvSpPr>
        <p:spPr>
          <a:xfrm>
            <a:off x="533520" y="152712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鱼缸里，金鱼位于水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，过一会儿，金鱼向上游游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，那么此时金鱼的位置是（   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水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处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水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处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水面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处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到了水面处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2" name="Rectangle 9"/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3" name="Rectangle 10"/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4" name="Rectangle 11"/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5" name="Text Box 34"/>
          <p:cNvSpPr/>
          <p:nvPr/>
        </p:nvSpPr>
        <p:spPr>
          <a:xfrm>
            <a:off x="5724360" y="1862280"/>
            <a:ext cx="685800" cy="48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B</a:t>
            </a:r>
            <a:endParaRPr b="1" lang="en-US" sz="2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6" name="Rectangle 65"/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7" name="Rectangle 66"/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8" name="Rectangle 67"/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9" name="Rectangle 68"/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10" name="Picture 69" descr="对应练习副本"/>
          <p:cNvPicPr/>
          <p:nvPr/>
        </p:nvPicPr>
        <p:blipFill>
          <a:blip r:embed="rId1"/>
          <a:stretch/>
        </p:blipFill>
        <p:spPr>
          <a:xfrm>
            <a:off x="422280" y="685800"/>
            <a:ext cx="2473200" cy="838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4" descr="课堂小结"/>
          <p:cNvPicPr/>
          <p:nvPr/>
        </p:nvPicPr>
        <p:blipFill>
          <a:blip r:embed="rId1"/>
          <a:stretch/>
        </p:blipFill>
        <p:spPr>
          <a:xfrm>
            <a:off x="685800" y="1117440"/>
            <a:ext cx="2286000" cy="63504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5"/>
          <p:cNvSpPr/>
          <p:nvPr/>
        </p:nvSpPr>
        <p:spPr>
          <a:xfrm>
            <a:off x="3163320" y="2590920"/>
            <a:ext cx="312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理数的加法法则；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理数的加法法则的应用；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3" name="AutoShape 6"/>
          <p:cNvSpPr/>
          <p:nvPr/>
        </p:nvSpPr>
        <p:spPr>
          <a:xfrm>
            <a:off x="2050920" y="2771640"/>
            <a:ext cx="290520" cy="990720"/>
          </a:xfrm>
          <a:custGeom>
            <a:avLst/>
            <a:gdLst>
              <a:gd name="textAreaLeft" fmla="*/ 185760 w 290520"/>
              <a:gd name="textAreaRight" fmla="*/ 290880 w 2905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4" name="Rectangle 8"/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5" name="Rectangle 9"/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6" name="Rectangle 10"/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7" name="Rectangle 11"/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8" name="Rectangle 12"/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9" name="Rectangle 13"/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0" name="Rectangle 14"/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1" name="Rectangle 15"/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27"/>
          <p:cNvGrpSpPr/>
          <p:nvPr/>
        </p:nvGrpSpPr>
        <p:grpSpPr>
          <a:xfrm>
            <a:off x="1184400" y="1676520"/>
            <a:ext cx="6664320" cy="1514520"/>
            <a:chOff x="1184400" y="1676520"/>
            <a:chExt cx="6664320" cy="1514520"/>
          </a:xfrm>
        </p:grpSpPr>
        <p:grpSp>
          <p:nvGrpSpPr>
            <p:cNvPr id="401" name="Group 3"/>
            <p:cNvGrpSpPr/>
            <p:nvPr/>
          </p:nvGrpSpPr>
          <p:grpSpPr>
            <a:xfrm>
              <a:off x="1184400" y="1676520"/>
              <a:ext cx="6653160" cy="1514520"/>
              <a:chOff x="1184400" y="1676520"/>
              <a:chExt cx="6653160" cy="1514520"/>
            </a:xfrm>
          </p:grpSpPr>
          <p:sp>
            <p:nvSpPr>
              <p:cNvPr id="402" name="AutoShape 4"/>
              <p:cNvSpPr/>
              <p:nvPr/>
            </p:nvSpPr>
            <p:spPr>
              <a:xfrm>
                <a:off x="1184400" y="2046600"/>
                <a:ext cx="6653160" cy="114444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a5644e"/>
                  </a:gs>
                  <a:gs pos="100000">
                    <a:srgbClr val="734636"/>
                  </a:gs>
                </a:gsLst>
                <a:lin ang="5400000"/>
              </a:gradFill>
              <a:ln w="25560">
                <a:solidFill>
                  <a:srgbClr val="fefefe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03" name="AutoShape 5"/>
              <p:cNvSpPr/>
              <p:nvPr/>
            </p:nvSpPr>
            <p:spPr>
              <a:xfrm flipV="1">
                <a:off x="1262160" y="1676160"/>
                <a:ext cx="6502680" cy="363600"/>
              </a:xfrm>
              <a:custGeom>
                <a:avLst/>
                <a:gdLst>
                  <a:gd name="textAreaLeft" fmla="*/ 1116000 w 6502680"/>
                  <a:gd name="textAreaRight" fmla="*/ 5386680 w 6502680"/>
                  <a:gd name="textAreaTop" fmla="*/ 61920 h 363600"/>
                  <a:gd name="textAreaBottom" fmla="*/ 301680 h 36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13" y="21600"/>
                    </a:lnTo>
                    <a:lnTo>
                      <a:pt x="17787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644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pic>
            <p:nvPicPr>
              <p:cNvPr id="404" name="Picture 6" descr="Picture4"/>
              <p:cNvPicPr/>
              <p:nvPr/>
            </p:nvPicPr>
            <p:blipFill>
              <a:blip r:embed="rId1"/>
              <a:stretch/>
            </p:blipFill>
            <p:spPr>
              <a:xfrm>
                <a:off x="1241640" y="2089440"/>
                <a:ext cx="674640" cy="57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AutoShape 7"/>
              <p:cNvSpPr/>
              <p:nvPr/>
            </p:nvSpPr>
            <p:spPr>
              <a:xfrm>
                <a:off x="1671840" y="1819440"/>
                <a:ext cx="579132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feffff"/>
              </a:solidFill>
              <a:ln w="28440">
                <a:solidFill>
                  <a:srgbClr val="a564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06" name="Rectangle 8"/>
              <p:cNvSpPr/>
              <p:nvPr/>
            </p:nvSpPr>
            <p:spPr>
              <a:xfrm>
                <a:off x="2052720" y="1819440"/>
                <a:ext cx="50292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a5644e"/>
                    </a:solidFill>
                    <a:latin typeface="Arial"/>
                  </a:rPr>
                  <a:t>知识与技能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07" name="Text Box 9"/>
            <p:cNvSpPr/>
            <p:nvPr/>
          </p:nvSpPr>
          <p:spPr>
            <a:xfrm>
              <a:off x="1371600" y="2209680"/>
              <a:ext cx="64771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通过实例</a:t>
              </a: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了解有理数加法的意义</a:t>
              </a: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会根据有理数的加法法则进行有理数的加法运算</a:t>
              </a: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.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能运用有理数的加法解决实际问题</a:t>
              </a: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.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08" name="Group 10"/>
          <p:cNvGrpSpPr/>
          <p:nvPr/>
        </p:nvGrpSpPr>
        <p:grpSpPr>
          <a:xfrm>
            <a:off x="1187280" y="3266640"/>
            <a:ext cx="6742080" cy="1389240"/>
            <a:chOff x="1187280" y="3266640"/>
            <a:chExt cx="6742080" cy="1389240"/>
          </a:xfrm>
        </p:grpSpPr>
        <p:grpSp>
          <p:nvGrpSpPr>
            <p:cNvPr id="409" name="Group 11"/>
            <p:cNvGrpSpPr/>
            <p:nvPr/>
          </p:nvGrpSpPr>
          <p:grpSpPr>
            <a:xfrm>
              <a:off x="1187280" y="3266640"/>
              <a:ext cx="6653160" cy="1389240"/>
              <a:chOff x="1187280" y="3266640"/>
              <a:chExt cx="6653160" cy="1389240"/>
            </a:xfrm>
          </p:grpSpPr>
          <p:sp>
            <p:nvSpPr>
              <p:cNvPr id="410" name="AutoShape 12"/>
              <p:cNvSpPr/>
              <p:nvPr/>
            </p:nvSpPr>
            <p:spPr>
              <a:xfrm>
                <a:off x="1187280" y="3636720"/>
                <a:ext cx="6653160" cy="10191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ffc42f"/>
                  </a:gs>
                  <a:gs pos="100000">
                    <a:srgbClr val="b28921"/>
                  </a:gs>
                </a:gsLst>
                <a:lin ang="5400000"/>
              </a:gradFill>
              <a:ln w="25560">
                <a:solidFill>
                  <a:srgbClr val="fefefe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11" name="AutoShape 13"/>
              <p:cNvSpPr/>
              <p:nvPr/>
            </p:nvSpPr>
            <p:spPr>
              <a:xfrm flipV="1">
                <a:off x="1358640" y="3265920"/>
                <a:ext cx="6397920" cy="361800"/>
              </a:xfrm>
              <a:custGeom>
                <a:avLst/>
                <a:gdLst>
                  <a:gd name="textAreaLeft" fmla="*/ 1098360 w 6397920"/>
                  <a:gd name="textAreaRight" fmla="*/ 5299560 w 6397920"/>
                  <a:gd name="textAreaTop" fmla="*/ 61920 h 361800"/>
                  <a:gd name="textAreaBottom" fmla="*/ 299880 h 361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13" y="21600"/>
                    </a:lnTo>
                    <a:lnTo>
                      <a:pt x="17787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42f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pic>
            <p:nvPicPr>
              <p:cNvPr id="412" name="Picture 14" descr="Picture4"/>
              <p:cNvPicPr/>
              <p:nvPr/>
            </p:nvPicPr>
            <p:blipFill>
              <a:blip r:embed="rId2"/>
              <a:stretch/>
            </p:blipFill>
            <p:spPr>
              <a:xfrm>
                <a:off x="1238040" y="3682800"/>
                <a:ext cx="676440" cy="57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AutoShape 15"/>
              <p:cNvSpPr/>
              <p:nvPr/>
            </p:nvSpPr>
            <p:spPr>
              <a:xfrm>
                <a:off x="1671480" y="3429000"/>
                <a:ext cx="579132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feffff"/>
              </a:solidFill>
              <a:ln w="28440">
                <a:solidFill>
                  <a:srgbClr val="ffc4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14" name="Rectangle 16"/>
              <p:cNvSpPr/>
              <p:nvPr/>
            </p:nvSpPr>
            <p:spPr>
              <a:xfrm>
                <a:off x="2052360" y="3438360"/>
                <a:ext cx="50292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c42f"/>
                    </a:solidFill>
                    <a:latin typeface="Arial"/>
                  </a:rPr>
                  <a:t>过程与方法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15" name="Text Box 17"/>
            <p:cNvSpPr/>
            <p:nvPr/>
          </p:nvSpPr>
          <p:spPr>
            <a:xfrm>
              <a:off x="1371600" y="3886200"/>
              <a:ext cx="655776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正确地进行有理数的加法运算</a:t>
              </a: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.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用数形结合的思想方法得出有理数的加法法则</a:t>
              </a: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.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16" name="Group 28"/>
          <p:cNvGrpSpPr/>
          <p:nvPr/>
        </p:nvGrpSpPr>
        <p:grpSpPr>
          <a:xfrm>
            <a:off x="1195560" y="4787640"/>
            <a:ext cx="6653160" cy="1396800"/>
            <a:chOff x="1195560" y="4787640"/>
            <a:chExt cx="6653160" cy="1396800"/>
          </a:xfrm>
        </p:grpSpPr>
        <p:grpSp>
          <p:nvGrpSpPr>
            <p:cNvPr id="417" name="Group 19"/>
            <p:cNvGrpSpPr/>
            <p:nvPr/>
          </p:nvGrpSpPr>
          <p:grpSpPr>
            <a:xfrm>
              <a:off x="1195560" y="4787640"/>
              <a:ext cx="6653160" cy="1396800"/>
              <a:chOff x="1195560" y="4787640"/>
              <a:chExt cx="6653160" cy="1396800"/>
            </a:xfrm>
          </p:grpSpPr>
          <p:sp>
            <p:nvSpPr>
              <p:cNvPr id="418" name="AutoShape 20"/>
              <p:cNvSpPr/>
              <p:nvPr/>
            </p:nvSpPr>
            <p:spPr>
              <a:xfrm>
                <a:off x="1195560" y="5153040"/>
                <a:ext cx="6653160" cy="10314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ad1f1f"/>
                  </a:gs>
                  <a:gs pos="100000">
                    <a:srgbClr val="791616"/>
                  </a:gs>
                </a:gsLst>
                <a:lin ang="5400000"/>
              </a:gradFill>
              <a:ln w="25560">
                <a:solidFill>
                  <a:srgbClr val="fefefe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19" name="AutoShape 21"/>
              <p:cNvSpPr/>
              <p:nvPr/>
            </p:nvSpPr>
            <p:spPr>
              <a:xfrm flipV="1">
                <a:off x="1314720" y="4786920"/>
                <a:ext cx="6475320" cy="363240"/>
              </a:xfrm>
              <a:custGeom>
                <a:avLst/>
                <a:gdLst>
                  <a:gd name="textAreaLeft" fmla="*/ 1111320 w 6475320"/>
                  <a:gd name="textAreaRight" fmla="*/ 5364000 w 6475320"/>
                  <a:gd name="textAreaTop" fmla="*/ 61920 h 363240"/>
                  <a:gd name="textAreaBottom" fmla="*/ 301320 h 363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13" y="21600"/>
                    </a:lnTo>
                    <a:lnTo>
                      <a:pt x="17787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1f1f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pic>
            <p:nvPicPr>
              <p:cNvPr id="420" name="Picture 22" descr="Picture4"/>
              <p:cNvPicPr/>
              <p:nvPr/>
            </p:nvPicPr>
            <p:blipFill>
              <a:blip r:embed="rId3"/>
              <a:stretch/>
            </p:blipFill>
            <p:spPr>
              <a:xfrm>
                <a:off x="1243080" y="5194080"/>
                <a:ext cx="675000" cy="57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AutoShape 23"/>
              <p:cNvSpPr/>
              <p:nvPr/>
            </p:nvSpPr>
            <p:spPr>
              <a:xfrm>
                <a:off x="1671840" y="4930560"/>
                <a:ext cx="5791320" cy="456840"/>
              </a:xfrm>
              <a:prstGeom prst="roundRect">
                <a:avLst>
                  <a:gd name="adj" fmla="val 16667"/>
                </a:avLst>
              </a:prstGeom>
              <a:solidFill>
                <a:srgbClr val="feffff"/>
              </a:solidFill>
              <a:ln w="28440">
                <a:solidFill>
                  <a:srgbClr val="ad1f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22" name="Rectangle 24"/>
              <p:cNvSpPr/>
              <p:nvPr/>
            </p:nvSpPr>
            <p:spPr>
              <a:xfrm>
                <a:off x="2052720" y="4941720"/>
                <a:ext cx="50292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ad1f1f"/>
                    </a:solidFill>
                    <a:latin typeface="Arial"/>
                  </a:rPr>
                  <a:t>情感态度与价值观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23" name="Text Box 25"/>
            <p:cNvSpPr/>
            <p:nvPr/>
          </p:nvSpPr>
          <p:spPr>
            <a:xfrm>
              <a:off x="1371600" y="5410080"/>
              <a:ext cx="64771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通过师生互动</a:t>
              </a: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学生自我探究</a:t>
              </a: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让学生充分参与到学习过程中来</a:t>
              </a: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体验数学学习过程的乐趣</a:t>
              </a: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.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pic>
        <p:nvPicPr>
          <p:cNvPr id="424" name="Picture 26" descr="教学目标1"/>
          <p:cNvPicPr/>
          <p:nvPr/>
        </p:nvPicPr>
        <p:blipFill>
          <a:blip r:embed="rId4"/>
          <a:stretch/>
        </p:blipFill>
        <p:spPr>
          <a:xfrm>
            <a:off x="1143000" y="990720"/>
            <a:ext cx="1905120" cy="635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1279440" y="2330280"/>
            <a:ext cx="73310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了解有理数加法的意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会根据有理数加法法则进行有理数的加法运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26" name="Picture 3" descr="教学重点"/>
          <p:cNvPicPr/>
          <p:nvPr/>
        </p:nvPicPr>
        <p:blipFill>
          <a:blip r:embed="rId1"/>
          <a:stretch/>
        </p:blipFill>
        <p:spPr>
          <a:xfrm>
            <a:off x="1219320" y="1574640"/>
            <a:ext cx="1904760" cy="6350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4" descr="教学难点"/>
          <p:cNvPicPr/>
          <p:nvPr/>
        </p:nvPicPr>
        <p:blipFill>
          <a:blip r:embed="rId2"/>
          <a:stretch/>
        </p:blipFill>
        <p:spPr>
          <a:xfrm>
            <a:off x="1219320" y="3556080"/>
            <a:ext cx="1904760" cy="63504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5"/>
          <p:cNvSpPr/>
          <p:nvPr/>
        </p:nvSpPr>
        <p:spPr>
          <a:xfrm>
            <a:off x="2664720" y="4540320"/>
            <a:ext cx="4419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理数加法中的异号两数如何进行加法运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4" descr="12"/>
          <p:cNvPicPr/>
          <p:nvPr/>
        </p:nvPicPr>
        <p:blipFill>
          <a:blip r:embed="rId1"/>
          <a:stretch/>
        </p:blipFill>
        <p:spPr>
          <a:xfrm>
            <a:off x="4952880" y="1500120"/>
            <a:ext cx="3988080" cy="27669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5" descr="导入新课"/>
          <p:cNvPicPr/>
          <p:nvPr/>
        </p:nvPicPr>
        <p:blipFill>
          <a:blip r:embed="rId2"/>
          <a:stretch/>
        </p:blipFill>
        <p:spPr>
          <a:xfrm>
            <a:off x="581040" y="878040"/>
            <a:ext cx="3276720" cy="61740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6"/>
          <p:cNvSpPr/>
          <p:nvPr/>
        </p:nvSpPr>
        <p:spPr>
          <a:xfrm>
            <a:off x="228600" y="1589040"/>
            <a:ext cx="472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足球循环赛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通常把进球数记为正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失球数记为负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它们的和叫作净胜球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有三个队参加的足球比赛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红队胜黄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4:1)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黄队胜蓝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1:0)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蓝队胜红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1:0)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如何确定三个队的净胜球数与排名顺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2" name="Text Box 7"/>
          <p:cNvSpPr/>
          <p:nvPr/>
        </p:nvSpPr>
        <p:spPr>
          <a:xfrm>
            <a:off x="533520" y="4724280"/>
            <a:ext cx="83595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请同学们自学教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P17-1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并完成自学导练，相信大家感悟快！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" descr="要点感知一"/>
          <p:cNvPicPr/>
          <p:nvPr/>
        </p:nvPicPr>
        <p:blipFill>
          <a:blip r:embed="rId1"/>
          <a:stretch/>
        </p:blipFill>
        <p:spPr>
          <a:xfrm>
            <a:off x="609480" y="914400"/>
            <a:ext cx="2286000" cy="6350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" descr="要点感知二"/>
          <p:cNvPicPr/>
          <p:nvPr/>
        </p:nvPicPr>
        <p:blipFill>
          <a:blip r:embed="rId2"/>
          <a:stretch/>
        </p:blipFill>
        <p:spPr>
          <a:xfrm>
            <a:off x="609480" y="2616120"/>
            <a:ext cx="2286000" cy="63504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5"/>
          <p:cNvSpPr/>
          <p:nvPr/>
        </p:nvSpPr>
        <p:spPr>
          <a:xfrm>
            <a:off x="457200" y="31021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互为相反数的两数相加，和为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；一个数与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相加，仍得这个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457200" y="14400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同号两加数相加，取相同的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符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并把绝对值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相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绝对值不相等的异号两数相加，取绝对值较大的加数的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符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并用较大的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绝对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减去较小的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绝对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7908840" y="4500720"/>
            <a:ext cx="394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304920" y="457056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-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这三个数中，任意两数之和的最大值是（   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.1                B.0               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                D.-3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9" name="Text Box 40"/>
          <p:cNvSpPr/>
          <p:nvPr/>
        </p:nvSpPr>
        <p:spPr>
          <a:xfrm>
            <a:off x="1234080" y="5643720"/>
            <a:ext cx="394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0" name="Text Box 41"/>
          <p:cNvSpPr/>
          <p:nvPr/>
        </p:nvSpPr>
        <p:spPr>
          <a:xfrm>
            <a:off x="5823720" y="5656320"/>
            <a:ext cx="394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+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1" name="Text Box 42"/>
          <p:cNvSpPr/>
          <p:nvPr/>
        </p:nvSpPr>
        <p:spPr>
          <a:xfrm>
            <a:off x="2986920" y="6024600"/>
            <a:ext cx="394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2" name="Text Box 43"/>
          <p:cNvSpPr/>
          <p:nvPr/>
        </p:nvSpPr>
        <p:spPr>
          <a:xfrm>
            <a:off x="5856840" y="6012000"/>
            <a:ext cx="394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+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43" name="Group 48"/>
          <p:cNvGrpSpPr/>
          <p:nvPr/>
        </p:nvGrpSpPr>
        <p:grpSpPr>
          <a:xfrm>
            <a:off x="380880" y="5306760"/>
            <a:ext cx="8763120" cy="1302120"/>
            <a:chOff x="380880" y="5306760"/>
            <a:chExt cx="8763120" cy="1302120"/>
          </a:xfrm>
        </p:grpSpPr>
        <mc:AlternateContent>
          <mc:Choice xmlns:a14="http://schemas.microsoft.com/office/drawing/2010/main" Requires="a14">
            <p:sp>
              <p:nvSpPr>
                <p:cNvPr id="444" name="Object 35"/>
                <p:cNvSpPr txBox="1"/>
                <p:nvPr/>
              </p:nvSpPr>
              <p:spPr>
                <a:xfrm>
                  <a:off x="6172200" y="5986800"/>
                  <a:ext cx="2350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45" name="Rectangle 39"/>
            <p:cNvSpPr/>
            <p:nvPr/>
          </p:nvSpPr>
          <p:spPr>
            <a:xfrm>
              <a:off x="380880" y="5306760"/>
              <a:ext cx="876312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.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在方框内填入适当的符号使下列等式成立：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）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□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+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－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）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3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；         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）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□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+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－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）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0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；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）（－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）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+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□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5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）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5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；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）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□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+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□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）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.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6" name="Object 45"/>
                <p:cNvSpPr txBox="1"/>
                <p:nvPr/>
              </p:nvSpPr>
              <p:spPr>
                <a:xfrm>
                  <a:off x="7226280" y="5999400"/>
                  <a:ext cx="2937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7" name="Text Box 47"/>
          <p:cNvSpPr/>
          <p:nvPr/>
        </p:nvSpPr>
        <p:spPr>
          <a:xfrm>
            <a:off x="6912720" y="6026040"/>
            <a:ext cx="394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48" name="Picture 49" descr="练习"/>
          <p:cNvPicPr/>
          <p:nvPr/>
        </p:nvPicPr>
        <p:blipFill>
          <a:blip r:embed="rId3"/>
          <a:stretch/>
        </p:blipFill>
        <p:spPr>
          <a:xfrm>
            <a:off x="596880" y="4038480"/>
            <a:ext cx="1231920" cy="507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2" descr="典例剖析"/>
          <p:cNvPicPr/>
          <p:nvPr/>
        </p:nvPicPr>
        <p:blipFill>
          <a:blip r:embed="rId1"/>
          <a:stretch/>
        </p:blipFill>
        <p:spPr>
          <a:xfrm>
            <a:off x="1219320" y="838080"/>
            <a:ext cx="19047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" descr="知识点一"/>
          <p:cNvPicPr/>
          <p:nvPr/>
        </p:nvPicPr>
        <p:blipFill>
          <a:blip r:embed="rId2"/>
          <a:stretch/>
        </p:blipFill>
        <p:spPr>
          <a:xfrm>
            <a:off x="914400" y="1419120"/>
            <a:ext cx="1905120" cy="63504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4"/>
          <p:cNvSpPr/>
          <p:nvPr/>
        </p:nvSpPr>
        <p:spPr>
          <a:xfrm>
            <a:off x="3278160" y="1495440"/>
            <a:ext cx="2009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有理数加法法则及运算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1219320" y="2085840"/>
            <a:ext cx="91440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例题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</a:rPr>
              <a:t>1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2292840" y="2057400"/>
            <a:ext cx="729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计算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4" name="Text Box 15"/>
          <p:cNvSpPr/>
          <p:nvPr/>
        </p:nvSpPr>
        <p:spPr>
          <a:xfrm>
            <a:off x="768600" y="3048120"/>
            <a:ext cx="729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解析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5" name="Text Box 36"/>
          <p:cNvSpPr/>
          <p:nvPr/>
        </p:nvSpPr>
        <p:spPr>
          <a:xfrm>
            <a:off x="476280" y="4888080"/>
            <a:ext cx="8439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进行有理数的加法运算要遵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定二求三和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步骤，即第一步先确定和的符号，第二步再求加数的绝对值，第三步要分析确定是绝对值相加还是相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6" name="Text Box 40"/>
          <p:cNvSpPr/>
          <p:nvPr/>
        </p:nvSpPr>
        <p:spPr>
          <a:xfrm>
            <a:off x="656280" y="4876920"/>
            <a:ext cx="704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点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8"/>
              <p:cNvSpPr txBox="1"/>
              <p:nvPr/>
            </p:nvSpPr>
            <p:spPr>
              <a:xfrm>
                <a:off x="2971800" y="2057400"/>
                <a:ext cx="20890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106"/>
              <p:cNvSpPr txBox="1"/>
              <p:nvPr/>
            </p:nvSpPr>
            <p:spPr>
              <a:xfrm>
                <a:off x="5181480" y="1905120"/>
                <a:ext cx="16588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107"/>
              <p:cNvSpPr txBox="1"/>
              <p:nvPr/>
            </p:nvSpPr>
            <p:spPr>
              <a:xfrm>
                <a:off x="6934320" y="1905120"/>
                <a:ext cx="14014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108"/>
              <p:cNvSpPr txBox="1"/>
              <p:nvPr/>
            </p:nvSpPr>
            <p:spPr>
              <a:xfrm>
                <a:off x="2944800" y="2438280"/>
                <a:ext cx="1917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Text Box 91"/>
          <p:cNvSpPr/>
          <p:nvPr/>
        </p:nvSpPr>
        <p:spPr>
          <a:xfrm>
            <a:off x="1328760" y="30700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(1)(+1.15)+(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.13)=+(1.15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.13)=0.02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Object 129"/>
              <p:cNvSpPr txBox="1"/>
              <p:nvPr/>
            </p:nvSpPr>
            <p:spPr>
              <a:xfrm>
                <a:off x="5181480" y="4038480"/>
                <a:ext cx="39229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130"/>
              <p:cNvSpPr txBox="1"/>
              <p:nvPr/>
            </p:nvSpPr>
            <p:spPr>
              <a:xfrm>
                <a:off x="1468440" y="3457440"/>
                <a:ext cx="33177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133"/>
              <p:cNvSpPr txBox="1"/>
              <p:nvPr/>
            </p:nvSpPr>
            <p:spPr>
              <a:xfrm>
                <a:off x="5180040" y="3457440"/>
                <a:ext cx="32781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(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134"/>
              <p:cNvSpPr txBox="1"/>
              <p:nvPr/>
            </p:nvSpPr>
            <p:spPr>
              <a:xfrm>
                <a:off x="1469880" y="4038480"/>
                <a:ext cx="23068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135"/>
              <p:cNvSpPr txBox="1"/>
              <p:nvPr/>
            </p:nvSpPr>
            <p:spPr>
              <a:xfrm>
                <a:off x="5181480" y="2438280"/>
                <a:ext cx="18748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7" name="Rectangle 136"/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8" name="Rectangle 137"/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9" name="Rectangle 138">
            <a:hlinkClick r:id="rId3" action="ppaction://hlinksldjump"/>
          </p:cNvPr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0" name="Rectangle 139">
            <a:hlinkClick r:id="rId4" action="ppaction://hlinksldjump"/>
          </p:cNvPr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1" name="Rectangle 140"/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2" name="Rectangle 141"/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3" name="Rectangle 142">
            <a:hlinkClick r:id="rId5" action="ppaction://hlinksldjump"/>
          </p:cNvPr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4" name="Rectangle 143">
            <a:hlinkClick r:id="rId6" action="ppaction://hlinksldjump"/>
          </p:cNvPr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147"/>
          <p:cNvGrpSpPr/>
          <p:nvPr/>
        </p:nvGrpSpPr>
        <p:grpSpPr>
          <a:xfrm>
            <a:off x="533520" y="3703680"/>
            <a:ext cx="8610480" cy="1891440"/>
            <a:chOff x="533520" y="3703680"/>
            <a:chExt cx="8610480" cy="1891440"/>
          </a:xfrm>
        </p:grpSpPr>
        <p:sp>
          <p:nvSpPr>
            <p:cNvPr id="476" name="Text Box 4"/>
            <p:cNvSpPr/>
            <p:nvPr/>
          </p:nvSpPr>
          <p:spPr>
            <a:xfrm>
              <a:off x="533520" y="3703680"/>
              <a:ext cx="8610480" cy="189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.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有理数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a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、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b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在数轴上的位置如图所示，则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a+b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一定是（    ）</a:t>
              </a:r>
              <a:endParaRPr b="1" lang="en-US" sz="22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A.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正数            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B.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负数             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C.0              D.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不能正确</a:t>
              </a:r>
              <a:endParaRPr b="1" lang="en-US" sz="2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pic>
          <p:nvPicPr>
            <p:cNvPr id="477" name="Picture 146" descr="-1"/>
            <p:cNvPicPr/>
            <p:nvPr/>
          </p:nvPicPr>
          <p:blipFill>
            <a:blip r:embed="rId1"/>
            <a:stretch/>
          </p:blipFill>
          <p:spPr>
            <a:xfrm>
              <a:off x="3124080" y="4243320"/>
              <a:ext cx="2438640" cy="43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Text Box 13"/>
          <p:cNvSpPr/>
          <p:nvPr/>
        </p:nvSpPr>
        <p:spPr>
          <a:xfrm>
            <a:off x="6629400" y="1328760"/>
            <a:ext cx="714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D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533520" y="1447920"/>
            <a:ext cx="8381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对于计算（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4.5)+0.5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的结果，叙述正确的是（    ）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其结果应与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4.5+0.5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的结果相同，即为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其结果应与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4.5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0.5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的结果相同，即为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所求和一定大于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4.5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且大于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0.5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D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取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4.5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的负号，并用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4.5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的绝对值减去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0.5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的绝对值减去 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0.5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的绝对值，即为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0" name="Text Box 68"/>
          <p:cNvSpPr/>
          <p:nvPr/>
        </p:nvSpPr>
        <p:spPr>
          <a:xfrm>
            <a:off x="7543800" y="3672000"/>
            <a:ext cx="533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1" name="Text Box 122"/>
          <p:cNvSpPr/>
          <p:nvPr/>
        </p:nvSpPr>
        <p:spPr>
          <a:xfrm>
            <a:off x="533520" y="55576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比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大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的数是 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，比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大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的数是 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2" name="Text Box 123"/>
          <p:cNvSpPr/>
          <p:nvPr/>
        </p:nvSpPr>
        <p:spPr>
          <a:xfrm>
            <a:off x="2819520" y="5410080"/>
            <a:ext cx="795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2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3" name="Text Box 124"/>
          <p:cNvSpPr/>
          <p:nvPr/>
        </p:nvSpPr>
        <p:spPr>
          <a:xfrm>
            <a:off x="5581800" y="5424480"/>
            <a:ext cx="1066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1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4" name="Rectangle 138"/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5" name="Rectangle 139"/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6" name="Rectangle 140">
            <a:hlinkClick r:id="rId2" action="ppaction://hlinksldjump"/>
          </p:cNvPr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7" name="Rectangle 141">
            <a:hlinkClick r:id="rId3" action="ppaction://hlinksldjump"/>
          </p:cNvPr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8" name="Rectangle 142"/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9" name="Rectangle 143"/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0" name="Rectangle 144">
            <a:hlinkClick r:id="rId4" action="ppaction://hlinksldjump"/>
          </p:cNvPr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1" name="Rectangle 145">
            <a:hlinkClick r:id="rId5" action="ppaction://hlinksldjump"/>
          </p:cNvPr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92" name="Picture 148" descr="对应练习副本"/>
          <p:cNvPicPr/>
          <p:nvPr/>
        </p:nvPicPr>
        <p:blipFill>
          <a:blip r:embed="rId6"/>
          <a:stretch/>
        </p:blipFill>
        <p:spPr>
          <a:xfrm>
            <a:off x="422280" y="685800"/>
            <a:ext cx="2473200" cy="838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Group 64"/>
          <p:cNvGrpSpPr/>
          <p:nvPr/>
        </p:nvGrpSpPr>
        <p:grpSpPr>
          <a:xfrm>
            <a:off x="380880" y="1447920"/>
            <a:ext cx="8610840" cy="2729880"/>
            <a:chOff x="380880" y="1447920"/>
            <a:chExt cx="8610840" cy="2729880"/>
          </a:xfrm>
        </p:grpSpPr>
        <mc:AlternateContent>
          <mc:Choice xmlns:a14="http://schemas.microsoft.com/office/drawing/2010/main" Requires="a14">
            <p:sp>
              <p:nvSpPr>
                <p:cNvPr id="494" name="Object 19"/>
                <p:cNvSpPr txBox="1"/>
                <p:nvPr/>
              </p:nvSpPr>
              <p:spPr>
                <a:xfrm>
                  <a:off x="6234120" y="1447920"/>
                  <a:ext cx="257040" cy="73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495" name="Group 58"/>
            <p:cNvGrpSpPr/>
            <p:nvPr/>
          </p:nvGrpSpPr>
          <p:grpSpPr>
            <a:xfrm>
              <a:off x="380880" y="1477800"/>
              <a:ext cx="8610840" cy="2700000"/>
              <a:chOff x="380880" y="1477800"/>
              <a:chExt cx="8610840" cy="2700000"/>
            </a:xfrm>
          </p:grpSpPr>
          <p:sp>
            <p:nvSpPr>
              <p:cNvPr id="496" name="Text Box 18"/>
              <p:cNvSpPr/>
              <p:nvPr/>
            </p:nvSpPr>
            <p:spPr>
              <a:xfrm>
                <a:off x="380880" y="1616040"/>
                <a:ext cx="8610840" cy="25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. 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计算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: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（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）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(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－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)+(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－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2)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；                   （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）    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+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（－    ）；</a:t>
                </a:r>
                <a:endParaRPr b="1" lang="en-US" sz="2200" spc="-1" strike="noStrike">
                  <a:solidFill>
                    <a:srgbClr val="008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008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008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008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8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（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）（－   ）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+0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；                                （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）（－  ）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+0.75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；</a:t>
                </a:r>
                <a:endParaRPr b="1" lang="en-US" sz="2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97" name="Object 17"/>
                  <p:cNvSpPr txBox="1"/>
                  <p:nvPr/>
                </p:nvSpPr>
                <p:spPr>
                  <a:xfrm>
                    <a:off x="6605640" y="2903400"/>
                    <a:ext cx="280800" cy="730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98" name="Object 20"/>
                  <p:cNvSpPr txBox="1"/>
                  <p:nvPr/>
                </p:nvSpPr>
                <p:spPr>
                  <a:xfrm>
                    <a:off x="7267680" y="1477800"/>
                    <a:ext cx="279360" cy="730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99" name="Object 21"/>
                  <p:cNvSpPr txBox="1"/>
                  <p:nvPr/>
                </p:nvSpPr>
                <p:spPr>
                  <a:xfrm>
                    <a:off x="1752480" y="2932200"/>
                    <a:ext cx="255600" cy="730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500" name="Object 22"/>
              <p:cNvSpPr txBox="1"/>
              <p:nvPr/>
            </p:nvSpPr>
            <p:spPr>
              <a:xfrm>
                <a:off x="561960" y="4419720"/>
                <a:ext cx="2057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Object 23"/>
              <p:cNvSpPr txBox="1"/>
              <p:nvPr/>
            </p:nvSpPr>
            <p:spPr>
              <a:xfrm>
                <a:off x="5478480" y="4448160"/>
                <a:ext cx="224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2" name="Text Box 24"/>
          <p:cNvSpPr/>
          <p:nvPr/>
        </p:nvSpPr>
        <p:spPr>
          <a:xfrm>
            <a:off x="1219320" y="207324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解：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原式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-15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3" name="Rectangle 27"/>
          <p:cNvSpPr/>
          <p:nvPr/>
        </p:nvSpPr>
        <p:spPr>
          <a:xfrm>
            <a:off x="2424240" y="648324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4" name="Rectangle 28"/>
          <p:cNvSpPr/>
          <p:nvPr/>
        </p:nvSpPr>
        <p:spPr>
          <a:xfrm>
            <a:off x="3567240" y="65214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5" name="Rectangle 29">
            <a:hlinkClick r:id="rId1" action="ppaction://hlinksldjump"/>
          </p:cNvPr>
          <p:cNvSpPr/>
          <p:nvPr/>
        </p:nvSpPr>
        <p:spPr>
          <a:xfrm>
            <a:off x="2424240" y="648324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6" name="Rectangle 30">
            <a:hlinkClick r:id="rId2" action="ppaction://hlinksldjump"/>
          </p:cNvPr>
          <p:cNvSpPr/>
          <p:nvPr/>
        </p:nvSpPr>
        <p:spPr>
          <a:xfrm>
            <a:off x="3567240" y="65214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7" name="Rectangle 31"/>
          <p:cNvSpPr/>
          <p:nvPr/>
        </p:nvSpPr>
        <p:spPr>
          <a:xfrm>
            <a:off x="4572000" y="649764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8" name="Rectangle 32"/>
          <p:cNvSpPr/>
          <p:nvPr/>
        </p:nvSpPr>
        <p:spPr>
          <a:xfrm>
            <a:off x="5715000" y="653580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9" name="Rectangle 33">
            <a:hlinkClick r:id="rId3" action="ppaction://hlinksldjump"/>
          </p:cNvPr>
          <p:cNvSpPr/>
          <p:nvPr/>
        </p:nvSpPr>
        <p:spPr>
          <a:xfrm>
            <a:off x="4572000" y="649764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0" name="Rectangle 34">
            <a:hlinkClick r:id="rId4" action="ppaction://hlinksldjump"/>
          </p:cNvPr>
          <p:cNvSpPr/>
          <p:nvPr/>
        </p:nvSpPr>
        <p:spPr>
          <a:xfrm>
            <a:off x="5715000" y="653580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1" name="Rectangle 35"/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2" name="Rectangle 36"/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3" name="Rectangle 37">
            <a:hlinkClick r:id="rId5" action="ppaction://hlinksldjump"/>
          </p:cNvPr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4" name="Rectangle 40"/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5" name="Rectangle 41">
            <a:hlinkClick r:id="rId6" action="ppaction://hlinksldjump"/>
          </p:cNvPr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6" name="Rectangle 42">
            <a:hlinkClick r:id="rId7" action="ppaction://hlinksldjump"/>
          </p:cNvPr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7" name="Rectangle 39"/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8" name="Rectangle 38">
            <a:hlinkClick r:id="rId8" action="ppaction://hlinksldjump"/>
          </p:cNvPr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19" name="Group 62"/>
          <p:cNvGrpSpPr/>
          <p:nvPr/>
        </p:nvGrpSpPr>
        <p:grpSpPr>
          <a:xfrm>
            <a:off x="631800" y="5105520"/>
            <a:ext cx="2478240" cy="464400"/>
            <a:chOff x="631800" y="5105520"/>
            <a:chExt cx="2478240" cy="464400"/>
          </a:xfrm>
        </p:grpSpPr>
        <p:sp>
          <p:nvSpPr>
            <p:cNvPr id="520" name="Text Box 26"/>
            <p:cNvSpPr/>
            <p:nvPr/>
          </p:nvSpPr>
          <p:spPr>
            <a:xfrm>
              <a:off x="1204920" y="511020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楷体_GB2312"/>
                  <a:ea typeface="楷体_GB2312"/>
                </a:rPr>
                <a:t>原式</a:t>
              </a:r>
              <a:r>
                <a:rPr b="1" lang="en-US" sz="2400" spc="-1" strike="noStrike">
                  <a:solidFill>
                    <a:srgbClr val="ff9900"/>
                  </a:solidFill>
                  <a:latin typeface="楷体_GB2312"/>
                  <a:ea typeface="楷体_GB2312"/>
                </a:rPr>
                <a:t>=-3.9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1" name="Rectangle 52"/>
            <p:cNvSpPr/>
            <p:nvPr/>
          </p:nvSpPr>
          <p:spPr>
            <a:xfrm>
              <a:off x="631800" y="5105520"/>
              <a:ext cx="66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解：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22" name="Group 60"/>
          <p:cNvGrpSpPr/>
          <p:nvPr/>
        </p:nvGrpSpPr>
        <p:grpSpPr>
          <a:xfrm>
            <a:off x="900000" y="3581280"/>
            <a:ext cx="1817640" cy="730440"/>
            <a:chOff x="900000" y="3581280"/>
            <a:chExt cx="1817640" cy="730440"/>
          </a:xfrm>
        </p:grpSpPr>
        <mc:AlternateContent>
          <mc:Choice xmlns:a14="http://schemas.microsoft.com/office/drawing/2010/main" Requires="a14">
            <p:sp>
              <p:nvSpPr>
                <p:cNvPr id="523" name="Object 25"/>
                <p:cNvSpPr txBox="1"/>
                <p:nvPr/>
              </p:nvSpPr>
              <p:spPr>
                <a:xfrm>
                  <a:off x="1447920" y="3581280"/>
                  <a:ext cx="1269720" cy="73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原式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24" name="Rectangle 53"/>
            <p:cNvSpPr/>
            <p:nvPr/>
          </p:nvSpPr>
          <p:spPr>
            <a:xfrm>
              <a:off x="900000" y="3672000"/>
              <a:ext cx="66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解：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25" name="Group 61"/>
          <p:cNvGrpSpPr/>
          <p:nvPr/>
        </p:nvGrpSpPr>
        <p:grpSpPr>
          <a:xfrm>
            <a:off x="5627520" y="3651120"/>
            <a:ext cx="1916280" cy="466200"/>
            <a:chOff x="5627520" y="3651120"/>
            <a:chExt cx="1916280" cy="466200"/>
          </a:xfrm>
        </p:grpSpPr>
        <p:sp>
          <p:nvSpPr>
            <p:cNvPr id="526" name="Rectangle 50"/>
            <p:cNvSpPr/>
            <p:nvPr/>
          </p:nvSpPr>
          <p:spPr>
            <a:xfrm>
              <a:off x="5627520" y="3657600"/>
              <a:ext cx="66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解：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7" name="Text Box 54"/>
            <p:cNvSpPr/>
            <p:nvPr/>
          </p:nvSpPr>
          <p:spPr>
            <a:xfrm>
              <a:off x="6095880" y="36511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楷体_GB2312"/>
                  <a:ea typeface="楷体_GB2312"/>
                </a:rPr>
                <a:t>原式</a:t>
              </a:r>
              <a:r>
                <a:rPr b="1" lang="en-US" sz="2400" spc="-1" strike="noStrike">
                  <a:solidFill>
                    <a:srgbClr val="ff9900"/>
                  </a:solidFill>
                  <a:latin typeface="楷体_GB2312"/>
                  <a:ea typeface="楷体_GB2312"/>
                </a:rPr>
                <a:t>=0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28" name="Group 59"/>
          <p:cNvGrpSpPr/>
          <p:nvPr/>
        </p:nvGrpSpPr>
        <p:grpSpPr>
          <a:xfrm>
            <a:off x="5627520" y="2133720"/>
            <a:ext cx="1766880" cy="606240"/>
            <a:chOff x="5627520" y="2133720"/>
            <a:chExt cx="1766880" cy="606240"/>
          </a:xfrm>
        </p:grpSpPr>
        <p:sp>
          <p:nvSpPr>
            <p:cNvPr id="529" name="Rectangle 49"/>
            <p:cNvSpPr/>
            <p:nvPr/>
          </p:nvSpPr>
          <p:spPr>
            <a:xfrm>
              <a:off x="5627520" y="2163600"/>
              <a:ext cx="66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解：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0" name="Object 55"/>
                <p:cNvSpPr txBox="1"/>
                <p:nvPr/>
              </p:nvSpPr>
              <p:spPr>
                <a:xfrm>
                  <a:off x="6219720" y="2133720"/>
                  <a:ext cx="117468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原式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1" name="Group 63"/>
          <p:cNvGrpSpPr/>
          <p:nvPr/>
        </p:nvGrpSpPr>
        <p:grpSpPr>
          <a:xfrm>
            <a:off x="5627520" y="5105520"/>
            <a:ext cx="1914840" cy="730080"/>
            <a:chOff x="5627520" y="5105520"/>
            <a:chExt cx="1914840" cy="730080"/>
          </a:xfrm>
        </p:grpSpPr>
        <p:sp>
          <p:nvSpPr>
            <p:cNvPr id="532" name="Rectangle 51"/>
            <p:cNvSpPr/>
            <p:nvPr/>
          </p:nvSpPr>
          <p:spPr>
            <a:xfrm>
              <a:off x="5627520" y="5216400"/>
              <a:ext cx="66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解：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3" name="Object 56"/>
                <p:cNvSpPr txBox="1"/>
                <p:nvPr/>
              </p:nvSpPr>
              <p:spPr>
                <a:xfrm>
                  <a:off x="6157800" y="5105520"/>
                  <a:ext cx="1384560" cy="73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原式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3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34" name="Picture 65" descr="对应练习副本"/>
          <p:cNvPicPr/>
          <p:nvPr/>
        </p:nvPicPr>
        <p:blipFill>
          <a:blip r:embed="rId9"/>
          <a:stretch/>
        </p:blipFill>
        <p:spPr>
          <a:xfrm>
            <a:off x="422280" y="762120"/>
            <a:ext cx="2473200" cy="838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3278160" y="1495440"/>
            <a:ext cx="2009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有理数加法的简单应用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36" name="Picture 3" descr="知识点二"/>
          <p:cNvPicPr/>
          <p:nvPr/>
        </p:nvPicPr>
        <p:blipFill>
          <a:blip r:embed="rId1"/>
          <a:stretch/>
        </p:blipFill>
        <p:spPr>
          <a:xfrm>
            <a:off x="914400" y="1447920"/>
            <a:ext cx="1905120" cy="63504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4"/>
          <p:cNvSpPr/>
          <p:nvPr/>
        </p:nvSpPr>
        <p:spPr>
          <a:xfrm>
            <a:off x="1219320" y="2085840"/>
            <a:ext cx="91440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例题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</a:rPr>
              <a:t>2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38" name="Picture 7" descr="典例剖析"/>
          <p:cNvPicPr/>
          <p:nvPr/>
        </p:nvPicPr>
        <p:blipFill>
          <a:blip r:embed="rId2"/>
          <a:stretch/>
        </p:blipFill>
        <p:spPr>
          <a:xfrm>
            <a:off x="1219320" y="838080"/>
            <a:ext cx="1904760" cy="63504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8"/>
          <p:cNvSpPr/>
          <p:nvPr/>
        </p:nvSpPr>
        <p:spPr>
          <a:xfrm>
            <a:off x="228600" y="4616280"/>
            <a:ext cx="1155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解析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0" name="Text Box 5"/>
          <p:cNvSpPr/>
          <p:nvPr/>
        </p:nvSpPr>
        <p:spPr>
          <a:xfrm>
            <a:off x="609480" y="2092320"/>
            <a:ext cx="8610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一病人每天下午都需要测量血压，该病人上个星期日的收缩压为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0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单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下表是该病人星期一至星期五收缩压的变化情况：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1" name="Text Box 57"/>
          <p:cNvSpPr/>
          <p:nvPr/>
        </p:nvSpPr>
        <p:spPr>
          <a:xfrm>
            <a:off x="976320" y="4645080"/>
            <a:ext cx="82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与上周日比较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: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星期一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:+30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单位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星期二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:+30+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（－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0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）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+10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单位：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星期三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:+10+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+17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）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+27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单位；星期四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:+27+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+18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）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+45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单位；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星期五：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+45+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（－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0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）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+25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单位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. 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2" name="Text Box 71"/>
          <p:cNvSpPr/>
          <p:nvPr/>
        </p:nvSpPr>
        <p:spPr>
          <a:xfrm>
            <a:off x="976320" y="5668920"/>
            <a:ext cx="769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因此可得：星期四血压最高，星期二血压最低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.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1371600" y="2895480"/>
          <a:ext cx="6683400" cy="963720"/>
        </p:xfrm>
        <a:graphic>
          <a:graphicData uri="http://schemas.openxmlformats.org/drawingml/2006/table">
            <a:tbl>
              <a:tblPr/>
              <a:tblGrid>
                <a:gridCol w="1546200"/>
                <a:gridCol w="1073160"/>
                <a:gridCol w="1015920"/>
                <a:gridCol w="1015920"/>
                <a:gridCol w="1016280"/>
                <a:gridCol w="1015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星期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一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二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三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四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五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收缩压的变化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与前一天的比较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)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+30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单位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0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单位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+17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单位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+18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单位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0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单位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Text Box 126"/>
          <p:cNvSpPr/>
          <p:nvPr/>
        </p:nvSpPr>
        <p:spPr>
          <a:xfrm>
            <a:off x="762120" y="4191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周哪一天血压最高，哪一天血压最低？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5" name="Text Box 127"/>
          <p:cNvSpPr/>
          <p:nvPr/>
        </p:nvSpPr>
        <p:spPr>
          <a:xfrm>
            <a:off x="1066680" y="38098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注：正号表示血压比前一天升，负号表示比前一天降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)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6" name="Rectangle 128"/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7" name="Rectangle 129"/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8" name="Rectangle 130">
            <a:hlinkClick r:id="rId3" action="ppaction://hlinksldjump"/>
          </p:cNvPr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9" name="Rectangle 131">
            <a:hlinkClick r:id="rId4" action="ppaction://hlinksldjump"/>
          </p:cNvPr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0" name="Rectangle 132"/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1" name="Rectangle 133"/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2" name="Rectangle 134">
            <a:hlinkClick r:id="rId5" action="ppaction://hlinksldjump"/>
          </p:cNvPr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3" name="Rectangle 135">
            <a:hlinkClick r:id="rId6" action="ppaction://hlinksldjump"/>
          </p:cNvPr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4-07-19T06:50:07Z</dcterms:modified>
  <cp:revision>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