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wmf" ContentType="image/x-wmf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B38C-C232-4655-B5F9-AAB92E3A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FDBB-2DC4-4068-AA79-7BC926B5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6F339-25CC-43D6-8299-96CE31E1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54D11-B87F-4342-B5AA-B10696B4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9C241-FA9F-46FD-8584-1DCB3042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052BE-FA0F-4BAA-89B3-40DF466B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F5227-A72B-4712-AC74-A6DAFAEB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0CB0F-A4A8-49EB-8794-ECDE0D7A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707BE-30AF-46AA-9521-85168FDE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FEE71-108B-4844-B95F-DF5FC0CC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090B0-75FB-4F8C-9E57-1385163C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AF8-118C-4E1A-9A47-FE62096C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350-DF26-4694-AE21-670228D5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61E8-CB13-4F7A-B221-50A28098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8C9D-CC98-4BF9-A007-43794FED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FBBA-CB58-4E1F-A79C-862CDA2B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B3C4-A6D6-41F9-9F76-8AD597BF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49BD-B516-48AE-A3B8-C6F60E65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DA72-B890-4709-8AED-4613384D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9D87-7D7E-4E96-9D40-73342DA9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C2F-F11A-448F-BE53-0CC5104E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2D39-57D0-4232-9C22-914CFEE3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2741-2B4C-40CF-A4DE-B44566DD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7558-90CA-46CA-B22F-8260FE40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ED39-699E-4BD7-AA8F-91329B91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330A-27C2-4F57-9FCB-95562CC1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0C21E-6F12-43DF-BADE-652652D5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5F1EB-0AAD-442E-A5C7-34E3E55E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5B8B9-039D-4986-9E8D-66967EF0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09D40-015A-4E40-B0BC-1ECC2812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3B001-B6AA-4EF6-AFD8-8DADA71E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24BA-F470-4EE3-9ABC-B323BA4D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33775-DFEF-4199-A17F-5E4A25A1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A02A2-2F2B-4958-A759-7040A3C4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49FA6-ED92-49E7-9C74-656FE285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E0EE4-A0EE-46F9-B034-30977919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A9436-C621-473A-99E6-BF567E7D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B3C1-C8E4-4B55-A808-20725D1C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A4C01-76A4-4A07-8802-48C75AEE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5BA63-1123-440F-9B71-1C40869A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F8244-E2DF-4E7C-97CF-951ACBE7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946B4-E9AE-451E-9A8C-CF7FCE2D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9DD4-AF88-4FC6-9D0A-4EE979F1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B1160-F3DC-41EB-BAA1-9B433403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48A83-104E-47FB-983E-79EF2267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DBD54-6633-45F6-BC19-B97A094D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07265-8984-47F8-AA05-40EDF9D5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B6555-D1D2-4E41-BD06-044A6207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635CD-D91A-4105-873E-A7683FD0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13CBA-9BBD-44BA-ABFC-05A3D304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1D509-E44A-49BC-AFBD-F0A241BE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09C69-A9CF-46E1-AD0E-8903B986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053AC-79D4-4C51-885E-80DB99AF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2E6-005B-4619-A193-0A9389D3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9DD5A-C3CF-4799-BA0E-FDC8ABC0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8E8A5-1B38-41EA-8607-5E45D9B7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9E161-5FF9-40B6-94A6-4B6613ED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75592-8E29-4ADC-8307-2210AAC5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8D3B5-B959-43B6-8D87-453748DA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2B6A6-DF8C-4ED8-B23D-A7C83ED5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9D761-5DA6-49CE-939E-C9153D7B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3EFAB-313D-48EA-8C55-CAFFDA38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E96B6-9E32-4D9F-8010-32997614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52C97-A210-4610-8BB9-171C7A0A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DEA0-99A1-4F96-B165-C73D217C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D3463-7A59-400C-965A-8832E090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916F5-69DA-4C37-A447-1FAE27AF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4AB40-C5B9-4D96-931B-970F4FA3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7BC45-1A50-453A-BEAF-4CF0C3B9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5C535-85C5-40F2-9971-6D5CF579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A0653-8475-4950-B09F-7F4D0983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33373-F449-4E15-8C9D-2A7DD586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93BD2-CDDF-4B62-8970-6295BA71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FD4D8-EA25-4276-B141-C4E44580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585E9-C58C-49EB-9D39-5344F9A2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82BB-8239-4913-BAF5-4A92DB71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A0DA3-EC89-473E-9984-D311EFED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ACFBE-54EF-4BE2-B627-9AB2B7EC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18ADB-AD25-46D7-BEA5-E4A5041D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CC171-D482-487F-A512-C0110097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A3724-A509-40E2-8891-B05008BC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70EBC-472A-4E7D-A1AF-A891C119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DF161-5387-42BD-94A1-93375612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3D4AE-78DB-4268-BA8E-78E6390B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07CF6-BA15-4EE4-B008-E2E7B827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06F8A-7118-441E-A8F6-3C2E0818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26DE-CD31-437C-A2D1-CC8A3372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A9A7C-DD44-419F-B71C-AF6FD30B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C488D-4029-4957-AED3-E7F31C77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A86BF-99A4-4C43-8A5B-F2F5D5BA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457E7-A318-4863-A46D-61A623D1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8AE1C-6D82-49AD-A8D2-450B32C4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F7917-32AE-4D85-A078-A1623C50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DEB60-736D-4B78-9208-ADE326D1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DD227-1E8B-45CE-BC9F-515F0274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A9449-50DB-4FF2-9D9A-850DD9FF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9608E-F7D5-46B3-88D8-11CCD61C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B2B-C2E2-47E7-8C40-2804241C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9365B-BFB9-4318-991B-58314F7F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DBCFC-4B38-45AE-ACDA-7F304617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3F986-EB59-4EB1-BF89-732F2599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7A800-B79D-4F44-8B3C-E0D9FA2C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88B07-0E43-4A07-BC9C-A6EA4EFC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BB5C8-F373-4168-A648-F6F3100D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82556-6B1D-47EF-A5F8-FD534090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AB3B1-34C4-4B8F-8725-85E3CC34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20107-7977-4A97-8612-643A8F56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760DA-A4CE-4DDB-A363-32E66B58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D5FC-E58E-4AC2-AF6C-0BF8B2E278E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53FC-B0A3-4B7F-BF95-A383E2AAADB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40B3-B0FC-4F24-B420-34E8B28561E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C786-219E-4FB8-9CB4-D7067301FB8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A5FE-10DB-429E-9604-A6748CCB778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5F68-9FAB-4FE2-8F24-F9942235EAD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D92A-5D90-489A-B78E-A0FD8C6D675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C0E8-A630-4009-AB7C-C30990A5ADE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02D5-2E9A-49EA-B037-3CF8EE3FDA4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../&#30446;&#24405;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5105520"/>
            <a:ext cx="1968480" cy="1320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6"/>
          <p:cNvSpPr/>
          <p:nvPr/>
        </p:nvSpPr>
        <p:spPr>
          <a:xfrm>
            <a:off x="762120" y="4038480"/>
            <a:ext cx="510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解：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(1)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红队比黄队低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00-150=50(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)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1295280" y="4525920"/>
            <a:ext cx="518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(2)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白队比蓝队高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100-(-350)=250(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)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295280" y="5059440"/>
            <a:ext cx="525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(3)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第一名超出第二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00-200=200(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)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39" name="Group 41"/>
          <p:cNvGrpSpPr/>
          <p:nvPr/>
        </p:nvGrpSpPr>
        <p:grpSpPr>
          <a:xfrm>
            <a:off x="304920" y="914400"/>
            <a:ext cx="8762760" cy="3052440"/>
            <a:chOff x="304920" y="914400"/>
            <a:chExt cx="8762760" cy="3052440"/>
          </a:xfrm>
        </p:grpSpPr>
        <p:sp>
          <p:nvSpPr>
            <p:cNvPr id="540" name="Text Box 4"/>
            <p:cNvSpPr/>
            <p:nvPr/>
          </p:nvSpPr>
          <p:spPr>
            <a:xfrm>
              <a:off x="304920" y="91440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将全班学生分成五个队进行游戏，每队的基本分为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答对一题加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，答错一题扣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，游戏结束后，各组的得分如表：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1" name="Text Box 5"/>
            <p:cNvSpPr/>
            <p:nvPr/>
          </p:nvSpPr>
          <p:spPr>
            <a:xfrm>
              <a:off x="533520" y="2409840"/>
              <a:ext cx="6476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1)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红队比黄队低多少分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2)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白队比蓝队高多少分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3)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一名超出第二名多少分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4)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一名超出第五名多少分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42" name="Group 40"/>
            <p:cNvGrpSpPr/>
            <p:nvPr/>
          </p:nvGrpSpPr>
          <p:grpSpPr>
            <a:xfrm>
              <a:off x="1447920" y="1757520"/>
              <a:ext cx="6095880" cy="680760"/>
              <a:chOff x="1447920" y="1757520"/>
              <a:chExt cx="6095880" cy="680760"/>
            </a:xfrm>
          </p:grpSpPr>
          <p:sp>
            <p:nvSpPr>
              <p:cNvPr id="543" name="Rectangle 10"/>
              <p:cNvSpPr/>
              <p:nvPr/>
            </p:nvSpPr>
            <p:spPr>
              <a:xfrm>
                <a:off x="6324480" y="2092320"/>
                <a:ext cx="12193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－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0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4" name="Rectangle 11"/>
              <p:cNvSpPr/>
              <p:nvPr/>
            </p:nvSpPr>
            <p:spPr>
              <a:xfrm>
                <a:off x="5105520" y="2092320"/>
                <a:ext cx="121896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00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5" name="Rectangle 12"/>
              <p:cNvSpPr/>
              <p:nvPr/>
            </p:nvSpPr>
            <p:spPr>
              <a:xfrm>
                <a:off x="3886200" y="2092320"/>
                <a:ext cx="12193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－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00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6" name="Rectangle 13"/>
              <p:cNvSpPr/>
              <p:nvPr/>
            </p:nvSpPr>
            <p:spPr>
              <a:xfrm>
                <a:off x="2666880" y="2092320"/>
                <a:ext cx="12193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00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7" name="Rectangle 14"/>
              <p:cNvSpPr/>
              <p:nvPr/>
            </p:nvSpPr>
            <p:spPr>
              <a:xfrm>
                <a:off x="1447920" y="2092320"/>
                <a:ext cx="121896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50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8" name="Rectangle 15"/>
              <p:cNvSpPr/>
              <p:nvPr/>
            </p:nvSpPr>
            <p:spPr>
              <a:xfrm>
                <a:off x="6324480" y="1757520"/>
                <a:ext cx="121932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白队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9" name="Rectangle 16"/>
              <p:cNvSpPr/>
              <p:nvPr/>
            </p:nvSpPr>
            <p:spPr>
              <a:xfrm>
                <a:off x="5105520" y="1757520"/>
                <a:ext cx="12189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绿队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0" name="Rectangle 17"/>
              <p:cNvSpPr/>
              <p:nvPr/>
            </p:nvSpPr>
            <p:spPr>
              <a:xfrm>
                <a:off x="3886200" y="1757520"/>
                <a:ext cx="121932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蓝队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1" name="Rectangle 18"/>
              <p:cNvSpPr/>
              <p:nvPr/>
            </p:nvSpPr>
            <p:spPr>
              <a:xfrm>
                <a:off x="2666880" y="1757520"/>
                <a:ext cx="121932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黄队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2" name="Rectangle 19"/>
              <p:cNvSpPr/>
              <p:nvPr/>
            </p:nvSpPr>
            <p:spPr>
              <a:xfrm>
                <a:off x="1447920" y="1757520"/>
                <a:ext cx="12189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红队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3" name="Line 20"/>
              <p:cNvSpPr/>
              <p:nvPr/>
            </p:nvSpPr>
            <p:spPr>
              <a:xfrm>
                <a:off x="1447920" y="1757520"/>
                <a:ext cx="60958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4" name="Line 21"/>
              <p:cNvSpPr/>
              <p:nvPr/>
            </p:nvSpPr>
            <p:spPr>
              <a:xfrm>
                <a:off x="1447920" y="20923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5" name="Line 22"/>
              <p:cNvSpPr/>
              <p:nvPr/>
            </p:nvSpPr>
            <p:spPr>
              <a:xfrm>
                <a:off x="1447920" y="2438280"/>
                <a:ext cx="60958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6" name="Line 23"/>
              <p:cNvSpPr/>
              <p:nvPr/>
            </p:nvSpPr>
            <p:spPr>
              <a:xfrm>
                <a:off x="1447920" y="1757520"/>
                <a:ext cx="0" cy="6807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7" name="Line 24"/>
              <p:cNvSpPr/>
              <p:nvPr/>
            </p:nvSpPr>
            <p:spPr>
              <a:xfrm>
                <a:off x="2666880" y="1757520"/>
                <a:ext cx="0" cy="68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8" name="Line 25"/>
              <p:cNvSpPr/>
              <p:nvPr/>
            </p:nvSpPr>
            <p:spPr>
              <a:xfrm>
                <a:off x="3886200" y="1757520"/>
                <a:ext cx="0" cy="68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9" name="Line 26"/>
              <p:cNvSpPr/>
              <p:nvPr/>
            </p:nvSpPr>
            <p:spPr>
              <a:xfrm>
                <a:off x="5105520" y="1757520"/>
                <a:ext cx="0" cy="68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0" name="Line 27"/>
              <p:cNvSpPr/>
              <p:nvPr/>
            </p:nvSpPr>
            <p:spPr>
              <a:xfrm>
                <a:off x="6324480" y="1757520"/>
                <a:ext cx="0" cy="68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1" name="Line 28"/>
              <p:cNvSpPr/>
              <p:nvPr/>
            </p:nvSpPr>
            <p:spPr>
              <a:xfrm>
                <a:off x="7543800" y="1757520"/>
                <a:ext cx="0" cy="6807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562" name="Rectangle 29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3" name="Rectangle 30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4" name="Rectangle 31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5" name="Rectangle 32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6" name="Rectangle 33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7" name="Rectangle 34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8" name="Rectangle 35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9" name="Rectangle 36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0" name="Text Box 37"/>
          <p:cNvSpPr/>
          <p:nvPr/>
        </p:nvSpPr>
        <p:spPr>
          <a:xfrm>
            <a:off x="1295280" y="5516640"/>
            <a:ext cx="563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(4)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第一名超出第五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00-(-350)=750(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)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71" name="Picture 42" descr="对应练习副本"/>
          <p:cNvPicPr/>
          <p:nvPr/>
        </p:nvPicPr>
        <p:blipFill>
          <a:blip r:embed="rId1"/>
          <a:stretch/>
        </p:blipFill>
        <p:spPr>
          <a:xfrm>
            <a:off x="152280" y="152280"/>
            <a:ext cx="2473560" cy="83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5" descr="课堂小结"/>
          <p:cNvPicPr/>
          <p:nvPr/>
        </p:nvPicPr>
        <p:blipFill>
          <a:blip r:embed="rId1"/>
          <a:stretch/>
        </p:blipFill>
        <p:spPr>
          <a:xfrm>
            <a:off x="685800" y="1066680"/>
            <a:ext cx="2286000" cy="63504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6"/>
          <p:cNvSpPr/>
          <p:nvPr/>
        </p:nvSpPr>
        <p:spPr>
          <a:xfrm>
            <a:off x="2931480" y="2741760"/>
            <a:ext cx="312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理数的减法法则及运算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理数减法的应用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4" name="AutoShape 7"/>
          <p:cNvSpPr/>
          <p:nvPr/>
        </p:nvSpPr>
        <p:spPr>
          <a:xfrm>
            <a:off x="1828800" y="2971800"/>
            <a:ext cx="290520" cy="990720"/>
          </a:xfrm>
          <a:custGeom>
            <a:avLst/>
            <a:gdLst>
              <a:gd name="textAreaLeft" fmla="*/ 185760 w 290520"/>
              <a:gd name="textAreaRight" fmla="*/ 290880 w 2905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7" name="Rectangle 10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8" name="Rectangle 11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0" name="Rectangle 13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2" name="Rectangle 15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7"/>
          <p:cNvGrpSpPr/>
          <p:nvPr/>
        </p:nvGrpSpPr>
        <p:grpSpPr>
          <a:xfrm>
            <a:off x="1184400" y="1676520"/>
            <a:ext cx="6653160" cy="1514520"/>
            <a:chOff x="1184400" y="1676520"/>
            <a:chExt cx="6653160" cy="1514520"/>
          </a:xfrm>
        </p:grpSpPr>
        <p:grpSp>
          <p:nvGrpSpPr>
            <p:cNvPr id="401" name="Group 3"/>
            <p:cNvGrpSpPr/>
            <p:nvPr/>
          </p:nvGrpSpPr>
          <p:grpSpPr>
            <a:xfrm>
              <a:off x="1184400" y="1676520"/>
              <a:ext cx="6653160" cy="1514520"/>
              <a:chOff x="1184400" y="1676520"/>
              <a:chExt cx="6653160" cy="1514520"/>
            </a:xfrm>
          </p:grpSpPr>
          <p:sp>
            <p:nvSpPr>
              <p:cNvPr id="402" name="AutoShape 4"/>
              <p:cNvSpPr/>
              <p:nvPr/>
            </p:nvSpPr>
            <p:spPr>
              <a:xfrm>
                <a:off x="1184400" y="2046600"/>
                <a:ext cx="6653160" cy="114444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5644e"/>
                  </a:gs>
                  <a:gs pos="100000">
                    <a:srgbClr val="734636"/>
                  </a:gs>
                </a:gsLst>
                <a:lin ang="5400000"/>
              </a:gradFill>
              <a:ln w="25560">
                <a:solidFill>
                  <a:srgbClr val="fefefe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03" name="AutoShape 5"/>
              <p:cNvSpPr/>
              <p:nvPr/>
            </p:nvSpPr>
            <p:spPr>
              <a:xfrm flipV="1">
                <a:off x="1262160" y="1676160"/>
                <a:ext cx="6502680" cy="363600"/>
              </a:xfrm>
              <a:custGeom>
                <a:avLst/>
                <a:gdLst>
                  <a:gd name="textAreaLeft" fmla="*/ 1116000 w 6502680"/>
                  <a:gd name="textAreaRight" fmla="*/ 5386680 w 6502680"/>
                  <a:gd name="textAreaTop" fmla="*/ 61920 h 363600"/>
                  <a:gd name="textAreaBottom" fmla="*/ 301680 h 36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13" y="21600"/>
                    </a:lnTo>
                    <a:lnTo>
                      <a:pt x="17787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644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pic>
            <p:nvPicPr>
              <p:cNvPr id="404" name="Picture 6" descr="Picture4"/>
              <p:cNvPicPr/>
              <p:nvPr/>
            </p:nvPicPr>
            <p:blipFill>
              <a:blip r:embed="rId1"/>
              <a:stretch/>
            </p:blipFill>
            <p:spPr>
              <a:xfrm>
                <a:off x="1241640" y="2089440"/>
                <a:ext cx="67464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AutoShape 7"/>
              <p:cNvSpPr/>
              <p:nvPr/>
            </p:nvSpPr>
            <p:spPr>
              <a:xfrm>
                <a:off x="1671840" y="1819440"/>
                <a:ext cx="57913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feffff"/>
              </a:solidFill>
              <a:ln w="28440">
                <a:solidFill>
                  <a:srgbClr val="a564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06" name="Rectangle 8"/>
              <p:cNvSpPr/>
              <p:nvPr/>
            </p:nvSpPr>
            <p:spPr>
              <a:xfrm>
                <a:off x="2052720" y="1819440"/>
                <a:ext cx="50292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a5644e"/>
                    </a:solidFill>
                    <a:latin typeface="Arial"/>
                  </a:rPr>
                  <a:t>知识与技能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07" name="Text Box 9"/>
            <p:cNvSpPr/>
            <p:nvPr/>
          </p:nvSpPr>
          <p:spPr>
            <a:xfrm>
              <a:off x="1595520" y="2395440"/>
              <a:ext cx="601956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掌握有理数的减法法则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能运用有理数的减法法则进行运算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8" name="Group 10"/>
          <p:cNvGrpSpPr/>
          <p:nvPr/>
        </p:nvGrpSpPr>
        <p:grpSpPr>
          <a:xfrm>
            <a:off x="1187280" y="3266640"/>
            <a:ext cx="6742080" cy="1389240"/>
            <a:chOff x="1187280" y="3266640"/>
            <a:chExt cx="6742080" cy="1389240"/>
          </a:xfrm>
        </p:grpSpPr>
        <p:grpSp>
          <p:nvGrpSpPr>
            <p:cNvPr id="409" name="Group 11"/>
            <p:cNvGrpSpPr/>
            <p:nvPr/>
          </p:nvGrpSpPr>
          <p:grpSpPr>
            <a:xfrm>
              <a:off x="1187280" y="3266640"/>
              <a:ext cx="6653160" cy="1389240"/>
              <a:chOff x="1187280" y="3266640"/>
              <a:chExt cx="6653160" cy="1389240"/>
            </a:xfrm>
          </p:grpSpPr>
          <p:sp>
            <p:nvSpPr>
              <p:cNvPr id="410" name="AutoShape 12"/>
              <p:cNvSpPr/>
              <p:nvPr/>
            </p:nvSpPr>
            <p:spPr>
              <a:xfrm>
                <a:off x="1187280" y="3636720"/>
                <a:ext cx="6653160" cy="10191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c42f"/>
                  </a:gs>
                  <a:gs pos="100000">
                    <a:srgbClr val="b28921"/>
                  </a:gs>
                </a:gsLst>
                <a:lin ang="5400000"/>
              </a:gradFill>
              <a:ln w="25560">
                <a:solidFill>
                  <a:srgbClr val="fefefe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1" name="AutoShape 13"/>
              <p:cNvSpPr/>
              <p:nvPr/>
            </p:nvSpPr>
            <p:spPr>
              <a:xfrm flipV="1">
                <a:off x="1358640" y="3265920"/>
                <a:ext cx="6397920" cy="361800"/>
              </a:xfrm>
              <a:custGeom>
                <a:avLst/>
                <a:gdLst>
                  <a:gd name="textAreaLeft" fmla="*/ 1098360 w 6397920"/>
                  <a:gd name="textAreaRight" fmla="*/ 5299560 w 6397920"/>
                  <a:gd name="textAreaTop" fmla="*/ 61920 h 361800"/>
                  <a:gd name="textAreaBottom" fmla="*/ 299880 h 36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13" y="21600"/>
                    </a:lnTo>
                    <a:lnTo>
                      <a:pt x="17787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42f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pic>
            <p:nvPicPr>
              <p:cNvPr id="412" name="Picture 14" descr="Picture4"/>
              <p:cNvPicPr/>
              <p:nvPr/>
            </p:nvPicPr>
            <p:blipFill>
              <a:blip r:embed="rId2"/>
              <a:stretch/>
            </p:blipFill>
            <p:spPr>
              <a:xfrm>
                <a:off x="1238040" y="3682800"/>
                <a:ext cx="676440" cy="57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AutoShape 15"/>
              <p:cNvSpPr/>
              <p:nvPr/>
            </p:nvSpPr>
            <p:spPr>
              <a:xfrm>
                <a:off x="1671480" y="3429000"/>
                <a:ext cx="57913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feffff"/>
              </a:solidFill>
              <a:ln w="28440">
                <a:solidFill>
                  <a:srgbClr val="ffc4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4" name="Rectangle 16"/>
              <p:cNvSpPr/>
              <p:nvPr/>
            </p:nvSpPr>
            <p:spPr>
              <a:xfrm>
                <a:off x="2052360" y="3438360"/>
                <a:ext cx="50292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c42f"/>
                    </a:solidFill>
                    <a:latin typeface="Arial"/>
                  </a:rPr>
                  <a:t>过程与方法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17"/>
            <p:cNvSpPr/>
            <p:nvPr/>
          </p:nvSpPr>
          <p:spPr>
            <a:xfrm>
              <a:off x="1371600" y="3886200"/>
              <a:ext cx="655776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通过对有理数减法法则的探究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体验数学的转化思想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通过对有理数减法法则的探讨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培养学生的创新思维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16" name="Group 28"/>
          <p:cNvGrpSpPr/>
          <p:nvPr/>
        </p:nvGrpSpPr>
        <p:grpSpPr>
          <a:xfrm>
            <a:off x="1195560" y="4787640"/>
            <a:ext cx="6653160" cy="1396800"/>
            <a:chOff x="1195560" y="4787640"/>
            <a:chExt cx="6653160" cy="1396800"/>
          </a:xfrm>
        </p:grpSpPr>
        <p:grpSp>
          <p:nvGrpSpPr>
            <p:cNvPr id="417" name="Group 19"/>
            <p:cNvGrpSpPr/>
            <p:nvPr/>
          </p:nvGrpSpPr>
          <p:grpSpPr>
            <a:xfrm>
              <a:off x="1195560" y="4787640"/>
              <a:ext cx="6653160" cy="1396800"/>
              <a:chOff x="1195560" y="4787640"/>
              <a:chExt cx="6653160" cy="1396800"/>
            </a:xfrm>
          </p:grpSpPr>
          <p:sp>
            <p:nvSpPr>
              <p:cNvPr id="418" name="AutoShape 20"/>
              <p:cNvSpPr/>
              <p:nvPr/>
            </p:nvSpPr>
            <p:spPr>
              <a:xfrm>
                <a:off x="1195560" y="5153040"/>
                <a:ext cx="6653160" cy="10314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d1f1f"/>
                  </a:gs>
                  <a:gs pos="100000">
                    <a:srgbClr val="791616"/>
                  </a:gs>
                </a:gsLst>
                <a:lin ang="5400000"/>
              </a:gradFill>
              <a:ln w="25560">
                <a:solidFill>
                  <a:srgbClr val="fefefe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9" name="AutoShape 21"/>
              <p:cNvSpPr/>
              <p:nvPr/>
            </p:nvSpPr>
            <p:spPr>
              <a:xfrm flipV="1">
                <a:off x="1314720" y="4786920"/>
                <a:ext cx="6475320" cy="363240"/>
              </a:xfrm>
              <a:custGeom>
                <a:avLst/>
                <a:gdLst>
                  <a:gd name="textAreaLeft" fmla="*/ 1111320 w 6475320"/>
                  <a:gd name="textAreaRight" fmla="*/ 5364000 w 6475320"/>
                  <a:gd name="textAreaTop" fmla="*/ 61920 h 363240"/>
                  <a:gd name="textAreaBottom" fmla="*/ 301320 h 363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13" y="21600"/>
                    </a:lnTo>
                    <a:lnTo>
                      <a:pt x="17787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1f1f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pic>
            <p:nvPicPr>
              <p:cNvPr id="420" name="Picture 22" descr="Picture4"/>
              <p:cNvPicPr/>
              <p:nvPr/>
            </p:nvPicPr>
            <p:blipFill>
              <a:blip r:embed="rId3"/>
              <a:stretch/>
            </p:blipFill>
            <p:spPr>
              <a:xfrm>
                <a:off x="1243080" y="5194080"/>
                <a:ext cx="675000" cy="57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AutoShape 23"/>
              <p:cNvSpPr/>
              <p:nvPr/>
            </p:nvSpPr>
            <p:spPr>
              <a:xfrm>
                <a:off x="1671840" y="4930560"/>
                <a:ext cx="579132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effff"/>
              </a:solidFill>
              <a:ln w="28440">
                <a:solidFill>
                  <a:srgbClr val="ad1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22" name="Rectangle 24"/>
              <p:cNvSpPr/>
              <p:nvPr/>
            </p:nvSpPr>
            <p:spPr>
              <a:xfrm>
                <a:off x="2052720" y="4941720"/>
                <a:ext cx="50292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ad1f1f"/>
                    </a:solidFill>
                    <a:latin typeface="Arial"/>
                  </a:rPr>
                  <a:t>情感态度与价值观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23" name="Text Box 25"/>
            <p:cNvSpPr/>
            <p:nvPr/>
          </p:nvSpPr>
          <p:spPr>
            <a:xfrm>
              <a:off x="1295280" y="5410080"/>
              <a:ext cx="65534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通过师生互动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问题探讨等形式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激发学生的学习兴趣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培养学生学习数学的热情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424" name="Picture 26" descr="教学目标1"/>
          <p:cNvPicPr/>
          <p:nvPr/>
        </p:nvPicPr>
        <p:blipFill>
          <a:blip r:embed="rId4"/>
          <a:stretch/>
        </p:blipFill>
        <p:spPr>
          <a:xfrm>
            <a:off x="1143000" y="990720"/>
            <a:ext cx="1905120" cy="63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1889640" y="2558880"/>
            <a:ext cx="2071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理数的减法法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26" name="Picture 3" descr="教学重点"/>
          <p:cNvPicPr/>
          <p:nvPr/>
        </p:nvPicPr>
        <p:blipFill>
          <a:blip r:embed="rId1"/>
          <a:stretch/>
        </p:blipFill>
        <p:spPr>
          <a:xfrm>
            <a:off x="1219320" y="1574640"/>
            <a:ext cx="1904760" cy="6350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教学难点"/>
          <p:cNvPicPr/>
          <p:nvPr/>
        </p:nvPicPr>
        <p:blipFill>
          <a:blip r:embed="rId2"/>
          <a:stretch/>
        </p:blipFill>
        <p:spPr>
          <a:xfrm>
            <a:off x="1219320" y="3556080"/>
            <a:ext cx="1904760" cy="63504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5"/>
          <p:cNvSpPr/>
          <p:nvPr/>
        </p:nvSpPr>
        <p:spPr>
          <a:xfrm>
            <a:off x="2161440" y="4540320"/>
            <a:ext cx="292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对有理数的减法法则的探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导入新课"/>
          <p:cNvPicPr/>
          <p:nvPr/>
        </p:nvPicPr>
        <p:blipFill>
          <a:blip r:embed="rId1"/>
          <a:stretch/>
        </p:blipFill>
        <p:spPr>
          <a:xfrm>
            <a:off x="581040" y="878040"/>
            <a:ext cx="3276720" cy="61740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5"/>
          <p:cNvSpPr/>
          <p:nvPr/>
        </p:nvSpPr>
        <p:spPr>
          <a:xfrm>
            <a:off x="790200" y="1589040"/>
            <a:ext cx="621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出示温度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提出问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从温度计上看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高多少度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列式求这个结果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31" name="Picture 6" descr="11"/>
          <p:cNvPicPr/>
          <p:nvPr/>
        </p:nvPicPr>
        <p:blipFill>
          <a:blip r:embed="rId2"/>
          <a:srcRect l="0" t="2030" r="0" b="0"/>
          <a:stretch/>
        </p:blipFill>
        <p:spPr>
          <a:xfrm>
            <a:off x="7924680" y="1219320"/>
            <a:ext cx="1154160" cy="27432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7"/>
          <p:cNvSpPr/>
          <p:nvPr/>
        </p:nvSpPr>
        <p:spPr>
          <a:xfrm>
            <a:off x="533520" y="4724280"/>
            <a:ext cx="83595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请同学们自学教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P22-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并完成自学导练，相信大家感悟快！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要点感知一"/>
          <p:cNvPicPr/>
          <p:nvPr/>
        </p:nvPicPr>
        <p:blipFill>
          <a:blip r:embed="rId1"/>
          <a:stretch/>
        </p:blipFill>
        <p:spPr>
          <a:xfrm>
            <a:off x="609480" y="914400"/>
            <a:ext cx="2286000" cy="635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要点感知二"/>
          <p:cNvPicPr/>
          <p:nvPr/>
        </p:nvPicPr>
        <p:blipFill>
          <a:blip r:embed="rId2"/>
          <a:stretch/>
        </p:blipFill>
        <p:spPr>
          <a:xfrm>
            <a:off x="609480" y="2362320"/>
            <a:ext cx="2286000" cy="6350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"/>
          <p:cNvSpPr/>
          <p:nvPr/>
        </p:nvSpPr>
        <p:spPr>
          <a:xfrm>
            <a:off x="457200" y="29113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理数的减法运算的步骤：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根据有理数的减法法则，把减号变为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加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把减数变为它的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相反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再利用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加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法则运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457200" y="1511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理数的减法法则：减去一个数，等于加上这个数的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相反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=a+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（－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b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3108960" y="465768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380880" y="45684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下列运算正确的是（   ）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A.(+3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(+5)=(+5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(+3)=+2           B.(+3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)=(+3)+(+5)=+8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C.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)=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)+(+5)=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      D.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(+5)=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)+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)=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9" name="Rectangle 39"/>
          <p:cNvSpPr/>
          <p:nvPr/>
        </p:nvSpPr>
        <p:spPr>
          <a:xfrm>
            <a:off x="380880" y="592344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在横线上填上适当的数，使等式成立：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）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8+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=40;                (2)12+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0.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0" name="Text Box 49"/>
          <p:cNvSpPr/>
          <p:nvPr/>
        </p:nvSpPr>
        <p:spPr>
          <a:xfrm>
            <a:off x="1947960" y="618660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8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1" name="Text Box 50"/>
          <p:cNvSpPr/>
          <p:nvPr/>
        </p:nvSpPr>
        <p:spPr>
          <a:xfrm>
            <a:off x="5362560" y="616752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42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42" name="Picture 51" descr="练习"/>
          <p:cNvPicPr/>
          <p:nvPr/>
        </p:nvPicPr>
        <p:blipFill>
          <a:blip r:embed="rId3"/>
          <a:stretch/>
        </p:blipFill>
        <p:spPr>
          <a:xfrm>
            <a:off x="609480" y="4216320"/>
            <a:ext cx="1231920" cy="507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典例剖析"/>
          <p:cNvPicPr/>
          <p:nvPr/>
        </p:nvPicPr>
        <p:blipFill>
          <a:blip r:embed="rId1"/>
          <a:stretch/>
        </p:blipFill>
        <p:spPr>
          <a:xfrm>
            <a:off x="838080" y="533520"/>
            <a:ext cx="1905120" cy="6350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知识点一"/>
          <p:cNvPicPr/>
          <p:nvPr/>
        </p:nvPicPr>
        <p:blipFill>
          <a:blip r:embed="rId2"/>
          <a:stretch/>
        </p:blipFill>
        <p:spPr>
          <a:xfrm>
            <a:off x="685800" y="1066680"/>
            <a:ext cx="1905120" cy="6350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4"/>
          <p:cNvSpPr/>
          <p:nvPr/>
        </p:nvSpPr>
        <p:spPr>
          <a:xfrm>
            <a:off x="3110400" y="1143000"/>
            <a:ext cx="2192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有理数的减法法则及运算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222120" y="1719360"/>
            <a:ext cx="9144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例题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1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1295640" y="1690560"/>
            <a:ext cx="72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609840" y="2209680"/>
            <a:ext cx="72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解析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457200" y="5573880"/>
            <a:ext cx="843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将有理数减法转化为加法时，要同时改变两个符号：一个是运算符号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另一个是减数的性质符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0" name="Text Box 40"/>
          <p:cNvSpPr/>
          <p:nvPr/>
        </p:nvSpPr>
        <p:spPr>
          <a:xfrm>
            <a:off x="637200" y="5562720"/>
            <a:ext cx="704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点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8"/>
              <p:cNvSpPr txBox="1"/>
              <p:nvPr/>
            </p:nvSpPr>
            <p:spPr>
              <a:xfrm>
                <a:off x="1905120" y="1803240"/>
                <a:ext cx="11192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06"/>
              <p:cNvSpPr txBox="1"/>
              <p:nvPr/>
            </p:nvSpPr>
            <p:spPr>
              <a:xfrm>
                <a:off x="4419720" y="1600200"/>
                <a:ext cx="13366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07"/>
              <p:cNvSpPr txBox="1"/>
              <p:nvPr/>
            </p:nvSpPr>
            <p:spPr>
              <a:xfrm>
                <a:off x="6858000" y="1752480"/>
                <a:ext cx="16812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08"/>
              <p:cNvSpPr txBox="1"/>
              <p:nvPr/>
            </p:nvSpPr>
            <p:spPr>
              <a:xfrm>
                <a:off x="1066680" y="3200400"/>
                <a:ext cx="1487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35"/>
              <p:cNvSpPr txBox="1"/>
              <p:nvPr/>
            </p:nvSpPr>
            <p:spPr>
              <a:xfrm>
                <a:off x="4419720" y="3505320"/>
                <a:ext cx="13572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" name="Text Box 144"/>
          <p:cNvSpPr/>
          <p:nvPr/>
        </p:nvSpPr>
        <p:spPr>
          <a:xfrm>
            <a:off x="1176480" y="220968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21+(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6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7" name="Text Box 145"/>
          <p:cNvSpPr/>
          <p:nvPr/>
        </p:nvSpPr>
        <p:spPr>
          <a:xfrm>
            <a:off x="1814400" y="2590920"/>
            <a:ext cx="21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5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147"/>
              <p:cNvSpPr txBox="1"/>
              <p:nvPr/>
            </p:nvSpPr>
            <p:spPr>
              <a:xfrm>
                <a:off x="4508640" y="2257560"/>
                <a:ext cx="1400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原式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148"/>
              <p:cNvSpPr txBox="1"/>
              <p:nvPr/>
            </p:nvSpPr>
            <p:spPr>
              <a:xfrm>
                <a:off x="4800600" y="2838600"/>
                <a:ext cx="452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0" name="Text Box 151"/>
          <p:cNvSpPr/>
          <p:nvPr/>
        </p:nvSpPr>
        <p:spPr>
          <a:xfrm>
            <a:off x="6705720" y="2133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(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)+10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1" name="Text Box 152"/>
          <p:cNvSpPr/>
          <p:nvPr/>
        </p:nvSpPr>
        <p:spPr>
          <a:xfrm>
            <a:off x="730404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10-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2" name="Text Box 153"/>
          <p:cNvSpPr/>
          <p:nvPr/>
        </p:nvSpPr>
        <p:spPr>
          <a:xfrm>
            <a:off x="730404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8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155"/>
              <p:cNvSpPr txBox="1"/>
              <p:nvPr/>
            </p:nvSpPr>
            <p:spPr>
              <a:xfrm>
                <a:off x="1103400" y="3819600"/>
                <a:ext cx="2198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原式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56"/>
              <p:cNvSpPr txBox="1"/>
              <p:nvPr/>
            </p:nvSpPr>
            <p:spPr>
              <a:xfrm>
                <a:off x="1395360" y="4362480"/>
                <a:ext cx="1271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57"/>
              <p:cNvSpPr txBox="1"/>
              <p:nvPr/>
            </p:nvSpPr>
            <p:spPr>
              <a:xfrm>
                <a:off x="1400040" y="4971960"/>
                <a:ext cx="7336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6" name="Text Box 159"/>
          <p:cNvSpPr/>
          <p:nvPr/>
        </p:nvSpPr>
        <p:spPr>
          <a:xfrm>
            <a:off x="411480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0+6.3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7" name="Text Box 160"/>
          <p:cNvSpPr/>
          <p:nvPr/>
        </p:nvSpPr>
        <p:spPr>
          <a:xfrm>
            <a:off x="4724280" y="43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6.3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8" name="Rectangle 161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9" name="Rectangle 162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0" name="Rectangle 163">
            <a:hlinkClick r:id="rId3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Rectangle 164">
            <a:hlinkClick r:id="rId4" action="ppaction://hlinksldjump"/>
          </p:cNvPr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2" name="Rectangle 165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3" name="Rectangle 166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4" name="Rectangle 167">
            <a:hlinkClick r:id="rId5" action="ppaction://hlinksldjump"/>
          </p:cNvPr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Rectangle 168">
            <a:hlinkClick r:id="rId6" action="ppaction://hlinksldjump"/>
          </p:cNvPr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151"/>
          <p:cNvGrpSpPr/>
          <p:nvPr/>
        </p:nvGrpSpPr>
        <p:grpSpPr>
          <a:xfrm>
            <a:off x="533520" y="2438280"/>
            <a:ext cx="8610480" cy="2775240"/>
            <a:chOff x="533520" y="2438280"/>
            <a:chExt cx="8610480" cy="2775240"/>
          </a:xfrm>
        </p:grpSpPr>
        <p:sp>
          <p:nvSpPr>
            <p:cNvPr id="477" name="Text Box 148"/>
            <p:cNvSpPr/>
            <p:nvPr/>
          </p:nvSpPr>
          <p:spPr>
            <a:xfrm>
              <a:off x="533520" y="2438280"/>
              <a:ext cx="861048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.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计算：</a:t>
              </a: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1)(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)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+7);                                   (2)   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 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); </a:t>
              </a: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3)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.4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.7);                              (4)(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9)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1);</a:t>
              </a: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5)(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)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+50)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);                    (6)23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7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)+(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6).</a:t>
              </a: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Object 149"/>
                <p:cNvSpPr txBox="1"/>
                <p:nvPr/>
              </p:nvSpPr>
              <p:spPr>
                <a:xfrm>
                  <a:off x="5587920" y="2662200"/>
                  <a:ext cx="231840" cy="65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9" name="Object 150"/>
                <p:cNvSpPr txBox="1"/>
                <p:nvPr/>
              </p:nvSpPr>
              <p:spPr>
                <a:xfrm>
                  <a:off x="6386400" y="2662200"/>
                  <a:ext cx="254160" cy="65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0" name="Text Box 13"/>
          <p:cNvSpPr/>
          <p:nvPr/>
        </p:nvSpPr>
        <p:spPr>
          <a:xfrm>
            <a:off x="3614760" y="1309680"/>
            <a:ext cx="714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1" name="Text Box 2"/>
          <p:cNvSpPr/>
          <p:nvPr/>
        </p:nvSpPr>
        <p:spPr>
          <a:xfrm>
            <a:off x="533520" y="137160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算式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不能读作（   ）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与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差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与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和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与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差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减去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2" name="Text Box 68"/>
          <p:cNvSpPr/>
          <p:nvPr/>
        </p:nvSpPr>
        <p:spPr>
          <a:xfrm>
            <a:off x="2819520" y="2071800"/>
            <a:ext cx="533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3" name="Text Box 146"/>
          <p:cNvSpPr/>
          <p:nvPr/>
        </p:nvSpPr>
        <p:spPr>
          <a:xfrm>
            <a:off x="533520" y="214776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. 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)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;           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)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4" name="Text Box 147"/>
          <p:cNvSpPr/>
          <p:nvPr/>
        </p:nvSpPr>
        <p:spPr>
          <a:xfrm>
            <a:off x="5952960" y="2071800"/>
            <a:ext cx="533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5" name="Text Box 152"/>
          <p:cNvSpPr/>
          <p:nvPr/>
        </p:nvSpPr>
        <p:spPr>
          <a:xfrm>
            <a:off x="790560" y="32576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-3-7=-10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6" name="Text Box 153"/>
          <p:cNvSpPr/>
          <p:nvPr/>
        </p:nvSpPr>
        <p:spPr>
          <a:xfrm>
            <a:off x="728640" y="4327560"/>
            <a:ext cx="32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-3.4+4.7=1.3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Text Box 154"/>
          <p:cNvSpPr/>
          <p:nvPr/>
        </p:nvSpPr>
        <p:spPr>
          <a:xfrm>
            <a:off x="5257800" y="4343400"/>
            <a:ext cx="31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-5.9+5.1=-0.8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Text Box 155"/>
          <p:cNvSpPr/>
          <p:nvPr/>
        </p:nvSpPr>
        <p:spPr>
          <a:xfrm>
            <a:off x="762120" y="5410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-20-50+5=-65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9" name="Text Box 156"/>
          <p:cNvSpPr/>
          <p:nvPr/>
        </p:nvSpPr>
        <p:spPr>
          <a:xfrm>
            <a:off x="5257800" y="53960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23-17+7-16=-3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157"/>
              <p:cNvSpPr txBox="1"/>
              <p:nvPr/>
            </p:nvSpPr>
            <p:spPr>
              <a:xfrm>
                <a:off x="5334120" y="3200400"/>
                <a:ext cx="19033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原式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1" name="Rectangle 158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2" name="Rectangle 159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3" name="Rectangle 160">
            <a:hlinkClick r:id="rId1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4" name="Rectangle 161">
            <a:hlinkClick r:id="rId2" action="ppaction://hlinksldjump"/>
          </p:cNvPr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5" name="Rectangle 162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6" name="Rectangle 163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7" name="Rectangle 164">
            <a:hlinkClick r:id="rId3" action="ppaction://hlinksldjump"/>
          </p:cNvPr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Rectangle 165">
            <a:hlinkClick r:id="rId4" action="ppaction://hlinksldjump"/>
          </p:cNvPr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99" name="Picture 166" descr="对应练习副本"/>
          <p:cNvPicPr/>
          <p:nvPr/>
        </p:nvPicPr>
        <p:blipFill>
          <a:blip r:embed="rId5"/>
          <a:stretch/>
        </p:blipFill>
        <p:spPr>
          <a:xfrm>
            <a:off x="422280" y="457200"/>
            <a:ext cx="2473200" cy="83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3400200" y="1495440"/>
            <a:ext cx="237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用有理数减法解决实际问题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01" name="Picture 3" descr="知识点二"/>
          <p:cNvPicPr/>
          <p:nvPr/>
        </p:nvPicPr>
        <p:blipFill>
          <a:blip r:embed="rId1"/>
          <a:stretch/>
        </p:blipFill>
        <p:spPr>
          <a:xfrm>
            <a:off x="914400" y="1447920"/>
            <a:ext cx="1905120" cy="63504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4"/>
          <p:cNvSpPr/>
          <p:nvPr/>
        </p:nvSpPr>
        <p:spPr>
          <a:xfrm>
            <a:off x="1219320" y="2085840"/>
            <a:ext cx="9144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例题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2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03" name="Picture 7" descr="典例剖析"/>
          <p:cNvPicPr/>
          <p:nvPr/>
        </p:nvPicPr>
        <p:blipFill>
          <a:blip r:embed="rId2"/>
          <a:stretch/>
        </p:blipFill>
        <p:spPr>
          <a:xfrm>
            <a:off x="1219320" y="838080"/>
            <a:ext cx="1904760" cy="63504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8"/>
          <p:cNvSpPr/>
          <p:nvPr/>
        </p:nvSpPr>
        <p:spPr>
          <a:xfrm>
            <a:off x="228600" y="3795840"/>
            <a:ext cx="1155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解析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609480" y="209232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全班学生分为五个组进行游戏，每组的基本分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分，答对一题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分，答错一题扣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分，游戏结束时，各组的分数如下：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Text Box 57"/>
          <p:cNvSpPr/>
          <p:nvPr/>
        </p:nvSpPr>
        <p:spPr>
          <a:xfrm>
            <a:off x="976320" y="3824280"/>
            <a:ext cx="82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由上表可以看出，第一名得了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5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，第二名得了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5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，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Text Box 71"/>
          <p:cNvSpPr/>
          <p:nvPr/>
        </p:nvSpPr>
        <p:spPr>
          <a:xfrm>
            <a:off x="976320" y="4176720"/>
            <a:ext cx="275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第五名得了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0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.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873080" y="2833560"/>
          <a:ext cx="5137200" cy="669960"/>
        </p:xfrm>
        <a:graphic>
          <a:graphicData uri="http://schemas.openxmlformats.org/drawingml/2006/table">
            <a:tbl>
              <a:tblPr/>
              <a:tblGrid>
                <a:gridCol w="1073160"/>
                <a:gridCol w="1016280"/>
                <a:gridCol w="1015920"/>
                <a:gridCol w="1015920"/>
                <a:gridCol w="1015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组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组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组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组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组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－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5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－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Text Box 126"/>
          <p:cNvSpPr/>
          <p:nvPr/>
        </p:nvSpPr>
        <p:spPr>
          <a:xfrm>
            <a:off x="990720" y="35053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名超出第二名多少分？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第一名超出第五名多少分？ 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0" name="Text Box 141"/>
          <p:cNvSpPr/>
          <p:nvPr/>
        </p:nvSpPr>
        <p:spPr>
          <a:xfrm>
            <a:off x="3657600" y="4176720"/>
            <a:ext cx="464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5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50=20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分）；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Text Box 142"/>
          <p:cNvSpPr/>
          <p:nvPr/>
        </p:nvSpPr>
        <p:spPr>
          <a:xfrm>
            <a:off x="990720" y="457200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5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－（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0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75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分）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.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Text Box 143"/>
          <p:cNvSpPr/>
          <p:nvPr/>
        </p:nvSpPr>
        <p:spPr>
          <a:xfrm>
            <a:off x="1052640" y="4910040"/>
            <a:ext cx="807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因此，第一名超出第二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0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，第一名超出第五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5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.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3" name="Text Box 144"/>
          <p:cNvSpPr/>
          <p:nvPr/>
        </p:nvSpPr>
        <p:spPr>
          <a:xfrm>
            <a:off x="152280" y="534528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在将实际问题转化为有理数减法运算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分清减数与被减数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受小学减法运算的影响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减数必须大于减数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名超出第二名的分数是用第一名的分数减去第二名的分数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它们大小没有关系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4" name="Text Box 145"/>
          <p:cNvSpPr/>
          <p:nvPr/>
        </p:nvSpPr>
        <p:spPr>
          <a:xfrm>
            <a:off x="332640" y="5334120"/>
            <a:ext cx="704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点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5" name="Rectangle 146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6" name="Rectangle 147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7" name="Rectangle 148">
            <a:hlinkClick r:id="rId3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8" name="Rectangle 149">
            <a:hlinkClick r:id="rId4" action="ppaction://hlinksldjump"/>
          </p:cNvPr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9" name="Rectangle 150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0" name="Rectangle 151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1" name="Rectangle 152">
            <a:hlinkClick r:id="rId5" action="ppaction://hlinksldjump"/>
          </p:cNvPr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2" name="Rectangle 153">
            <a:hlinkClick r:id="rId6" action="ppaction://hlinksldjump"/>
          </p:cNvPr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380880" y="19051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常人们将摄氏零上温度记为正数，零下温度记为负数，某市某天的最高气温是零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低气温是零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下列计算这天温差列式正确的是（   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－（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－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4" name="Text Box 50"/>
          <p:cNvSpPr/>
          <p:nvPr/>
        </p:nvSpPr>
        <p:spPr>
          <a:xfrm>
            <a:off x="3200400" y="2571840"/>
            <a:ext cx="533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5" name="Text Box 74"/>
          <p:cNvSpPr/>
          <p:nvPr/>
        </p:nvSpPr>
        <p:spPr>
          <a:xfrm>
            <a:off x="380880" y="42670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数是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6" name="Rectangle 83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7" name="Rectangle 84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Rectangle 85">
            <a:hlinkClick r:id="rId1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9" name="Rectangle 86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0" name="Rectangle 87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1" name="Rectangle 88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2" name="Rectangle 89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3" name="Rectangle 90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4" name="Text Box 114"/>
          <p:cNvSpPr/>
          <p:nvPr/>
        </p:nvSpPr>
        <p:spPr>
          <a:xfrm>
            <a:off x="3657600" y="4114800"/>
            <a:ext cx="533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35" name="Picture 121" descr="对应练习副本"/>
          <p:cNvPicPr/>
          <p:nvPr/>
        </p:nvPicPr>
        <p:blipFill>
          <a:blip r:embed="rId2"/>
          <a:stretch/>
        </p:blipFill>
        <p:spPr>
          <a:xfrm>
            <a:off x="422280" y="838080"/>
            <a:ext cx="2473200" cy="83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4-07-19T06:49:58Z</dcterms:modified>
  <cp:revision>1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