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type.wav" ContentType="audio/x-wav"/>
  <Override PartName="/ppt/media/%E6%8C%89%E9%92%AE.wav" ContentType="audio/x-wav"/>
  <Override PartName="/ppt/media/image12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13.gif" ContentType="image/gif"/>
  <Override PartName="/ppt/media/image9.png" ContentType="image/png"/>
  <Override PartName="/ppt/media/image6.jpeg" ContentType="image/jpeg"/>
  <Override PartName="/ppt/media/image10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CDF-EE43-4917-939E-F6FCAD88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149-3D81-420D-BC4B-8B01F31B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2AC-D35F-49CD-8FB2-FD475ED7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AE3-6C65-4E5B-BDE3-79E3D4FF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393EF-436C-47C1-89CE-4BA4E998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ABA8D-9FDF-437F-98FA-6276C823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263EF-D037-41C6-89EA-7C5EBD26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DBE0A-AA64-45D4-BA2B-10B84294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1E22D-42F2-4015-B842-A2CF86ED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4727A-F3AF-4D18-B87A-A2C1341F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3D8FE-2C44-42C7-9C38-A8BCC5F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86F-E48B-4EFE-B43A-FAFB4707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EE580-0707-4DC0-A3BA-0A3EC1D8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B3ED5-9837-45A3-87EA-5C823F14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7072B-A1E2-449A-ABBD-D923C35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75C26-B78C-4175-B008-8AEF5C3B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D11A6-F503-4ECE-853F-E8915D55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F59-1050-44A3-9D0F-DCD1BCDE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8814-350E-4E84-BE2E-84356F3D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15E7-4B80-4E14-A0CB-72C01F13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297A-745A-49AC-8410-BD15656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3CE-533E-47A2-BC7E-58613427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A23C-937B-494E-9319-3823EE39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3952-4214-4FDD-9B48-1FF2CB49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3E79-CAEF-49DA-B945-1A4546EA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34DF-1F51-478F-9487-774AC93F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519B-1DE3-46B5-A786-95C79D7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470F-09AE-4FA6-923A-E02B132D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4195-8686-4FAE-B9E2-EEE75DBF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9E86-30EF-4841-BCEC-0CE4DDBA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562A-E634-4933-A3B6-681932DE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2F2-279A-45A9-94E8-585C6221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1E6-55F7-450D-AB73-412826AD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DDD-ED01-49E6-AF5C-96B7B862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929-0EA2-47BC-9A4C-1D57762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A0F-6A35-4AB6-9BBE-28B8A5A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9A47-FEB9-42C5-BBBA-B9BAB3B5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ED8-8EF1-48E4-8D9E-355050B040B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3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3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3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3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4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4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4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4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4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E220-1DD5-4DF3-A1DB-4D88056B6B8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audio" Target="../media/&#25353;&#38062;.wav"/><Relationship Id="rId8" Type="http://schemas.openxmlformats.org/officeDocument/2006/relationships/audio" Target="../media/&#25353;&#38062;.wav"/><Relationship Id="rId9" Type="http://schemas.openxmlformats.org/officeDocument/2006/relationships/audio" Target="../media/&#25353;&#38062;.wav"/><Relationship Id="rId10" Type="http://schemas.openxmlformats.org/officeDocument/2006/relationships/audio" Target="../media/&#25353;&#38062;.wav"/><Relationship Id="rId11" Type="http://schemas.openxmlformats.org/officeDocument/2006/relationships/audio" Target="../media/&#25353;&#38062;.wav"/><Relationship Id="rId12" Type="http://schemas.openxmlformats.org/officeDocument/2006/relationships/audio" Target="../media/&#25353;&#38062;.wav"/><Relationship Id="rId13" Type="http://schemas.openxmlformats.org/officeDocument/2006/relationships/audio" Target="../media/&#25353;&#38062;.wav"/><Relationship Id="rId14" Type="http://schemas.openxmlformats.org/officeDocument/2006/relationships/audio" Target="../media/&#25353;&#38062;.wav"/><Relationship Id="rId15" Type="http://schemas.openxmlformats.org/officeDocument/2006/relationships/audio" Target="../media/&#25353;&#38062;.wav"/><Relationship Id="rId16" Type="http://schemas.openxmlformats.org/officeDocument/2006/relationships/audio" Target="../media/&#25353;&#38062;.wav"/><Relationship Id="rId17" Type="http://schemas.openxmlformats.org/officeDocument/2006/relationships/audio" Target="../media/&#25353;&#38062;.wav"/><Relationship Id="rId18" Type="http://schemas.openxmlformats.org/officeDocument/2006/relationships/audio" Target="../media/&#25353;&#38062;.wav"/><Relationship Id="rId19" Type="http://schemas.openxmlformats.org/officeDocument/2006/relationships/audio" Target="../media/&#25353;&#38062;.wav"/><Relationship Id="rId20" Type="http://schemas.openxmlformats.org/officeDocument/2006/relationships/audio" Target="../media/&#25353;&#38062;.wav"/><Relationship Id="rId21" Type="http://schemas.openxmlformats.org/officeDocument/2006/relationships/audio" Target="../media/&#25353;&#38062;.wav"/><Relationship Id="rId22" Type="http://schemas.openxmlformats.org/officeDocument/2006/relationships/audio" Target="../media/&#25353;&#38062;.wav"/><Relationship Id="rId23" Type="http://schemas.openxmlformats.org/officeDocument/2006/relationships/audio" Target="../media/&#25353;&#38062;.wav"/><Relationship Id="rId24" Type="http://schemas.openxmlformats.org/officeDocument/2006/relationships/audio" Target="../media/&#25353;&#38062;.wav"/><Relationship Id="rId25" Type="http://schemas.openxmlformats.org/officeDocument/2006/relationships/audio" Target="../media/&#25353;&#38062;.wav"/><Relationship Id="rId26" Type="http://schemas.openxmlformats.org/officeDocument/2006/relationships/audio" Target="../media/&#25353;&#38062;.wav"/><Relationship Id="rId27" Type="http://schemas.openxmlformats.org/officeDocument/2006/relationships/audio" Target="../media/&#25353;&#38062;.wav"/><Relationship Id="rId28" Type="http://schemas.openxmlformats.org/officeDocument/2006/relationships/audio" Target="../media/&#25353;&#38062;.wav"/><Relationship Id="rId29" Type="http://schemas.openxmlformats.org/officeDocument/2006/relationships/audio" Target="../media/&#25353;&#38062;.wav"/><Relationship Id="rId30" Type="http://schemas.openxmlformats.org/officeDocument/2006/relationships/audio" Target="../media/&#25353;&#38062;.wav"/><Relationship Id="rId31" Type="http://schemas.openxmlformats.org/officeDocument/2006/relationships/audio" Target="../media/&#25353;&#38062;.wav"/><Relationship Id="rId32" Type="http://schemas.openxmlformats.org/officeDocument/2006/relationships/audio" Target="../media/&#25353;&#38062;.wav"/><Relationship Id="rId3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6102;&#38047;.gsp" TargetMode="External"/><Relationship Id="rId3" Type="http://schemas.openxmlformats.org/officeDocument/2006/relationships/hyperlink" Target="file:///&#26102;&#38047;.gsp" TargetMode="External"/><Relationship Id="rId4" Type="http://schemas.openxmlformats.org/officeDocument/2006/relationships/hyperlink" Target="file:///&#26102;&#38047;.gsp" TargetMode="Externa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04920" y="2133720"/>
            <a:ext cx="829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</a:t>
            </a:r>
            <a:r>
              <a:rPr b="1" lang="en-US" sz="8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.3 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</a:t>
            </a: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endParaRPr b="1" lang="en-US" sz="8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029040" y="4067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宁河中学七年级备课组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判断下列哪些图形是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9"/>
          <p:cNvGrpSpPr/>
          <p:nvPr/>
        </p:nvGrpSpPr>
        <p:grpSpPr>
          <a:xfrm>
            <a:off x="868320" y="2565000"/>
            <a:ext cx="1763640" cy="1079640"/>
            <a:chOff x="868320" y="2565000"/>
            <a:chExt cx="1763640" cy="1079640"/>
          </a:xfrm>
        </p:grpSpPr>
        <p:sp>
          <p:nvSpPr>
            <p:cNvPr id="427" name="Line 7"/>
            <p:cNvSpPr/>
            <p:nvPr/>
          </p:nvSpPr>
          <p:spPr>
            <a:xfrm flipV="1">
              <a:off x="868320" y="2565000"/>
              <a:ext cx="1410480" cy="77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>
              <a:off x="868320" y="3336840"/>
              <a:ext cx="176364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429" name="Group 12"/>
          <p:cNvGrpSpPr/>
          <p:nvPr/>
        </p:nvGrpSpPr>
        <p:grpSpPr>
          <a:xfrm>
            <a:off x="2585880" y="2725200"/>
            <a:ext cx="2350800" cy="848160"/>
            <a:chOff x="2585880" y="2725200"/>
            <a:chExt cx="2350800" cy="848160"/>
          </a:xfrm>
        </p:grpSpPr>
        <p:sp>
          <p:nvSpPr>
            <p:cNvPr id="430" name="Line 10"/>
            <p:cNvSpPr/>
            <p:nvPr/>
          </p:nvSpPr>
          <p:spPr>
            <a:xfrm flipV="1">
              <a:off x="2585880" y="2725200"/>
              <a:ext cx="1780560" cy="59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3012840" y="3573360"/>
              <a:ext cx="192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432" name="Group 14"/>
          <p:cNvGrpSpPr/>
          <p:nvPr/>
        </p:nvGrpSpPr>
        <p:grpSpPr>
          <a:xfrm>
            <a:off x="5108040" y="2352960"/>
            <a:ext cx="1072800" cy="1811160"/>
            <a:chOff x="5108040" y="2352960"/>
            <a:chExt cx="1072800" cy="1811160"/>
          </a:xfrm>
        </p:grpSpPr>
        <p:sp>
          <p:nvSpPr>
            <p:cNvPr id="433" name="Line 15"/>
            <p:cNvSpPr/>
            <p:nvPr/>
          </p:nvSpPr>
          <p:spPr>
            <a:xfrm>
              <a:off x="5584680" y="2352960"/>
              <a:ext cx="596160" cy="15444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4" name="Line 16"/>
            <p:cNvSpPr/>
            <p:nvPr/>
          </p:nvSpPr>
          <p:spPr>
            <a:xfrm flipH="1">
              <a:off x="5108040" y="2352960"/>
              <a:ext cx="476280" cy="18111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435" name="Group 23"/>
          <p:cNvGrpSpPr/>
          <p:nvPr/>
        </p:nvGrpSpPr>
        <p:grpSpPr>
          <a:xfrm>
            <a:off x="7457400" y="2684520"/>
            <a:ext cx="820440" cy="1542600"/>
            <a:chOff x="7457400" y="2684520"/>
            <a:chExt cx="820440" cy="1542600"/>
          </a:xfrm>
        </p:grpSpPr>
        <p:sp>
          <p:nvSpPr>
            <p:cNvPr id="436" name="Line 21"/>
            <p:cNvSpPr/>
            <p:nvPr/>
          </p:nvSpPr>
          <p:spPr>
            <a:xfrm>
              <a:off x="7457400" y="2684520"/>
              <a:ext cx="6120" cy="1220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7" name="Line 22"/>
            <p:cNvSpPr/>
            <p:nvPr/>
          </p:nvSpPr>
          <p:spPr>
            <a:xfrm>
              <a:off x="7463520" y="3905280"/>
              <a:ext cx="814320" cy="3218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438" name="Text Box 24"/>
          <p:cNvSpPr/>
          <p:nvPr/>
        </p:nvSpPr>
        <p:spPr>
          <a:xfrm>
            <a:off x="1236600" y="4683240"/>
            <a:ext cx="13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√)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7603200" y="4611600"/>
            <a:ext cx="6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√)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5299920" y="4683240"/>
            <a:ext cx="6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√)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3189240" y="46832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1" lang="en-US" sz="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1906920" y="396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思考？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233080" y="148428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下列说法正确的是（  ）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2057760" y="2290680"/>
            <a:ext cx="5172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条射线组成的图形叫做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是一条线段绕着它的一个端点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旋转而成的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公共端点的两条线段组成的图形叫做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是一条射线绕着他的端点旋转而成的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5060880" y="146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5"/>
          <p:cNvSpPr/>
          <p:nvPr/>
        </p:nvSpPr>
        <p:spPr>
          <a:xfrm>
            <a:off x="875520" y="1857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隶书"/>
                <a:ea typeface="隶书"/>
              </a:rPr>
              <a:t>角的表示方法</a:t>
            </a:r>
            <a:endParaRPr b="1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448" name="Group 27"/>
          <p:cNvGrpSpPr/>
          <p:nvPr/>
        </p:nvGrpSpPr>
        <p:grpSpPr>
          <a:xfrm>
            <a:off x="217440" y="671400"/>
            <a:ext cx="2592360" cy="1942920"/>
            <a:chOff x="217440" y="671400"/>
            <a:chExt cx="2592360" cy="1942920"/>
          </a:xfrm>
        </p:grpSpPr>
        <p:grpSp>
          <p:nvGrpSpPr>
            <p:cNvPr id="449" name="Group 7"/>
            <p:cNvGrpSpPr/>
            <p:nvPr/>
          </p:nvGrpSpPr>
          <p:grpSpPr>
            <a:xfrm>
              <a:off x="504720" y="939600"/>
              <a:ext cx="2032200" cy="1314360"/>
              <a:chOff x="504720" y="939600"/>
              <a:chExt cx="2032200" cy="1314360"/>
            </a:xfrm>
          </p:grpSpPr>
          <p:sp>
            <p:nvSpPr>
              <p:cNvPr id="450" name="Line 8"/>
              <p:cNvSpPr/>
              <p:nvPr/>
            </p:nvSpPr>
            <p:spPr>
              <a:xfrm flipH="1">
                <a:off x="518760" y="939600"/>
                <a:ext cx="1524240" cy="13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51" name="Line 9"/>
              <p:cNvSpPr/>
              <p:nvPr/>
            </p:nvSpPr>
            <p:spPr>
              <a:xfrm>
                <a:off x="504720" y="2253960"/>
                <a:ext cx="203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10"/>
            <p:cNvSpPr/>
            <p:nvPr/>
          </p:nvSpPr>
          <p:spPr>
            <a:xfrm>
              <a:off x="217440" y="2020680"/>
              <a:ext cx="3398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53" name="Text Box 11"/>
            <p:cNvSpPr/>
            <p:nvPr/>
          </p:nvSpPr>
          <p:spPr>
            <a:xfrm>
              <a:off x="1657440" y="671400"/>
              <a:ext cx="3380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2471760" y="2205000"/>
              <a:ext cx="338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455" name="Group 32"/>
          <p:cNvGrpSpPr/>
          <p:nvPr/>
        </p:nvGrpSpPr>
        <p:grpSpPr>
          <a:xfrm>
            <a:off x="2870280" y="925560"/>
            <a:ext cx="2319120" cy="1490760"/>
            <a:chOff x="2870280" y="925560"/>
            <a:chExt cx="2319120" cy="1490760"/>
          </a:xfrm>
        </p:grpSpPr>
        <p:grpSp>
          <p:nvGrpSpPr>
            <p:cNvPr id="456" name="Group 14"/>
            <p:cNvGrpSpPr/>
            <p:nvPr/>
          </p:nvGrpSpPr>
          <p:grpSpPr>
            <a:xfrm>
              <a:off x="3157560" y="925560"/>
              <a:ext cx="2031840" cy="1314720"/>
              <a:chOff x="3157560" y="925560"/>
              <a:chExt cx="2031840" cy="1314720"/>
            </a:xfrm>
          </p:grpSpPr>
          <p:sp>
            <p:nvSpPr>
              <p:cNvPr id="457" name="Line 15"/>
              <p:cNvSpPr/>
              <p:nvPr/>
            </p:nvSpPr>
            <p:spPr>
              <a:xfrm flipH="1">
                <a:off x="3171240" y="925560"/>
                <a:ext cx="1523880" cy="131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58" name="Line 16"/>
              <p:cNvSpPr/>
              <p:nvPr/>
            </p:nvSpPr>
            <p:spPr>
              <a:xfrm>
                <a:off x="3157560" y="2240280"/>
                <a:ext cx="203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sp>
          <p:nvSpPr>
            <p:cNvPr id="459" name="Text Box 17"/>
            <p:cNvSpPr/>
            <p:nvPr/>
          </p:nvSpPr>
          <p:spPr>
            <a:xfrm>
              <a:off x="2870280" y="2006640"/>
              <a:ext cx="3398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3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60" name="Arc 28"/>
            <p:cNvSpPr/>
            <p:nvPr/>
          </p:nvSpPr>
          <p:spPr>
            <a:xfrm>
              <a:off x="3517920" y="1954440"/>
              <a:ext cx="237960" cy="298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fill="none" w="21600" h="2956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326"/>
                    <a:pt x="21083" y="27028"/>
                    <a:pt x="20078" y="29562"/>
                  </a:cubicBezTo>
                </a:path>
                <a:path stroke="0" w="21600" h="2956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326"/>
                    <a:pt x="21083" y="27028"/>
                    <a:pt x="20078" y="2956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61" name="Text Box 29"/>
            <p:cNvSpPr/>
            <p:nvPr/>
          </p:nvSpPr>
          <p:spPr>
            <a:xfrm>
              <a:off x="3807000" y="1522440"/>
              <a:ext cx="50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α</a:t>
              </a:r>
              <a:endParaRPr b="1" lang="en-US" sz="4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462" name="Group 21"/>
          <p:cNvGrpSpPr/>
          <p:nvPr/>
        </p:nvGrpSpPr>
        <p:grpSpPr>
          <a:xfrm>
            <a:off x="5689440" y="870120"/>
            <a:ext cx="2032200" cy="1314360"/>
            <a:chOff x="5689440" y="870120"/>
            <a:chExt cx="2032200" cy="1314360"/>
          </a:xfrm>
        </p:grpSpPr>
        <p:sp>
          <p:nvSpPr>
            <p:cNvPr id="463" name="Line 22"/>
            <p:cNvSpPr/>
            <p:nvPr/>
          </p:nvSpPr>
          <p:spPr>
            <a:xfrm flipH="1">
              <a:off x="5703480" y="870120"/>
              <a:ext cx="152424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64" name="Line 23"/>
            <p:cNvSpPr/>
            <p:nvPr/>
          </p:nvSpPr>
          <p:spPr>
            <a:xfrm>
              <a:off x="5689440" y="2184480"/>
              <a:ext cx="203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465" name="Text Box 24"/>
          <p:cNvSpPr/>
          <p:nvPr/>
        </p:nvSpPr>
        <p:spPr>
          <a:xfrm>
            <a:off x="5402160" y="1994040"/>
            <a:ext cx="339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3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6" name="Arc 30"/>
          <p:cNvSpPr/>
          <p:nvPr/>
        </p:nvSpPr>
        <p:spPr>
          <a:xfrm>
            <a:off x="6037200" y="1866960"/>
            <a:ext cx="238320" cy="298440"/>
          </a:xfrm>
          <a:custGeom>
            <a:avLst/>
            <a:gdLst>
              <a:gd name="textAreaLeft" fmla="*/ 0 w 238320"/>
              <a:gd name="textAreaRight" fmla="*/ 238680 w 2383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956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326"/>
                  <a:pt x="21083" y="27028"/>
                  <a:pt x="20078" y="29562"/>
                </a:cubicBezTo>
              </a:path>
              <a:path stroke="0" w="21600" h="2956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326"/>
                  <a:pt x="21083" y="27028"/>
                  <a:pt x="20078" y="2956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6197760" y="1708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8" name="AutoShape 34"/>
          <p:cNvSpPr/>
          <p:nvPr/>
        </p:nvSpPr>
        <p:spPr>
          <a:xfrm>
            <a:off x="1200240" y="2382840"/>
            <a:ext cx="215640" cy="936720"/>
          </a:xfrm>
          <a:prstGeom prst="downArrow">
            <a:avLst>
              <a:gd name="adj1" fmla="val 50000"/>
              <a:gd name="adj2" fmla="val 1085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9" name="AutoShape 35"/>
          <p:cNvSpPr/>
          <p:nvPr/>
        </p:nvSpPr>
        <p:spPr>
          <a:xfrm>
            <a:off x="4270320" y="2352600"/>
            <a:ext cx="216000" cy="936720"/>
          </a:xfrm>
          <a:prstGeom prst="downArrow">
            <a:avLst>
              <a:gd name="adj1" fmla="val 50000"/>
              <a:gd name="adj2" fmla="val 108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0" name="AutoShape 36"/>
          <p:cNvSpPr/>
          <p:nvPr/>
        </p:nvSpPr>
        <p:spPr>
          <a:xfrm>
            <a:off x="6540480" y="2309760"/>
            <a:ext cx="216000" cy="936720"/>
          </a:xfrm>
          <a:prstGeom prst="downArrow">
            <a:avLst>
              <a:gd name="adj1" fmla="val 50000"/>
              <a:gd name="adj2" fmla="val 108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1" name="Text Box 37"/>
          <p:cNvSpPr/>
          <p:nvPr/>
        </p:nvSpPr>
        <p:spPr>
          <a:xfrm>
            <a:off x="0" y="3360600"/>
            <a:ext cx="275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记作：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AOB  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或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BOA  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2" name="Text Box 38"/>
          <p:cNvSpPr/>
          <p:nvPr/>
        </p:nvSpPr>
        <p:spPr>
          <a:xfrm>
            <a:off x="3662280" y="33465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记作∠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隶书"/>
              </a:rPr>
              <a:t>α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3" name="Rectangle 39"/>
          <p:cNvSpPr/>
          <p:nvPr/>
        </p:nvSpPr>
        <p:spPr>
          <a:xfrm>
            <a:off x="5661000" y="359244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记作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1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474" name="Group 27"/>
          <p:cNvGrpSpPr/>
          <p:nvPr/>
        </p:nvGrpSpPr>
        <p:grpSpPr>
          <a:xfrm>
            <a:off x="210960" y="4525920"/>
            <a:ext cx="2592360" cy="1942920"/>
            <a:chOff x="210960" y="4525920"/>
            <a:chExt cx="2592360" cy="1942920"/>
          </a:xfrm>
        </p:grpSpPr>
        <p:grpSp>
          <p:nvGrpSpPr>
            <p:cNvPr id="475" name="Group 7"/>
            <p:cNvGrpSpPr/>
            <p:nvPr/>
          </p:nvGrpSpPr>
          <p:grpSpPr>
            <a:xfrm>
              <a:off x="498240" y="4794120"/>
              <a:ext cx="2032200" cy="1314360"/>
              <a:chOff x="498240" y="4794120"/>
              <a:chExt cx="2032200" cy="1314360"/>
            </a:xfrm>
          </p:grpSpPr>
          <p:sp>
            <p:nvSpPr>
              <p:cNvPr id="476" name="Line 8"/>
              <p:cNvSpPr/>
              <p:nvPr/>
            </p:nvSpPr>
            <p:spPr>
              <a:xfrm flipH="1">
                <a:off x="512280" y="4794120"/>
                <a:ext cx="1524240" cy="13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77" name="Line 9"/>
              <p:cNvSpPr/>
              <p:nvPr/>
            </p:nvSpPr>
            <p:spPr>
              <a:xfrm>
                <a:off x="498240" y="6108480"/>
                <a:ext cx="203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sp>
          <p:nvSpPr>
            <p:cNvPr id="478" name="Text Box 10"/>
            <p:cNvSpPr/>
            <p:nvPr/>
          </p:nvSpPr>
          <p:spPr>
            <a:xfrm>
              <a:off x="210960" y="5875200"/>
              <a:ext cx="3398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79" name="Text Box 11"/>
            <p:cNvSpPr/>
            <p:nvPr/>
          </p:nvSpPr>
          <p:spPr>
            <a:xfrm>
              <a:off x="1650960" y="4525920"/>
              <a:ext cx="3380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80" name="Text Box 12"/>
            <p:cNvSpPr/>
            <p:nvPr/>
          </p:nvSpPr>
          <p:spPr>
            <a:xfrm>
              <a:off x="2465280" y="6059520"/>
              <a:ext cx="338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481" name="Text Box 37"/>
          <p:cNvSpPr/>
          <p:nvPr/>
        </p:nvSpPr>
        <p:spPr>
          <a:xfrm>
            <a:off x="3592440" y="5226120"/>
            <a:ext cx="27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记作：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O    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2" name="AutoShape 34"/>
          <p:cNvSpPr/>
          <p:nvPr/>
        </p:nvSpPr>
        <p:spPr>
          <a:xfrm rot="16200000">
            <a:off x="2877120" y="4850640"/>
            <a:ext cx="306720" cy="145728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3" name="TextBox 40"/>
          <p:cNvSpPr/>
          <p:nvPr/>
        </p:nvSpPr>
        <p:spPr>
          <a:xfrm>
            <a:off x="8069400" y="1146240"/>
            <a:ext cx="63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四种表示方法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WordArt 2"/>
          <p:cNvSpPr txBox="1"/>
          <p:nvPr/>
        </p:nvSpPr>
        <p:spPr>
          <a:xfrm rot="5400000">
            <a:off x="7092360" y="598320"/>
            <a:ext cx="2152800" cy="1492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问题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2195640" y="566640"/>
            <a:ext cx="62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图，能把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记作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吗？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还可以怎么表示？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486" name="组合 20"/>
          <p:cNvGrpSpPr/>
          <p:nvPr/>
        </p:nvGrpSpPr>
        <p:grpSpPr>
          <a:xfrm>
            <a:off x="2819880" y="1895400"/>
            <a:ext cx="4462920" cy="2596680"/>
            <a:chOff x="2819880" y="1895400"/>
            <a:chExt cx="4462920" cy="2596680"/>
          </a:xfrm>
        </p:grpSpPr>
        <p:sp>
          <p:nvSpPr>
            <p:cNvPr id="487" name="Text Box 12"/>
            <p:cNvSpPr/>
            <p:nvPr/>
          </p:nvSpPr>
          <p:spPr>
            <a:xfrm>
              <a:off x="3639240" y="356328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α</a:t>
              </a: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grpSp>
          <p:nvGrpSpPr>
            <p:cNvPr id="488" name="组合 19"/>
            <p:cNvGrpSpPr/>
            <p:nvPr/>
          </p:nvGrpSpPr>
          <p:grpSpPr>
            <a:xfrm>
              <a:off x="2819880" y="1895400"/>
              <a:ext cx="4462920" cy="2596680"/>
              <a:chOff x="2819880" y="1895400"/>
              <a:chExt cx="4462920" cy="2596680"/>
            </a:xfrm>
          </p:grpSpPr>
          <p:grpSp>
            <p:nvGrpSpPr>
              <p:cNvPr id="489" name="Group 4"/>
              <p:cNvGrpSpPr/>
              <p:nvPr/>
            </p:nvGrpSpPr>
            <p:grpSpPr>
              <a:xfrm>
                <a:off x="3163680" y="2005920"/>
                <a:ext cx="3733560" cy="2210400"/>
                <a:chOff x="3163680" y="2005920"/>
                <a:chExt cx="3733560" cy="2210400"/>
              </a:xfrm>
            </p:grpSpPr>
            <p:sp>
              <p:nvSpPr>
                <p:cNvPr id="490" name="Line 5"/>
                <p:cNvSpPr/>
                <p:nvPr/>
              </p:nvSpPr>
              <p:spPr>
                <a:xfrm flipV="1">
                  <a:off x="3163680" y="2005920"/>
                  <a:ext cx="2209680" cy="221004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6"/>
                <p:cNvSpPr/>
                <p:nvPr/>
              </p:nvSpPr>
              <p:spPr>
                <a:xfrm>
                  <a:off x="3163680" y="4216320"/>
                  <a:ext cx="373356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Line 7"/>
                <p:cNvSpPr/>
                <p:nvPr/>
              </p:nvSpPr>
              <p:spPr>
                <a:xfrm flipV="1">
                  <a:off x="3163680" y="3072960"/>
                  <a:ext cx="3429000" cy="114300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Text Box 8"/>
              <p:cNvSpPr/>
              <p:nvPr/>
            </p:nvSpPr>
            <p:spPr>
              <a:xfrm>
                <a:off x="5264640" y="1895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94" name="Text Box 9"/>
              <p:cNvSpPr/>
              <p:nvPr/>
            </p:nvSpPr>
            <p:spPr>
              <a:xfrm>
                <a:off x="2819880" y="4032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95" name="Text Box 10"/>
              <p:cNvSpPr/>
              <p:nvPr/>
            </p:nvSpPr>
            <p:spPr>
              <a:xfrm>
                <a:off x="6899400" y="3988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96" name="Text Box 11"/>
              <p:cNvSpPr/>
              <p:nvPr/>
            </p:nvSpPr>
            <p:spPr>
              <a:xfrm>
                <a:off x="6448680" y="2998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97" name="Text Box 13"/>
              <p:cNvSpPr/>
              <p:nvPr/>
            </p:nvSpPr>
            <p:spPr>
              <a:xfrm rot="20676000">
                <a:off x="3491640" y="368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98" name="Text Box 14"/>
              <p:cNvSpPr/>
              <p:nvPr/>
            </p:nvSpPr>
            <p:spPr>
              <a:xfrm>
                <a:off x="3859920" y="38530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sp>
          <p:nvSpPr>
            <p:cNvPr id="499" name="Text Box 15"/>
            <p:cNvSpPr/>
            <p:nvPr/>
          </p:nvSpPr>
          <p:spPr>
            <a:xfrm>
              <a:off x="4070880" y="38703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β</a:t>
              </a:r>
              <a:endParaRPr b="1" lang="en-US" sz="18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500" name="Text Box 16"/>
          <p:cNvSpPr/>
          <p:nvPr/>
        </p:nvSpPr>
        <p:spPr>
          <a:xfrm>
            <a:off x="4385520" y="5465880"/>
            <a:ext cx="7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</a:rPr>
              <a:t>在上图中共有几个角？分别把他们读出来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1" name="TextBox 22"/>
          <p:cNvSpPr/>
          <p:nvPr/>
        </p:nvSpPr>
        <p:spPr>
          <a:xfrm>
            <a:off x="203040" y="668160"/>
            <a:ext cx="20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琥珀"/>
                <a:ea typeface="华文琥珀"/>
              </a:rPr>
              <a:t>注意：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当同一个顶点处有两个或两个以上角的时候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必须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要用三个字母来表示角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1" lang="en-US" sz="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牛刀小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图中的角表示成下列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O      ②∠AOP      ③∠OP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          ⑤∠COP       ⑥∠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正确的有                              （把你认为正确的序号都填上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4"/>
          <p:cNvGrpSpPr/>
          <p:nvPr/>
        </p:nvGrpSpPr>
        <p:grpSpPr>
          <a:xfrm>
            <a:off x="3276720" y="3860640"/>
            <a:ext cx="3810240" cy="2886480"/>
            <a:chOff x="3276720" y="3860640"/>
            <a:chExt cx="3810240" cy="2886480"/>
          </a:xfrm>
        </p:grpSpPr>
        <p:sp>
          <p:nvSpPr>
            <p:cNvPr id="506" name="Line 5"/>
            <p:cNvSpPr/>
            <p:nvPr/>
          </p:nvSpPr>
          <p:spPr>
            <a:xfrm>
              <a:off x="3276720" y="386064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07" name="Line 6"/>
            <p:cNvSpPr/>
            <p:nvPr/>
          </p:nvSpPr>
          <p:spPr>
            <a:xfrm flipH="1">
              <a:off x="4067280" y="5013360"/>
              <a:ext cx="2303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08" name="Line 7"/>
            <p:cNvSpPr/>
            <p:nvPr/>
          </p:nvSpPr>
          <p:spPr>
            <a:xfrm flipV="1">
              <a:off x="4067280" y="6165360"/>
              <a:ext cx="2736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09" name="Text Box 8"/>
            <p:cNvSpPr/>
            <p:nvPr/>
          </p:nvSpPr>
          <p:spPr>
            <a:xfrm>
              <a:off x="3689280" y="6083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10" name="Text Box 9"/>
            <p:cNvSpPr/>
            <p:nvPr/>
          </p:nvSpPr>
          <p:spPr>
            <a:xfrm>
              <a:off x="6589080" y="6165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11" name="Text Box 10"/>
            <p:cNvSpPr/>
            <p:nvPr/>
          </p:nvSpPr>
          <p:spPr>
            <a:xfrm>
              <a:off x="5202000" y="4932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12" name="Text Box 11"/>
            <p:cNvSpPr/>
            <p:nvPr/>
          </p:nvSpPr>
          <p:spPr>
            <a:xfrm>
              <a:off x="6210000" y="4356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5580000" y="544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14" name="Oval 13"/>
            <p:cNvSpPr/>
            <p:nvPr/>
          </p:nvSpPr>
          <p:spPr>
            <a:xfrm>
              <a:off x="5508720" y="544500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515" name="Text Box 16"/>
          <p:cNvSpPr/>
          <p:nvPr/>
        </p:nvSpPr>
        <p:spPr>
          <a:xfrm>
            <a:off x="3471840" y="34336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       ③        ⑥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6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0" y="126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将图中的角用不同的方法表示出来，并填写下表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755640" y="4653000"/>
          <a:ext cx="7343640" cy="1600200"/>
        </p:xfrm>
        <a:graphic>
          <a:graphicData uri="http://schemas.openxmlformats.org/drawingml/2006/table">
            <a:tbl>
              <a:tblPr/>
              <a:tblGrid>
                <a:gridCol w="1468440"/>
                <a:gridCol w="1468440"/>
                <a:gridCol w="1469880"/>
                <a:gridCol w="1468440"/>
                <a:gridCol w="1468440"/>
              </a:tblGrid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CB</a:t>
                      </a:r>
                      <a:endParaRPr b="1" lang="en-US" sz="28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BC</a:t>
                      </a:r>
                      <a:endParaRPr b="1" lang="en-US" sz="28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8" name="Group 25"/>
          <p:cNvGrpSpPr/>
          <p:nvPr/>
        </p:nvGrpSpPr>
        <p:grpSpPr>
          <a:xfrm>
            <a:off x="612360" y="1700280"/>
            <a:ext cx="7531560" cy="3057120"/>
            <a:chOff x="612360" y="1700280"/>
            <a:chExt cx="7531560" cy="3057120"/>
          </a:xfrm>
        </p:grpSpPr>
        <p:sp>
          <p:nvSpPr>
            <p:cNvPr id="519" name="Text Box 26"/>
            <p:cNvSpPr/>
            <p:nvPr/>
          </p:nvSpPr>
          <p:spPr>
            <a:xfrm>
              <a:off x="2197080" y="3931920"/>
              <a:ext cx="4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6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2360" y="3931920"/>
              <a:ext cx="420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6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21" name="Text Box 28"/>
            <p:cNvSpPr/>
            <p:nvPr/>
          </p:nvSpPr>
          <p:spPr>
            <a:xfrm>
              <a:off x="5294160" y="3929040"/>
              <a:ext cx="4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6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grpSp>
          <p:nvGrpSpPr>
            <p:cNvPr id="522" name="Group 29"/>
            <p:cNvGrpSpPr/>
            <p:nvPr/>
          </p:nvGrpSpPr>
          <p:grpSpPr>
            <a:xfrm>
              <a:off x="684360" y="1700280"/>
              <a:ext cx="7459560" cy="3057120"/>
              <a:chOff x="684360" y="1700280"/>
              <a:chExt cx="7459560" cy="3057120"/>
            </a:xfrm>
          </p:grpSpPr>
          <p:sp>
            <p:nvSpPr>
              <p:cNvPr id="523" name="Line 30"/>
              <p:cNvSpPr/>
              <p:nvPr/>
            </p:nvSpPr>
            <p:spPr>
              <a:xfrm>
                <a:off x="684360" y="4005000"/>
                <a:ext cx="712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24" name="Line 31"/>
              <p:cNvSpPr/>
              <p:nvPr/>
            </p:nvSpPr>
            <p:spPr>
              <a:xfrm flipV="1">
                <a:off x="5489640" y="1700280"/>
                <a:ext cx="1152360" cy="23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25" name="Line 32"/>
              <p:cNvSpPr/>
              <p:nvPr/>
            </p:nvSpPr>
            <p:spPr>
              <a:xfrm flipH="1">
                <a:off x="2340000" y="1915920"/>
                <a:ext cx="4176720" cy="20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26" name="Text Box 33"/>
              <p:cNvSpPr/>
              <p:nvPr/>
            </p:nvSpPr>
            <p:spPr>
              <a:xfrm>
                <a:off x="6518160" y="1771560"/>
                <a:ext cx="4017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6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27" name="Text Box 34"/>
              <p:cNvSpPr/>
              <p:nvPr/>
            </p:nvSpPr>
            <p:spPr>
              <a:xfrm>
                <a:off x="7742160" y="3571560"/>
                <a:ext cx="4017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6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28" name="Arc 35"/>
              <p:cNvSpPr/>
              <p:nvPr/>
            </p:nvSpPr>
            <p:spPr>
              <a:xfrm>
                <a:off x="5473800" y="3697200"/>
                <a:ext cx="360360" cy="30600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fill="none" w="21600" h="18312">
                    <a:moveTo>
                      <a:pt x="11455" y="0"/>
                    </a:moveTo>
                    <a:cubicBezTo>
                      <a:pt x="17766" y="3948"/>
                      <a:pt x="21600" y="10867"/>
                      <a:pt x="21600" y="18312"/>
                    </a:cubicBezTo>
                  </a:path>
                  <a:path stroke="0" w="21600" h="18312">
                    <a:moveTo>
                      <a:pt x="11455" y="0"/>
                    </a:moveTo>
                    <a:cubicBezTo>
                      <a:pt x="17766" y="3948"/>
                      <a:pt x="21600" y="10867"/>
                      <a:pt x="21600" y="18312"/>
                    </a:cubicBezTo>
                    <a:lnTo>
                      <a:pt x="0" y="18312"/>
                    </a:lnTo>
                    <a:lnTo>
                      <a:pt x="1145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29" name="Arc 36"/>
              <p:cNvSpPr/>
              <p:nvPr/>
            </p:nvSpPr>
            <p:spPr>
              <a:xfrm>
                <a:off x="5099040" y="3605040"/>
                <a:ext cx="588960" cy="61560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615600"/>
                  <a:gd name="textAreaBottom" fmla="*/ 615600 h 615600"/>
                </a:gdLst>
                <a:ahLst/>
                <a:rect l="textAreaLeft" t="textAreaTop" r="textAreaRight" b="textAreaBottom"/>
                <a:pathLst>
                  <a:path fill="none" w="21545" h="21600">
                    <a:moveTo>
                      <a:pt x="-1" y="13449"/>
                    </a:moveTo>
                    <a:cubicBezTo>
                      <a:pt x="3313" y="5317"/>
                      <a:pt x="11221" y="-1"/>
                      <a:pt x="20003" y="0"/>
                    </a:cubicBezTo>
                    <a:cubicBezTo>
                      <a:pt x="20517" y="0"/>
                      <a:pt x="21031" y="18"/>
                      <a:pt x="21544" y="55"/>
                    </a:cubicBezTo>
                  </a:path>
                  <a:path stroke="0" w="21545" h="21600">
                    <a:moveTo>
                      <a:pt x="-1" y="13449"/>
                    </a:moveTo>
                    <a:cubicBezTo>
                      <a:pt x="3313" y="5317"/>
                      <a:pt x="11221" y="-1"/>
                      <a:pt x="20003" y="0"/>
                    </a:cubicBezTo>
                    <a:cubicBezTo>
                      <a:pt x="20517" y="0"/>
                      <a:pt x="21031" y="18"/>
                      <a:pt x="21544" y="55"/>
                    </a:cubicBezTo>
                    <a:lnTo>
                      <a:pt x="20003" y="21600"/>
                    </a:lnTo>
                    <a:lnTo>
                      <a:pt x="-1" y="1344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30" name="Arc 37"/>
              <p:cNvSpPr/>
              <p:nvPr/>
            </p:nvSpPr>
            <p:spPr>
              <a:xfrm>
                <a:off x="3011400" y="3616200"/>
                <a:ext cx="260280" cy="36936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fill="none" w="21600" h="30569">
                    <a:moveTo>
                      <a:pt x="11455" y="0"/>
                    </a:moveTo>
                    <a:cubicBezTo>
                      <a:pt x="17766" y="3948"/>
                      <a:pt x="21600" y="10867"/>
                      <a:pt x="21600" y="18312"/>
                    </a:cubicBezTo>
                    <a:cubicBezTo>
                      <a:pt x="21600" y="22689"/>
                      <a:pt x="20269" y="26964"/>
                      <a:pt x="17785" y="30568"/>
                    </a:cubicBezTo>
                  </a:path>
                  <a:path stroke="0" w="21600" h="30569">
                    <a:moveTo>
                      <a:pt x="11455" y="0"/>
                    </a:moveTo>
                    <a:cubicBezTo>
                      <a:pt x="17766" y="3948"/>
                      <a:pt x="21600" y="10867"/>
                      <a:pt x="21600" y="18312"/>
                    </a:cubicBezTo>
                    <a:cubicBezTo>
                      <a:pt x="21600" y="22689"/>
                      <a:pt x="20269" y="26964"/>
                      <a:pt x="17785" y="30568"/>
                    </a:cubicBezTo>
                    <a:lnTo>
                      <a:pt x="0" y="18312"/>
                    </a:lnTo>
                    <a:lnTo>
                      <a:pt x="1145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31" name="Arc 38"/>
              <p:cNvSpPr/>
              <p:nvPr/>
            </p:nvSpPr>
            <p:spPr>
              <a:xfrm>
                <a:off x="1736640" y="3647880"/>
                <a:ext cx="1166760" cy="110952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1109520"/>
                  <a:gd name="textAreaBottom" fmla="*/ 1109880 h 1109520"/>
                </a:gdLst>
                <a:ahLst/>
                <a:rect l="textAreaLeft" t="textAreaTop" r="textAreaRight" b="textAreaBottom"/>
                <a:pathLst>
                  <a:path fill="none" w="22790" h="21600">
                    <a:moveTo>
                      <a:pt x="0" y="6639"/>
                    </a:moveTo>
                    <a:cubicBezTo>
                      <a:pt x="4073" y="2397"/>
                      <a:pt x="9699" y="-1"/>
                      <a:pt x="15580" y="0"/>
                    </a:cubicBezTo>
                    <a:cubicBezTo>
                      <a:pt x="18036" y="0"/>
                      <a:pt x="20474" y="418"/>
                      <a:pt x="22790" y="1238"/>
                    </a:cubicBezTo>
                  </a:path>
                  <a:path stroke="0" w="22790" h="21600">
                    <a:moveTo>
                      <a:pt x="0" y="6639"/>
                    </a:moveTo>
                    <a:cubicBezTo>
                      <a:pt x="4073" y="2397"/>
                      <a:pt x="9699" y="-1"/>
                      <a:pt x="15580" y="0"/>
                    </a:cubicBezTo>
                    <a:cubicBezTo>
                      <a:pt x="18036" y="0"/>
                      <a:pt x="20474" y="418"/>
                      <a:pt x="22790" y="1238"/>
                    </a:cubicBezTo>
                    <a:lnTo>
                      <a:pt x="15580" y="21600"/>
                    </a:lnTo>
                    <a:lnTo>
                      <a:pt x="0" y="663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32" name="Arc 39"/>
              <p:cNvSpPr/>
              <p:nvPr/>
            </p:nvSpPr>
            <p:spPr>
              <a:xfrm>
                <a:off x="6033960" y="2017440"/>
                <a:ext cx="343080" cy="35856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fill="none" w="20532" h="21380">
                    <a:moveTo>
                      <a:pt x="17459" y="21380"/>
                    </a:moveTo>
                    <a:cubicBezTo>
                      <a:pt x="9321" y="20211"/>
                      <a:pt x="2553" y="14523"/>
                      <a:pt x="0" y="6707"/>
                    </a:cubicBezTo>
                  </a:path>
                  <a:path stroke="0" w="20532" h="21380">
                    <a:moveTo>
                      <a:pt x="17459" y="21380"/>
                    </a:moveTo>
                    <a:cubicBezTo>
                      <a:pt x="9321" y="20211"/>
                      <a:pt x="2553" y="14523"/>
                      <a:pt x="0" y="6707"/>
                    </a:cubicBezTo>
                    <a:lnTo>
                      <a:pt x="20532" y="0"/>
                    </a:lnTo>
                    <a:lnTo>
                      <a:pt x="17459" y="2138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33" name="Text Box 40"/>
              <p:cNvSpPr/>
              <p:nvPr/>
            </p:nvSpPr>
            <p:spPr>
              <a:xfrm>
                <a:off x="5855040" y="2203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34" name="Text Box 41"/>
              <p:cNvSpPr/>
              <p:nvPr/>
            </p:nvSpPr>
            <p:spPr>
              <a:xfrm>
                <a:off x="1981440" y="3284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35" name="Text Box 42"/>
              <p:cNvSpPr/>
              <p:nvPr/>
            </p:nvSpPr>
            <p:spPr>
              <a:xfrm>
                <a:off x="3262680" y="3538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36" name="Text Box 43"/>
              <p:cNvSpPr/>
              <p:nvPr/>
            </p:nvSpPr>
            <p:spPr>
              <a:xfrm>
                <a:off x="5726520" y="3571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37" name="Text Box 44"/>
              <p:cNvSpPr/>
              <p:nvPr/>
            </p:nvSpPr>
            <p:spPr>
              <a:xfrm>
                <a:off x="5005800" y="3355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Text Box 45"/>
          <p:cNvSpPr/>
          <p:nvPr/>
        </p:nvSpPr>
        <p:spPr>
          <a:xfrm>
            <a:off x="468360" y="620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隶书"/>
                <a:ea typeface="隶书"/>
              </a:rPr>
              <a:t>练习</a:t>
            </a:r>
            <a:r>
              <a:rPr b="0" lang="en-US" sz="4400" spc="-1" strike="noStrike">
                <a:solidFill>
                  <a:srgbClr val="ff9900"/>
                </a:solidFill>
                <a:latin typeface="隶书"/>
                <a:ea typeface="隶书"/>
              </a:rPr>
              <a:t>2</a:t>
            </a:r>
            <a:endParaRPr b="1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39" name="Text Box 46"/>
          <p:cNvSpPr/>
          <p:nvPr/>
        </p:nvSpPr>
        <p:spPr>
          <a:xfrm>
            <a:off x="2535120" y="601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826920" y="5661000"/>
            <a:ext cx="11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E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1" name="Text Box 48"/>
          <p:cNvSpPr/>
          <p:nvPr/>
        </p:nvSpPr>
        <p:spPr>
          <a:xfrm>
            <a:off x="2721600" y="4788000"/>
            <a:ext cx="69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2" name="Text Box 50"/>
          <p:cNvSpPr/>
          <p:nvPr/>
        </p:nvSpPr>
        <p:spPr>
          <a:xfrm>
            <a:off x="3944520" y="5587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3" name="Text Box 51"/>
          <p:cNvSpPr/>
          <p:nvPr/>
        </p:nvSpPr>
        <p:spPr>
          <a:xfrm>
            <a:off x="5384160" y="5587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B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4" name="Text Box 52"/>
          <p:cNvSpPr/>
          <p:nvPr/>
        </p:nvSpPr>
        <p:spPr>
          <a:xfrm>
            <a:off x="7041240" y="4797360"/>
            <a:ext cx="69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5" name="Text Box 49"/>
          <p:cNvSpPr/>
          <p:nvPr/>
        </p:nvSpPr>
        <p:spPr>
          <a:xfrm>
            <a:off x="1828440" y="235116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1" lang="en-US" sz="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如图，回答下列问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5759280" y="2276640"/>
            <a:ext cx="3384360" cy="2302920"/>
            <a:chOff x="5759280" y="2276640"/>
            <a:chExt cx="3384360" cy="2302920"/>
          </a:xfrm>
        </p:grpSpPr>
        <p:sp>
          <p:nvSpPr>
            <p:cNvPr id="548" name="Text Box 4"/>
            <p:cNvSpPr/>
            <p:nvPr/>
          </p:nvSpPr>
          <p:spPr>
            <a:xfrm>
              <a:off x="8579880" y="3871080"/>
              <a:ext cx="563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1101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49" name="Text Box 5"/>
            <p:cNvSpPr/>
            <p:nvPr/>
          </p:nvSpPr>
          <p:spPr>
            <a:xfrm>
              <a:off x="7263360" y="4048200"/>
              <a:ext cx="563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1101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5759280" y="3871080"/>
              <a:ext cx="563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1101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51" name="Text Box 7"/>
            <p:cNvSpPr/>
            <p:nvPr/>
          </p:nvSpPr>
          <p:spPr>
            <a:xfrm>
              <a:off x="6699600" y="2276640"/>
              <a:ext cx="563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1101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52" name="Line 8"/>
            <p:cNvSpPr/>
            <p:nvPr/>
          </p:nvSpPr>
          <p:spPr>
            <a:xfrm flipH="1">
              <a:off x="6135120" y="2630880"/>
              <a:ext cx="940320" cy="1417320"/>
            </a:xfrm>
            <a:prstGeom prst="line">
              <a:avLst/>
            </a:prstGeom>
            <a:ln w="38160">
              <a:solidFill>
                <a:srgbClr val="111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53" name="Line 9"/>
            <p:cNvSpPr/>
            <p:nvPr/>
          </p:nvSpPr>
          <p:spPr>
            <a:xfrm>
              <a:off x="6135120" y="4048200"/>
              <a:ext cx="2444400" cy="0"/>
            </a:xfrm>
            <a:prstGeom prst="line">
              <a:avLst/>
            </a:prstGeom>
            <a:ln w="38160">
              <a:solidFill>
                <a:srgbClr val="111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>
              <a:off x="7075440" y="2630880"/>
              <a:ext cx="1535400" cy="1417320"/>
            </a:xfrm>
            <a:prstGeom prst="line">
              <a:avLst/>
            </a:prstGeom>
            <a:ln w="38160">
              <a:solidFill>
                <a:srgbClr val="111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>
              <a:off x="7075440" y="2630880"/>
              <a:ext cx="438480" cy="1417320"/>
            </a:xfrm>
            <a:prstGeom prst="line">
              <a:avLst/>
            </a:prstGeom>
            <a:ln w="38160">
              <a:solidFill>
                <a:srgbClr val="111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556" name="Text Box 12"/>
          <p:cNvSpPr/>
          <p:nvPr/>
        </p:nvSpPr>
        <p:spPr>
          <a:xfrm>
            <a:off x="826920" y="20606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）∠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AB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与∠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AB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是同一个角吗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826920" y="3068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）能用一个大写字母表示的角有几个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84360" y="4221000"/>
            <a:ext cx="56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）以点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为顶点的角有哪几个？                         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以点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为顶点的角呢？　　　　　 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11280" y="537372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）图中共有多少个角？是哪些角？ 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 flipH="1" flipV="1">
            <a:off x="6548040" y="3401640"/>
            <a:ext cx="955800" cy="63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6181920" y="297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WordArt 2" descr=""/>
          <p:cNvPicPr/>
          <p:nvPr/>
        </p:nvPicPr>
        <p:blipFill>
          <a:blip r:embed="rId2"/>
          <a:stretch/>
        </p:blipFill>
        <p:spPr>
          <a:xfrm>
            <a:off x="237960" y="444600"/>
            <a:ext cx="3651480" cy="86652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1884960" y="184464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用不同的方式分别表示下图中的所有的角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5591160" y="2730600"/>
            <a:ext cx="2567160" cy="2096640"/>
            <a:chOff x="5591160" y="2730600"/>
            <a:chExt cx="2567160" cy="2096640"/>
          </a:xfrm>
        </p:grpSpPr>
        <p:grpSp>
          <p:nvGrpSpPr>
            <p:cNvPr id="565" name="Group 9"/>
            <p:cNvGrpSpPr/>
            <p:nvPr/>
          </p:nvGrpSpPr>
          <p:grpSpPr>
            <a:xfrm>
              <a:off x="5591160" y="3148920"/>
              <a:ext cx="2567160" cy="1678320"/>
              <a:chOff x="5591160" y="3148920"/>
              <a:chExt cx="2567160" cy="1678320"/>
            </a:xfrm>
          </p:grpSpPr>
          <p:sp>
            <p:nvSpPr>
              <p:cNvPr id="566" name="Line 10"/>
              <p:cNvSpPr/>
              <p:nvPr/>
            </p:nvSpPr>
            <p:spPr>
              <a:xfrm flipH="1">
                <a:off x="5608800" y="3148920"/>
                <a:ext cx="1925280" cy="167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67" name="Line 11"/>
              <p:cNvSpPr/>
              <p:nvPr/>
            </p:nvSpPr>
            <p:spPr>
              <a:xfrm>
                <a:off x="5591160" y="4827240"/>
                <a:ext cx="256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sp>
          <p:nvSpPr>
            <p:cNvPr id="568" name="Line 12"/>
            <p:cNvSpPr/>
            <p:nvPr/>
          </p:nvSpPr>
          <p:spPr>
            <a:xfrm flipH="1">
              <a:off x="5591160" y="2730600"/>
              <a:ext cx="1283760" cy="209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569" name="Text Box 14"/>
          <p:cNvSpPr/>
          <p:nvPr/>
        </p:nvSpPr>
        <p:spPr>
          <a:xfrm>
            <a:off x="8175600" y="4389480"/>
            <a:ext cx="428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7551720" y="2963880"/>
            <a:ext cx="428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1" name="Text Box 16"/>
          <p:cNvSpPr/>
          <p:nvPr/>
        </p:nvSpPr>
        <p:spPr>
          <a:xfrm>
            <a:off x="6892920" y="2492280"/>
            <a:ext cx="426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5322960" y="4570560"/>
            <a:ext cx="428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3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3" name="Arc 21"/>
          <p:cNvSpPr/>
          <p:nvPr/>
        </p:nvSpPr>
        <p:spPr>
          <a:xfrm>
            <a:off x="5632560" y="4432320"/>
            <a:ext cx="433440" cy="392040"/>
          </a:xfrm>
          <a:custGeom>
            <a:avLst/>
            <a:gdLst>
              <a:gd name="textAreaLeft" fmla="*/ 0 w 433440"/>
              <a:gd name="textAreaRight" fmla="*/ 433800 w 4334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fill="none" w="21600" h="19612">
                <a:moveTo>
                  <a:pt x="9710" y="-1"/>
                </a:moveTo>
                <a:cubicBezTo>
                  <a:pt x="17000" y="3668"/>
                  <a:pt x="21600" y="11132"/>
                  <a:pt x="21600" y="19294"/>
                </a:cubicBezTo>
                <a:cubicBezTo>
                  <a:pt x="21600" y="19400"/>
                  <a:pt x="21599" y="19506"/>
                  <a:pt x="21597" y="19611"/>
                </a:cubicBezTo>
              </a:path>
              <a:path stroke="0" w="21600" h="19612">
                <a:moveTo>
                  <a:pt x="9710" y="-1"/>
                </a:moveTo>
                <a:cubicBezTo>
                  <a:pt x="17000" y="3668"/>
                  <a:pt x="21600" y="11132"/>
                  <a:pt x="21600" y="19294"/>
                </a:cubicBezTo>
                <a:cubicBezTo>
                  <a:pt x="21600" y="19400"/>
                  <a:pt x="21599" y="19506"/>
                  <a:pt x="21597" y="19611"/>
                </a:cubicBezTo>
                <a:lnTo>
                  <a:pt x="0" y="19294"/>
                </a:lnTo>
                <a:lnTo>
                  <a:pt x="971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4" name="Arc 22"/>
          <p:cNvSpPr/>
          <p:nvPr/>
        </p:nvSpPr>
        <p:spPr>
          <a:xfrm>
            <a:off x="5676840" y="4464000"/>
            <a:ext cx="503280" cy="363600"/>
          </a:xfrm>
          <a:custGeom>
            <a:avLst/>
            <a:gdLst>
              <a:gd name="textAreaLeft" fmla="*/ 0 w 503280"/>
              <a:gd name="textAreaRight" fmla="*/ 503640 w 5032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fill="none" w="21600" h="15606">
                <a:moveTo>
                  <a:pt x="14933" y="0"/>
                </a:moveTo>
                <a:cubicBezTo>
                  <a:pt x="19191" y="4074"/>
                  <a:pt x="21600" y="9712"/>
                  <a:pt x="21600" y="15606"/>
                </a:cubicBezTo>
              </a:path>
              <a:path stroke="0" w="21600" h="15606">
                <a:moveTo>
                  <a:pt x="14933" y="0"/>
                </a:moveTo>
                <a:cubicBezTo>
                  <a:pt x="19191" y="4074"/>
                  <a:pt x="21600" y="9712"/>
                  <a:pt x="21600" y="15606"/>
                </a:cubicBezTo>
                <a:lnTo>
                  <a:pt x="0" y="15606"/>
                </a:lnTo>
                <a:lnTo>
                  <a:pt x="1493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5" name="Arc 23"/>
          <p:cNvSpPr/>
          <p:nvPr/>
        </p:nvSpPr>
        <p:spPr>
          <a:xfrm>
            <a:off x="5584680" y="4248000"/>
            <a:ext cx="511200" cy="541440"/>
          </a:xfrm>
          <a:custGeom>
            <a:avLst/>
            <a:gdLst>
              <a:gd name="textAreaLeft" fmla="*/ 0 w 511200"/>
              <a:gd name="textAreaRight" fmla="*/ 511560 w 51120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fill="none" w="17050" h="18052">
                <a:moveTo>
                  <a:pt x="11861" y="-1"/>
                </a:moveTo>
                <a:cubicBezTo>
                  <a:pt x="13841" y="1301"/>
                  <a:pt x="15594" y="2920"/>
                  <a:pt x="17050" y="4790"/>
                </a:cubicBezTo>
              </a:path>
              <a:path stroke="0" w="17050" h="18052">
                <a:moveTo>
                  <a:pt x="11861" y="-1"/>
                </a:moveTo>
                <a:cubicBezTo>
                  <a:pt x="13841" y="1301"/>
                  <a:pt x="15594" y="2920"/>
                  <a:pt x="17050" y="4790"/>
                </a:cubicBezTo>
                <a:lnTo>
                  <a:pt x="0" y="18052"/>
                </a:lnTo>
                <a:lnTo>
                  <a:pt x="11861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6" name="Text Box 26"/>
          <p:cNvSpPr/>
          <p:nvPr/>
        </p:nvSpPr>
        <p:spPr>
          <a:xfrm>
            <a:off x="592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7" name="Text Box 27"/>
          <p:cNvSpPr/>
          <p:nvPr/>
        </p:nvSpPr>
        <p:spPr>
          <a:xfrm>
            <a:off x="324000" y="1341360"/>
            <a:ext cx="69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顶点的角有几个？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8" name="Text Box 28"/>
          <p:cNvSpPr/>
          <p:nvPr/>
        </p:nvSpPr>
        <p:spPr>
          <a:xfrm>
            <a:off x="5149080" y="122076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9" name="Text Box 29"/>
          <p:cNvSpPr/>
          <p:nvPr/>
        </p:nvSpPr>
        <p:spPr>
          <a:xfrm>
            <a:off x="295200" y="3035160"/>
            <a:ext cx="62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在其内部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引一条射线，那么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顶点的角有几个？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80" name="Line 30"/>
          <p:cNvSpPr/>
          <p:nvPr/>
        </p:nvSpPr>
        <p:spPr>
          <a:xfrm flipV="1">
            <a:off x="5603760" y="3813120"/>
            <a:ext cx="252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81" name="Text Box 31"/>
          <p:cNvSpPr/>
          <p:nvPr/>
        </p:nvSpPr>
        <p:spPr>
          <a:xfrm>
            <a:off x="8082360" y="3541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3496680" y="41860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83" name="Text Box 40"/>
          <p:cNvSpPr/>
          <p:nvPr/>
        </p:nvSpPr>
        <p:spPr>
          <a:xfrm>
            <a:off x="1527120" y="617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84" name="WordArt 43" descr=""/>
          <p:cNvPicPr/>
          <p:nvPr/>
        </p:nvPicPr>
        <p:blipFill>
          <a:blip r:embed="rId3"/>
          <a:stretch/>
        </p:blipFill>
        <p:spPr>
          <a:xfrm>
            <a:off x="469800" y="0"/>
            <a:ext cx="32068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3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2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8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219320" y="457200"/>
            <a:ext cx="74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题：数一数下面一共有几个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86" name="Line 3"/>
          <p:cNvSpPr/>
          <p:nvPr/>
        </p:nvSpPr>
        <p:spPr>
          <a:xfrm flipV="1">
            <a:off x="3581280" y="3276720"/>
            <a:ext cx="2971800" cy="121896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87" name="Line 4"/>
          <p:cNvSpPr/>
          <p:nvPr/>
        </p:nvSpPr>
        <p:spPr>
          <a:xfrm flipV="1">
            <a:off x="3581280" y="1980720"/>
            <a:ext cx="533520" cy="251460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588" name="Group 5"/>
          <p:cNvGrpSpPr/>
          <p:nvPr/>
        </p:nvGrpSpPr>
        <p:grpSpPr>
          <a:xfrm>
            <a:off x="1980720" y="2286000"/>
            <a:ext cx="4953240" cy="2209680"/>
            <a:chOff x="1980720" y="2286000"/>
            <a:chExt cx="4953240" cy="2209680"/>
          </a:xfrm>
        </p:grpSpPr>
        <p:sp>
          <p:nvSpPr>
            <p:cNvPr id="589" name="Line 6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90" name="Line 7"/>
            <p:cNvSpPr/>
            <p:nvPr/>
          </p:nvSpPr>
          <p:spPr>
            <a:xfrm flipH="1" flipV="1">
              <a:off x="1980720" y="228600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591" name="Group 8"/>
          <p:cNvGrpSpPr/>
          <p:nvPr/>
        </p:nvGrpSpPr>
        <p:grpSpPr>
          <a:xfrm>
            <a:off x="1980720" y="1980720"/>
            <a:ext cx="2133720" cy="2514600"/>
            <a:chOff x="1980720" y="1980720"/>
            <a:chExt cx="2133720" cy="2514600"/>
          </a:xfrm>
        </p:grpSpPr>
        <p:sp>
          <p:nvSpPr>
            <p:cNvPr id="592" name="Line 9"/>
            <p:cNvSpPr/>
            <p:nvPr/>
          </p:nvSpPr>
          <p:spPr>
            <a:xfrm flipV="1">
              <a:off x="3581280" y="1980720"/>
              <a:ext cx="53316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93" name="Line 10"/>
            <p:cNvSpPr/>
            <p:nvPr/>
          </p:nvSpPr>
          <p:spPr>
            <a:xfrm flipH="1" flipV="1">
              <a:off x="1980720" y="2285280"/>
              <a:ext cx="160020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594" name="Group 11"/>
          <p:cNvGrpSpPr/>
          <p:nvPr/>
        </p:nvGrpSpPr>
        <p:grpSpPr>
          <a:xfrm>
            <a:off x="1980720" y="1980720"/>
            <a:ext cx="2133720" cy="2514600"/>
            <a:chOff x="1980720" y="1980720"/>
            <a:chExt cx="2133720" cy="2514600"/>
          </a:xfrm>
        </p:grpSpPr>
        <p:sp>
          <p:nvSpPr>
            <p:cNvPr id="595" name="Line 12"/>
            <p:cNvSpPr/>
            <p:nvPr/>
          </p:nvSpPr>
          <p:spPr>
            <a:xfrm flipV="1">
              <a:off x="3581280" y="1980720"/>
              <a:ext cx="53316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96" name="Line 13"/>
            <p:cNvSpPr/>
            <p:nvPr/>
          </p:nvSpPr>
          <p:spPr>
            <a:xfrm flipH="1" flipV="1">
              <a:off x="1980720" y="2285280"/>
              <a:ext cx="160020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597" name="Group 14"/>
          <p:cNvGrpSpPr/>
          <p:nvPr/>
        </p:nvGrpSpPr>
        <p:grpSpPr>
          <a:xfrm>
            <a:off x="1980720" y="1980720"/>
            <a:ext cx="2133720" cy="2514600"/>
            <a:chOff x="1980720" y="1980720"/>
            <a:chExt cx="2133720" cy="2514600"/>
          </a:xfrm>
        </p:grpSpPr>
        <p:sp>
          <p:nvSpPr>
            <p:cNvPr id="598" name="Line 15"/>
            <p:cNvSpPr/>
            <p:nvPr/>
          </p:nvSpPr>
          <p:spPr>
            <a:xfrm flipV="1">
              <a:off x="3581280" y="1980720"/>
              <a:ext cx="53316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99" name="Line 16"/>
            <p:cNvSpPr/>
            <p:nvPr/>
          </p:nvSpPr>
          <p:spPr>
            <a:xfrm flipH="1" flipV="1">
              <a:off x="1980720" y="2285280"/>
              <a:ext cx="160020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00" name="Group 17"/>
          <p:cNvGrpSpPr/>
          <p:nvPr/>
        </p:nvGrpSpPr>
        <p:grpSpPr>
          <a:xfrm>
            <a:off x="3581280" y="1980720"/>
            <a:ext cx="2971800" cy="2514600"/>
            <a:chOff x="3581280" y="1980720"/>
            <a:chExt cx="2971800" cy="2514600"/>
          </a:xfrm>
        </p:grpSpPr>
        <p:sp>
          <p:nvSpPr>
            <p:cNvPr id="601" name="Line 18"/>
            <p:cNvSpPr/>
            <p:nvPr/>
          </p:nvSpPr>
          <p:spPr>
            <a:xfrm flipV="1">
              <a:off x="3581280" y="3276000"/>
              <a:ext cx="2971800" cy="121932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02" name="Line 19"/>
            <p:cNvSpPr/>
            <p:nvPr/>
          </p:nvSpPr>
          <p:spPr>
            <a:xfrm flipV="1">
              <a:off x="3581280" y="1980720"/>
              <a:ext cx="533160" cy="25146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03" name="Group 20"/>
          <p:cNvGrpSpPr/>
          <p:nvPr/>
        </p:nvGrpSpPr>
        <p:grpSpPr>
          <a:xfrm>
            <a:off x="3581280" y="1980720"/>
            <a:ext cx="2971800" cy="2514600"/>
            <a:chOff x="3581280" y="1980720"/>
            <a:chExt cx="2971800" cy="2514600"/>
          </a:xfrm>
        </p:grpSpPr>
        <p:sp>
          <p:nvSpPr>
            <p:cNvPr id="604" name="Line 21"/>
            <p:cNvSpPr/>
            <p:nvPr/>
          </p:nvSpPr>
          <p:spPr>
            <a:xfrm flipV="1">
              <a:off x="3581280" y="3276000"/>
              <a:ext cx="2971800" cy="121932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05" name="Line 22"/>
            <p:cNvSpPr/>
            <p:nvPr/>
          </p:nvSpPr>
          <p:spPr>
            <a:xfrm flipV="1">
              <a:off x="3581280" y="1980720"/>
              <a:ext cx="533160" cy="25146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06" name="Group 23"/>
          <p:cNvGrpSpPr/>
          <p:nvPr/>
        </p:nvGrpSpPr>
        <p:grpSpPr>
          <a:xfrm>
            <a:off x="3581280" y="1980720"/>
            <a:ext cx="2971800" cy="2514600"/>
            <a:chOff x="3581280" y="1980720"/>
            <a:chExt cx="2971800" cy="2514600"/>
          </a:xfrm>
        </p:grpSpPr>
        <p:sp>
          <p:nvSpPr>
            <p:cNvPr id="607" name="Line 24"/>
            <p:cNvSpPr/>
            <p:nvPr/>
          </p:nvSpPr>
          <p:spPr>
            <a:xfrm flipV="1">
              <a:off x="3581280" y="3276000"/>
              <a:ext cx="2971800" cy="121932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08" name="Line 25"/>
            <p:cNvSpPr/>
            <p:nvPr/>
          </p:nvSpPr>
          <p:spPr>
            <a:xfrm flipV="1">
              <a:off x="3581280" y="1980720"/>
              <a:ext cx="533160" cy="25146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09" name="Group 26"/>
          <p:cNvGrpSpPr/>
          <p:nvPr/>
        </p:nvGrpSpPr>
        <p:grpSpPr>
          <a:xfrm>
            <a:off x="3581280" y="3276720"/>
            <a:ext cx="3352680" cy="1218960"/>
            <a:chOff x="3581280" y="3276720"/>
            <a:chExt cx="3352680" cy="1218960"/>
          </a:xfrm>
        </p:grpSpPr>
        <p:sp>
          <p:nvSpPr>
            <p:cNvPr id="610" name="Line 27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11" name="Line 28"/>
            <p:cNvSpPr/>
            <p:nvPr/>
          </p:nvSpPr>
          <p:spPr>
            <a:xfrm flipV="1">
              <a:off x="3581280" y="3276720"/>
              <a:ext cx="297180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12" name="Group 29"/>
          <p:cNvGrpSpPr/>
          <p:nvPr/>
        </p:nvGrpSpPr>
        <p:grpSpPr>
          <a:xfrm>
            <a:off x="3581280" y="3276720"/>
            <a:ext cx="3352680" cy="1218960"/>
            <a:chOff x="3581280" y="3276720"/>
            <a:chExt cx="3352680" cy="1218960"/>
          </a:xfrm>
        </p:grpSpPr>
        <p:sp>
          <p:nvSpPr>
            <p:cNvPr id="613" name="Line 30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14" name="Line 31"/>
            <p:cNvSpPr/>
            <p:nvPr/>
          </p:nvSpPr>
          <p:spPr>
            <a:xfrm flipV="1">
              <a:off x="3581280" y="3276720"/>
              <a:ext cx="297180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15" name="Group 32"/>
          <p:cNvGrpSpPr/>
          <p:nvPr/>
        </p:nvGrpSpPr>
        <p:grpSpPr>
          <a:xfrm>
            <a:off x="3581280" y="3276720"/>
            <a:ext cx="3352680" cy="1218960"/>
            <a:chOff x="3581280" y="3276720"/>
            <a:chExt cx="3352680" cy="1218960"/>
          </a:xfrm>
        </p:grpSpPr>
        <p:sp>
          <p:nvSpPr>
            <p:cNvPr id="616" name="Line 33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17" name="Line 34"/>
            <p:cNvSpPr/>
            <p:nvPr/>
          </p:nvSpPr>
          <p:spPr>
            <a:xfrm flipV="1">
              <a:off x="3581280" y="3276720"/>
              <a:ext cx="297180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18" name="Group 35"/>
          <p:cNvGrpSpPr/>
          <p:nvPr/>
        </p:nvGrpSpPr>
        <p:grpSpPr>
          <a:xfrm>
            <a:off x="1980720" y="2286000"/>
            <a:ext cx="4572360" cy="2209680"/>
            <a:chOff x="1980720" y="2286000"/>
            <a:chExt cx="4572360" cy="2209680"/>
          </a:xfrm>
        </p:grpSpPr>
        <p:sp>
          <p:nvSpPr>
            <p:cNvPr id="619" name="Line 36"/>
            <p:cNvSpPr/>
            <p:nvPr/>
          </p:nvSpPr>
          <p:spPr>
            <a:xfrm flipV="1">
              <a:off x="3581280" y="3276360"/>
              <a:ext cx="2971800" cy="12189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20" name="Line 37"/>
            <p:cNvSpPr/>
            <p:nvPr/>
          </p:nvSpPr>
          <p:spPr>
            <a:xfrm flipH="1" flipV="1">
              <a:off x="1980720" y="228600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21" name="Group 38"/>
          <p:cNvGrpSpPr/>
          <p:nvPr/>
        </p:nvGrpSpPr>
        <p:grpSpPr>
          <a:xfrm>
            <a:off x="1980720" y="2286000"/>
            <a:ext cx="4572360" cy="2209680"/>
            <a:chOff x="1980720" y="2286000"/>
            <a:chExt cx="4572360" cy="2209680"/>
          </a:xfrm>
        </p:grpSpPr>
        <p:sp>
          <p:nvSpPr>
            <p:cNvPr id="622" name="Line 39"/>
            <p:cNvSpPr/>
            <p:nvPr/>
          </p:nvSpPr>
          <p:spPr>
            <a:xfrm flipV="1">
              <a:off x="3581280" y="3276360"/>
              <a:ext cx="2971800" cy="12189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23" name="Line 40"/>
            <p:cNvSpPr/>
            <p:nvPr/>
          </p:nvSpPr>
          <p:spPr>
            <a:xfrm flipH="1" flipV="1">
              <a:off x="1980720" y="228600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24" name="Group 41"/>
          <p:cNvGrpSpPr/>
          <p:nvPr/>
        </p:nvGrpSpPr>
        <p:grpSpPr>
          <a:xfrm>
            <a:off x="1980720" y="2286000"/>
            <a:ext cx="4572360" cy="2209680"/>
            <a:chOff x="1980720" y="2286000"/>
            <a:chExt cx="4572360" cy="2209680"/>
          </a:xfrm>
        </p:grpSpPr>
        <p:sp>
          <p:nvSpPr>
            <p:cNvPr id="625" name="Line 42"/>
            <p:cNvSpPr/>
            <p:nvPr/>
          </p:nvSpPr>
          <p:spPr>
            <a:xfrm flipV="1">
              <a:off x="3581280" y="3276360"/>
              <a:ext cx="2971800" cy="12189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26" name="Line 43"/>
            <p:cNvSpPr/>
            <p:nvPr/>
          </p:nvSpPr>
          <p:spPr>
            <a:xfrm flipH="1" flipV="1">
              <a:off x="1980720" y="2286000"/>
              <a:ext cx="1600200" cy="22096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27" name="Group 44"/>
          <p:cNvGrpSpPr/>
          <p:nvPr/>
        </p:nvGrpSpPr>
        <p:grpSpPr>
          <a:xfrm>
            <a:off x="3581280" y="1980720"/>
            <a:ext cx="3352680" cy="2514960"/>
            <a:chOff x="3581280" y="1980720"/>
            <a:chExt cx="3352680" cy="2514960"/>
          </a:xfrm>
        </p:grpSpPr>
        <p:sp>
          <p:nvSpPr>
            <p:cNvPr id="628" name="Line 45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29" name="Line 46"/>
            <p:cNvSpPr/>
            <p:nvPr/>
          </p:nvSpPr>
          <p:spPr>
            <a:xfrm flipV="1">
              <a:off x="3581280" y="1980720"/>
              <a:ext cx="533160" cy="251460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30" name="Group 47"/>
          <p:cNvGrpSpPr/>
          <p:nvPr/>
        </p:nvGrpSpPr>
        <p:grpSpPr>
          <a:xfrm>
            <a:off x="3581280" y="1980720"/>
            <a:ext cx="3352680" cy="2514960"/>
            <a:chOff x="3581280" y="1980720"/>
            <a:chExt cx="3352680" cy="2514960"/>
          </a:xfrm>
        </p:grpSpPr>
        <p:sp>
          <p:nvSpPr>
            <p:cNvPr id="631" name="Line 48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32" name="Line 49"/>
            <p:cNvSpPr/>
            <p:nvPr/>
          </p:nvSpPr>
          <p:spPr>
            <a:xfrm flipV="1">
              <a:off x="3581280" y="1980720"/>
              <a:ext cx="533160" cy="251460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33" name="Group 50"/>
          <p:cNvGrpSpPr/>
          <p:nvPr/>
        </p:nvGrpSpPr>
        <p:grpSpPr>
          <a:xfrm>
            <a:off x="3581280" y="1980720"/>
            <a:ext cx="3352680" cy="2514960"/>
            <a:chOff x="3581280" y="1980720"/>
            <a:chExt cx="3352680" cy="2514960"/>
          </a:xfrm>
        </p:grpSpPr>
        <p:sp>
          <p:nvSpPr>
            <p:cNvPr id="634" name="Line 51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35" name="Line 52"/>
            <p:cNvSpPr/>
            <p:nvPr/>
          </p:nvSpPr>
          <p:spPr>
            <a:xfrm flipV="1">
              <a:off x="3581280" y="1980720"/>
              <a:ext cx="533160" cy="251460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36" name="Group 53"/>
          <p:cNvGrpSpPr/>
          <p:nvPr/>
        </p:nvGrpSpPr>
        <p:grpSpPr>
          <a:xfrm>
            <a:off x="1980720" y="2286000"/>
            <a:ext cx="4953240" cy="2209680"/>
            <a:chOff x="1980720" y="2286000"/>
            <a:chExt cx="4953240" cy="2209680"/>
          </a:xfrm>
        </p:grpSpPr>
        <p:sp>
          <p:nvSpPr>
            <p:cNvPr id="637" name="Line 54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38" name="Line 55"/>
            <p:cNvSpPr/>
            <p:nvPr/>
          </p:nvSpPr>
          <p:spPr>
            <a:xfrm flipH="1" flipV="1">
              <a:off x="1980720" y="2286000"/>
              <a:ext cx="1600200" cy="220968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39" name="Group 56"/>
          <p:cNvGrpSpPr/>
          <p:nvPr/>
        </p:nvGrpSpPr>
        <p:grpSpPr>
          <a:xfrm>
            <a:off x="1980720" y="2286000"/>
            <a:ext cx="4953240" cy="2209680"/>
            <a:chOff x="1980720" y="2286000"/>
            <a:chExt cx="4953240" cy="2209680"/>
          </a:xfrm>
        </p:grpSpPr>
        <p:sp>
          <p:nvSpPr>
            <p:cNvPr id="640" name="Line 57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41" name="Line 58"/>
            <p:cNvSpPr/>
            <p:nvPr/>
          </p:nvSpPr>
          <p:spPr>
            <a:xfrm flipH="1" flipV="1">
              <a:off x="1980720" y="2286000"/>
              <a:ext cx="1600200" cy="220968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642" name="Group 59"/>
          <p:cNvGrpSpPr/>
          <p:nvPr/>
        </p:nvGrpSpPr>
        <p:grpSpPr>
          <a:xfrm>
            <a:off x="1980720" y="2286000"/>
            <a:ext cx="4953240" cy="2209680"/>
            <a:chOff x="1980720" y="2286000"/>
            <a:chExt cx="4953240" cy="2209680"/>
          </a:xfrm>
        </p:grpSpPr>
        <p:sp>
          <p:nvSpPr>
            <p:cNvPr id="643" name="Line 60"/>
            <p:cNvSpPr/>
            <p:nvPr/>
          </p:nvSpPr>
          <p:spPr>
            <a:xfrm>
              <a:off x="3581280" y="4495680"/>
              <a:ext cx="3352680" cy="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44" name="Line 61"/>
            <p:cNvSpPr/>
            <p:nvPr/>
          </p:nvSpPr>
          <p:spPr>
            <a:xfrm flipH="1" flipV="1">
              <a:off x="1980720" y="2286000"/>
              <a:ext cx="1600200" cy="2209680"/>
            </a:xfrm>
            <a:prstGeom prst="line">
              <a:avLst/>
            </a:prstGeom>
            <a:ln w="7632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645" name="Text Box 62"/>
          <p:cNvSpPr/>
          <p:nvPr/>
        </p:nvSpPr>
        <p:spPr>
          <a:xfrm>
            <a:off x="3304440" y="5486400"/>
            <a:ext cx="227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共有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个角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46" name="AutoShape 63">
            <a:hlinkClick r:id="" action="ppaction://hlinkshowjump?jump=nextslide"/>
          </p:cNvPr>
          <p:cNvSpPr/>
          <p:nvPr/>
        </p:nvSpPr>
        <p:spPr>
          <a:xfrm>
            <a:off x="7451640" y="5661000"/>
            <a:ext cx="1152720" cy="504720"/>
          </a:xfrm>
          <a:custGeom>
            <a:avLst/>
            <a:gdLst>
              <a:gd name="textAreaLeft" fmla="*/ 32400 w 1152720"/>
              <a:gd name="textAreaRight" fmla="*/ 1120320 w 1152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9312" h="21600">
                <a:moveTo>
                  <a:pt x="0" y="0"/>
                </a:moveTo>
                <a:lnTo>
                  <a:pt x="49312" y="0"/>
                </a:lnTo>
                <a:lnTo>
                  <a:pt x="49312" y="21600"/>
                </a:lnTo>
                <a:lnTo>
                  <a:pt x="0" y="21600"/>
                </a:lnTo>
                <a:close/>
              </a:path>
              <a:path fill="lightenLess" w="49312" h="21600">
                <a:moveTo>
                  <a:pt x="0" y="0"/>
                </a:moveTo>
                <a:lnTo>
                  <a:pt x="49312" y="0"/>
                </a:lnTo>
                <a:lnTo>
                  <a:pt x="47912" y="1400"/>
                </a:lnTo>
                <a:lnTo>
                  <a:pt x="1400" y="1400"/>
                </a:lnTo>
                <a:close/>
              </a:path>
              <a:path fill="darken" w="49312" h="21600">
                <a:moveTo>
                  <a:pt x="49312" y="0"/>
                </a:moveTo>
                <a:lnTo>
                  <a:pt x="49312" y="21600"/>
                </a:lnTo>
                <a:lnTo>
                  <a:pt x="47912" y="20200"/>
                </a:lnTo>
                <a:lnTo>
                  <a:pt x="47912" y="1400"/>
                </a:lnTo>
                <a:close/>
              </a:path>
              <a:path fill="darkenLess" w="49312" h="21600">
                <a:moveTo>
                  <a:pt x="49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2" y="20200"/>
                </a:lnTo>
                <a:close/>
              </a:path>
              <a:path fill="lighten" w="49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12" h="21600">
                <a:moveTo>
                  <a:pt x="28155" y="10800"/>
                </a:moveTo>
                <a:lnTo>
                  <a:pt x="17650" y="17806"/>
                </a:lnTo>
                <a:lnTo>
                  <a:pt x="17650" y="3794"/>
                </a:lnTo>
                <a:close/>
              </a:path>
              <a:path fill="darken" w="49312" h="21600">
                <a:moveTo>
                  <a:pt x="30000" y="3794"/>
                </a:moveTo>
                <a:lnTo>
                  <a:pt x="30000" y="17806"/>
                </a:lnTo>
                <a:lnTo>
                  <a:pt x="31663" y="17806"/>
                </a:lnTo>
                <a:lnTo>
                  <a:pt x="3166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47" name="Text Box 65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1" lang="en-US" sz="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5" dur="1" fill="hold">
                                    <p:stCondLst>
                                      <p:cond evt="end">
                                        <p:tn val="893"/>
                                      </p:cond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9" dur="1" fill="hold">
                                    <p:stCondLst>
                                      <p:cond evt="end">
                                        <p:tn val="897"/>
                                      </p:cond>
                                    </p:stCondLst>
                                  </p:cTn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7" dur="1" fill="hold">
                                    <p:stCondLst>
                                      <p:cond evt="end">
                                        <p:tn val="905"/>
                                      </p:cond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1" dur="1" fill="hold">
                                    <p:stCondLst>
                                      <p:cond evt="end">
                                        <p:tn val="909"/>
                                      </p:cond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9" dur="1" fill="hold">
                                    <p:stCondLst>
                                      <p:cond evt="end">
                                        <p:tn val="917"/>
                                      </p:cond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3" dur="1" fill="hold">
                                    <p:stCondLst>
                                      <p:cond evt="end">
                                        <p:tn val="921"/>
                                      </p:cond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1" dur="1" fill="hold">
                                    <p:stCondLst>
                                      <p:cond evt="end">
                                        <p:tn val="929"/>
                                      </p:cond>
                                    </p:stCondLst>
                                  </p:cTn>
                                  <p:tgtEl>
                                    <p:spTgt spid="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5" dur="1" fill="hold">
                                    <p:stCondLst>
                                      <p:cond evt="end">
                                        <p:tn val="933"/>
                                      </p:cond>
                                    </p:stCondLst>
                                  </p:cTn>
                                  <p:tgtEl>
                                    <p:spTgt spid="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3" dur="1" fill="hold">
                                    <p:stCondLst>
                                      <p:cond evt="end">
                                        <p:tn val="941"/>
                                      </p:cond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7" dur="1" fill="hold">
                                    <p:stCondLst>
                                      <p:cond evt="end">
                                        <p:tn val="945"/>
                                      </p:cond>
                                    </p:stCondLst>
                                  </p:cTn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5" dur="1" fill="hold">
                                    <p:stCondLst>
                                      <p:cond evt="end">
                                        <p:tn val="953"/>
                                      </p:cond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9" dur="1" fill="hold">
                                    <p:stCondLst>
                                      <p:cond evt="end">
                                        <p:tn val="957"/>
                                      </p:cond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642320" y="409680"/>
            <a:ext cx="572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如图，以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为顶点的角有几个，请分别把他们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读出来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4572000" y="3809880"/>
            <a:ext cx="3809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0" name="Line 4"/>
          <p:cNvSpPr/>
          <p:nvPr/>
        </p:nvSpPr>
        <p:spPr>
          <a:xfrm flipV="1">
            <a:off x="4567320" y="2663280"/>
            <a:ext cx="3635280" cy="114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1" name="Line 5"/>
          <p:cNvSpPr/>
          <p:nvPr/>
        </p:nvSpPr>
        <p:spPr>
          <a:xfrm flipV="1">
            <a:off x="4554000" y="1914480"/>
            <a:ext cx="3306240" cy="189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2" name="Line 6"/>
          <p:cNvSpPr/>
          <p:nvPr/>
        </p:nvSpPr>
        <p:spPr>
          <a:xfrm flipH="1">
            <a:off x="4555440" y="1496880"/>
            <a:ext cx="2087280" cy="230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3" name="Line 7"/>
          <p:cNvSpPr/>
          <p:nvPr/>
        </p:nvSpPr>
        <p:spPr>
          <a:xfrm>
            <a:off x="4025520" y="1051560"/>
            <a:ext cx="538200" cy="2775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4251960" y="3639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81554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6" name="Text Box 10"/>
          <p:cNvSpPr/>
          <p:nvPr/>
        </p:nvSpPr>
        <p:spPr>
          <a:xfrm>
            <a:off x="807264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7" name="Text Box 11"/>
          <p:cNvSpPr/>
          <p:nvPr/>
        </p:nvSpPr>
        <p:spPr>
          <a:xfrm>
            <a:off x="7691760" y="182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8" name="Text Box 12"/>
          <p:cNvSpPr/>
          <p:nvPr/>
        </p:nvSpPr>
        <p:spPr>
          <a:xfrm>
            <a:off x="655524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9" name="Text Box 13"/>
          <p:cNvSpPr/>
          <p:nvPr/>
        </p:nvSpPr>
        <p:spPr>
          <a:xfrm>
            <a:off x="4057560" y="914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60" name="Text Box 14"/>
          <p:cNvSpPr/>
          <p:nvPr/>
        </p:nvSpPr>
        <p:spPr>
          <a:xfrm>
            <a:off x="805320" y="2178000"/>
            <a:ext cx="287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：共有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个角，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分别是：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OB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OC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OD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OE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OC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OD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OE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COD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COE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∠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DOE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2404080" y="1201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学习目标：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40040" y="2104920"/>
            <a:ext cx="7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掌握角的定义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468440" y="2922480"/>
            <a:ext cx="7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会表示角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698280" y="4591080"/>
            <a:ext cx="7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会度量角，能进行简单的单位换算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33680" y="378468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认识直角、平角、周角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8129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065960" y="98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探索与思考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771640" y="134136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如图∠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内部画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射线，问图中一共有多少个角？如果是画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呢？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2556000" y="263700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∠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内部画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射线，问图中一共有多少个角？如果是（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条呢？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2700360" y="393372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请你根据以上问题总结出的数字规律，另拟一道问题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666" name="Picture 7" descr="132"/>
          <p:cNvPicPr/>
          <p:nvPr/>
        </p:nvPicPr>
        <p:blipFill>
          <a:blip r:embed="rId2"/>
          <a:stretch/>
        </p:blipFill>
        <p:spPr>
          <a:xfrm>
            <a:off x="179280" y="213372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8"/>
          <p:cNvSpPr/>
          <p:nvPr/>
        </p:nvSpPr>
        <p:spPr>
          <a:xfrm>
            <a:off x="611280" y="907920"/>
            <a:ext cx="2124000" cy="693720"/>
          </a:xfrm>
          <a:prstGeom prst="wedgeRoundRectCallout">
            <a:avLst>
              <a:gd name="adj1" fmla="val -43050"/>
              <a:gd name="adj2" fmla="val 89814"/>
              <a:gd name="adj3" fmla="val 16667"/>
            </a:avLst>
          </a:prstGeom>
          <a:noFill/>
          <a:ln w="38160">
            <a:solidFill>
              <a:srgbClr val="c606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668" name="Group 9"/>
          <p:cNvGrpSpPr/>
          <p:nvPr/>
        </p:nvGrpSpPr>
        <p:grpSpPr>
          <a:xfrm>
            <a:off x="324000" y="3860640"/>
            <a:ext cx="2442600" cy="2692080"/>
            <a:chOff x="324000" y="3860640"/>
            <a:chExt cx="2442600" cy="2692080"/>
          </a:xfrm>
        </p:grpSpPr>
        <p:sp>
          <p:nvSpPr>
            <p:cNvPr id="669" name="Line 10"/>
            <p:cNvSpPr/>
            <p:nvPr/>
          </p:nvSpPr>
          <p:spPr>
            <a:xfrm flipV="1">
              <a:off x="705240" y="4165200"/>
              <a:ext cx="1218960" cy="1371600"/>
            </a:xfrm>
            <a:prstGeom prst="line">
              <a:avLst/>
            </a:prstGeom>
            <a:ln w="38160">
              <a:solidFill>
                <a:srgbClr val="c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70" name="Line 11"/>
            <p:cNvSpPr/>
            <p:nvPr/>
          </p:nvSpPr>
          <p:spPr>
            <a:xfrm>
              <a:off x="705240" y="5536800"/>
              <a:ext cx="1676160" cy="0"/>
            </a:xfrm>
            <a:prstGeom prst="line">
              <a:avLst/>
            </a:prstGeom>
            <a:ln w="38160">
              <a:solidFill>
                <a:srgbClr val="c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71" name="Text Box 12"/>
            <p:cNvSpPr/>
            <p:nvPr/>
          </p:nvSpPr>
          <p:spPr>
            <a:xfrm>
              <a:off x="1467000" y="386064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72" name="Text Box 13"/>
            <p:cNvSpPr/>
            <p:nvPr/>
          </p:nvSpPr>
          <p:spPr>
            <a:xfrm>
              <a:off x="324000" y="5536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73" name="Text Box 14"/>
            <p:cNvSpPr/>
            <p:nvPr/>
          </p:nvSpPr>
          <p:spPr>
            <a:xfrm>
              <a:off x="2383200" y="5536800"/>
              <a:ext cx="383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4"/>
          <p:cNvSpPr/>
          <p:nvPr/>
        </p:nvSpPr>
        <p:spPr>
          <a:xfrm>
            <a:off x="738360" y="721080"/>
            <a:ext cx="7422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=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角的个数为：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+2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（即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=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角的个数为：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+2+3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（即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=3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角的个数为：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+2+3+4 (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即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0)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依此类推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有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条射线时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角的个数为：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+2+3+4+……+m+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+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共有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条射线时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角的个数为</a:t>
            </a:r>
            <a:br>
              <a:rPr sz="3200"/>
            </a:b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675" name="Object 15"/>
          <p:cNvGraphicFramePr/>
          <p:nvPr/>
        </p:nvGraphicFramePr>
        <p:xfrm>
          <a:off x="1770120" y="4516560"/>
          <a:ext cx="427824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0120" y="4516560"/>
                    <a:ext cx="427824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文本框 1"/>
          <p:cNvSpPr/>
          <p:nvPr/>
        </p:nvSpPr>
        <p:spPr>
          <a:xfrm>
            <a:off x="2199600" y="138240"/>
            <a:ext cx="46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当角的内部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条射线时共有多少个角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15"/>
          <p:cNvSpPr/>
          <p:nvPr/>
        </p:nvSpPr>
        <p:spPr>
          <a:xfrm>
            <a:off x="4524840" y="1628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棱锥表面上有几个角，请把它们表示出来？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679" name="Picture 16" descr="2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67720" y="6477120"/>
            <a:ext cx="476280" cy="380880"/>
          </a:xfrm>
          <a:prstGeom prst="rect">
            <a:avLst/>
          </a:prstGeom>
          <a:ln w="0">
            <a:noFill/>
          </a:ln>
        </p:spPr>
      </p:pic>
      <p:grpSp>
        <p:nvGrpSpPr>
          <p:cNvPr id="680" name="Group 26"/>
          <p:cNvGrpSpPr/>
          <p:nvPr/>
        </p:nvGrpSpPr>
        <p:grpSpPr>
          <a:xfrm>
            <a:off x="5413320" y="2379600"/>
            <a:ext cx="3498840" cy="2676600"/>
            <a:chOff x="5413320" y="2379600"/>
            <a:chExt cx="3498840" cy="2676600"/>
          </a:xfrm>
        </p:grpSpPr>
        <p:grpSp>
          <p:nvGrpSpPr>
            <p:cNvPr id="681" name="Group 14"/>
            <p:cNvGrpSpPr/>
            <p:nvPr/>
          </p:nvGrpSpPr>
          <p:grpSpPr>
            <a:xfrm>
              <a:off x="5740560" y="2708280"/>
              <a:ext cx="3023640" cy="2015640"/>
              <a:chOff x="5740560" y="2708280"/>
              <a:chExt cx="3023640" cy="2015640"/>
            </a:xfrm>
          </p:grpSpPr>
          <p:sp>
            <p:nvSpPr>
              <p:cNvPr id="682" name="Line 6"/>
              <p:cNvSpPr/>
              <p:nvPr/>
            </p:nvSpPr>
            <p:spPr>
              <a:xfrm>
                <a:off x="5740560" y="4644360"/>
                <a:ext cx="1716120" cy="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683" name="Line 7"/>
              <p:cNvSpPr/>
              <p:nvPr/>
            </p:nvSpPr>
            <p:spPr>
              <a:xfrm flipV="1">
                <a:off x="5740560" y="2708280"/>
                <a:ext cx="2042280" cy="193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684" name="Line 8"/>
              <p:cNvSpPr/>
              <p:nvPr/>
            </p:nvSpPr>
            <p:spPr>
              <a:xfrm>
                <a:off x="7782840" y="2708280"/>
                <a:ext cx="981360" cy="14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685" name="Line 9"/>
              <p:cNvSpPr/>
              <p:nvPr/>
            </p:nvSpPr>
            <p:spPr>
              <a:xfrm flipV="1">
                <a:off x="7537680" y="4160160"/>
                <a:ext cx="122616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686" name="Line 12"/>
              <p:cNvSpPr/>
              <p:nvPr/>
            </p:nvSpPr>
            <p:spPr>
              <a:xfrm flipV="1">
                <a:off x="5823360" y="4160160"/>
                <a:ext cx="2940840" cy="48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687" name="Line 13"/>
              <p:cNvSpPr/>
              <p:nvPr/>
            </p:nvSpPr>
            <p:spPr>
              <a:xfrm flipH="1">
                <a:off x="7537680" y="2708280"/>
                <a:ext cx="244800" cy="20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sp>
          <p:nvSpPr>
            <p:cNvPr id="688" name="Text Box 19"/>
            <p:cNvSpPr/>
            <p:nvPr/>
          </p:nvSpPr>
          <p:spPr>
            <a:xfrm>
              <a:off x="7577280" y="23796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89" name="Text Box 20"/>
            <p:cNvSpPr/>
            <p:nvPr/>
          </p:nvSpPr>
          <p:spPr>
            <a:xfrm>
              <a:off x="5413320" y="4673520"/>
              <a:ext cx="3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90" name="Text Box 21"/>
            <p:cNvSpPr/>
            <p:nvPr/>
          </p:nvSpPr>
          <p:spPr>
            <a:xfrm>
              <a:off x="7446960" y="4687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91" name="Text Box 22"/>
            <p:cNvSpPr/>
            <p:nvPr/>
          </p:nvSpPr>
          <p:spPr>
            <a:xfrm>
              <a:off x="8636040" y="4135320"/>
              <a:ext cx="2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692" name="WordArt 23"/>
          <p:cNvSpPr txBox="1"/>
          <p:nvPr/>
        </p:nvSpPr>
        <p:spPr>
          <a:xfrm>
            <a:off x="822240" y="590400"/>
            <a:ext cx="25765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2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练一练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3" name="Text Box 24"/>
          <p:cNvSpPr/>
          <p:nvPr/>
        </p:nvSpPr>
        <p:spPr>
          <a:xfrm>
            <a:off x="290520" y="2625840"/>
            <a:ext cx="5734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∠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BAC  ∠CAD    ∠BAD 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∠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ABC   ∠ABD    ∠CBD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∠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ACB   ∠ACD    ∠BCD  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∠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ADB   ∠ADC   ∠BDC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457200" y="655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、画直线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，在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上任取一点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，画射线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OC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OD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， 这时图中共有几个小于平角的角？分别用三个大写字母表示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2"/>
          <p:cNvSpPr txBox="1"/>
          <p:nvPr/>
        </p:nvSpPr>
        <p:spPr>
          <a:xfrm rot="21590400">
            <a:off x="5473800" y="450720"/>
            <a:ext cx="30272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考考你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2133000" y="914400"/>
            <a:ext cx="421776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、选择题：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下列语句正确的是（      ）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条直线相交，组成的图形叫做角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条有公共端点的线段组成的图形叫角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条有公共点的射线组成的图形叫角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从同一点引出的两条射线组成的图形叫角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下列说法正确的是（      ）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平角是一条直线                          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一条射线是一个周角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条射线组成的图形叫做角      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边成一直线的角是平角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443916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446472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1202040" y="336600"/>
            <a:ext cx="590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宋体"/>
                <a:ea typeface="华文宋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华文宋体"/>
                <a:ea typeface="华文宋体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判断题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）直线是一个平角                （     ）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）如图（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），点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P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不在∠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AOB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的内部 （     ）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0" name="Line 3"/>
          <p:cNvSpPr/>
          <p:nvPr/>
        </p:nvSpPr>
        <p:spPr>
          <a:xfrm>
            <a:off x="1828800" y="365760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1" name="Line 4"/>
          <p:cNvSpPr/>
          <p:nvPr/>
        </p:nvSpPr>
        <p:spPr>
          <a:xfrm flipV="1">
            <a:off x="1828800" y="2286000"/>
            <a:ext cx="79200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241668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1523880" y="35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357696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3676680" y="1905120"/>
            <a:ext cx="43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Times New Roman"/>
              </a:rPr>
              <a:t>·</a:t>
            </a:r>
            <a:endParaRPr b="1" lang="en-US" sz="8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6" name="Text Box 9"/>
          <p:cNvSpPr/>
          <p:nvPr/>
        </p:nvSpPr>
        <p:spPr>
          <a:xfrm>
            <a:off x="389772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7" name="Line 10"/>
          <p:cNvSpPr/>
          <p:nvPr/>
        </p:nvSpPr>
        <p:spPr>
          <a:xfrm>
            <a:off x="5105520" y="3048120"/>
            <a:ext cx="228600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8" name="Line 11"/>
          <p:cNvSpPr/>
          <p:nvPr/>
        </p:nvSpPr>
        <p:spPr>
          <a:xfrm flipV="1">
            <a:off x="5105520" y="2133720"/>
            <a:ext cx="16761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09" name="Line 12"/>
          <p:cNvSpPr/>
          <p:nvPr/>
        </p:nvSpPr>
        <p:spPr>
          <a:xfrm>
            <a:off x="5791320" y="2057400"/>
            <a:ext cx="129528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594576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479592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2" name="Text Box 15"/>
          <p:cNvSpPr/>
          <p:nvPr/>
        </p:nvSpPr>
        <p:spPr>
          <a:xfrm>
            <a:off x="6645600" y="313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3" name="Rectangle 16"/>
          <p:cNvSpPr/>
          <p:nvPr/>
        </p:nvSpPr>
        <p:spPr>
          <a:xfrm>
            <a:off x="5820840" y="262584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Times New Roman"/>
              </a:rPr>
              <a:t>·</a:t>
            </a:r>
            <a:endParaRPr b="1" lang="en-US" sz="8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5444640" y="204624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Times New Roman"/>
              </a:rPr>
              <a:t>·</a:t>
            </a:r>
            <a:endParaRPr b="1" lang="en-US" sz="8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5" name="Text Box 18"/>
          <p:cNvSpPr/>
          <p:nvPr/>
        </p:nvSpPr>
        <p:spPr>
          <a:xfrm>
            <a:off x="53884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5899320" y="3259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152280" y="40384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）如图（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）， ∠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ABC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与∠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DBE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是同一个角</a:t>
            </a:r>
            <a:r>
              <a:rPr b="1" lang="en-US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(    </a:t>
            </a:r>
            <a:r>
              <a:rPr b="1" lang="zh-CN" sz="2800" spc="-1" strike="noStrike">
                <a:solidFill>
                  <a:srgbClr val="0000cc"/>
                </a:solidFill>
                <a:latin typeface="华文宋体"/>
                <a:ea typeface="华文宋体"/>
              </a:rPr>
              <a:t>）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8" name="Rectangle 22"/>
          <p:cNvSpPr/>
          <p:nvPr/>
        </p:nvSpPr>
        <p:spPr>
          <a:xfrm>
            <a:off x="7122600" y="7462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9" name="Rectangle 23"/>
          <p:cNvSpPr/>
          <p:nvPr/>
        </p:nvSpPr>
        <p:spPr>
          <a:xfrm>
            <a:off x="7122600" y="11430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20" name="Rectangle 24"/>
          <p:cNvSpPr/>
          <p:nvPr/>
        </p:nvSpPr>
        <p:spPr>
          <a:xfrm>
            <a:off x="7410600" y="3300480"/>
            <a:ext cx="127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     √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WordArt 2"/>
          <p:cNvSpPr txBox="1"/>
          <p:nvPr/>
        </p:nvSpPr>
        <p:spPr>
          <a:xfrm>
            <a:off x="3048120" y="304920"/>
            <a:ext cx="2319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结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914400" y="124776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角的定义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公共端点的两条射线组成的图形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叫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角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这个公共端点叫做角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顶点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这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条射线叫做角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边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922320" y="3397320"/>
            <a:ext cx="716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角的定义二：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角可以看成是一条射线绕着它的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端点从一个位置旋转到另一个位置所形成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的图形。射线旋转时经过的平面部分叫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角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内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592200" y="3078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方正姚体"/>
                <a:ea typeface="方正姚体"/>
              </a:rPr>
              <a:t>3.</a:t>
            </a:r>
            <a:r>
              <a:rPr b="1" lang="zh-CN" sz="3200" spc="-1" strike="noStrike">
                <a:solidFill>
                  <a:srgbClr val="ff0066"/>
                </a:solidFill>
                <a:latin typeface="方正姚体"/>
                <a:ea typeface="方正姚体"/>
              </a:rPr>
              <a:t>角的四种表示方法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174600" y="833400"/>
          <a:ext cx="8969400" cy="4216320"/>
        </p:xfrm>
        <a:graphic>
          <a:graphicData uri="http://schemas.openxmlformats.org/drawingml/2006/table">
            <a:tbl>
              <a:tblPr/>
              <a:tblGrid>
                <a:gridCol w="4651560"/>
                <a:gridCol w="43178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6" name="Text Box 23"/>
          <p:cNvSpPr/>
          <p:nvPr/>
        </p:nvSpPr>
        <p:spPr>
          <a:xfrm>
            <a:off x="1638720" y="843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表示方法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27" name="Text Box 24"/>
          <p:cNvSpPr/>
          <p:nvPr/>
        </p:nvSpPr>
        <p:spPr>
          <a:xfrm>
            <a:off x="6013800" y="830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注意事项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28" name="Text Box 25"/>
          <p:cNvSpPr/>
          <p:nvPr/>
        </p:nvSpPr>
        <p:spPr>
          <a:xfrm>
            <a:off x="1992960" y="14508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用三个大写的字母表示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29" name="Text Box 26"/>
          <p:cNvSpPr/>
          <p:nvPr/>
        </p:nvSpPr>
        <p:spPr>
          <a:xfrm>
            <a:off x="4786200" y="136692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表示顶点的字母要写在中间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30" name="Text Box 27"/>
          <p:cNvSpPr/>
          <p:nvPr/>
        </p:nvSpPr>
        <p:spPr>
          <a:xfrm>
            <a:off x="200160" y="2413080"/>
            <a:ext cx="48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用一个顶点的字母来表示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31" name="Text Box 28"/>
          <p:cNvSpPr/>
          <p:nvPr/>
        </p:nvSpPr>
        <p:spPr>
          <a:xfrm>
            <a:off x="5364360" y="223056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以这个点为顶点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只能有一个角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32" name="Text Box 29"/>
          <p:cNvSpPr/>
          <p:nvPr/>
        </p:nvSpPr>
        <p:spPr>
          <a:xfrm>
            <a:off x="589320" y="33512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用一个数字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33" name="Text Box 30"/>
          <p:cNvSpPr/>
          <p:nvPr/>
        </p:nvSpPr>
        <p:spPr>
          <a:xfrm>
            <a:off x="5681160" y="317196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在靠近顶点的处画上弧线，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并写上数字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34" name="Text Box 31"/>
          <p:cNvSpPr/>
          <p:nvPr/>
        </p:nvSpPr>
        <p:spPr>
          <a:xfrm>
            <a:off x="225360" y="421956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希腊字母表示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35" name="Text Box 32"/>
          <p:cNvSpPr/>
          <p:nvPr/>
        </p:nvSpPr>
        <p:spPr>
          <a:xfrm>
            <a:off x="4759200" y="4110120"/>
            <a:ext cx="447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在靠近顶点的处画上弧线，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并写上希腊字母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36" name="Text Box 36"/>
          <p:cNvSpPr/>
          <p:nvPr/>
        </p:nvSpPr>
        <p:spPr>
          <a:xfrm>
            <a:off x="623880" y="5457960"/>
            <a:ext cx="52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平角、周角的概念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7FBD-FC5A-453C-9D19-3DFD3C6AF96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38" name="Text Box 2"/>
          <p:cNvSpPr/>
          <p:nvPr/>
        </p:nvSpPr>
        <p:spPr>
          <a:xfrm>
            <a:off x="479520" y="455760"/>
            <a:ext cx="23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认识量角器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739" name="Picture 3" descr="量角器"/>
          <p:cNvPicPr/>
          <p:nvPr/>
        </p:nvPicPr>
        <p:blipFill>
          <a:blip r:embed="rId2"/>
          <a:stretch/>
        </p:blipFill>
        <p:spPr>
          <a:xfrm>
            <a:off x="2114640" y="1612800"/>
            <a:ext cx="4913280" cy="2816280"/>
          </a:xfrm>
          <a:prstGeom prst="rect">
            <a:avLst/>
          </a:prstGeom>
          <a:ln w="0">
            <a:noFill/>
          </a:ln>
        </p:spPr>
      </p:pic>
      <p:sp>
        <p:nvSpPr>
          <p:cNvPr id="740" name="Oval 4"/>
          <p:cNvSpPr/>
          <p:nvPr/>
        </p:nvSpPr>
        <p:spPr>
          <a:xfrm>
            <a:off x="4502160" y="399564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1" name="Oval 5"/>
          <p:cNvSpPr/>
          <p:nvPr/>
        </p:nvSpPr>
        <p:spPr>
          <a:xfrm>
            <a:off x="4502160" y="3976560"/>
            <a:ext cx="117360" cy="1080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2" name="Oval 6"/>
          <p:cNvSpPr/>
          <p:nvPr/>
        </p:nvSpPr>
        <p:spPr>
          <a:xfrm>
            <a:off x="4502160" y="398304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3" name="Line 7"/>
          <p:cNvSpPr/>
          <p:nvPr/>
        </p:nvSpPr>
        <p:spPr>
          <a:xfrm flipV="1">
            <a:off x="4578480" y="4111560"/>
            <a:ext cx="0" cy="4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3645000" y="446256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量角器的中心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5" name="Line 9"/>
          <p:cNvSpPr/>
          <p:nvPr/>
        </p:nvSpPr>
        <p:spPr>
          <a:xfrm flipV="1">
            <a:off x="2225520" y="4052520"/>
            <a:ext cx="4676760" cy="190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6" name="Line 10"/>
          <p:cNvSpPr/>
          <p:nvPr/>
        </p:nvSpPr>
        <p:spPr>
          <a:xfrm flipV="1">
            <a:off x="6083280" y="4052880"/>
            <a:ext cx="0" cy="9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5032440" y="492300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8" name="未知"/>
          <p:cNvSpPr/>
          <p:nvPr/>
        </p:nvSpPr>
        <p:spPr>
          <a:xfrm>
            <a:off x="2835360" y="2328840"/>
            <a:ext cx="3457440" cy="17431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178" h="1098">
                <a:moveTo>
                  <a:pt x="0" y="1098"/>
                </a:moveTo>
                <a:cubicBezTo>
                  <a:pt x="2" y="1028"/>
                  <a:pt x="1" y="958"/>
                  <a:pt x="6" y="888"/>
                </a:cubicBezTo>
                <a:cubicBezTo>
                  <a:pt x="7" y="875"/>
                  <a:pt x="16" y="864"/>
                  <a:pt x="18" y="852"/>
                </a:cubicBezTo>
                <a:cubicBezTo>
                  <a:pt x="27" y="798"/>
                  <a:pt x="44" y="751"/>
                  <a:pt x="66" y="702"/>
                </a:cubicBezTo>
                <a:cubicBezTo>
                  <a:pt x="84" y="662"/>
                  <a:pt x="94" y="617"/>
                  <a:pt x="108" y="576"/>
                </a:cubicBezTo>
                <a:cubicBezTo>
                  <a:pt x="108" y="576"/>
                  <a:pt x="138" y="531"/>
                  <a:pt x="144" y="522"/>
                </a:cubicBezTo>
                <a:cubicBezTo>
                  <a:pt x="162" y="496"/>
                  <a:pt x="179" y="455"/>
                  <a:pt x="204" y="438"/>
                </a:cubicBezTo>
                <a:cubicBezTo>
                  <a:pt x="219" y="393"/>
                  <a:pt x="197" y="447"/>
                  <a:pt x="228" y="408"/>
                </a:cubicBezTo>
                <a:cubicBezTo>
                  <a:pt x="248" y="384"/>
                  <a:pt x="237" y="361"/>
                  <a:pt x="276" y="348"/>
                </a:cubicBezTo>
                <a:cubicBezTo>
                  <a:pt x="304" y="306"/>
                  <a:pt x="348" y="280"/>
                  <a:pt x="390" y="252"/>
                </a:cubicBezTo>
                <a:cubicBezTo>
                  <a:pt x="402" y="244"/>
                  <a:pt x="414" y="236"/>
                  <a:pt x="426" y="228"/>
                </a:cubicBezTo>
                <a:cubicBezTo>
                  <a:pt x="432" y="224"/>
                  <a:pt x="444" y="216"/>
                  <a:pt x="444" y="216"/>
                </a:cubicBezTo>
                <a:cubicBezTo>
                  <a:pt x="458" y="194"/>
                  <a:pt x="471" y="194"/>
                  <a:pt x="492" y="180"/>
                </a:cubicBezTo>
                <a:cubicBezTo>
                  <a:pt x="509" y="155"/>
                  <a:pt x="532" y="152"/>
                  <a:pt x="558" y="138"/>
                </a:cubicBezTo>
                <a:cubicBezTo>
                  <a:pt x="596" y="117"/>
                  <a:pt x="608" y="103"/>
                  <a:pt x="648" y="90"/>
                </a:cubicBezTo>
                <a:cubicBezTo>
                  <a:pt x="714" y="68"/>
                  <a:pt x="779" y="40"/>
                  <a:pt x="846" y="18"/>
                </a:cubicBezTo>
                <a:cubicBezTo>
                  <a:pt x="880" y="7"/>
                  <a:pt x="989" y="3"/>
                  <a:pt x="1026" y="0"/>
                </a:cubicBezTo>
                <a:cubicBezTo>
                  <a:pt x="1126" y="6"/>
                  <a:pt x="1226" y="13"/>
                  <a:pt x="1326" y="24"/>
                </a:cubicBezTo>
                <a:cubicBezTo>
                  <a:pt x="1373" y="36"/>
                  <a:pt x="1415" y="53"/>
                  <a:pt x="1458" y="72"/>
                </a:cubicBezTo>
                <a:cubicBezTo>
                  <a:pt x="1512" y="96"/>
                  <a:pt x="1567" y="112"/>
                  <a:pt x="1620" y="138"/>
                </a:cubicBezTo>
                <a:cubicBezTo>
                  <a:pt x="1644" y="150"/>
                  <a:pt x="1669" y="161"/>
                  <a:pt x="1692" y="174"/>
                </a:cubicBezTo>
                <a:cubicBezTo>
                  <a:pt x="1705" y="181"/>
                  <a:pt x="1716" y="190"/>
                  <a:pt x="1728" y="198"/>
                </a:cubicBezTo>
                <a:cubicBezTo>
                  <a:pt x="1734" y="202"/>
                  <a:pt x="1746" y="210"/>
                  <a:pt x="1746" y="210"/>
                </a:cubicBezTo>
                <a:cubicBezTo>
                  <a:pt x="1750" y="216"/>
                  <a:pt x="1752" y="223"/>
                  <a:pt x="1758" y="228"/>
                </a:cubicBezTo>
                <a:cubicBezTo>
                  <a:pt x="1763" y="232"/>
                  <a:pt x="1772" y="230"/>
                  <a:pt x="1776" y="234"/>
                </a:cubicBezTo>
                <a:cubicBezTo>
                  <a:pt x="1808" y="266"/>
                  <a:pt x="1752" y="242"/>
                  <a:pt x="1800" y="258"/>
                </a:cubicBezTo>
                <a:cubicBezTo>
                  <a:pt x="1834" y="310"/>
                  <a:pt x="1789" y="249"/>
                  <a:pt x="1830" y="282"/>
                </a:cubicBezTo>
                <a:cubicBezTo>
                  <a:pt x="1836" y="287"/>
                  <a:pt x="1837" y="295"/>
                  <a:pt x="1842" y="300"/>
                </a:cubicBezTo>
                <a:cubicBezTo>
                  <a:pt x="1847" y="305"/>
                  <a:pt x="1854" y="308"/>
                  <a:pt x="1860" y="312"/>
                </a:cubicBezTo>
                <a:cubicBezTo>
                  <a:pt x="1876" y="360"/>
                  <a:pt x="1852" y="304"/>
                  <a:pt x="1884" y="336"/>
                </a:cubicBezTo>
                <a:cubicBezTo>
                  <a:pt x="1917" y="369"/>
                  <a:pt x="1930" y="431"/>
                  <a:pt x="1968" y="456"/>
                </a:cubicBezTo>
                <a:cubicBezTo>
                  <a:pt x="1978" y="487"/>
                  <a:pt x="2000" y="517"/>
                  <a:pt x="2016" y="546"/>
                </a:cubicBezTo>
                <a:cubicBezTo>
                  <a:pt x="2027" y="565"/>
                  <a:pt x="2045" y="579"/>
                  <a:pt x="2052" y="600"/>
                </a:cubicBezTo>
                <a:cubicBezTo>
                  <a:pt x="2068" y="648"/>
                  <a:pt x="2084" y="696"/>
                  <a:pt x="2100" y="744"/>
                </a:cubicBezTo>
                <a:cubicBezTo>
                  <a:pt x="2111" y="778"/>
                  <a:pt x="2133" y="802"/>
                  <a:pt x="2142" y="840"/>
                </a:cubicBezTo>
                <a:cubicBezTo>
                  <a:pt x="2150" y="925"/>
                  <a:pt x="2178" y="1007"/>
                  <a:pt x="2178" y="1092"/>
                </a:cubicBezTo>
              </a:path>
            </a:pathLst>
          </a:custGeom>
          <a:noFill/>
          <a:ln w="507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9" name="Line 13"/>
          <p:cNvSpPr/>
          <p:nvPr/>
        </p:nvSpPr>
        <p:spPr>
          <a:xfrm flipV="1">
            <a:off x="3178080" y="303372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0" name="Text Box 14"/>
          <p:cNvSpPr/>
          <p:nvPr/>
        </p:nvSpPr>
        <p:spPr>
          <a:xfrm>
            <a:off x="2025720" y="52722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内刻度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1" name="Line 15"/>
          <p:cNvSpPr/>
          <p:nvPr/>
        </p:nvSpPr>
        <p:spPr>
          <a:xfrm>
            <a:off x="2111400" y="2147760"/>
            <a:ext cx="590400" cy="41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2" name="Text Box 16"/>
          <p:cNvSpPr/>
          <p:nvPr/>
        </p:nvSpPr>
        <p:spPr>
          <a:xfrm>
            <a:off x="291960" y="155736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外刻度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3" name="Line 17"/>
          <p:cNvSpPr/>
          <p:nvPr/>
        </p:nvSpPr>
        <p:spPr>
          <a:xfrm flipV="1">
            <a:off x="4568760" y="1719000"/>
            <a:ext cx="0" cy="2352600"/>
          </a:xfrm>
          <a:prstGeom prst="line">
            <a:avLst/>
          </a:prstGeom>
          <a:ln w="316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4" name="Line 18"/>
          <p:cNvSpPr/>
          <p:nvPr/>
        </p:nvSpPr>
        <p:spPr>
          <a:xfrm flipH="1">
            <a:off x="4568400" y="2043000"/>
            <a:ext cx="2629080" cy="75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5581800" y="14842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6" name="Line 20"/>
          <p:cNvSpPr/>
          <p:nvPr/>
        </p:nvSpPr>
        <p:spPr>
          <a:xfrm flipV="1">
            <a:off x="2263680" y="4052520"/>
            <a:ext cx="4676760" cy="19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7" name="Line 21"/>
          <p:cNvSpPr/>
          <p:nvPr/>
        </p:nvSpPr>
        <p:spPr>
          <a:xfrm flipV="1">
            <a:off x="2235240" y="4052520"/>
            <a:ext cx="4676760" cy="1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8" name="Line 22"/>
          <p:cNvSpPr/>
          <p:nvPr/>
        </p:nvSpPr>
        <p:spPr>
          <a:xfrm flipV="1">
            <a:off x="4568760" y="1719000"/>
            <a:ext cx="0" cy="2314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59" name="Line 23"/>
          <p:cNvSpPr/>
          <p:nvPr/>
        </p:nvSpPr>
        <p:spPr>
          <a:xfrm flipV="1">
            <a:off x="4568760" y="1719360"/>
            <a:ext cx="0" cy="229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60" name="WordArt 24"/>
          <p:cNvSpPr txBox="1"/>
          <p:nvPr/>
        </p:nvSpPr>
        <p:spPr>
          <a:xfrm rot="5400000">
            <a:off x="6339960" y="397332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761" name="WordArt 25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62" name="WordArt 26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763" name="WordArt 27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64" name="WordArt 28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765" name="WordArt 29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766" name="WordArt 30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67" name="WordArt 31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768" name="WordArt 32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69" name="WordArt 33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1" i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770" name="WordArt 34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771" name="WordArt 35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72" name="WordArt 36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773" name="WordArt 37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74" name="WordArt 38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775" name="WordArt 39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76" name="WordArt 40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77" name="WordArt 41"/>
          <p:cNvSpPr txBox="1"/>
          <p:nvPr/>
        </p:nvSpPr>
        <p:spPr>
          <a:xfrm rot="5400000">
            <a:off x="647460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78" name="WordArt 42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79" name="WordArt 43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1" i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80" name="未知"/>
          <p:cNvSpPr/>
          <p:nvPr/>
        </p:nvSpPr>
        <p:spPr>
          <a:xfrm>
            <a:off x="2219400" y="1714680"/>
            <a:ext cx="4668840" cy="2352600"/>
          </a:xfrm>
          <a:custGeom>
            <a:avLst/>
            <a:gdLst>
              <a:gd name="textAreaLeft" fmla="*/ 0 w 4668840"/>
              <a:gd name="textAreaRight" fmla="*/ 4669200 w 4668840"/>
              <a:gd name="textAreaTop" fmla="*/ 0 h 2352600"/>
              <a:gd name="textAreaBottom" fmla="*/ 2352960 h 2352600"/>
            </a:gdLst>
            <a:ahLst/>
            <a:rect l="textAreaLeft" t="textAreaTop" r="textAreaRight" b="textAreaBottom"/>
            <a:pathLst>
              <a:path w="2941" h="1482">
                <a:moveTo>
                  <a:pt x="0" y="1482"/>
                </a:moveTo>
                <a:cubicBezTo>
                  <a:pt x="11" y="1329"/>
                  <a:pt x="23" y="1173"/>
                  <a:pt x="72" y="1026"/>
                </a:cubicBezTo>
                <a:cubicBezTo>
                  <a:pt x="84" y="989"/>
                  <a:pt x="92" y="933"/>
                  <a:pt x="114" y="900"/>
                </a:cubicBezTo>
                <a:cubicBezTo>
                  <a:pt x="144" y="855"/>
                  <a:pt x="168" y="804"/>
                  <a:pt x="192" y="756"/>
                </a:cubicBezTo>
                <a:cubicBezTo>
                  <a:pt x="212" y="715"/>
                  <a:pt x="269" y="650"/>
                  <a:pt x="282" y="612"/>
                </a:cubicBezTo>
                <a:cubicBezTo>
                  <a:pt x="292" y="583"/>
                  <a:pt x="305" y="563"/>
                  <a:pt x="330" y="546"/>
                </a:cubicBezTo>
                <a:cubicBezTo>
                  <a:pt x="345" y="524"/>
                  <a:pt x="368" y="501"/>
                  <a:pt x="390" y="486"/>
                </a:cubicBezTo>
                <a:cubicBezTo>
                  <a:pt x="418" y="444"/>
                  <a:pt x="402" y="458"/>
                  <a:pt x="432" y="438"/>
                </a:cubicBezTo>
                <a:cubicBezTo>
                  <a:pt x="464" y="390"/>
                  <a:pt x="444" y="410"/>
                  <a:pt x="492" y="378"/>
                </a:cubicBezTo>
                <a:cubicBezTo>
                  <a:pt x="498" y="374"/>
                  <a:pt x="510" y="366"/>
                  <a:pt x="510" y="366"/>
                </a:cubicBezTo>
                <a:cubicBezTo>
                  <a:pt x="544" y="314"/>
                  <a:pt x="499" y="375"/>
                  <a:pt x="540" y="342"/>
                </a:cubicBezTo>
                <a:cubicBezTo>
                  <a:pt x="546" y="337"/>
                  <a:pt x="546" y="329"/>
                  <a:pt x="552" y="324"/>
                </a:cubicBezTo>
                <a:cubicBezTo>
                  <a:pt x="557" y="320"/>
                  <a:pt x="564" y="321"/>
                  <a:pt x="570" y="318"/>
                </a:cubicBezTo>
                <a:cubicBezTo>
                  <a:pt x="583" y="311"/>
                  <a:pt x="606" y="294"/>
                  <a:pt x="606" y="294"/>
                </a:cubicBezTo>
                <a:cubicBezTo>
                  <a:pt x="620" y="272"/>
                  <a:pt x="633" y="272"/>
                  <a:pt x="654" y="258"/>
                </a:cubicBezTo>
                <a:cubicBezTo>
                  <a:pt x="671" y="233"/>
                  <a:pt x="694" y="230"/>
                  <a:pt x="720" y="216"/>
                </a:cubicBezTo>
                <a:cubicBezTo>
                  <a:pt x="756" y="196"/>
                  <a:pt x="791" y="175"/>
                  <a:pt x="828" y="156"/>
                </a:cubicBezTo>
                <a:cubicBezTo>
                  <a:pt x="864" y="138"/>
                  <a:pt x="900" y="120"/>
                  <a:pt x="936" y="102"/>
                </a:cubicBezTo>
                <a:cubicBezTo>
                  <a:pt x="957" y="92"/>
                  <a:pt x="981" y="94"/>
                  <a:pt x="1002" y="84"/>
                </a:cubicBezTo>
                <a:cubicBezTo>
                  <a:pt x="1064" y="53"/>
                  <a:pt x="1161" y="21"/>
                  <a:pt x="1230" y="12"/>
                </a:cubicBezTo>
                <a:cubicBezTo>
                  <a:pt x="1260" y="8"/>
                  <a:pt x="1356" y="2"/>
                  <a:pt x="1380" y="0"/>
                </a:cubicBezTo>
                <a:cubicBezTo>
                  <a:pt x="1460" y="2"/>
                  <a:pt x="1540" y="2"/>
                  <a:pt x="1620" y="6"/>
                </a:cubicBezTo>
                <a:cubicBezTo>
                  <a:pt x="1712" y="10"/>
                  <a:pt x="1818" y="38"/>
                  <a:pt x="1908" y="60"/>
                </a:cubicBezTo>
                <a:cubicBezTo>
                  <a:pt x="1964" y="74"/>
                  <a:pt x="2018" y="97"/>
                  <a:pt x="2070" y="120"/>
                </a:cubicBezTo>
                <a:cubicBezTo>
                  <a:pt x="2070" y="120"/>
                  <a:pt x="2115" y="135"/>
                  <a:pt x="2124" y="138"/>
                </a:cubicBezTo>
                <a:cubicBezTo>
                  <a:pt x="2136" y="142"/>
                  <a:pt x="2160" y="150"/>
                  <a:pt x="2160" y="150"/>
                </a:cubicBezTo>
                <a:cubicBezTo>
                  <a:pt x="2179" y="178"/>
                  <a:pt x="2215" y="188"/>
                  <a:pt x="2244" y="204"/>
                </a:cubicBezTo>
                <a:cubicBezTo>
                  <a:pt x="2257" y="211"/>
                  <a:pt x="2280" y="228"/>
                  <a:pt x="2280" y="228"/>
                </a:cubicBezTo>
                <a:cubicBezTo>
                  <a:pt x="2284" y="234"/>
                  <a:pt x="2287" y="241"/>
                  <a:pt x="2292" y="246"/>
                </a:cubicBezTo>
                <a:cubicBezTo>
                  <a:pt x="2303" y="255"/>
                  <a:pt x="2328" y="270"/>
                  <a:pt x="2328" y="270"/>
                </a:cubicBezTo>
                <a:cubicBezTo>
                  <a:pt x="2350" y="303"/>
                  <a:pt x="2327" y="277"/>
                  <a:pt x="2358" y="294"/>
                </a:cubicBezTo>
                <a:cubicBezTo>
                  <a:pt x="2371" y="301"/>
                  <a:pt x="2394" y="318"/>
                  <a:pt x="2394" y="318"/>
                </a:cubicBezTo>
                <a:cubicBezTo>
                  <a:pt x="2428" y="370"/>
                  <a:pt x="2383" y="309"/>
                  <a:pt x="2424" y="342"/>
                </a:cubicBezTo>
                <a:cubicBezTo>
                  <a:pt x="2463" y="373"/>
                  <a:pt x="2409" y="351"/>
                  <a:pt x="2454" y="366"/>
                </a:cubicBezTo>
                <a:cubicBezTo>
                  <a:pt x="2469" y="388"/>
                  <a:pt x="2492" y="411"/>
                  <a:pt x="2514" y="426"/>
                </a:cubicBezTo>
                <a:cubicBezTo>
                  <a:pt x="2518" y="432"/>
                  <a:pt x="2521" y="439"/>
                  <a:pt x="2526" y="444"/>
                </a:cubicBezTo>
                <a:cubicBezTo>
                  <a:pt x="2531" y="449"/>
                  <a:pt x="2539" y="450"/>
                  <a:pt x="2544" y="456"/>
                </a:cubicBezTo>
                <a:cubicBezTo>
                  <a:pt x="2577" y="497"/>
                  <a:pt x="2516" y="452"/>
                  <a:pt x="2568" y="486"/>
                </a:cubicBezTo>
                <a:cubicBezTo>
                  <a:pt x="2582" y="527"/>
                  <a:pt x="2563" y="483"/>
                  <a:pt x="2592" y="516"/>
                </a:cubicBezTo>
                <a:cubicBezTo>
                  <a:pt x="2615" y="543"/>
                  <a:pt x="2618" y="563"/>
                  <a:pt x="2646" y="582"/>
                </a:cubicBezTo>
                <a:cubicBezTo>
                  <a:pt x="2654" y="606"/>
                  <a:pt x="2661" y="616"/>
                  <a:pt x="2682" y="630"/>
                </a:cubicBezTo>
                <a:cubicBezTo>
                  <a:pt x="2714" y="678"/>
                  <a:pt x="2743" y="733"/>
                  <a:pt x="2784" y="774"/>
                </a:cubicBezTo>
                <a:cubicBezTo>
                  <a:pt x="2795" y="806"/>
                  <a:pt x="2786" y="787"/>
                  <a:pt x="2814" y="828"/>
                </a:cubicBezTo>
                <a:cubicBezTo>
                  <a:pt x="2837" y="863"/>
                  <a:pt x="2852" y="913"/>
                  <a:pt x="2862" y="954"/>
                </a:cubicBezTo>
                <a:cubicBezTo>
                  <a:pt x="2871" y="990"/>
                  <a:pt x="2865" y="970"/>
                  <a:pt x="2880" y="1014"/>
                </a:cubicBezTo>
                <a:cubicBezTo>
                  <a:pt x="2884" y="1026"/>
                  <a:pt x="2892" y="1050"/>
                  <a:pt x="2892" y="1050"/>
                </a:cubicBezTo>
                <a:cubicBezTo>
                  <a:pt x="2904" y="1131"/>
                  <a:pt x="2891" y="1064"/>
                  <a:pt x="2904" y="1110"/>
                </a:cubicBezTo>
                <a:cubicBezTo>
                  <a:pt x="2908" y="1126"/>
                  <a:pt x="2916" y="1158"/>
                  <a:pt x="2916" y="1158"/>
                </a:cubicBezTo>
                <a:cubicBezTo>
                  <a:pt x="2920" y="1208"/>
                  <a:pt x="2928" y="1247"/>
                  <a:pt x="2934" y="1296"/>
                </a:cubicBezTo>
                <a:cubicBezTo>
                  <a:pt x="2941" y="1434"/>
                  <a:pt x="2940" y="1372"/>
                  <a:pt x="2940" y="1482"/>
                </a:cubicBezTo>
              </a:path>
            </a:pathLst>
          </a:cu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量角器"/>
          <p:cNvPicPr/>
          <p:nvPr/>
        </p:nvPicPr>
        <p:blipFill>
          <a:blip r:embed="rId2"/>
          <a:stretch/>
        </p:blipFill>
        <p:spPr>
          <a:xfrm>
            <a:off x="0" y="3573360"/>
            <a:ext cx="4572000" cy="25290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量角器"/>
          <p:cNvPicPr/>
          <p:nvPr/>
        </p:nvPicPr>
        <p:blipFill>
          <a:blip r:embed="rId3"/>
          <a:stretch/>
        </p:blipFill>
        <p:spPr>
          <a:xfrm rot="690600">
            <a:off x="231480" y="3645000"/>
            <a:ext cx="4556160" cy="2457360"/>
          </a:xfrm>
          <a:prstGeom prst="rect">
            <a:avLst/>
          </a:prstGeom>
          <a:ln w="0">
            <a:noFill/>
          </a:ln>
        </p:spPr>
      </p:pic>
      <p:sp>
        <p:nvSpPr>
          <p:cNvPr id="783" name="Rectangle 4"/>
          <p:cNvSpPr/>
          <p:nvPr/>
        </p:nvSpPr>
        <p:spPr>
          <a:xfrm>
            <a:off x="1568520" y="304920"/>
            <a:ext cx="58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量角器测量角的度数方法  ：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304920" y="1038240"/>
            <a:ext cx="85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的顶点对量角器的中心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250920" y="2637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角的另一边所对的度数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304920" y="18288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重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的一边与量角器的零线重合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2310120" y="5757120"/>
            <a:ext cx="2147400" cy="2232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88" name="Line 9"/>
          <p:cNvSpPr/>
          <p:nvPr/>
        </p:nvSpPr>
        <p:spPr>
          <a:xfrm flipV="1">
            <a:off x="2310480" y="3763800"/>
            <a:ext cx="725760" cy="19828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763640" y="566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4211640" y="5661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 rot="21433200">
            <a:off x="262728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792" name="Group 13"/>
          <p:cNvGrpSpPr/>
          <p:nvPr/>
        </p:nvGrpSpPr>
        <p:grpSpPr>
          <a:xfrm>
            <a:off x="5364000" y="4437000"/>
            <a:ext cx="2664000" cy="1901160"/>
            <a:chOff x="5364000" y="4437000"/>
            <a:chExt cx="2664000" cy="1901160"/>
          </a:xfrm>
        </p:grpSpPr>
        <p:sp>
          <p:nvSpPr>
            <p:cNvPr id="793" name="Text Box 14"/>
            <p:cNvSpPr/>
            <p:nvPr/>
          </p:nvSpPr>
          <p:spPr>
            <a:xfrm>
              <a:off x="7596000" y="58784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94" name="Text Box 15"/>
            <p:cNvSpPr/>
            <p:nvPr/>
          </p:nvSpPr>
          <p:spPr>
            <a:xfrm>
              <a:off x="5364000" y="573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95" name="Text Box 16"/>
            <p:cNvSpPr/>
            <p:nvPr/>
          </p:nvSpPr>
          <p:spPr>
            <a:xfrm>
              <a:off x="6946560" y="4437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96" name="Line 17"/>
            <p:cNvSpPr/>
            <p:nvPr/>
          </p:nvSpPr>
          <p:spPr>
            <a:xfrm>
              <a:off x="5795640" y="5805360"/>
              <a:ext cx="17528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97" name="Line 18"/>
            <p:cNvSpPr/>
            <p:nvPr/>
          </p:nvSpPr>
          <p:spPr>
            <a:xfrm flipV="1">
              <a:off x="5795640" y="4868640"/>
              <a:ext cx="1656000" cy="9036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798" name="未知"/>
          <p:cNvSpPr/>
          <p:nvPr/>
        </p:nvSpPr>
        <p:spPr>
          <a:xfrm>
            <a:off x="2411280" y="5543640"/>
            <a:ext cx="133560" cy="190440"/>
          </a:xfrm>
          <a:custGeom>
            <a:avLst/>
            <a:gdLst>
              <a:gd name="textAreaLeft" fmla="*/ 0 w 133560"/>
              <a:gd name="textAreaRight" fmla="*/ 133920 w 133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84" h="120">
                <a:moveTo>
                  <a:pt x="0" y="0"/>
                </a:moveTo>
                <a:cubicBezTo>
                  <a:pt x="30" y="20"/>
                  <a:pt x="39" y="36"/>
                  <a:pt x="66" y="54"/>
                </a:cubicBezTo>
                <a:cubicBezTo>
                  <a:pt x="73" y="76"/>
                  <a:pt x="84" y="97"/>
                  <a:pt x="84" y="1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2627280" y="5229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6227640" y="537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01" name="未知"/>
          <p:cNvSpPr/>
          <p:nvPr/>
        </p:nvSpPr>
        <p:spPr>
          <a:xfrm>
            <a:off x="6094440" y="5589720"/>
            <a:ext cx="133200" cy="190440"/>
          </a:xfrm>
          <a:custGeom>
            <a:avLst/>
            <a:gdLst>
              <a:gd name="textAreaLeft" fmla="*/ 0 w 133200"/>
              <a:gd name="textAreaRight" fmla="*/ 133560 w 133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84" h="120">
                <a:moveTo>
                  <a:pt x="0" y="0"/>
                </a:moveTo>
                <a:cubicBezTo>
                  <a:pt x="30" y="20"/>
                  <a:pt x="39" y="36"/>
                  <a:pt x="66" y="54"/>
                </a:cubicBezTo>
                <a:cubicBezTo>
                  <a:pt x="73" y="76"/>
                  <a:pt x="84" y="97"/>
                  <a:pt x="84" y="1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4356000" y="357336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3527280" y="28526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BC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&gt;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∠DEF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75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75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75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75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75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75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75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75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75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75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75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75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38385 0.00463 E">
                                      <p:cBhvr>
                                        <p:cTn id="1325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187280" y="549360"/>
            <a:ext cx="315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隶书"/>
                <a:ea typeface="隶书"/>
              </a:rPr>
              <a:t>角的定义</a:t>
            </a:r>
            <a:endParaRPr b="1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922320" y="1441440"/>
            <a:ext cx="783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角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中有许多与角有关的实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下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指出图中的角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195" name="Picture 7" descr="20424"/>
          <p:cNvPicPr/>
          <p:nvPr/>
        </p:nvPicPr>
        <p:blipFill>
          <a:blip r:embed="rId2"/>
          <a:stretch/>
        </p:blipFill>
        <p:spPr>
          <a:xfrm>
            <a:off x="324000" y="3211560"/>
            <a:ext cx="2234880" cy="3241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0011"/>
          <p:cNvPicPr/>
          <p:nvPr/>
        </p:nvPicPr>
        <p:blipFill>
          <a:blip r:embed="rId3"/>
          <a:stretch/>
        </p:blipFill>
        <p:spPr>
          <a:xfrm>
            <a:off x="2743200" y="3303720"/>
            <a:ext cx="3600360" cy="255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20416"/>
          <p:cNvPicPr/>
          <p:nvPr/>
        </p:nvPicPr>
        <p:blipFill>
          <a:blip r:embed="rId4"/>
          <a:stretch/>
        </p:blipFill>
        <p:spPr>
          <a:xfrm>
            <a:off x="6661080" y="3313080"/>
            <a:ext cx="1596960" cy="2325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10_14_4"/>
          <p:cNvPicPr/>
          <p:nvPr/>
        </p:nvPicPr>
        <p:blipFill>
          <a:blip r:embed="rId5"/>
          <a:stretch/>
        </p:blipFill>
        <p:spPr>
          <a:xfrm>
            <a:off x="324000" y="620640"/>
            <a:ext cx="790560" cy="6685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1"/>
          <p:cNvGrpSpPr/>
          <p:nvPr/>
        </p:nvGrpSpPr>
        <p:grpSpPr>
          <a:xfrm>
            <a:off x="1258920" y="4261680"/>
            <a:ext cx="644040" cy="1470960"/>
            <a:chOff x="1258920" y="4261680"/>
            <a:chExt cx="644040" cy="1470960"/>
          </a:xfrm>
        </p:grpSpPr>
        <p:sp>
          <p:nvSpPr>
            <p:cNvPr id="200" name="Line 12"/>
            <p:cNvSpPr/>
            <p:nvPr/>
          </p:nvSpPr>
          <p:spPr>
            <a:xfrm flipH="1" flipV="1">
              <a:off x="1258920" y="4261680"/>
              <a:ext cx="137520" cy="1470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>
              <a:off x="1258920" y="4261680"/>
              <a:ext cx="644040" cy="133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02" name="Group 14"/>
          <p:cNvGrpSpPr/>
          <p:nvPr/>
        </p:nvGrpSpPr>
        <p:grpSpPr>
          <a:xfrm>
            <a:off x="4542480" y="4007160"/>
            <a:ext cx="842760" cy="1166040"/>
            <a:chOff x="4542480" y="4007160"/>
            <a:chExt cx="842760" cy="1166040"/>
          </a:xfrm>
        </p:grpSpPr>
        <p:sp>
          <p:nvSpPr>
            <p:cNvPr id="203" name="Line 15"/>
            <p:cNvSpPr/>
            <p:nvPr/>
          </p:nvSpPr>
          <p:spPr>
            <a:xfrm flipH="1">
              <a:off x="4552560" y="4373280"/>
              <a:ext cx="832680" cy="799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542480" y="4007160"/>
              <a:ext cx="10080" cy="1165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05" name="Group 17"/>
          <p:cNvGrpSpPr/>
          <p:nvPr/>
        </p:nvGrpSpPr>
        <p:grpSpPr>
          <a:xfrm>
            <a:off x="7488720" y="3148200"/>
            <a:ext cx="983520" cy="1213560"/>
            <a:chOff x="7488720" y="3148200"/>
            <a:chExt cx="983520" cy="1213560"/>
          </a:xfrm>
        </p:grpSpPr>
        <p:sp>
          <p:nvSpPr>
            <p:cNvPr id="206" name="Line 18"/>
            <p:cNvSpPr/>
            <p:nvPr/>
          </p:nvSpPr>
          <p:spPr>
            <a:xfrm flipH="1">
              <a:off x="7488720" y="3610800"/>
              <a:ext cx="983520" cy="750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7" name="Line 19"/>
            <p:cNvSpPr/>
            <p:nvPr/>
          </p:nvSpPr>
          <p:spPr>
            <a:xfrm flipV="1">
              <a:off x="7488720" y="3148200"/>
              <a:ext cx="282960" cy="1213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08" name="Group 20"/>
          <p:cNvGrpSpPr/>
          <p:nvPr/>
        </p:nvGrpSpPr>
        <p:grpSpPr>
          <a:xfrm>
            <a:off x="6528960" y="4446360"/>
            <a:ext cx="905760" cy="1235160"/>
            <a:chOff x="6528960" y="4446360"/>
            <a:chExt cx="905760" cy="1235160"/>
          </a:xfrm>
        </p:grpSpPr>
        <p:sp>
          <p:nvSpPr>
            <p:cNvPr id="209" name="Line 21"/>
            <p:cNvSpPr/>
            <p:nvPr/>
          </p:nvSpPr>
          <p:spPr>
            <a:xfrm flipV="1">
              <a:off x="6528960" y="4446360"/>
              <a:ext cx="905760" cy="842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271640" y="4446360"/>
              <a:ext cx="163080" cy="1235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灯片编号占位符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3EA0-5965-4961-A7FA-C1BD4885FC2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805" name="Picture 2" descr="量角器"/>
          <p:cNvPicPr/>
          <p:nvPr/>
        </p:nvPicPr>
        <p:blipFill>
          <a:blip r:embed="rId2"/>
          <a:stretch/>
        </p:blipFill>
        <p:spPr>
          <a:xfrm>
            <a:off x="403200" y="2370240"/>
            <a:ext cx="3897360" cy="2233440"/>
          </a:xfrm>
          <a:prstGeom prst="rect">
            <a:avLst/>
          </a:prstGeom>
          <a:ln w="0">
            <a:noFill/>
          </a:ln>
        </p:spPr>
      </p:pic>
      <p:sp>
        <p:nvSpPr>
          <p:cNvPr id="806" name="Text Box 3"/>
          <p:cNvSpPr/>
          <p:nvPr/>
        </p:nvSpPr>
        <p:spPr>
          <a:xfrm>
            <a:off x="477720" y="3985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观察与思考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477720" y="1192320"/>
            <a:ext cx="76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大小与角的两边画出的长短有关吗？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808" name="Picture 5" descr="量角器"/>
          <p:cNvPicPr/>
          <p:nvPr/>
        </p:nvPicPr>
        <p:blipFill>
          <a:blip r:embed="rId3"/>
          <a:stretch/>
        </p:blipFill>
        <p:spPr>
          <a:xfrm>
            <a:off x="4489560" y="2362320"/>
            <a:ext cx="3897360" cy="2233440"/>
          </a:xfrm>
          <a:prstGeom prst="rect">
            <a:avLst/>
          </a:prstGeom>
          <a:ln w="0">
            <a:noFill/>
          </a:ln>
        </p:spPr>
      </p:pic>
      <p:sp>
        <p:nvSpPr>
          <p:cNvPr id="809" name="未知"/>
          <p:cNvSpPr/>
          <p:nvPr/>
        </p:nvSpPr>
        <p:spPr>
          <a:xfrm>
            <a:off x="2352600" y="3427560"/>
            <a:ext cx="1114560" cy="88560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702" h="558">
                <a:moveTo>
                  <a:pt x="312" y="0"/>
                </a:moveTo>
                <a:lnTo>
                  <a:pt x="0" y="558"/>
                </a:lnTo>
                <a:lnTo>
                  <a:pt x="702" y="5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571680" y="4870440"/>
            <a:ext cx="81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角的大小与角的两边画出的长短</a:t>
            </a:r>
            <a:r>
              <a:rPr b="0" lang="zh-CN" sz="3200" spc="-1" strike="noStrike">
                <a:solidFill>
                  <a:srgbClr val="e90b20"/>
                </a:solidFill>
                <a:latin typeface="Times New Roman"/>
                <a:ea typeface="黑体"/>
              </a:rPr>
              <a:t>没有关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1" name="未知"/>
          <p:cNvSpPr/>
          <p:nvPr/>
        </p:nvSpPr>
        <p:spPr>
          <a:xfrm>
            <a:off x="6438960" y="2502000"/>
            <a:ext cx="1949400" cy="180324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1803240"/>
              <a:gd name="textAreaBottom" fmla="*/ 1803600 h 1803240"/>
            </a:gdLst>
            <a:ahLst/>
            <a:rect l="textAreaLeft" t="textAreaTop" r="textAreaRight" b="textAreaBottom"/>
            <a:pathLst>
              <a:path w="1228" h="1136">
                <a:moveTo>
                  <a:pt x="640" y="0"/>
                </a:moveTo>
                <a:lnTo>
                  <a:pt x="0" y="1136"/>
                </a:lnTo>
                <a:lnTo>
                  <a:pt x="1228" y="1136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2" name="未知"/>
          <p:cNvSpPr/>
          <p:nvPr/>
        </p:nvSpPr>
        <p:spPr>
          <a:xfrm>
            <a:off x="2514600" y="4029120"/>
            <a:ext cx="190440" cy="285840"/>
          </a:xfrm>
          <a:custGeom>
            <a:avLst/>
            <a:gdLst>
              <a:gd name="textAreaLeft" fmla="*/ 0 w 190440"/>
              <a:gd name="textAreaRight" fmla="*/ 190800 w 1904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" h="180">
                <a:moveTo>
                  <a:pt x="0" y="0"/>
                </a:moveTo>
                <a:cubicBezTo>
                  <a:pt x="12" y="4"/>
                  <a:pt x="25" y="5"/>
                  <a:pt x="36" y="12"/>
                </a:cubicBezTo>
                <a:cubicBezTo>
                  <a:pt x="48" y="20"/>
                  <a:pt x="72" y="36"/>
                  <a:pt x="72" y="36"/>
                </a:cubicBezTo>
                <a:cubicBezTo>
                  <a:pt x="83" y="68"/>
                  <a:pt x="103" y="93"/>
                  <a:pt x="114" y="126"/>
                </a:cubicBezTo>
                <a:cubicBezTo>
                  <a:pt x="120" y="143"/>
                  <a:pt x="114" y="162"/>
                  <a:pt x="114" y="18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3" name="未知"/>
          <p:cNvSpPr/>
          <p:nvPr/>
        </p:nvSpPr>
        <p:spPr>
          <a:xfrm>
            <a:off x="6620040" y="4000680"/>
            <a:ext cx="180720" cy="295200"/>
          </a:xfrm>
          <a:custGeom>
            <a:avLst/>
            <a:gdLst>
              <a:gd name="textAreaLeft" fmla="*/ 0 w 180720"/>
              <a:gd name="textAreaRight" fmla="*/ 181080 w 1807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14" h="186">
                <a:moveTo>
                  <a:pt x="0" y="0"/>
                </a:moveTo>
                <a:cubicBezTo>
                  <a:pt x="65" y="22"/>
                  <a:pt x="12" y="10"/>
                  <a:pt x="60" y="42"/>
                </a:cubicBezTo>
                <a:cubicBezTo>
                  <a:pt x="71" y="74"/>
                  <a:pt x="91" y="99"/>
                  <a:pt x="102" y="132"/>
                </a:cubicBezTo>
                <a:cubicBezTo>
                  <a:pt x="108" y="149"/>
                  <a:pt x="114" y="186"/>
                  <a:pt x="114" y="18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4572000" y="1557360"/>
            <a:ext cx="4572000" cy="48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395280" y="1125360"/>
            <a:ext cx="6049800" cy="483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ulim"/>
                <a:ea typeface="Tahoma"/>
              </a:rPr>
              <a:t>角的度量单位：度 、分、秒</a:t>
            </a:r>
            <a:r>
              <a:rPr b="1" lang="en-US" sz="3200" spc="-1" strike="noStrike">
                <a:solidFill>
                  <a:srgbClr val="0000ff"/>
                </a:solidFill>
                <a:latin typeface="Gulim"/>
                <a:ea typeface="Tahoma"/>
              </a:rPr>
              <a:t>.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6" name="Text Box 4"/>
          <p:cNvSpPr/>
          <p:nvPr/>
        </p:nvSpPr>
        <p:spPr>
          <a:xfrm>
            <a:off x="2268360" y="2565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度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684360" y="5576760"/>
            <a:ext cx="73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分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4489560" y="5630760"/>
            <a:ext cx="102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秒</a:t>
            </a:r>
            <a:endParaRPr b="1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19" name="Line 7"/>
          <p:cNvSpPr/>
          <p:nvPr/>
        </p:nvSpPr>
        <p:spPr>
          <a:xfrm>
            <a:off x="3070080" y="3284640"/>
            <a:ext cx="1873440" cy="2346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0" name="Line 8"/>
          <p:cNvSpPr/>
          <p:nvPr/>
        </p:nvSpPr>
        <p:spPr>
          <a:xfrm flipH="1" flipV="1">
            <a:off x="2955600" y="3394080"/>
            <a:ext cx="1816200" cy="2292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1" name="Line 9"/>
          <p:cNvSpPr/>
          <p:nvPr/>
        </p:nvSpPr>
        <p:spPr>
          <a:xfrm flipH="1">
            <a:off x="1137960" y="3338640"/>
            <a:ext cx="1361880" cy="2238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2" name="Line 10"/>
          <p:cNvSpPr/>
          <p:nvPr/>
        </p:nvSpPr>
        <p:spPr>
          <a:xfrm flipV="1">
            <a:off x="1309680" y="3447720"/>
            <a:ext cx="1305000" cy="212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3" name="Line 11"/>
          <p:cNvSpPr/>
          <p:nvPr/>
        </p:nvSpPr>
        <p:spPr>
          <a:xfrm>
            <a:off x="1422360" y="6067440"/>
            <a:ext cx="3292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4" name="Line 12"/>
          <p:cNvSpPr/>
          <p:nvPr/>
        </p:nvSpPr>
        <p:spPr>
          <a:xfrm flipH="1">
            <a:off x="1422360" y="5904000"/>
            <a:ext cx="3237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755640" y="393372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60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1876320" y="6013440"/>
            <a:ext cx="136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60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7" name="Text Box 15"/>
          <p:cNvSpPr/>
          <p:nvPr/>
        </p:nvSpPr>
        <p:spPr>
          <a:xfrm>
            <a:off x="3465360" y="372096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3600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1835280" y="4437000"/>
            <a:ext cx="10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÷60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2771640" y="4508640"/>
            <a:ext cx="15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÷3600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0" name="Text Box 18"/>
          <p:cNvSpPr/>
          <p:nvPr/>
        </p:nvSpPr>
        <p:spPr>
          <a:xfrm>
            <a:off x="2340000" y="5373720"/>
            <a:ext cx="1644480" cy="483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÷60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1" name="Text Box 19"/>
          <p:cNvSpPr/>
          <p:nvPr/>
        </p:nvSpPr>
        <p:spPr>
          <a:xfrm>
            <a:off x="179280" y="170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分之一为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分，记作“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′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′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2" name="Text Box 20"/>
          <p:cNvSpPr/>
          <p:nvPr/>
        </p:nvSpPr>
        <p:spPr>
          <a:xfrm>
            <a:off x="108000" y="22734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′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分之一为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秒，记作“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″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″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角的度量单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及换算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6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7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8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4"/>
          <p:cNvSpPr/>
          <p:nvPr/>
        </p:nvSpPr>
        <p:spPr>
          <a:xfrm>
            <a:off x="2459520" y="515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角的单位换算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5" name="Text Box 5"/>
          <p:cNvSpPr/>
          <p:nvPr/>
        </p:nvSpPr>
        <p:spPr>
          <a:xfrm>
            <a:off x="2326680" y="1631880"/>
            <a:ext cx="39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把以度为单位的化成度分秒表示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04120" y="2386080"/>
            <a:ext cx="42433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例：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38°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3°+(0.38×60) ′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3°+22.8′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3°+22 ′+(0.8 ×60)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〞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3°+22′+48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〞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8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4"/>
          <p:cNvSpPr/>
          <p:nvPr/>
        </p:nvSpPr>
        <p:spPr>
          <a:xfrm>
            <a:off x="2189520" y="193680"/>
            <a:ext cx="35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把度分秒表示的化成度表示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4286520" y="965160"/>
            <a:ext cx="36223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例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8°7′12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〞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28°+7′+(12 ÷60)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′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28°+(7.2÷60)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°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28.12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方法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428760" y="3314880"/>
            <a:ext cx="730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°7′1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〞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8.12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840" name="Object 7"/>
          <p:cNvGraphicFramePr/>
          <p:nvPr/>
        </p:nvGraphicFramePr>
        <p:xfrm>
          <a:off x="914400" y="3659040"/>
          <a:ext cx="3613320" cy="10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659040"/>
                    <a:ext cx="361332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4"/>
          <p:cNvSpPr/>
          <p:nvPr/>
        </p:nvSpPr>
        <p:spPr>
          <a:xfrm>
            <a:off x="3438360" y="61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钟表问题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3" name="Text Box 5"/>
          <p:cNvSpPr/>
          <p:nvPr/>
        </p:nvSpPr>
        <p:spPr>
          <a:xfrm>
            <a:off x="2062080" y="1565280"/>
            <a:ext cx="17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认识钟表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4" name="Text Box 7"/>
          <p:cNvSpPr/>
          <p:nvPr/>
        </p:nvSpPr>
        <p:spPr>
          <a:xfrm>
            <a:off x="4241520" y="1525680"/>
            <a:ext cx="1359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时钟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gsp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636280" y="2386080"/>
            <a:ext cx="34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时针和分针转动角度关系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6" name="Text Box 9"/>
          <p:cNvSpPr/>
          <p:nvPr/>
        </p:nvSpPr>
        <p:spPr>
          <a:xfrm>
            <a:off x="2038320" y="2990880"/>
            <a:ext cx="5721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钟面分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大格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大格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0°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，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小格，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小格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6°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分针走一圈，即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小格，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时针走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大格，也就是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小格，因此分针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转动的速度是时针的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倍，所以分针每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分钟转动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6°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，时针每分钟转动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0.5°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4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5" dur="8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6" dur="8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8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896480" y="638280"/>
            <a:ext cx="15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应用举例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216520" y="1351080"/>
            <a:ext cx="49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时针和分针的夹角是多少度？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2295720" y="2090880"/>
            <a:ext cx="44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分针从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开始转动了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8×6=168°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50" name="Text Box 7"/>
          <p:cNvSpPr/>
          <p:nvPr/>
        </p:nvSpPr>
        <p:spPr>
          <a:xfrm>
            <a:off x="2412000" y="2814480"/>
            <a:ext cx="4942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时针从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开始转动了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7-1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×30+28×0.5=164°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51" name="Text Box 8"/>
          <p:cNvSpPr/>
          <p:nvPr/>
        </p:nvSpPr>
        <p:spPr>
          <a:xfrm>
            <a:off x="2595240" y="4402080"/>
            <a:ext cx="21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68-164=4°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4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WordArt 2"/>
          <p:cNvSpPr txBox="1"/>
          <p:nvPr/>
        </p:nvSpPr>
        <p:spPr>
          <a:xfrm rot="476400">
            <a:off x="2852280" y="360360"/>
            <a:ext cx="318924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446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创新与应用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446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442800" y="1300320"/>
            <a:ext cx="7905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一天</a:t>
            </a: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4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小时中，时钟的时针与分针共组成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多少次平角？多少次周角？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54" name="Text Box 5"/>
          <p:cNvSpPr/>
          <p:nvPr/>
        </p:nvSpPr>
        <p:spPr>
          <a:xfrm>
            <a:off x="404640" y="3316320"/>
            <a:ext cx="78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某火车站的钟楼上装有一电子报时钟，在钟面的边界上，每分钟的刻度处都装有一只小彩灯。晚上九时三十分时，时针与分针所夹的角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α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内装有多少只小彩灯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55" name="Text Box 6"/>
          <p:cNvSpPr/>
          <p:nvPr/>
        </p:nvSpPr>
        <p:spPr>
          <a:xfrm>
            <a:off x="5401440" y="225108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次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56" name="Text Box 7"/>
          <p:cNvSpPr/>
          <p:nvPr/>
        </p:nvSpPr>
        <p:spPr>
          <a:xfrm>
            <a:off x="5482440" y="555768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只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WordArt 4"/>
          <p:cNvSpPr txBox="1"/>
          <p:nvPr/>
        </p:nvSpPr>
        <p:spPr>
          <a:xfrm>
            <a:off x="1835280" y="1628640"/>
            <a:ext cx="6121440" cy="400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Thank you!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3"/>
          <p:cNvPicPr/>
          <p:nvPr/>
        </p:nvPicPr>
        <p:blipFill>
          <a:blip r:embed="rId2"/>
          <a:stretch/>
        </p:blipFill>
        <p:spPr>
          <a:xfrm>
            <a:off x="0" y="-73080"/>
            <a:ext cx="9677520" cy="69310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3"/>
          <p:cNvGrpSpPr/>
          <p:nvPr/>
        </p:nvGrpSpPr>
        <p:grpSpPr>
          <a:xfrm>
            <a:off x="3419640" y="1989000"/>
            <a:ext cx="2514600" cy="1295280"/>
            <a:chOff x="3419640" y="1989000"/>
            <a:chExt cx="2514600" cy="1295280"/>
          </a:xfrm>
        </p:grpSpPr>
        <p:sp>
          <p:nvSpPr>
            <p:cNvPr id="213" name="Line 4"/>
            <p:cNvSpPr/>
            <p:nvPr/>
          </p:nvSpPr>
          <p:spPr>
            <a:xfrm flipV="1">
              <a:off x="3419640" y="1989000"/>
              <a:ext cx="121932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4" name="Line 5"/>
            <p:cNvSpPr/>
            <p:nvPr/>
          </p:nvSpPr>
          <p:spPr>
            <a:xfrm>
              <a:off x="4638960" y="1989000"/>
              <a:ext cx="129528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15" name="Group 6"/>
          <p:cNvGrpSpPr/>
          <p:nvPr/>
        </p:nvGrpSpPr>
        <p:grpSpPr>
          <a:xfrm>
            <a:off x="3581280" y="4495680"/>
            <a:ext cx="2210040" cy="1295640"/>
            <a:chOff x="3581280" y="4495680"/>
            <a:chExt cx="2210040" cy="1295640"/>
          </a:xfrm>
        </p:grpSpPr>
        <p:sp>
          <p:nvSpPr>
            <p:cNvPr id="216" name="Line 7"/>
            <p:cNvSpPr/>
            <p:nvPr/>
          </p:nvSpPr>
          <p:spPr>
            <a:xfrm flipH="1">
              <a:off x="3581280" y="4495680"/>
              <a:ext cx="106704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648320" y="4495680"/>
              <a:ext cx="1143000" cy="1295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2482920" y="1339920"/>
            <a:ext cx="4319640" cy="4319640"/>
            <a:chOff x="2482920" y="1339920"/>
            <a:chExt cx="4319640" cy="4319640"/>
          </a:xfrm>
        </p:grpSpPr>
        <p:grpSp>
          <p:nvGrpSpPr>
            <p:cNvPr id="219" name="Group 3"/>
            <p:cNvGrpSpPr/>
            <p:nvPr/>
          </p:nvGrpSpPr>
          <p:grpSpPr>
            <a:xfrm>
              <a:off x="2482920" y="1339920"/>
              <a:ext cx="4319640" cy="4319640"/>
              <a:chOff x="2482920" y="1339920"/>
              <a:chExt cx="4319640" cy="4319640"/>
            </a:xfrm>
          </p:grpSpPr>
          <p:grpSp>
            <p:nvGrpSpPr>
              <p:cNvPr id="220" name="Group 4"/>
              <p:cNvGrpSpPr/>
              <p:nvPr/>
            </p:nvGrpSpPr>
            <p:grpSpPr>
              <a:xfrm>
                <a:off x="2482920" y="1339920"/>
                <a:ext cx="4319640" cy="4319640"/>
                <a:chOff x="2482920" y="1339920"/>
                <a:chExt cx="4319640" cy="4319640"/>
              </a:xfrm>
            </p:grpSpPr>
            <p:grpSp>
              <p:nvGrpSpPr>
                <p:cNvPr id="221" name="Group 5"/>
                <p:cNvGrpSpPr/>
                <p:nvPr/>
              </p:nvGrpSpPr>
              <p:grpSpPr>
                <a:xfrm>
                  <a:off x="2482920" y="1339920"/>
                  <a:ext cx="4319640" cy="4319640"/>
                  <a:chOff x="2482920" y="1339920"/>
                  <a:chExt cx="4319640" cy="4319640"/>
                </a:xfrm>
              </p:grpSpPr>
              <p:sp>
                <p:nvSpPr>
                  <p:cNvPr id="222" name="Oval 6"/>
                  <p:cNvSpPr/>
                  <p:nvPr/>
                </p:nvSpPr>
                <p:spPr>
                  <a:xfrm>
                    <a:off x="2482920" y="1339920"/>
                    <a:ext cx="4319640" cy="4319640"/>
                  </a:xfrm>
                  <a:prstGeom prst="ellipse">
                    <a:avLst/>
                  </a:prstGeom>
                  <a:blipFill rotWithShape="0">
                    <a:blip r:embed="rId2">
                      <a:alphaModFix amt="41000"/>
                    </a:blip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7"/>
                  <p:cNvSpPr/>
                  <p:nvPr/>
                </p:nvSpPr>
                <p:spPr>
                  <a:xfrm>
                    <a:off x="2698920" y="1545840"/>
                    <a:ext cx="3908520" cy="390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Oval 8"/>
                <p:cNvSpPr/>
                <p:nvPr/>
              </p:nvSpPr>
              <p:spPr>
                <a:xfrm>
                  <a:off x="4515480" y="3372840"/>
                  <a:ext cx="25452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9"/>
                <p:cNvSpPr/>
                <p:nvPr/>
              </p:nvSpPr>
              <p:spPr>
                <a:xfrm>
                  <a:off x="2710080" y="3381840"/>
                  <a:ext cx="509040" cy="23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0"/>
                <p:cNvSpPr/>
                <p:nvPr/>
              </p:nvSpPr>
              <p:spPr>
                <a:xfrm>
                  <a:off x="6087600" y="3381840"/>
                  <a:ext cx="509040" cy="23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1"/>
                <p:cNvSpPr/>
                <p:nvPr/>
              </p:nvSpPr>
              <p:spPr>
                <a:xfrm rot="5400000">
                  <a:off x="4389120" y="1699200"/>
                  <a:ext cx="509040" cy="23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2"/>
                <p:cNvSpPr/>
                <p:nvPr/>
              </p:nvSpPr>
              <p:spPr>
                <a:xfrm rot="5400000">
                  <a:off x="4386240" y="5069880"/>
                  <a:ext cx="509040" cy="23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Rectangle 13"/>
              <p:cNvSpPr/>
              <p:nvPr/>
            </p:nvSpPr>
            <p:spPr>
              <a:xfrm rot="14400000">
                <a:off x="3576960" y="1933560"/>
                <a:ext cx="338760" cy="83880"/>
              </a:xfrm>
              <a:prstGeom prst="rect">
                <a:avLst/>
              </a:prstGeom>
              <a:solidFill>
                <a:srgbClr val="c3c3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30" name="Rectangle 14"/>
              <p:cNvSpPr/>
              <p:nvPr/>
            </p:nvSpPr>
            <p:spPr>
              <a:xfrm rot="14400000">
                <a:off x="5358600" y="5011920"/>
                <a:ext cx="338040" cy="83520"/>
              </a:xfrm>
              <a:prstGeom prst="rect">
                <a:avLst/>
              </a:prstGeom>
              <a:solidFill>
                <a:srgbClr val="c3c3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31" name="Rectangle 15"/>
              <p:cNvSpPr/>
              <p:nvPr/>
            </p:nvSpPr>
            <p:spPr>
              <a:xfrm rot="9000000">
                <a:off x="6006600" y="2549160"/>
                <a:ext cx="338760" cy="83160"/>
              </a:xfrm>
              <a:prstGeom prst="rect">
                <a:avLst/>
              </a:prstGeom>
              <a:solidFill>
                <a:srgbClr val="c3c3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32" name="Rectangle 16"/>
              <p:cNvSpPr/>
              <p:nvPr/>
            </p:nvSpPr>
            <p:spPr>
              <a:xfrm rot="9000000">
                <a:off x="2946600" y="4333320"/>
                <a:ext cx="338040" cy="83880"/>
              </a:xfrm>
              <a:prstGeom prst="rect">
                <a:avLst/>
              </a:prstGeom>
              <a:solidFill>
                <a:srgbClr val="c3c3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33" name="Rectangle 17"/>
              <p:cNvSpPr/>
              <p:nvPr/>
            </p:nvSpPr>
            <p:spPr>
              <a:xfrm flipH="1" rot="12600000">
                <a:off x="2952360" y="2561040"/>
                <a:ext cx="338760" cy="83520"/>
              </a:xfrm>
              <a:prstGeom prst="rect">
                <a:avLst/>
              </a:prstGeom>
              <a:solidFill>
                <a:srgbClr val="c3c3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34" name="Rectangle 18"/>
              <p:cNvSpPr/>
              <p:nvPr/>
            </p:nvSpPr>
            <p:spPr>
              <a:xfrm flipH="1" rot="12600000">
                <a:off x="6026760" y="4351320"/>
                <a:ext cx="338040" cy="83520"/>
              </a:xfrm>
              <a:prstGeom prst="rect">
                <a:avLst/>
              </a:prstGeom>
              <a:solidFill>
                <a:srgbClr val="c3c3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35" name="Rectangle 19"/>
              <p:cNvSpPr/>
              <p:nvPr/>
            </p:nvSpPr>
            <p:spPr>
              <a:xfrm flipH="1" rot="7200000">
                <a:off x="5358240" y="1910160"/>
                <a:ext cx="338040" cy="83160"/>
              </a:xfrm>
              <a:prstGeom prst="rect">
                <a:avLst/>
              </a:prstGeom>
              <a:solidFill>
                <a:srgbClr val="c3c3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36" name="Rectangle 20"/>
              <p:cNvSpPr/>
              <p:nvPr/>
            </p:nvSpPr>
            <p:spPr>
              <a:xfrm flipH="1" rot="7200000">
                <a:off x="3579840" y="4976280"/>
                <a:ext cx="338040" cy="83160"/>
              </a:xfrm>
              <a:prstGeom prst="rect">
                <a:avLst/>
              </a:prstGeom>
              <a:solidFill>
                <a:srgbClr val="c3c3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sp>
          <p:nvSpPr>
            <p:cNvPr id="237" name="WordArt 21"/>
            <p:cNvSpPr txBox="1"/>
            <p:nvPr/>
          </p:nvSpPr>
          <p:spPr>
            <a:xfrm>
              <a:off x="5160960" y="219852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1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38" name="WordArt 22"/>
            <p:cNvSpPr txBox="1"/>
            <p:nvPr/>
          </p:nvSpPr>
          <p:spPr>
            <a:xfrm>
              <a:off x="5665680" y="257328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2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39" name="WordArt 23"/>
            <p:cNvSpPr txBox="1"/>
            <p:nvPr/>
          </p:nvSpPr>
          <p:spPr>
            <a:xfrm>
              <a:off x="5832360" y="32544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3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40" name="WordArt 24"/>
            <p:cNvSpPr txBox="1"/>
            <p:nvPr/>
          </p:nvSpPr>
          <p:spPr>
            <a:xfrm>
              <a:off x="5665680" y="390672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4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41" name="WordArt 25"/>
            <p:cNvSpPr txBox="1"/>
            <p:nvPr/>
          </p:nvSpPr>
          <p:spPr>
            <a:xfrm>
              <a:off x="5199120" y="433872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5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42" name="WordArt 26"/>
            <p:cNvSpPr txBox="1"/>
            <p:nvPr/>
          </p:nvSpPr>
          <p:spPr>
            <a:xfrm>
              <a:off x="4518000" y="44640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6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43" name="WordArt 27"/>
            <p:cNvSpPr txBox="1"/>
            <p:nvPr/>
          </p:nvSpPr>
          <p:spPr>
            <a:xfrm>
              <a:off x="3911400" y="43686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7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44" name="WordArt 28"/>
            <p:cNvSpPr txBox="1"/>
            <p:nvPr/>
          </p:nvSpPr>
          <p:spPr>
            <a:xfrm>
              <a:off x="3483000" y="394164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8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45" name="WordArt 29"/>
            <p:cNvSpPr txBox="1"/>
            <p:nvPr/>
          </p:nvSpPr>
          <p:spPr>
            <a:xfrm>
              <a:off x="3335400" y="3278160"/>
              <a:ext cx="23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9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46" name="WordArt 30"/>
            <p:cNvSpPr txBox="1"/>
            <p:nvPr/>
          </p:nvSpPr>
          <p:spPr>
            <a:xfrm>
              <a:off x="3340080" y="2690640"/>
              <a:ext cx="4316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10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47" name="WordArt 31"/>
            <p:cNvSpPr txBox="1"/>
            <p:nvPr/>
          </p:nvSpPr>
          <p:spPr>
            <a:xfrm>
              <a:off x="3816360" y="2206440"/>
              <a:ext cx="3952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11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  <p:sp>
          <p:nvSpPr>
            <p:cNvPr id="248" name="WordArt 32"/>
            <p:cNvSpPr txBox="1"/>
            <p:nvPr/>
          </p:nvSpPr>
          <p:spPr>
            <a:xfrm>
              <a:off x="4430520" y="2068560"/>
              <a:ext cx="432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经典空趣体简"/>
                </a:rPr>
                <a:t>12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经典空趣体简"/>
                <a:ea typeface="经典空趣体简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3607200" y="2100240"/>
            <a:ext cx="1120320" cy="2052360"/>
            <a:chOff x="3607200" y="2100240"/>
            <a:chExt cx="1120320" cy="2052360"/>
          </a:xfrm>
        </p:grpSpPr>
        <p:sp>
          <p:nvSpPr>
            <p:cNvPr id="250" name="Rectangle 34"/>
            <p:cNvSpPr/>
            <p:nvPr/>
          </p:nvSpPr>
          <p:spPr>
            <a:xfrm rot="3600000">
              <a:off x="4063680" y="3242880"/>
              <a:ext cx="136440" cy="113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51" name="AutoShape 35"/>
            <p:cNvSpPr/>
            <p:nvPr/>
          </p:nvSpPr>
          <p:spPr>
            <a:xfrm rot="10800000">
              <a:off x="4573440" y="2100240"/>
              <a:ext cx="154080" cy="1463760"/>
            </a:xfrm>
            <a:custGeom>
              <a:avLst/>
              <a:gdLst>
                <a:gd name="textAreaLeft" fmla="*/ 31680 w 154080"/>
                <a:gd name="textAreaRight" fmla="*/ 122400 w 15408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52" name="Group 36"/>
          <p:cNvGrpSpPr/>
          <p:nvPr/>
        </p:nvGrpSpPr>
        <p:grpSpPr>
          <a:xfrm>
            <a:off x="3773520" y="2671200"/>
            <a:ext cx="2253960" cy="1134000"/>
            <a:chOff x="3773520" y="2671200"/>
            <a:chExt cx="2253960" cy="1134000"/>
          </a:xfrm>
        </p:grpSpPr>
        <p:sp>
          <p:nvSpPr>
            <p:cNvPr id="253" name="Rectangle 37"/>
            <p:cNvSpPr/>
            <p:nvPr/>
          </p:nvSpPr>
          <p:spPr>
            <a:xfrm rot="7900800">
              <a:off x="4173480" y="2532240"/>
              <a:ext cx="136800" cy="1133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54" name="AutoShape 38"/>
            <p:cNvSpPr/>
            <p:nvPr/>
          </p:nvSpPr>
          <p:spPr>
            <a:xfrm rot="16900800">
              <a:off x="5217840" y="2849760"/>
              <a:ext cx="154080" cy="1463760"/>
            </a:xfrm>
            <a:custGeom>
              <a:avLst/>
              <a:gdLst>
                <a:gd name="textAreaLeft" fmla="*/ 31680 w 154080"/>
                <a:gd name="textAreaRight" fmla="*/ 122400 w 15408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55" name="Group 39"/>
          <p:cNvGrpSpPr/>
          <p:nvPr/>
        </p:nvGrpSpPr>
        <p:grpSpPr>
          <a:xfrm>
            <a:off x="3560400" y="2401560"/>
            <a:ext cx="1177560" cy="2136960"/>
            <a:chOff x="3560400" y="2401560"/>
            <a:chExt cx="1177560" cy="2136960"/>
          </a:xfrm>
        </p:grpSpPr>
        <p:sp>
          <p:nvSpPr>
            <p:cNvPr id="256" name="Rectangle 40"/>
            <p:cNvSpPr/>
            <p:nvPr/>
          </p:nvSpPr>
          <p:spPr>
            <a:xfrm rot="9900000">
              <a:off x="4456800" y="2399760"/>
              <a:ext cx="136440" cy="113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57" name="AutoShape 41"/>
            <p:cNvSpPr/>
            <p:nvPr/>
          </p:nvSpPr>
          <p:spPr>
            <a:xfrm rot="2700000">
              <a:off x="4055040" y="3234960"/>
              <a:ext cx="154080" cy="1463400"/>
            </a:xfrm>
            <a:custGeom>
              <a:avLst/>
              <a:gdLst>
                <a:gd name="textAreaLeft" fmla="*/ 31680 w 154080"/>
                <a:gd name="textAreaRight" fmla="*/ 122400 w 154080"/>
                <a:gd name="textAreaTop" fmla="*/ 304560 h 1463400"/>
                <a:gd name="textAreaBottom" fmla="*/ 1158840 h 146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58" name="Group 42"/>
          <p:cNvGrpSpPr/>
          <p:nvPr/>
        </p:nvGrpSpPr>
        <p:grpSpPr>
          <a:xfrm>
            <a:off x="3191040" y="3088080"/>
            <a:ext cx="2553120" cy="495360"/>
            <a:chOff x="3191040" y="3088080"/>
            <a:chExt cx="2553120" cy="495360"/>
          </a:xfrm>
        </p:grpSpPr>
        <p:sp>
          <p:nvSpPr>
            <p:cNvPr id="259" name="Rectangle 43"/>
            <p:cNvSpPr/>
            <p:nvPr/>
          </p:nvSpPr>
          <p:spPr>
            <a:xfrm rot="15843600">
              <a:off x="5104800" y="2867760"/>
              <a:ext cx="136440" cy="113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60" name="AutoShape 44"/>
            <p:cNvSpPr/>
            <p:nvPr/>
          </p:nvSpPr>
          <p:spPr>
            <a:xfrm rot="6220800">
              <a:off x="3843360" y="2603880"/>
              <a:ext cx="153720" cy="1463400"/>
            </a:xfrm>
            <a:custGeom>
              <a:avLst/>
              <a:gdLst>
                <a:gd name="textAreaLeft" fmla="*/ 31680 w 153720"/>
                <a:gd name="textAreaRight" fmla="*/ 122040 w 153720"/>
                <a:gd name="textAreaTop" fmla="*/ 304560 h 1463400"/>
                <a:gd name="textAreaBottom" fmla="*/ 1158840 h 146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61" name="Group 45"/>
          <p:cNvGrpSpPr/>
          <p:nvPr/>
        </p:nvGrpSpPr>
        <p:grpSpPr>
          <a:xfrm>
            <a:off x="3595320" y="3341160"/>
            <a:ext cx="1886400" cy="1157400"/>
            <a:chOff x="3595320" y="3341160"/>
            <a:chExt cx="1886400" cy="1157400"/>
          </a:xfrm>
        </p:grpSpPr>
        <p:sp>
          <p:nvSpPr>
            <p:cNvPr id="262" name="Rectangle 46"/>
            <p:cNvSpPr/>
            <p:nvPr/>
          </p:nvSpPr>
          <p:spPr>
            <a:xfrm rot="18667800">
              <a:off x="4941720" y="3198240"/>
              <a:ext cx="136440" cy="1133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63" name="AutoShape 47"/>
            <p:cNvSpPr/>
            <p:nvPr/>
          </p:nvSpPr>
          <p:spPr>
            <a:xfrm rot="2700000">
              <a:off x="4089960" y="3194280"/>
              <a:ext cx="154080" cy="1463760"/>
            </a:xfrm>
            <a:custGeom>
              <a:avLst/>
              <a:gdLst>
                <a:gd name="textAreaLeft" fmla="*/ 31680 w 154080"/>
                <a:gd name="textAreaRight" fmla="*/ 122400 w 15408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64" name="Group 48"/>
          <p:cNvGrpSpPr/>
          <p:nvPr/>
        </p:nvGrpSpPr>
        <p:grpSpPr>
          <a:xfrm>
            <a:off x="3479760" y="2400840"/>
            <a:ext cx="1230120" cy="1127880"/>
            <a:chOff x="3479760" y="2400840"/>
            <a:chExt cx="1230120" cy="1127880"/>
          </a:xfrm>
        </p:grpSpPr>
        <p:sp>
          <p:nvSpPr>
            <p:cNvPr id="265" name="Rectangle 49"/>
            <p:cNvSpPr/>
            <p:nvPr/>
          </p:nvSpPr>
          <p:spPr>
            <a:xfrm rot="9412800">
              <a:off x="4356000" y="2381760"/>
              <a:ext cx="136440" cy="113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66" name="AutoShape 50"/>
            <p:cNvSpPr/>
            <p:nvPr/>
          </p:nvSpPr>
          <p:spPr>
            <a:xfrm rot="7806600">
              <a:off x="4011840" y="2266200"/>
              <a:ext cx="154080" cy="1463760"/>
            </a:xfrm>
            <a:custGeom>
              <a:avLst/>
              <a:gdLst>
                <a:gd name="textAreaLeft" fmla="*/ 31680 w 154080"/>
                <a:gd name="textAreaRight" fmla="*/ 122400 w 15408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67" name="Group 51"/>
          <p:cNvGrpSpPr/>
          <p:nvPr/>
        </p:nvGrpSpPr>
        <p:grpSpPr>
          <a:xfrm>
            <a:off x="3584880" y="2192400"/>
            <a:ext cx="1847160" cy="1635480"/>
            <a:chOff x="3584880" y="2192400"/>
            <a:chExt cx="1847160" cy="1635480"/>
          </a:xfrm>
        </p:grpSpPr>
        <p:sp>
          <p:nvSpPr>
            <p:cNvPr id="268" name="Rectangle 52"/>
            <p:cNvSpPr/>
            <p:nvPr/>
          </p:nvSpPr>
          <p:spPr>
            <a:xfrm rot="4479000">
              <a:off x="4081320" y="3045240"/>
              <a:ext cx="136440" cy="113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69" name="AutoShape 53"/>
            <p:cNvSpPr/>
            <p:nvPr/>
          </p:nvSpPr>
          <p:spPr>
            <a:xfrm rot="12579000">
              <a:off x="4926240" y="2134440"/>
              <a:ext cx="153720" cy="1463760"/>
            </a:xfrm>
            <a:custGeom>
              <a:avLst/>
              <a:gdLst>
                <a:gd name="textAreaLeft" fmla="*/ 31680 w 153720"/>
                <a:gd name="textAreaRight" fmla="*/ 122040 w 15372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70" name="Group 54"/>
          <p:cNvGrpSpPr/>
          <p:nvPr/>
        </p:nvGrpSpPr>
        <p:grpSpPr>
          <a:xfrm>
            <a:off x="4311000" y="2328120"/>
            <a:ext cx="384480" cy="2561040"/>
            <a:chOff x="4311000" y="2328120"/>
            <a:chExt cx="384480" cy="2561040"/>
          </a:xfrm>
        </p:grpSpPr>
        <p:sp>
          <p:nvSpPr>
            <p:cNvPr id="271" name="Rectangle 55"/>
            <p:cNvSpPr/>
            <p:nvPr/>
          </p:nvSpPr>
          <p:spPr>
            <a:xfrm rot="10101000">
              <a:off x="4423680" y="2329920"/>
              <a:ext cx="136800" cy="113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2" name="AutoShape 56"/>
            <p:cNvSpPr/>
            <p:nvPr/>
          </p:nvSpPr>
          <p:spPr>
            <a:xfrm rot="478200">
              <a:off x="4440960" y="3421440"/>
              <a:ext cx="153720" cy="1463760"/>
            </a:xfrm>
            <a:custGeom>
              <a:avLst/>
              <a:gdLst>
                <a:gd name="textAreaLeft" fmla="*/ 31680 w 153720"/>
                <a:gd name="textAreaRight" fmla="*/ 122040 w 15372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73" name="Group 57"/>
          <p:cNvGrpSpPr/>
          <p:nvPr/>
        </p:nvGrpSpPr>
        <p:grpSpPr>
          <a:xfrm>
            <a:off x="4505760" y="3085920"/>
            <a:ext cx="1116720" cy="1784880"/>
            <a:chOff x="4505760" y="3085920"/>
            <a:chExt cx="1116720" cy="1784880"/>
          </a:xfrm>
        </p:grpSpPr>
        <p:sp>
          <p:nvSpPr>
            <p:cNvPr id="274" name="Rectangle 58"/>
            <p:cNvSpPr/>
            <p:nvPr/>
          </p:nvSpPr>
          <p:spPr>
            <a:xfrm rot="15070200">
              <a:off x="4995720" y="2766600"/>
              <a:ext cx="136440" cy="1133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5" name="AutoShape 59"/>
            <p:cNvSpPr/>
            <p:nvPr/>
          </p:nvSpPr>
          <p:spPr>
            <a:xfrm rot="20703000">
              <a:off x="4704480" y="3411720"/>
              <a:ext cx="154080" cy="1463760"/>
            </a:xfrm>
            <a:custGeom>
              <a:avLst/>
              <a:gdLst>
                <a:gd name="textAreaLeft" fmla="*/ 31680 w 154080"/>
                <a:gd name="textAreaRight" fmla="*/ 122400 w 15408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76" name="Group 60"/>
          <p:cNvGrpSpPr/>
          <p:nvPr/>
        </p:nvGrpSpPr>
        <p:grpSpPr>
          <a:xfrm>
            <a:off x="3782160" y="2677320"/>
            <a:ext cx="2264040" cy="887400"/>
            <a:chOff x="3782160" y="2677320"/>
            <a:chExt cx="2264040" cy="887400"/>
          </a:xfrm>
        </p:grpSpPr>
        <p:sp>
          <p:nvSpPr>
            <p:cNvPr id="277" name="Rectangle 61"/>
            <p:cNvSpPr/>
            <p:nvPr/>
          </p:nvSpPr>
          <p:spPr>
            <a:xfrm rot="8044200">
              <a:off x="4168440" y="2553480"/>
              <a:ext cx="136440" cy="113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8" name="AutoShape 62"/>
            <p:cNvSpPr/>
            <p:nvPr/>
          </p:nvSpPr>
          <p:spPr>
            <a:xfrm rot="16144200">
              <a:off x="5236200" y="2743920"/>
              <a:ext cx="153720" cy="1463760"/>
            </a:xfrm>
            <a:custGeom>
              <a:avLst/>
              <a:gdLst>
                <a:gd name="textAreaLeft" fmla="*/ 31680 w 153720"/>
                <a:gd name="textAreaRight" fmla="*/ 122040 w 15372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79" name="Group 63"/>
          <p:cNvGrpSpPr/>
          <p:nvPr/>
        </p:nvGrpSpPr>
        <p:grpSpPr>
          <a:xfrm>
            <a:off x="4523760" y="2142360"/>
            <a:ext cx="1030320" cy="1385640"/>
            <a:chOff x="4523760" y="2142360"/>
            <a:chExt cx="1030320" cy="1385640"/>
          </a:xfrm>
        </p:grpSpPr>
        <p:sp>
          <p:nvSpPr>
            <p:cNvPr id="280" name="Rectangle 64"/>
            <p:cNvSpPr/>
            <p:nvPr/>
          </p:nvSpPr>
          <p:spPr>
            <a:xfrm rot="14071200">
              <a:off x="4984560" y="2576520"/>
              <a:ext cx="136440" cy="113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1" name="AutoShape 65"/>
            <p:cNvSpPr/>
            <p:nvPr/>
          </p:nvSpPr>
          <p:spPr>
            <a:xfrm rot="12465000">
              <a:off x="4855680" y="2094120"/>
              <a:ext cx="154080" cy="1463760"/>
            </a:xfrm>
            <a:custGeom>
              <a:avLst/>
              <a:gdLst>
                <a:gd name="textAreaLeft" fmla="*/ 31680 w 154080"/>
                <a:gd name="textAreaRight" fmla="*/ 122400 w 15408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82" name="Group 66"/>
          <p:cNvGrpSpPr/>
          <p:nvPr/>
        </p:nvGrpSpPr>
        <p:grpSpPr>
          <a:xfrm>
            <a:off x="4175280" y="3385440"/>
            <a:ext cx="1489320" cy="1463040"/>
            <a:chOff x="4175280" y="3385440"/>
            <a:chExt cx="1489320" cy="1463040"/>
          </a:xfrm>
        </p:grpSpPr>
        <p:sp>
          <p:nvSpPr>
            <p:cNvPr id="283" name="Rectangle 67"/>
            <p:cNvSpPr/>
            <p:nvPr/>
          </p:nvSpPr>
          <p:spPr>
            <a:xfrm rot="16888200">
              <a:off x="5027040" y="2998080"/>
              <a:ext cx="136440" cy="1133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4" name="AutoShape 68"/>
            <p:cNvSpPr/>
            <p:nvPr/>
          </p:nvSpPr>
          <p:spPr>
            <a:xfrm rot="919800">
              <a:off x="4365720" y="3390480"/>
              <a:ext cx="154080" cy="1463760"/>
            </a:xfrm>
            <a:custGeom>
              <a:avLst/>
              <a:gdLst>
                <a:gd name="textAreaLeft" fmla="*/ 31680 w 154080"/>
                <a:gd name="textAreaRight" fmla="*/ 122400 w 154080"/>
                <a:gd name="textAreaTop" fmla="*/ 304560 h 1463760"/>
                <a:gd name="textAreaBottom" fmla="*/ 115920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85" name="Group 69"/>
          <p:cNvGrpSpPr/>
          <p:nvPr/>
        </p:nvGrpSpPr>
        <p:grpSpPr>
          <a:xfrm>
            <a:off x="4561200" y="2041200"/>
            <a:ext cx="685080" cy="2476080"/>
            <a:chOff x="4561200" y="2041200"/>
            <a:chExt cx="685080" cy="2476080"/>
          </a:xfrm>
        </p:grpSpPr>
        <p:grpSp>
          <p:nvGrpSpPr>
            <p:cNvPr id="286" name="Group 70"/>
            <p:cNvGrpSpPr/>
            <p:nvPr/>
          </p:nvGrpSpPr>
          <p:grpSpPr>
            <a:xfrm>
              <a:off x="4561200" y="2131560"/>
              <a:ext cx="685080" cy="2385720"/>
              <a:chOff x="4561200" y="2131560"/>
              <a:chExt cx="685080" cy="2385720"/>
            </a:xfrm>
          </p:grpSpPr>
          <p:sp>
            <p:nvSpPr>
              <p:cNvPr id="287" name="Rectangle 71"/>
              <p:cNvSpPr/>
              <p:nvPr/>
            </p:nvSpPr>
            <p:spPr>
              <a:xfrm rot="19800000">
                <a:off x="4835160" y="3425400"/>
                <a:ext cx="136440" cy="11336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88" name="AutoShape 72"/>
              <p:cNvSpPr/>
              <p:nvPr/>
            </p:nvSpPr>
            <p:spPr>
              <a:xfrm rot="10827600">
                <a:off x="4572000" y="2131920"/>
                <a:ext cx="154080" cy="1463760"/>
              </a:xfrm>
              <a:custGeom>
                <a:avLst/>
                <a:gdLst>
                  <a:gd name="textAreaLeft" fmla="*/ 31680 w 154080"/>
                  <a:gd name="textAreaRight" fmla="*/ 122400 w 154080"/>
                  <a:gd name="textAreaTop" fmla="*/ 304560 h 1463760"/>
                  <a:gd name="textAreaBottom" fmla="*/ 1159200 h 146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sp>
          <p:nvSpPr>
            <p:cNvPr id="289" name="AutoShape 73"/>
            <p:cNvSpPr/>
            <p:nvPr/>
          </p:nvSpPr>
          <p:spPr>
            <a:xfrm rot="10800000">
              <a:off x="4616280" y="2041200"/>
              <a:ext cx="46080" cy="1554120"/>
            </a:xfrm>
            <a:custGeom>
              <a:avLst/>
              <a:gdLst>
                <a:gd name="textAreaLeft" fmla="*/ 9360 w 46080"/>
                <a:gd name="textAreaRight" fmla="*/ 36720 w 46080"/>
                <a:gd name="textAreaTop" fmla="*/ 323640 h 1554120"/>
                <a:gd name="textAreaBottom" fmla="*/ 1230480 h 155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290" name="Line 74"/>
          <p:cNvSpPr/>
          <p:nvPr/>
        </p:nvSpPr>
        <p:spPr>
          <a:xfrm>
            <a:off x="4610160" y="3502080"/>
            <a:ext cx="1944720" cy="331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1" name="Line 75"/>
          <p:cNvSpPr/>
          <p:nvPr/>
        </p:nvSpPr>
        <p:spPr>
          <a:xfrm flipV="1">
            <a:off x="4610160" y="725400"/>
            <a:ext cx="33120" cy="282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2" name="Arc 76"/>
          <p:cNvSpPr/>
          <p:nvPr/>
        </p:nvSpPr>
        <p:spPr>
          <a:xfrm>
            <a:off x="4605480" y="2665440"/>
            <a:ext cx="838080" cy="1571760"/>
          </a:xfrm>
          <a:custGeom>
            <a:avLst/>
            <a:gdLst>
              <a:gd name="textAreaLeft" fmla="*/ 0 w 838080"/>
              <a:gd name="textAreaRight" fmla="*/ 838440 w 83808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fill="none" w="21600" h="405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484"/>
                  <a:pt x="17303" y="36742"/>
                  <a:pt x="10391" y="40535"/>
                </a:cubicBezTo>
              </a:path>
              <a:path stroke="0" w="21600" h="405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484"/>
                  <a:pt x="17303" y="36742"/>
                  <a:pt x="10391" y="405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3" name="Text Box 78"/>
          <p:cNvSpPr/>
          <p:nvPr/>
        </p:nvSpPr>
        <p:spPr>
          <a:xfrm>
            <a:off x="1828440" y="235116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1" lang="en-US" sz="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Image16394"/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7374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-252360" y="1989000"/>
            <a:ext cx="9396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-396720" y="5373720"/>
            <a:ext cx="954072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 flipV="1">
            <a:off x="1779840" y="1703520"/>
            <a:ext cx="2584080" cy="4329720"/>
          </a:xfrm>
          <a:prstGeom prst="line">
            <a:avLst/>
          </a:prstGeom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1731960" y="5989680"/>
            <a:ext cx="6585120" cy="107640"/>
            <a:chOff x="1731960" y="5989680"/>
            <a:chExt cx="6585120" cy="107640"/>
          </a:xfrm>
        </p:grpSpPr>
        <p:sp>
          <p:nvSpPr>
            <p:cNvPr id="299" name="Line 4"/>
            <p:cNvSpPr/>
            <p:nvPr/>
          </p:nvSpPr>
          <p:spPr>
            <a:xfrm>
              <a:off x="1763640" y="6041880"/>
              <a:ext cx="6553440" cy="0"/>
            </a:xfrm>
            <a:prstGeom prst="line">
              <a:avLst/>
            </a:prstGeom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0" name="Oval 5"/>
            <p:cNvSpPr/>
            <p:nvPr/>
          </p:nvSpPr>
          <p:spPr>
            <a:xfrm>
              <a:off x="1731960" y="5989680"/>
              <a:ext cx="108000" cy="107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301" name="Text Box 6"/>
          <p:cNvSpPr/>
          <p:nvPr/>
        </p:nvSpPr>
        <p:spPr>
          <a:xfrm>
            <a:off x="1373400" y="1066680"/>
            <a:ext cx="605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角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是由两条具有</a:t>
            </a:r>
            <a:r>
              <a:rPr b="1" lang="zh-CN" sz="3600" spc="-1" strike="noStrike">
                <a:solidFill>
                  <a:srgbClr val="f00000"/>
                </a:solidFill>
                <a:latin typeface="Arial"/>
                <a:ea typeface="隶书"/>
              </a:rPr>
              <a:t>公共端点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的</a:t>
            </a:r>
            <a:r>
              <a:rPr b="1" lang="zh-CN" sz="3600" spc="-1" strike="noStrike">
                <a:solidFill>
                  <a:srgbClr val="f00000"/>
                </a:solidFill>
                <a:latin typeface="Arial"/>
                <a:ea typeface="隶书"/>
              </a:rPr>
              <a:t>射线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组成的图形。</a:t>
            </a:r>
            <a:endParaRPr b="1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2" name="Oval 7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3" name="Oval 8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6" name="Oval 11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8" name="Oval 13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9" name="Oval 14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846000" y="587844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248760" y="546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共端点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743400" y="571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3" name="Text Box 18"/>
          <p:cNvSpPr/>
          <p:nvPr/>
        </p:nvSpPr>
        <p:spPr>
          <a:xfrm>
            <a:off x="4161240" y="604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射线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89600" y="3305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射线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5" name="Text Box 20"/>
          <p:cNvSpPr/>
          <p:nvPr/>
        </p:nvSpPr>
        <p:spPr>
          <a:xfrm>
            <a:off x="3924360" y="608976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2050920" y="33051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7" name="Arc 22"/>
          <p:cNvSpPr/>
          <p:nvPr/>
        </p:nvSpPr>
        <p:spPr>
          <a:xfrm>
            <a:off x="1816200" y="5452920"/>
            <a:ext cx="647640" cy="573120"/>
          </a:xfrm>
          <a:custGeom>
            <a:avLst/>
            <a:gdLst>
              <a:gd name="textAreaLeft" fmla="*/ 0 w 647640"/>
              <a:gd name="textAreaRight" fmla="*/ 648000 w 6476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fill="none" w="21600" h="19080">
                <a:moveTo>
                  <a:pt x="10124" y="-1"/>
                </a:moveTo>
                <a:cubicBezTo>
                  <a:pt x="17185" y="3746"/>
                  <a:pt x="21600" y="11086"/>
                  <a:pt x="21600" y="19080"/>
                </a:cubicBezTo>
              </a:path>
              <a:path stroke="0" w="21600" h="19080">
                <a:moveTo>
                  <a:pt x="10124" y="-1"/>
                </a:moveTo>
                <a:cubicBezTo>
                  <a:pt x="17185" y="3746"/>
                  <a:pt x="21600" y="11086"/>
                  <a:pt x="21600" y="19080"/>
                </a:cubicBezTo>
                <a:lnTo>
                  <a:pt x="0" y="19080"/>
                </a:lnTo>
                <a:lnTo>
                  <a:pt x="10124" y="-1"/>
                </a:lnTo>
                <a:close/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2762280" y="6492960"/>
            <a:ext cx="6479640" cy="179280"/>
            <a:chOff x="2762280" y="6492960"/>
            <a:chExt cx="6479640" cy="179280"/>
          </a:xfrm>
        </p:grpSpPr>
        <p:sp>
          <p:nvSpPr>
            <p:cNvPr id="319" name="Oval 3"/>
            <p:cNvSpPr/>
            <p:nvPr/>
          </p:nvSpPr>
          <p:spPr>
            <a:xfrm>
              <a:off x="2762280" y="6492960"/>
              <a:ext cx="179280" cy="17928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2833560" y="6564240"/>
              <a:ext cx="640836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321" name="Rectangle 5"/>
          <p:cNvSpPr/>
          <p:nvPr/>
        </p:nvSpPr>
        <p:spPr>
          <a:xfrm rot="21480000">
            <a:off x="2843280" y="643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 rot="21360000">
            <a:off x="2838600" y="63241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 rot="21240000">
            <a:off x="2830320" y="6213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4" name="Rectangle 8"/>
          <p:cNvSpPr/>
          <p:nvPr/>
        </p:nvSpPr>
        <p:spPr>
          <a:xfrm rot="21120000">
            <a:off x="2817720" y="6102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 rot="21000000">
            <a:off x="2801880" y="59907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 rot="20880000">
            <a:off x="2781360" y="5881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 rot="20760000">
            <a:off x="2757240" y="5773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8" name="Rectangle 12"/>
          <p:cNvSpPr/>
          <p:nvPr/>
        </p:nvSpPr>
        <p:spPr>
          <a:xfrm rot="20640000">
            <a:off x="2730600" y="5665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 rot="20520000">
            <a:off x="2698560" y="55591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0" name="Rectangle 14"/>
          <p:cNvSpPr/>
          <p:nvPr/>
        </p:nvSpPr>
        <p:spPr>
          <a:xfrm rot="20400000">
            <a:off x="2662200" y="5452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1" name="Rectangle 15"/>
          <p:cNvSpPr/>
          <p:nvPr/>
        </p:nvSpPr>
        <p:spPr>
          <a:xfrm rot="20280000">
            <a:off x="2623680" y="53499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2" name="Rectangle 16"/>
          <p:cNvSpPr/>
          <p:nvPr/>
        </p:nvSpPr>
        <p:spPr>
          <a:xfrm rot="20160000">
            <a:off x="2580840" y="52466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3" name="Rectangle 17"/>
          <p:cNvSpPr/>
          <p:nvPr/>
        </p:nvSpPr>
        <p:spPr>
          <a:xfrm rot="20040000">
            <a:off x="2534760" y="51462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4" name="Rectangle 18"/>
          <p:cNvSpPr/>
          <p:nvPr/>
        </p:nvSpPr>
        <p:spPr>
          <a:xfrm rot="19920000">
            <a:off x="2485800" y="50479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5" name="Rectangle 19"/>
          <p:cNvSpPr/>
          <p:nvPr/>
        </p:nvSpPr>
        <p:spPr>
          <a:xfrm rot="19800000">
            <a:off x="2431800" y="49500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6" name="Rectangle 20"/>
          <p:cNvSpPr/>
          <p:nvPr/>
        </p:nvSpPr>
        <p:spPr>
          <a:xfrm rot="19680000">
            <a:off x="2376000" y="4854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7" name="Rectangle 21"/>
          <p:cNvSpPr/>
          <p:nvPr/>
        </p:nvSpPr>
        <p:spPr>
          <a:xfrm rot="19560000">
            <a:off x="2315880" y="47620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8" name="Rectangle 22"/>
          <p:cNvSpPr/>
          <p:nvPr/>
        </p:nvSpPr>
        <p:spPr>
          <a:xfrm rot="19440000">
            <a:off x="2252520" y="4670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9" name="Rectangle 23"/>
          <p:cNvSpPr/>
          <p:nvPr/>
        </p:nvSpPr>
        <p:spPr>
          <a:xfrm rot="19320000">
            <a:off x="2185920" y="4583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0" name="Rectangle 24"/>
          <p:cNvSpPr/>
          <p:nvPr/>
        </p:nvSpPr>
        <p:spPr>
          <a:xfrm rot="19200000">
            <a:off x="2117880" y="44956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1" name="Rectangle 25"/>
          <p:cNvSpPr/>
          <p:nvPr/>
        </p:nvSpPr>
        <p:spPr>
          <a:xfrm rot="19080000">
            <a:off x="2044440" y="44128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2" name="Rectangle 26"/>
          <p:cNvSpPr/>
          <p:nvPr/>
        </p:nvSpPr>
        <p:spPr>
          <a:xfrm rot="18960000">
            <a:off x="1969560" y="4331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3" name="Rectangle 27"/>
          <p:cNvSpPr/>
          <p:nvPr/>
        </p:nvSpPr>
        <p:spPr>
          <a:xfrm rot="18840000">
            <a:off x="1890720" y="4252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4" name="Rectangle 28"/>
          <p:cNvSpPr/>
          <p:nvPr/>
        </p:nvSpPr>
        <p:spPr>
          <a:xfrm rot="18720000">
            <a:off x="1809360" y="4178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5" name="Rectangle 29"/>
          <p:cNvSpPr/>
          <p:nvPr/>
        </p:nvSpPr>
        <p:spPr>
          <a:xfrm rot="18600000">
            <a:off x="1727280" y="4105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6" name="Rectangle 30"/>
          <p:cNvSpPr/>
          <p:nvPr/>
        </p:nvSpPr>
        <p:spPr>
          <a:xfrm rot="18480000">
            <a:off x="1639800" y="4036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7" name="Rectangle 31"/>
          <p:cNvSpPr/>
          <p:nvPr/>
        </p:nvSpPr>
        <p:spPr>
          <a:xfrm rot="18360000">
            <a:off x="1552320" y="3970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8" name="Rectangle 32"/>
          <p:cNvSpPr/>
          <p:nvPr/>
        </p:nvSpPr>
        <p:spPr>
          <a:xfrm rot="18240000">
            <a:off x="1460520" y="3907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9" name="Rectangle 33"/>
          <p:cNvSpPr/>
          <p:nvPr/>
        </p:nvSpPr>
        <p:spPr>
          <a:xfrm rot="18120000">
            <a:off x="1368000" y="3846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0" name="Rectangle 34"/>
          <p:cNvSpPr/>
          <p:nvPr/>
        </p:nvSpPr>
        <p:spPr>
          <a:xfrm rot="18000000">
            <a:off x="1272960" y="3790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1" name="Rectangle 35"/>
          <p:cNvSpPr/>
          <p:nvPr/>
        </p:nvSpPr>
        <p:spPr>
          <a:xfrm rot="17880000">
            <a:off x="1174680" y="3737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2" name="Rectangle 36"/>
          <p:cNvSpPr/>
          <p:nvPr/>
        </p:nvSpPr>
        <p:spPr>
          <a:xfrm rot="17760000">
            <a:off x="1076040" y="36878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3" name="Rectangle 37"/>
          <p:cNvSpPr/>
          <p:nvPr/>
        </p:nvSpPr>
        <p:spPr>
          <a:xfrm rot="17640000">
            <a:off x="975960" y="3641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4" name="Rectangle 38"/>
          <p:cNvSpPr/>
          <p:nvPr/>
        </p:nvSpPr>
        <p:spPr>
          <a:xfrm rot="17520000">
            <a:off x="873000" y="3598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5" name="Rectangle 39"/>
          <p:cNvSpPr/>
          <p:nvPr/>
        </p:nvSpPr>
        <p:spPr>
          <a:xfrm rot="17400000">
            <a:off x="77004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6" name="Rectangle 40"/>
          <p:cNvSpPr/>
          <p:nvPr/>
        </p:nvSpPr>
        <p:spPr>
          <a:xfrm rot="17280000">
            <a:off x="663480" y="35240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7" name="Rectangle 41"/>
          <p:cNvSpPr/>
          <p:nvPr/>
        </p:nvSpPr>
        <p:spPr>
          <a:xfrm rot="17160000">
            <a:off x="556920" y="3492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8" name="Rectangle 42"/>
          <p:cNvSpPr/>
          <p:nvPr/>
        </p:nvSpPr>
        <p:spPr>
          <a:xfrm rot="17040000">
            <a:off x="449280" y="346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59" name="Rectangle 43"/>
          <p:cNvSpPr/>
          <p:nvPr/>
        </p:nvSpPr>
        <p:spPr>
          <a:xfrm rot="16920000">
            <a:off x="341280" y="3441240"/>
            <a:ext cx="64090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0" name="Rectangle 44"/>
          <p:cNvSpPr/>
          <p:nvPr/>
        </p:nvSpPr>
        <p:spPr>
          <a:xfrm rot="16800000">
            <a:off x="231840" y="3421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1" name="Rectangle 45"/>
          <p:cNvSpPr/>
          <p:nvPr/>
        </p:nvSpPr>
        <p:spPr>
          <a:xfrm rot="16680000">
            <a:off x="120240" y="3405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2" name="Rectangle 46"/>
          <p:cNvSpPr/>
          <p:nvPr/>
        </p:nvSpPr>
        <p:spPr>
          <a:xfrm rot="16560000">
            <a:off x="9360" y="3392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3" name="Rectangle 47"/>
          <p:cNvSpPr/>
          <p:nvPr/>
        </p:nvSpPr>
        <p:spPr>
          <a:xfrm rot="16440000">
            <a:off x="-10152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4" name="Rectangle 48"/>
          <p:cNvSpPr/>
          <p:nvPr/>
        </p:nvSpPr>
        <p:spPr>
          <a:xfrm rot="16320000">
            <a:off x="-212760" y="3379320"/>
            <a:ext cx="64090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5" name="Rectangle 49"/>
          <p:cNvSpPr/>
          <p:nvPr/>
        </p:nvSpPr>
        <p:spPr>
          <a:xfrm rot="16200000">
            <a:off x="-317160" y="3378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6" name="Rectangle 50"/>
          <p:cNvSpPr/>
          <p:nvPr/>
        </p:nvSpPr>
        <p:spPr>
          <a:xfrm rot="16080000">
            <a:off x="-428400" y="337896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7" name="Rectangle 51"/>
          <p:cNvSpPr/>
          <p:nvPr/>
        </p:nvSpPr>
        <p:spPr>
          <a:xfrm rot="15960000">
            <a:off x="-53964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8" name="Rectangle 52"/>
          <p:cNvSpPr/>
          <p:nvPr/>
        </p:nvSpPr>
        <p:spPr>
          <a:xfrm rot="15840000">
            <a:off x="-650520" y="33926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9" name="Rectangle 53"/>
          <p:cNvSpPr/>
          <p:nvPr/>
        </p:nvSpPr>
        <p:spPr>
          <a:xfrm rot="15720000">
            <a:off x="-761760" y="34048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0" name="Rectangle 54"/>
          <p:cNvSpPr/>
          <p:nvPr/>
        </p:nvSpPr>
        <p:spPr>
          <a:xfrm rot="15600000">
            <a:off x="-873000" y="34207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1" name="Rectangle 55"/>
          <p:cNvSpPr/>
          <p:nvPr/>
        </p:nvSpPr>
        <p:spPr>
          <a:xfrm rot="15480000">
            <a:off x="-982440" y="3440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2" name="Rectangle 56"/>
          <p:cNvSpPr/>
          <p:nvPr/>
        </p:nvSpPr>
        <p:spPr>
          <a:xfrm rot="15360000">
            <a:off x="-1090440" y="34653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3" name="Rectangle 57"/>
          <p:cNvSpPr/>
          <p:nvPr/>
        </p:nvSpPr>
        <p:spPr>
          <a:xfrm rot="15240000">
            <a:off x="-1198440" y="34920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4" name="Rectangle 58"/>
          <p:cNvSpPr/>
          <p:nvPr/>
        </p:nvSpPr>
        <p:spPr>
          <a:xfrm rot="15120000">
            <a:off x="-1305000" y="3524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5" name="Rectangle 59"/>
          <p:cNvSpPr/>
          <p:nvPr/>
        </p:nvSpPr>
        <p:spPr>
          <a:xfrm rot="15000000">
            <a:off x="-141120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6" name="Rectangle 60"/>
          <p:cNvSpPr/>
          <p:nvPr/>
        </p:nvSpPr>
        <p:spPr>
          <a:xfrm rot="14880000">
            <a:off x="-1514160" y="35989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7" name="Rectangle 61"/>
          <p:cNvSpPr/>
          <p:nvPr/>
        </p:nvSpPr>
        <p:spPr>
          <a:xfrm rot="14760000">
            <a:off x="-1617480" y="36414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8" name="Rectangle 62"/>
          <p:cNvSpPr/>
          <p:nvPr/>
        </p:nvSpPr>
        <p:spPr>
          <a:xfrm rot="14640000">
            <a:off x="-1717560" y="36874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9" name="Rectangle 63"/>
          <p:cNvSpPr/>
          <p:nvPr/>
        </p:nvSpPr>
        <p:spPr>
          <a:xfrm rot="14520000">
            <a:off x="-1815840" y="3736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80" name="Rectangle 64"/>
          <p:cNvSpPr/>
          <p:nvPr/>
        </p:nvSpPr>
        <p:spPr>
          <a:xfrm rot="14400000">
            <a:off x="-1914120" y="3791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381" name="Group 65"/>
          <p:cNvGrpSpPr/>
          <p:nvPr/>
        </p:nvGrpSpPr>
        <p:grpSpPr>
          <a:xfrm>
            <a:off x="-28440" y="2349360"/>
            <a:ext cx="9144000" cy="4262400"/>
            <a:chOff x="-28440" y="2349360"/>
            <a:chExt cx="9144000" cy="4262400"/>
          </a:xfrm>
        </p:grpSpPr>
        <p:sp>
          <p:nvSpPr>
            <p:cNvPr id="382" name="WordArt 66"/>
            <p:cNvSpPr txBox="1"/>
            <p:nvPr/>
          </p:nvSpPr>
          <p:spPr>
            <a:xfrm>
              <a:off x="8755200" y="60213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C</a:t>
              </a:r>
              <a:endParaRPr b="1" lang="en-US" sz="3200" spc="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383" name="WordArt 67"/>
            <p:cNvSpPr txBox="1"/>
            <p:nvPr/>
          </p:nvSpPr>
          <p:spPr>
            <a:xfrm>
              <a:off x="2109960" y="61545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A</a:t>
              </a:r>
              <a:endParaRPr b="1" lang="en-US" sz="3200" spc="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384" name="WordArt 68"/>
            <p:cNvSpPr txBox="1"/>
            <p:nvPr/>
          </p:nvSpPr>
          <p:spPr>
            <a:xfrm>
              <a:off x="-28440" y="23493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B</a:t>
              </a:r>
              <a:endParaRPr b="1" lang="en-US" sz="3200" spc="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385" name="Arc 69"/>
          <p:cNvSpPr/>
          <p:nvPr/>
        </p:nvSpPr>
        <p:spPr>
          <a:xfrm>
            <a:off x="2214720" y="5302080"/>
            <a:ext cx="1923840" cy="129564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fill="none" w="32090" h="21600">
                <a:moveTo>
                  <a:pt x="0" y="2718"/>
                </a:moveTo>
                <a:cubicBezTo>
                  <a:pt x="3208" y="935"/>
                  <a:pt x="6819" y="-1"/>
                  <a:pt x="10490" y="0"/>
                </a:cubicBezTo>
                <a:cubicBezTo>
                  <a:pt x="22419" y="0"/>
                  <a:pt x="32090" y="9670"/>
                  <a:pt x="32090" y="21600"/>
                </a:cubicBezTo>
              </a:path>
              <a:path stroke="0" w="32090" h="21600">
                <a:moveTo>
                  <a:pt x="0" y="2718"/>
                </a:moveTo>
                <a:cubicBezTo>
                  <a:pt x="3208" y="935"/>
                  <a:pt x="6819" y="-1"/>
                  <a:pt x="10490" y="0"/>
                </a:cubicBezTo>
                <a:cubicBezTo>
                  <a:pt x="22419" y="0"/>
                  <a:pt x="32090" y="9670"/>
                  <a:pt x="32090" y="21600"/>
                </a:cubicBezTo>
                <a:lnTo>
                  <a:pt x="10490" y="21600"/>
                </a:lnTo>
                <a:lnTo>
                  <a:pt x="0" y="2718"/>
                </a:lnTo>
                <a:close/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86" name="Text Box 70"/>
          <p:cNvSpPr/>
          <p:nvPr/>
        </p:nvSpPr>
        <p:spPr>
          <a:xfrm>
            <a:off x="792000" y="170028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角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也可以看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条射线绕端点旋转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所组成的图形。</a:t>
            </a:r>
            <a:endParaRPr b="1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4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4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5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6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7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7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8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8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9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9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1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2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2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3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4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5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7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7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8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8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9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9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0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1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1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42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42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43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3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4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5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5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6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7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47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195640" y="5300640"/>
            <a:ext cx="1295280" cy="1346040"/>
            <a:chOff x="2195640" y="5300640"/>
            <a:chExt cx="1295280" cy="1346040"/>
          </a:xfrm>
        </p:grpSpPr>
        <p:sp>
          <p:nvSpPr>
            <p:cNvPr id="388" name="Oval 3"/>
            <p:cNvSpPr/>
            <p:nvPr/>
          </p:nvSpPr>
          <p:spPr>
            <a:xfrm>
              <a:off x="2195640" y="5300640"/>
              <a:ext cx="1273320" cy="1346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89" name="Line 4"/>
            <p:cNvSpPr/>
            <p:nvPr/>
          </p:nvSpPr>
          <p:spPr>
            <a:xfrm flipV="1">
              <a:off x="3419640" y="5948280"/>
              <a:ext cx="71280" cy="288720"/>
            </a:xfrm>
            <a:prstGeom prst="line">
              <a:avLst/>
            </a:prstGeom>
            <a:ln w="507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390" name="Line 5"/>
          <p:cNvSpPr/>
          <p:nvPr/>
        </p:nvSpPr>
        <p:spPr>
          <a:xfrm>
            <a:off x="868320" y="2389320"/>
            <a:ext cx="3124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1" name="Line 6"/>
          <p:cNvSpPr/>
          <p:nvPr/>
        </p:nvSpPr>
        <p:spPr>
          <a:xfrm flipV="1">
            <a:off x="826920" y="592200"/>
            <a:ext cx="1049400" cy="1800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82564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始边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798120" y="73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终边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3203640" y="4653000"/>
            <a:ext cx="2636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3052440" y="4221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4934520" y="42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12607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8" name="Line 13"/>
          <p:cNvSpPr/>
          <p:nvPr/>
        </p:nvSpPr>
        <p:spPr>
          <a:xfrm>
            <a:off x="2843280" y="595008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2693520" y="5950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4502880" y="587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228600" y="2151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顶点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402" name="Group 17"/>
          <p:cNvGrpSpPr/>
          <p:nvPr/>
        </p:nvGrpSpPr>
        <p:grpSpPr>
          <a:xfrm>
            <a:off x="1194120" y="1119240"/>
            <a:ext cx="1250640" cy="1298520"/>
            <a:chOff x="1194120" y="1119240"/>
            <a:chExt cx="1250640" cy="1298520"/>
          </a:xfrm>
        </p:grpSpPr>
        <p:sp>
          <p:nvSpPr>
            <p:cNvPr id="403" name="Arc 18"/>
            <p:cNvSpPr/>
            <p:nvPr/>
          </p:nvSpPr>
          <p:spPr>
            <a:xfrm rot="1815600">
              <a:off x="1361880" y="133488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 flipH="1" flipV="1">
              <a:off x="1577880" y="1119240"/>
              <a:ext cx="144360" cy="71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405" name="Oval 20"/>
          <p:cNvSpPr/>
          <p:nvPr/>
        </p:nvSpPr>
        <p:spPr>
          <a:xfrm>
            <a:off x="768240" y="2300400"/>
            <a:ext cx="14472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406" name="Group 21"/>
          <p:cNvGrpSpPr/>
          <p:nvPr/>
        </p:nvGrpSpPr>
        <p:grpSpPr>
          <a:xfrm>
            <a:off x="2367000" y="3504960"/>
            <a:ext cx="1882440" cy="1248840"/>
            <a:chOff x="2367000" y="3504960"/>
            <a:chExt cx="1882440" cy="1248840"/>
          </a:xfrm>
        </p:grpSpPr>
        <p:sp>
          <p:nvSpPr>
            <p:cNvPr id="407" name="Arc 22"/>
            <p:cNvSpPr/>
            <p:nvPr/>
          </p:nvSpPr>
          <p:spPr>
            <a:xfrm rot="262800">
              <a:off x="2409480" y="3571920"/>
              <a:ext cx="1800000" cy="111456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fill="none" w="43200" h="23048">
                  <a:moveTo>
                    <a:pt x="48" y="23048"/>
                  </a:moveTo>
                  <a:cubicBezTo>
                    <a:pt x="16" y="22566"/>
                    <a:pt x="0" y="2208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3048">
                  <a:moveTo>
                    <a:pt x="48" y="23048"/>
                  </a:moveTo>
                  <a:cubicBezTo>
                    <a:pt x="16" y="22566"/>
                    <a:pt x="0" y="2208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48" y="23048"/>
                  </a:lnTo>
                  <a:close/>
                </a:path>
              </a:pathLst>
            </a:custGeom>
            <a:noFill/>
            <a:ln w="255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 flipH="1">
              <a:off x="2367000" y="4488120"/>
              <a:ext cx="12600" cy="163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sp>
        <p:nvSpPr>
          <p:cNvPr id="409" name="Line 24"/>
          <p:cNvSpPr/>
          <p:nvPr/>
        </p:nvSpPr>
        <p:spPr>
          <a:xfrm>
            <a:off x="539640" y="4653000"/>
            <a:ext cx="2637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3132000" y="458136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4622760" y="58770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2" name="AutoShape 27"/>
          <p:cNvSpPr/>
          <p:nvPr/>
        </p:nvSpPr>
        <p:spPr>
          <a:xfrm>
            <a:off x="1413000" y="700200"/>
            <a:ext cx="2952720" cy="1257120"/>
          </a:xfrm>
          <a:prstGeom prst="cloudCallout">
            <a:avLst>
              <a:gd name="adj1" fmla="val 9462"/>
              <a:gd name="adj2" fmla="val 503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射线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绕点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旋转形成角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3" name="AutoShape 28"/>
          <p:cNvSpPr/>
          <p:nvPr/>
        </p:nvSpPr>
        <p:spPr>
          <a:xfrm>
            <a:off x="5522760" y="2232000"/>
            <a:ext cx="3384720" cy="2376360"/>
          </a:xfrm>
          <a:prstGeom prst="cloudCallout">
            <a:avLst>
              <a:gd name="adj1" fmla="val -48638"/>
              <a:gd name="adj2" fmla="val 42583"/>
            </a:avLst>
          </a:prstGeom>
          <a:solidFill>
            <a:srgbClr val="00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当终止位置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B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和起始位置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成一条直线时，形成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平角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4" name="AutoShape 29"/>
          <p:cNvSpPr/>
          <p:nvPr/>
        </p:nvSpPr>
        <p:spPr>
          <a:xfrm>
            <a:off x="6012000" y="4653000"/>
            <a:ext cx="2952720" cy="2016000"/>
          </a:xfrm>
          <a:prstGeom prst="cloudCallout">
            <a:avLst>
              <a:gd name="adj1" fmla="val -54194"/>
              <a:gd name="adj2" fmla="val 2267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继续旋转，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B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重合时，形成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周角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5" name="Oval 30"/>
          <p:cNvSpPr/>
          <p:nvPr/>
        </p:nvSpPr>
        <p:spPr>
          <a:xfrm>
            <a:off x="2771640" y="587700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6" name="Rectangle 31"/>
          <p:cNvSpPr/>
          <p:nvPr/>
        </p:nvSpPr>
        <p:spPr>
          <a:xfrm>
            <a:off x="741240" y="3335400"/>
            <a:ext cx="7993080" cy="703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在不做特别说明的情况下，我们说的角都指不大于平角的角；射线旋转经过的部分叫角的内部。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1" lang="en-US" sz="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8" name="Line 33"/>
          <p:cNvSpPr/>
          <p:nvPr/>
        </p:nvSpPr>
        <p:spPr>
          <a:xfrm flipV="1">
            <a:off x="5149800" y="2017800"/>
            <a:ext cx="1895400" cy="39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9" name="Line 34"/>
          <p:cNvSpPr/>
          <p:nvPr/>
        </p:nvSpPr>
        <p:spPr>
          <a:xfrm flipH="1" flipV="1">
            <a:off x="5151240" y="215640"/>
            <a:ext cx="14040" cy="1841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0" name="Oval 20"/>
          <p:cNvSpPr/>
          <p:nvPr/>
        </p:nvSpPr>
        <p:spPr>
          <a:xfrm>
            <a:off x="5086440" y="1992240"/>
            <a:ext cx="14436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1" name="Line 37"/>
          <p:cNvSpPr/>
          <p:nvPr/>
        </p:nvSpPr>
        <p:spPr>
          <a:xfrm>
            <a:off x="5164200" y="1827360"/>
            <a:ext cx="2286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2" name="Line 38"/>
          <p:cNvSpPr/>
          <p:nvPr/>
        </p:nvSpPr>
        <p:spPr>
          <a:xfrm flipV="1">
            <a:off x="5407200" y="1815840"/>
            <a:ext cx="0" cy="228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4859640" y="2000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4" name="AutoShape 28"/>
          <p:cNvSpPr/>
          <p:nvPr/>
        </p:nvSpPr>
        <p:spPr>
          <a:xfrm>
            <a:off x="5442120" y="0"/>
            <a:ext cx="3384360" cy="2376360"/>
          </a:xfrm>
          <a:prstGeom prst="cloudCallout">
            <a:avLst>
              <a:gd name="adj1" fmla="val -48638"/>
              <a:gd name="adj2" fmla="val 42583"/>
            </a:avLst>
          </a:prstGeom>
          <a:solidFill>
            <a:srgbClr val="00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当终止位置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B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和起始位置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成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时，形成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直角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8:23:06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5-12-25T10:14:28Z</dcterms:modified>
  <cp:revision>57</cp:revision>
  <dc:subject>www.12999.com</dc:subject>
  <dc:title>www.12999.com</dc:title>
</cp:coreProperties>
</file>