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2AE-4E59-4499-8BB0-F7AC60C618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DA4B-CDFE-4878-8923-464053C74570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F9E-3A20-4214-9BA5-7098CDE9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163-35A8-4416-A73C-5399E48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7BF-9D94-489C-BAC9-E9D2086E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400-0A78-40B4-BAD5-0BF382FA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11E-2303-4D4C-BFCF-E85A7BCF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D3F-0CBF-4144-ACD8-90A67AC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185-D34D-4FDF-8EA7-73CABC0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C93-1C7A-4042-96F7-9FA6A69F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FF7-2A52-4D66-8F4F-44AF3C78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7F7-7FD2-472E-AB2D-98A7ACC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CC8-8BF6-40E0-9DBD-5CD1731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388-49AC-4DC8-8D6C-55B5BC6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3AB-30D0-469C-AF6D-395C217A8C2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hyperlink" Target="file:///&#32451;&#20064;2.gsp" TargetMode="External"/><Relationship Id="rId4" Type="http://schemas.openxmlformats.org/officeDocument/2006/relationships/hyperlink" Target="file:///&#32451;&#20064;2.gsp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hyperlink" Target="file:///&#32451;&#20064;4.gsp" TargetMode="External"/><Relationship Id="rId4" Type="http://schemas.openxmlformats.org/officeDocument/2006/relationships/hyperlink" Target="file:///&#32451;&#20064;4.gsp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see123.com/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2"/>
          <a:stretch/>
        </p:blipFill>
        <p:spPr>
          <a:xfrm>
            <a:off x="542880" y="2951280"/>
            <a:ext cx="8137440" cy="30844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4" descr=""/>
          <p:cNvPicPr/>
          <p:nvPr/>
        </p:nvPicPr>
        <p:blipFill>
          <a:blip r:embed="rId3"/>
          <a:stretch/>
        </p:blipFill>
        <p:spPr>
          <a:xfrm>
            <a:off x="219240" y="311040"/>
            <a:ext cx="5322600" cy="95724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5" descr=""/>
          <p:cNvPicPr/>
          <p:nvPr/>
        </p:nvPicPr>
        <p:blipFill>
          <a:blip r:embed="rId4"/>
          <a:stretch/>
        </p:blipFill>
        <p:spPr>
          <a:xfrm>
            <a:off x="3529080" y="1427040"/>
            <a:ext cx="5249880" cy="981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2400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按图</a:t>
            </a: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填空：</a:t>
            </a: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比较大小</a:t>
            </a: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3419640" y="2781360"/>
            <a:ext cx="4392000" cy="459720"/>
            <a:chOff x="3419640" y="2781360"/>
            <a:chExt cx="4392000" cy="459720"/>
          </a:xfrm>
        </p:grpSpPr>
        <p:sp>
          <p:nvSpPr>
            <p:cNvPr id="223" name="Text Box 4"/>
            <p:cNvSpPr/>
            <p:nvPr/>
          </p:nvSpPr>
          <p:spPr>
            <a:xfrm>
              <a:off x="3419640" y="2781360"/>
              <a:ext cx="33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OC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>
              <a:off x="6227640" y="3213000"/>
              <a:ext cx="1584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3419640" y="3284640"/>
            <a:ext cx="4392000" cy="459720"/>
            <a:chOff x="3419640" y="3284640"/>
            <a:chExt cx="4392000" cy="459720"/>
          </a:xfrm>
        </p:grpSpPr>
        <p:sp>
          <p:nvSpPr>
            <p:cNvPr id="226" name="Text Box 7"/>
            <p:cNvSpPr/>
            <p:nvPr/>
          </p:nvSpPr>
          <p:spPr>
            <a:xfrm>
              <a:off x="3419640" y="328464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C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Line 8"/>
            <p:cNvSpPr/>
            <p:nvPr/>
          </p:nvSpPr>
          <p:spPr>
            <a:xfrm>
              <a:off x="6227640" y="3718080"/>
              <a:ext cx="1584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3419640" y="3763800"/>
            <a:ext cx="4392000" cy="459720"/>
            <a:chOff x="3419640" y="3763800"/>
            <a:chExt cx="4392000" cy="459720"/>
          </a:xfrm>
        </p:grpSpPr>
        <p:sp>
          <p:nvSpPr>
            <p:cNvPr id="229" name="Text Box 10"/>
            <p:cNvSpPr/>
            <p:nvPr/>
          </p:nvSpPr>
          <p:spPr>
            <a:xfrm>
              <a:off x="3419640" y="3763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6</a:t>
              </a:r>
              <a:r>
                <a:rPr b="0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0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0D</a:t>
              </a:r>
              <a:r>
                <a:rPr b="0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∠</a:t>
              </a:r>
              <a:r>
                <a:rPr b="0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0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>
              <a:off x="6227640" y="4197240"/>
              <a:ext cx="1584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3348000" y="4292640"/>
            <a:ext cx="4537080" cy="459720"/>
            <a:chOff x="3348000" y="4292640"/>
            <a:chExt cx="4537080" cy="459720"/>
          </a:xfrm>
        </p:grpSpPr>
        <p:sp>
          <p:nvSpPr>
            <p:cNvPr id="232" name="Text Box 13"/>
            <p:cNvSpPr/>
            <p:nvPr/>
          </p:nvSpPr>
          <p:spPr>
            <a:xfrm>
              <a:off x="3348000" y="42926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D</a:t>
              </a: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5003640" y="4726080"/>
              <a:ext cx="13687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6372360" y="429264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∠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5" name="Group 16"/>
          <p:cNvGrpSpPr/>
          <p:nvPr/>
        </p:nvGrpSpPr>
        <p:grpSpPr>
          <a:xfrm>
            <a:off x="250920" y="2276640"/>
            <a:ext cx="2735280" cy="2836080"/>
            <a:chOff x="250920" y="2276640"/>
            <a:chExt cx="2735280" cy="2836080"/>
          </a:xfrm>
        </p:grpSpPr>
        <p:grpSp>
          <p:nvGrpSpPr>
            <p:cNvPr id="236" name="Group 17"/>
            <p:cNvGrpSpPr/>
            <p:nvPr/>
          </p:nvGrpSpPr>
          <p:grpSpPr>
            <a:xfrm>
              <a:off x="250920" y="2276640"/>
              <a:ext cx="2735280" cy="2764800"/>
              <a:chOff x="250920" y="2276640"/>
              <a:chExt cx="2735280" cy="2764800"/>
            </a:xfrm>
          </p:grpSpPr>
          <p:sp>
            <p:nvSpPr>
              <p:cNvPr id="237" name="Line 18"/>
              <p:cNvSpPr/>
              <p:nvPr/>
            </p:nvSpPr>
            <p:spPr>
              <a:xfrm>
                <a:off x="682560" y="4003920"/>
                <a:ext cx="1727280" cy="647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>
                <a:off x="682560" y="4003920"/>
                <a:ext cx="1800360" cy="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9" name="Line 20"/>
              <p:cNvSpPr/>
              <p:nvPr/>
            </p:nvSpPr>
            <p:spPr>
              <a:xfrm flipV="1">
                <a:off x="682560" y="3211200"/>
                <a:ext cx="1584360" cy="79236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0" name="Line 21"/>
              <p:cNvSpPr/>
              <p:nvPr/>
            </p:nvSpPr>
            <p:spPr>
              <a:xfrm flipV="1">
                <a:off x="682560" y="2707920"/>
                <a:ext cx="1152720" cy="1295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1" name="Text Box 22"/>
              <p:cNvSpPr/>
              <p:nvPr/>
            </p:nvSpPr>
            <p:spPr>
              <a:xfrm>
                <a:off x="250920" y="39322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2" name="Text Box 23"/>
              <p:cNvSpPr/>
              <p:nvPr/>
            </p:nvSpPr>
            <p:spPr>
              <a:xfrm>
                <a:off x="1403280" y="227664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Text Box 24"/>
              <p:cNvSpPr/>
              <p:nvPr/>
            </p:nvSpPr>
            <p:spPr>
              <a:xfrm>
                <a:off x="2122560" y="2997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Text Box 25"/>
              <p:cNvSpPr/>
              <p:nvPr/>
            </p:nvSpPr>
            <p:spPr>
              <a:xfrm>
                <a:off x="2338560" y="3716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Text Box 26"/>
              <p:cNvSpPr/>
              <p:nvPr/>
            </p:nvSpPr>
            <p:spPr>
              <a:xfrm>
                <a:off x="2195640" y="45817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46" name="Text Box 27"/>
            <p:cNvSpPr/>
            <p:nvPr/>
          </p:nvSpPr>
          <p:spPr>
            <a:xfrm>
              <a:off x="827280" y="4653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47" name="Text Box 28"/>
          <p:cNvSpPr/>
          <p:nvPr/>
        </p:nvSpPr>
        <p:spPr>
          <a:xfrm>
            <a:off x="6156360" y="2755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6156360" y="3259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156360" y="3763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4932360" y="4267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3564000" y="1052640"/>
            <a:ext cx="41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3712320" y="1197000"/>
            <a:ext cx="34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D0B           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076720" y="155736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3276720" y="162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C0B           ∠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>
            <a:off x="5076720" y="206064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3348000" y="2205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1602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01602"/>
                </a:solidFill>
                <a:latin typeface="Times New Roman"/>
              </a:rPr>
              <a:t>） ∠</a:t>
            </a:r>
            <a:r>
              <a:rPr b="1" lang="en-US" sz="2400" spc="-1" strike="noStrike">
                <a:solidFill>
                  <a:srgbClr val="301602"/>
                </a:solidFill>
                <a:latin typeface="Times New Roman"/>
              </a:rPr>
              <a:t>D0C</a:t>
            </a:r>
            <a:r>
              <a:rPr b="1" lang="zh-CN" sz="2400" spc="-1" strike="noStrike">
                <a:solidFill>
                  <a:srgbClr val="301602"/>
                </a:solidFill>
                <a:latin typeface="Times New Roman"/>
              </a:rPr>
              <a:t>＋∠</a:t>
            </a:r>
            <a:r>
              <a:rPr b="1" lang="en-US" sz="2400" spc="-1" strike="noStrike">
                <a:solidFill>
                  <a:srgbClr val="301602"/>
                </a:solidFill>
                <a:latin typeface="Times New Roman"/>
              </a:rPr>
              <a:t>COB                    ∠B0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>
            <a:off x="6157800" y="263700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5364000" y="1100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＞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40"/>
          <p:cNvSpPr/>
          <p:nvPr/>
        </p:nvSpPr>
        <p:spPr>
          <a:xfrm>
            <a:off x="5219640" y="1676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644364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451440" y="39528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f7255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36400" y="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2552"/>
                </a:solidFill>
                <a:latin typeface="Arial"/>
              </a:rPr>
              <a:t>练习</a:t>
            </a:r>
            <a:r>
              <a:rPr b="0" lang="en-US" sz="4000" spc="-1" strike="noStrike">
                <a:solidFill>
                  <a:srgbClr val="f7255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92320" y="863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如图，回答下列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87000" y="1604880"/>
            <a:ext cx="468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OC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哪两个角的和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哪两个角的差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如果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OB=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D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那么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OC=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DO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吗？为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3630600"/>
            <a:ext cx="2867040" cy="2468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175360" y="4694400"/>
            <a:ext cx="1012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练习</a:t>
            </a: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2.gsp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907920" y="2174760"/>
            <a:ext cx="914400" cy="764280"/>
            <a:chOff x="907920" y="2174760"/>
            <a:chExt cx="914400" cy="764280"/>
          </a:xfrm>
        </p:grpSpPr>
        <p:grpSp>
          <p:nvGrpSpPr>
            <p:cNvPr id="270" name="Group 3"/>
            <p:cNvGrpSpPr/>
            <p:nvPr/>
          </p:nvGrpSpPr>
          <p:grpSpPr>
            <a:xfrm>
              <a:off x="907920" y="2479320"/>
              <a:ext cx="334800" cy="387360"/>
              <a:chOff x="907920" y="2479320"/>
              <a:chExt cx="334800" cy="387360"/>
            </a:xfrm>
          </p:grpSpPr>
          <p:sp>
            <p:nvSpPr>
              <p:cNvPr id="271" name="Freeform 4"/>
              <p:cNvSpPr/>
              <p:nvPr/>
            </p:nvSpPr>
            <p:spPr>
              <a:xfrm>
                <a:off x="1031760" y="2479320"/>
                <a:ext cx="106200" cy="2113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67" h="133">
                    <a:moveTo>
                      <a:pt x="0" y="0"/>
                    </a:moveTo>
                    <a:cubicBezTo>
                      <a:pt x="62" y="21"/>
                      <a:pt x="67" y="67"/>
                      <a:pt x="67" y="13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2" name="Freeform 5"/>
              <p:cNvSpPr/>
              <p:nvPr/>
            </p:nvSpPr>
            <p:spPr>
              <a:xfrm>
                <a:off x="1155600" y="2655720"/>
                <a:ext cx="87120" cy="2109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5" h="133">
                    <a:moveTo>
                      <a:pt x="0" y="0"/>
                    </a:moveTo>
                    <a:cubicBezTo>
                      <a:pt x="51" y="34"/>
                      <a:pt x="55" y="73"/>
                      <a:pt x="55" y="13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3" name="Freeform 6"/>
              <p:cNvSpPr/>
              <p:nvPr/>
            </p:nvSpPr>
            <p:spPr>
              <a:xfrm>
                <a:off x="907920" y="2584080"/>
                <a:ext cx="71280" cy="1065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45" h="67">
                    <a:moveTo>
                      <a:pt x="0" y="0"/>
                    </a:moveTo>
                    <a:cubicBezTo>
                      <a:pt x="11" y="4"/>
                      <a:pt x="27" y="1"/>
                      <a:pt x="33" y="11"/>
                    </a:cubicBezTo>
                    <a:cubicBezTo>
                      <a:pt x="44" y="27"/>
                      <a:pt x="45" y="67"/>
                      <a:pt x="45" y="67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74" name="Text Box 7"/>
            <p:cNvSpPr/>
            <p:nvPr/>
          </p:nvSpPr>
          <p:spPr>
            <a:xfrm>
              <a:off x="1212480" y="2174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441080" y="2479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6" name="Group 9"/>
          <p:cNvGrpSpPr/>
          <p:nvPr/>
        </p:nvGrpSpPr>
        <p:grpSpPr>
          <a:xfrm>
            <a:off x="907920" y="2160720"/>
            <a:ext cx="914400" cy="764280"/>
            <a:chOff x="907920" y="2160720"/>
            <a:chExt cx="914400" cy="764280"/>
          </a:xfrm>
        </p:grpSpPr>
        <p:grpSp>
          <p:nvGrpSpPr>
            <p:cNvPr id="277" name="Group 10"/>
            <p:cNvGrpSpPr/>
            <p:nvPr/>
          </p:nvGrpSpPr>
          <p:grpSpPr>
            <a:xfrm>
              <a:off x="907920" y="2465280"/>
              <a:ext cx="334440" cy="387360"/>
              <a:chOff x="907920" y="2465280"/>
              <a:chExt cx="334440" cy="387360"/>
            </a:xfrm>
          </p:grpSpPr>
          <p:sp>
            <p:nvSpPr>
              <p:cNvPr id="278" name="Freeform 11"/>
              <p:cNvSpPr/>
              <p:nvPr/>
            </p:nvSpPr>
            <p:spPr>
              <a:xfrm>
                <a:off x="1031400" y="2465280"/>
                <a:ext cx="105840" cy="2109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67" h="133">
                    <a:moveTo>
                      <a:pt x="0" y="0"/>
                    </a:moveTo>
                    <a:cubicBezTo>
                      <a:pt x="62" y="21"/>
                      <a:pt x="67" y="67"/>
                      <a:pt x="67" y="133"/>
                    </a:cubicBez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9" name="Freeform 12"/>
              <p:cNvSpPr/>
              <p:nvPr/>
            </p:nvSpPr>
            <p:spPr>
              <a:xfrm>
                <a:off x="1155240" y="2641320"/>
                <a:ext cx="87120" cy="2113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55" h="133">
                    <a:moveTo>
                      <a:pt x="0" y="0"/>
                    </a:moveTo>
                    <a:cubicBezTo>
                      <a:pt x="51" y="34"/>
                      <a:pt x="55" y="73"/>
                      <a:pt x="55" y="133"/>
                    </a:cubicBez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0" name="Freeform 13"/>
              <p:cNvSpPr/>
              <p:nvPr/>
            </p:nvSpPr>
            <p:spPr>
              <a:xfrm>
                <a:off x="907920" y="2570040"/>
                <a:ext cx="71280" cy="1062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45" h="67">
                    <a:moveTo>
                      <a:pt x="0" y="0"/>
                    </a:moveTo>
                    <a:cubicBezTo>
                      <a:pt x="11" y="4"/>
                      <a:pt x="27" y="1"/>
                      <a:pt x="33" y="11"/>
                    </a:cubicBezTo>
                    <a:cubicBezTo>
                      <a:pt x="44" y="27"/>
                      <a:pt x="45" y="67"/>
                      <a:pt x="45" y="67"/>
                    </a:cubicBez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81" name="Text Box 14"/>
            <p:cNvSpPr/>
            <p:nvPr/>
          </p:nvSpPr>
          <p:spPr>
            <a:xfrm>
              <a:off x="1212480" y="2160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Text Box 15"/>
            <p:cNvSpPr/>
            <p:nvPr/>
          </p:nvSpPr>
          <p:spPr>
            <a:xfrm>
              <a:off x="1441080" y="246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3" name="Group 16"/>
          <p:cNvGrpSpPr/>
          <p:nvPr/>
        </p:nvGrpSpPr>
        <p:grpSpPr>
          <a:xfrm>
            <a:off x="414360" y="1720800"/>
            <a:ext cx="3276720" cy="1523520"/>
            <a:chOff x="414360" y="1720800"/>
            <a:chExt cx="3276720" cy="1523520"/>
          </a:xfrm>
        </p:grpSpPr>
        <p:sp>
          <p:nvSpPr>
            <p:cNvPr id="284" name="Line 17"/>
            <p:cNvSpPr/>
            <p:nvPr/>
          </p:nvSpPr>
          <p:spPr>
            <a:xfrm flipV="1">
              <a:off x="642960" y="1949040"/>
              <a:ext cx="259092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5" name="Text Box 18"/>
            <p:cNvSpPr/>
            <p:nvPr/>
          </p:nvSpPr>
          <p:spPr>
            <a:xfrm>
              <a:off x="3310200" y="1720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414360" y="2787480"/>
              <a:ext cx="457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347760" y="1131840"/>
            <a:ext cx="2818440" cy="2136240"/>
            <a:chOff x="347760" y="1131840"/>
            <a:chExt cx="2818440" cy="2136240"/>
          </a:xfrm>
        </p:grpSpPr>
        <p:grpSp>
          <p:nvGrpSpPr>
            <p:cNvPr id="288" name="Group 21"/>
            <p:cNvGrpSpPr/>
            <p:nvPr/>
          </p:nvGrpSpPr>
          <p:grpSpPr>
            <a:xfrm>
              <a:off x="575640" y="1131840"/>
              <a:ext cx="2590560" cy="2136240"/>
              <a:chOff x="575640" y="1131840"/>
              <a:chExt cx="2590560" cy="2136240"/>
            </a:xfrm>
          </p:grpSpPr>
          <p:grpSp>
            <p:nvGrpSpPr>
              <p:cNvPr id="289" name="Group 22"/>
              <p:cNvGrpSpPr/>
              <p:nvPr/>
            </p:nvGrpSpPr>
            <p:grpSpPr>
              <a:xfrm>
                <a:off x="575640" y="1360440"/>
                <a:ext cx="2286000" cy="1447920"/>
                <a:chOff x="575640" y="1360440"/>
                <a:chExt cx="2286000" cy="1447920"/>
              </a:xfrm>
            </p:grpSpPr>
            <p:sp>
              <p:nvSpPr>
                <p:cNvPr id="290" name="Line 23"/>
                <p:cNvSpPr/>
                <p:nvPr/>
              </p:nvSpPr>
              <p:spPr>
                <a:xfrm flipH="1">
                  <a:off x="575640" y="1360440"/>
                  <a:ext cx="1904760" cy="14479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4"/>
                <p:cNvSpPr/>
                <p:nvPr/>
              </p:nvSpPr>
              <p:spPr>
                <a:xfrm>
                  <a:off x="576000" y="2808360"/>
                  <a:ext cx="228564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Text Box 25"/>
              <p:cNvSpPr/>
              <p:nvPr/>
            </p:nvSpPr>
            <p:spPr>
              <a:xfrm>
                <a:off x="2785680" y="28083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93" name="Text Box 26"/>
              <p:cNvSpPr/>
              <p:nvPr/>
            </p:nvSpPr>
            <p:spPr>
              <a:xfrm>
                <a:off x="2480760" y="11318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94" name="Text Box 27"/>
            <p:cNvSpPr/>
            <p:nvPr/>
          </p:nvSpPr>
          <p:spPr>
            <a:xfrm>
              <a:off x="347760" y="2808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95" name="Group 28"/>
          <p:cNvGrpSpPr/>
          <p:nvPr/>
        </p:nvGrpSpPr>
        <p:grpSpPr>
          <a:xfrm>
            <a:off x="3917880" y="1030320"/>
            <a:ext cx="4572000" cy="2128320"/>
            <a:chOff x="3917880" y="1030320"/>
            <a:chExt cx="4572000" cy="2128320"/>
          </a:xfrm>
        </p:grpSpPr>
        <p:grpSp>
          <p:nvGrpSpPr>
            <p:cNvPr id="296" name="Group 29"/>
            <p:cNvGrpSpPr/>
            <p:nvPr/>
          </p:nvGrpSpPr>
          <p:grpSpPr>
            <a:xfrm>
              <a:off x="6099120" y="2239560"/>
              <a:ext cx="252360" cy="228960"/>
              <a:chOff x="6099120" y="2239560"/>
              <a:chExt cx="252360" cy="228960"/>
            </a:xfrm>
          </p:grpSpPr>
          <p:sp>
            <p:nvSpPr>
              <p:cNvPr id="297" name="Line 30"/>
              <p:cNvSpPr/>
              <p:nvPr/>
            </p:nvSpPr>
            <p:spPr>
              <a:xfrm>
                <a:off x="6099120" y="2468520"/>
                <a:ext cx="252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98" name="Line 31"/>
              <p:cNvSpPr/>
              <p:nvPr/>
            </p:nvSpPr>
            <p:spPr>
              <a:xfrm flipV="1">
                <a:off x="6099120" y="2239560"/>
                <a:ext cx="252360" cy="22860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2"/>
            <p:cNvGrpSpPr/>
            <p:nvPr/>
          </p:nvGrpSpPr>
          <p:grpSpPr>
            <a:xfrm>
              <a:off x="3917880" y="1030320"/>
              <a:ext cx="4572000" cy="2128320"/>
              <a:chOff x="3917880" y="1030320"/>
              <a:chExt cx="4572000" cy="2128320"/>
            </a:xfrm>
          </p:grpSpPr>
          <p:grpSp>
            <p:nvGrpSpPr>
              <p:cNvPr id="300" name="Group 33"/>
              <p:cNvGrpSpPr/>
              <p:nvPr/>
            </p:nvGrpSpPr>
            <p:grpSpPr>
              <a:xfrm>
                <a:off x="3917880" y="1030320"/>
                <a:ext cx="4572000" cy="2128320"/>
                <a:chOff x="3917880" y="1030320"/>
                <a:chExt cx="4572000" cy="2128320"/>
              </a:xfrm>
            </p:grpSpPr>
            <p:sp>
              <p:nvSpPr>
                <p:cNvPr id="301" name="Text Box 34"/>
                <p:cNvSpPr/>
                <p:nvPr/>
              </p:nvSpPr>
              <p:spPr>
                <a:xfrm>
                  <a:off x="3917880" y="1030320"/>
                  <a:ext cx="4572000" cy="212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  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当 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1 =      2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时，射线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把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成两个相等的角，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   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这时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叫做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的平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线，也可以说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平分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302" name="Group 35"/>
                <p:cNvGrpSpPr/>
                <p:nvPr/>
              </p:nvGrpSpPr>
              <p:grpSpPr>
                <a:xfrm>
                  <a:off x="4755960" y="1182240"/>
                  <a:ext cx="252360" cy="228960"/>
                  <a:chOff x="4755960" y="1182240"/>
                  <a:chExt cx="252360" cy="228960"/>
                </a:xfrm>
              </p:grpSpPr>
              <p:sp>
                <p:nvSpPr>
                  <p:cNvPr id="303" name="Line 36"/>
                  <p:cNvSpPr/>
                  <p:nvPr/>
                </p:nvSpPr>
                <p:spPr>
                  <a:xfrm>
                    <a:off x="4755960" y="14112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37"/>
                  <p:cNvSpPr/>
                  <p:nvPr/>
                </p:nvSpPr>
                <p:spPr>
                  <a:xfrm flipV="1">
                    <a:off x="4755960" y="118224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38"/>
                <p:cNvGrpSpPr/>
                <p:nvPr/>
              </p:nvGrpSpPr>
              <p:grpSpPr>
                <a:xfrm>
                  <a:off x="7270560" y="2706120"/>
                  <a:ext cx="252360" cy="228960"/>
                  <a:chOff x="7270560" y="2706120"/>
                  <a:chExt cx="252360" cy="228960"/>
                </a:xfrm>
              </p:grpSpPr>
              <p:sp>
                <p:nvSpPr>
                  <p:cNvPr id="306" name="Line 39"/>
                  <p:cNvSpPr/>
                  <p:nvPr/>
                </p:nvSpPr>
                <p:spPr>
                  <a:xfrm>
                    <a:off x="7270560" y="293508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40"/>
                  <p:cNvSpPr/>
                  <p:nvPr/>
                </p:nvSpPr>
                <p:spPr>
                  <a:xfrm flipV="1">
                    <a:off x="7270560" y="270612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41"/>
                <p:cNvGrpSpPr/>
                <p:nvPr/>
              </p:nvGrpSpPr>
              <p:grpSpPr>
                <a:xfrm>
                  <a:off x="4503600" y="1639440"/>
                  <a:ext cx="252360" cy="228960"/>
                  <a:chOff x="4503600" y="1639440"/>
                  <a:chExt cx="252360" cy="228960"/>
                </a:xfrm>
              </p:grpSpPr>
              <p:sp>
                <p:nvSpPr>
                  <p:cNvPr id="309" name="Line 42"/>
                  <p:cNvSpPr/>
                  <p:nvPr/>
                </p:nvSpPr>
                <p:spPr>
                  <a:xfrm>
                    <a:off x="4503600" y="18684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43"/>
                  <p:cNvSpPr/>
                  <p:nvPr/>
                </p:nvSpPr>
                <p:spPr>
                  <a:xfrm flipV="1">
                    <a:off x="4503600" y="1639440"/>
                    <a:ext cx="252360" cy="2286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" name="Group 44"/>
              <p:cNvGrpSpPr/>
              <p:nvPr/>
            </p:nvGrpSpPr>
            <p:grpSpPr>
              <a:xfrm>
                <a:off x="5570640" y="1182240"/>
                <a:ext cx="252360" cy="228960"/>
                <a:chOff x="5570640" y="1182240"/>
                <a:chExt cx="252360" cy="228960"/>
              </a:xfrm>
            </p:grpSpPr>
            <p:sp>
              <p:nvSpPr>
                <p:cNvPr id="312" name="Line 45"/>
                <p:cNvSpPr/>
                <p:nvPr/>
              </p:nvSpPr>
              <p:spPr>
                <a:xfrm>
                  <a:off x="5570640" y="1411200"/>
                  <a:ext cx="2523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3" name="Line 46"/>
                <p:cNvSpPr/>
                <p:nvPr/>
              </p:nvSpPr>
              <p:spPr>
                <a:xfrm flipV="1">
                  <a:off x="5570640" y="1182240"/>
                  <a:ext cx="252360" cy="2286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4" name="Text Box 47"/>
          <p:cNvSpPr/>
          <p:nvPr/>
        </p:nvSpPr>
        <p:spPr>
          <a:xfrm>
            <a:off x="166680" y="351792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义：在角的内部，自顶点引一条射线把 这个角分成两个相等的角，那么，这条射线叫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角的平分线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>
            <a:off x="515880" y="4859280"/>
            <a:ext cx="2611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符号表达：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OB=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3800" y="17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角平分线定义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5800" y="510696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思考？  你还有其他方法表示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2221560" y="42696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类似地：还有角的三等分线       如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Line 3"/>
          <p:cNvSpPr/>
          <p:nvPr/>
        </p:nvSpPr>
        <p:spPr>
          <a:xfrm>
            <a:off x="2050920" y="1700280"/>
            <a:ext cx="792360" cy="237636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Line 4"/>
          <p:cNvSpPr/>
          <p:nvPr/>
        </p:nvSpPr>
        <p:spPr>
          <a:xfrm>
            <a:off x="2843280" y="4076640"/>
            <a:ext cx="2879640" cy="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Line 5"/>
          <p:cNvSpPr/>
          <p:nvPr/>
        </p:nvSpPr>
        <p:spPr>
          <a:xfrm>
            <a:off x="4140360" y="191628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 flipV="1">
            <a:off x="2843280" y="2565360"/>
            <a:ext cx="2449440" cy="151128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 flipV="1">
            <a:off x="2843280" y="1628640"/>
            <a:ext cx="865080" cy="244800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536560" y="4097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705640" y="409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5489640" y="22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3834000" y="12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217836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 rot="4695600">
            <a:off x="2958120" y="3888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 rot="2497800">
            <a:off x="298836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2629440" y="32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565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320544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262908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49320" y="472428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C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是∠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AOD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的三等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79240" y="258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52727"/>
                </a:solidFill>
                <a:latin typeface="Arial"/>
              </a:rPr>
              <a:t>例题讲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7120" y="1084320"/>
            <a:ext cx="689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如图，∠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AOB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是一个平角， ∠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AOC=30°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∠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BOD=60°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，若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OM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、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ON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分别是∠ 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AOC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∠ 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BOD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的平分线，求∠ </a:t>
            </a:r>
            <a:r>
              <a:rPr b="1" lang="en-US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MON</a:t>
            </a:r>
            <a:r>
              <a:rPr b="1" lang="zh-CN" sz="3200" spc="-1" strike="noStrike">
                <a:solidFill>
                  <a:srgbClr val="000099"/>
                </a:solidFill>
                <a:latin typeface="新宋体"/>
                <a:ea typeface="新宋体"/>
              </a:rPr>
              <a:t>的度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01760" y="2957400"/>
            <a:ext cx="51339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663560" y="363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0440" y="287280"/>
            <a:ext cx="139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52727"/>
                </a:solidFill>
                <a:latin typeface="Arial"/>
              </a:rPr>
              <a:t>练习</a:t>
            </a:r>
            <a:r>
              <a:rPr b="0" lang="en-US" sz="4800" spc="-1" strike="noStrike">
                <a:solidFill>
                  <a:srgbClr val="f52727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83520" y="1274760"/>
            <a:ext cx="583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如图，点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A</a:t>
            </a: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、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O</a:t>
            </a: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、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B</a:t>
            </a: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在同一直线上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∠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DOE=∠BOD</a:t>
            </a: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，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OF</a:t>
            </a: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平分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∠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AOE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∠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BOD=28</a:t>
            </a: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，求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∠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EOF</a:t>
            </a:r>
            <a:r>
              <a:rPr b="1" lang="zh-CN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的度数</a:t>
            </a:r>
            <a:r>
              <a:rPr b="1" lang="en-US" sz="3600" spc="-1" strike="noStrike">
                <a:solidFill>
                  <a:srgbClr val="000099"/>
                </a:solidFill>
                <a:latin typeface="新宋体"/>
                <a:ea typeface="新宋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92200" y="3476520"/>
            <a:ext cx="44546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317600" y="27792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52727"/>
                </a:solidFill>
                <a:latin typeface="Arial"/>
              </a:rPr>
              <a:t>练习</a:t>
            </a:r>
            <a:r>
              <a:rPr b="0" lang="en-US" sz="4000" spc="-1" strike="noStrike">
                <a:solidFill>
                  <a:srgbClr val="f52727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0360" y="1023840"/>
            <a:ext cx="615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如图，点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是直线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上的一点，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D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OC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的平分线，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E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是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B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的平分线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85400" y="2243160"/>
            <a:ext cx="6112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求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∠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DOE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的度数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若只将射线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OC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的位置改变，其他条件不变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那么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∠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DOE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的度数会有变化吗？为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3.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若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∠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AOB=n°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（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n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＜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180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），其他条件不变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则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∠</a:t>
            </a: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DOE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的度数有事多少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917960" y="4227480"/>
            <a:ext cx="3133800" cy="1886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504880" y="4924440"/>
            <a:ext cx="1012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练习</a:t>
            </a: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4.gsp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982600" y="798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2552"/>
                </a:solidFill>
                <a:latin typeface="Arial"/>
              </a:rPr>
              <a:t>角的加减乘除计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53120" y="1679400"/>
            <a:ext cx="555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计算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50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°34′28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〞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19 °41′51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） </a:t>
            </a:r>
            <a:r>
              <a:rPr b="1" lang="en-US" sz="3200" spc="-1" strike="noStrike">
                <a:solidFill>
                  <a:srgbClr val="007a77"/>
                </a:solidFill>
                <a:latin typeface="新宋体"/>
                <a:ea typeface="新宋体"/>
              </a:rPr>
              <a:t>180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°- 50°17′3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5 °32′14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〞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×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4)15 °20′6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〞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÷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6280" y="1913040"/>
            <a:ext cx="791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加法：度分秒分别相加，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进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减法：从低级算起，若同级不够减，向上一级借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作为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乘法：度分秒分别相乘，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进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除法：从高级算起，余数乘以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化为下一级再运算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14440" y="1362240"/>
            <a:ext cx="2286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方法归纳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41529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24000" y="836640"/>
            <a:ext cx="223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计算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　　　　　　　　　　　　　　　　　　　　　　　　　　　　　　　　　　　　　　　　　　　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79280" y="28486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5508720" y="5516640"/>
            <a:ext cx="316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79280" y="3645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539640" y="1268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1)48°35′+17°45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861120" y="2637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2)15°20′×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4140360" y="1268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6°2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203640" y="2637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76°4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 rot="20818800">
            <a:off x="6207120" y="0"/>
            <a:ext cx="2523960" cy="1557360"/>
          </a:xfrm>
          <a:prstGeom prst="cloudCallout">
            <a:avLst>
              <a:gd name="adj1" fmla="val -68439"/>
              <a:gd name="adj2" fmla="val 20430"/>
            </a:avLst>
          </a:prstGeom>
          <a:gradFill rotWithShape="0">
            <a:gsLst>
              <a:gs pos="0">
                <a:srgbClr val="defefa"/>
              </a:gs>
              <a:gs pos="50000">
                <a:srgbClr val="ffccff"/>
              </a:gs>
              <a:gs pos="100000">
                <a:srgbClr val="defefa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65°80′ =66°2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 rot="20818800">
            <a:off x="5654160" y="1701360"/>
            <a:ext cx="2735280" cy="1557360"/>
          </a:xfrm>
          <a:prstGeom prst="cloudCallout">
            <a:avLst>
              <a:gd name="adj1" fmla="val -71953"/>
              <a:gd name="adj2" fmla="val 13236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75°100′ =76°4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WordArt 13"/>
          <p:cNvSpPr txBox="1"/>
          <p:nvPr/>
        </p:nvSpPr>
        <p:spPr>
          <a:xfrm>
            <a:off x="250920" y="0"/>
            <a:ext cx="216036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比一比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65" name="WordArt 14" descr=""/>
          <p:cNvPicPr/>
          <p:nvPr/>
        </p:nvPicPr>
        <p:blipFill>
          <a:blip r:embed="rId2"/>
          <a:stretch/>
        </p:blipFill>
        <p:spPr>
          <a:xfrm>
            <a:off x="2548080" y="396720"/>
            <a:ext cx="2566800" cy="57312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5"/>
          <p:cNvSpPr/>
          <p:nvPr/>
        </p:nvSpPr>
        <p:spPr>
          <a:xfrm>
            <a:off x="539640" y="4076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3)48°18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7°45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3795840" y="19782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4457880" y="4076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AutoShape 18"/>
          <p:cNvSpPr/>
          <p:nvPr/>
        </p:nvSpPr>
        <p:spPr>
          <a:xfrm rot="20818800">
            <a:off x="6073920" y="3390480"/>
            <a:ext cx="4030560" cy="1368360"/>
          </a:xfrm>
          <a:prstGeom prst="cloudCallout">
            <a:avLst>
              <a:gd name="adj1" fmla="val 77472"/>
              <a:gd name="adj2" fmla="val -69250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47°78′-17°45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563400" y="500220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4)360°÷1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71" name="Picture 22" descr=""/>
          <p:cNvPicPr/>
          <p:nvPr/>
        </p:nvPicPr>
        <p:blipFill>
          <a:blip r:embed="rId3"/>
          <a:stretch/>
        </p:blipFill>
        <p:spPr>
          <a:xfrm>
            <a:off x="2878200" y="4957920"/>
            <a:ext cx="197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2"/>
          <p:cNvSpPr/>
          <p:nvPr/>
        </p:nvSpPr>
        <p:spPr>
          <a:xfrm>
            <a:off x="4713120" y="2293920"/>
            <a:ext cx="3456000" cy="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 flipH="1" flipV="1">
            <a:off x="4843440" y="1069920"/>
            <a:ext cx="1511280" cy="122400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138720" y="236700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411800" y="6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7777440" y="238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995400" y="0"/>
            <a:ext cx="63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如图：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是直线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上一点，∠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AOC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求∠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的度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152280" y="2703600"/>
            <a:ext cx="37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解：因为∠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是平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AOC+∠BO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384480" y="3809880"/>
            <a:ext cx="445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所以∠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－∠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AO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180°</a:t>
            </a: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301602"/>
                </a:solidFill>
                <a:latin typeface="Arial"/>
              </a:rPr>
              <a:t>126°43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4411800" y="24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2240" y="563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2552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93000" y="1654200"/>
            <a:ext cx="39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会比较角的大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理解角平分线的定义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能根据图形进行角的和、差、倍、分的计算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会利用三角尺画特殊角度的角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会进行角的加、减、乘、除的计算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2" descr=""/>
          <p:cNvPicPr/>
          <p:nvPr/>
        </p:nvPicPr>
        <p:blipFill>
          <a:blip r:embed="rId2"/>
          <a:stretch/>
        </p:blipFill>
        <p:spPr>
          <a:xfrm>
            <a:off x="0" y="2776680"/>
            <a:ext cx="8164440" cy="1238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0" descr=""/>
          <p:cNvPicPr/>
          <p:nvPr/>
        </p:nvPicPr>
        <p:blipFill>
          <a:blip r:embed="rId3"/>
          <a:stretch/>
        </p:blipFill>
        <p:spPr>
          <a:xfrm>
            <a:off x="0" y="0"/>
            <a:ext cx="8028000" cy="1238400"/>
          </a:xfrm>
          <a:prstGeom prst="rect">
            <a:avLst/>
          </a:prstGeom>
          <a:ln w="0">
            <a:noFill/>
          </a:ln>
        </p:spPr>
      </p:pic>
      <p:sp>
        <p:nvSpPr>
          <p:cNvPr id="383" name="Line 2"/>
          <p:cNvSpPr/>
          <p:nvPr/>
        </p:nvSpPr>
        <p:spPr>
          <a:xfrm>
            <a:off x="1100160" y="364320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6488280" y="520560"/>
            <a:ext cx="2655360" cy="2447640"/>
            <a:chOff x="6488280" y="520560"/>
            <a:chExt cx="2655360" cy="2447640"/>
          </a:xfrm>
        </p:grpSpPr>
        <p:grpSp>
          <p:nvGrpSpPr>
            <p:cNvPr id="385" name="Group 4"/>
            <p:cNvGrpSpPr/>
            <p:nvPr/>
          </p:nvGrpSpPr>
          <p:grpSpPr>
            <a:xfrm>
              <a:off x="6653880" y="781920"/>
              <a:ext cx="2177640" cy="1726560"/>
              <a:chOff x="6653880" y="781920"/>
              <a:chExt cx="2177640" cy="1726560"/>
            </a:xfrm>
          </p:grpSpPr>
          <p:grpSp>
            <p:nvGrpSpPr>
              <p:cNvPr id="386" name="Group 5"/>
              <p:cNvGrpSpPr/>
              <p:nvPr/>
            </p:nvGrpSpPr>
            <p:grpSpPr>
              <a:xfrm>
                <a:off x="6654240" y="781920"/>
                <a:ext cx="2177280" cy="1726560"/>
                <a:chOff x="6654240" y="781920"/>
                <a:chExt cx="2177280" cy="1726560"/>
              </a:xfrm>
            </p:grpSpPr>
            <p:sp>
              <p:nvSpPr>
                <p:cNvPr id="387" name="Line 6"/>
                <p:cNvSpPr/>
                <p:nvPr/>
              </p:nvSpPr>
              <p:spPr>
                <a:xfrm flipH="1">
                  <a:off x="6654240" y="1200240"/>
                  <a:ext cx="371520" cy="130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8" name="Line 7"/>
                <p:cNvSpPr/>
                <p:nvPr/>
              </p:nvSpPr>
              <p:spPr>
                <a:xfrm flipV="1">
                  <a:off x="7025760" y="781920"/>
                  <a:ext cx="1280880" cy="418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9" name="Line 8"/>
                <p:cNvSpPr/>
                <p:nvPr/>
              </p:nvSpPr>
              <p:spPr>
                <a:xfrm>
                  <a:off x="6654240" y="2508480"/>
                  <a:ext cx="2177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90" name="Line 9"/>
                <p:cNvSpPr/>
                <p:nvPr/>
              </p:nvSpPr>
              <p:spPr>
                <a:xfrm>
                  <a:off x="8307000" y="781920"/>
                  <a:ext cx="524160" cy="1726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Line 10"/>
              <p:cNvSpPr/>
              <p:nvPr/>
            </p:nvSpPr>
            <p:spPr>
              <a:xfrm flipH="1">
                <a:off x="6653880" y="781920"/>
                <a:ext cx="1652760" cy="172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92" name="Text Box 11"/>
            <p:cNvSpPr/>
            <p:nvPr/>
          </p:nvSpPr>
          <p:spPr>
            <a:xfrm>
              <a:off x="6488280" y="25084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3" name="Text Box 12"/>
            <p:cNvSpPr/>
            <p:nvPr/>
          </p:nvSpPr>
          <p:spPr>
            <a:xfrm>
              <a:off x="8830800" y="2507400"/>
              <a:ext cx="3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4" name="Text Box 13"/>
            <p:cNvSpPr/>
            <p:nvPr/>
          </p:nvSpPr>
          <p:spPr>
            <a:xfrm>
              <a:off x="6859800" y="781920"/>
              <a:ext cx="3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5" name="Text Box 14"/>
            <p:cNvSpPr/>
            <p:nvPr/>
          </p:nvSpPr>
          <p:spPr>
            <a:xfrm>
              <a:off x="8307360" y="520560"/>
              <a:ext cx="5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6" name="Group 16"/>
          <p:cNvGrpSpPr/>
          <p:nvPr/>
        </p:nvGrpSpPr>
        <p:grpSpPr>
          <a:xfrm>
            <a:off x="5396040" y="3433680"/>
            <a:ext cx="3747600" cy="2223000"/>
            <a:chOff x="5396040" y="3433680"/>
            <a:chExt cx="3747600" cy="2223000"/>
          </a:xfrm>
        </p:grpSpPr>
        <p:grpSp>
          <p:nvGrpSpPr>
            <p:cNvPr id="397" name="Group 17"/>
            <p:cNvGrpSpPr/>
            <p:nvPr/>
          </p:nvGrpSpPr>
          <p:grpSpPr>
            <a:xfrm>
              <a:off x="5736600" y="3798360"/>
              <a:ext cx="3009240" cy="1398600"/>
              <a:chOff x="5736600" y="3798360"/>
              <a:chExt cx="3009240" cy="1398600"/>
            </a:xfrm>
          </p:grpSpPr>
          <p:sp>
            <p:nvSpPr>
              <p:cNvPr id="398" name="Line 18"/>
              <p:cNvSpPr/>
              <p:nvPr/>
            </p:nvSpPr>
            <p:spPr>
              <a:xfrm>
                <a:off x="5736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9" name="Line 19"/>
              <p:cNvSpPr/>
              <p:nvPr/>
            </p:nvSpPr>
            <p:spPr>
              <a:xfrm>
                <a:off x="5736600" y="37983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0" name="Line 20"/>
              <p:cNvSpPr/>
              <p:nvPr/>
            </p:nvSpPr>
            <p:spPr>
              <a:xfrm>
                <a:off x="6360840" y="51969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1" name="Line 21"/>
              <p:cNvSpPr/>
              <p:nvPr/>
            </p:nvSpPr>
            <p:spPr>
              <a:xfrm>
                <a:off x="8121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2" name="Line 22"/>
              <p:cNvSpPr/>
              <p:nvPr/>
            </p:nvSpPr>
            <p:spPr>
              <a:xfrm flipH="1">
                <a:off x="6360840" y="3798360"/>
                <a:ext cx="176040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03" name="Text Box 23"/>
            <p:cNvSpPr/>
            <p:nvPr/>
          </p:nvSpPr>
          <p:spPr>
            <a:xfrm>
              <a:off x="539604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Text Box 24"/>
            <p:cNvSpPr/>
            <p:nvPr/>
          </p:nvSpPr>
          <p:spPr>
            <a:xfrm>
              <a:off x="6059520" y="5196960"/>
              <a:ext cx="6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5" name="Text Box 25"/>
            <p:cNvSpPr/>
            <p:nvPr/>
          </p:nvSpPr>
          <p:spPr>
            <a:xfrm>
              <a:off x="812160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6" name="Text Box 26"/>
            <p:cNvSpPr/>
            <p:nvPr/>
          </p:nvSpPr>
          <p:spPr>
            <a:xfrm>
              <a:off x="8747640" y="5196960"/>
              <a:ext cx="3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6651720" y="835200"/>
            <a:ext cx="1611360" cy="1668240"/>
            <a:chOff x="6651720" y="835200"/>
            <a:chExt cx="1611360" cy="1668240"/>
          </a:xfrm>
        </p:grpSpPr>
        <p:sp>
          <p:nvSpPr>
            <p:cNvPr id="408" name="Line 29"/>
            <p:cNvSpPr/>
            <p:nvPr/>
          </p:nvSpPr>
          <p:spPr>
            <a:xfrm flipH="1">
              <a:off x="6664320" y="1177920"/>
              <a:ext cx="365040" cy="132552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9" name="Line 30"/>
            <p:cNvSpPr/>
            <p:nvPr/>
          </p:nvSpPr>
          <p:spPr>
            <a:xfrm flipH="1">
              <a:off x="6651720" y="835200"/>
              <a:ext cx="1611360" cy="16682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0" name="Group 31"/>
          <p:cNvGrpSpPr/>
          <p:nvPr/>
        </p:nvGrpSpPr>
        <p:grpSpPr>
          <a:xfrm>
            <a:off x="6653160" y="877680"/>
            <a:ext cx="2148120" cy="1636920"/>
            <a:chOff x="6653160" y="877680"/>
            <a:chExt cx="2148120" cy="1636920"/>
          </a:xfrm>
        </p:grpSpPr>
        <p:sp>
          <p:nvSpPr>
            <p:cNvPr id="411" name="Line 32"/>
            <p:cNvSpPr/>
            <p:nvPr/>
          </p:nvSpPr>
          <p:spPr>
            <a:xfrm>
              <a:off x="6653160" y="2514600"/>
              <a:ext cx="2148120" cy="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Line 33"/>
            <p:cNvSpPr/>
            <p:nvPr/>
          </p:nvSpPr>
          <p:spPr>
            <a:xfrm flipV="1">
              <a:off x="6664320" y="877680"/>
              <a:ext cx="1554120" cy="162396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3" name="Arc 34"/>
          <p:cNvSpPr/>
          <p:nvPr/>
        </p:nvSpPr>
        <p:spPr>
          <a:xfrm rot="11250600">
            <a:off x="7714800" y="3758400"/>
            <a:ext cx="468360" cy="290520"/>
          </a:xfrm>
          <a:custGeom>
            <a:avLst/>
            <a:gdLst>
              <a:gd name="textAreaLeft" fmla="*/ 0 w 468360"/>
              <a:gd name="textAreaRight" fmla="*/ 468720 w 468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fill="none" w="33907" h="21600">
                <a:moveTo>
                  <a:pt x="-1" y="4248"/>
                </a:moveTo>
                <a:cubicBezTo>
                  <a:pt x="3721" y="1489"/>
                  <a:pt x="8231" y="-1"/>
                  <a:pt x="12864" y="0"/>
                </a:cubicBezTo>
                <a:cubicBezTo>
                  <a:pt x="22916" y="0"/>
                  <a:pt x="31639" y="6934"/>
                  <a:pt x="33907" y="16726"/>
                </a:cubicBezTo>
              </a:path>
              <a:path stroke="0" w="33907" h="21600">
                <a:moveTo>
                  <a:pt x="-1" y="4248"/>
                </a:moveTo>
                <a:cubicBezTo>
                  <a:pt x="3721" y="1489"/>
                  <a:pt x="8231" y="-1"/>
                  <a:pt x="12864" y="0"/>
                </a:cubicBezTo>
                <a:cubicBezTo>
                  <a:pt x="22916" y="0"/>
                  <a:pt x="31639" y="6934"/>
                  <a:pt x="33907" y="16726"/>
                </a:cubicBezTo>
                <a:lnTo>
                  <a:pt x="12864" y="21600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Arc 35"/>
          <p:cNvSpPr/>
          <p:nvPr/>
        </p:nvSpPr>
        <p:spPr>
          <a:xfrm>
            <a:off x="6780240" y="1933560"/>
            <a:ext cx="264960" cy="290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fill="none" w="19240" h="21600">
                <a:moveTo>
                  <a:pt x="-1" y="0"/>
                </a:moveTo>
                <a:cubicBezTo>
                  <a:pt x="8118" y="0"/>
                  <a:pt x="15550" y="4551"/>
                  <a:pt x="19240" y="11782"/>
                </a:cubicBezTo>
              </a:path>
              <a:path stroke="0" w="19240" h="21600">
                <a:moveTo>
                  <a:pt x="-1" y="0"/>
                </a:moveTo>
                <a:cubicBezTo>
                  <a:pt x="8118" y="0"/>
                  <a:pt x="15550" y="4551"/>
                  <a:pt x="19240" y="11782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Arc 36"/>
          <p:cNvSpPr/>
          <p:nvPr/>
        </p:nvSpPr>
        <p:spPr>
          <a:xfrm>
            <a:off x="7099200" y="2103480"/>
            <a:ext cx="298440" cy="387360"/>
          </a:xfrm>
          <a:custGeom>
            <a:avLst/>
            <a:gdLst>
              <a:gd name="textAreaLeft" fmla="*/ 0 w 298440"/>
              <a:gd name="textAreaRight" fmla="*/ 298800 w 2984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fill="none" w="21600" h="2876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38"/>
                  <a:pt x="21186" y="26459"/>
                  <a:pt x="20378" y="28760"/>
                </a:cubicBezTo>
              </a:path>
              <a:path stroke="0" w="21600" h="2876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38"/>
                  <a:pt x="21186" y="26459"/>
                  <a:pt x="20378" y="2876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Arc 37"/>
          <p:cNvSpPr/>
          <p:nvPr/>
        </p:nvSpPr>
        <p:spPr>
          <a:xfrm rot="11250600">
            <a:off x="7489800" y="3747240"/>
            <a:ext cx="279360" cy="290520"/>
          </a:xfrm>
          <a:custGeom>
            <a:avLst/>
            <a:gdLst>
              <a:gd name="textAreaLeft" fmla="*/ 0 w 279360"/>
              <a:gd name="textAreaRight" fmla="*/ 279360 w 279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fill="none" w="20323" h="21600">
                <a:moveTo>
                  <a:pt x="0" y="0"/>
                </a:moveTo>
                <a:cubicBezTo>
                  <a:pt x="12" y="0"/>
                  <a:pt x="24" y="-1"/>
                  <a:pt x="36" y="0"/>
                </a:cubicBezTo>
                <a:cubicBezTo>
                  <a:pt x="9105" y="0"/>
                  <a:pt x="17208" y="5665"/>
                  <a:pt x="20322" y="14183"/>
                </a:cubicBezTo>
              </a:path>
              <a:path stroke="0" w="20323" h="21600">
                <a:moveTo>
                  <a:pt x="0" y="0"/>
                </a:moveTo>
                <a:cubicBezTo>
                  <a:pt x="12" y="0"/>
                  <a:pt x="24" y="-1"/>
                  <a:pt x="36" y="0"/>
                </a:cubicBezTo>
                <a:cubicBezTo>
                  <a:pt x="9105" y="0"/>
                  <a:pt x="17208" y="5665"/>
                  <a:pt x="20322" y="14183"/>
                </a:cubicBezTo>
                <a:lnTo>
                  <a:pt x="36" y="21600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7" name="Picture 41" descr=""/>
          <p:cNvPicPr/>
          <p:nvPr/>
        </p:nvPicPr>
        <p:blipFill>
          <a:blip r:embed="rId4"/>
          <a:stretch/>
        </p:blipFill>
        <p:spPr>
          <a:xfrm>
            <a:off x="237960" y="1409760"/>
            <a:ext cx="5696280" cy="11620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18" name="Picture 43" descr=""/>
          <p:cNvPicPr/>
          <p:nvPr/>
        </p:nvPicPr>
        <p:blipFill>
          <a:blip r:embed="rId5"/>
          <a:stretch/>
        </p:blipFill>
        <p:spPr>
          <a:xfrm>
            <a:off x="282600" y="4060800"/>
            <a:ext cx="5010120" cy="25336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3"/>
          <p:cNvGrpSpPr/>
          <p:nvPr/>
        </p:nvGrpSpPr>
        <p:grpSpPr>
          <a:xfrm>
            <a:off x="1596960" y="1905120"/>
            <a:ext cx="2743200" cy="2745720"/>
            <a:chOff x="1596960" y="1905120"/>
            <a:chExt cx="2743200" cy="2745720"/>
          </a:xfrm>
        </p:grpSpPr>
        <p:grpSp>
          <p:nvGrpSpPr>
            <p:cNvPr id="420" name="Group 4"/>
            <p:cNvGrpSpPr/>
            <p:nvPr/>
          </p:nvGrpSpPr>
          <p:grpSpPr>
            <a:xfrm>
              <a:off x="1825560" y="2286000"/>
              <a:ext cx="2057400" cy="1905120"/>
              <a:chOff x="1825560" y="2286000"/>
              <a:chExt cx="2057400" cy="1905120"/>
            </a:xfrm>
          </p:grpSpPr>
          <p:sp>
            <p:nvSpPr>
              <p:cNvPr id="421" name="Line 5"/>
              <p:cNvSpPr/>
              <p:nvPr/>
            </p:nvSpPr>
            <p:spPr>
              <a:xfrm>
                <a:off x="1825560" y="4191120"/>
                <a:ext cx="2057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2" name="Line 6"/>
              <p:cNvSpPr/>
              <p:nvPr/>
            </p:nvSpPr>
            <p:spPr>
              <a:xfrm flipV="1">
                <a:off x="1825560" y="2286000"/>
                <a:ext cx="11430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3" name="Line 7"/>
              <p:cNvSpPr/>
              <p:nvPr/>
            </p:nvSpPr>
            <p:spPr>
              <a:xfrm>
                <a:off x="2968560" y="2286000"/>
                <a:ext cx="9144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4" name="Line 8"/>
              <p:cNvSpPr/>
              <p:nvPr/>
            </p:nvSpPr>
            <p:spPr>
              <a:xfrm>
                <a:off x="2968560" y="2286000"/>
                <a:ext cx="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5" name="Line 9"/>
              <p:cNvSpPr/>
              <p:nvPr/>
            </p:nvSpPr>
            <p:spPr>
              <a:xfrm flipV="1">
                <a:off x="1825560" y="3200400"/>
                <a:ext cx="1600200" cy="990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26" name="Text Box 10"/>
            <p:cNvSpPr/>
            <p:nvPr/>
          </p:nvSpPr>
          <p:spPr>
            <a:xfrm>
              <a:off x="2739960" y="1905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7" name="Text Box 11"/>
            <p:cNvSpPr/>
            <p:nvPr/>
          </p:nvSpPr>
          <p:spPr>
            <a:xfrm>
              <a:off x="159696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388296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Text Box 13"/>
            <p:cNvSpPr/>
            <p:nvPr/>
          </p:nvSpPr>
          <p:spPr>
            <a:xfrm>
              <a:off x="273996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0" name="Text Box 14"/>
            <p:cNvSpPr/>
            <p:nvPr/>
          </p:nvSpPr>
          <p:spPr>
            <a:xfrm>
              <a:off x="357804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431" name="Picture 82" descr=""/>
          <p:cNvPicPr/>
          <p:nvPr/>
        </p:nvPicPr>
        <p:blipFill>
          <a:blip r:embed="rId2"/>
          <a:stretch/>
        </p:blipFill>
        <p:spPr>
          <a:xfrm>
            <a:off x="184320" y="0"/>
            <a:ext cx="8361360" cy="183816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3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303800" y="2649600"/>
            <a:ext cx="3700440" cy="15429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我一定行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602"/>
                </a:solidFill>
                <a:latin typeface="Times New Roman"/>
                <a:ea typeface="黑体"/>
              </a:rPr>
              <a:t>通过这堂课的学习，你有什么收获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2050920" y="2060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、比较两个角大小的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979640" y="3284640"/>
            <a:ext cx="50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的和、差、倍、分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的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930320" y="4114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平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83080" y="50497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4</a:t>
            </a:r>
            <a:r>
              <a:rPr b="1" lang="zh-CN" sz="2800" spc="-1" strike="noStrike">
                <a:solidFill>
                  <a:srgbClr val="f52727"/>
                </a:solidFill>
                <a:latin typeface="新宋体"/>
                <a:ea typeface="新宋体"/>
              </a:rPr>
              <a:t>、角的加减乘除的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12760" y="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2552"/>
                </a:solidFill>
                <a:latin typeface="Times New Roman"/>
              </a:rPr>
              <a:t>复习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  线段的比较方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1701360" y="3486240"/>
            <a:ext cx="5144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从“数” 出发，通过度量长度进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数值大 小比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" name="Picture 2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76600" y="755640"/>
            <a:ext cx="3524400" cy="25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7760" y="12304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目测法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800" y="2168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叠合法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4360" y="52322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的外部，则∠</a:t>
            </a: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＞ ∠</a:t>
            </a: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1263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把∠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DEF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移动，使它的顶点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∠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ABC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顶点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一边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F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另一边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D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A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落在</a:t>
            </a:r>
            <a:r>
              <a:rPr b="1" lang="en-US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28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同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1187280" y="2927520"/>
            <a:ext cx="2592360" cy="1708920"/>
            <a:chOff x="1187280" y="2927520"/>
            <a:chExt cx="2592360" cy="1708920"/>
          </a:xfrm>
        </p:grpSpPr>
        <p:sp>
          <p:nvSpPr>
            <p:cNvPr id="63" name="Line 6"/>
            <p:cNvSpPr/>
            <p:nvPr/>
          </p:nvSpPr>
          <p:spPr>
            <a:xfrm flipV="1">
              <a:off x="1834920" y="331128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1834920" y="417672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2842920" y="2927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1187280" y="4151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3058920" y="4176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5148360" y="2173320"/>
            <a:ext cx="2592360" cy="2475720"/>
            <a:chOff x="5148360" y="2173320"/>
            <a:chExt cx="2592360" cy="2475720"/>
          </a:xfrm>
        </p:grpSpPr>
        <p:sp>
          <p:nvSpPr>
            <p:cNvPr id="69" name="Line 12"/>
            <p:cNvSpPr/>
            <p:nvPr/>
          </p:nvSpPr>
          <p:spPr>
            <a:xfrm flipV="1">
              <a:off x="5364360" y="2533320"/>
              <a:ext cx="1079280" cy="165564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5364360" y="418932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6228000" y="2173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514836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702000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1258920" y="4151160"/>
            <a:ext cx="3311640" cy="459720"/>
            <a:chOff x="1258920" y="4151160"/>
            <a:chExt cx="3311640" cy="459720"/>
          </a:xfrm>
        </p:grpSpPr>
        <p:sp>
          <p:nvSpPr>
            <p:cNvPr id="75" name="Text Box 18"/>
            <p:cNvSpPr/>
            <p:nvPr/>
          </p:nvSpPr>
          <p:spPr>
            <a:xfrm>
              <a:off x="125892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" name="Text Box 19"/>
            <p:cNvSpPr/>
            <p:nvPr/>
          </p:nvSpPr>
          <p:spPr>
            <a:xfrm>
              <a:off x="313056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7" name="Text Box 20"/>
          <p:cNvSpPr/>
          <p:nvPr/>
        </p:nvSpPr>
        <p:spPr>
          <a:xfrm>
            <a:off x="4077360" y="309600"/>
            <a:ext cx="41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WordArt 21"/>
          <p:cNvSpPr txBox="1"/>
          <p:nvPr/>
        </p:nvSpPr>
        <p:spPr>
          <a:xfrm>
            <a:off x="611280" y="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叠合法</a:t>
            </a:r>
            <a:endParaRPr b="0" i="1" lang="en-US" sz="6000" spc="1" strike="noStrike">
              <a:ln w="9360">
                <a:solidFill>
                  <a:srgbClr val="ff33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-0.38577 -3.7037E-006 E">
                                      <p:cBhvr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7000" y="3348000"/>
            <a:ext cx="3105000" cy="1620360"/>
            <a:chOff x="1467000" y="3348000"/>
            <a:chExt cx="3105000" cy="1620360"/>
          </a:xfrm>
        </p:grpSpPr>
        <p:sp>
          <p:nvSpPr>
            <p:cNvPr id="80" name="Text Box 3"/>
            <p:cNvSpPr/>
            <p:nvPr/>
          </p:nvSpPr>
          <p:spPr>
            <a:xfrm>
              <a:off x="146700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1" name="Text Box 4"/>
            <p:cNvSpPr/>
            <p:nvPr/>
          </p:nvSpPr>
          <p:spPr>
            <a:xfrm>
              <a:off x="2936880" y="3348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" name="Text Box 5"/>
            <p:cNvSpPr/>
            <p:nvPr/>
          </p:nvSpPr>
          <p:spPr>
            <a:xfrm>
              <a:off x="3132360" y="450864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3" name="Text Box 6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68360" y="47628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  <a:ea typeface="黑体"/>
              </a:rPr>
              <a:t>例如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84360" y="55897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BA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重合，则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3200" spc="-1" strike="noStrike">
                <a:solidFill>
                  <a:srgbClr val="f72552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95440" y="13413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把∠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DEF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移动，使它的顶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和∠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的顶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重合，一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EF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重合，另一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ED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A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落在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的同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1343160" y="3335400"/>
            <a:ext cx="2436840" cy="1658160"/>
            <a:chOff x="1343160" y="3335400"/>
            <a:chExt cx="2436840" cy="1658160"/>
          </a:xfrm>
        </p:grpSpPr>
        <p:sp>
          <p:nvSpPr>
            <p:cNvPr id="88" name="Line 11"/>
            <p:cNvSpPr/>
            <p:nvPr/>
          </p:nvSpPr>
          <p:spPr>
            <a:xfrm flipV="1">
              <a:off x="1835280" y="3668400"/>
              <a:ext cx="151272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1835280" y="453384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Text Box 13"/>
            <p:cNvSpPr/>
            <p:nvPr/>
          </p:nvSpPr>
          <p:spPr>
            <a:xfrm>
              <a:off x="2767320" y="33354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1343160" y="4518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Text Box 15"/>
            <p:cNvSpPr/>
            <p:nvPr/>
          </p:nvSpPr>
          <p:spPr>
            <a:xfrm>
              <a:off x="305928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3" name="Group 16"/>
          <p:cNvGrpSpPr/>
          <p:nvPr/>
        </p:nvGrpSpPr>
        <p:grpSpPr>
          <a:xfrm>
            <a:off x="5265720" y="3360600"/>
            <a:ext cx="2378160" cy="1612080"/>
            <a:chOff x="5265720" y="3360600"/>
            <a:chExt cx="2378160" cy="1612080"/>
          </a:xfrm>
        </p:grpSpPr>
        <p:sp>
          <p:nvSpPr>
            <p:cNvPr id="94" name="Line 17"/>
            <p:cNvSpPr/>
            <p:nvPr/>
          </p:nvSpPr>
          <p:spPr>
            <a:xfrm flipV="1">
              <a:off x="5265720" y="3673080"/>
              <a:ext cx="1512720" cy="86508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>
              <a:off x="5265720" y="453852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6" name="Text Box 19"/>
            <p:cNvSpPr/>
            <p:nvPr/>
          </p:nvSpPr>
          <p:spPr>
            <a:xfrm>
              <a:off x="6707160" y="33606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Text Box 20"/>
            <p:cNvSpPr/>
            <p:nvPr/>
          </p:nvSpPr>
          <p:spPr>
            <a:xfrm>
              <a:off x="5267160" y="45129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6923160" y="45129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1921680" y="404640"/>
            <a:ext cx="41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9259E-006 L -0.37274 2.59259E-006 E">
                                      <p:cBhvr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25600" y="45072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  <a:ea typeface="黑体"/>
              </a:rPr>
              <a:t>例如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4360" y="558972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的内部，则∠</a:t>
            </a: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＜ ∠</a:t>
            </a: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ABC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95440" y="13413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把∠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DEF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移动，使它的顶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和∠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的顶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重合，一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EF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重合，另一边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ED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A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落在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的同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4" name="Group 6"/>
          <p:cNvGrpSpPr/>
          <p:nvPr/>
        </p:nvGrpSpPr>
        <p:grpSpPr>
          <a:xfrm>
            <a:off x="1187280" y="3284640"/>
            <a:ext cx="2592360" cy="1708920"/>
            <a:chOff x="1187280" y="3284640"/>
            <a:chExt cx="2592360" cy="1708920"/>
          </a:xfrm>
        </p:grpSpPr>
        <p:sp>
          <p:nvSpPr>
            <p:cNvPr id="105" name="Line 7"/>
            <p:cNvSpPr/>
            <p:nvPr/>
          </p:nvSpPr>
          <p:spPr>
            <a:xfrm flipV="1">
              <a:off x="1834920" y="366840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1834920" y="453384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842920" y="3284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1187280" y="4508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305892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5148360" y="3703680"/>
            <a:ext cx="2592360" cy="1289880"/>
            <a:chOff x="5148360" y="3703680"/>
            <a:chExt cx="2592360" cy="1289880"/>
          </a:xfrm>
        </p:grpSpPr>
        <p:sp>
          <p:nvSpPr>
            <p:cNvPr id="111" name="Line 13"/>
            <p:cNvSpPr/>
            <p:nvPr/>
          </p:nvSpPr>
          <p:spPr>
            <a:xfrm flipV="1">
              <a:off x="5364360" y="3992400"/>
              <a:ext cx="1655640" cy="54108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5364360" y="453384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6877080" y="37036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514836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702000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1260360" y="4508640"/>
            <a:ext cx="3311640" cy="459720"/>
            <a:chOff x="1260360" y="4508640"/>
            <a:chExt cx="3311640" cy="459720"/>
          </a:xfrm>
        </p:grpSpPr>
        <p:sp>
          <p:nvSpPr>
            <p:cNvPr id="117" name="Text Box 19"/>
            <p:cNvSpPr/>
            <p:nvPr/>
          </p:nvSpPr>
          <p:spPr>
            <a:xfrm>
              <a:off x="126036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313200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2066040" y="404640"/>
            <a:ext cx="41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38577 3.7037E-006 E">
                                      <p:cBhvr>
                                        <p:cTn id="82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97040" y="9032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2552"/>
                </a:solidFill>
                <a:latin typeface="Arial"/>
              </a:rPr>
              <a:t>度量法比较角的大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6320" y="32097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度数越大的角就越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123" name="Group 3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124" name="Text Box 4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25" name="Group 5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126" name="Line 6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27" name="Line 7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Freeform 8"/>
              <p:cNvSpPr/>
              <p:nvPr/>
            </p:nvSpPr>
            <p:spPr>
              <a:xfrm>
                <a:off x="4238280" y="1816200"/>
                <a:ext cx="66960" cy="2383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42" h="150">
                    <a:moveTo>
                      <a:pt x="0" y="0"/>
                    </a:moveTo>
                    <a:cubicBezTo>
                      <a:pt x="13" y="19"/>
                      <a:pt x="35" y="34"/>
                      <a:pt x="38" y="56"/>
                    </a:cubicBezTo>
                    <a:cubicBezTo>
                      <a:pt x="42" y="88"/>
                      <a:pt x="19" y="150"/>
                      <a:pt x="19" y="150"/>
                    </a:cubicBez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cxnSp>
            <p:nvCxnSpPr>
              <p:cNvPr id="129" name="AutoShape 9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7a77"/>
                </a:solidFill>
                <a:miter/>
              </a:ln>
            </p:spPr>
          </p:cxnSp>
        </p:grpSp>
        <p:sp>
          <p:nvSpPr>
            <p:cNvPr id="130" name="Text Box 10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3505320" y="0"/>
            <a:ext cx="2743200" cy="2513880"/>
            <a:chOff x="3505320" y="0"/>
            <a:chExt cx="2743200" cy="2513880"/>
          </a:xfrm>
        </p:grpSpPr>
        <p:grpSp>
          <p:nvGrpSpPr>
            <p:cNvPr id="134" name="Group 14"/>
            <p:cNvGrpSpPr/>
            <p:nvPr/>
          </p:nvGrpSpPr>
          <p:grpSpPr>
            <a:xfrm>
              <a:off x="3811680" y="0"/>
              <a:ext cx="1752840" cy="2060640"/>
              <a:chOff x="3811680" y="0"/>
              <a:chExt cx="1752840" cy="2060640"/>
            </a:xfrm>
          </p:grpSpPr>
          <p:grpSp>
            <p:nvGrpSpPr>
              <p:cNvPr id="135" name="Group 15"/>
              <p:cNvGrpSpPr/>
              <p:nvPr/>
            </p:nvGrpSpPr>
            <p:grpSpPr>
              <a:xfrm>
                <a:off x="3811680" y="460440"/>
                <a:ext cx="1752480" cy="1600200"/>
                <a:chOff x="3811680" y="460440"/>
                <a:chExt cx="1752480" cy="1600200"/>
              </a:xfrm>
            </p:grpSpPr>
            <p:sp>
              <p:nvSpPr>
                <p:cNvPr id="136" name="Line 16"/>
                <p:cNvSpPr/>
                <p:nvPr/>
              </p:nvSpPr>
              <p:spPr>
                <a:xfrm flipH="1">
                  <a:off x="381168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7"/>
                <p:cNvSpPr/>
                <p:nvPr/>
              </p:nvSpPr>
              <p:spPr>
                <a:xfrm flipH="1">
                  <a:off x="381168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18"/>
                <p:cNvSpPr/>
                <p:nvPr/>
              </p:nvSpPr>
              <p:spPr>
                <a:xfrm>
                  <a:off x="442116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19"/>
                <p:cNvSpPr/>
                <p:nvPr/>
              </p:nvSpPr>
              <p:spPr>
                <a:xfrm>
                  <a:off x="4135320" y="1698840"/>
                  <a:ext cx="114480" cy="1332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2" h="84">
                      <a:moveTo>
                        <a:pt x="0" y="0"/>
                      </a:moveTo>
                      <a:cubicBezTo>
                        <a:pt x="42" y="14"/>
                        <a:pt x="38" y="5"/>
                        <a:pt x="60" y="48"/>
                      </a:cubicBezTo>
                      <a:cubicBezTo>
                        <a:pt x="66" y="59"/>
                        <a:pt x="72" y="84"/>
                        <a:pt x="72" y="8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0"/>
                <p:cNvSpPr/>
                <p:nvPr/>
              </p:nvSpPr>
              <p:spPr>
                <a:xfrm>
                  <a:off x="413532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1"/>
                <p:cNvSpPr/>
                <p:nvPr/>
              </p:nvSpPr>
              <p:spPr>
                <a:xfrm>
                  <a:off x="413532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22"/>
              <p:cNvSpPr/>
              <p:nvPr/>
            </p:nvSpPr>
            <p:spPr>
              <a:xfrm>
                <a:off x="518328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3" name="Text Box 23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Text Box 24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146" name="Freeform 26"/>
            <p:cNvSpPr/>
            <p:nvPr/>
          </p:nvSpPr>
          <p:spPr>
            <a:xfrm>
              <a:off x="4971960" y="4967280"/>
              <a:ext cx="162000" cy="371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02" h="234">
                  <a:moveTo>
                    <a:pt x="0" y="0"/>
                  </a:moveTo>
                  <a:cubicBezTo>
                    <a:pt x="22" y="15"/>
                    <a:pt x="45" y="30"/>
                    <a:pt x="67" y="45"/>
                  </a:cubicBezTo>
                  <a:cubicBezTo>
                    <a:pt x="102" y="69"/>
                    <a:pt x="100" y="204"/>
                    <a:pt x="100" y="234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47" name="Group 27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148" name="Line 28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9" name="Line 29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0" name="Text Box 30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1" name="Text Box 31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2" name="Text Box 32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3" name="Text Box 33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34"/>
          <p:cNvGrpSpPr/>
          <p:nvPr/>
        </p:nvGrpSpPr>
        <p:grpSpPr>
          <a:xfrm>
            <a:off x="2049480" y="3730680"/>
            <a:ext cx="3049560" cy="2059920"/>
            <a:chOff x="2049480" y="3730680"/>
            <a:chExt cx="3049560" cy="2059920"/>
          </a:xfrm>
        </p:grpSpPr>
        <p:sp>
          <p:nvSpPr>
            <p:cNvPr id="155" name="Text Box 35"/>
            <p:cNvSpPr/>
            <p:nvPr/>
          </p:nvSpPr>
          <p:spPr>
            <a:xfrm>
              <a:off x="2049480" y="533088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Text Box 36"/>
            <p:cNvSpPr/>
            <p:nvPr/>
          </p:nvSpPr>
          <p:spPr>
            <a:xfrm>
              <a:off x="4106880" y="3730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57" name="Group 37"/>
            <p:cNvGrpSpPr/>
            <p:nvPr/>
          </p:nvGrpSpPr>
          <p:grpSpPr>
            <a:xfrm>
              <a:off x="2355840" y="4187520"/>
              <a:ext cx="2743200" cy="1143000"/>
              <a:chOff x="2355840" y="4187520"/>
              <a:chExt cx="2743200" cy="1143000"/>
            </a:xfrm>
          </p:grpSpPr>
          <p:sp>
            <p:nvSpPr>
              <p:cNvPr id="158" name="Line 38"/>
              <p:cNvSpPr/>
              <p:nvPr/>
            </p:nvSpPr>
            <p:spPr>
              <a:xfrm flipV="1">
                <a:off x="2357640" y="4187520"/>
                <a:ext cx="1828800" cy="114300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9" name="Line 39"/>
              <p:cNvSpPr/>
              <p:nvPr/>
            </p:nvSpPr>
            <p:spPr>
              <a:xfrm flipV="1">
                <a:off x="2355840" y="4797360"/>
                <a:ext cx="2286000" cy="53316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0" name="Text Box 40"/>
              <p:cNvSpPr/>
              <p:nvPr/>
            </p:nvSpPr>
            <p:spPr>
              <a:xfrm>
                <a:off x="4641840" y="464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 rot="1902000">
                <a:off x="2784240" y="5089680"/>
                <a:ext cx="150840" cy="903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3" h="66">
                    <a:moveTo>
                      <a:pt x="0" y="0"/>
                    </a:moveTo>
                    <a:cubicBezTo>
                      <a:pt x="7" y="11"/>
                      <a:pt x="16" y="21"/>
                      <a:pt x="22" y="33"/>
                    </a:cubicBezTo>
                    <a:cubicBezTo>
                      <a:pt x="27" y="43"/>
                      <a:pt x="33" y="66"/>
                      <a:pt x="33" y="66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2" name="Text Box 42"/>
              <p:cNvSpPr/>
              <p:nvPr/>
            </p:nvSpPr>
            <p:spPr>
              <a:xfrm>
                <a:off x="3013200" y="4759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43"/>
          <p:cNvGrpSpPr/>
          <p:nvPr/>
        </p:nvGrpSpPr>
        <p:grpSpPr>
          <a:xfrm>
            <a:off x="3505320" y="2529000"/>
            <a:ext cx="5790960" cy="1015920"/>
            <a:chOff x="3505320" y="2529000"/>
            <a:chExt cx="5790960" cy="1015920"/>
          </a:xfrm>
        </p:grpSpPr>
        <p:grpSp>
          <p:nvGrpSpPr>
            <p:cNvPr id="164" name="Group 44"/>
            <p:cNvGrpSpPr/>
            <p:nvPr/>
          </p:nvGrpSpPr>
          <p:grpSpPr>
            <a:xfrm>
              <a:off x="4132440" y="2649240"/>
              <a:ext cx="2925720" cy="780840"/>
              <a:chOff x="4132440" y="2649240"/>
              <a:chExt cx="2925720" cy="780840"/>
            </a:xfrm>
          </p:grpSpPr>
          <p:grpSp>
            <p:nvGrpSpPr>
              <p:cNvPr id="165" name="Group 45"/>
              <p:cNvGrpSpPr/>
              <p:nvPr/>
            </p:nvGrpSpPr>
            <p:grpSpPr>
              <a:xfrm>
                <a:off x="6816600" y="3201480"/>
                <a:ext cx="241560" cy="228240"/>
                <a:chOff x="6816600" y="3201480"/>
                <a:chExt cx="241560" cy="228240"/>
              </a:xfrm>
            </p:grpSpPr>
            <p:sp>
              <p:nvSpPr>
                <p:cNvPr id="166" name="Line 46"/>
                <p:cNvSpPr/>
                <p:nvPr/>
              </p:nvSpPr>
              <p:spPr>
                <a:xfrm>
                  <a:off x="6816600" y="34297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7" name="Line 47"/>
                <p:cNvSpPr/>
                <p:nvPr/>
              </p:nvSpPr>
              <p:spPr>
                <a:xfrm flipV="1">
                  <a:off x="6816600" y="3201480"/>
                  <a:ext cx="24156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8"/>
              <p:cNvSpPr/>
              <p:nvPr/>
            </p:nvSpPr>
            <p:spPr>
              <a:xfrm>
                <a:off x="4664160" y="34300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9" name="Line 49"/>
              <p:cNvSpPr/>
              <p:nvPr/>
            </p:nvSpPr>
            <p:spPr>
              <a:xfrm flipV="1">
                <a:off x="4664160" y="320148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0" name="Line 50"/>
              <p:cNvSpPr/>
              <p:nvPr/>
            </p:nvSpPr>
            <p:spPr>
              <a:xfrm>
                <a:off x="6508800" y="28774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1" name="Line 51"/>
              <p:cNvSpPr/>
              <p:nvPr/>
            </p:nvSpPr>
            <p:spPr>
              <a:xfrm flipV="1">
                <a:off x="6508800" y="264924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2" name="Line 52"/>
              <p:cNvSpPr/>
              <p:nvPr/>
            </p:nvSpPr>
            <p:spPr>
              <a:xfrm>
                <a:off x="5560920" y="28774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3" name="Line 53"/>
              <p:cNvSpPr/>
              <p:nvPr/>
            </p:nvSpPr>
            <p:spPr>
              <a:xfrm flipV="1">
                <a:off x="5560920" y="264924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74" name="Group 54"/>
              <p:cNvGrpSpPr/>
              <p:nvPr/>
            </p:nvGrpSpPr>
            <p:grpSpPr>
              <a:xfrm>
                <a:off x="4132440" y="2649240"/>
                <a:ext cx="241200" cy="228240"/>
                <a:chOff x="4132440" y="2649240"/>
                <a:chExt cx="241200" cy="228240"/>
              </a:xfrm>
            </p:grpSpPr>
            <p:sp>
              <p:nvSpPr>
                <p:cNvPr id="175" name="Line 55"/>
                <p:cNvSpPr/>
                <p:nvPr/>
              </p:nvSpPr>
              <p:spPr>
                <a:xfrm>
                  <a:off x="4132440" y="287748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6" name="Line 56"/>
                <p:cNvSpPr/>
                <p:nvPr/>
              </p:nvSpPr>
              <p:spPr>
                <a:xfrm flipV="1">
                  <a:off x="4132440" y="2649240"/>
                  <a:ext cx="24120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Line 57"/>
              <p:cNvSpPr/>
              <p:nvPr/>
            </p:nvSpPr>
            <p:spPr>
              <a:xfrm>
                <a:off x="5979960" y="34300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8" name="Line 58"/>
              <p:cNvSpPr/>
              <p:nvPr/>
            </p:nvSpPr>
            <p:spPr>
              <a:xfrm flipV="1">
                <a:off x="5979960" y="320148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59"/>
            <p:cNvGrpSpPr/>
            <p:nvPr/>
          </p:nvGrpSpPr>
          <p:grpSpPr>
            <a:xfrm>
              <a:off x="3505320" y="2529000"/>
              <a:ext cx="5790960" cy="1015920"/>
              <a:chOff x="3505320" y="2529000"/>
              <a:chExt cx="5790960" cy="1015920"/>
            </a:xfrm>
          </p:grpSpPr>
          <p:sp>
            <p:nvSpPr>
              <p:cNvPr id="180" name="Text Box 60"/>
              <p:cNvSpPr/>
              <p:nvPr/>
            </p:nvSpPr>
            <p:spPr>
              <a:xfrm>
                <a:off x="3762360" y="252900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和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+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1" name="Text Box 61"/>
              <p:cNvSpPr/>
              <p:nvPr/>
            </p:nvSpPr>
            <p:spPr>
              <a:xfrm>
                <a:off x="3505320" y="2529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2" name="Text Box 62"/>
              <p:cNvSpPr/>
              <p:nvPr/>
            </p:nvSpPr>
            <p:spPr>
              <a:xfrm>
                <a:off x="7269120" y="307656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Group 63"/>
          <p:cNvGrpSpPr/>
          <p:nvPr/>
        </p:nvGrpSpPr>
        <p:grpSpPr>
          <a:xfrm>
            <a:off x="3124080" y="5789520"/>
            <a:ext cx="5790960" cy="1015920"/>
            <a:chOff x="3124080" y="5789520"/>
            <a:chExt cx="5790960" cy="1015920"/>
          </a:xfrm>
        </p:grpSpPr>
        <p:grpSp>
          <p:nvGrpSpPr>
            <p:cNvPr id="184" name="Group 64"/>
            <p:cNvGrpSpPr/>
            <p:nvPr/>
          </p:nvGrpSpPr>
          <p:grpSpPr>
            <a:xfrm>
              <a:off x="3751200" y="5909760"/>
              <a:ext cx="2925720" cy="781560"/>
              <a:chOff x="3751200" y="5909760"/>
              <a:chExt cx="2925720" cy="781560"/>
            </a:xfrm>
          </p:grpSpPr>
          <p:grpSp>
            <p:nvGrpSpPr>
              <p:cNvPr id="185" name="Group 65"/>
              <p:cNvGrpSpPr/>
              <p:nvPr/>
            </p:nvGrpSpPr>
            <p:grpSpPr>
              <a:xfrm>
                <a:off x="6435360" y="6462360"/>
                <a:ext cx="241560" cy="228960"/>
                <a:chOff x="6435360" y="6462360"/>
                <a:chExt cx="241560" cy="228960"/>
              </a:xfrm>
            </p:grpSpPr>
            <p:sp>
              <p:nvSpPr>
                <p:cNvPr id="186" name="Line 66"/>
                <p:cNvSpPr/>
                <p:nvPr/>
              </p:nvSpPr>
              <p:spPr>
                <a:xfrm>
                  <a:off x="6435360" y="66913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7" name="Line 67"/>
                <p:cNvSpPr/>
                <p:nvPr/>
              </p:nvSpPr>
              <p:spPr>
                <a:xfrm flipV="1">
                  <a:off x="6435360" y="6462360"/>
                  <a:ext cx="24156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68"/>
              <p:cNvSpPr/>
              <p:nvPr/>
            </p:nvSpPr>
            <p:spPr>
              <a:xfrm>
                <a:off x="4282920" y="66913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9" name="Line 69"/>
              <p:cNvSpPr/>
              <p:nvPr/>
            </p:nvSpPr>
            <p:spPr>
              <a:xfrm flipV="1">
                <a:off x="4282920" y="64623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0" name="Line 70"/>
              <p:cNvSpPr/>
              <p:nvPr/>
            </p:nvSpPr>
            <p:spPr>
              <a:xfrm>
                <a:off x="6127560" y="61387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1" name="Line 71"/>
              <p:cNvSpPr/>
              <p:nvPr/>
            </p:nvSpPr>
            <p:spPr>
              <a:xfrm flipV="1">
                <a:off x="6127560" y="59097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2" name="Line 72"/>
              <p:cNvSpPr/>
              <p:nvPr/>
            </p:nvSpPr>
            <p:spPr>
              <a:xfrm>
                <a:off x="5179680" y="61387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3" name="Line 73"/>
              <p:cNvSpPr/>
              <p:nvPr/>
            </p:nvSpPr>
            <p:spPr>
              <a:xfrm flipV="1">
                <a:off x="5179680" y="59097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94" name="Group 74"/>
              <p:cNvGrpSpPr/>
              <p:nvPr/>
            </p:nvGrpSpPr>
            <p:grpSpPr>
              <a:xfrm>
                <a:off x="3751200" y="5909760"/>
                <a:ext cx="241200" cy="228960"/>
                <a:chOff x="3751200" y="5909760"/>
                <a:chExt cx="241200" cy="228960"/>
              </a:xfrm>
            </p:grpSpPr>
            <p:sp>
              <p:nvSpPr>
                <p:cNvPr id="195" name="Line 75"/>
                <p:cNvSpPr/>
                <p:nvPr/>
              </p:nvSpPr>
              <p:spPr>
                <a:xfrm>
                  <a:off x="3751200" y="613872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6" name="Line 76"/>
                <p:cNvSpPr/>
                <p:nvPr/>
              </p:nvSpPr>
              <p:spPr>
                <a:xfrm flipV="1">
                  <a:off x="3751200" y="5909760"/>
                  <a:ext cx="24120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Line 77"/>
              <p:cNvSpPr/>
              <p:nvPr/>
            </p:nvSpPr>
            <p:spPr>
              <a:xfrm>
                <a:off x="5598720" y="66913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8" name="Line 78"/>
              <p:cNvSpPr/>
              <p:nvPr/>
            </p:nvSpPr>
            <p:spPr>
              <a:xfrm flipV="1">
                <a:off x="5598720" y="64623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79"/>
            <p:cNvGrpSpPr/>
            <p:nvPr/>
          </p:nvGrpSpPr>
          <p:grpSpPr>
            <a:xfrm>
              <a:off x="3124080" y="5789520"/>
              <a:ext cx="5790960" cy="1015920"/>
              <a:chOff x="3124080" y="5789520"/>
              <a:chExt cx="5790960" cy="1015920"/>
            </a:xfrm>
          </p:grpSpPr>
          <p:sp>
            <p:nvSpPr>
              <p:cNvPr id="200" name="Text Box 80"/>
              <p:cNvSpPr/>
              <p:nvPr/>
            </p:nvSpPr>
            <p:spPr>
              <a:xfrm>
                <a:off x="3381120" y="578952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差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–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1" name="Text Box 81"/>
              <p:cNvSpPr/>
              <p:nvPr/>
            </p:nvSpPr>
            <p:spPr>
              <a:xfrm>
                <a:off x="3124080" y="5789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2" name="Text Box 82"/>
              <p:cNvSpPr/>
              <p:nvPr/>
            </p:nvSpPr>
            <p:spPr>
              <a:xfrm>
                <a:off x="6887880" y="633708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83"/>
          <p:cNvGrpSpPr/>
          <p:nvPr/>
        </p:nvGrpSpPr>
        <p:grpSpPr>
          <a:xfrm>
            <a:off x="824040" y="990720"/>
            <a:ext cx="2057400" cy="4343400"/>
            <a:chOff x="824040" y="990720"/>
            <a:chExt cx="2057400" cy="4343400"/>
          </a:xfrm>
        </p:grpSpPr>
        <p:sp>
          <p:nvSpPr>
            <p:cNvPr id="204" name="Line 84"/>
            <p:cNvSpPr/>
            <p:nvPr/>
          </p:nvSpPr>
          <p:spPr>
            <a:xfrm>
              <a:off x="1509840" y="9907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Line 85"/>
            <p:cNvSpPr/>
            <p:nvPr/>
          </p:nvSpPr>
          <p:spPr>
            <a:xfrm>
              <a:off x="1509840" y="990720"/>
              <a:ext cx="0" cy="4343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Line 86"/>
            <p:cNvSpPr/>
            <p:nvPr/>
          </p:nvSpPr>
          <p:spPr>
            <a:xfrm>
              <a:off x="1509840" y="53341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Line 87"/>
            <p:cNvSpPr/>
            <p:nvPr/>
          </p:nvSpPr>
          <p:spPr>
            <a:xfrm>
              <a:off x="824040" y="206064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8" name="Text Box 88"/>
          <p:cNvSpPr/>
          <p:nvPr/>
        </p:nvSpPr>
        <p:spPr>
          <a:xfrm>
            <a:off x="1965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9" name="Group 89"/>
          <p:cNvGrpSpPr/>
          <p:nvPr/>
        </p:nvGrpSpPr>
        <p:grpSpPr>
          <a:xfrm>
            <a:off x="4356000" y="4753080"/>
            <a:ext cx="2448000" cy="576000"/>
            <a:chOff x="4356000" y="4753080"/>
            <a:chExt cx="2448000" cy="576000"/>
          </a:xfrm>
        </p:grpSpPr>
        <p:sp>
          <p:nvSpPr>
            <p:cNvPr id="210" name="Line 90"/>
            <p:cNvSpPr/>
            <p:nvPr/>
          </p:nvSpPr>
          <p:spPr>
            <a:xfrm>
              <a:off x="4356000" y="5329080"/>
              <a:ext cx="23036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Line 91"/>
            <p:cNvSpPr/>
            <p:nvPr/>
          </p:nvSpPr>
          <p:spPr>
            <a:xfrm flipV="1">
              <a:off x="4356000" y="4753080"/>
              <a:ext cx="2448000" cy="576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2" name="Text Box 92"/>
          <p:cNvSpPr/>
          <p:nvPr/>
        </p:nvSpPr>
        <p:spPr>
          <a:xfrm>
            <a:off x="0" y="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角的和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3" name="Group 95"/>
          <p:cNvGrpSpPr/>
          <p:nvPr/>
        </p:nvGrpSpPr>
        <p:grpSpPr>
          <a:xfrm>
            <a:off x="3816360" y="456840"/>
            <a:ext cx="1784520" cy="1589400"/>
            <a:chOff x="3816360" y="456840"/>
            <a:chExt cx="1784520" cy="1589400"/>
          </a:xfrm>
        </p:grpSpPr>
        <p:sp>
          <p:nvSpPr>
            <p:cNvPr id="214" name="Line 93"/>
            <p:cNvSpPr/>
            <p:nvPr/>
          </p:nvSpPr>
          <p:spPr>
            <a:xfrm>
              <a:off x="3816360" y="2046240"/>
              <a:ext cx="1784520" cy="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5" name="Line 94"/>
            <p:cNvSpPr/>
            <p:nvPr/>
          </p:nvSpPr>
          <p:spPr>
            <a:xfrm flipV="1">
              <a:off x="3817800" y="456840"/>
              <a:ext cx="1351080" cy="15764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65896E-006 L 0.22118 2.65896E-006 E">
                                      <p:cBhvr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qgsx85"/>
          <p:cNvPicPr/>
          <p:nvPr/>
        </p:nvPicPr>
        <p:blipFill>
          <a:blip r:embed="rId2"/>
          <a:srcRect l="-13171" t="0" r="53786" b="0"/>
          <a:stretch/>
        </p:blipFill>
        <p:spPr>
          <a:xfrm>
            <a:off x="344520" y="1270080"/>
            <a:ext cx="2970360" cy="288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qgsx85"/>
          <p:cNvPicPr/>
          <p:nvPr/>
        </p:nvPicPr>
        <p:blipFill>
          <a:blip r:embed="rId3"/>
          <a:srcRect l="39592" t="0" r="0" b="0"/>
          <a:stretch/>
        </p:blipFill>
        <p:spPr>
          <a:xfrm>
            <a:off x="4997520" y="1557360"/>
            <a:ext cx="3384360" cy="32274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380880" y="438156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30°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45°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60°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90°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、        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1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7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10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120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135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150°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165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宋体"/>
              </a:rPr>
              <a:t>180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198600" y="228600"/>
            <a:ext cx="18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552"/>
                </a:solidFill>
                <a:latin typeface="宋体"/>
              </a:rPr>
              <a:t>实践活动：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请你试用一对三角尺根据刚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学过的角的和差知识拼出所有的特殊角。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5560" y="1797120"/>
            <a:ext cx="27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可以拼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5°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整倍数的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05:22Z</dcterms:created>
  <dc:creator>www.12999.com</dc:creator>
  <dc:description>www.12999.com</dc:description>
  <cp:keywords>www.12999.com</cp:keywords>
  <dc:language>en-US</dc:language>
  <cp:lastModifiedBy>User</cp:lastModifiedBy>
  <cp:lastPrinted>1899-12-30T00:00:00Z</cp:lastPrinted>
  <dcterms:modified xsi:type="dcterms:W3CDTF">2015-12-26T09:35:15Z</dcterms:modified>
  <cp:revision>51</cp:revision>
  <dc:subject>www.12999.com</dc:subject>
  <dc:title>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