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EFD-F0C5-4211-B57E-F0229D4F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921-7B1E-48AE-9A7F-C460D92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904-C610-41A3-95B4-758E120B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501-190A-4658-8922-632FB129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6CF-51E1-496E-B748-70DA7EDB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2DF-77E8-47CA-83B6-09B33764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B23-F865-4EDB-820C-095AF3F0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83F-63EC-45B5-BE64-B9AC2BF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9F4-C3C7-4B35-A5C4-617B90B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30C-FF9C-44CE-A73A-0A50C7F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4D5-D577-4E84-88F1-E9D0E7EE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CCE-83DC-4453-A0DF-E608616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2C3E-2586-4F67-ACB8-81B2A07A45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RT_002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20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09680" y="1295280"/>
            <a:ext cx="6934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小学数学第二册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3548520" y="3429000"/>
            <a:ext cx="370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ff"/>
                </a:solidFill>
                <a:latin typeface="Times New Roman"/>
              </a:rPr>
              <a:t>两位数减两位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ff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33ccff"/>
                </a:solidFill>
                <a:latin typeface="Times New Roman"/>
              </a:rPr>
              <a:t>（退位减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00440" y="8049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</a:rPr>
              <a:t>复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5720" y="2173320"/>
            <a:ext cx="1194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3-9=      17-8=            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32-5=      15-7=     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4-6=      40-3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7800" y="2057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4000" y="2057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0" y="327672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Times New Roman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8040" y="34290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0" y="45720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9960" y="457200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Times New Roman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48120" y="685800"/>
            <a:ext cx="551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8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先用小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摆一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再说算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0040" y="4266720"/>
            <a:ext cx="1750680" cy="1755720"/>
            <a:chOff x="320040" y="4266720"/>
            <a:chExt cx="1750680" cy="1755720"/>
          </a:xfrm>
        </p:grpSpPr>
        <p:sp>
          <p:nvSpPr>
            <p:cNvPr id="59" name=""/>
            <p:cNvSpPr/>
            <p:nvPr/>
          </p:nvSpPr>
          <p:spPr>
            <a:xfrm flipV="1" rot="600000">
              <a:off x="542160" y="4428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 rot="600000">
              <a:off x="656280" y="4418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600000">
              <a:off x="780120" y="4418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600000">
              <a:off x="456480" y="4361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600000">
              <a:off x="58968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600000">
              <a:off x="72324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600000">
              <a:off x="856440" y="4352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600000">
              <a:off x="532440" y="4276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600000">
              <a:off x="656280" y="4266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600000">
              <a:off x="789840" y="4276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00" y="486072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00000">
              <a:off x="1480320" y="44298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600000">
              <a:off x="1594440" y="4420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600000">
              <a:off x="1718280" y="4420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600000">
              <a:off x="1394640" y="4363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600000">
              <a:off x="1527840" y="43441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 rot="600000">
              <a:off x="1661400" y="43441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 rot="600000">
              <a:off x="1794600" y="43538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 rot="600000">
              <a:off x="1472040" y="427752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600000">
              <a:off x="1594440" y="426888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600000">
              <a:off x="1728000" y="4277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34960" y="486252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87120" y="2286000"/>
            <a:ext cx="871200" cy="1591920"/>
            <a:chOff x="4587120" y="2286000"/>
            <a:chExt cx="871200" cy="1591920"/>
          </a:xfrm>
        </p:grpSpPr>
        <p:sp>
          <p:nvSpPr>
            <p:cNvPr id="82" name=""/>
            <p:cNvSpPr/>
            <p:nvPr/>
          </p:nvSpPr>
          <p:spPr>
            <a:xfrm flipV="1" rot="600000">
              <a:off x="4724640" y="228564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600000">
              <a:off x="5181840" y="228564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48640" y="2209320"/>
            <a:ext cx="3731760" cy="1755720"/>
            <a:chOff x="548640" y="2209320"/>
            <a:chExt cx="3731760" cy="1755720"/>
          </a:xfrm>
        </p:grpSpPr>
        <p:grpSp>
          <p:nvGrpSpPr>
            <p:cNvPr id="85" name=""/>
            <p:cNvGrpSpPr/>
            <p:nvPr/>
          </p:nvGrpSpPr>
          <p:grpSpPr>
            <a:xfrm>
              <a:off x="548640" y="2209320"/>
              <a:ext cx="1750680" cy="1755720"/>
              <a:chOff x="548640" y="2209320"/>
              <a:chExt cx="1750680" cy="1755720"/>
            </a:xfrm>
          </p:grpSpPr>
          <p:sp>
            <p:nvSpPr>
              <p:cNvPr id="86" name=""/>
              <p:cNvSpPr/>
              <p:nvPr/>
            </p:nvSpPr>
            <p:spPr>
              <a:xfrm flipV="1" rot="600000">
                <a:off x="770760" y="2370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600000">
                <a:off x="884880" y="2361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600000">
                <a:off x="1008720" y="2361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600000">
                <a:off x="685080" y="2304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600000">
                <a:off x="81828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600000">
                <a:off x="95184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600000">
                <a:off x="1085040" y="22946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 rot="600000">
                <a:off x="76104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 rot="600000">
                <a:off x="884880" y="2208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 rot="600000">
                <a:off x="101844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5400" y="2803320"/>
                <a:ext cx="520560" cy="22572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 rot="600000">
                <a:off x="1708920" y="23724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 rot="600000">
                <a:off x="1823040" y="2363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 rot="600000">
                <a:off x="1946880" y="2363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 rot="600000">
                <a:off x="1623240" y="23058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 rot="600000">
                <a:off x="1756440" y="2286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 rot="600000">
                <a:off x="1890000" y="2286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 rot="600000">
                <a:off x="2023200" y="22964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 rot="600000">
                <a:off x="1700640" y="222012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 rot="600000">
                <a:off x="1823040" y="221148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 rot="600000">
                <a:off x="1956600" y="2220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63560" y="280512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529720" y="2209320"/>
              <a:ext cx="1750680" cy="1755720"/>
              <a:chOff x="2529720" y="2209320"/>
              <a:chExt cx="1750680" cy="1755720"/>
            </a:xfrm>
          </p:grpSpPr>
          <p:sp>
            <p:nvSpPr>
              <p:cNvPr id="109" name=""/>
              <p:cNvSpPr/>
              <p:nvPr/>
            </p:nvSpPr>
            <p:spPr>
              <a:xfrm flipV="1" rot="600000">
                <a:off x="2751840" y="2370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 rot="600000">
                <a:off x="2865960" y="2361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 rot="600000">
                <a:off x="2989800" y="2361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 rot="600000">
                <a:off x="2666160" y="2304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 rot="600000">
                <a:off x="279936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 rot="600000">
                <a:off x="293292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 rot="600000">
                <a:off x="3066120" y="22946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 rot="600000">
                <a:off x="274212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 rot="600000">
                <a:off x="2865960" y="2208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 rot="600000">
                <a:off x="299952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06480" y="2803320"/>
                <a:ext cx="520560" cy="22572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 rot="600000">
                <a:off x="3690000" y="23724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 rot="600000">
                <a:off x="3804120" y="2363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 rot="600000">
                <a:off x="3927960" y="2363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600000">
                <a:off x="3604320" y="23058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00000">
                <a:off x="3737520" y="2286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600000">
                <a:off x="3871080" y="2286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600000">
                <a:off x="4004280" y="22964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 rot="600000">
                <a:off x="3681720" y="222012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600000">
                <a:off x="3804120" y="221148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00000">
                <a:off x="3937680" y="2220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44640" y="280512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2377440" y="4343040"/>
            <a:ext cx="3155760" cy="1593000"/>
            <a:chOff x="2377440" y="4343040"/>
            <a:chExt cx="3155760" cy="1593000"/>
          </a:xfrm>
        </p:grpSpPr>
        <p:sp>
          <p:nvSpPr>
            <p:cNvPr id="132" name=""/>
            <p:cNvSpPr/>
            <p:nvPr/>
          </p:nvSpPr>
          <p:spPr>
            <a:xfrm flipV="1" rot="600000">
              <a:off x="365688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 rot="600000">
              <a:off x="2513880" y="4343400"/>
              <a:ext cx="1414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600000">
              <a:off x="289656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600000">
              <a:off x="327744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 rot="600000">
              <a:off x="403812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600000">
              <a:off x="441900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600000">
              <a:off x="487620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600000">
              <a:off x="525708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929560" y="249552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48120" y="685800"/>
            <a:ext cx="551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8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先用小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摆一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再说算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700920" y="2209320"/>
            <a:ext cx="4909680" cy="1755720"/>
            <a:chOff x="700920" y="2209320"/>
            <a:chExt cx="4909680" cy="1755720"/>
          </a:xfrm>
        </p:grpSpPr>
        <p:grpSp>
          <p:nvGrpSpPr>
            <p:cNvPr id="147" name=""/>
            <p:cNvGrpSpPr/>
            <p:nvPr/>
          </p:nvGrpSpPr>
          <p:grpSpPr>
            <a:xfrm>
              <a:off x="4739400" y="2286000"/>
              <a:ext cx="871200" cy="1591920"/>
              <a:chOff x="4739400" y="2286000"/>
              <a:chExt cx="871200" cy="1591920"/>
            </a:xfrm>
          </p:grpSpPr>
          <p:sp>
            <p:nvSpPr>
              <p:cNvPr id="148" name=""/>
              <p:cNvSpPr/>
              <p:nvPr/>
            </p:nvSpPr>
            <p:spPr>
              <a:xfrm flipV="1" rot="600000">
                <a:off x="4876920" y="228564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 rot="600000">
                <a:off x="5334120" y="228564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00920" y="2209320"/>
              <a:ext cx="3731760" cy="1755720"/>
              <a:chOff x="700920" y="2209320"/>
              <a:chExt cx="3731760" cy="1755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700920" y="2209320"/>
                <a:ext cx="1750680" cy="1755720"/>
                <a:chOff x="700920" y="2209320"/>
                <a:chExt cx="1750680" cy="1755720"/>
              </a:xfrm>
            </p:grpSpPr>
            <p:sp>
              <p:nvSpPr>
                <p:cNvPr id="152" name=""/>
                <p:cNvSpPr/>
                <p:nvPr/>
              </p:nvSpPr>
              <p:spPr>
                <a:xfrm flipV="1" rot="600000">
                  <a:off x="923040" y="23709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 rot="600000">
                  <a:off x="1037160" y="23612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 rot="600000">
                  <a:off x="1161000" y="23612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 rot="600000">
                  <a:off x="837360" y="23043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 rot="600000">
                  <a:off x="970560" y="22852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 rot="600000">
                  <a:off x="1104120" y="22852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 rot="600000">
                  <a:off x="1237320" y="22946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 rot="600000">
                  <a:off x="913320" y="22186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 rot="600000">
                  <a:off x="1037160" y="22089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 rot="600000">
                  <a:off x="1170720" y="22186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77680" y="2803320"/>
                  <a:ext cx="520560" cy="22572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 rot="600000">
                  <a:off x="1861200" y="237240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 rot="600000">
                  <a:off x="1975320" y="23630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 rot="600000">
                  <a:off x="2099160" y="23630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 rot="600000">
                  <a:off x="1775520" y="230580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 rot="600000">
                  <a:off x="1908720" y="22867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 rot="600000">
                  <a:off x="2042280" y="22867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 rot="600000">
                  <a:off x="2175480" y="22964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 rot="600000">
                  <a:off x="1852920" y="2220120"/>
                  <a:ext cx="140040" cy="159228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 rot="600000">
                  <a:off x="1975320" y="22114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 rot="600000">
                  <a:off x="2108880" y="22201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815840" y="2805120"/>
                  <a:ext cx="520560" cy="22536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682000" y="2209320"/>
                <a:ext cx="1750680" cy="1755720"/>
                <a:chOff x="2682000" y="2209320"/>
                <a:chExt cx="1750680" cy="1755720"/>
              </a:xfrm>
            </p:grpSpPr>
            <p:sp>
              <p:nvSpPr>
                <p:cNvPr id="175" name=""/>
                <p:cNvSpPr/>
                <p:nvPr/>
              </p:nvSpPr>
              <p:spPr>
                <a:xfrm flipV="1" rot="600000">
                  <a:off x="2904120" y="23709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 rot="600000">
                  <a:off x="3018240" y="23612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 rot="600000">
                  <a:off x="3142080" y="23612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 rot="600000">
                  <a:off x="2818440" y="23043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 rot="600000">
                  <a:off x="2951640" y="22852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 rot="600000">
                  <a:off x="3085200" y="22852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 rot="600000">
                  <a:off x="3218400" y="22946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 rot="600000">
                  <a:off x="2894400" y="22186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 rot="600000">
                  <a:off x="3018240" y="22089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 rot="600000">
                  <a:off x="3151800" y="22186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58760" y="2803320"/>
                  <a:ext cx="520560" cy="22572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 rot="600000">
                  <a:off x="3842280" y="237240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 rot="600000">
                  <a:off x="3956400" y="23630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 rot="600000">
                  <a:off x="4080240" y="23630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 rot="600000">
                  <a:off x="3756600" y="230580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 rot="600000">
                  <a:off x="3889800" y="22867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 rot="600000">
                  <a:off x="4023360" y="22867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 rot="600000">
                  <a:off x="4156560" y="22964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 rot="600000">
                  <a:off x="3834000" y="2220120"/>
                  <a:ext cx="140040" cy="159228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 rot="600000">
                  <a:off x="3956400" y="22114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 rot="600000">
                  <a:off x="4089960" y="22201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796920" y="2805120"/>
                  <a:ext cx="520560" cy="22536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7" name=""/>
          <p:cNvSpPr/>
          <p:nvPr/>
        </p:nvSpPr>
        <p:spPr>
          <a:xfrm>
            <a:off x="3581280" y="403848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5400" y="236232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21760" y="3143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96360" y="4572000"/>
            <a:ext cx="8413560" cy="1829880"/>
            <a:chOff x="396360" y="4572000"/>
            <a:chExt cx="8413560" cy="1829880"/>
          </a:xfrm>
        </p:grpSpPr>
        <p:grpSp>
          <p:nvGrpSpPr>
            <p:cNvPr id="201" name=""/>
            <p:cNvGrpSpPr/>
            <p:nvPr/>
          </p:nvGrpSpPr>
          <p:grpSpPr>
            <a:xfrm>
              <a:off x="2377440" y="4647960"/>
              <a:ext cx="812880" cy="1753920"/>
              <a:chOff x="2377440" y="4647960"/>
              <a:chExt cx="812880" cy="1753920"/>
            </a:xfrm>
          </p:grpSpPr>
          <p:sp>
            <p:nvSpPr>
              <p:cNvPr id="202" name=""/>
              <p:cNvSpPr/>
              <p:nvPr/>
            </p:nvSpPr>
            <p:spPr>
              <a:xfrm flipV="1" rot="600000">
                <a:off x="2601000" y="480888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 rot="600000">
                <a:off x="2714040" y="47995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600000">
                <a:off x="2837880" y="47995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600000">
                <a:off x="2513880" y="4742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600000">
                <a:off x="2647440" y="4723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 rot="600000">
                <a:off x="2780640" y="4723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 rot="600000">
                <a:off x="2914200" y="47329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 rot="600000">
                <a:off x="2590200" y="46566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600000">
                <a:off x="2714040" y="464796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 rot="600000">
                <a:off x="2847240" y="46566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54560" y="524160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6360" y="4572000"/>
              <a:ext cx="8413560" cy="1755000"/>
              <a:chOff x="396360" y="4572000"/>
              <a:chExt cx="8413560" cy="175500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396360" y="4572000"/>
                <a:ext cx="1750680" cy="1755000"/>
                <a:chOff x="396360" y="4572000"/>
                <a:chExt cx="1750680" cy="1755000"/>
              </a:xfrm>
            </p:grpSpPr>
            <p:sp>
              <p:nvSpPr>
                <p:cNvPr id="215" name=""/>
                <p:cNvSpPr/>
                <p:nvPr/>
              </p:nvSpPr>
              <p:spPr>
                <a:xfrm flipV="1" rot="600000">
                  <a:off x="618480" y="473364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 rot="600000">
                  <a:off x="732600" y="47239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 rot="600000">
                  <a:off x="856440" y="47239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 rot="600000">
                  <a:off x="532800" y="466704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 rot="600000">
                  <a:off x="666000" y="464796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 rot="600000">
                  <a:off x="799560" y="464796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 rot="600000">
                  <a:off x="932760" y="46573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 rot="600000">
                  <a:off x="608760" y="458136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 rot="600000">
                  <a:off x="732600" y="457200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 rot="600000">
                  <a:off x="866160" y="458136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3120" y="5165280"/>
                  <a:ext cx="520560" cy="22536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 rot="600000">
                  <a:off x="1556640" y="47350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 rot="600000">
                  <a:off x="1670760" y="47257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 rot="600000">
                  <a:off x="1794600" y="47257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 rot="600000">
                  <a:off x="1470960" y="46684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 rot="600000">
                  <a:off x="1604160" y="464940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 rot="600000">
                  <a:off x="1737720" y="464940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 rot="600000">
                  <a:off x="1870920" y="46591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 rot="600000">
                  <a:off x="1548360" y="4582080"/>
                  <a:ext cx="14004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 rot="600000">
                  <a:off x="1670400" y="4572720"/>
                  <a:ext cx="139680" cy="159120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 rot="600000">
                  <a:off x="1804320" y="458280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511280" y="5167080"/>
                  <a:ext cx="520560" cy="22500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444480" y="4735440"/>
                <a:ext cx="1862280" cy="1591560"/>
                <a:chOff x="3444480" y="4735440"/>
                <a:chExt cx="1862280" cy="1591560"/>
              </a:xfrm>
            </p:grpSpPr>
            <p:sp>
              <p:nvSpPr>
                <p:cNvPr id="238" name=""/>
                <p:cNvSpPr/>
                <p:nvPr/>
              </p:nvSpPr>
              <p:spPr>
                <a:xfrm flipV="1" rot="600000">
                  <a:off x="3582000" y="4734720"/>
                  <a:ext cx="13824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600000">
                  <a:off x="4039200" y="4734720"/>
                  <a:ext cx="13824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 rot="600000">
                  <a:off x="4573440" y="4734720"/>
                  <a:ext cx="1378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00000">
                  <a:off x="5030640" y="4734720"/>
                  <a:ext cx="1378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425560" y="4734720"/>
                <a:ext cx="3384360" cy="1592280"/>
                <a:chOff x="5425560" y="4734720"/>
                <a:chExt cx="3384360" cy="1592280"/>
              </a:xfrm>
            </p:grpSpPr>
            <p:sp>
              <p:nvSpPr>
                <p:cNvPr id="243" name=""/>
                <p:cNvSpPr/>
                <p:nvPr/>
              </p:nvSpPr>
              <p:spPr>
                <a:xfrm flipV="1" rot="600000">
                  <a:off x="6705000" y="47350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5425560" y="4734720"/>
                  <a:ext cx="3384360" cy="1592280"/>
                  <a:chOff x="5425560" y="4734720"/>
                  <a:chExt cx="3384360" cy="15922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V="1" rot="600000">
                    <a:off x="5562360" y="4734360"/>
                    <a:ext cx="141120" cy="159192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 rot="600000">
                    <a:off x="594432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 rot="600000">
                    <a:off x="632556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V="1" rot="600000">
                    <a:off x="708588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 rot="600000">
                    <a:off x="739080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 rot="600000">
                    <a:off x="815256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 rot="600000">
                    <a:off x="853380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3429000" y="5488920"/>
                <a:ext cx="426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72320" y="4876560"/>
            <a:ext cx="1750680" cy="1755720"/>
            <a:chOff x="472320" y="4876560"/>
            <a:chExt cx="1750680" cy="1755720"/>
          </a:xfrm>
        </p:grpSpPr>
        <p:sp>
          <p:nvSpPr>
            <p:cNvPr id="255" name=""/>
            <p:cNvSpPr/>
            <p:nvPr/>
          </p:nvSpPr>
          <p:spPr>
            <a:xfrm flipV="1" rot="600000">
              <a:off x="694440" y="5038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600000">
              <a:off x="80856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600000">
              <a:off x="93240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 rot="600000">
              <a:off x="608760" y="4971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600000">
              <a:off x="74196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600000">
              <a:off x="87552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600000">
              <a:off x="100872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600000">
              <a:off x="68472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600000">
              <a:off x="80856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600000">
              <a:off x="94212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9080" y="547056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600000">
              <a:off x="1632600" y="5039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600000">
              <a:off x="174672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600000">
              <a:off x="187056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600000">
              <a:off x="1546920" y="4973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600000">
              <a:off x="168012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600000">
              <a:off x="181368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600000">
              <a:off x="1946880" y="4963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600000">
              <a:off x="1624320" y="488736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600000">
              <a:off x="1746720" y="48787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 rot="600000">
              <a:off x="1880280" y="4887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87240" y="54723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377440" y="4876920"/>
            <a:ext cx="812880" cy="1753920"/>
            <a:chOff x="2377440" y="4876920"/>
            <a:chExt cx="812880" cy="1753920"/>
          </a:xfrm>
        </p:grpSpPr>
        <p:sp>
          <p:nvSpPr>
            <p:cNvPr id="278" name=""/>
            <p:cNvSpPr/>
            <p:nvPr/>
          </p:nvSpPr>
          <p:spPr>
            <a:xfrm flipV="1" rot="600000">
              <a:off x="2601000" y="503784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 rot="600000">
              <a:off x="271404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600000">
              <a:off x="283788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600000">
              <a:off x="2513880" y="49712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600000">
              <a:off x="264744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 rot="600000">
              <a:off x="278064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600000">
              <a:off x="291420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00000">
              <a:off x="259020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00000">
              <a:off x="2714040" y="48769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00000">
              <a:off x="284724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54560" y="54705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68160" y="4952880"/>
            <a:ext cx="1862280" cy="1591920"/>
            <a:chOff x="3368160" y="4952880"/>
            <a:chExt cx="1862280" cy="1591920"/>
          </a:xfrm>
        </p:grpSpPr>
        <p:sp>
          <p:nvSpPr>
            <p:cNvPr id="290" name=""/>
            <p:cNvSpPr/>
            <p:nvPr/>
          </p:nvSpPr>
          <p:spPr>
            <a:xfrm flipV="1" rot="600000">
              <a:off x="3505680" y="49525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600000">
              <a:off x="3962880" y="49525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600000">
              <a:off x="4497120" y="49525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600000">
              <a:off x="4954320" y="49525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501520" y="4952520"/>
            <a:ext cx="3384360" cy="1593000"/>
            <a:chOff x="5501520" y="4952520"/>
            <a:chExt cx="3384360" cy="1593000"/>
          </a:xfrm>
        </p:grpSpPr>
        <p:sp>
          <p:nvSpPr>
            <p:cNvPr id="295" name=""/>
            <p:cNvSpPr/>
            <p:nvPr/>
          </p:nvSpPr>
          <p:spPr>
            <a:xfrm flipV="1" rot="600000">
              <a:off x="678096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501520" y="4952520"/>
              <a:ext cx="3384360" cy="1593000"/>
              <a:chOff x="5501520" y="4952520"/>
              <a:chExt cx="3384360" cy="1593000"/>
            </a:xfrm>
          </p:grpSpPr>
          <p:sp>
            <p:nvSpPr>
              <p:cNvPr id="297" name=""/>
              <p:cNvSpPr/>
              <p:nvPr/>
            </p:nvSpPr>
            <p:spPr>
              <a:xfrm flipV="1" rot="600000">
                <a:off x="5638320" y="4952880"/>
                <a:ext cx="14112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 rot="600000">
                <a:off x="602028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 rot="600000">
                <a:off x="640152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 rot="600000">
                <a:off x="716184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 rot="600000">
                <a:off x="746676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600000">
                <a:off x="822852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600000">
                <a:off x="860976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04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200400" y="5867280"/>
            <a:ext cx="44956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5520" y="-175248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1880" y="-990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54280" y="60948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144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914400"/>
            <a:ext cx="2057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4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- 2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3962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905120"/>
            <a:ext cx="4495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个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么办 ？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24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从十位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85800" y="1981080"/>
            <a:ext cx="4572000" cy="2743200"/>
            <a:chOff x="685800" y="1981080"/>
            <a:chExt cx="4572000" cy="2743200"/>
          </a:xfrm>
        </p:grpSpPr>
        <p:grpSp>
          <p:nvGrpSpPr>
            <p:cNvPr id="315" name=""/>
            <p:cNvGrpSpPr/>
            <p:nvPr/>
          </p:nvGrpSpPr>
          <p:grpSpPr>
            <a:xfrm>
              <a:off x="685800" y="1981080"/>
              <a:ext cx="4571640" cy="2743200"/>
              <a:chOff x="685800" y="1981080"/>
              <a:chExt cx="4571640" cy="2743200"/>
            </a:xfrm>
          </p:grpSpPr>
          <p:sp>
            <p:nvSpPr>
              <p:cNvPr id="316" name=""/>
              <p:cNvSpPr/>
              <p:nvPr/>
            </p:nvSpPr>
            <p:spPr>
              <a:xfrm>
                <a:off x="685800" y="1981080"/>
                <a:ext cx="4571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5800" y="1981080"/>
                <a:ext cx="0" cy="274320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00" y="4724280"/>
                <a:ext cx="4571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57440" y="1981080"/>
                <a:ext cx="0" cy="274320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85800" y="3352680"/>
              <a:ext cx="4572000" cy="0"/>
            </a:xfrm>
            <a:prstGeom prst="line">
              <a:avLst/>
            </a:prstGeom>
            <a:ln w="475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4920" y="4876920"/>
            <a:ext cx="1981080" cy="1828800"/>
            <a:chOff x="304920" y="4876920"/>
            <a:chExt cx="1981080" cy="1828800"/>
          </a:xfrm>
        </p:grpSpPr>
        <p:sp>
          <p:nvSpPr>
            <p:cNvPr id="322" name=""/>
            <p:cNvSpPr/>
            <p:nvPr/>
          </p:nvSpPr>
          <p:spPr>
            <a:xfrm>
              <a:off x="304920" y="4876920"/>
              <a:ext cx="1981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920" y="4876920"/>
              <a:ext cx="0" cy="18288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920" y="6705720"/>
              <a:ext cx="1981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0" y="4876920"/>
              <a:ext cx="0" cy="18288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257800" y="4876920"/>
            <a:ext cx="3657600" cy="1752480"/>
            <a:chOff x="5257800" y="4876920"/>
            <a:chExt cx="3657600" cy="1752480"/>
          </a:xfrm>
        </p:grpSpPr>
        <p:sp>
          <p:nvSpPr>
            <p:cNvPr id="327" name=""/>
            <p:cNvSpPr/>
            <p:nvPr/>
          </p:nvSpPr>
          <p:spPr>
            <a:xfrm>
              <a:off x="5257800" y="4876920"/>
              <a:ext cx="3657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57800" y="4876920"/>
              <a:ext cx="0" cy="17524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57800" y="6629400"/>
              <a:ext cx="3657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915400" y="4876920"/>
              <a:ext cx="0" cy="17524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425560" y="4876560"/>
            <a:ext cx="3384360" cy="1593000"/>
            <a:chOff x="5425560" y="4876560"/>
            <a:chExt cx="3384360" cy="1593000"/>
          </a:xfrm>
        </p:grpSpPr>
        <p:sp>
          <p:nvSpPr>
            <p:cNvPr id="332" name=""/>
            <p:cNvSpPr/>
            <p:nvPr/>
          </p:nvSpPr>
          <p:spPr>
            <a:xfrm flipV="1" rot="600000">
              <a:off x="670500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425560" y="4876560"/>
              <a:ext cx="3384360" cy="1593000"/>
              <a:chOff x="5425560" y="4876560"/>
              <a:chExt cx="3384360" cy="1593000"/>
            </a:xfrm>
          </p:grpSpPr>
          <p:sp>
            <p:nvSpPr>
              <p:cNvPr id="334" name=""/>
              <p:cNvSpPr/>
              <p:nvPr/>
            </p:nvSpPr>
            <p:spPr>
              <a:xfrm flipV="1" rot="600000">
                <a:off x="5562360" y="4876920"/>
                <a:ext cx="14112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 rot="600000">
                <a:off x="594432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 rot="600000">
                <a:off x="632556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 rot="600000">
                <a:off x="708588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 rot="600000">
                <a:off x="739080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 rot="600000">
                <a:off x="815256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 rot="600000">
                <a:off x="853380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5425560" y="4952520"/>
            <a:ext cx="3384360" cy="1593000"/>
            <a:chOff x="5425560" y="4952520"/>
            <a:chExt cx="3384360" cy="1593000"/>
          </a:xfrm>
        </p:grpSpPr>
        <p:sp>
          <p:nvSpPr>
            <p:cNvPr id="342" name=""/>
            <p:cNvSpPr/>
            <p:nvPr/>
          </p:nvSpPr>
          <p:spPr>
            <a:xfrm flipV="1" rot="600000">
              <a:off x="670500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425560" y="4952520"/>
              <a:ext cx="3384360" cy="1593000"/>
              <a:chOff x="5425560" y="4952520"/>
              <a:chExt cx="3384360" cy="1593000"/>
            </a:xfrm>
          </p:grpSpPr>
          <p:sp>
            <p:nvSpPr>
              <p:cNvPr id="344" name=""/>
              <p:cNvSpPr/>
              <p:nvPr/>
            </p:nvSpPr>
            <p:spPr>
              <a:xfrm flipV="1" rot="600000">
                <a:off x="5562360" y="4952880"/>
                <a:ext cx="14112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 rot="600000">
                <a:off x="594432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 rot="600000">
                <a:off x="632556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 rot="600000">
                <a:off x="708588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 rot="600000">
                <a:off x="739080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 rot="600000">
                <a:off x="815256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 rot="600000">
                <a:off x="853380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6248520" y="21337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5000" y="205740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21360" y="1295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1295280"/>
            <a:ext cx="41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6280" y="37339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20040" y="4876560"/>
            <a:ext cx="1750680" cy="1755720"/>
            <a:chOff x="320040" y="4876560"/>
            <a:chExt cx="1750680" cy="1755720"/>
          </a:xfrm>
        </p:grpSpPr>
        <p:sp>
          <p:nvSpPr>
            <p:cNvPr id="358" name=""/>
            <p:cNvSpPr/>
            <p:nvPr/>
          </p:nvSpPr>
          <p:spPr>
            <a:xfrm flipV="1" rot="600000">
              <a:off x="542160" y="5038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600000">
              <a:off x="65628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600000">
              <a:off x="78012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600000">
              <a:off x="456480" y="4971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600000">
              <a:off x="58968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600000">
              <a:off x="72324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600000">
              <a:off x="85644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600000">
              <a:off x="53244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 rot="600000">
              <a:off x="65628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600000">
              <a:off x="78984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6800" y="547056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600000">
              <a:off x="1480320" y="5039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600000">
              <a:off x="159444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600000">
              <a:off x="171828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 rot="600000">
              <a:off x="1394640" y="4973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600000">
              <a:off x="152784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 rot="600000">
              <a:off x="166140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600000">
              <a:off x="1794600" y="4963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600000">
              <a:off x="1472040" y="488736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600000">
              <a:off x="1594440" y="48787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600000">
              <a:off x="1728000" y="4887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34960" y="54723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77440" y="4876920"/>
            <a:ext cx="812880" cy="1753920"/>
            <a:chOff x="2377440" y="4876920"/>
            <a:chExt cx="812880" cy="1753920"/>
          </a:xfrm>
        </p:grpSpPr>
        <p:sp>
          <p:nvSpPr>
            <p:cNvPr id="381" name=""/>
            <p:cNvSpPr/>
            <p:nvPr/>
          </p:nvSpPr>
          <p:spPr>
            <a:xfrm flipV="1" rot="600000">
              <a:off x="2601000" y="503784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600000">
              <a:off x="271404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600000">
              <a:off x="283788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600000">
              <a:off x="2513880" y="49712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600000">
              <a:off x="264744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600000">
              <a:off x="278064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600000">
              <a:off x="291420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 rot="600000">
              <a:off x="259020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600000">
              <a:off x="2714040" y="48769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600000">
              <a:off x="284724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4560" y="54705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368160" y="4952880"/>
            <a:ext cx="1862280" cy="1591920"/>
            <a:chOff x="3368160" y="4952880"/>
            <a:chExt cx="1862280" cy="1591920"/>
          </a:xfrm>
        </p:grpSpPr>
        <p:sp>
          <p:nvSpPr>
            <p:cNvPr id="393" name=""/>
            <p:cNvSpPr/>
            <p:nvPr/>
          </p:nvSpPr>
          <p:spPr>
            <a:xfrm flipV="1" rot="600000">
              <a:off x="3505680" y="49525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600000">
              <a:off x="3962880" y="49525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600000">
              <a:off x="4497120" y="49525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600000">
              <a:off x="4954320" y="49525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200400" y="5867280"/>
            <a:ext cx="44956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05520" y="-175248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-990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54280" y="60948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144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914400"/>
            <a:ext cx="2057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4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- 2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10080" y="3962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1905120"/>
            <a:ext cx="4495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个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么办 ？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2224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从十位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85800" y="1981080"/>
            <a:ext cx="4572000" cy="2743200"/>
            <a:chOff x="685800" y="1981080"/>
            <a:chExt cx="4572000" cy="2743200"/>
          </a:xfrm>
        </p:grpSpPr>
        <p:grpSp>
          <p:nvGrpSpPr>
            <p:cNvPr id="408" name=""/>
            <p:cNvGrpSpPr/>
            <p:nvPr/>
          </p:nvGrpSpPr>
          <p:grpSpPr>
            <a:xfrm>
              <a:off x="685800" y="1981080"/>
              <a:ext cx="4571640" cy="2743200"/>
              <a:chOff x="685800" y="1981080"/>
              <a:chExt cx="4571640" cy="2743200"/>
            </a:xfrm>
          </p:grpSpPr>
          <p:sp>
            <p:nvSpPr>
              <p:cNvPr id="409" name=""/>
              <p:cNvSpPr/>
              <p:nvPr/>
            </p:nvSpPr>
            <p:spPr>
              <a:xfrm>
                <a:off x="685800" y="1981080"/>
                <a:ext cx="4571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1981080"/>
                <a:ext cx="0" cy="274320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5800" y="4724280"/>
                <a:ext cx="4571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57440" y="1981080"/>
                <a:ext cx="0" cy="274320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85800" y="3352680"/>
              <a:ext cx="4572000" cy="0"/>
            </a:xfrm>
            <a:prstGeom prst="line">
              <a:avLst/>
            </a:prstGeom>
            <a:ln w="475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04920" y="4876920"/>
            <a:ext cx="1981080" cy="1828800"/>
            <a:chOff x="304920" y="4876920"/>
            <a:chExt cx="1981080" cy="1828800"/>
          </a:xfrm>
        </p:grpSpPr>
        <p:sp>
          <p:nvSpPr>
            <p:cNvPr id="415" name=""/>
            <p:cNvSpPr/>
            <p:nvPr/>
          </p:nvSpPr>
          <p:spPr>
            <a:xfrm>
              <a:off x="304920" y="4876920"/>
              <a:ext cx="1981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920" y="4876920"/>
              <a:ext cx="0" cy="18288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6705720"/>
              <a:ext cx="1981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4876920"/>
              <a:ext cx="0" cy="18288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257800" y="4876920"/>
            <a:ext cx="3657600" cy="1752480"/>
            <a:chOff x="5257800" y="4876920"/>
            <a:chExt cx="3657600" cy="1752480"/>
          </a:xfrm>
        </p:grpSpPr>
        <p:sp>
          <p:nvSpPr>
            <p:cNvPr id="420" name=""/>
            <p:cNvSpPr/>
            <p:nvPr/>
          </p:nvSpPr>
          <p:spPr>
            <a:xfrm>
              <a:off x="5257800" y="4876920"/>
              <a:ext cx="3657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57800" y="4876920"/>
              <a:ext cx="0" cy="17524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7800" y="6629400"/>
              <a:ext cx="3657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915400" y="4876920"/>
              <a:ext cx="0" cy="17524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43720" y="4876560"/>
            <a:ext cx="1750680" cy="1755720"/>
            <a:chOff x="243720" y="4876560"/>
            <a:chExt cx="1750680" cy="1755720"/>
          </a:xfrm>
        </p:grpSpPr>
        <p:sp>
          <p:nvSpPr>
            <p:cNvPr id="425" name=""/>
            <p:cNvSpPr/>
            <p:nvPr/>
          </p:nvSpPr>
          <p:spPr>
            <a:xfrm flipV="1" rot="600000">
              <a:off x="465840" y="5038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600000">
              <a:off x="57996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600000">
              <a:off x="70380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600000">
              <a:off x="380160" y="4971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600000">
              <a:off x="51336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600000">
              <a:off x="64692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600000">
              <a:off x="78012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600000">
              <a:off x="45612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 rot="600000">
              <a:off x="57996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 rot="600000">
              <a:off x="71352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480" y="547056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600000">
              <a:off x="1404000" y="5039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600000">
              <a:off x="151812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600000">
              <a:off x="164196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600000">
              <a:off x="1318320" y="4973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600000">
              <a:off x="145152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600000">
              <a:off x="158508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600000">
              <a:off x="1718280" y="4963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600000">
              <a:off x="1395720" y="488736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600000">
              <a:off x="1518120" y="48787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00000">
              <a:off x="1651680" y="4887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58640" y="54723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3720" y="4800240"/>
            <a:ext cx="1750680" cy="1755720"/>
            <a:chOff x="243720" y="4800240"/>
            <a:chExt cx="1750680" cy="1755720"/>
          </a:xfrm>
        </p:grpSpPr>
        <p:sp>
          <p:nvSpPr>
            <p:cNvPr id="448" name=""/>
            <p:cNvSpPr/>
            <p:nvPr/>
          </p:nvSpPr>
          <p:spPr>
            <a:xfrm flipV="1" rot="600000">
              <a:off x="46584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600000">
              <a:off x="57996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600000">
              <a:off x="70380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600000">
              <a:off x="380160" y="4895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600000">
              <a:off x="51336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 rot="600000">
              <a:off x="64692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600000">
              <a:off x="78012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 rot="600000">
              <a:off x="456120" y="4809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600000">
              <a:off x="579960" y="4799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 rot="600000">
              <a:off x="713520" y="4809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0480" y="539424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600000">
              <a:off x="1404000" y="49633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 rot="600000">
              <a:off x="151812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600000">
              <a:off x="164196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 rot="600000">
              <a:off x="1318320" y="48967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 rot="600000">
              <a:off x="1451520" y="4877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 rot="600000">
              <a:off x="1585080" y="4877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600000">
              <a:off x="1718280" y="4887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600000">
              <a:off x="1395720" y="481104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600000">
              <a:off x="1518120" y="480240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600000">
              <a:off x="1651680" y="4811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58640" y="539604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6248520" y="21337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15000" y="205740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21360" y="1295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1295280"/>
            <a:ext cx="41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26280" y="37339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7238880" y="1752480"/>
            <a:ext cx="1585800" cy="3096360"/>
            <a:chOff x="7238880" y="1752480"/>
            <a:chExt cx="1585800" cy="3096360"/>
          </a:xfrm>
        </p:grpSpPr>
        <p:grpSp>
          <p:nvGrpSpPr>
            <p:cNvPr id="476" name=""/>
            <p:cNvGrpSpPr/>
            <p:nvPr/>
          </p:nvGrpSpPr>
          <p:grpSpPr>
            <a:xfrm>
              <a:off x="7238880" y="1752480"/>
              <a:ext cx="1585800" cy="2104920"/>
              <a:chOff x="7238880" y="1752480"/>
              <a:chExt cx="1585800" cy="2104920"/>
            </a:xfrm>
          </p:grpSpPr>
          <p:sp>
            <p:nvSpPr>
              <p:cNvPr id="477" name=""/>
              <p:cNvSpPr/>
              <p:nvPr/>
            </p:nvSpPr>
            <p:spPr>
              <a:xfrm>
                <a:off x="7316640" y="1752480"/>
                <a:ext cx="1508040" cy="21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6600" spc="-1" strike="noStrike">
                    <a:solidFill>
                      <a:srgbClr val="000000"/>
                    </a:solidFill>
                    <a:latin typeface="Times New Roman"/>
                  </a:rPr>
                  <a:t>42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600" spc="-1" strike="noStrike">
                    <a:solidFill>
                      <a:srgbClr val="000000"/>
                    </a:solidFill>
                    <a:latin typeface="Times New Roman"/>
                  </a:rPr>
                  <a:t>- 28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38880" y="373356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8155080" y="36576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7774200" y="37339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40280" y="5335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525680" y="45720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70-63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6920" y="1600200"/>
            <a:ext cx="12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-6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05120" y="3581280"/>
            <a:ext cx="13716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62520" y="1219320"/>
            <a:ext cx="9144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14960" y="1523880"/>
            <a:ext cx="422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从十位（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后，个位要算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（     ）得（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429000" y="1447920"/>
            <a:ext cx="5562360" cy="2514600"/>
            <a:chOff x="3429000" y="1447920"/>
            <a:chExt cx="5562360" cy="2514600"/>
          </a:xfrm>
        </p:grpSpPr>
        <p:sp>
          <p:nvSpPr>
            <p:cNvPr id="490" name=""/>
            <p:cNvSpPr/>
            <p:nvPr/>
          </p:nvSpPr>
          <p:spPr>
            <a:xfrm>
              <a:off x="3429000" y="1447920"/>
              <a:ext cx="556236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9000" y="1447920"/>
              <a:ext cx="0" cy="25146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9000" y="3962520"/>
              <a:ext cx="556236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991360" y="1447920"/>
              <a:ext cx="0" cy="25146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281952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2360" y="3581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34080" y="13716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退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7880" y="205740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8360" y="28954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5600" y="28954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0280" y="3063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8640" y="4194000"/>
            <a:ext cx="138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6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60199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7440" y="426708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6600" y="42670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6800" y="42670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40680" y="4267080"/>
            <a:ext cx="140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3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60958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6095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6095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60958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2076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5943600"/>
            <a:ext cx="6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728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4008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976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660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2200" y="594360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1680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07876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156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0WK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508040" y="22860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笔算减法要注意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828800"/>
            <a:ext cx="6324120" cy="4723920"/>
            <a:chOff x="304920" y="1828800"/>
            <a:chExt cx="6324120" cy="4723920"/>
          </a:xfrm>
        </p:grpSpPr>
        <p:sp>
          <p:nvSpPr>
            <p:cNvPr id="524" name=""/>
            <p:cNvSpPr/>
            <p:nvPr/>
          </p:nvSpPr>
          <p:spPr>
            <a:xfrm>
              <a:off x="304920" y="1828800"/>
              <a:ext cx="632412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828800"/>
              <a:ext cx="0" cy="472392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920" y="6552720"/>
              <a:ext cx="632412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29040" y="1828800"/>
              <a:ext cx="0" cy="472392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457200" y="3200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1.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相同数对齐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39625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2.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从个位减起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4876920"/>
            <a:ext cx="64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哪一位不够减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从十位退一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在个位加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再减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1828800"/>
            <a:ext cx="61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笔算两位数减法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要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作三条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0:58:49Z</dcterms:created>
  <dc:creator>Billgates</dc:creator>
  <dc:description/>
  <dc:language>en-US</dc:language>
  <cp:lastModifiedBy>Billgates</cp:lastModifiedBy>
  <dcterms:modified xsi:type="dcterms:W3CDTF">2003-05-19T15:13:24Z</dcterms:modified>
  <cp:revision>3</cp:revision>
  <dc:subject/>
  <dc:title>PowerPoint 演示文稿</dc:title>
</cp:coreProperties>
</file>