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F32-FD83-47BC-8233-9FFA3BC8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09B-9C40-4CC2-89D1-0855BCF9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D13B-5B91-44CB-ACE6-59039B30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74D8-C5F2-41BE-BAB6-182AFE16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FDA-C95F-4B9A-86A7-A85F033F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97B5-1BB1-4FA9-8269-55E7D238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929-AE87-40A1-9CF2-4730F0C3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8251-B0FD-4E82-9A37-4C8585E8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DFF-5A70-4099-8E02-E869B5B3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367-1F03-4ADF-BC85-FA6BD7F7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70F-53BF-4F65-BBBD-43C8DC34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D9F-35FA-4E39-8379-9D3A3FCB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16E9-6BFF-46F9-94C3-2A2C93F305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6211800" y="2232000"/>
          <a:ext cx="9140760" cy="6851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211800" y="2232000"/>
                    <a:ext cx="914076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 txBox="1"/>
          <p:nvPr/>
        </p:nvSpPr>
        <p:spPr>
          <a:xfrm>
            <a:off x="990720" y="2819520"/>
            <a:ext cx="63910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小学数学第二册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743200"/>
            <a:ext cx="56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两位数减两位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26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914400" y="609480"/>
            <a:ext cx="7010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小学数学第二册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7" name=""/>
          <p:cNvSpPr/>
          <p:nvPr/>
        </p:nvSpPr>
        <p:spPr>
          <a:xfrm>
            <a:off x="2801520" y="30481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两位数减两位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y0211" descr=""/>
          <p:cNvPicPr/>
          <p:nvPr/>
        </p:nvPicPr>
        <p:blipFill>
          <a:blip r:embed="rId4"/>
          <a:stretch/>
        </p:blipFill>
        <p:spPr>
          <a:xfrm>
            <a:off x="3200400" y="3809880"/>
            <a:ext cx="2362320" cy="177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flipH="1" rot="10800000">
            <a:off x="0" y="-360"/>
            <a:ext cx="9144000" cy="7553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24080" y="762120"/>
            <a:ext cx="275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复  习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2057400"/>
            <a:ext cx="93855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70-30=      46-20=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76-6=        58-4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600" y="2133720"/>
            <a:ext cx="154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1981080"/>
            <a:ext cx="1093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2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4038480"/>
            <a:ext cx="1093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7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4038480"/>
            <a:ext cx="1094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5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10134720" cy="6904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034360" y="0"/>
            <a:ext cx="44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怎样口算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69840" y="838080"/>
            <a:ext cx="473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还可以写成竖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用笔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38080" y="1600200"/>
            <a:ext cx="1828800" cy="3581280"/>
            <a:chOff x="838080" y="1600200"/>
            <a:chExt cx="1828800" cy="3581280"/>
          </a:xfrm>
        </p:grpSpPr>
        <p:sp>
          <p:nvSpPr>
            <p:cNvPr id="61" name=""/>
            <p:cNvSpPr/>
            <p:nvPr/>
          </p:nvSpPr>
          <p:spPr>
            <a:xfrm>
              <a:off x="838080" y="2286000"/>
              <a:ext cx="1828800" cy="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52480" y="1600200"/>
              <a:ext cx="0" cy="358128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838080" y="15238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十   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2362320"/>
            <a:ext cx="380880" cy="2590200"/>
            <a:chOff x="990720" y="2362320"/>
            <a:chExt cx="380880" cy="2590200"/>
          </a:xfrm>
        </p:grpSpPr>
        <p:sp>
          <p:nvSpPr>
            <p:cNvPr id="65" name=""/>
            <p:cNvSpPr/>
            <p:nvPr/>
          </p:nvSpPr>
          <p:spPr>
            <a:xfrm>
              <a:off x="990720" y="2742840"/>
              <a:ext cx="380880" cy="3808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990720" y="2362320"/>
              <a:ext cx="380880" cy="2590200"/>
              <a:chOff x="990720" y="2362320"/>
              <a:chExt cx="380880" cy="2590200"/>
            </a:xfrm>
          </p:grpSpPr>
          <p:sp>
            <p:nvSpPr>
              <p:cNvPr id="67" name=""/>
              <p:cNvSpPr/>
              <p:nvPr/>
            </p:nvSpPr>
            <p:spPr>
              <a:xfrm>
                <a:off x="990720" y="2362320"/>
                <a:ext cx="380880" cy="3808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32004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990720" y="36576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990720" y="41148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90720" y="45720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1981080" y="2438280"/>
            <a:ext cx="381240" cy="2210040"/>
            <a:chOff x="1981080" y="2438280"/>
            <a:chExt cx="381240" cy="2210040"/>
          </a:xfrm>
        </p:grpSpPr>
        <p:sp>
          <p:nvSpPr>
            <p:cNvPr id="73" name=""/>
            <p:cNvSpPr/>
            <p:nvPr/>
          </p:nvSpPr>
          <p:spPr>
            <a:xfrm>
              <a:off x="1981080" y="2895480"/>
              <a:ext cx="381240" cy="3812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981080" y="2438280"/>
              <a:ext cx="381240" cy="2210040"/>
              <a:chOff x="1981080" y="2438280"/>
              <a:chExt cx="381240" cy="2210040"/>
            </a:xfrm>
          </p:grpSpPr>
          <p:sp>
            <p:nvSpPr>
              <p:cNvPr id="75" name=""/>
              <p:cNvSpPr/>
              <p:nvPr/>
            </p:nvSpPr>
            <p:spPr>
              <a:xfrm>
                <a:off x="1981080" y="4267080"/>
                <a:ext cx="381240" cy="3812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981080" y="2438280"/>
                <a:ext cx="381240" cy="3812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81080" y="3352680"/>
                <a:ext cx="381240" cy="3812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981080" y="3809880"/>
                <a:ext cx="381240" cy="3812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1905120" y="3429000"/>
            <a:ext cx="60948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3886200"/>
            <a:ext cx="60948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267080"/>
            <a:ext cx="53316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1600200"/>
            <a:ext cx="228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65-3= 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2438280"/>
            <a:ext cx="329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6 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-   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7240" y="4724280"/>
            <a:ext cx="195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716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2438280"/>
            <a:ext cx="5335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4724280"/>
            <a:ext cx="198108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2" descr=""/>
          <p:cNvPicPr/>
          <p:nvPr/>
        </p:nvPicPr>
        <p:blipFill>
          <a:blip r:embed="rId1"/>
          <a:stretch/>
        </p:blipFill>
        <p:spPr>
          <a:xfrm>
            <a:off x="-380880" y="-409680"/>
            <a:ext cx="10667880" cy="7267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034360" y="0"/>
            <a:ext cx="44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怎样口算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54000" y="838080"/>
            <a:ext cx="473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还可以写成竖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用口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38080" y="1600200"/>
            <a:ext cx="1828800" cy="3581280"/>
            <a:chOff x="838080" y="1600200"/>
            <a:chExt cx="1828800" cy="3581280"/>
          </a:xfrm>
        </p:grpSpPr>
        <p:sp>
          <p:nvSpPr>
            <p:cNvPr id="92" name=""/>
            <p:cNvSpPr/>
            <p:nvPr/>
          </p:nvSpPr>
          <p:spPr>
            <a:xfrm>
              <a:off x="838080" y="2286000"/>
              <a:ext cx="1828800" cy="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52480" y="1600200"/>
              <a:ext cx="0" cy="358128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838080" y="15238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十   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90720" y="2286000"/>
            <a:ext cx="380880" cy="2590920"/>
            <a:chOff x="990720" y="2286000"/>
            <a:chExt cx="380880" cy="2590920"/>
          </a:xfrm>
        </p:grpSpPr>
        <p:sp>
          <p:nvSpPr>
            <p:cNvPr id="96" name=""/>
            <p:cNvSpPr/>
            <p:nvPr/>
          </p:nvSpPr>
          <p:spPr>
            <a:xfrm>
              <a:off x="990720" y="2666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990720" y="2286000"/>
              <a:ext cx="380880" cy="2590920"/>
              <a:chOff x="990720" y="2286000"/>
              <a:chExt cx="380880" cy="2590920"/>
            </a:xfrm>
          </p:grpSpPr>
          <p:sp>
            <p:nvSpPr>
              <p:cNvPr id="98" name=""/>
              <p:cNvSpPr/>
              <p:nvPr/>
            </p:nvSpPr>
            <p:spPr>
              <a:xfrm>
                <a:off x="990720" y="2286000"/>
                <a:ext cx="380880" cy="38124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90720" y="3124440"/>
                <a:ext cx="380880" cy="3808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990720" y="3581640"/>
                <a:ext cx="380880" cy="3808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0720" y="4038840"/>
                <a:ext cx="380880" cy="3808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90720" y="4496040"/>
                <a:ext cx="380880" cy="3808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4343400" y="1600200"/>
            <a:ext cx="228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65-3= 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438280"/>
            <a:ext cx="329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6 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-   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7240" y="4724280"/>
            <a:ext cx="195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546880"/>
            <a:ext cx="961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先算个位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      )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个位上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被减数十位上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抄下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十位上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   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78760" y="51055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4160" y="46483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3280" y="6019920"/>
            <a:ext cx="151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4680" y="46483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1523880"/>
            <a:ext cx="117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6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3716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2438280"/>
            <a:ext cx="5335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724280"/>
            <a:ext cx="198108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905120" y="3352680"/>
            <a:ext cx="609480" cy="1295640"/>
            <a:chOff x="1905120" y="3352680"/>
            <a:chExt cx="609480" cy="1295640"/>
          </a:xfrm>
        </p:grpSpPr>
        <p:grpSp>
          <p:nvGrpSpPr>
            <p:cNvPr id="116" name=""/>
            <p:cNvGrpSpPr/>
            <p:nvPr/>
          </p:nvGrpSpPr>
          <p:grpSpPr>
            <a:xfrm>
              <a:off x="1905120" y="3352680"/>
              <a:ext cx="609480" cy="1295280"/>
              <a:chOff x="1905120" y="3352680"/>
              <a:chExt cx="609480" cy="1295280"/>
            </a:xfrm>
          </p:grpSpPr>
          <p:sp>
            <p:nvSpPr>
              <p:cNvPr id="117" name=""/>
              <p:cNvSpPr/>
              <p:nvPr/>
            </p:nvSpPr>
            <p:spPr>
              <a:xfrm>
                <a:off x="1981080" y="3352680"/>
                <a:ext cx="380520" cy="3808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81080" y="3809880"/>
                <a:ext cx="380520" cy="3808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81080" y="4267080"/>
                <a:ext cx="380520" cy="3808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05120" y="3352680"/>
                <a:ext cx="60948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05120" y="3809880"/>
                <a:ext cx="60948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905120" y="4267080"/>
              <a:ext cx="53352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981080" y="2438280"/>
            <a:ext cx="380880" cy="838080"/>
            <a:chOff x="1981080" y="2438280"/>
            <a:chExt cx="380880" cy="838080"/>
          </a:xfrm>
        </p:grpSpPr>
        <p:sp>
          <p:nvSpPr>
            <p:cNvPr id="124" name=""/>
            <p:cNvSpPr/>
            <p:nvPr/>
          </p:nvSpPr>
          <p:spPr>
            <a:xfrm>
              <a:off x="1981080" y="2438280"/>
              <a:ext cx="38088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2895480"/>
              <a:ext cx="38088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905120" y="3352680"/>
            <a:ext cx="609480" cy="1295640"/>
            <a:chOff x="1905120" y="3352680"/>
            <a:chExt cx="609480" cy="1295640"/>
          </a:xfrm>
        </p:grpSpPr>
        <p:grpSp>
          <p:nvGrpSpPr>
            <p:cNvPr id="127" name=""/>
            <p:cNvGrpSpPr/>
            <p:nvPr/>
          </p:nvGrpSpPr>
          <p:grpSpPr>
            <a:xfrm>
              <a:off x="1905120" y="3352680"/>
              <a:ext cx="609480" cy="1295280"/>
              <a:chOff x="1905120" y="3352680"/>
              <a:chExt cx="609480" cy="1295280"/>
            </a:xfrm>
          </p:grpSpPr>
          <p:sp>
            <p:nvSpPr>
              <p:cNvPr id="128" name=""/>
              <p:cNvSpPr/>
              <p:nvPr/>
            </p:nvSpPr>
            <p:spPr>
              <a:xfrm>
                <a:off x="1981080" y="3352680"/>
                <a:ext cx="380520" cy="3808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81080" y="3809880"/>
                <a:ext cx="380520" cy="3808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81080" y="4267080"/>
                <a:ext cx="380520" cy="3808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05120" y="3352680"/>
                <a:ext cx="60948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905120" y="3809880"/>
                <a:ext cx="60948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1905120" y="4267080"/>
              <a:ext cx="53352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905120" y="3352680"/>
            <a:ext cx="609480" cy="1295640"/>
            <a:chOff x="1905120" y="3352680"/>
            <a:chExt cx="609480" cy="1295640"/>
          </a:xfrm>
        </p:grpSpPr>
        <p:grpSp>
          <p:nvGrpSpPr>
            <p:cNvPr id="135" name=""/>
            <p:cNvGrpSpPr/>
            <p:nvPr/>
          </p:nvGrpSpPr>
          <p:grpSpPr>
            <a:xfrm>
              <a:off x="1905120" y="3352680"/>
              <a:ext cx="609480" cy="1295280"/>
              <a:chOff x="1905120" y="3352680"/>
              <a:chExt cx="609480" cy="1295280"/>
            </a:xfrm>
          </p:grpSpPr>
          <p:sp>
            <p:nvSpPr>
              <p:cNvPr id="136" name=""/>
              <p:cNvSpPr/>
              <p:nvPr/>
            </p:nvSpPr>
            <p:spPr>
              <a:xfrm>
                <a:off x="1981080" y="3352680"/>
                <a:ext cx="380520" cy="3808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81080" y="3809880"/>
                <a:ext cx="380520" cy="3808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81080" y="4267080"/>
                <a:ext cx="380520" cy="3808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05120" y="3352680"/>
                <a:ext cx="60948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905120" y="3809880"/>
                <a:ext cx="60948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905120" y="4267080"/>
              <a:ext cx="53352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345200" y="5257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2" descr=""/>
          <p:cNvPicPr/>
          <p:nvPr/>
        </p:nvPicPr>
        <p:blipFill>
          <a:blip r:embed="rId1"/>
          <a:stretch/>
        </p:blipFill>
        <p:spPr>
          <a:xfrm>
            <a:off x="-533520" y="-304920"/>
            <a:ext cx="10515600" cy="7162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0"/>
            <a:ext cx="13716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97200" y="0"/>
            <a:ext cx="43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23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怎样算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32320" y="838080"/>
            <a:ext cx="421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可以写成竖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用笔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1371600"/>
            <a:ext cx="261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65-23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362320"/>
            <a:ext cx="83844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80880" y="2666880"/>
            <a:ext cx="1828800" cy="3581280"/>
            <a:chOff x="380880" y="2666880"/>
            <a:chExt cx="1828800" cy="3581280"/>
          </a:xfrm>
        </p:grpSpPr>
        <p:sp>
          <p:nvSpPr>
            <p:cNvPr id="150" name=""/>
            <p:cNvSpPr/>
            <p:nvPr/>
          </p:nvSpPr>
          <p:spPr>
            <a:xfrm>
              <a:off x="380880" y="3352680"/>
              <a:ext cx="1828800" cy="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95280" y="2666880"/>
              <a:ext cx="0" cy="358128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80880" y="2590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十   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3581280"/>
            <a:ext cx="380880" cy="2209680"/>
            <a:chOff x="1600200" y="3581280"/>
            <a:chExt cx="380880" cy="2209680"/>
          </a:xfrm>
        </p:grpSpPr>
        <p:sp>
          <p:nvSpPr>
            <p:cNvPr id="154" name=""/>
            <p:cNvSpPr/>
            <p:nvPr/>
          </p:nvSpPr>
          <p:spPr>
            <a:xfrm>
              <a:off x="1600200" y="5410080"/>
              <a:ext cx="38088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581280"/>
              <a:ext cx="38088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038480"/>
              <a:ext cx="38088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00200" y="4495680"/>
              <a:ext cx="38088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0200" y="4952880"/>
              <a:ext cx="38088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523880" y="4419720"/>
            <a:ext cx="60984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876920"/>
            <a:ext cx="60984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5334120"/>
            <a:ext cx="53352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33520" y="3505320"/>
            <a:ext cx="380880" cy="2590200"/>
            <a:chOff x="533520" y="3505320"/>
            <a:chExt cx="380880" cy="2590200"/>
          </a:xfrm>
        </p:grpSpPr>
        <p:sp>
          <p:nvSpPr>
            <p:cNvPr id="163" name=""/>
            <p:cNvSpPr/>
            <p:nvPr/>
          </p:nvSpPr>
          <p:spPr>
            <a:xfrm>
              <a:off x="533520" y="3885840"/>
              <a:ext cx="380880" cy="3808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533520" y="3505320"/>
              <a:ext cx="380880" cy="2590200"/>
              <a:chOff x="533520" y="3505320"/>
              <a:chExt cx="380880" cy="2590200"/>
            </a:xfrm>
          </p:grpSpPr>
          <p:sp>
            <p:nvSpPr>
              <p:cNvPr id="165" name=""/>
              <p:cNvSpPr/>
              <p:nvPr/>
            </p:nvSpPr>
            <p:spPr>
              <a:xfrm>
                <a:off x="533520" y="3505320"/>
                <a:ext cx="380880" cy="3808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33520" y="43434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3520" y="48006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33520" y="52578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3520" y="57150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" name=""/>
          <p:cNvSpPr/>
          <p:nvPr/>
        </p:nvSpPr>
        <p:spPr>
          <a:xfrm>
            <a:off x="457200" y="5715000"/>
            <a:ext cx="5335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257800"/>
            <a:ext cx="60948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590920" y="2743200"/>
            <a:ext cx="4571640" cy="3352680"/>
            <a:chOff x="2590920" y="2743200"/>
            <a:chExt cx="4571640" cy="3352680"/>
          </a:xfrm>
        </p:grpSpPr>
        <p:sp>
          <p:nvSpPr>
            <p:cNvPr id="173" name=""/>
            <p:cNvSpPr/>
            <p:nvPr/>
          </p:nvSpPr>
          <p:spPr>
            <a:xfrm>
              <a:off x="2590920" y="2743200"/>
              <a:ext cx="457164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90920" y="2743200"/>
              <a:ext cx="0" cy="335268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6095880"/>
              <a:ext cx="457164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62560" y="2743200"/>
              <a:ext cx="0" cy="335268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362320" y="2895480"/>
            <a:ext cx="3292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6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- 2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4876920"/>
            <a:ext cx="137160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396252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2" descr=""/>
          <p:cNvPicPr/>
          <p:nvPr/>
        </p:nvPicPr>
        <p:blipFill>
          <a:blip r:embed="rId1"/>
          <a:stretch/>
        </p:blipFill>
        <p:spPr>
          <a:xfrm>
            <a:off x="0" y="-304920"/>
            <a:ext cx="10744200" cy="7162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0"/>
            <a:ext cx="13716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97200" y="0"/>
            <a:ext cx="43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23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怎样算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32320" y="838080"/>
            <a:ext cx="421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可以写成竖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用笔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1371600"/>
            <a:ext cx="261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65-23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2362320"/>
            <a:ext cx="83844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80880" y="2666880"/>
            <a:ext cx="1828800" cy="3581280"/>
            <a:chOff x="380880" y="2666880"/>
            <a:chExt cx="1828800" cy="3581280"/>
          </a:xfrm>
        </p:grpSpPr>
        <p:sp>
          <p:nvSpPr>
            <p:cNvPr id="187" name=""/>
            <p:cNvSpPr/>
            <p:nvPr/>
          </p:nvSpPr>
          <p:spPr>
            <a:xfrm>
              <a:off x="380880" y="3352680"/>
              <a:ext cx="1828800" cy="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95280" y="2666880"/>
              <a:ext cx="0" cy="358128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80880" y="2590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十   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35812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4038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523880" y="4495680"/>
            <a:ext cx="609840" cy="1295640"/>
            <a:chOff x="1523880" y="4495680"/>
            <a:chExt cx="609840" cy="1295640"/>
          </a:xfrm>
        </p:grpSpPr>
        <p:sp>
          <p:nvSpPr>
            <p:cNvPr id="193" name=""/>
            <p:cNvSpPr/>
            <p:nvPr/>
          </p:nvSpPr>
          <p:spPr>
            <a:xfrm>
              <a:off x="1600200" y="5410080"/>
              <a:ext cx="380880" cy="3812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1523880" y="4495680"/>
              <a:ext cx="609840" cy="1295280"/>
              <a:chOff x="1523880" y="4495680"/>
              <a:chExt cx="609840" cy="1295280"/>
            </a:xfrm>
          </p:grpSpPr>
          <p:sp>
            <p:nvSpPr>
              <p:cNvPr id="195" name=""/>
              <p:cNvSpPr/>
              <p:nvPr/>
            </p:nvSpPr>
            <p:spPr>
              <a:xfrm>
                <a:off x="1600200" y="4571640"/>
                <a:ext cx="380880" cy="3812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0200" y="5028840"/>
                <a:ext cx="380880" cy="3812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23880" y="4495680"/>
                <a:ext cx="60984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23880" y="4952880"/>
                <a:ext cx="60984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23880" y="5410080"/>
                <a:ext cx="53352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533520" y="3505320"/>
            <a:ext cx="380880" cy="2590200"/>
            <a:chOff x="533520" y="3505320"/>
            <a:chExt cx="380880" cy="2590200"/>
          </a:xfrm>
        </p:grpSpPr>
        <p:sp>
          <p:nvSpPr>
            <p:cNvPr id="201" name=""/>
            <p:cNvSpPr/>
            <p:nvPr/>
          </p:nvSpPr>
          <p:spPr>
            <a:xfrm>
              <a:off x="533520" y="3885840"/>
              <a:ext cx="380880" cy="3808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533520" y="3505320"/>
              <a:ext cx="380880" cy="2590200"/>
              <a:chOff x="533520" y="3505320"/>
              <a:chExt cx="380880" cy="2590200"/>
            </a:xfrm>
          </p:grpSpPr>
          <p:sp>
            <p:nvSpPr>
              <p:cNvPr id="203" name=""/>
              <p:cNvSpPr/>
              <p:nvPr/>
            </p:nvSpPr>
            <p:spPr>
              <a:xfrm>
                <a:off x="533520" y="3505320"/>
                <a:ext cx="380880" cy="3808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33520" y="43434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3520" y="48006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33520" y="52578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3520" y="57150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" name=""/>
          <p:cNvGrpSpPr/>
          <p:nvPr/>
        </p:nvGrpSpPr>
        <p:grpSpPr>
          <a:xfrm>
            <a:off x="2590920" y="2743200"/>
            <a:ext cx="4571640" cy="3352680"/>
            <a:chOff x="2590920" y="2743200"/>
            <a:chExt cx="4571640" cy="3352680"/>
          </a:xfrm>
        </p:grpSpPr>
        <p:sp>
          <p:nvSpPr>
            <p:cNvPr id="209" name=""/>
            <p:cNvSpPr/>
            <p:nvPr/>
          </p:nvSpPr>
          <p:spPr>
            <a:xfrm>
              <a:off x="2590920" y="2743200"/>
              <a:ext cx="457164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90920" y="2743200"/>
              <a:ext cx="0" cy="335268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90920" y="6095880"/>
              <a:ext cx="457164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62560" y="2743200"/>
              <a:ext cx="0" cy="335268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858000" y="2666880"/>
            <a:ext cx="329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6 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-2 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66760" y="4952880"/>
            <a:ext cx="18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67480" y="4952880"/>
            <a:ext cx="198144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2895480"/>
            <a:ext cx="3292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6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- 2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4876920"/>
            <a:ext cx="137160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2819520"/>
            <a:ext cx="3292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6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- 2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4876920"/>
            <a:ext cx="137160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396252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77120" y="396252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21360" y="48769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07000" y="47023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523880" y="4495680"/>
            <a:ext cx="609840" cy="1295640"/>
            <a:chOff x="1523880" y="4495680"/>
            <a:chExt cx="609840" cy="1295640"/>
          </a:xfrm>
        </p:grpSpPr>
        <p:sp>
          <p:nvSpPr>
            <p:cNvPr id="225" name=""/>
            <p:cNvSpPr/>
            <p:nvPr/>
          </p:nvSpPr>
          <p:spPr>
            <a:xfrm>
              <a:off x="1600200" y="5410080"/>
              <a:ext cx="380880" cy="3812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523880" y="4495680"/>
              <a:ext cx="609840" cy="1295280"/>
              <a:chOff x="1523880" y="4495680"/>
              <a:chExt cx="609840" cy="1295280"/>
            </a:xfrm>
          </p:grpSpPr>
          <p:sp>
            <p:nvSpPr>
              <p:cNvPr id="227" name=""/>
              <p:cNvSpPr/>
              <p:nvPr/>
            </p:nvSpPr>
            <p:spPr>
              <a:xfrm>
                <a:off x="1600200" y="4571640"/>
                <a:ext cx="380880" cy="3812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600200" y="5028840"/>
                <a:ext cx="380880" cy="3812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23880" y="4495680"/>
                <a:ext cx="60984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23880" y="4952880"/>
                <a:ext cx="60984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523880" y="5410080"/>
                <a:ext cx="53352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2" descr=""/>
          <p:cNvPicPr/>
          <p:nvPr/>
        </p:nvPicPr>
        <p:blipFill>
          <a:blip r:embed="rId1"/>
          <a:stretch/>
        </p:blipFill>
        <p:spPr>
          <a:xfrm>
            <a:off x="0" y="-304920"/>
            <a:ext cx="10744200" cy="7162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0"/>
            <a:ext cx="13716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97200" y="0"/>
            <a:ext cx="43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23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怎样算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32320" y="838080"/>
            <a:ext cx="421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可以写成竖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用笔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1371600"/>
            <a:ext cx="261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65-23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2362320"/>
            <a:ext cx="83844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80880" y="2666880"/>
            <a:ext cx="1828800" cy="3581280"/>
            <a:chOff x="380880" y="2666880"/>
            <a:chExt cx="1828800" cy="3581280"/>
          </a:xfrm>
        </p:grpSpPr>
        <p:sp>
          <p:nvSpPr>
            <p:cNvPr id="239" name=""/>
            <p:cNvSpPr/>
            <p:nvPr/>
          </p:nvSpPr>
          <p:spPr>
            <a:xfrm>
              <a:off x="380880" y="3352680"/>
              <a:ext cx="1828800" cy="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95280" y="2666880"/>
              <a:ext cx="0" cy="358128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80880" y="2590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十   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3429000"/>
            <a:ext cx="38124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3886200"/>
            <a:ext cx="38124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590920" y="2743200"/>
            <a:ext cx="4571640" cy="3352680"/>
            <a:chOff x="2590920" y="2743200"/>
            <a:chExt cx="4571640" cy="3352680"/>
          </a:xfrm>
        </p:grpSpPr>
        <p:sp>
          <p:nvSpPr>
            <p:cNvPr id="245" name=""/>
            <p:cNvSpPr/>
            <p:nvPr/>
          </p:nvSpPr>
          <p:spPr>
            <a:xfrm>
              <a:off x="2590920" y="2743200"/>
              <a:ext cx="457164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90920" y="2743200"/>
              <a:ext cx="0" cy="335268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90920" y="6095880"/>
              <a:ext cx="457164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62560" y="2743200"/>
              <a:ext cx="0" cy="335268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858000" y="2666880"/>
            <a:ext cx="329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6 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-2 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466760" y="4952880"/>
            <a:ext cx="18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67480" y="4952880"/>
            <a:ext cx="198144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62320" y="2895480"/>
            <a:ext cx="3292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6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- 2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4876920"/>
            <a:ext cx="137160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48320" y="2819520"/>
            <a:ext cx="3292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6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- 2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4876920"/>
            <a:ext cx="137160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43400" y="396252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7120" y="396252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21360" y="48769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07000" y="47023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0" y="464832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5400" y="144792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Times New Roman"/>
              </a:rPr>
              <a:t>4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3429000"/>
            <a:ext cx="380880" cy="380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3886200"/>
            <a:ext cx="380880" cy="380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4343400"/>
            <a:ext cx="380880" cy="380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57200" y="5257800"/>
            <a:ext cx="533520" cy="990720"/>
            <a:chOff x="457200" y="5257800"/>
            <a:chExt cx="533520" cy="990720"/>
          </a:xfrm>
        </p:grpSpPr>
        <p:sp>
          <p:nvSpPr>
            <p:cNvPr id="266" name=""/>
            <p:cNvSpPr/>
            <p:nvPr/>
          </p:nvSpPr>
          <p:spPr>
            <a:xfrm>
              <a:off x="533520" y="58672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57200" y="5257800"/>
              <a:ext cx="533520" cy="990720"/>
              <a:chOff x="457200" y="5257800"/>
              <a:chExt cx="533520" cy="990720"/>
            </a:xfrm>
          </p:grpSpPr>
          <p:sp>
            <p:nvSpPr>
              <p:cNvPr id="268" name=""/>
              <p:cNvSpPr/>
              <p:nvPr/>
            </p:nvSpPr>
            <p:spPr>
              <a:xfrm>
                <a:off x="533520" y="5257800"/>
                <a:ext cx="380880" cy="3808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7200" y="5257800"/>
                <a:ext cx="533520" cy="4572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7200" y="5791320"/>
                <a:ext cx="457200" cy="4572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1" name=""/>
          <p:cNvSpPr/>
          <p:nvPr/>
        </p:nvSpPr>
        <p:spPr>
          <a:xfrm>
            <a:off x="533520" y="4800600"/>
            <a:ext cx="380880" cy="380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5334120"/>
            <a:ext cx="533520" cy="990000"/>
            <a:chOff x="457200" y="5334120"/>
            <a:chExt cx="533520" cy="990000"/>
          </a:xfrm>
        </p:grpSpPr>
        <p:sp>
          <p:nvSpPr>
            <p:cNvPr id="273" name=""/>
            <p:cNvSpPr/>
            <p:nvPr/>
          </p:nvSpPr>
          <p:spPr>
            <a:xfrm>
              <a:off x="533520" y="5943240"/>
              <a:ext cx="380880" cy="3808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457200" y="5334120"/>
              <a:ext cx="533520" cy="990000"/>
              <a:chOff x="457200" y="5334120"/>
              <a:chExt cx="533520" cy="990000"/>
            </a:xfrm>
          </p:grpSpPr>
          <p:sp>
            <p:nvSpPr>
              <p:cNvPr id="275" name=""/>
              <p:cNvSpPr/>
              <p:nvPr/>
            </p:nvSpPr>
            <p:spPr>
              <a:xfrm>
                <a:off x="533520" y="533412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57200" y="5334120"/>
                <a:ext cx="533520" cy="4568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57200" y="5867280"/>
                <a:ext cx="457200" cy="4568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457200" y="5257800"/>
            <a:ext cx="533520" cy="990720"/>
            <a:chOff x="457200" y="5257800"/>
            <a:chExt cx="533520" cy="990720"/>
          </a:xfrm>
        </p:grpSpPr>
        <p:sp>
          <p:nvSpPr>
            <p:cNvPr id="279" name=""/>
            <p:cNvSpPr/>
            <p:nvPr/>
          </p:nvSpPr>
          <p:spPr>
            <a:xfrm>
              <a:off x="533520" y="58672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457200" y="5257800"/>
              <a:ext cx="533520" cy="990720"/>
              <a:chOff x="457200" y="5257800"/>
              <a:chExt cx="533520" cy="990720"/>
            </a:xfrm>
          </p:grpSpPr>
          <p:sp>
            <p:nvSpPr>
              <p:cNvPr id="281" name=""/>
              <p:cNvSpPr/>
              <p:nvPr/>
            </p:nvSpPr>
            <p:spPr>
              <a:xfrm>
                <a:off x="533520" y="5257800"/>
                <a:ext cx="380880" cy="3808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7200" y="5257800"/>
                <a:ext cx="533520" cy="4572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57200" y="5791320"/>
                <a:ext cx="457200" cy="4572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30040" y="1116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48-18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2320" y="762120"/>
            <a:ext cx="119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2590920"/>
            <a:ext cx="12193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560" y="2438280"/>
            <a:ext cx="15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8480" y="23623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2362320"/>
            <a:ext cx="45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73600" y="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Times New Roman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30640" y="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35-31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7840" y="762120"/>
            <a:ext cx="119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3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4120" y="2590920"/>
            <a:ext cx="1447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3760" y="2573280"/>
            <a:ext cx="15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24480" y="548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21360" y="25146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74200" y="763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9760" y="3489480"/>
            <a:ext cx="346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位上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02200" y="32004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97600" y="3489480"/>
            <a:ext cx="371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十位上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     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50160" y="32767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80" y="411480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8640" y="4038480"/>
            <a:ext cx="119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5943600"/>
            <a:ext cx="1143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5680" y="6016680"/>
            <a:ext cx="14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68480" y="57592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57592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7440" y="4038480"/>
            <a:ext cx="119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62320" y="5943600"/>
            <a:ext cx="1143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586728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67080" y="5867280"/>
            <a:ext cx="1143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67280" y="5943600"/>
            <a:ext cx="1143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48720" y="5943600"/>
            <a:ext cx="1143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14800" y="586728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7280" y="586728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50080" y="586728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97280" y="57592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438280" y="5759280"/>
            <a:ext cx="60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16240" y="4114800"/>
            <a:ext cx="119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26080" y="57592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45200" y="57592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4038480"/>
            <a:ext cx="144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79 -  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54880" y="57592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21360" y="57592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73840" y="4041720"/>
            <a:ext cx="119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4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3680" y="57592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02800" y="57592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06:59:03Z</dcterms:created>
  <dc:creator>Billgates</dc:creator>
  <dc:description/>
  <dc:language>en-US</dc:language>
  <cp:lastModifiedBy>Billgates</cp:lastModifiedBy>
  <dcterms:modified xsi:type="dcterms:W3CDTF">2003-05-19T16:30:07Z</dcterms:modified>
  <cp:revision>5</cp:revision>
  <dc:subject/>
  <dc:title>PowerPoint 演示文稿</dc:title>
</cp:coreProperties>
</file>