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6F7-0617-4434-B680-A43F0CD0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26B-A77E-4F1A-8CF7-158DE1C0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BDF7-5868-402A-A90C-4430EBDC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8EB-A9C0-483B-B6D0-27F365B2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8A0-E51F-42DA-98C6-2C57E773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2EE-130F-4A65-A2E5-EC5DAD0D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D65-C001-41C9-AE7D-8B19A049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C07-0BB9-41AE-9BDA-5355C848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F5B-7AD8-410F-84B5-81864163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9CD-96D9-4D57-AD89-AD11C28C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267-21CD-4F98-9278-D77C0412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789-D3C6-4205-9DD4-3491DB49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FA8A-ED43-489B-9CD7-D5875BF72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0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7.6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锐角三角函数的简单应用（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52280" y="1204920"/>
            <a:ext cx="60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平面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观察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 一条水平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右为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一条铅垂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上为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出发的视线与铅垂线所成的锐角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叫做观测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位角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向角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3"/>
          <p:cNvSpPr/>
          <p:nvPr/>
        </p:nvSpPr>
        <p:spPr>
          <a:xfrm>
            <a:off x="6019920" y="297180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 flipV="1">
            <a:off x="7315200" y="114264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 flipV="1">
            <a:off x="7315200" y="1600200"/>
            <a:ext cx="6858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7286760" y="2057400"/>
            <a:ext cx="636480" cy="685800"/>
            <a:chOff x="7286760" y="2057400"/>
            <a:chExt cx="636480" cy="685800"/>
          </a:xfrm>
        </p:grpSpPr>
        <p:sp>
          <p:nvSpPr>
            <p:cNvPr id="47" name="Freeform 7"/>
            <p:cNvSpPr/>
            <p:nvPr/>
          </p:nvSpPr>
          <p:spPr>
            <a:xfrm>
              <a:off x="7315200" y="2590920"/>
              <a:ext cx="152280" cy="152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8"/>
            <p:cNvSpPr/>
            <p:nvPr/>
          </p:nvSpPr>
          <p:spPr>
            <a:xfrm>
              <a:off x="7286760" y="2057400"/>
              <a:ext cx="63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°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9"/>
          <p:cNvGrpSpPr/>
          <p:nvPr/>
        </p:nvGrpSpPr>
        <p:grpSpPr>
          <a:xfrm>
            <a:off x="6171840" y="1828440"/>
            <a:ext cx="1370160" cy="1221480"/>
            <a:chOff x="6171840" y="1828440"/>
            <a:chExt cx="1370160" cy="1221480"/>
          </a:xfrm>
        </p:grpSpPr>
        <p:sp>
          <p:nvSpPr>
            <p:cNvPr id="50" name="Line 10"/>
            <p:cNvSpPr/>
            <p:nvPr/>
          </p:nvSpPr>
          <p:spPr>
            <a:xfrm flipH="1" flipV="1">
              <a:off x="6171840" y="1828440"/>
              <a:ext cx="114300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7061040" y="2819520"/>
              <a:ext cx="101880" cy="129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7162920" y="2709720"/>
              <a:ext cx="152280" cy="8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3"/>
            <p:cNvSpPr/>
            <p:nvPr/>
          </p:nvSpPr>
          <p:spPr>
            <a:xfrm>
              <a:off x="6905520" y="2286000"/>
              <a:ext cx="63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5°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6630840" y="2651040"/>
              <a:ext cx="63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5°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15"/>
          <p:cNvSpPr/>
          <p:nvPr/>
        </p:nvSpPr>
        <p:spPr>
          <a:xfrm>
            <a:off x="6882480" y="99072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北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8371800" y="29718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东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5857200" y="29718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西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7268040" y="28954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6923880" y="335268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南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1774440" y="4343400"/>
            <a:ext cx="46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北偏东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个方位角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0" y="5105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指正西方向与正北方向所夹直角的平分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时的方位角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北偏西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5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2"/>
          <p:cNvSpPr txBox="1"/>
          <p:nvPr/>
        </p:nvSpPr>
        <p:spPr>
          <a:xfrm>
            <a:off x="200160" y="190440"/>
            <a:ext cx="1400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方位角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80880" y="741240"/>
            <a:ext cx="8763120" cy="2043720"/>
          </a:xfrm>
          <a:prstGeom prst="rect">
            <a:avLst/>
          </a:prstGeom>
          <a:solidFill>
            <a:srgbClr val="ffff99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问题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笔直的海岸线上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,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测站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正西方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AB=2km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得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北偏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得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北偏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海岸线的距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3200400" y="548640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200400" y="4114800"/>
            <a:ext cx="17524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4952880" y="4114800"/>
            <a:ext cx="11430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152280" y="3049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152280" y="2728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304920" y="76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814840" y="51814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6326640" y="5334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726440" y="3733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 flipV="1">
            <a:off x="3200400" y="46483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 flipV="1">
            <a:off x="6172200" y="472392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3200400" y="5486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6172200" y="5562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5486400" y="57150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 flipH="1">
            <a:off x="3200040" y="57150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3888000" y="53341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k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9"/>
          <p:cNvSpPr/>
          <p:nvPr/>
        </p:nvSpPr>
        <p:spPr>
          <a:xfrm>
            <a:off x="3200400" y="5257800"/>
            <a:ext cx="152280" cy="76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0"/>
          <p:cNvSpPr/>
          <p:nvPr/>
        </p:nvSpPr>
        <p:spPr>
          <a:xfrm>
            <a:off x="5943600" y="5105520"/>
            <a:ext cx="152280" cy="75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3218040" y="4876920"/>
            <a:ext cx="7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5580360" y="4648320"/>
            <a:ext cx="7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4952880" y="411480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4726440" y="54244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52280" y="260280"/>
            <a:ext cx="8839440" cy="2043720"/>
          </a:xfrm>
          <a:prstGeom prst="rect">
            <a:avLst/>
          </a:prstGeom>
          <a:solidFill>
            <a:srgbClr val="ffff99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问题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上有一灯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它周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里处有暗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艘客轮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的速度由西向东航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处测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它的北偏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度的方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行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处又测得灯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它的北偏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度方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客轮不改变方向继续前进有无触礁的危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9" descr=""/>
          <p:cNvPicPr/>
          <p:nvPr/>
        </p:nvPicPr>
        <p:blipFill>
          <a:blip r:embed="rId1"/>
          <a:stretch/>
        </p:blipFill>
        <p:spPr>
          <a:xfrm>
            <a:off x="5257800" y="4038480"/>
            <a:ext cx="3276720" cy="2221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15"/>
          <p:cNvGraphicFramePr/>
          <p:nvPr/>
        </p:nvGraphicFramePr>
        <p:xfrm>
          <a:off x="2590920" y="5943600"/>
          <a:ext cx="57312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943600"/>
                    <a:ext cx="573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3"/>
          <p:cNvGraphicFramePr/>
          <p:nvPr/>
        </p:nvGraphicFramePr>
        <p:xfrm>
          <a:off x="4952880" y="3886200"/>
          <a:ext cx="577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886200"/>
                    <a:ext cx="577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1"/>
          <p:cNvGraphicFramePr/>
          <p:nvPr/>
        </p:nvGraphicFramePr>
        <p:xfrm>
          <a:off x="6019920" y="5943600"/>
          <a:ext cx="64584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5943600"/>
                    <a:ext cx="6458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9"/>
          <p:cNvGraphicFramePr/>
          <p:nvPr/>
        </p:nvGraphicFramePr>
        <p:xfrm>
          <a:off x="3200400" y="5029200"/>
          <a:ext cx="68580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5029200"/>
                    <a:ext cx="6858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7"/>
          <p:cNvGraphicFramePr/>
          <p:nvPr/>
        </p:nvGraphicFramePr>
        <p:xfrm>
          <a:off x="5583240" y="4572000"/>
          <a:ext cx="81756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3240" y="4572000"/>
                    <a:ext cx="81756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Group 4"/>
          <p:cNvGrpSpPr/>
          <p:nvPr/>
        </p:nvGrpSpPr>
        <p:grpSpPr>
          <a:xfrm>
            <a:off x="2666880" y="3200040"/>
            <a:ext cx="4343040" cy="3390840"/>
            <a:chOff x="2666880" y="3200040"/>
            <a:chExt cx="4343040" cy="3390840"/>
          </a:xfrm>
        </p:grpSpPr>
        <p:sp>
          <p:nvSpPr>
            <p:cNvPr id="99" name="Line 24"/>
            <p:cNvSpPr/>
            <p:nvPr/>
          </p:nvSpPr>
          <p:spPr>
            <a:xfrm flipV="1">
              <a:off x="3196080" y="3200040"/>
              <a:ext cx="1440" cy="28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3"/>
            <p:cNvSpPr/>
            <p:nvPr/>
          </p:nvSpPr>
          <p:spPr>
            <a:xfrm flipV="1">
              <a:off x="6287760" y="3967200"/>
              <a:ext cx="1800" cy="20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>
              <a:off x="3196080" y="6005880"/>
              <a:ext cx="308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1"/>
            <p:cNvSpPr/>
            <p:nvPr/>
          </p:nvSpPr>
          <p:spPr>
            <a:xfrm>
              <a:off x="5486040" y="4574160"/>
              <a:ext cx="816120" cy="141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0"/>
            <p:cNvSpPr/>
            <p:nvPr/>
          </p:nvSpPr>
          <p:spPr>
            <a:xfrm flipH="1">
              <a:off x="3211200" y="4617720"/>
              <a:ext cx="229896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rc 19"/>
            <p:cNvSpPr/>
            <p:nvPr/>
          </p:nvSpPr>
          <p:spPr>
            <a:xfrm>
              <a:off x="3218760" y="5762880"/>
              <a:ext cx="189360" cy="23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rc 18"/>
            <p:cNvSpPr/>
            <p:nvPr/>
          </p:nvSpPr>
          <p:spPr>
            <a:xfrm rot="17931600">
              <a:off x="6147360" y="5684400"/>
              <a:ext cx="200160" cy="19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2666880" y="3214080"/>
              <a:ext cx="570960" cy="66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6"/>
            <p:cNvSpPr/>
            <p:nvPr/>
          </p:nvSpPr>
          <p:spPr>
            <a:xfrm>
              <a:off x="6439320" y="3852720"/>
              <a:ext cx="570600" cy="66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2724840" y="5738760"/>
              <a:ext cx="458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5295600" y="4005000"/>
              <a:ext cx="45972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0"/>
            <p:cNvSpPr/>
            <p:nvPr/>
          </p:nvSpPr>
          <p:spPr>
            <a:xfrm>
              <a:off x="6238080" y="5829480"/>
              <a:ext cx="459720" cy="63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8"/>
            <p:cNvSpPr/>
            <p:nvPr/>
          </p:nvSpPr>
          <p:spPr>
            <a:xfrm>
              <a:off x="3210480" y="4795560"/>
              <a:ext cx="60300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6"/>
            <p:cNvSpPr/>
            <p:nvPr/>
          </p:nvSpPr>
          <p:spPr>
            <a:xfrm>
              <a:off x="5810400" y="4521960"/>
              <a:ext cx="57888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5"/>
            <p:cNvSpPr/>
            <p:nvPr/>
          </p:nvSpPr>
          <p:spPr>
            <a:xfrm>
              <a:off x="4447800" y="5922000"/>
              <a:ext cx="1428480" cy="66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km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1043280" y="25920"/>
            <a:ext cx="6896520" cy="3018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习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镇相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k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小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偏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，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的北偏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．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测，发现小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k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圆形区域内储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煤炭，有关部门规定，该区域内禁止建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路．现计划修筑连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镇的一条笔直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路，试分析这条公路是否会经过该区域？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-3255840" y="30114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9"/>
          <p:cNvSpPr/>
          <p:nvPr/>
        </p:nvSpPr>
        <p:spPr>
          <a:xfrm>
            <a:off x="-3255840" y="3173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-3255840" y="3354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1"/>
          <p:cNvSpPr/>
          <p:nvPr/>
        </p:nvSpPr>
        <p:spPr>
          <a:xfrm>
            <a:off x="-3255840" y="3516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2"/>
          <p:cNvSpPr/>
          <p:nvPr/>
        </p:nvSpPr>
        <p:spPr>
          <a:xfrm>
            <a:off x="-3255840" y="37162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7"/>
          <p:cNvSpPr/>
          <p:nvPr/>
        </p:nvSpPr>
        <p:spPr>
          <a:xfrm>
            <a:off x="1001880" y="317880"/>
            <a:ext cx="7103880" cy="2531160"/>
          </a:xfrm>
          <a:prstGeom prst="rect">
            <a:avLst/>
          </a:prstGeom>
          <a:solidFill>
            <a:srgbClr val="ffff99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习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象局发出预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沙尘暴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正东方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0k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km/h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速度向北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向转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沙尘暴中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k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范围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受到影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市是否受到这次沙尘暴的影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受到影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持续多长时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4119480" y="3675240"/>
            <a:ext cx="1800" cy="34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2709720" y="6056280"/>
            <a:ext cx="3408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3137040" y="4379760"/>
            <a:ext cx="2624040" cy="1676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5943600" y="6095880"/>
            <a:ext cx="498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5343480" y="5315040"/>
            <a:ext cx="105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60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5583240" y="4282920"/>
            <a:ext cx="893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3733920" y="6019920"/>
            <a:ext cx="498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5"/>
          <p:cNvGrpSpPr/>
          <p:nvPr/>
        </p:nvGrpSpPr>
        <p:grpSpPr>
          <a:xfrm>
            <a:off x="2209680" y="3048120"/>
            <a:ext cx="3543480" cy="4127040"/>
            <a:chOff x="2209680" y="3048120"/>
            <a:chExt cx="3543480" cy="4127040"/>
          </a:xfrm>
        </p:grpSpPr>
        <p:sp>
          <p:nvSpPr>
            <p:cNvPr id="129" name="Line 8"/>
            <p:cNvSpPr/>
            <p:nvPr/>
          </p:nvSpPr>
          <p:spPr>
            <a:xfrm>
              <a:off x="5753160" y="5442120"/>
              <a:ext cx="0" cy="173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7"/>
            <p:cNvSpPr/>
            <p:nvPr/>
          </p:nvSpPr>
          <p:spPr>
            <a:xfrm>
              <a:off x="2209680" y="5651280"/>
              <a:ext cx="501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西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6"/>
            <p:cNvSpPr/>
            <p:nvPr/>
          </p:nvSpPr>
          <p:spPr>
            <a:xfrm>
              <a:off x="4042440" y="3048120"/>
              <a:ext cx="244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北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1-09T03:40:18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