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C9E-76C1-4295-AFBF-E60206BC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437-287B-4C71-9F9A-4485B972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325-CD73-4F49-B016-FD934009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60F-05C8-4BE3-B7DF-022B1330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106-AD57-4C3C-9480-466D7CDD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325-1217-40D0-A531-5D95A92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842-3EF4-4773-A287-45020453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39C-2ED1-42CC-B2F0-1661B8E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04E-DDA1-43DE-B857-44D2EB8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AE0-8B6E-469C-915F-79B65E09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6C1-34F0-4E0F-96C9-71CED34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AF4-5E0B-422B-A332-E7D854E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9C6-BAAC-4539-8286-3BD9FD72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95280" y="23605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.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锐角三角函数的简单应用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433280" y="500040"/>
            <a:ext cx="12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83560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984960" y="92880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课前准备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400560" y="16905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400560" y="2757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0"/>
          <p:cNvGrpSpPr/>
          <p:nvPr/>
        </p:nvGrpSpPr>
        <p:grpSpPr>
          <a:xfrm>
            <a:off x="3629160" y="2293920"/>
            <a:ext cx="1171080" cy="520560"/>
            <a:chOff x="3629160" y="2293920"/>
            <a:chExt cx="1171080" cy="520560"/>
          </a:xfrm>
        </p:grpSpPr>
        <p:sp>
          <p:nvSpPr>
            <p:cNvPr id="50" name="Line 11"/>
            <p:cNvSpPr/>
            <p:nvPr/>
          </p:nvSpPr>
          <p:spPr>
            <a:xfrm flipH="1">
              <a:off x="3629160" y="252900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3"/>
            <p:cNvSpPr/>
            <p:nvPr/>
          </p:nvSpPr>
          <p:spPr>
            <a:xfrm>
              <a:off x="3979440" y="2293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仰角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2"/>
          <p:cNvGrpSpPr/>
          <p:nvPr/>
        </p:nvGrpSpPr>
        <p:grpSpPr>
          <a:xfrm>
            <a:off x="3705120" y="2674800"/>
            <a:ext cx="1101600" cy="520560"/>
            <a:chOff x="3705120" y="2674800"/>
            <a:chExt cx="1101600" cy="520560"/>
          </a:xfrm>
        </p:grpSpPr>
        <p:sp>
          <p:nvSpPr>
            <p:cNvPr id="53" name="Line 12"/>
            <p:cNvSpPr/>
            <p:nvPr/>
          </p:nvSpPr>
          <p:spPr>
            <a:xfrm>
              <a:off x="3705120" y="27572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3985920" y="2674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俯角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1"/>
          <p:cNvGrpSpPr/>
          <p:nvPr/>
        </p:nvGrpSpPr>
        <p:grpSpPr>
          <a:xfrm>
            <a:off x="3400560" y="2757600"/>
            <a:ext cx="2778120" cy="1414080"/>
            <a:chOff x="3400560" y="2757600"/>
            <a:chExt cx="2778120" cy="1414080"/>
          </a:xfrm>
        </p:grpSpPr>
        <p:sp>
          <p:nvSpPr>
            <p:cNvPr id="56" name="Line 10"/>
            <p:cNvSpPr/>
            <p:nvPr/>
          </p:nvSpPr>
          <p:spPr>
            <a:xfrm>
              <a:off x="3400560" y="2757600"/>
              <a:ext cx="190512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5357880" y="3651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视线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7"/>
          <p:cNvSpPr/>
          <p:nvPr/>
        </p:nvSpPr>
        <p:spPr>
          <a:xfrm>
            <a:off x="6642360" y="244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平线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050280" y="2509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9"/>
          <p:cNvGrpSpPr/>
          <p:nvPr/>
        </p:nvGrpSpPr>
        <p:grpSpPr>
          <a:xfrm>
            <a:off x="3411720" y="1358640"/>
            <a:ext cx="2589120" cy="1423440"/>
            <a:chOff x="3411720" y="1358640"/>
            <a:chExt cx="2589120" cy="1423440"/>
          </a:xfrm>
        </p:grpSpPr>
        <p:sp>
          <p:nvSpPr>
            <p:cNvPr id="61" name="Line 9"/>
            <p:cNvSpPr/>
            <p:nvPr/>
          </p:nvSpPr>
          <p:spPr>
            <a:xfrm flipV="1">
              <a:off x="3411720" y="1706040"/>
              <a:ext cx="1701720" cy="107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 rot="21430800">
              <a:off x="5167800" y="13784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视线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5"/>
          <p:cNvSpPr/>
          <p:nvPr/>
        </p:nvSpPr>
        <p:spPr>
          <a:xfrm>
            <a:off x="1649160" y="4076640"/>
            <a:ext cx="5624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当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观测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目标时，视线与水平线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成的锐角称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仰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1649160" y="5300640"/>
            <a:ext cx="5624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当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观测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目标时，视线与水平线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成的锐角称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俯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3"/>
          <p:cNvSpPr/>
          <p:nvPr/>
        </p:nvSpPr>
        <p:spPr>
          <a:xfrm>
            <a:off x="179280" y="915840"/>
            <a:ext cx="27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情境创设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900000" y="260280"/>
            <a:ext cx="6243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8"/>
          <p:cNvSpPr/>
          <p:nvPr/>
        </p:nvSpPr>
        <p:spPr>
          <a:xfrm>
            <a:off x="324000" y="1413000"/>
            <a:ext cx="79912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气球的探测器显示，从热气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栋高楼顶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仰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看这栋高楼底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俯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若热气球与高楼的水平距离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这栋高楼有多高？（结果保留整数，  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4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7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59"/>
          <p:cNvGraphicFramePr/>
          <p:nvPr/>
        </p:nvGraphicFramePr>
        <p:xfrm>
          <a:off x="5564160" y="3557520"/>
          <a:ext cx="60804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59" descr="学科网(www.zxxk.com)--教育资源门户，提供试卷、教案、课件、论文、素材及各类教学资源下载，还有大量而丰富的教学相关资讯！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4160" y="3557520"/>
                    <a:ext cx="6080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60"/>
          <p:cNvGraphicFramePr/>
          <p:nvPr/>
        </p:nvGraphicFramePr>
        <p:xfrm>
          <a:off x="7667640" y="3500280"/>
          <a:ext cx="608040" cy="5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60" descr="学科网(www.zxxk.com)--教育资源门户，提供试卷、教案、课件、论文、素材及各类教学资源下载，还有大量而丰富的教学相关资讯！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3500280"/>
                    <a:ext cx="60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61" descr=""/>
          <p:cNvPicPr/>
          <p:nvPr/>
        </p:nvPicPr>
        <p:blipFill>
          <a:blip r:embed="rId5"/>
          <a:stretch/>
        </p:blipFill>
        <p:spPr>
          <a:xfrm>
            <a:off x="5148360" y="4019400"/>
            <a:ext cx="287964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3"/>
          <p:cNvSpPr/>
          <p:nvPr/>
        </p:nvSpPr>
        <p:spPr>
          <a:xfrm>
            <a:off x="984960" y="92880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探索活动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95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如图，飞机在距地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空上飞行，先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测得正前方某小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俯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飞行一段距离后，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测得该小岛的俯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求飞机的飞行距离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3354480" y="4270320"/>
            <a:ext cx="306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6"/>
          <p:cNvSpPr/>
          <p:nvPr/>
        </p:nvSpPr>
        <p:spPr>
          <a:xfrm>
            <a:off x="380880" y="1371600"/>
            <a:ext cx="5867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80880" y="981000"/>
            <a:ext cx="8007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海船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的速度向正东方向行驶，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看见灯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海船的北偏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后船行驶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，发现此时灯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海船的北偏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，求此时灯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距离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43280" y="3960720"/>
            <a:ext cx="36766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131760" y="843120"/>
            <a:ext cx="26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例题讲解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79280" y="1484280"/>
            <a:ext cx="864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　怎样测量停留在空中的气球高度呢？明明设计了这样一个方案：先站在地面上某点处观测气球，测得仰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他向气球方向前进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此时观测气球，测得仰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若明明的眼睛离地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如何计算气球的高度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4094280" y="3860640"/>
            <a:ext cx="4606920" cy="2914920"/>
            <a:chOff x="4094280" y="3860640"/>
            <a:chExt cx="4606920" cy="2914920"/>
          </a:xfrm>
        </p:grpSpPr>
        <p:sp>
          <p:nvSpPr>
            <p:cNvPr id="85" name="AutoShape 7"/>
            <p:cNvSpPr/>
            <p:nvPr/>
          </p:nvSpPr>
          <p:spPr>
            <a:xfrm>
              <a:off x="4094280" y="3860640"/>
              <a:ext cx="4606920" cy="29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8048520" y="5803920"/>
              <a:ext cx="139680" cy="190440"/>
            </a:xfrm>
            <a:custGeom>
              <a:avLst/>
              <a:gdLst/>
              <a:ahLst/>
              <a:rect l="l" t="t" r="r" b="b"/>
              <a:pathLst>
                <a:path w="88" h="120">
                  <a:moveTo>
                    <a:pt x="88" y="0"/>
                  </a:moveTo>
                  <a:lnTo>
                    <a:pt x="44" y="120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8048520" y="4381560"/>
              <a:ext cx="139680" cy="190440"/>
            </a:xfrm>
            <a:custGeom>
              <a:avLst/>
              <a:gdLst/>
              <a:ahLst/>
              <a:rect l="l" t="t" r="r" b="b"/>
              <a:pathLst>
                <a:path w="88" h="120">
                  <a:moveTo>
                    <a:pt x="0" y="120"/>
                  </a:moveTo>
                  <a:lnTo>
                    <a:pt x="44" y="0"/>
                  </a:lnTo>
                  <a:lnTo>
                    <a:pt x="88" y="120"/>
                  </a:lnTo>
                  <a:lnTo>
                    <a:pt x="44" y="64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7748640" y="6167520"/>
              <a:ext cx="190440" cy="139680"/>
            </a:xfrm>
            <a:custGeom>
              <a:avLst/>
              <a:gdLst/>
              <a:ahLst/>
              <a:rect l="l" t="t" r="r" b="b"/>
              <a:pathLst>
                <a:path w="120" h="88">
                  <a:moveTo>
                    <a:pt x="0" y="0"/>
                  </a:moveTo>
                  <a:lnTo>
                    <a:pt x="120" y="44"/>
                  </a:lnTo>
                  <a:lnTo>
                    <a:pt x="0" y="88"/>
                  </a:lnTo>
                  <a:lnTo>
                    <a:pt x="5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>
              <a:off x="6611760" y="6149880"/>
              <a:ext cx="192240" cy="13968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88"/>
                  </a:moveTo>
                  <a:lnTo>
                    <a:pt x="0" y="44"/>
                  </a:lnTo>
                  <a:lnTo>
                    <a:pt x="121" y="0"/>
                  </a:lnTo>
                  <a:lnTo>
                    <a:pt x="64" y="44"/>
                  </a:lnTo>
                  <a:lnTo>
                    <a:pt x="12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>
              <a:off x="4587840" y="6167520"/>
              <a:ext cx="190440" cy="139680"/>
            </a:xfrm>
            <a:custGeom>
              <a:avLst/>
              <a:gdLst/>
              <a:ahLst/>
              <a:rect l="l" t="t" r="r" b="b"/>
              <a:pathLst>
                <a:path w="120" h="88">
                  <a:moveTo>
                    <a:pt x="120" y="88"/>
                  </a:moveTo>
                  <a:lnTo>
                    <a:pt x="0" y="44"/>
                  </a:lnTo>
                  <a:lnTo>
                    <a:pt x="120" y="0"/>
                  </a:lnTo>
                  <a:lnTo>
                    <a:pt x="64" y="44"/>
                  </a:lnTo>
                  <a:lnTo>
                    <a:pt x="12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6386400" y="6140520"/>
              <a:ext cx="190440" cy="139680"/>
            </a:xfrm>
            <a:custGeom>
              <a:avLst/>
              <a:gdLst/>
              <a:ahLst/>
              <a:rect l="l" t="t" r="r" b="b"/>
              <a:pathLst>
                <a:path w="120" h="88">
                  <a:moveTo>
                    <a:pt x="0" y="0"/>
                  </a:moveTo>
                  <a:lnTo>
                    <a:pt x="120" y="44"/>
                  </a:lnTo>
                  <a:lnTo>
                    <a:pt x="0" y="88"/>
                  </a:lnTo>
                  <a:lnTo>
                    <a:pt x="5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6734160" y="5842080"/>
              <a:ext cx="84240" cy="17928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0" y="0"/>
                  </a:moveTo>
                  <a:cubicBezTo>
                    <a:pt x="34" y="28"/>
                    <a:pt x="53" y="70"/>
                    <a:pt x="53" y="113"/>
                  </a:cubicBezTo>
                </a:path>
              </a:pathLst>
            </a:cu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4910040" y="5865840"/>
              <a:ext cx="36720" cy="155520"/>
            </a:xfrm>
            <a:custGeom>
              <a:avLst/>
              <a:gdLst/>
              <a:ahLst/>
              <a:rect l="l" t="t" r="r" b="b"/>
              <a:pathLst>
                <a:path w="23" h="98">
                  <a:moveTo>
                    <a:pt x="0" y="0"/>
                  </a:moveTo>
                  <a:cubicBezTo>
                    <a:pt x="17" y="30"/>
                    <a:pt x="23" y="65"/>
                    <a:pt x="17" y="98"/>
                  </a:cubicBezTo>
                </a:path>
              </a:pathLst>
            </a:cu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4595760" y="6021360"/>
              <a:ext cx="334332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V="1">
              <a:off x="7939080" y="4335120"/>
              <a:ext cx="36360" cy="1685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4595760" y="4335480"/>
              <a:ext cx="3379680" cy="1685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 flipH="1">
              <a:off x="6586560" y="4335480"/>
              <a:ext cx="1388880" cy="1685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>
              <a:off x="6586560" y="6021360"/>
              <a:ext cx="135252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>
              <a:off x="4587840" y="6121440"/>
              <a:ext cx="0" cy="169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>
              <a:off x="6576840" y="6129360"/>
              <a:ext cx="0" cy="1620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>
              <a:off x="7939080" y="6121440"/>
              <a:ext cx="0" cy="1602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>
              <a:off x="4587840" y="6237360"/>
              <a:ext cx="29520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>
              <a:off x="6611760" y="6219720"/>
              <a:ext cx="23364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 flipH="1">
              <a:off x="7705800" y="6237360"/>
              <a:ext cx="23328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>
              <a:off x="6227640" y="6210360"/>
              <a:ext cx="24768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8010360" y="4371840"/>
              <a:ext cx="21600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8002440" y="6013440"/>
              <a:ext cx="223920" cy="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8118360" y="4381560"/>
              <a:ext cx="0" cy="39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V="1">
              <a:off x="8118360" y="5716440"/>
              <a:ext cx="0" cy="277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3"/>
            <p:cNvSpPr/>
            <p:nvPr/>
          </p:nvSpPr>
          <p:spPr>
            <a:xfrm>
              <a:off x="8083080" y="605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4"/>
            <p:cNvSpPr/>
            <p:nvPr/>
          </p:nvSpPr>
          <p:spPr>
            <a:xfrm>
              <a:off x="8082720" y="397044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5"/>
            <p:cNvSpPr/>
            <p:nvPr/>
          </p:nvSpPr>
          <p:spPr>
            <a:xfrm>
              <a:off x="6523920" y="630072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6"/>
            <p:cNvSpPr/>
            <p:nvPr/>
          </p:nvSpPr>
          <p:spPr>
            <a:xfrm>
              <a:off x="4291920" y="587052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7"/>
            <p:cNvSpPr/>
            <p:nvPr/>
          </p:nvSpPr>
          <p:spPr>
            <a:xfrm>
              <a:off x="8106840" y="5010120"/>
              <a:ext cx="520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5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1" lang="zh-CN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8"/>
            <p:cNvSpPr/>
            <p:nvPr/>
          </p:nvSpPr>
          <p:spPr>
            <a:xfrm>
              <a:off x="7067160" y="6040440"/>
              <a:ext cx="501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5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5283720" y="6094440"/>
              <a:ext cx="581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Times New Roman"/>
                </a:rPr>
                <a:t>50m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42"/>
            <p:cNvGrpSpPr/>
            <p:nvPr/>
          </p:nvGrpSpPr>
          <p:grpSpPr>
            <a:xfrm>
              <a:off x="6929280" y="5681520"/>
              <a:ext cx="447120" cy="381240"/>
              <a:chOff x="6929280" y="5681520"/>
              <a:chExt cx="447120" cy="381240"/>
            </a:xfrm>
          </p:grpSpPr>
          <p:sp>
            <p:nvSpPr>
              <p:cNvPr id="118" name="Rectangle 40"/>
              <p:cNvSpPr/>
              <p:nvPr/>
            </p:nvSpPr>
            <p:spPr>
              <a:xfrm>
                <a:off x="6929280" y="568152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1"/>
              <p:cNvSpPr/>
              <p:nvPr/>
            </p:nvSpPr>
            <p:spPr>
              <a:xfrm>
                <a:off x="7249320" y="5681520"/>
                <a:ext cx="127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500" spc="-1" strike="noStrike">
                    <a:solidFill>
                      <a:srgbClr val="000000"/>
                    </a:solidFill>
                    <a:latin typeface="Times New Roman"/>
                  </a:rPr>
                  <a:t>°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45"/>
            <p:cNvGrpSpPr/>
            <p:nvPr/>
          </p:nvGrpSpPr>
          <p:grpSpPr>
            <a:xfrm>
              <a:off x="5216400" y="5681520"/>
              <a:ext cx="447120" cy="381240"/>
              <a:chOff x="5216400" y="5681520"/>
              <a:chExt cx="447120" cy="381240"/>
            </a:xfrm>
          </p:grpSpPr>
          <p:sp>
            <p:nvSpPr>
              <p:cNvPr id="121" name="Rectangle 43"/>
              <p:cNvSpPr/>
              <p:nvPr/>
            </p:nvSpPr>
            <p:spPr>
              <a:xfrm>
                <a:off x="5216400" y="568152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4"/>
              <p:cNvSpPr/>
              <p:nvPr/>
            </p:nvSpPr>
            <p:spPr>
              <a:xfrm>
                <a:off x="5536440" y="5681520"/>
                <a:ext cx="127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500" spc="-1" strike="noStrike">
                    <a:solidFill>
                      <a:srgbClr val="000000"/>
                    </a:solidFill>
                    <a:latin typeface="Times New Roman"/>
                  </a:rPr>
                  <a:t>°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122400" y="915840"/>
            <a:ext cx="26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拓展提高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79280" y="14558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东方山是鄂东南地区的佛教圣地，月亮山是黄荆山脉第二高峰，山顶上有黄石电视塔．据黄石地理资料记载：东方山海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53.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月亮山海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42.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一飞机从东方山到月亮山方向水平飞行，在东方山山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正上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测得月亮山山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俯角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月亮山山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正上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测得东方山山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的俯角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如图，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1598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1584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若飞机的飞行速度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秒，则该飞机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需多少时间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精确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904000" cy="3848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7.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锐角三角函数的简单应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4" descr=""/>
          <p:cNvPicPr/>
          <p:nvPr/>
        </p:nvPicPr>
        <p:blipFill>
          <a:blip r:embed="rId1"/>
          <a:stretch/>
        </p:blipFill>
        <p:spPr>
          <a:xfrm>
            <a:off x="2633760" y="2712960"/>
            <a:ext cx="4614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/>
  <dc:description/>
  <dc:language>en-US</dc:language>
  <cp:lastModifiedBy>Lenovo User</cp:lastModifiedBy>
  <dcterms:modified xsi:type="dcterms:W3CDTF">2015-03-05T10:59:36Z</dcterms:modified>
  <cp:revision>123</cp:revision>
  <dc:subject/>
  <dc:title>幻灯片 1</dc:title>
</cp:coreProperties>
</file>