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70C-FDE9-4810-A521-4CB0C781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B97-B5CA-403E-8A11-5F027757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FA5-C87F-407A-BECE-65B6B9AC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610-7128-472C-B650-A1801807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CC4-AE2C-4126-AAE6-B52D045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531-9166-489F-9A61-699F4ED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22E-5E35-4383-8ABE-B7E4838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0AE-0AA2-4B9E-9FC7-7502746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F5A-2475-4F9C-BAE8-954E4ECE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CE3-FAC3-414F-B77F-93FC07C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BF4-DCA4-40DF-9516-4D46F9B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130-602A-4E40-8644-D2DA07E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987-AFD0-4AC4-A42B-809686AFE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916280"/>
            <a:ext cx="936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7.5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　解直角三角形（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388280" y="50004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692360" y="38419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作　者：徐　亮（赣榆外国语学校）</a:t>
            </a:r>
            <a:r>
              <a:rPr b="1" lang="zh-CN" sz="2400" spc="-1" strike="noStrike">
                <a:solidFill>
                  <a:srgbClr val="336600"/>
                </a:solidFill>
                <a:latin typeface="宋体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83560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33760" y="2712960"/>
            <a:ext cx="4608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84360" y="1341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1439280" y="100008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做一做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928800" y="1785960"/>
            <a:ext cx="664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根据条件，解下列直角三角形：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已知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已知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37200" y="85716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归纳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68360" y="1643040"/>
            <a:ext cx="8107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解直角三角形问题分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一、已知一边一角（锐角和直角边、锐角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斜边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二、已知两边（直角边和斜边、两直角边）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2366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在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000680" y="2643120"/>
            <a:ext cx="4800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解直角三角形问题的前提条件是在直角三角形中，因为本题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是直角三角形，因此要设法构造直角三角形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826920" y="3444840"/>
            <a:ext cx="2592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1"/>
          <p:cNvSpPr/>
          <p:nvPr/>
        </p:nvSpPr>
        <p:spPr>
          <a:xfrm>
            <a:off x="900000" y="132408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内接正五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边长（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961920" y="3127320"/>
            <a:ext cx="2619360" cy="246708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3786120" y="3141720"/>
            <a:ext cx="4962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通过作等腰三角形的高，将等腰三角形转化为直角三角形，借助解直角三角形来解决问题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684360" y="1231920"/>
            <a:ext cx="7775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在平行四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平行四边形的面积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求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圆的内接正八边形的边长（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 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50920" y="70632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能力检测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等腰三角形的周长为，腰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底角等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　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解这个直角三角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求半径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圆的内接正三角形的边长和面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675560" y="2428920"/>
                <a:ext cx="496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1619280" y="4078440"/>
            <a:ext cx="2160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84360" y="1268280"/>
            <a:ext cx="7343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小结</a:t>
            </a:r>
            <a:r>
              <a:rPr b="1" lang="en-US" sz="2800" spc="-1" strike="noStrike">
                <a:solidFill>
                  <a:srgbClr val="336600"/>
                </a:solidFill>
                <a:latin typeface="宋体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通过今天的学习，你学会了什么？你会正确运用吗？通过这节课的学习，你有什么感受呢，说出来告诉大家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39640" y="10335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课后作业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250920" y="1493640"/>
            <a:ext cx="8569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课本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题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思考题（选做）：如图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切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连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交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过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作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为垂足，已知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　 ．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求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8"/>
          <p:cNvGraphicFramePr/>
          <p:nvPr/>
        </p:nvGraphicFramePr>
        <p:xfrm>
          <a:off x="6850080" y="3476520"/>
          <a:ext cx="3571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0080" y="3476520"/>
                    <a:ext cx="357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923760" y="4964040"/>
            <a:ext cx="19796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/>
  <dc:description/>
  <dc:language>en-US</dc:language>
  <cp:lastModifiedBy>罗玉莲</cp:lastModifiedBy>
  <dcterms:modified xsi:type="dcterms:W3CDTF">2015-01-07T08:09:45Z</dcterms:modified>
  <cp:revision>112</cp:revision>
  <dc:subject/>
  <dc:title/>
</cp:coreProperties>
</file>