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0B4-12AA-4308-9C8C-73F387E1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3A9-8812-4750-9CC3-ED9DD32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46A-48F9-48EF-886C-3CD37A7F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360-EA91-49A5-8A0F-C015DCAB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4B4-3B17-43F1-BE2B-5035790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BC0-D36C-4F26-840B-F1C5976F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2D9-F449-4362-9119-F5C84B45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F4E-30B9-4DB6-A2FF-9EEDF10B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404-1797-421A-B1EE-4B2618C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2FF-C9E2-45F5-BEC9-3CBD7F65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96C-9F10-42DF-9252-040103D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6ED-7820-4264-A844-0041940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22D-FC80-4930-8221-72EBE847C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1700280"/>
            <a:ext cx="691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元二次方程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724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怀文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中学</a:t>
            </a: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中学  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数学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4130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关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方程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个根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实数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问题解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404640"/>
            <a:ext cx="3313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堂领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882720" y="23144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转化数学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328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选用一元二次方程的解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414972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确定一元二次方程中字母已知数的值或范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1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元二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720" y="1125360"/>
            <a:ext cx="287280" cy="331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836640"/>
            <a:ext cx="19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9290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7650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6280"/>
            <a:ext cx="68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个要素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式方程，一个未知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高次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162864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形式：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2997360"/>
            <a:ext cx="72720" cy="2184120"/>
          </a:xfrm>
          <a:custGeom>
            <a:avLst/>
            <a:gdLst>
              <a:gd name="textAreaLeft" fmla="*/ 46440 w 72720"/>
              <a:gd name="textAreaRight" fmla="*/ 73080 w 72720"/>
              <a:gd name="textAreaTop" fmla="*/ 56880 h 2184120"/>
              <a:gd name="textAreaBottom" fmla="*/ 2127240 h 218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85264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接开平方法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适应于形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方法：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适应于任何一个一元二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适应于任何一个一元二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式分解法：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适应于左边能分解为两个一次式的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积，右边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581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580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476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思考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33992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方程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元二次方程，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2565360"/>
            <a:ext cx="86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加油，淮北的同学们</a:t>
            </a:r>
            <a:r>
              <a:rPr b="1" lang="en-US" sz="66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8720" y="76032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知识点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628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元二次方程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922480"/>
            <a:ext cx="88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含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未知数，且未知数的最高次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叫做一元二次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437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157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常数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≠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知识梳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1280" y="2852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1200" y="2921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720" y="3641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8720" y="692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知识点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62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元二次方程的解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直接开平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2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配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知识梳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84720" y="4797360"/>
            <a:ext cx="4319640" cy="1176480"/>
            <a:chOff x="4284720" y="4797360"/>
            <a:chExt cx="4319640" cy="1176480"/>
          </a:xfrm>
        </p:grpSpPr>
        <p:graphicFrame>
          <p:nvGraphicFramePr>
            <p:cNvPr id="59" name=""/>
            <p:cNvGraphicFramePr/>
            <p:nvPr/>
          </p:nvGraphicFramePr>
          <p:xfrm>
            <a:off x="5004000" y="4797360"/>
            <a:ext cx="3600360" cy="1176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04000" y="4797360"/>
                      <a:ext cx="360036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4284720" y="5325840"/>
              <a:ext cx="576360" cy="287640"/>
            </a:xfrm>
            <a:prstGeom prst="rightArrow">
              <a:avLst>
                <a:gd name="adj1" fmla="val 50000"/>
                <a:gd name="adj2" fmla="val 5009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572000" y="2421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933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076640"/>
            <a:ext cx="863640" cy="289080"/>
          </a:xfrm>
          <a:prstGeom prst="rightArrow">
            <a:avLst>
              <a:gd name="adj1" fmla="val 50000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3933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2200" y="50864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≠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213372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公式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292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因式分解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692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知识点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1339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元二次方程的解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492280"/>
            <a:ext cx="835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一元二次方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它的根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3255840"/>
            <a:ext cx="3240000" cy="1181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013360"/>
            <a:ext cx="842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•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根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知识梳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63640" y="69228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知识点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341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元二次方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根的情况可由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来判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2160" y="2781360"/>
            <a:ext cx="88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方程有两个不相等的实数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3624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方程没有实数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57012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方程有两个相等的实数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229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把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一元二次方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(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根的判别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44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知识梳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问题解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1557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1557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26920" y="1557360"/>
            <a:ext cx="8713800" cy="1373400"/>
            <a:chOff x="826920" y="1557360"/>
            <a:chExt cx="8713800" cy="1373400"/>
          </a:xfrm>
        </p:grpSpPr>
        <p:sp>
          <p:nvSpPr>
            <p:cNvPr id="87" name=""/>
            <p:cNvSpPr/>
            <p:nvPr/>
          </p:nvSpPr>
          <p:spPr>
            <a:xfrm>
              <a:off x="826920" y="1557360"/>
              <a:ext cx="871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取什么值时，方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2349360"/>
              <a:ext cx="849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两个相等的实数根？求这时方程的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8720" y="1268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两个相等的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852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两个不相等的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63760" y="3716280"/>
            <a:ext cx="54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根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1000" y="5300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根之比为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76360" y="4437000"/>
            <a:ext cx="5473440" cy="665280"/>
            <a:chOff x="1476360" y="4437000"/>
            <a:chExt cx="5473440" cy="665280"/>
          </a:xfrm>
        </p:grpSpPr>
        <p:sp>
          <p:nvSpPr>
            <p:cNvPr id="95" name=""/>
            <p:cNvSpPr/>
            <p:nvPr/>
          </p:nvSpPr>
          <p:spPr>
            <a:xfrm>
              <a:off x="1476360" y="4508280"/>
              <a:ext cx="54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一个根为            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69440" y="4437000"/>
              <a:ext cx="1295640" cy="6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0" y="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问题解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3399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何值时，方程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205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两个相等的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2997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两个不相等的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90760" y="3789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实数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问题解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问题解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2200" y="21319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根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13399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一元二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197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197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2034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9:18:00Z</dcterms:created>
  <dc:creator>江苏省沭阳县怀文中学陈秀珍</dc:creator>
  <dc:description/>
  <cp:keywords/>
  <dc:language>en-US</dc:language>
  <cp:lastModifiedBy>dell</cp:lastModifiedBy>
  <dcterms:modified xsi:type="dcterms:W3CDTF">2013-02-03T02:46:13Z</dcterms:modified>
  <cp:revision>21</cp:revision>
  <dc:subject>一元二次方程复习课</dc:subject>
  <dc:title>一元二次方程复习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