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50.wmf" ContentType="image/x-wmf"/>
  <Override PartName="/ppt/media/image1.jpeg" ContentType="image/jpeg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5.wmf" ContentType="image/x-wmf"/>
  <Override PartName="/ppt/media/image2.gif" ContentType="image/gif"/>
  <Override PartName="/ppt/media/image74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75.jpeg" ContentType="image/jpeg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7.wmf" ContentType="image/x-wmf"/>
  <Override PartName="/ppt/media/image64.wmf" ContentType="image/x-wmf"/>
  <Override PartName="/ppt/media/image63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AEF-3DCF-4D36-AC41-67BB39F7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445-2713-492F-9907-7B47588C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65F-6CB1-47CA-BA8C-C67967C0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08D-386E-42F2-864C-AA563DA5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A83-FFAA-4244-9CC6-5A17A6E3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E4F-98E1-4107-9400-5967AB80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2D1-ACD4-405A-8773-D0C59142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A20-79EF-4B79-AD81-5209780A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DEC-680F-435B-9575-C513A500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A0C-A08C-42FA-88BF-8D1C307C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DA7-7648-4E75-A774-2BD76EE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602-F804-4FB7-AED9-A59409B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BBCD-AB06-4304-A53E-91709AEFAD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2.wmf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image" Target="../media/image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image" Target="../media/image1.jpe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.wmf"/><Relationship Id="rId20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4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7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125360"/>
            <a:ext cx="741708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二次根式复习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4000" y="1413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84360" y="476280"/>
            <a:ext cx="496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840360" y="549360"/>
            <a:ext cx="230364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11280" y="0"/>
            <a:ext cx="273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213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4797360"/>
          <a:ext cx="6337440" cy="10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797360"/>
                    <a:ext cx="6337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9417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549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03280" y="3213000"/>
          <a:ext cx="475308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3213000"/>
                    <a:ext cx="4753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476360" y="981000"/>
          <a:ext cx="4175280" cy="15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981000"/>
                    <a:ext cx="41752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我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907920"/>
            <a:ext cx="105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各式中与      是同类二次根式的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492360" y="981000"/>
                <a:ext cx="611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8360" y="1963800"/>
                <a:ext cx="12812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、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847960" y="1892160"/>
                <a:ext cx="1224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、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03640" y="1700280"/>
                <a:ext cx="1224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、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020000" y="1844640"/>
                <a:ext cx="1141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、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95280" y="2924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运算中错误的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（ </a:t>
            </a:r>
            <a:r>
              <a:rPr b="0" lang="zh-CN" sz="3200" spc="-1" strike="noStrike">
                <a:solidFill>
                  <a:srgbClr val="f71535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116000" y="3645000"/>
                <a:ext cx="2808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、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076720" y="3213000"/>
                <a:ext cx="3527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、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87280" y="4653000"/>
                <a:ext cx="345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、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242" name=""/>
          <p:cNvGraphicFramePr/>
          <p:nvPr/>
        </p:nvGraphicFramePr>
        <p:xfrm>
          <a:off x="5076720" y="4365720"/>
          <a:ext cx="359892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4365720"/>
                    <a:ext cx="3598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8101080" y="9079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26920" y="1197000"/>
            <a:ext cx="33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3664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4292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805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4360" y="836640"/>
            <a:ext cx="7848000" cy="1512360"/>
            <a:chOff x="684360" y="836640"/>
            <a:chExt cx="7848000" cy="1512360"/>
          </a:xfrm>
        </p:grpSpPr>
        <p:sp>
          <p:nvSpPr>
            <p:cNvPr id="252" name=""/>
            <p:cNvSpPr/>
            <p:nvPr/>
          </p:nvSpPr>
          <p:spPr>
            <a:xfrm>
              <a:off x="684360" y="836640"/>
              <a:ext cx="78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下列各式不是二次根式的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        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3" name=""/>
            <p:cNvGraphicFramePr/>
            <p:nvPr/>
          </p:nvGraphicFramePr>
          <p:xfrm>
            <a:off x="1686240" y="1526760"/>
            <a:ext cx="918000" cy="616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6240" y="1526760"/>
                      <a:ext cx="918000" cy="61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3352320" y="1526760"/>
            <a:ext cx="1092240" cy="616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52320" y="1526760"/>
                      <a:ext cx="1092240" cy="61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5036400" y="1498320"/>
            <a:ext cx="1065960" cy="673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36400" y="1498320"/>
                      <a:ext cx="1065960" cy="67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"/>
            <p:cNvGraphicFramePr/>
            <p:nvPr/>
          </p:nvGraphicFramePr>
          <p:xfrm>
            <a:off x="6730560" y="1321200"/>
            <a:ext cx="1017720" cy="1027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730560" y="1321200"/>
                      <a:ext cx="1017720" cy="102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1" name=""/>
          <p:cNvGraphicFramePr/>
          <p:nvPr/>
        </p:nvGraphicFramePr>
        <p:xfrm>
          <a:off x="6227640" y="907920"/>
          <a:ext cx="59868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27640" y="907920"/>
                    <a:ext cx="5986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093080" y="4869000"/>
          <a:ext cx="1079280" cy="64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93080" y="4869000"/>
                    <a:ext cx="1079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916360" y="2924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2205000"/>
            <a:ext cx="8099280" cy="2235240"/>
            <a:chOff x="0" y="2205000"/>
            <a:chExt cx="8099280" cy="2235240"/>
          </a:xfrm>
        </p:grpSpPr>
        <p:sp>
          <p:nvSpPr>
            <p:cNvPr id="267" name=""/>
            <p:cNvSpPr/>
            <p:nvPr/>
          </p:nvSpPr>
          <p:spPr>
            <a:xfrm>
              <a:off x="0" y="2421000"/>
              <a:ext cx="104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971640" y="2205000"/>
              <a:ext cx="7127640" cy="2235240"/>
              <a:chOff x="971640" y="2205000"/>
              <a:chExt cx="7127640" cy="2235240"/>
            </a:xfrm>
          </p:grpSpPr>
          <p:graphicFrame>
            <p:nvGraphicFramePr>
              <p:cNvPr id="269" name=""/>
              <p:cNvGraphicFramePr/>
              <p:nvPr/>
            </p:nvGraphicFramePr>
            <p:xfrm>
              <a:off x="971640" y="2205000"/>
              <a:ext cx="7127640" cy="22352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971640" y="2205000"/>
                        <a:ext cx="7127640" cy="2235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00720" y="3787560"/>
              <a:ext cx="1440000" cy="64764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6300720" y="3787560"/>
                        <a:ext cx="1440000" cy="64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0" y="4653000"/>
            <a:ext cx="8139240" cy="1284840"/>
            <a:chOff x="0" y="4653000"/>
            <a:chExt cx="8139240" cy="1284840"/>
          </a:xfrm>
        </p:grpSpPr>
        <p:sp>
          <p:nvSpPr>
            <p:cNvPr id="274" name=""/>
            <p:cNvSpPr/>
            <p:nvPr/>
          </p:nvSpPr>
          <p:spPr>
            <a:xfrm>
              <a:off x="0" y="4869000"/>
              <a:ext cx="107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116000" y="4653000"/>
              <a:ext cx="7023240" cy="958680"/>
              <a:chOff x="1116000" y="4653000"/>
              <a:chExt cx="7023240" cy="958680"/>
            </a:xfrm>
          </p:grpSpPr>
          <p:graphicFrame>
            <p:nvGraphicFramePr>
              <p:cNvPr id="276" name=""/>
              <p:cNvGraphicFramePr/>
              <p:nvPr/>
            </p:nvGraphicFramePr>
            <p:xfrm>
              <a:off x="1116000" y="4653000"/>
              <a:ext cx="5676840" cy="93960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77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1116000" y="4653000"/>
                        <a:ext cx="5676840" cy="93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8" name=""/>
              <p:cNvSpPr/>
              <p:nvPr/>
            </p:nvSpPr>
            <p:spPr>
              <a:xfrm>
                <a:off x="7059600" y="561168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0" y="549360"/>
          <a:ext cx="9144000" cy="21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360"/>
                    <a:ext cx="914400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547640" y="2060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a19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1268280"/>
            <a:ext cx="153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195640" y="1628640"/>
          <a:ext cx="934920" cy="80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1628640"/>
                    <a:ext cx="9349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"/>
          <p:cNvGrpSpPr/>
          <p:nvPr/>
        </p:nvGrpSpPr>
        <p:grpSpPr>
          <a:xfrm>
            <a:off x="0" y="3357720"/>
            <a:ext cx="8713800" cy="2016000"/>
            <a:chOff x="0" y="3357720"/>
            <a:chExt cx="8713800" cy="2016000"/>
          </a:xfrm>
        </p:grpSpPr>
        <p:graphicFrame>
          <p:nvGraphicFramePr>
            <p:cNvPr id="289" name=""/>
            <p:cNvGraphicFramePr/>
            <p:nvPr/>
          </p:nvGraphicFramePr>
          <p:xfrm>
            <a:off x="0" y="3357720"/>
            <a:ext cx="8713800" cy="20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0" y="3357720"/>
                      <a:ext cx="8713800" cy="20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1368360" y="479880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1a19"/>
                  </a:solidFill>
                  <a:latin typeface="Arial"/>
                </a:rPr>
                <a:t>____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1979640" y="4292640"/>
          <a:ext cx="741240" cy="108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4292640"/>
                    <a:ext cx="7412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549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340000" y="0"/>
          <a:ext cx="540072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0"/>
                    <a:ext cx="540072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340000" y="1628640"/>
          <a:ext cx="5400720" cy="187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28640"/>
                    <a:ext cx="540072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411280" y="3500280"/>
          <a:ext cx="5616720" cy="180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3500280"/>
                    <a:ext cx="56167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340000" y="5229360"/>
          <a:ext cx="4753080" cy="162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5229360"/>
                    <a:ext cx="47530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11360" y="3639960"/>
          <a:ext cx="35305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3639960"/>
                    <a:ext cx="3530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9280" y="404640"/>
            <a:ext cx="57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化简，再求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635280" y="0"/>
          <a:ext cx="5292720" cy="151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5280" y="0"/>
                    <a:ext cx="5292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341360"/>
                    <a:ext cx="9144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95280" y="404640"/>
            <a:ext cx="316872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挑战自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733920" y="185436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854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55640" y="2060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大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700360" y="1916280"/>
          <a:ext cx="4896000" cy="289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1916280"/>
                    <a:ext cx="489600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63640" y="134136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通过本课的复习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有哪些收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39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47640" y="141300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：课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1197000"/>
            <a:ext cx="80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a19"/>
                </a:solidFill>
                <a:latin typeface="Arial"/>
              </a:rPr>
              <a:t>形如</a:t>
            </a:r>
            <a:r>
              <a:rPr b="1" lang="zh-CN" sz="2800" spc="-1" strike="noStrike">
                <a:solidFill>
                  <a:srgbClr val="001a19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1a19"/>
                </a:solidFill>
                <a:latin typeface="Arial"/>
              </a:rPr>
              <a:t>的式子叫做二次根式， 叫做被开方数。     可以是数，也可以是式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341360"/>
            <a:ext cx="115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340000" y="1125360"/>
          <a:ext cx="1388880" cy="6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125360"/>
                    <a:ext cx="13888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619280" y="981000"/>
          <a:ext cx="806400" cy="76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981000"/>
                    <a:ext cx="806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24000" y="33336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次根式的概念及意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31320" y="242100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次根式表示一个非负数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349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算数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164360" y="1197000"/>
          <a:ext cx="511200" cy="59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4360" y="1197000"/>
                    <a:ext cx="5112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268360" y="1628640"/>
          <a:ext cx="511200" cy="590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1628640"/>
                    <a:ext cx="5112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次根式的概念及意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1280" y="2997360"/>
            <a:ext cx="7777080" cy="3112920"/>
            <a:chOff x="611280" y="2997360"/>
            <a:chExt cx="7777080" cy="3112920"/>
          </a:xfrm>
        </p:grpSpPr>
        <p:grpSp>
          <p:nvGrpSpPr>
            <p:cNvPr id="60" name=""/>
            <p:cNvGrpSpPr/>
            <p:nvPr/>
          </p:nvGrpSpPr>
          <p:grpSpPr>
            <a:xfrm>
              <a:off x="1560600" y="4438800"/>
              <a:ext cx="5105520" cy="1671480"/>
              <a:chOff x="1560600" y="4438800"/>
              <a:chExt cx="5105520" cy="1671480"/>
            </a:xfrm>
          </p:grpSpPr>
          <mc:AlternateContent>
            <mc:Choice xmlns:a14="http://schemas.microsoft.com/office/drawing/2010/main" Requires="a14">
              <p:sp>
                <p:nvSpPr>
                  <p:cNvPr id="61" name=""/>
                  <p:cNvSpPr txBox="1"/>
                  <p:nvPr/>
                </p:nvSpPr>
                <p:spPr>
                  <a:xfrm>
                    <a:off x="1560600" y="4438800"/>
                    <a:ext cx="762120" cy="663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3389400" y="4515120"/>
                    <a:ext cx="99072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63" name=""/>
              <p:cNvGraphicFramePr/>
              <p:nvPr/>
            </p:nvGraphicFramePr>
            <p:xfrm>
              <a:off x="5346720" y="4550040"/>
              <a:ext cx="657360" cy="6397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346720" y="4550040"/>
                        <a:ext cx="657360" cy="63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3541680" y="5505480"/>
                    <a:ext cx="838440" cy="60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4837320" y="5429520"/>
                    <a:ext cx="1828800" cy="68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67" name=""/>
              <p:cNvGraphicFramePr/>
              <p:nvPr/>
            </p:nvGraphicFramePr>
            <p:xfrm>
              <a:off x="1851120" y="5519880"/>
              <a:ext cx="7128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851120" y="5519880"/>
                        <a:ext cx="7128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9" name=""/>
            <p:cNvSpPr/>
            <p:nvPr/>
          </p:nvSpPr>
          <p:spPr>
            <a:xfrm>
              <a:off x="611280" y="2997360"/>
              <a:ext cx="77770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针对训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71640" y="3573360"/>
              <a:ext cx="705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7080f"/>
                  </a:solidFill>
                  <a:latin typeface="楷体_GB2312"/>
                  <a:ea typeface="楷体_GB2312"/>
                </a:rPr>
                <a:t>判断下列各式哪些是二次根式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41720" y="2476440"/>
          <a:ext cx="4698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2476440"/>
                    <a:ext cx="469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330960" y="2482920"/>
          <a:ext cx="6732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2482920"/>
                    <a:ext cx="673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241720" y="4816440"/>
          <a:ext cx="4698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4816440"/>
                    <a:ext cx="469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3646440"/>
          <a:ext cx="46980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646440"/>
                    <a:ext cx="469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3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 </a:t>
            </a:r>
            <a:r>
              <a:rPr b="1" lang="zh-CN" sz="2800" spc="-1" strike="noStrike">
                <a:solidFill>
                  <a:srgbClr val="001a19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次根式                在实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范围内有意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00000" y="260280"/>
          <a:ext cx="2232000" cy="531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260280"/>
                    <a:ext cx="22320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0" y="1989000"/>
            <a:ext cx="8496360" cy="1734120"/>
            <a:chOff x="0" y="1989000"/>
            <a:chExt cx="8496360" cy="1734120"/>
          </a:xfrm>
        </p:grpSpPr>
        <p:sp>
          <p:nvSpPr>
            <p:cNvPr id="85" name=""/>
            <p:cNvSpPr/>
            <p:nvPr/>
          </p:nvSpPr>
          <p:spPr>
            <a:xfrm>
              <a:off x="0" y="2349360"/>
              <a:ext cx="8496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如果代数式                       有意义，那么平面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角坐标系内的点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在第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象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2268360" y="1989000"/>
            <a:ext cx="2089440" cy="1380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68360" y="1989000"/>
                      <a:ext cx="2089440" cy="13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" name=""/>
          <p:cNvSpPr/>
          <p:nvPr/>
        </p:nvSpPr>
        <p:spPr>
          <a:xfrm>
            <a:off x="4859280" y="3141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92720" y="0"/>
          <a:ext cx="1451160" cy="1389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0"/>
                    <a:ext cx="145116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0" y="4149720"/>
            <a:ext cx="8064360" cy="2492280"/>
            <a:chOff x="0" y="4149720"/>
            <a:chExt cx="8064360" cy="2492280"/>
          </a:xfrm>
        </p:grpSpPr>
        <p:graphicFrame>
          <p:nvGraphicFramePr>
            <p:cNvPr id="92" name=""/>
            <p:cNvGraphicFramePr/>
            <p:nvPr/>
          </p:nvGraphicFramePr>
          <p:xfrm>
            <a:off x="0" y="4149720"/>
            <a:ext cx="8064360" cy="24922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0" y="4149720"/>
                      <a:ext cx="8064360" cy="24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2234880" y="600480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a19"/>
                  </a:solidFill>
                  <a:latin typeface="Arial"/>
                </a:rPr>
                <a:t>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2340000" y="4941720"/>
          <a:ext cx="1224000" cy="1335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40000" y="4941720"/>
                    <a:ext cx="12240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404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二次根式的非负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84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次根式         表示非负数    的算术平方根，因此其具有非负性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84360" y="1700280"/>
          <a:ext cx="733680" cy="69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700280"/>
                    <a:ext cx="73368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932360" y="1916280"/>
          <a:ext cx="38592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1916280"/>
                    <a:ext cx="3859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635280" y="2205000"/>
          <a:ext cx="1428840" cy="69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2205000"/>
                    <a:ext cx="14288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783240" y="2492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a19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997360"/>
            <a:ext cx="3456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针对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3789360"/>
          <a:ext cx="815472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3789360"/>
                    <a:ext cx="8154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8101080" y="3789360"/>
          <a:ext cx="4633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01080" y="3789360"/>
                    <a:ext cx="4633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55640" y="436572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5084640"/>
          <a:ext cx="8190000" cy="93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5084640"/>
                    <a:ext cx="8190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069400" y="5157720"/>
          <a:ext cx="720720" cy="668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069400" y="5157720"/>
                    <a:ext cx="7207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475560"/>
            <a:ext cx="45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二次根式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419200" y="260352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9200" y="260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42920" y="1125360"/>
          <a:ext cx="5400720" cy="110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1125360"/>
                    <a:ext cx="540072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59280" y="2205000"/>
          <a:ext cx="14396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9280" y="2205000"/>
                    <a:ext cx="1439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042920" y="2276640"/>
            <a:ext cx="64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特别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当                   时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可以等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435640" y="1916280"/>
          <a:ext cx="216072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35640" y="1916280"/>
                    <a:ext cx="2160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132000" y="2924280"/>
          <a:ext cx="87480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2000" y="2924280"/>
                    <a:ext cx="8748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35640" y="1916280"/>
          <a:ext cx="2160720" cy="100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35640" y="1916280"/>
                    <a:ext cx="2160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435640" y="1916280"/>
          <a:ext cx="2160720" cy="1008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35640" y="1916280"/>
                    <a:ext cx="2160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3860640"/>
          <a:ext cx="5905440" cy="1322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2920" y="3860640"/>
                    <a:ext cx="590544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971640" y="5157720"/>
          <a:ext cx="5580000" cy="1251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71640" y="5157720"/>
                    <a:ext cx="55800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5640" y="83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针对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9640" y="5084640"/>
            <a:ext cx="8604000" cy="865080"/>
            <a:chOff x="539640" y="5084640"/>
            <a:chExt cx="8604000" cy="865080"/>
          </a:xfrm>
        </p:grpSpPr>
        <p:graphicFrame>
          <p:nvGraphicFramePr>
            <p:cNvPr id="141" name=""/>
            <p:cNvGraphicFramePr/>
            <p:nvPr/>
          </p:nvGraphicFramePr>
          <p:xfrm>
            <a:off x="539640" y="5084640"/>
            <a:ext cx="7934760" cy="75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5084640"/>
                      <a:ext cx="7934760" cy="75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245360" y="5947560"/>
              <a:ext cx="189828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" name=""/>
          <p:cNvGraphicFramePr/>
          <p:nvPr/>
        </p:nvGraphicFramePr>
        <p:xfrm>
          <a:off x="7451640" y="5229360"/>
          <a:ext cx="144000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51640" y="5229360"/>
                    <a:ext cx="1440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95280" y="155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564000" y="1844640"/>
          <a:ext cx="46332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64000" y="1844640"/>
                    <a:ext cx="4633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547640" y="1125360"/>
          <a:ext cx="3600720" cy="14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7640" y="1125360"/>
                    <a:ext cx="3600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47640" y="2781360"/>
          <a:ext cx="3276720" cy="811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2781360"/>
                    <a:ext cx="32767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47640" y="4076640"/>
          <a:ext cx="4892760" cy="81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47640" y="4076640"/>
                    <a:ext cx="48927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148360" y="1197000"/>
          <a:ext cx="576000" cy="1204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197000"/>
                    <a:ext cx="57600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932360" y="2924280"/>
          <a:ext cx="1584360" cy="588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32360" y="2924280"/>
                    <a:ext cx="158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372360" y="4149720"/>
          <a:ext cx="1296720" cy="696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372360" y="4149720"/>
                    <a:ext cx="12967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4000" y="189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二次根式的运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8360" y="1627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二次根式乘法法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54400" y="1557360"/>
          <a:ext cx="588960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0" y="1557360"/>
                    <a:ext cx="5889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28360" y="2491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二次根式除法法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564000" y="2349360"/>
          <a:ext cx="4321080" cy="112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2349360"/>
                    <a:ext cx="43210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5280" y="342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公式的逆运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1280" y="5084640"/>
          <a:ext cx="3457440" cy="154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5084640"/>
                    <a:ext cx="345744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55640" y="4005360"/>
          <a:ext cx="2735280" cy="752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4005360"/>
                    <a:ext cx="27352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211640" y="4076640"/>
          <a:ext cx="2843280" cy="663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1640" y="4076640"/>
                    <a:ext cx="2843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140360" y="5445000"/>
          <a:ext cx="3600360" cy="789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5445000"/>
                    <a:ext cx="36003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189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二次根式的加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先          ，再合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类二次根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1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化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1628640"/>
            <a:ext cx="27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最简二次根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557360"/>
            <a:ext cx="851508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被开方数中不含能开得尽方的因数或因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被开方数中不含分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母中不含根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3500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同类二次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3429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化简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开方数相同的根式称为同类二次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8520" y="458064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二次根式的混合运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54396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来学习的运算律（结合律、交换律、分配律）仍然适用，原来所学的乘法公式（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a+b)(a-b)=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(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  <a:ea typeface="Gulim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ab+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Gulim"/>
              </a:rPr>
              <a:t>仍然适用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40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针对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413000"/>
            <a:ext cx="860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                               ，则       的取值范围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     与最简二次根式           是同类二次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式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58920" y="1052640"/>
          <a:ext cx="3529080" cy="13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052640"/>
                    <a:ext cx="3529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867280" y="1413000"/>
          <a:ext cx="524160" cy="57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1413000"/>
                    <a:ext cx="524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119240" y="285264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a19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4581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a19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58920" y="2637000"/>
          <a:ext cx="1944720" cy="61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2637000"/>
                    <a:ext cx="1944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859280" y="3500280"/>
          <a:ext cx="1079640" cy="84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59280" y="3500280"/>
                    <a:ext cx="107964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187280" y="3500280"/>
          <a:ext cx="86364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3500280"/>
                    <a:ext cx="863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927000" y="4243320"/>
          <a:ext cx="3328920" cy="784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27000" y="4243320"/>
                    <a:ext cx="332892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284720" y="4221000"/>
          <a:ext cx="1563480" cy="735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84720" y="4221000"/>
                    <a:ext cx="15634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0:51:40Z</dcterms:created>
  <dc:creator>未知用户</dc:creator>
  <dc:description/>
  <dc:language>en-US</dc:language>
  <cp:lastModifiedBy>User</cp:lastModifiedBy>
  <dcterms:modified xsi:type="dcterms:W3CDTF">2013-09-21T01:15:04Z</dcterms:modified>
  <cp:revision>29</cp:revision>
  <dc:subject/>
  <dc:title>幻灯片 1</dc:title>
</cp:coreProperties>
</file>