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A4BC-9479-4E2B-9091-A5EC27E7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9108-B713-4591-B933-8227D4F5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4750-DEAE-40A7-AA40-FE8D233E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2477-A9DA-4EFD-9088-C4EEBEF5F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028C-F2F5-495D-B02E-1AADAA2CF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473E-F4AB-4C3D-B54D-DAEA9499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B7AE-C648-4422-BDA1-B9E0D5C7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E8A1-3FF8-4EFB-8924-8AA23048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F173-F0AA-43F2-8AA8-536F3752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2832-C015-4AC6-8D27-3EDDA8D5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FEA6-9B8C-4920-8ADE-CA937772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4E8E-61E1-4F47-8607-2E23F293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2F61-3DF4-4B93-B120-D1B35320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83C3-08CB-4D45-B684-FE4FECA8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5A4F-9F26-4FF2-9A1E-6BE97179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690D-960D-498B-8043-CDC94042B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44DC-8FF8-438F-B301-D11634DE4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8F09-943B-4265-B255-6A974C6C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814B-66FE-4385-86E2-D8619CA3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2F53-425D-4592-80F4-B5D95181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F0DA-623D-494F-BDCB-53EDFB10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9694-D204-46D7-883A-EA0CC5A1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D2EB-CA8D-4216-A15E-38C7B195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0D50-3E9D-475A-A468-DF8B73D9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CFC8-C129-42D2-AE1D-D8C7C3ED077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8680" y="-83520"/>
            <a:ext cx="2433240" cy="2254680"/>
            <a:chOff x="7168680" y="-83520"/>
            <a:chExt cx="2433240" cy="22546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8680" y="-83520"/>
              <a:ext cx="2433240" cy="2254680"/>
              <a:chOff x="7168680" y="-83520"/>
              <a:chExt cx="2433240" cy="22546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8680" y="-83520"/>
                <a:ext cx="2433240" cy="2254680"/>
                <a:chOff x="7168680" y="-83520"/>
                <a:chExt cx="2433240" cy="22546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48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5480" y="518760"/>
                  <a:ext cx="43020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2000" y="282240"/>
                  <a:ext cx="80820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8520" y="-22680"/>
                  <a:ext cx="121320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1120" y="1421280"/>
                  <a:ext cx="27072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5840"/>
                  <a:ext cx="2894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440" y="335520"/>
                  <a:ext cx="2894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5280" y="213840"/>
                  <a:ext cx="28656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BC26-A579-467F-891A-37E7BFA5372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3"/>
          <p:cNvSpPr/>
          <p:nvPr/>
        </p:nvSpPr>
        <p:spPr>
          <a:xfrm>
            <a:off x="3171600" y="739800"/>
            <a:ext cx="264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Cambria"/>
                <a:ea typeface="楷体_GB2312"/>
              </a:rPr>
              <a:t>初中数学九年级上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Cambria"/>
                <a:ea typeface="隶书"/>
              </a:rPr>
              <a:t>（</a:t>
            </a:r>
            <a:r>
              <a:rPr b="1" lang="zh-CN" sz="3600" spc="-1" strike="noStrike">
                <a:solidFill>
                  <a:srgbClr val="000066"/>
                </a:solidFill>
                <a:latin typeface="Cambria"/>
                <a:ea typeface="楷体_GB2312"/>
              </a:rPr>
              <a:t>苏科版</a:t>
            </a:r>
            <a:r>
              <a:rPr b="1" lang="zh-CN" sz="3600" spc="-1" strike="noStrike">
                <a:solidFill>
                  <a:srgbClr val="000066"/>
                </a:solidFill>
                <a:latin typeface="Cambria"/>
                <a:ea typeface="隶书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2124000" y="2637000"/>
            <a:ext cx="5327640" cy="752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3.2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二次根式的乘除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(1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971640" y="90792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：化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908000" y="2830680"/>
                <a:ext cx="381636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y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897200" y="4127400"/>
                <a:ext cx="613548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908000" y="1773360"/>
                <a:ext cx="176220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271" name=""/>
          <p:cNvGrpSpPr/>
          <p:nvPr/>
        </p:nvGrpSpPr>
        <p:grpSpPr>
          <a:xfrm>
            <a:off x="352440" y="0"/>
            <a:ext cx="1915920" cy="1002960"/>
            <a:chOff x="352440" y="0"/>
            <a:chExt cx="1915920" cy="1002960"/>
          </a:xfrm>
        </p:grpSpPr>
        <p:grpSp>
          <p:nvGrpSpPr>
            <p:cNvPr id="272" name=""/>
            <p:cNvGrpSpPr/>
            <p:nvPr/>
          </p:nvGrpSpPr>
          <p:grpSpPr>
            <a:xfrm>
              <a:off x="352440" y="0"/>
              <a:ext cx="1915920" cy="1002960"/>
              <a:chOff x="352440" y="0"/>
              <a:chExt cx="1915920" cy="1002960"/>
            </a:xfrm>
          </p:grpSpPr>
          <p:sp>
            <p:nvSpPr>
              <p:cNvPr id="273" name=""/>
              <p:cNvSpPr/>
              <p:nvPr/>
            </p:nvSpPr>
            <p:spPr>
              <a:xfrm>
                <a:off x="352440" y="291960"/>
                <a:ext cx="1872000" cy="711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74400" y="0"/>
                <a:ext cx="18939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423720" y="40176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展示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87280" y="104940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：计算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2646360" y="1773360"/>
                <a:ext cx="21924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2673360" y="2852640"/>
                <a:ext cx="211464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744640" y="4400640"/>
                <a:ext cx="45640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rad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0" name=""/>
          <p:cNvGrpSpPr/>
          <p:nvPr/>
        </p:nvGrpSpPr>
        <p:grpSpPr>
          <a:xfrm>
            <a:off x="352440" y="0"/>
            <a:ext cx="1915920" cy="1002960"/>
            <a:chOff x="352440" y="0"/>
            <a:chExt cx="1915920" cy="1002960"/>
          </a:xfrm>
        </p:grpSpPr>
        <p:grpSp>
          <p:nvGrpSpPr>
            <p:cNvPr id="281" name=""/>
            <p:cNvGrpSpPr/>
            <p:nvPr/>
          </p:nvGrpSpPr>
          <p:grpSpPr>
            <a:xfrm>
              <a:off x="352440" y="0"/>
              <a:ext cx="1915920" cy="1002960"/>
              <a:chOff x="352440" y="0"/>
              <a:chExt cx="1915920" cy="1002960"/>
            </a:xfrm>
          </p:grpSpPr>
          <p:sp>
            <p:nvSpPr>
              <p:cNvPr id="282" name=""/>
              <p:cNvSpPr/>
              <p:nvPr/>
            </p:nvSpPr>
            <p:spPr>
              <a:xfrm>
                <a:off x="352440" y="291960"/>
                <a:ext cx="1872000" cy="711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74400" y="0"/>
                <a:ext cx="18939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423720" y="40176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展示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2411280" y="4797360"/>
                <a:ext cx="57960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</m:d>
                      </m:e>
                    </m:rad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y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2411280" y="3716280"/>
                <a:ext cx="381636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a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a</m:t>
                        </m:r>
                      </m:e>
                    </m:rad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411280" y="2349360"/>
                <a:ext cx="208944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411280" y="1557360"/>
                <a:ext cx="22338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1116000" y="9777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计算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52440" y="0"/>
            <a:ext cx="1915920" cy="1002960"/>
            <a:chOff x="352440" y="0"/>
            <a:chExt cx="1915920" cy="1002960"/>
          </a:xfrm>
        </p:grpSpPr>
        <p:grpSp>
          <p:nvGrpSpPr>
            <p:cNvPr id="298" name=""/>
            <p:cNvGrpSpPr/>
            <p:nvPr/>
          </p:nvGrpSpPr>
          <p:grpSpPr>
            <a:xfrm>
              <a:off x="352440" y="0"/>
              <a:ext cx="1915920" cy="1002960"/>
              <a:chOff x="352440" y="0"/>
              <a:chExt cx="1915920" cy="1002960"/>
            </a:xfrm>
          </p:grpSpPr>
          <p:sp>
            <p:nvSpPr>
              <p:cNvPr id="299" name=""/>
              <p:cNvSpPr/>
              <p:nvPr/>
            </p:nvSpPr>
            <p:spPr>
              <a:xfrm>
                <a:off x="352440" y="291960"/>
                <a:ext cx="1872000" cy="711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74400" y="0"/>
                <a:ext cx="18939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23720" y="40176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展示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1042920" y="836640"/>
            <a:ext cx="7597800" cy="4367160"/>
            <a:chOff x="1042920" y="836640"/>
            <a:chExt cx="7597800" cy="4367160"/>
          </a:xfrm>
        </p:grpSpPr>
        <mc:AlternateContent>
          <mc:Choice xmlns:a14="http://schemas.microsoft.com/office/drawing/2010/main" Requires="a14">
            <p:sp>
              <p:nvSpPr>
                <p:cNvPr id="303" name="Rectangle 4"/>
                <p:cNvSpPr txBox="1"/>
                <p:nvPr/>
              </p:nvSpPr>
              <p:spPr>
                <a:xfrm>
                  <a:off x="1187280" y="1844640"/>
                  <a:ext cx="2521080" cy="117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  <m:r>
                        <m:t xml:space="preserve">7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4" name="Rectangle 4"/>
                <p:cNvSpPr txBox="1"/>
                <p:nvPr/>
              </p:nvSpPr>
              <p:spPr>
                <a:xfrm>
                  <a:off x="4572000" y="1916280"/>
                  <a:ext cx="1441440" cy="106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</m:e>
                      </m:d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5" name="Rectangle 4"/>
                <p:cNvSpPr txBox="1"/>
                <p:nvPr/>
              </p:nvSpPr>
              <p:spPr>
                <a:xfrm>
                  <a:off x="1187280" y="4005360"/>
                  <a:ext cx="3024360" cy="11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10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6" name="Rectangle 4"/>
                <p:cNvSpPr txBox="1"/>
                <p:nvPr/>
              </p:nvSpPr>
              <p:spPr>
                <a:xfrm>
                  <a:off x="4716360" y="4076640"/>
                  <a:ext cx="3924360" cy="107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4</m:t>
                          </m:r>
                        </m:e>
                      </m:d>
                      <m:r>
                        <m:t xml:space="preserve">6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y</m:t>
                          </m:r>
                        </m:e>
                      </m:d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x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307" name=""/>
            <p:cNvSpPr/>
            <p:nvPr/>
          </p:nvSpPr>
          <p:spPr>
            <a:xfrm>
              <a:off x="1042920" y="836640"/>
              <a:ext cx="2664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3500cc"/>
                  </a:solidFill>
                  <a:latin typeface="Comic Sans MS"/>
                </a:rPr>
                <a:t>答案：</a:t>
              </a:r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52440" y="0"/>
            <a:ext cx="1915920" cy="1002960"/>
            <a:chOff x="352440" y="0"/>
            <a:chExt cx="1915920" cy="1002960"/>
          </a:xfrm>
        </p:grpSpPr>
        <p:grpSp>
          <p:nvGrpSpPr>
            <p:cNvPr id="309" name=""/>
            <p:cNvGrpSpPr/>
            <p:nvPr/>
          </p:nvGrpSpPr>
          <p:grpSpPr>
            <a:xfrm>
              <a:off x="352440" y="0"/>
              <a:ext cx="1915920" cy="1002960"/>
              <a:chOff x="352440" y="0"/>
              <a:chExt cx="1915920" cy="1002960"/>
            </a:xfrm>
          </p:grpSpPr>
          <p:sp>
            <p:nvSpPr>
              <p:cNvPr id="310" name=""/>
              <p:cNvSpPr/>
              <p:nvPr/>
            </p:nvSpPr>
            <p:spPr>
              <a:xfrm>
                <a:off x="352440" y="291960"/>
                <a:ext cx="1872000" cy="711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74400" y="0"/>
                <a:ext cx="18939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423720" y="40176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展示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476360" y="105264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化简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3203640" y="3716280"/>
                <a:ext cx="215892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Rectangle 4"/>
              <p:cNvSpPr txBox="1"/>
              <p:nvPr/>
            </p:nvSpPr>
            <p:spPr>
              <a:xfrm>
                <a:off x="3203640" y="2781360"/>
                <a:ext cx="31669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Rectangle 4"/>
              <p:cNvSpPr txBox="1"/>
              <p:nvPr/>
            </p:nvSpPr>
            <p:spPr>
              <a:xfrm>
                <a:off x="3203640" y="1773360"/>
                <a:ext cx="143964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321" name=""/>
          <p:cNvGrpSpPr/>
          <p:nvPr/>
        </p:nvGrpSpPr>
        <p:grpSpPr>
          <a:xfrm>
            <a:off x="2843280" y="4797360"/>
            <a:ext cx="2520720" cy="777960"/>
            <a:chOff x="2843280" y="4797360"/>
            <a:chExt cx="2520720" cy="777960"/>
          </a:xfrm>
        </p:grpSpPr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3203640" y="4797360"/>
                  <a:ext cx="2160360" cy="77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4</m:t>
                          </m:r>
                        </m:e>
                      </m:d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54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323" name=""/>
            <p:cNvSpPr/>
            <p:nvPr/>
          </p:nvSpPr>
          <p:spPr>
            <a:xfrm>
              <a:off x="2843280" y="50133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※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2440" y="0"/>
            <a:ext cx="1915920" cy="1002960"/>
            <a:chOff x="352440" y="0"/>
            <a:chExt cx="1915920" cy="1002960"/>
          </a:xfrm>
        </p:grpSpPr>
        <p:grpSp>
          <p:nvGrpSpPr>
            <p:cNvPr id="325" name=""/>
            <p:cNvGrpSpPr/>
            <p:nvPr/>
          </p:nvGrpSpPr>
          <p:grpSpPr>
            <a:xfrm>
              <a:off x="352440" y="0"/>
              <a:ext cx="1915920" cy="1002960"/>
              <a:chOff x="352440" y="0"/>
              <a:chExt cx="1915920" cy="1002960"/>
            </a:xfrm>
          </p:grpSpPr>
          <p:sp>
            <p:nvSpPr>
              <p:cNvPr id="326" name=""/>
              <p:cNvSpPr/>
              <p:nvPr/>
            </p:nvSpPr>
            <p:spPr>
              <a:xfrm>
                <a:off x="352440" y="291960"/>
                <a:ext cx="1872000" cy="711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74400" y="0"/>
                <a:ext cx="18939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423720" y="40176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展示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1332000" y="3933720"/>
            <a:ext cx="7272360" cy="1800000"/>
            <a:chOff x="1332000" y="3933720"/>
            <a:chExt cx="7272360" cy="1800000"/>
          </a:xfrm>
        </p:grpSpPr>
        <mc:AlternateContent>
          <mc:Choice xmlns:a14="http://schemas.microsoft.com/office/drawing/2010/main" Requires="a14">
            <p:sp>
              <p:nvSpPr>
                <p:cNvPr id="330" name="Rectangle 4"/>
                <p:cNvSpPr txBox="1"/>
                <p:nvPr/>
              </p:nvSpPr>
              <p:spPr>
                <a:xfrm>
                  <a:off x="1332000" y="3933720"/>
                  <a:ext cx="6767280" cy="90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4</m:t>
                          </m:r>
                        </m:e>
                      </m:d>
                      <m:r>
                        <m:t xml:space="preserve">当a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时，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54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  <m:r>
                        <m:t xml:space="preserve">3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6</m:t>
                          </m:r>
                        </m:e>
                      </m:rad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1" name=""/>
                <p:cNvSpPr txBox="1"/>
                <p:nvPr/>
              </p:nvSpPr>
              <p:spPr>
                <a:xfrm>
                  <a:off x="1835280" y="4830480"/>
                  <a:ext cx="6769080" cy="90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当a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时，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54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6</m:t>
                          </m:r>
                        </m:e>
                      </m:rad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2" name=""/>
          <p:cNvGrpSpPr/>
          <p:nvPr/>
        </p:nvGrpSpPr>
        <p:grpSpPr>
          <a:xfrm>
            <a:off x="1258920" y="907920"/>
            <a:ext cx="4968720" cy="2952720"/>
            <a:chOff x="1258920" y="907920"/>
            <a:chExt cx="4968720" cy="2952720"/>
          </a:xfrm>
        </p:grpSpPr>
        <mc:AlternateContent>
          <mc:Choice xmlns:a14="http://schemas.microsoft.com/office/drawing/2010/main" Requires="a14">
            <p:sp>
              <p:nvSpPr>
                <p:cNvPr id="333" name="Rectangle 4"/>
                <p:cNvSpPr txBox="1"/>
                <p:nvPr/>
              </p:nvSpPr>
              <p:spPr>
                <a:xfrm>
                  <a:off x="1332000" y="1844640"/>
                  <a:ext cx="1768320" cy="93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  <m:r>
                        <m:t xml:space="preserve">6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4" name="Rectangle 4"/>
                <p:cNvSpPr txBox="1"/>
                <p:nvPr/>
              </p:nvSpPr>
              <p:spPr>
                <a:xfrm>
                  <a:off x="4140360" y="1915920"/>
                  <a:ext cx="2087280" cy="82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</m:e>
                      </m:d>
                      <m:r>
                        <m:t xml:space="preserve">−</m:t>
                      </m:r>
                      <m:r>
                        <m:t xml:space="preserve">6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5" name="Rectangle 4"/>
                <p:cNvSpPr txBox="1"/>
                <p:nvPr/>
              </p:nvSpPr>
              <p:spPr>
                <a:xfrm>
                  <a:off x="1332000" y="3019320"/>
                  <a:ext cx="201600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</m:e>
                      </m:d>
                      <m:r>
                        <m:t xml:space="preserve">3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36" name=""/>
            <p:cNvSpPr/>
            <p:nvPr/>
          </p:nvSpPr>
          <p:spPr>
            <a:xfrm>
              <a:off x="1258920" y="907920"/>
              <a:ext cx="1873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3500cc"/>
                  </a:solidFill>
                  <a:latin typeface="Comic Sans MS"/>
                </a:rPr>
                <a:t>答案：</a:t>
              </a:r>
              <a:endParaRPr b="0" lang="en-US" sz="4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352440" y="0"/>
            <a:ext cx="1915920" cy="1002960"/>
            <a:chOff x="352440" y="0"/>
            <a:chExt cx="1915920" cy="1002960"/>
          </a:xfrm>
        </p:grpSpPr>
        <p:grpSp>
          <p:nvGrpSpPr>
            <p:cNvPr id="338" name=""/>
            <p:cNvGrpSpPr/>
            <p:nvPr/>
          </p:nvGrpSpPr>
          <p:grpSpPr>
            <a:xfrm>
              <a:off x="352440" y="0"/>
              <a:ext cx="1915920" cy="1002960"/>
              <a:chOff x="352440" y="0"/>
              <a:chExt cx="1915920" cy="1002960"/>
            </a:xfrm>
          </p:grpSpPr>
          <p:sp>
            <p:nvSpPr>
              <p:cNvPr id="339" name=""/>
              <p:cNvSpPr/>
              <p:nvPr/>
            </p:nvSpPr>
            <p:spPr>
              <a:xfrm>
                <a:off x="352440" y="291960"/>
                <a:ext cx="1872000" cy="711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74400" y="0"/>
                <a:ext cx="18939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423720" y="40176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展示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"/>
          <p:cNvSpPr/>
          <p:nvPr/>
        </p:nvSpPr>
        <p:spPr>
          <a:xfrm>
            <a:off x="684360" y="85572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．判断下列各式是否正确，不正确的请予以改正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1403280" y="3411360"/>
                <a:ext cx="55371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Rectangle 4"/>
              <p:cNvSpPr txBox="1"/>
              <p:nvPr/>
            </p:nvSpPr>
            <p:spPr>
              <a:xfrm>
                <a:off x="1403280" y="2176560"/>
                <a:ext cx="482436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4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"/>
          <p:cNvSpPr/>
          <p:nvPr/>
        </p:nvSpPr>
        <p:spPr>
          <a:xfrm>
            <a:off x="1474920" y="4437000"/>
            <a:ext cx="626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由题（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）（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）你能归纳出什么结论？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352440" y="0"/>
            <a:ext cx="1915920" cy="1002960"/>
            <a:chOff x="352440" y="0"/>
            <a:chExt cx="1915920" cy="1002960"/>
          </a:xfrm>
        </p:grpSpPr>
        <p:grpSp>
          <p:nvGrpSpPr>
            <p:cNvPr id="351" name=""/>
            <p:cNvGrpSpPr/>
            <p:nvPr/>
          </p:nvGrpSpPr>
          <p:grpSpPr>
            <a:xfrm>
              <a:off x="352440" y="0"/>
              <a:ext cx="1915920" cy="1002960"/>
              <a:chOff x="352440" y="0"/>
              <a:chExt cx="1915920" cy="1002960"/>
            </a:xfrm>
          </p:grpSpPr>
          <p:sp>
            <p:nvSpPr>
              <p:cNvPr id="352" name=""/>
              <p:cNvSpPr/>
              <p:nvPr/>
            </p:nvSpPr>
            <p:spPr>
              <a:xfrm>
                <a:off x="352440" y="291960"/>
                <a:ext cx="1872000" cy="711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74400" y="0"/>
                <a:ext cx="18939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423720" y="40176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展示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"/>
          <p:cNvGrpSpPr/>
          <p:nvPr/>
        </p:nvGrpSpPr>
        <p:grpSpPr>
          <a:xfrm>
            <a:off x="900000" y="1557360"/>
            <a:ext cx="7596360" cy="2654280"/>
            <a:chOff x="900000" y="1557360"/>
            <a:chExt cx="7596360" cy="2654280"/>
          </a:xfrm>
        </p:grpSpPr>
        <mc:AlternateContent>
          <mc:Choice xmlns:a14="http://schemas.microsoft.com/office/drawing/2010/main" Requires="a14">
            <p:sp>
              <p:nvSpPr>
                <p:cNvPr id="356" name="Rectangle 4"/>
                <p:cNvSpPr txBox="1"/>
                <p:nvPr/>
              </p:nvSpPr>
              <p:spPr>
                <a:xfrm>
                  <a:off x="971640" y="3286080"/>
                  <a:ext cx="7524720" cy="92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−</m:t>
                          </m:r>
                          <m:r>
                            <m:t xml:space="preserve">a</m:t>
                          </m:r>
                        </m:e>
                      </m:rad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</m:e>
                      </m:rad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b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7" name=""/>
            <p:cNvSpPr/>
            <p:nvPr/>
          </p:nvSpPr>
          <p:spPr>
            <a:xfrm>
              <a:off x="900000" y="1557360"/>
              <a:ext cx="1727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33cc"/>
                  </a:solidFill>
                  <a:latin typeface="Comic Sans MS"/>
                </a:rPr>
                <a:t>结论：</a:t>
              </a:r>
              <a:endParaRPr b="0" lang="en-US" sz="4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352440" y="0"/>
            <a:ext cx="1915920" cy="1002960"/>
            <a:chOff x="352440" y="0"/>
            <a:chExt cx="1915920" cy="1002960"/>
          </a:xfrm>
        </p:grpSpPr>
        <p:grpSp>
          <p:nvGrpSpPr>
            <p:cNvPr id="359" name=""/>
            <p:cNvGrpSpPr/>
            <p:nvPr/>
          </p:nvGrpSpPr>
          <p:grpSpPr>
            <a:xfrm>
              <a:off x="352440" y="0"/>
              <a:ext cx="1915920" cy="1002960"/>
              <a:chOff x="352440" y="0"/>
              <a:chExt cx="1915920" cy="1002960"/>
            </a:xfrm>
          </p:grpSpPr>
          <p:sp>
            <p:nvSpPr>
              <p:cNvPr id="360" name=""/>
              <p:cNvSpPr/>
              <p:nvPr/>
            </p:nvSpPr>
            <p:spPr>
              <a:xfrm>
                <a:off x="352440" y="291960"/>
                <a:ext cx="1872000" cy="711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74400" y="0"/>
                <a:ext cx="18939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423720" y="40176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展示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332000" y="94284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．求下列式子有意义的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的取值范围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2268360" y="3568680"/>
                <a:ext cx="54007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268360" y="4516560"/>
                <a:ext cx="43927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2268360" y="2305080"/>
                <a:ext cx="15116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369" name=""/>
          <p:cNvGrpSpPr/>
          <p:nvPr/>
        </p:nvGrpSpPr>
        <p:grpSpPr>
          <a:xfrm>
            <a:off x="352440" y="0"/>
            <a:ext cx="1915920" cy="1002960"/>
            <a:chOff x="352440" y="0"/>
            <a:chExt cx="1915920" cy="1002960"/>
          </a:xfrm>
        </p:grpSpPr>
        <p:grpSp>
          <p:nvGrpSpPr>
            <p:cNvPr id="370" name=""/>
            <p:cNvGrpSpPr/>
            <p:nvPr/>
          </p:nvGrpSpPr>
          <p:grpSpPr>
            <a:xfrm>
              <a:off x="352440" y="0"/>
              <a:ext cx="1915920" cy="1002960"/>
              <a:chOff x="352440" y="0"/>
              <a:chExt cx="1915920" cy="1002960"/>
            </a:xfrm>
          </p:grpSpPr>
          <p:sp>
            <p:nvSpPr>
              <p:cNvPr id="371" name=""/>
              <p:cNvSpPr/>
              <p:nvPr/>
            </p:nvSpPr>
            <p:spPr>
              <a:xfrm>
                <a:off x="352440" y="291960"/>
                <a:ext cx="1872000" cy="711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4400" y="0"/>
                <a:ext cx="18939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423720" y="40176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展示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826920" y="836640"/>
            <a:ext cx="5275440" cy="4519440"/>
            <a:chOff x="826920" y="836640"/>
            <a:chExt cx="5275440" cy="4519440"/>
          </a:xfrm>
        </p:grpSpPr>
        <mc:AlternateContent>
          <mc:Choice xmlns:a14="http://schemas.microsoft.com/office/drawing/2010/main" Requires="a14">
            <p:sp>
              <p:nvSpPr>
                <p:cNvPr id="375" name="Rectangle 4"/>
                <p:cNvSpPr txBox="1"/>
                <p:nvPr/>
              </p:nvSpPr>
              <p:spPr>
                <a:xfrm>
                  <a:off x="2411280" y="2060640"/>
                  <a:ext cx="2303640" cy="100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6" name="Rectangle 4"/>
                <p:cNvSpPr txBox="1"/>
                <p:nvPr/>
              </p:nvSpPr>
              <p:spPr>
                <a:xfrm>
                  <a:off x="2484360" y="3284640"/>
                  <a:ext cx="36180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</m:e>
                      </m:d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≤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7" name="Rectangle 4"/>
                <p:cNvSpPr txBox="1"/>
                <p:nvPr/>
              </p:nvSpPr>
              <p:spPr>
                <a:xfrm>
                  <a:off x="2484360" y="4437000"/>
                  <a:ext cx="3457800" cy="91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</m:e>
                      </m:d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≤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8" name=""/>
            <p:cNvSpPr/>
            <p:nvPr/>
          </p:nvSpPr>
          <p:spPr>
            <a:xfrm>
              <a:off x="826920" y="836640"/>
              <a:ext cx="2016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3500cc"/>
                  </a:solidFill>
                  <a:latin typeface="Comic Sans MS"/>
                </a:rPr>
                <a:t>答案：</a:t>
              </a:r>
              <a:endParaRPr b="0" lang="en-US" sz="4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52440" y="0"/>
            <a:ext cx="1915920" cy="1002960"/>
            <a:chOff x="352440" y="0"/>
            <a:chExt cx="1915920" cy="1002960"/>
          </a:xfrm>
        </p:grpSpPr>
        <p:grpSp>
          <p:nvGrpSpPr>
            <p:cNvPr id="380" name=""/>
            <p:cNvGrpSpPr/>
            <p:nvPr/>
          </p:nvGrpSpPr>
          <p:grpSpPr>
            <a:xfrm>
              <a:off x="352440" y="0"/>
              <a:ext cx="1915920" cy="1002960"/>
              <a:chOff x="352440" y="0"/>
              <a:chExt cx="1915920" cy="1002960"/>
            </a:xfrm>
          </p:grpSpPr>
          <p:sp>
            <p:nvSpPr>
              <p:cNvPr id="381" name=""/>
              <p:cNvSpPr/>
              <p:nvPr/>
            </p:nvSpPr>
            <p:spPr>
              <a:xfrm>
                <a:off x="352440" y="291960"/>
                <a:ext cx="1872000" cy="711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74400" y="0"/>
                <a:ext cx="18939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423720" y="40176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展示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1187280" y="3789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归纳猜想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627280" y="4365720"/>
                <a:ext cx="49910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乘法法则：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b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rad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7" name=""/>
          <p:cNvGrpSpPr/>
          <p:nvPr/>
        </p:nvGrpSpPr>
        <p:grpSpPr>
          <a:xfrm>
            <a:off x="1979640" y="5013360"/>
            <a:ext cx="6480000" cy="1298160"/>
            <a:chOff x="1979640" y="5013360"/>
            <a:chExt cx="6480000" cy="1298160"/>
          </a:xfrm>
        </p:grpSpPr>
        <p:sp>
          <p:nvSpPr>
            <p:cNvPr id="158" name=""/>
            <p:cNvSpPr/>
            <p:nvPr/>
          </p:nvSpPr>
          <p:spPr>
            <a:xfrm>
              <a:off x="2556000" y="5013360"/>
              <a:ext cx="21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500cc"/>
                  </a:solidFill>
                  <a:latin typeface="Comic Sans MS"/>
                </a:rPr>
                <a:t>文字语言叙述：</a:t>
              </a: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79640" y="5516640"/>
              <a:ext cx="648000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Comic Sans MS"/>
                </a:rPr>
                <a:t>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二次根式相乘</a:t>
              </a: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,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实际上就是把被开方数相乘</a:t>
              </a: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,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而根号不变．</a:t>
              </a: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42920" y="898560"/>
            <a:ext cx="7201080" cy="3035160"/>
            <a:chOff x="1042920" y="898560"/>
            <a:chExt cx="7201080" cy="3035160"/>
          </a:xfrm>
        </p:grpSpPr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1619280" y="2987640"/>
                  <a:ext cx="20160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2</m:t>
                                      </m:r>
                                    </m:num>
                                    <m:den>
                                      <m:r>
                                        <m:t xml:space="preserve">3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</m:num>
                                    <m:den>
                                      <m:r>
                                        <m:t xml:space="preserve">5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5146560" y="3058920"/>
                  <a:ext cx="172872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2</m:t>
                                      </m:r>
                                    </m:num>
                                    <m:den>
                                      <m:r>
                                        <m:t xml:space="preserve">3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⋅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</m:num>
                                    <m:den>
                                      <m:r>
                                        <m:t xml:space="preserve">5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1546200" y="1546200"/>
                  <a:ext cx="1944720" cy="59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4</m:t>
                          </m:r>
                        </m:e>
                      </m:rad>
                      <m:r>
                        <m:t xml:space="preserve">×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e>
                      </m:ra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5075280" y="1546200"/>
                  <a:ext cx="165708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4</m:t>
                          </m:r>
                          <m:r>
                            <m:t xml:space="preserve">×</m:t>
                          </m:r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e>
                      </m:ra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5" name=""/>
                <p:cNvSpPr txBox="1"/>
                <p:nvPr/>
              </p:nvSpPr>
              <p:spPr>
                <a:xfrm>
                  <a:off x="1546200" y="2266920"/>
                  <a:ext cx="201600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e>
                      </m:rad>
                      <m:r>
                        <m:t xml:space="preserve">×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9</m:t>
                          </m:r>
                        </m:e>
                      </m:ra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5146560" y="2266920"/>
                  <a:ext cx="1584360" cy="59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r>
                            <m:t xml:space="preserve">×</m:t>
                          </m:r>
                          <m:r>
                            <m:t xml:space="preserve">9</m:t>
                          </m:r>
                        </m:e>
                      </m:ra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7" name=""/>
            <p:cNvSpPr/>
            <p:nvPr/>
          </p:nvSpPr>
          <p:spPr>
            <a:xfrm>
              <a:off x="1042920" y="898560"/>
              <a:ext cx="151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1.</a:t>
              </a:r>
              <a:r>
                <a:rPr b="0" lang="zh-CN" sz="2800" spc="-1" strike="noStrike">
                  <a:solidFill>
                    <a:srgbClr val="000000"/>
                  </a:solidFill>
                  <a:latin typeface="Comic Sans MS"/>
                </a:rPr>
                <a:t>计算：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62200" y="197964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04000" y="197964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04000" y="269856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62200" y="269856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35280" y="377964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75280" y="3779640"/>
              <a:ext cx="136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851280" y="1407960"/>
            <a:ext cx="4103640" cy="654480"/>
            <a:chOff x="3851280" y="1407960"/>
            <a:chExt cx="4103640" cy="654480"/>
          </a:xfrm>
        </p:grpSpPr>
        <p:sp>
          <p:nvSpPr>
            <p:cNvPr id="177" name=""/>
            <p:cNvSpPr/>
            <p:nvPr/>
          </p:nvSpPr>
          <p:spPr>
            <a:xfrm>
              <a:off x="3851280" y="1407960"/>
              <a:ext cx="115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500cc"/>
                  </a:solidFill>
                  <a:latin typeface="Comic Sans MS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20000" y="1481040"/>
              <a:ext cx="93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500cc"/>
                  </a:solidFill>
                  <a:latin typeface="Comic Sans MS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924360" y="2128680"/>
            <a:ext cx="4248000" cy="581400"/>
            <a:chOff x="3924360" y="2128680"/>
            <a:chExt cx="4248000" cy="581400"/>
          </a:xfrm>
        </p:grpSpPr>
        <p:sp>
          <p:nvSpPr>
            <p:cNvPr id="180" name=""/>
            <p:cNvSpPr/>
            <p:nvPr/>
          </p:nvSpPr>
          <p:spPr>
            <a:xfrm>
              <a:off x="3924360" y="2128680"/>
              <a:ext cx="107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500cc"/>
                  </a:solidFill>
                  <a:latin typeface="Comic Sans MS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93080" y="2128680"/>
              <a:ext cx="107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500cc"/>
                  </a:solidFill>
                  <a:latin typeface="Comic Sans MS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067280" y="2781360"/>
            <a:ext cx="3603600" cy="1008000"/>
            <a:chOff x="4067280" y="2781360"/>
            <a:chExt cx="3603600" cy="1008000"/>
          </a:xfrm>
        </p:grpSpPr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4067280" y="2852640"/>
                  <a:ext cx="361800" cy="93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7308720" y="2781360"/>
                  <a:ext cx="36216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5" name=""/>
          <p:cNvGrpSpPr/>
          <p:nvPr/>
        </p:nvGrpSpPr>
        <p:grpSpPr>
          <a:xfrm>
            <a:off x="352440" y="0"/>
            <a:ext cx="1915920" cy="1002960"/>
            <a:chOff x="352440" y="0"/>
            <a:chExt cx="1915920" cy="1002960"/>
          </a:xfrm>
        </p:grpSpPr>
        <p:grpSp>
          <p:nvGrpSpPr>
            <p:cNvPr id="186" name=""/>
            <p:cNvGrpSpPr/>
            <p:nvPr/>
          </p:nvGrpSpPr>
          <p:grpSpPr>
            <a:xfrm>
              <a:off x="352440" y="0"/>
              <a:ext cx="1915920" cy="1002960"/>
              <a:chOff x="352440" y="0"/>
              <a:chExt cx="1915920" cy="1002960"/>
            </a:xfrm>
          </p:grpSpPr>
          <p:sp>
            <p:nvSpPr>
              <p:cNvPr id="187" name=""/>
              <p:cNvSpPr/>
              <p:nvPr/>
            </p:nvSpPr>
            <p:spPr>
              <a:xfrm>
                <a:off x="352440" y="291960"/>
                <a:ext cx="1872000" cy="711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74400" y="0"/>
                <a:ext cx="18939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423720" y="40176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探究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407880" y="1341360"/>
            <a:ext cx="8051760" cy="504720"/>
            <a:chOff x="407880" y="1341360"/>
            <a:chExt cx="8051760" cy="504720"/>
          </a:xfrm>
        </p:grpSpPr>
        <mc:AlternateContent>
          <mc:Choice xmlns:a14="http://schemas.microsoft.com/office/drawing/2010/main" Requires="a14">
            <p:sp>
              <p:nvSpPr>
                <p:cNvPr id="386" name=""/>
                <p:cNvSpPr txBox="1"/>
                <p:nvPr/>
              </p:nvSpPr>
              <p:spPr>
                <a:xfrm>
                  <a:off x="407880" y="1341360"/>
                  <a:ext cx="6097680" cy="4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已知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e>
                      </m:rad>
                      <m:r>
                        <m:rPr>
                          <m:lit/>
                          <m:nor/>
                        </m:rPr>
                        <m:t xml:space="preserve">是正整数，则实数</m:t>
                      </m:r>
                      <m:r>
                        <m:t xml:space="preserve">n</m:t>
                      </m:r>
                      <m:r>
                        <m:rPr>
                          <m:lit/>
                          <m:nor/>
                        </m:rPr>
                        <m:t xml:space="preserve">的最大值为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7" name=""/>
            <p:cNvSpPr/>
            <p:nvPr/>
          </p:nvSpPr>
          <p:spPr>
            <a:xfrm>
              <a:off x="6443640" y="147780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395280" y="2597040"/>
            <a:ext cx="8856720" cy="546120"/>
            <a:chOff x="395280" y="2597040"/>
            <a:chExt cx="8856720" cy="546120"/>
          </a:xfrm>
        </p:grpSpPr>
        <mc:AlternateContent>
          <mc:Choice xmlns:a14="http://schemas.microsoft.com/office/drawing/2010/main" Requires="a14">
            <p:sp>
              <p:nvSpPr>
                <p:cNvPr id="390" name=""/>
                <p:cNvSpPr txBox="1"/>
                <p:nvPr/>
              </p:nvSpPr>
              <p:spPr>
                <a:xfrm>
                  <a:off x="395280" y="2597040"/>
                  <a:ext cx="67676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如果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a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</m:e>
                      </m:rad>
                      <m:r>
                        <m:rPr>
                          <m:lit/>
                          <m:nor/>
                        </m:rPr>
                        <m:t xml:space="preserve">则实数</m:t>
                      </m:r>
                      <m:r>
                        <m:t xml:space="preserve">a</m:t>
                      </m:r>
                      <m:r>
                        <m:rPr>
                          <m:lit/>
                          <m:nor/>
                        </m:rPr>
                        <m:t xml:space="preserve">的取值范围是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91" name=""/>
            <p:cNvSpPr/>
            <p:nvPr/>
          </p:nvSpPr>
          <p:spPr>
            <a:xfrm>
              <a:off x="7020000" y="277488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0" y="308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446040" y="3573360"/>
            <a:ext cx="7439040" cy="1457280"/>
            <a:chOff x="446040" y="3573360"/>
            <a:chExt cx="7439040" cy="1457280"/>
          </a:xfrm>
        </p:grpSpPr>
        <mc:AlternateContent>
          <mc:Choice xmlns:a14="http://schemas.microsoft.com/office/drawing/2010/main" Requires="a14">
            <p:sp>
              <p:nvSpPr>
                <p:cNvPr id="394" name=""/>
                <p:cNvSpPr txBox="1"/>
                <p:nvPr/>
              </p:nvSpPr>
              <p:spPr>
                <a:xfrm>
                  <a:off x="446040" y="3573360"/>
                  <a:ext cx="7439040" cy="94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把二次根式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x</m:t>
                              </m:r>
                            </m:den>
                          </m:f>
                        </m:e>
                      </m:rad>
                      <m:r>
                        <m:rPr>
                          <m:lit/>
                          <m:nor/>
                        </m:rPr>
                        <m:t xml:space="preserve">中根号外的因式移到根号内，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95" name=""/>
            <p:cNvSpPr/>
            <p:nvPr/>
          </p:nvSpPr>
          <p:spPr>
            <a:xfrm>
              <a:off x="735120" y="4510080"/>
              <a:ext cx="24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omic Sans MS"/>
                </a:rPr>
                <a:t>结果是</a:t>
              </a: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6877080" y="1341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Rectangle 4"/>
              <p:cNvSpPr txBox="1"/>
              <p:nvPr/>
            </p:nvSpPr>
            <p:spPr>
              <a:xfrm>
                <a:off x="7093080" y="2637000"/>
                <a:ext cx="14065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Rectangle 4"/>
              <p:cNvSpPr txBox="1"/>
              <p:nvPr/>
            </p:nvSpPr>
            <p:spPr>
              <a:xfrm>
                <a:off x="1979640" y="4437000"/>
                <a:ext cx="12240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399" name=""/>
          <p:cNvGrpSpPr/>
          <p:nvPr/>
        </p:nvGrpSpPr>
        <p:grpSpPr>
          <a:xfrm>
            <a:off x="352440" y="0"/>
            <a:ext cx="1915920" cy="1002960"/>
            <a:chOff x="352440" y="0"/>
            <a:chExt cx="1915920" cy="1002960"/>
          </a:xfrm>
        </p:grpSpPr>
        <p:grpSp>
          <p:nvGrpSpPr>
            <p:cNvPr id="400" name=""/>
            <p:cNvGrpSpPr/>
            <p:nvPr/>
          </p:nvGrpSpPr>
          <p:grpSpPr>
            <a:xfrm>
              <a:off x="352440" y="0"/>
              <a:ext cx="1915920" cy="1002960"/>
              <a:chOff x="352440" y="0"/>
              <a:chExt cx="1915920" cy="1002960"/>
            </a:xfrm>
          </p:grpSpPr>
          <p:sp>
            <p:nvSpPr>
              <p:cNvPr id="401" name=""/>
              <p:cNvSpPr/>
              <p:nvPr/>
            </p:nvSpPr>
            <p:spPr>
              <a:xfrm>
                <a:off x="352440" y="291960"/>
                <a:ext cx="1872000" cy="711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74400" y="0"/>
                <a:ext cx="18939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423720" y="40176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拓展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755640" y="1158840"/>
            <a:ext cx="8137440" cy="3450600"/>
            <a:chOff x="755640" y="1158840"/>
            <a:chExt cx="8137440" cy="3450600"/>
          </a:xfrm>
        </p:grpSpPr>
        <p:sp>
          <p:nvSpPr>
            <p:cNvPr id="410" name=""/>
            <p:cNvSpPr/>
            <p:nvPr/>
          </p:nvSpPr>
          <p:spPr>
            <a:xfrm>
              <a:off x="755640" y="1158840"/>
              <a:ext cx="799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宋体"/>
                </a:rPr>
                <a:t>4.</a:t>
              </a:r>
              <a:r>
                <a:rPr b="0" lang="zh-CN" sz="3200" spc="-1" strike="noStrike">
                  <a:solidFill>
                    <a:srgbClr val="000000"/>
                  </a:solidFill>
                  <a:latin typeface="宋体"/>
                </a:rPr>
                <a:t>探究过程：观察下列各式及其验证过程．</a:t>
              </a: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1116000" y="1877760"/>
              <a:ext cx="6838920" cy="1874160"/>
              <a:chOff x="1116000" y="1877760"/>
              <a:chExt cx="6838920" cy="1874160"/>
            </a:xfrm>
          </p:grpSpPr>
          <mc:AlternateContent>
            <mc:Choice xmlns:a14="http://schemas.microsoft.com/office/drawing/2010/main" Requires="a14">
              <p:sp>
                <p:nvSpPr>
                  <p:cNvPr id="412" name=""/>
                  <p:cNvSpPr txBox="1"/>
                  <p:nvPr/>
                </p:nvSpPr>
                <p:spPr>
                  <a:xfrm>
                    <a:off x="1187280" y="1877760"/>
                    <a:ext cx="1800360" cy="747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13" name=""/>
                  <p:cNvSpPr txBox="1"/>
                  <p:nvPr/>
                </p:nvSpPr>
                <p:spPr>
                  <a:xfrm>
                    <a:off x="3564000" y="1950480"/>
                    <a:ext cx="1727280" cy="718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14" name=""/>
                  <p:cNvSpPr txBox="1"/>
                  <p:nvPr/>
                </p:nvSpPr>
                <p:spPr>
                  <a:xfrm>
                    <a:off x="6012000" y="1950480"/>
                    <a:ext cx="1942920" cy="713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den>
                            </m:f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15" name=""/>
                  <p:cNvSpPr txBox="1"/>
                  <p:nvPr/>
                </p:nvSpPr>
                <p:spPr>
                  <a:xfrm>
                    <a:off x="1116000" y="3030120"/>
                    <a:ext cx="2016000" cy="721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</m:den>
                            </m:f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16" name=""/>
              <p:cNvSpPr/>
              <p:nvPr/>
            </p:nvSpPr>
            <p:spPr>
              <a:xfrm>
                <a:off x="3132000" y="2958480"/>
                <a:ext cx="1008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…</a:t>
                </a: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1042920" y="3966840"/>
              <a:ext cx="7850160" cy="642600"/>
              <a:chOff x="1042920" y="3966840"/>
              <a:chExt cx="7850160" cy="642600"/>
            </a:xfrm>
          </p:grpSpPr>
          <p:sp>
            <p:nvSpPr>
              <p:cNvPr id="418" name=""/>
              <p:cNvSpPr/>
              <p:nvPr/>
            </p:nvSpPr>
            <p:spPr>
              <a:xfrm>
                <a:off x="1042920" y="3966840"/>
                <a:ext cx="785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0000"/>
                    </a:solidFill>
                    <a:latin typeface="Comic Sans MS"/>
                  </a:rPr>
                  <a:t>      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Comic Sans MS"/>
                  </a:rPr>
                  <a:t>通过上述探究你能猜测出：       并验证你的结论． 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164360" y="4469760"/>
                <a:ext cx="165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20" name=""/>
          <p:cNvGrpSpPr/>
          <p:nvPr/>
        </p:nvGrpSpPr>
        <p:grpSpPr>
          <a:xfrm>
            <a:off x="352440" y="0"/>
            <a:ext cx="1915920" cy="1002960"/>
            <a:chOff x="352440" y="0"/>
            <a:chExt cx="1915920" cy="1002960"/>
          </a:xfrm>
        </p:grpSpPr>
        <p:grpSp>
          <p:nvGrpSpPr>
            <p:cNvPr id="421" name=""/>
            <p:cNvGrpSpPr/>
            <p:nvPr/>
          </p:nvGrpSpPr>
          <p:grpSpPr>
            <a:xfrm>
              <a:off x="352440" y="0"/>
              <a:ext cx="1915920" cy="1002960"/>
              <a:chOff x="352440" y="0"/>
              <a:chExt cx="1915920" cy="1002960"/>
            </a:xfrm>
          </p:grpSpPr>
          <p:sp>
            <p:nvSpPr>
              <p:cNvPr id="422" name=""/>
              <p:cNvSpPr/>
              <p:nvPr/>
            </p:nvSpPr>
            <p:spPr>
              <a:xfrm>
                <a:off x="352440" y="291960"/>
                <a:ext cx="1872000" cy="711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74400" y="0"/>
                <a:ext cx="18939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423720" y="40176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拓展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755640" y="19890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 </a:t>
            </a:r>
            <a:r>
              <a:rPr b="1" lang="zh-CN" sz="3600" spc="-1" strike="noStrike">
                <a:solidFill>
                  <a:srgbClr val="00b200"/>
                </a:solidFill>
                <a:latin typeface="Times New Roman"/>
                <a:ea typeface="华文中宋"/>
              </a:rPr>
              <a:t>一路下来，我们结识了很多新知识，你能谈谈自己的收获吗？说一说，让大家一起来分享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5580000" y="3500280"/>
            <a:ext cx="2301840" cy="17622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5724360" y="907920"/>
            <a:ext cx="2314800" cy="67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硕果累累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352440" y="0"/>
            <a:ext cx="1915920" cy="1002960"/>
            <a:chOff x="352440" y="0"/>
            <a:chExt cx="1915920" cy="1002960"/>
          </a:xfrm>
        </p:grpSpPr>
        <p:grpSp>
          <p:nvGrpSpPr>
            <p:cNvPr id="429" name=""/>
            <p:cNvGrpSpPr/>
            <p:nvPr/>
          </p:nvGrpSpPr>
          <p:grpSpPr>
            <a:xfrm>
              <a:off x="352440" y="0"/>
              <a:ext cx="1915920" cy="1002960"/>
              <a:chOff x="352440" y="0"/>
              <a:chExt cx="1915920" cy="1002960"/>
            </a:xfrm>
          </p:grpSpPr>
          <p:sp>
            <p:nvSpPr>
              <p:cNvPr id="430" name=""/>
              <p:cNvSpPr/>
              <p:nvPr/>
            </p:nvSpPr>
            <p:spPr>
              <a:xfrm>
                <a:off x="352440" y="291960"/>
                <a:ext cx="1872000" cy="711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74400" y="0"/>
                <a:ext cx="18939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423720" y="40176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评价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"/>
          <p:cNvGrpSpPr/>
          <p:nvPr/>
        </p:nvGrpSpPr>
        <p:grpSpPr>
          <a:xfrm>
            <a:off x="352440" y="0"/>
            <a:ext cx="1915920" cy="1002960"/>
            <a:chOff x="352440" y="0"/>
            <a:chExt cx="1915920" cy="1002960"/>
          </a:xfrm>
        </p:grpSpPr>
        <p:grpSp>
          <p:nvGrpSpPr>
            <p:cNvPr id="434" name=""/>
            <p:cNvGrpSpPr/>
            <p:nvPr/>
          </p:nvGrpSpPr>
          <p:grpSpPr>
            <a:xfrm>
              <a:off x="352440" y="0"/>
              <a:ext cx="1915920" cy="1002960"/>
              <a:chOff x="352440" y="0"/>
              <a:chExt cx="1915920" cy="1002960"/>
            </a:xfrm>
          </p:grpSpPr>
          <p:sp>
            <p:nvSpPr>
              <p:cNvPr id="435" name=""/>
              <p:cNvSpPr/>
              <p:nvPr/>
            </p:nvSpPr>
            <p:spPr>
              <a:xfrm>
                <a:off x="352440" y="291960"/>
                <a:ext cx="1872000" cy="711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74400" y="0"/>
                <a:ext cx="18939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423720" y="40176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课堂小结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1116000" y="3213000"/>
            <a:ext cx="6337080" cy="1711440"/>
            <a:chOff x="1116000" y="3213000"/>
            <a:chExt cx="6337080" cy="1711440"/>
          </a:xfrm>
        </p:grpSpPr>
        <p:sp>
          <p:nvSpPr>
            <p:cNvPr id="439" name=""/>
            <p:cNvSpPr/>
            <p:nvPr/>
          </p:nvSpPr>
          <p:spPr>
            <a:xfrm>
              <a:off x="1116000" y="3213000"/>
              <a:ext cx="381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500cc"/>
                  </a:solidFill>
                  <a:latin typeface="宋体"/>
                </a:rPr>
                <a:t>逆用乘法法则</a:t>
              </a:r>
              <a:r>
                <a:rPr b="0" lang="en-US" sz="3200" spc="-1" strike="noStrike">
                  <a:solidFill>
                    <a:srgbClr val="3500cc"/>
                  </a:solidFill>
                  <a:latin typeface="宋体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0" name=""/>
                <p:cNvSpPr txBox="1"/>
                <p:nvPr/>
              </p:nvSpPr>
              <p:spPr>
                <a:xfrm>
                  <a:off x="2412720" y="4221000"/>
                  <a:ext cx="5040360" cy="70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a</m:t>
                          </m:r>
                        </m:e>
                      </m:rad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b</m:t>
                          </m:r>
                        </m:e>
                      </m:rad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b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1" name=""/>
          <p:cNvGrpSpPr/>
          <p:nvPr/>
        </p:nvGrpSpPr>
        <p:grpSpPr>
          <a:xfrm>
            <a:off x="1116000" y="1341360"/>
            <a:ext cx="6335640" cy="1582920"/>
            <a:chOff x="1116000" y="1341360"/>
            <a:chExt cx="6335640" cy="1582920"/>
          </a:xfrm>
        </p:grpSpPr>
        <mc:AlternateContent>
          <mc:Choice xmlns:a14="http://schemas.microsoft.com/office/drawing/2010/main" Requires="a14">
            <p:sp>
              <p:nvSpPr>
                <p:cNvPr id="442" name="Rectangle 4"/>
                <p:cNvSpPr txBox="1"/>
                <p:nvPr/>
              </p:nvSpPr>
              <p:spPr>
                <a:xfrm>
                  <a:off x="2452680" y="2225520"/>
                  <a:ext cx="4998960" cy="69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a</m:t>
                          </m:r>
                        </m:e>
                      </m:rad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b</m:t>
                          </m:r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e>
                      </m:rad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b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3" name=""/>
            <p:cNvSpPr/>
            <p:nvPr/>
          </p:nvSpPr>
          <p:spPr>
            <a:xfrm>
              <a:off x="1116000" y="1341360"/>
              <a:ext cx="439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500cc"/>
                  </a:solidFill>
                  <a:latin typeface="Comic Sans MS"/>
                </a:rPr>
                <a:t>二次根式的乘法法则：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2987640" y="134136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703dff"/>
                </a:solidFill>
                <a:latin typeface="Arial"/>
              </a:rPr>
              <a:t>作业布置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"/>
          <p:cNvSpPr/>
          <p:nvPr/>
        </p:nvSpPr>
        <p:spPr>
          <a:xfrm>
            <a:off x="1547640" y="3213000"/>
            <a:ext cx="64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课本：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67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页  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．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87280" y="104940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：计算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627280" y="1773360"/>
                <a:ext cx="22320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700360" y="2852640"/>
                <a:ext cx="187308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700360" y="4437000"/>
                <a:ext cx="35989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a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  <m:r>
                          <m:t xml:space="preserve">a</m:t>
                        </m:r>
                      </m:e>
                    </m:rad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5" name=""/>
          <p:cNvGrpSpPr/>
          <p:nvPr/>
        </p:nvGrpSpPr>
        <p:grpSpPr>
          <a:xfrm>
            <a:off x="352440" y="0"/>
            <a:ext cx="1915920" cy="1002960"/>
            <a:chOff x="352440" y="0"/>
            <a:chExt cx="1915920" cy="1002960"/>
          </a:xfrm>
        </p:grpSpPr>
        <p:grpSp>
          <p:nvGrpSpPr>
            <p:cNvPr id="196" name=""/>
            <p:cNvGrpSpPr/>
            <p:nvPr/>
          </p:nvGrpSpPr>
          <p:grpSpPr>
            <a:xfrm>
              <a:off x="352440" y="0"/>
              <a:ext cx="1915920" cy="1002960"/>
              <a:chOff x="352440" y="0"/>
              <a:chExt cx="1915920" cy="1002960"/>
            </a:xfrm>
          </p:grpSpPr>
          <p:sp>
            <p:nvSpPr>
              <p:cNvPr id="197" name=""/>
              <p:cNvSpPr/>
              <p:nvPr/>
            </p:nvSpPr>
            <p:spPr>
              <a:xfrm>
                <a:off x="352440" y="291960"/>
                <a:ext cx="1872000" cy="711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74400" y="0"/>
                <a:ext cx="18939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423720" y="40176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合作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0" name="Rectangle 4"/>
              <p:cNvSpPr txBox="1"/>
              <p:nvPr/>
            </p:nvSpPr>
            <p:spPr>
              <a:xfrm>
                <a:off x="1332000" y="907920"/>
                <a:ext cx="5400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：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Rectangle 4"/>
              <p:cNvSpPr txBox="1"/>
              <p:nvPr/>
            </p:nvSpPr>
            <p:spPr>
              <a:xfrm>
                <a:off x="1979640" y="1989000"/>
                <a:ext cx="44640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Rectangle 4"/>
              <p:cNvSpPr txBox="1"/>
              <p:nvPr/>
            </p:nvSpPr>
            <p:spPr>
              <a:xfrm>
                <a:off x="2411280" y="4581360"/>
                <a:ext cx="583272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a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  <m:r>
                          <m:t xml:space="preserve">a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979640" y="3716280"/>
                <a:ext cx="302400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当a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时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4" name=""/>
          <p:cNvGrpSpPr/>
          <p:nvPr/>
        </p:nvGrpSpPr>
        <p:grpSpPr>
          <a:xfrm>
            <a:off x="352440" y="0"/>
            <a:ext cx="1915920" cy="1002960"/>
            <a:chOff x="352440" y="0"/>
            <a:chExt cx="1915920" cy="1002960"/>
          </a:xfrm>
        </p:grpSpPr>
        <p:grpSp>
          <p:nvGrpSpPr>
            <p:cNvPr id="205" name=""/>
            <p:cNvGrpSpPr/>
            <p:nvPr/>
          </p:nvGrpSpPr>
          <p:grpSpPr>
            <a:xfrm>
              <a:off x="352440" y="0"/>
              <a:ext cx="1915920" cy="1002960"/>
              <a:chOff x="352440" y="0"/>
              <a:chExt cx="1915920" cy="1002960"/>
            </a:xfrm>
          </p:grpSpPr>
          <p:sp>
            <p:nvSpPr>
              <p:cNvPr id="206" name=""/>
              <p:cNvSpPr/>
              <p:nvPr/>
            </p:nvSpPr>
            <p:spPr>
              <a:xfrm>
                <a:off x="352440" y="291960"/>
                <a:ext cx="1872000" cy="711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74400" y="0"/>
                <a:ext cx="18939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423720" y="40176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合作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258920" y="1484280"/>
            <a:ext cx="72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宋体"/>
              </a:rPr>
              <a:t>练习一</a:t>
            </a:r>
            <a:r>
              <a:rPr b="0" lang="zh-CN" sz="4800" spc="-1" strike="noStrike">
                <a:solidFill>
                  <a:srgbClr val="3500cc"/>
                </a:solidFill>
                <a:latin typeface="宋体"/>
              </a:rPr>
              <a:t>：课本</a:t>
            </a:r>
            <a:r>
              <a:rPr b="0" lang="en-US" sz="4800" spc="-1" strike="noStrike">
                <a:solidFill>
                  <a:srgbClr val="3500cc"/>
                </a:solidFill>
                <a:latin typeface="宋体"/>
              </a:rPr>
              <a:t>62</a:t>
            </a:r>
            <a:r>
              <a:rPr b="0" lang="zh-CN" sz="4800" spc="-1" strike="noStrike">
                <a:solidFill>
                  <a:srgbClr val="3500cc"/>
                </a:solidFill>
                <a:latin typeface="宋体"/>
              </a:rPr>
              <a:t>页练习</a:t>
            </a:r>
            <a:r>
              <a:rPr b="0" lang="en-US" sz="4800" spc="-1" strike="noStrike">
                <a:solidFill>
                  <a:srgbClr val="3500cc"/>
                </a:solidFill>
                <a:latin typeface="宋体"/>
              </a:rPr>
              <a:t>1</a:t>
            </a:r>
            <a:r>
              <a:rPr b="0" lang="zh-CN" sz="4800" spc="-1" strike="noStrike">
                <a:solidFill>
                  <a:srgbClr val="3500cc"/>
                </a:solidFill>
                <a:latin typeface="宋体"/>
              </a:rPr>
              <a:t>．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52440" y="0"/>
            <a:ext cx="1915920" cy="1002960"/>
            <a:chOff x="352440" y="0"/>
            <a:chExt cx="1915920" cy="1002960"/>
          </a:xfrm>
        </p:grpSpPr>
        <p:grpSp>
          <p:nvGrpSpPr>
            <p:cNvPr id="211" name=""/>
            <p:cNvGrpSpPr/>
            <p:nvPr/>
          </p:nvGrpSpPr>
          <p:grpSpPr>
            <a:xfrm>
              <a:off x="352440" y="0"/>
              <a:ext cx="1915920" cy="1002960"/>
              <a:chOff x="352440" y="0"/>
              <a:chExt cx="1915920" cy="1002960"/>
            </a:xfrm>
          </p:grpSpPr>
          <p:sp>
            <p:nvSpPr>
              <p:cNvPr id="212" name=""/>
              <p:cNvSpPr/>
              <p:nvPr/>
            </p:nvSpPr>
            <p:spPr>
              <a:xfrm>
                <a:off x="352440" y="291960"/>
                <a:ext cx="1872000" cy="711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74400" y="0"/>
                <a:ext cx="18939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423720" y="40176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合作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979640" y="2565360"/>
            <a:ext cx="4398480" cy="3022560"/>
            <a:chOff x="1979640" y="2565360"/>
            <a:chExt cx="4398480" cy="3022560"/>
          </a:xfrm>
        </p:grpSpPr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2860560" y="3373560"/>
                  <a:ext cx="1134720" cy="77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5072040" y="3425760"/>
                  <a:ext cx="1174320" cy="68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2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2917800" y="4797360"/>
                  <a:ext cx="1255320" cy="79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9" name=""/>
                <p:cNvSpPr txBox="1"/>
                <p:nvPr/>
              </p:nvSpPr>
              <p:spPr>
                <a:xfrm>
                  <a:off x="5074920" y="4844880"/>
                  <a:ext cx="1303200" cy="71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4</m:t>
                          </m:r>
                        </m:e>
                      </m:d>
                      <m:r>
                        <m:t xml:space="preserve">3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20" name=""/>
            <p:cNvSpPr/>
            <p:nvPr/>
          </p:nvSpPr>
          <p:spPr>
            <a:xfrm>
              <a:off x="1979640" y="2565360"/>
              <a:ext cx="2171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500cc"/>
                  </a:solidFill>
                  <a:latin typeface="Comic Sans MS"/>
                </a:rPr>
                <a:t>答案：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971640" y="1197000"/>
            <a:ext cx="6337080" cy="1711440"/>
            <a:chOff x="971640" y="1197000"/>
            <a:chExt cx="6337080" cy="1711440"/>
          </a:xfrm>
        </p:grpSpPr>
        <p:sp>
          <p:nvSpPr>
            <p:cNvPr id="222" name=""/>
            <p:cNvSpPr/>
            <p:nvPr/>
          </p:nvSpPr>
          <p:spPr>
            <a:xfrm>
              <a:off x="971640" y="1197000"/>
              <a:ext cx="381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500cc"/>
                  </a:solidFill>
                  <a:latin typeface="宋体"/>
                </a:rPr>
                <a:t>逆用乘法法则</a:t>
              </a:r>
              <a:r>
                <a:rPr b="0" lang="en-US" sz="3200" spc="-1" strike="noStrike">
                  <a:solidFill>
                    <a:srgbClr val="3500cc"/>
                  </a:solidFill>
                  <a:latin typeface="宋体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2268360" y="2205000"/>
                  <a:ext cx="5040360" cy="70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a</m:t>
                          </m:r>
                        </m:e>
                      </m:rad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b</m:t>
                          </m:r>
                        </m:e>
                      </m:rad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b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4" name=""/>
          <p:cNvSpPr/>
          <p:nvPr/>
        </p:nvSpPr>
        <p:spPr>
          <a:xfrm>
            <a:off x="971640" y="3716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500cc"/>
                </a:solidFill>
                <a:latin typeface="Comic Sans MS"/>
              </a:rPr>
              <a:t>文字语言叙述：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1042920" y="450864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黑体"/>
              </a:rPr>
              <a:t>积的算术平方根，等于积中各因式的算术平方根的积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黑体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52440" y="0"/>
            <a:ext cx="1915920" cy="1002960"/>
            <a:chOff x="352440" y="0"/>
            <a:chExt cx="1915920" cy="1002960"/>
          </a:xfrm>
        </p:grpSpPr>
        <p:grpSp>
          <p:nvGrpSpPr>
            <p:cNvPr id="227" name=""/>
            <p:cNvGrpSpPr/>
            <p:nvPr/>
          </p:nvGrpSpPr>
          <p:grpSpPr>
            <a:xfrm>
              <a:off x="352440" y="0"/>
              <a:ext cx="1915920" cy="1002960"/>
              <a:chOff x="352440" y="0"/>
              <a:chExt cx="1915920" cy="1002960"/>
            </a:xfrm>
          </p:grpSpPr>
          <p:sp>
            <p:nvSpPr>
              <p:cNvPr id="228" name=""/>
              <p:cNvSpPr/>
              <p:nvPr/>
            </p:nvSpPr>
            <p:spPr>
              <a:xfrm>
                <a:off x="352440" y="291960"/>
                <a:ext cx="1872000" cy="711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74400" y="0"/>
                <a:ext cx="18939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423720" y="40176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探究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971640" y="90792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：化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556000" y="2852640"/>
                <a:ext cx="251928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2549520" y="4149720"/>
                <a:ext cx="48308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556000" y="1773360"/>
                <a:ext cx="146844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239" name=""/>
          <p:cNvGrpSpPr/>
          <p:nvPr/>
        </p:nvGrpSpPr>
        <p:grpSpPr>
          <a:xfrm>
            <a:off x="352440" y="0"/>
            <a:ext cx="1915920" cy="1002960"/>
            <a:chOff x="352440" y="0"/>
            <a:chExt cx="1915920" cy="1002960"/>
          </a:xfrm>
        </p:grpSpPr>
        <p:grpSp>
          <p:nvGrpSpPr>
            <p:cNvPr id="240" name=""/>
            <p:cNvGrpSpPr/>
            <p:nvPr/>
          </p:nvGrpSpPr>
          <p:grpSpPr>
            <a:xfrm>
              <a:off x="352440" y="0"/>
              <a:ext cx="1915920" cy="1002960"/>
              <a:chOff x="352440" y="0"/>
              <a:chExt cx="1915920" cy="1002960"/>
            </a:xfrm>
          </p:grpSpPr>
          <p:sp>
            <p:nvSpPr>
              <p:cNvPr id="241" name=""/>
              <p:cNvSpPr/>
              <p:nvPr/>
            </p:nvSpPr>
            <p:spPr>
              <a:xfrm>
                <a:off x="352440" y="291960"/>
                <a:ext cx="1872000" cy="711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4400" y="0"/>
                <a:ext cx="18939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423720" y="40176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合作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4" name="Rectangle 4"/>
              <p:cNvSpPr txBox="1"/>
              <p:nvPr/>
            </p:nvSpPr>
            <p:spPr>
              <a:xfrm>
                <a:off x="1619280" y="2924280"/>
                <a:ext cx="532764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=</m:t>
                    </m:r>
                    <m:r>
                      <m:t xml:space="preserve">a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Rectangle 4"/>
              <p:cNvSpPr txBox="1"/>
              <p:nvPr/>
            </p:nvSpPr>
            <p:spPr>
              <a:xfrm>
                <a:off x="1692360" y="4149720"/>
                <a:ext cx="612144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b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246" name=""/>
          <p:cNvGrpSpPr/>
          <p:nvPr/>
        </p:nvGrpSpPr>
        <p:grpSpPr>
          <a:xfrm>
            <a:off x="898560" y="1574640"/>
            <a:ext cx="7632720" cy="879480"/>
            <a:chOff x="898560" y="1574640"/>
            <a:chExt cx="7632720" cy="879480"/>
          </a:xfrm>
        </p:grpSpPr>
        <mc:AlternateContent>
          <mc:Choice xmlns:a14="http://schemas.microsoft.com/office/drawing/2010/main" Requires="a14">
            <p:sp>
              <p:nvSpPr>
                <p:cNvPr id="247" name="Rectangle 4"/>
                <p:cNvSpPr txBox="1"/>
                <p:nvPr/>
              </p:nvSpPr>
              <p:spPr>
                <a:xfrm>
                  <a:off x="1547640" y="1628640"/>
                  <a:ext cx="698364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4</m:t>
                          </m:r>
                          <m:r>
                            <m:t xml:space="preserve">×</m:t>
                          </m:r>
                          <m:r>
                            <m:t xml:space="preserve">3</m:t>
                          </m:r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4</m:t>
                          </m:r>
                        </m:e>
                      </m:rad>
                      <m:r>
                        <m:t xml:space="preserve">×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  <m:r>
                        <m:t xml:space="preserve">=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48" name=""/>
            <p:cNvSpPr/>
            <p:nvPr/>
          </p:nvSpPr>
          <p:spPr>
            <a:xfrm>
              <a:off x="898560" y="1574640"/>
              <a:ext cx="115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Comic Sans MS"/>
                </a:rPr>
                <a:t>解：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352440" y="0"/>
            <a:ext cx="1915920" cy="1002960"/>
            <a:chOff x="352440" y="0"/>
            <a:chExt cx="1915920" cy="1002960"/>
          </a:xfrm>
        </p:grpSpPr>
        <p:grpSp>
          <p:nvGrpSpPr>
            <p:cNvPr id="250" name=""/>
            <p:cNvGrpSpPr/>
            <p:nvPr/>
          </p:nvGrpSpPr>
          <p:grpSpPr>
            <a:xfrm>
              <a:off x="352440" y="0"/>
              <a:ext cx="1915920" cy="1002960"/>
              <a:chOff x="352440" y="0"/>
              <a:chExt cx="1915920" cy="1002960"/>
            </a:xfrm>
          </p:grpSpPr>
          <p:sp>
            <p:nvSpPr>
              <p:cNvPr id="251" name=""/>
              <p:cNvSpPr/>
              <p:nvPr/>
            </p:nvSpPr>
            <p:spPr>
              <a:xfrm>
                <a:off x="352440" y="291960"/>
                <a:ext cx="1872000" cy="711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74400" y="0"/>
                <a:ext cx="18939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423720" y="40176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合作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258920" y="126828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宋体"/>
              </a:rPr>
              <a:t>练习二：</a:t>
            </a:r>
            <a:r>
              <a:rPr b="0" lang="zh-CN" sz="4800" spc="-1" strike="noStrike">
                <a:solidFill>
                  <a:srgbClr val="3500cc"/>
                </a:solidFill>
                <a:latin typeface="宋体"/>
              </a:rPr>
              <a:t>课本</a:t>
            </a:r>
            <a:r>
              <a:rPr b="0" lang="en-US" sz="4800" spc="-1" strike="noStrike">
                <a:solidFill>
                  <a:srgbClr val="3500cc"/>
                </a:solidFill>
                <a:latin typeface="宋体"/>
              </a:rPr>
              <a:t>62</a:t>
            </a:r>
            <a:r>
              <a:rPr b="0" lang="zh-CN" sz="4800" spc="-1" strike="noStrike">
                <a:solidFill>
                  <a:srgbClr val="3500cc"/>
                </a:solidFill>
                <a:latin typeface="宋体"/>
              </a:rPr>
              <a:t>页练习</a:t>
            </a:r>
            <a:r>
              <a:rPr b="0" lang="en-US" sz="4800" spc="-1" strike="noStrike">
                <a:solidFill>
                  <a:srgbClr val="3500cc"/>
                </a:solidFill>
                <a:latin typeface="宋体"/>
              </a:rPr>
              <a:t>2</a:t>
            </a:r>
            <a:r>
              <a:rPr b="0" lang="zh-CN" sz="4800" spc="-1" strike="noStrike">
                <a:solidFill>
                  <a:srgbClr val="3500cc"/>
                </a:solidFill>
                <a:latin typeface="宋体"/>
              </a:rPr>
              <a:t>．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52440" y="0"/>
            <a:ext cx="1915920" cy="1002960"/>
            <a:chOff x="352440" y="0"/>
            <a:chExt cx="1915920" cy="1002960"/>
          </a:xfrm>
        </p:grpSpPr>
        <p:grpSp>
          <p:nvGrpSpPr>
            <p:cNvPr id="256" name=""/>
            <p:cNvGrpSpPr/>
            <p:nvPr/>
          </p:nvGrpSpPr>
          <p:grpSpPr>
            <a:xfrm>
              <a:off x="352440" y="0"/>
              <a:ext cx="1915920" cy="1002960"/>
              <a:chOff x="352440" y="0"/>
              <a:chExt cx="1915920" cy="1002960"/>
            </a:xfrm>
          </p:grpSpPr>
          <p:sp>
            <p:nvSpPr>
              <p:cNvPr id="257" name=""/>
              <p:cNvSpPr/>
              <p:nvPr/>
            </p:nvSpPr>
            <p:spPr>
              <a:xfrm>
                <a:off x="352440" y="291960"/>
                <a:ext cx="1872000" cy="711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74400" y="0"/>
                <a:ext cx="18939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423720" y="40176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合作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403280" y="2282760"/>
            <a:ext cx="6553440" cy="2633760"/>
            <a:chOff x="1403280" y="2282760"/>
            <a:chExt cx="6553440" cy="2633760"/>
          </a:xfrm>
        </p:grpSpPr>
        <mc:AlternateContent>
          <mc:Choice xmlns:a14="http://schemas.microsoft.com/office/drawing/2010/main" Requires="a14">
            <p:sp>
              <p:nvSpPr>
                <p:cNvPr id="261" name=""/>
                <p:cNvSpPr txBox="1"/>
                <p:nvPr/>
              </p:nvSpPr>
              <p:spPr>
                <a:xfrm>
                  <a:off x="1936800" y="3036960"/>
                  <a:ext cx="1195200" cy="7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2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2" name=""/>
                <p:cNvSpPr txBox="1"/>
                <p:nvPr/>
              </p:nvSpPr>
              <p:spPr>
                <a:xfrm>
                  <a:off x="3984480" y="3025800"/>
                  <a:ext cx="1524240" cy="76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</m:e>
                      </m:d>
                      <m:r>
                        <m:t xml:space="preserve">5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6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6213600" y="2924280"/>
                  <a:ext cx="1743120" cy="76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</m:e>
                      </m:d>
                      <m:r>
                        <m:t xml:space="preserve">3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  <m:r>
                            <m:t xml:space="preserve">a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4" name=""/>
                <p:cNvSpPr txBox="1"/>
                <p:nvPr/>
              </p:nvSpPr>
              <p:spPr>
                <a:xfrm>
                  <a:off x="2021040" y="4221000"/>
                  <a:ext cx="1830240" cy="69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4</m:t>
                          </m:r>
                        </m:e>
                      </m:d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ab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b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65" name=""/>
            <p:cNvSpPr/>
            <p:nvPr/>
          </p:nvSpPr>
          <p:spPr>
            <a:xfrm>
              <a:off x="1403280" y="2282760"/>
              <a:ext cx="1893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500cc"/>
                  </a:solidFill>
                  <a:latin typeface="Comic Sans MS"/>
                </a:rPr>
                <a:t>答案：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4067280" y="4246560"/>
                  <a:ext cx="1025280" cy="62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5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24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2:28:58Z</dcterms:created>
  <dc:creator>毛云峰</dc:creator>
  <dc:description/>
  <dc:language>en-US</dc:language>
  <cp:lastModifiedBy>User</cp:lastModifiedBy>
  <dcterms:modified xsi:type="dcterms:W3CDTF">2013-09-21T01:11:00Z</dcterms:modified>
  <cp:revision>179</cp:revision>
  <dc:subject/>
  <dc:title>九年级3.2二次根式的乘除第一课时课件</dc:title>
</cp:coreProperties>
</file>