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CD5B-1A2D-4076-87DE-CC818EA3744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DFD3-7781-4528-A562-986F0306FEE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ACF3-6DAB-4C15-B452-F907C4CC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A7E6-EDE9-43A6-80E2-C193A6BB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0E5E-58E2-47B3-841C-D799F8FC9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654A-F8F7-4EB7-BC99-BF18D675D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D9A0-E60F-4DFB-892B-FC94497F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AE2F-1907-4012-8FE4-02DC34E9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F972-9B76-4F7C-90E1-2C808EF9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EE9A-8D0B-4603-8AC0-F4CA6122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9B34-EE69-4DF9-8B2B-8217C5D5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2D65-F617-410E-A16C-AE6D72D8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5C65-5D1D-4FE7-B215-65C8C14A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B930-102A-4A7E-8762-8723A8E6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FFC4-0A2D-436C-B509-6BE55DB6F7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835280" y="858960"/>
            <a:ext cx="5761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第三章   二次根式</a:t>
            </a:r>
            <a:endParaRPr b="0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979640" y="2924280"/>
            <a:ext cx="5616720" cy="14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§3.2</a:t>
            </a:r>
            <a:r>
              <a:rPr b="0" lang="zh-CN" sz="1800" spc="-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二次根式的乘除</a:t>
            </a:r>
            <a:r>
              <a:rPr b="0" lang="en-US" sz="1800" spc="-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(2)</a:t>
            </a:r>
            <a:endParaRPr b="0" lang="en-US" sz="1800" spc="-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84360" y="54936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隶书"/>
              </a:rPr>
              <a:t>练习二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20072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6" name=""/>
          <p:cNvGraphicFramePr/>
          <p:nvPr/>
        </p:nvGraphicFramePr>
        <p:xfrm>
          <a:off x="955800" y="2620800"/>
          <a:ext cx="4840200" cy="111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5800" y="2620800"/>
                    <a:ext cx="484020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971640" y="3716280"/>
          <a:ext cx="7775640" cy="1584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71640" y="3716280"/>
                    <a:ext cx="777564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6804000" y="1700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2&lt;x≤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14920" y="2852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172360" y="4005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4360" y="54936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隶书"/>
              </a:rPr>
              <a:t>练习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792000" y="3359160"/>
            <a:ext cx="8388360" cy="1654200"/>
            <a:chOff x="792000" y="3359160"/>
            <a:chExt cx="8388360" cy="1654200"/>
          </a:xfrm>
        </p:grpSpPr>
        <p:sp>
          <p:nvSpPr>
            <p:cNvPr id="206" name=""/>
            <p:cNvSpPr/>
            <p:nvPr/>
          </p:nvSpPr>
          <p:spPr>
            <a:xfrm>
              <a:off x="792000" y="3502080"/>
              <a:ext cx="42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．已知实数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满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7" name=""/>
            <p:cNvGraphicFramePr/>
            <p:nvPr/>
          </p:nvGraphicFramePr>
          <p:xfrm>
            <a:off x="4895640" y="3359160"/>
            <a:ext cx="3168720" cy="863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95640" y="3359160"/>
                      <a:ext cx="3168720" cy="86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9" name=""/>
            <p:cNvGraphicFramePr/>
            <p:nvPr/>
          </p:nvGraphicFramePr>
          <p:xfrm>
            <a:off x="1584000" y="4222800"/>
            <a:ext cx="2951280" cy="790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84000" y="4222800"/>
                      <a:ext cx="2951280" cy="79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1" name=""/>
            <p:cNvSpPr/>
            <p:nvPr/>
          </p:nvSpPr>
          <p:spPr>
            <a:xfrm>
              <a:off x="8064360" y="3429720"/>
              <a:ext cx="111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463640" y="4328280"/>
              <a:ext cx="151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的值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5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755640" y="1413000"/>
            <a:ext cx="7920000" cy="1068840"/>
            <a:chOff x="755640" y="1413000"/>
            <a:chExt cx="7920000" cy="1068840"/>
          </a:xfrm>
        </p:grpSpPr>
        <p:graphicFrame>
          <p:nvGraphicFramePr>
            <p:cNvPr id="216" name=""/>
            <p:cNvGraphicFramePr/>
            <p:nvPr/>
          </p:nvGraphicFramePr>
          <p:xfrm>
            <a:off x="5940360" y="1413000"/>
            <a:ext cx="863640" cy="550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40360" y="1413000"/>
                      <a:ext cx="863640" cy="55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8" name=""/>
            <p:cNvGrpSpPr/>
            <p:nvPr/>
          </p:nvGrpSpPr>
          <p:grpSpPr>
            <a:xfrm>
              <a:off x="755640" y="1413000"/>
              <a:ext cx="7920000" cy="1068840"/>
              <a:chOff x="755640" y="1413000"/>
              <a:chExt cx="7920000" cy="1068840"/>
            </a:xfrm>
          </p:grpSpPr>
          <p:sp>
            <p:nvSpPr>
              <p:cNvPr id="219" name=""/>
              <p:cNvSpPr/>
              <p:nvPr/>
            </p:nvSpPr>
            <p:spPr>
              <a:xfrm>
                <a:off x="755640" y="1413000"/>
                <a:ext cx="79200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</a:rPr>
                  <a:t>．已知一个长方形的面积为        ，其中一   边长为      ，求长方形的对角线的长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20" name=""/>
              <p:cNvGraphicFramePr/>
              <p:nvPr/>
            </p:nvGraphicFramePr>
            <p:xfrm>
              <a:off x="2050920" y="1844640"/>
              <a:ext cx="720720" cy="5763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21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050920" y="1844640"/>
                        <a:ext cx="720720" cy="576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222" name=""/>
          <p:cNvGraphicFramePr/>
          <p:nvPr/>
        </p:nvGraphicFramePr>
        <p:xfrm>
          <a:off x="1467000" y="2637000"/>
          <a:ext cx="5202000" cy="684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67000" y="2637000"/>
                    <a:ext cx="520200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95280" y="105264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次根式的除法法则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476280"/>
            <a:ext cx="85406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课堂小结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852640" y="2421000"/>
                <a:ext cx="403884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rad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，</m:t>
                    </m:r>
                    <m:r>
                      <m:t xml:space="preserve">b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395280" y="177336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次根式的除法有两种常用方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8080" y="2584440"/>
            <a:ext cx="37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利用公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9280" y="3498840"/>
            <a:ext cx="92520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把除法先写成分式的形式，再进行分母有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运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95280" y="1771560"/>
          <a:ext cx="8461440" cy="17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1560"/>
                    <a:ext cx="846144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345960" y="3859920"/>
            <a:ext cx="841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能对有关运算结果进行化简，并能运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其解决简单的实际问题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95280" y="1125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什么叫二次根式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50920" y="2205000"/>
                <a:ext cx="85723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式子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叫做二次根式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1042920" y="33577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两个基本性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372360" y="228600"/>
            <a:ext cx="2466720" cy="2070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38000" y="371520"/>
            <a:ext cx="115596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复习提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28480" y="4221000"/>
            <a:ext cx="7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=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49402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a  (a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≥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988920" y="5157720"/>
                <a:ext cx="12178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060560" y="4005360"/>
                <a:ext cx="154620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a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4572000" y="58752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-a  (a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＜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52720" y="544356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56000" y="5300640"/>
            <a:ext cx="216000" cy="1081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41640" y="537372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=∣a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429264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(a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≥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5292720"/>
            <a:ext cx="80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隶书"/>
              </a:rPr>
              <a:t>思考：二次根式的除法有没有类似的法则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隶书"/>
              </a:rPr>
              <a:t>请试着自己举出一些例子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119700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Arial"/>
                <a:ea typeface="隶书"/>
              </a:rPr>
              <a:t>3.</a:t>
            </a:r>
            <a:r>
              <a:rPr b="1" lang="zh-CN" sz="4400" spc="-1" strike="noStrike">
                <a:solidFill>
                  <a:srgbClr val="cc0066"/>
                </a:solidFill>
                <a:latin typeface="Arial"/>
                <a:ea typeface="隶书"/>
              </a:rPr>
              <a:t>二次根式的乘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924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算术平方根的积等于各个被开方数积的算术平方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572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积的算术平方根等于积中各因式的算术平方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38000" y="371520"/>
            <a:ext cx="115596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复习提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539640" y="3429000"/>
            <a:ext cx="6408360" cy="1080720"/>
            <a:chOff x="539640" y="3429000"/>
            <a:chExt cx="6408360" cy="1080720"/>
          </a:xfrm>
        </p:grpSpPr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598320" y="3429000"/>
                  <a:ext cx="1470600" cy="108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1892160" y="3429000"/>
                  <a:ext cx="2693520" cy="108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a</m:t>
                          </m:r>
                        </m:e>
                      </m:rad>
                      <m:r>
                        <m:t xml:space="preserve">⋅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b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77" name=""/>
            <p:cNvSpPr/>
            <p:nvPr/>
          </p:nvSpPr>
          <p:spPr>
            <a:xfrm>
              <a:off x="539640" y="3429000"/>
              <a:ext cx="640836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4655160" y="3692880"/>
                  <a:ext cx="223416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≥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b</m:t>
                      </m:r>
                      <m:r>
                        <m:t xml:space="preserve">≥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" name=""/>
          <p:cNvGrpSpPr/>
          <p:nvPr/>
        </p:nvGrpSpPr>
        <p:grpSpPr>
          <a:xfrm>
            <a:off x="611280" y="1989000"/>
            <a:ext cx="6624720" cy="1006200"/>
            <a:chOff x="611280" y="1989000"/>
            <a:chExt cx="6624720" cy="1006200"/>
          </a:xfrm>
        </p:grpSpPr>
        <p:sp>
          <p:nvSpPr>
            <p:cNvPr id="80" name=""/>
            <p:cNvSpPr/>
            <p:nvPr/>
          </p:nvSpPr>
          <p:spPr>
            <a:xfrm>
              <a:off x="611280" y="1989000"/>
              <a:ext cx="6624720" cy="9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2604240" y="1989000"/>
                  <a:ext cx="1525320" cy="92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611280" y="2072160"/>
                  <a:ext cx="2110680" cy="92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a</m:t>
                          </m:r>
                        </m:e>
                      </m:rad>
                      <m:r>
                        <m:t xml:space="preserve">⋅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b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3" name=""/>
          <p:cNvSpPr/>
          <p:nvPr/>
        </p:nvSpPr>
        <p:spPr>
          <a:xfrm>
            <a:off x="4067280" y="213372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≥0,b≥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-36360" y="765000"/>
          <a:ext cx="7089480" cy="14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360" y="765000"/>
                    <a:ext cx="708948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95400" y="2095560"/>
          <a:ext cx="6794280" cy="14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400" y="2095560"/>
                    <a:ext cx="6794280" cy="14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6659640" y="692280"/>
          <a:ext cx="2504880" cy="129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59640" y="692280"/>
                    <a:ext cx="2504880" cy="1292040"/>
                  </a:xfrm>
                  <a:prstGeom prst="rect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6800760" y="2205000"/>
          <a:ext cx="2235240" cy="1365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00760" y="2205000"/>
                    <a:ext cx="2235240" cy="1365120"/>
                  </a:xfrm>
                  <a:prstGeom prst="rect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395280" y="4653000"/>
            <a:ext cx="84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643280" y="5157720"/>
                <a:ext cx="2376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692360" y="4653000"/>
                <a:ext cx="24480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250920" y="5911920"/>
            <a:ext cx="70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隶书"/>
              </a:rPr>
              <a:t>两个二次根式相除，等于把被开方数相除，作为商的被开方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13080" y="907920"/>
          <a:ext cx="487440" cy="1298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13080" y="907920"/>
                    <a:ext cx="487440" cy="12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5724360" y="836640"/>
          <a:ext cx="487440" cy="1298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24360" y="836640"/>
                    <a:ext cx="487440" cy="12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484360" y="2060640"/>
          <a:ext cx="542880" cy="1404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84360" y="2060640"/>
                    <a:ext cx="542880" cy="14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5869080" y="2060640"/>
          <a:ext cx="542880" cy="1404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869080" y="2060640"/>
                    <a:ext cx="542880" cy="14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2666520" y="157320"/>
            <a:ext cx="50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算下列各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观察计算结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发现什么规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50720" y="3556080"/>
            <a:ext cx="2104920" cy="1096560"/>
            <a:chOff x="450720" y="3556080"/>
            <a:chExt cx="2104920" cy="1096560"/>
          </a:xfrm>
        </p:grpSpPr>
        <p:graphicFrame>
          <p:nvGraphicFramePr>
            <p:cNvPr id="106" name=""/>
            <p:cNvGraphicFramePr/>
            <p:nvPr/>
          </p:nvGraphicFramePr>
          <p:xfrm>
            <a:off x="450720" y="3556080"/>
            <a:ext cx="2104920" cy="10965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50720" y="3556080"/>
                      <a:ext cx="2104920" cy="109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" name=""/>
            <p:cNvSpPr/>
            <p:nvPr/>
          </p:nvSpPr>
          <p:spPr>
            <a:xfrm>
              <a:off x="1699920" y="4557600"/>
              <a:ext cx="48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427640" y="3429000"/>
            <a:ext cx="2087640" cy="1201680"/>
            <a:chOff x="4427640" y="3429000"/>
            <a:chExt cx="2087640" cy="1201680"/>
          </a:xfrm>
        </p:grpSpPr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4427640" y="3429000"/>
                  <a:ext cx="2087640" cy="120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5</m:t>
                              </m:r>
                            </m:e>
                          </m:rad>
                        </m:den>
                      </m:f>
                      <m:bar>
                        <m:barPr>
                          <m:pos m:val="bot"/>
                        </m:barPr>
                        <m:e/>
                      </m:bar>
                      <m:bar>
                        <m:barPr>
                          <m:pos m:val="bot"/>
                        </m:barPr>
                        <m:e/>
                      </m:ba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11" name=""/>
            <p:cNvSpPr/>
            <p:nvPr/>
          </p:nvSpPr>
          <p:spPr>
            <a:xfrm>
              <a:off x="5292720" y="433080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455840" y="3722760"/>
            <a:ext cx="7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3573360"/>
            <a:ext cx="7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200" y="5084640"/>
            <a:ext cx="90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规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42160" y="5229360"/>
            <a:ext cx="2266920" cy="15555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cc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1341360"/>
            <a:ext cx="84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643280" y="333360"/>
                <a:ext cx="2376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250920" y="2276640"/>
            <a:ext cx="29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计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333600" y="2517840"/>
          <a:ext cx="4059360" cy="10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0" y="2517840"/>
                    <a:ext cx="40593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324000" y="335772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19280" y="3716280"/>
          <a:ext cx="3492360" cy="125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9280" y="3716280"/>
                    <a:ext cx="349236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4141800" y="3894120"/>
          <a:ext cx="2735280" cy="74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41800" y="3894120"/>
                    <a:ext cx="27352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779400" y="5032440"/>
          <a:ext cx="5880240" cy="111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00" y="5032440"/>
                    <a:ext cx="588024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908000" y="0"/>
                <a:ext cx="24480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900000" y="141300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隶书"/>
              </a:rPr>
              <a:t>两个二次根式相除，等于把被开方数相除，作为商的被开方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11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990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116000" y="0"/>
            <a:ext cx="180036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cc33"/>
                </a:solidFill>
                <a:latin typeface="幼圆"/>
                <a:ea typeface="方正胖娃简体"/>
              </a:rPr>
              <a:t>试一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987640" y="0"/>
                <a:ext cx="475308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116000" y="62064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计算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843280" y="1268280"/>
                <a:ext cx="230508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rad>
                    <m:r>
                      <m:t xml:space="preserve">÷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724360" y="1341360"/>
                <a:ext cx="302436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÷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0" y="2565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0" y="4005360"/>
                <a:ext cx="186516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原式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0" y="5445000"/>
                <a:ext cx="16668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原式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722600" y="3706920"/>
                <a:ext cx="2244600" cy="12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＝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÷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851280" y="3716280"/>
                <a:ext cx="21826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＝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940360" y="4025880"/>
                <a:ext cx="10922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＝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142" name=""/>
          <p:cNvGraphicFramePr/>
          <p:nvPr/>
        </p:nvGraphicFramePr>
        <p:xfrm>
          <a:off x="1547640" y="5084640"/>
          <a:ext cx="2448000" cy="13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5084640"/>
                    <a:ext cx="244800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3924360" y="5146560"/>
          <a:ext cx="2160360" cy="134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24360" y="5146560"/>
                    <a:ext cx="216036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6084720" y="5237280"/>
          <a:ext cx="817560" cy="1150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84720" y="5237280"/>
                    <a:ext cx="81756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8" name=""/>
          <p:cNvGrpSpPr/>
          <p:nvPr/>
        </p:nvGrpSpPr>
        <p:grpSpPr>
          <a:xfrm>
            <a:off x="6599160" y="3998880"/>
            <a:ext cx="61864560" cy="468255240"/>
            <a:chOff x="6599160" y="3998880"/>
            <a:chExt cx="61864560" cy="468255240"/>
          </a:xfrm>
        </p:grpSpPr>
        <p:sp>
          <p:nvSpPr>
            <p:cNvPr id="149" name=""/>
            <p:cNvSpPr/>
            <p:nvPr/>
          </p:nvSpPr>
          <p:spPr>
            <a:xfrm flipH="1">
              <a:off x="66196440" y="469517400"/>
              <a:ext cx="2266920" cy="2736720"/>
            </a:xfrm>
            <a:prstGeom prst="flowChartMagneticTape">
              <a:avLst/>
            </a:prstGeom>
            <a:solidFill>
              <a:srgbClr val="b9e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0" name=""/>
                <p:cNvSpPr txBox="1"/>
                <p:nvPr/>
              </p:nvSpPr>
              <p:spPr>
                <a:xfrm>
                  <a:off x="66011400" y="469686960"/>
                  <a:ext cx="11412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151" name=""/>
            <p:cNvSpPr/>
            <p:nvPr/>
          </p:nvSpPr>
          <p:spPr>
            <a:xfrm>
              <a:off x="6599160" y="3998880"/>
              <a:ext cx="18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如果根号前有系数，就把系数相除，仍旧作为二次根号前的系数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900000" y="2421000"/>
                <a:ext cx="381636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364000" y="2492280"/>
                <a:ext cx="3184560" cy="12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419640" y="-38160"/>
                <a:ext cx="77940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900000" y="1330200"/>
            <a:ext cx="685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隶书"/>
              </a:rPr>
              <a:t>商的算术平方根等于被除式的算术平方根除以除式的算术平方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1268280"/>
            <a:ext cx="84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716360" y="393840"/>
                <a:ext cx="2376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0" y="220500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化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429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901880" y="-60480"/>
                <a:ext cx="1044360" cy="13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916360" y="538200"/>
                <a:ext cx="35064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826920" y="134136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隶书"/>
              </a:rPr>
              <a:t>两个二次根式相除，等于把被开方数相除，作为商的被开方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3645000"/>
            <a:ext cx="3095640" cy="10688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注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如果被开方数是带分数，应先化成假分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924360" y="2133720"/>
          <a:ext cx="1216080" cy="11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133720"/>
                    <a:ext cx="1216080" cy="11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124000" y="2205000"/>
          <a:ext cx="1152720" cy="94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2205000"/>
                    <a:ext cx="115272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5676840" y="2133720"/>
          <a:ext cx="3216240" cy="1071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76840" y="2133720"/>
                    <a:ext cx="3216240" cy="10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217520" y="3213000"/>
          <a:ext cx="3151440" cy="113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7520" y="3213000"/>
                    <a:ext cx="315144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1208160" y="4327560"/>
          <a:ext cx="4095720" cy="111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08160" y="4327560"/>
                    <a:ext cx="409572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1287360" y="5448240"/>
          <a:ext cx="3543480" cy="114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87360" y="5448240"/>
                    <a:ext cx="3543480" cy="11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-0.00949 C -0.00938 -0.00417 -0.00243 -0.00996 -0.0099 0.00648 C -0.01285 0.01296 -0.01945 0.02546 -0.01945 0.02569 C -0.02344 0.04213 -0.01997 0.03263 -0.03368 0.05092 C -0.03976 0.05902 -0.04514 0.08125 -0.04792 0.09213 C -0.04705 0.1081 -0.0467 0.12407 -0.04549 0.13981 C -0.04462 0.15092 -0.03264 0.16713 -0.02882 0.17476 C -0.02726 0.17801 -0.02657 0.18217 -0.02413 0.18426 C 0.00225 0.2074 -0.03872 0.1706 -0.0099 0.20023 C -0.00538 0.20486 0.00451 0.21273 0.00451 0.21296 C 0.01198 0.22824 0.01475 0.22453 0.0283 0.2287 C 0.04566 0.23402 0.06371 0.23703 0.08055 0.24467 C 0.10173 0.24213 0.1217 0.23726 0.14253 0.23194 C 0.15364 0.2243 0.15972 0.21851 0.16875 0.20648 C 0.17118 0.20324 0.17343 0.20023 0.17587 0.19699 C 0.17743 0.1949 0.18055 0.19051 0.18055 0.19074 C 0.18628 0.16805 0.18264 0.17708 0.1901 0.16203 C 0.18819 0.10301 0.18802 0.09722 0.18055 0.05092 C 0.17899 0.04097 0.17778 0.02453 0.17343 0.01597 C 0.16979 0.00856 0.16614 0.00347 0.16163 -0.00301 E">
                                      <p:cBhvr>
                                        <p:cTn id="281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7 C -0.00782 -0.00579 -0.01545 -0.01111 -0.02275 -0.01643 C -0.02448 -0.01759 -0.02552 -0.01968 -0.02761 -0.01991 C -0.03021 -0.02083 -0.03282 -0.02106 -0.03525 -0.02176 C -0.03785 -0.02292 -0.03976 -0.02477 -0.04254 -0.02546 C -0.05417 -0.02917 -0.06042 -0.0294 -0.0724 -0.03079 C -0.11754 -0.02917 -0.11545 -0.03542 -0.13959 -0.01829 C -0.14497 -0.01435 -0.14931 -0.01296 -0.14931 -0.00741 E">
                                      <p:cBhvr>
                                        <p:cTn id="283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42160" y="5229360"/>
            <a:ext cx="2266920" cy="15555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cc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4360" y="54936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隶书"/>
              </a:rPr>
              <a:t>练习一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11280" y="1341360"/>
          <a:ext cx="1296720" cy="10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41360"/>
                    <a:ext cx="129672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5148360" y="1413000"/>
          <a:ext cx="2682720" cy="107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8360" y="1413000"/>
                    <a:ext cx="268272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148360" y="3357720"/>
                <a:ext cx="244800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9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9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6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183" name=""/>
          <p:cNvGraphicFramePr/>
          <p:nvPr/>
        </p:nvGraphicFramePr>
        <p:xfrm>
          <a:off x="468360" y="3357720"/>
          <a:ext cx="3570120" cy="1100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3357720"/>
                    <a:ext cx="357012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1959120" y="5091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050920" y="1341360"/>
          <a:ext cx="993960" cy="117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0920" y="1341360"/>
                    <a:ext cx="99396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7800840" y="1413000"/>
          <a:ext cx="1227240" cy="1079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800840" y="1413000"/>
                    <a:ext cx="122724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946080" y="4581360"/>
          <a:ext cx="1427400" cy="1224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46080" y="4581360"/>
                    <a:ext cx="142740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867280" y="4581360"/>
          <a:ext cx="1152720" cy="1081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867280" y="4581360"/>
                    <a:ext cx="1152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3T15:11:43Z</dcterms:created>
  <dc:creator>优思数学www.yousee123.com收集整理</dc:creator>
  <dc:description>优思数学www.yousee123.com收集整理</dc:description>
  <dc:language>en-US</dc:language>
  <cp:lastModifiedBy>User</cp:lastModifiedBy>
  <dcterms:modified xsi:type="dcterms:W3CDTF">2013-09-21T01:12:12Z</dcterms:modified>
  <cp:revision>55</cp:revision>
  <dc:subject/>
  <dc:title>幻灯片 1</dc:title>
</cp:coreProperties>
</file>