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F76-06C8-4844-93F0-1139EF70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D28-70D7-442F-A70F-0B4AFF3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3BF-3475-4F89-A972-B1912A96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CFE-1873-4E8D-85E0-67998FC4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8A7-6C24-478C-8A6F-9AF1457B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2F0-59BC-4C90-BE79-A3042BAC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79F-176C-405C-B5D3-C221ACCF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CC7-E11F-4E8C-8CE3-5A866AF8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990-CA27-4D95-9FD8-3FFD2D1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F38-4D6D-45F4-A670-261C6FE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AF6-EDCD-4485-B8AC-2B5A2869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4B9-51A9-4FD3-861B-6F4E101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439-2512-4013-B723-F183D6C064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858960"/>
            <a:ext cx="576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第三章   二次根式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2924280"/>
            <a:ext cx="561672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§3.2</a:t>
            </a:r>
            <a:r>
              <a:rPr b="0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二次根式的乘除</a:t>
            </a:r>
            <a:r>
              <a:rPr b="0" lang="en-US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(3)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40384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图，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∠C=90</a:t>
            </a:r>
            <a:r>
              <a:rPr b="1" lang="zh-CN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=30</a:t>
            </a:r>
            <a:r>
              <a:rPr b="1" lang="zh-CN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C=2cm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求斜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373400" y="5226120"/>
            <a:ext cx="2925720" cy="1632240"/>
            <a:chOff x="1373400" y="5226120"/>
            <a:chExt cx="2925720" cy="1632240"/>
          </a:xfrm>
        </p:grpSpPr>
        <p:sp>
          <p:nvSpPr>
            <p:cNvPr id="206" name=""/>
            <p:cNvSpPr/>
            <p:nvPr/>
          </p:nvSpPr>
          <p:spPr>
            <a:xfrm flipH="1">
              <a:off x="1815840" y="5569200"/>
              <a:ext cx="2134440" cy="1085040"/>
            </a:xfrm>
            <a:prstGeom prst="rtTriangl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3400" y="6337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62440" y="5226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62440" y="6337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0880" y="189000"/>
            <a:ext cx="6696000" cy="2751120"/>
            <a:chOff x="380880" y="189000"/>
            <a:chExt cx="6696000" cy="2751120"/>
          </a:xfrm>
        </p:grpSpPr>
        <p:graphicFrame>
          <p:nvGraphicFramePr>
            <p:cNvPr id="211" name=""/>
            <p:cNvGraphicFramePr/>
            <p:nvPr/>
          </p:nvGraphicFramePr>
          <p:xfrm>
            <a:off x="884160" y="189000"/>
            <a:ext cx="6192720" cy="152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4160" y="189000"/>
                      <a:ext cx="6192720" cy="15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955440" y="1305000"/>
            <a:ext cx="5634000" cy="163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1305000"/>
                      <a:ext cx="5634000" cy="16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80880" y="513000"/>
                  <a:ext cx="6318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6" name=""/>
          <p:cNvSpPr/>
          <p:nvPr/>
        </p:nvSpPr>
        <p:spPr>
          <a:xfrm>
            <a:off x="3838680" y="170028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&gt;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0920" y="2492280"/>
          <a:ext cx="7921440" cy="15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492280"/>
                    <a:ext cx="792144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254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思考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3960" y="692280"/>
          <a:ext cx="7608960" cy="19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692280"/>
                    <a:ext cx="7608960" cy="19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50920" y="2637000"/>
          <a:ext cx="6049800" cy="25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37000"/>
                    <a:ext cx="6049800" cy="25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04920" y="4676760"/>
          <a:ext cx="289224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676760"/>
                    <a:ext cx="2892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403280" y="260280"/>
          <a:ext cx="5324400" cy="633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0280"/>
                    <a:ext cx="53244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1052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商的算术平方根的性质化简二次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476280"/>
            <a:ext cx="8540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852640" y="2697120"/>
                <a:ext cx="40388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，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95280" y="4508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进行分母有理化之前，可以先观察把能化简的           二次根式先化简，再考虑如何化去分母中的根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177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根式的除法有两种常用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8080" y="2584440"/>
            <a:ext cx="37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3498840"/>
            <a:ext cx="9252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除法先写成分式的形式，再进行分母有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1566720"/>
          <a:ext cx="800100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66720"/>
                    <a:ext cx="800100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974600" y="3778920"/>
            <a:ext cx="557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一步明确二次根式化简结果中的被开方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不含有能开得尽方的因数或因式，也不含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母，根式运算的结果中分母不含有根号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380880"/>
            <a:ext cx="2057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371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次根式除法法则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2209680"/>
          <a:ext cx="24480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24480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191120" y="2514600"/>
          <a:ext cx="237636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514600"/>
                    <a:ext cx="2376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066680" y="3657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根式的除法有两种常用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457200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733920" y="4357800"/>
                <a:ext cx="40384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，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111320" y="5398920"/>
            <a:ext cx="9252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除法先写成分式的形式，再进行分母有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思 考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化去    的被开方数中的分母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16480" y="380880"/>
          <a:ext cx="6346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380880"/>
                    <a:ext cx="6346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1523880"/>
            <a:ext cx="5028840" cy="1295280"/>
            <a:chOff x="1676520" y="1523880"/>
            <a:chExt cx="5028840" cy="1295280"/>
          </a:xfrm>
        </p:grpSpPr>
        <p:graphicFrame>
          <p:nvGraphicFramePr>
            <p:cNvPr id="64" name=""/>
            <p:cNvGraphicFramePr/>
            <p:nvPr/>
          </p:nvGraphicFramePr>
          <p:xfrm>
            <a:off x="6071760" y="1523880"/>
            <a:ext cx="633600" cy="12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1760" y="1523880"/>
                      <a:ext cx="6336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6" name=""/>
            <p:cNvGrpSpPr/>
            <p:nvPr/>
          </p:nvGrpSpPr>
          <p:grpSpPr>
            <a:xfrm>
              <a:off x="1676520" y="1523880"/>
              <a:ext cx="4374000" cy="1294920"/>
              <a:chOff x="1676520" y="1523880"/>
              <a:chExt cx="4374000" cy="129492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1676520" y="1523880"/>
              <a:ext cx="657360" cy="1294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676520" y="1523880"/>
                        <a:ext cx="657360" cy="12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9" name=""/>
              <p:cNvGraphicFramePr/>
              <p:nvPr/>
            </p:nvGraphicFramePr>
            <p:xfrm>
              <a:off x="2643120" y="1523880"/>
              <a:ext cx="879120" cy="1294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643120" y="1523880"/>
                        <a:ext cx="879120" cy="12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1" name=""/>
              <p:cNvGraphicFramePr/>
              <p:nvPr/>
            </p:nvGraphicFramePr>
            <p:xfrm>
              <a:off x="3786120" y="1523880"/>
              <a:ext cx="844200" cy="1294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786120" y="1523880"/>
                        <a:ext cx="844200" cy="12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3" name=""/>
              <p:cNvGraphicFramePr/>
              <p:nvPr/>
            </p:nvGraphicFramePr>
            <p:xfrm>
              <a:off x="4928760" y="1523880"/>
              <a:ext cx="790920" cy="1294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928760" y="1523880"/>
                        <a:ext cx="790920" cy="12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" name=""/>
              <p:cNvSpPr/>
              <p:nvPr/>
            </p:nvSpPr>
            <p:spPr>
              <a:xfrm>
                <a:off x="2291760" y="1929240"/>
                <a:ext cx="35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22600" y="19292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7400" y="19292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720400" y="19292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1440" y="4939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5800" y="2895480"/>
            <a:ext cx="8305920" cy="880920"/>
            <a:chOff x="685800" y="2895480"/>
            <a:chExt cx="8305920" cy="880920"/>
          </a:xfrm>
        </p:grpSpPr>
        <p:sp>
          <p:nvSpPr>
            <p:cNvPr id="81" name=""/>
            <p:cNvSpPr/>
            <p:nvPr/>
          </p:nvSpPr>
          <p:spPr>
            <a:xfrm>
              <a:off x="685800" y="312408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试一试 ：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如何化去    的被开方数中的分母呢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4038480" y="2895480"/>
            <a:ext cx="666720" cy="880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38480" y="2895480"/>
                      <a:ext cx="6667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685800" y="4038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结 论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99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当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≥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时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03400" y="5897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样就可以把被开方数中的分母化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4648320"/>
          <a:ext cx="5791320" cy="119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52480" y="4648320"/>
                    <a:ext cx="57913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8380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上面     首先化成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该      怎样化去分母中的根号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04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25960" y="609480"/>
            <a:ext cx="2946240" cy="914400"/>
            <a:chOff x="3225960" y="609480"/>
            <a:chExt cx="2946240" cy="914400"/>
          </a:xfrm>
        </p:grpSpPr>
        <p:graphicFrame>
          <p:nvGraphicFramePr>
            <p:cNvPr id="95" name=""/>
            <p:cNvGraphicFramePr/>
            <p:nvPr/>
          </p:nvGraphicFramePr>
          <p:xfrm>
            <a:off x="3225960" y="609480"/>
            <a:ext cx="707760" cy="8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25960" y="609480"/>
                      <a:ext cx="70776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5519880" y="609480"/>
            <a:ext cx="652320" cy="91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19880" y="609480"/>
                      <a:ext cx="6523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24040" y="1981080"/>
            <a:ext cx="3976560" cy="1189080"/>
            <a:chOff x="1724040" y="1981080"/>
            <a:chExt cx="3976560" cy="1189080"/>
          </a:xfrm>
        </p:grpSpPr>
        <p:graphicFrame>
          <p:nvGraphicFramePr>
            <p:cNvPr id="101" name=""/>
            <p:cNvGraphicFramePr/>
            <p:nvPr/>
          </p:nvGraphicFramePr>
          <p:xfrm>
            <a:off x="5032440" y="1981080"/>
            <a:ext cx="668160" cy="113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32440" y="1981080"/>
                      <a:ext cx="668160" cy="113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3" name=""/>
            <p:cNvGrpSpPr/>
            <p:nvPr/>
          </p:nvGrpSpPr>
          <p:grpSpPr>
            <a:xfrm>
              <a:off x="1724040" y="1981080"/>
              <a:ext cx="3390480" cy="1189080"/>
              <a:chOff x="1724040" y="1981080"/>
              <a:chExt cx="3390480" cy="118908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1724040" y="2033640"/>
              <a:ext cx="638280" cy="1136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24040" y="2033640"/>
                        <a:ext cx="638280" cy="113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2595600" y="2120760"/>
              <a:ext cx="604800" cy="10051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595600" y="2120760"/>
                        <a:ext cx="604800" cy="100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8" name=""/>
              <p:cNvGraphicFramePr/>
              <p:nvPr/>
            </p:nvGraphicFramePr>
            <p:xfrm>
              <a:off x="3406680" y="1981080"/>
              <a:ext cx="1454400" cy="11890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406680" y="1981080"/>
                        <a:ext cx="1454400" cy="1189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0" name=""/>
              <p:cNvSpPr/>
              <p:nvPr/>
            </p:nvSpPr>
            <p:spPr>
              <a:xfrm>
                <a:off x="2321280" y="236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83400" y="236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59920" y="236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838080" y="3505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 论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81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当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≥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时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16200" y="4267080"/>
            <a:ext cx="4716360" cy="1447920"/>
            <a:chOff x="1816200" y="4267080"/>
            <a:chExt cx="4716360" cy="1447920"/>
          </a:xfrm>
        </p:grpSpPr>
        <p:grpSp>
          <p:nvGrpSpPr>
            <p:cNvPr id="118" name=""/>
            <p:cNvGrpSpPr/>
            <p:nvPr/>
          </p:nvGrpSpPr>
          <p:grpSpPr>
            <a:xfrm>
              <a:off x="1816200" y="4267080"/>
              <a:ext cx="3645000" cy="1447920"/>
              <a:chOff x="1816200" y="4267080"/>
              <a:chExt cx="3645000" cy="1447920"/>
            </a:xfrm>
          </p:grpSpPr>
          <p:sp>
            <p:nvSpPr>
              <p:cNvPr id="119" name=""/>
              <p:cNvSpPr/>
              <p:nvPr/>
            </p:nvSpPr>
            <p:spPr>
              <a:xfrm>
                <a:off x="5106600" y="4813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0" name=""/>
              <p:cNvGraphicFramePr/>
              <p:nvPr/>
            </p:nvGraphicFramePr>
            <p:xfrm>
              <a:off x="2762280" y="4267080"/>
              <a:ext cx="731880" cy="1447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2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762280" y="4267080"/>
                        <a:ext cx="731880" cy="144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2" name=""/>
              <p:cNvGraphicFramePr/>
              <p:nvPr/>
            </p:nvGraphicFramePr>
            <p:xfrm>
              <a:off x="3801960" y="4324320"/>
              <a:ext cx="1389240" cy="1385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801960" y="4324320"/>
                        <a:ext cx="138924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"/>
              <p:cNvSpPr/>
              <p:nvPr/>
            </p:nvSpPr>
            <p:spPr>
              <a:xfrm>
                <a:off x="3408840" y="4811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"/>
              <p:cNvGraphicFramePr/>
              <p:nvPr/>
            </p:nvGraphicFramePr>
            <p:xfrm>
              <a:off x="1816200" y="4267080"/>
              <a:ext cx="717480" cy="13874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26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816200" y="4267080"/>
                        <a:ext cx="717480" cy="13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"/>
              <p:cNvSpPr/>
              <p:nvPr/>
            </p:nvSpPr>
            <p:spPr>
              <a:xfrm>
                <a:off x="2475000" y="4825440"/>
                <a:ext cx="43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8" name=""/>
            <p:cNvGraphicFramePr/>
            <p:nvPr/>
          </p:nvGraphicFramePr>
          <p:xfrm>
            <a:off x="5334120" y="4419360"/>
            <a:ext cx="1198440" cy="12193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34120" y="4419360"/>
                      <a:ext cx="119844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2160" y="5229360"/>
            <a:ext cx="2266920" cy="1555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62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55736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76280"/>
                <a:ext cx="1944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2263680" y="1581120"/>
          <a:ext cx="596592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1581120"/>
                    <a:ext cx="59659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900000" y="2274840"/>
          <a:ext cx="194472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274840"/>
                    <a:ext cx="19447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916360" y="2706840"/>
          <a:ext cx="1008000" cy="79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2706840"/>
                    <a:ext cx="10080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995640" y="2706840"/>
                <a:ext cx="23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00000" y="3643200"/>
                <a:ext cx="266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492360" y="3716280"/>
                <a:ext cx="7923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3" name=""/>
          <p:cNvGraphicFramePr/>
          <p:nvPr/>
        </p:nvGraphicFramePr>
        <p:xfrm>
          <a:off x="500040" y="4591080"/>
          <a:ext cx="364644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40" y="4591080"/>
                    <a:ext cx="36464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01480" y="5564160"/>
          <a:ext cx="373392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480" y="5564160"/>
                    <a:ext cx="37339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50920" y="2203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68360" y="2924280"/>
                <a:ext cx="380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716360" y="3441600"/>
            <a:ext cx="4284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在二次根式的运算中， 最后结果一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分母中不含有二次根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(2)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最后结果中的二次根式要求写成最简的二次根式的形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743200" y="404640"/>
            <a:ext cx="6207120" cy="1087560"/>
            <a:chOff x="2743200" y="404640"/>
            <a:chExt cx="6207120" cy="1087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876920" y="404640"/>
                  <a:ext cx="201600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a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b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2743200" y="765000"/>
                  <a:ext cx="20160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934320" y="716040"/>
                  <a:ext cx="20160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24000" y="2349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08000" y="836640"/>
            <a:ext cx="50421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怎样形式才是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最简二次根式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48769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开方数不含分母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342900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开方数不含能开得尽方的因数或因式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71500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母中不含有根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4032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练习一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下列各式化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母有理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68360" y="979560"/>
                <a:ext cx="143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987640" y="1046160"/>
                <a:ext cx="1440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648400" y="979560"/>
                <a:ext cx="1299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042920" y="1987560"/>
                <a:ext cx="14018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3032280"/>
                <a:ext cx="17035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＝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01880" y="4003560"/>
                <a:ext cx="1625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den>
                    </m:f>
                    <m:r>
                      <m:t xml:space="preserve">＝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5155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5229360"/>
            <a:ext cx="626436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注意：要进行根式化简，关键是要搞清楚分式的分子和分母都乘什么，有时还要先对分母进行化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84360" y="1987560"/>
                <a:ext cx="19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72000" y="1987560"/>
                <a:ext cx="15843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71640" y="2995560"/>
                <a:ext cx="19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716360" y="2954160"/>
                <a:ext cx="16560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  <m:r>
                          <m:t xml:space="preserve">＋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627280" y="4003560"/>
                <a:ext cx="12240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51280" y="4076640"/>
                <a:ext cx="180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651640" y="4076640"/>
                <a:ext cx="10080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659640" y="4076640"/>
                <a:ext cx="1727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＝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982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在横线上填写适当的数或式子使等式成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477720"/>
            <a:ext cx="2736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练习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2997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下列各式的分母有理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84360" y="3475080"/>
                <a:ext cx="14382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627280" y="3475080"/>
                <a:ext cx="12240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00720" y="3435480"/>
                <a:ext cx="129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300720" y="3463920"/>
                <a:ext cx="129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4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39640" y="465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化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5300640"/>
                <a:ext cx="22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）－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95640" y="5013360"/>
                <a:ext cx="324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（－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369040" y="1994040"/>
                <a:ext cx="273672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4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/>
                                <m:e/>
                              </m:mr>
                            </m:m>
                          </m:e>
                        </m:d>
                      </m:den>
                    </m:f>
                    <m:r>
                      <m:t xml:space="preserve">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611280" y="2206800"/>
            <a:ext cx="5112720" cy="577440"/>
            <a:chOff x="611280" y="2206800"/>
            <a:chExt cx="5112720" cy="57744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611280" y="2206800"/>
                  <a:ext cx="199764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3</m:t>
                      </m:r>
                      <m:r>
                        <m:t xml:space="preserve">）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  <m:r>
                            <m:t xml:space="preserve">－</m:t>
                          </m:r>
                          <m:r>
                            <m:t xml:space="preserve">1</m:t>
                          </m:r>
                        </m:e>
                      </m:rad>
                      <m:r>
                        <m:t xml:space="preserve">⋅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2371680" y="2263680"/>
              <a:ext cx="33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         ）＝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64000" y="1440000"/>
            <a:ext cx="3600360" cy="569520"/>
            <a:chOff x="5364000" y="1440000"/>
            <a:chExt cx="3600360" cy="56952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364000" y="1440000"/>
                  <a:ext cx="1491120" cy="52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2</m:t>
                      </m:r>
                      <m:r>
                        <m:t xml:space="preserve">）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⋅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6616440" y="1488960"/>
              <a:ext cx="23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     ）＝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806400" y="1440000"/>
            <a:ext cx="4269600" cy="576000"/>
            <a:chOff x="806400" y="1440000"/>
            <a:chExt cx="4269600" cy="576000"/>
          </a:xfrm>
        </p:grpSpPr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806400" y="1440000"/>
                  <a:ext cx="17830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1</m:t>
                      </m:r>
                      <m:r>
                        <m:t xml:space="preserve">）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⋅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2354760" y="1469880"/>
              <a:ext cx="27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    ）＝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2624040" y="1486080"/>
          <a:ext cx="57636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4040" y="1486080"/>
                    <a:ext cx="5763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743200" y="2286000"/>
          <a:ext cx="88092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286000"/>
                    <a:ext cx="880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020000" y="1558800"/>
          <a:ext cx="477720" cy="4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1558800"/>
                    <a:ext cx="4777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248520" y="2666880"/>
          <a:ext cx="47772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2666880"/>
                    <a:ext cx="4777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丁宁</cp:lastModifiedBy>
  <dcterms:modified xsi:type="dcterms:W3CDTF">2010-08-23T09:14:0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