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3.png" ContentType="image/png"/>
  <Override PartName="/ppt/media/image11.wmf" ContentType="image/x-wmf"/>
  <Override PartName="/ppt/media/image2.wmf" ContentType="image/x-wmf"/>
  <Override PartName="/ppt/media/image25.wmf" ContentType="image/x-wmf"/>
  <Override PartName="/ppt/media/image6.wmf" ContentType="image/x-wmf"/>
  <Override PartName="/ppt/media/click.wav" ContentType="audio/x-wav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gif" ContentType="image/gi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E92-4145-4BBB-A868-29AF6FCC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A8C-A3A2-438A-8D5C-7E284F7D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B60-6A99-4E8F-BD50-EEBBA17A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DBB-2466-4574-932F-AC0C1569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903-4FEF-42A1-B296-799F7921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B8A-9B69-4E7A-9C9B-58EC2881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A04-99CF-4FEA-B896-9369F28A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6DB-7F36-4F3B-8D9B-B095D1C2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DA5-CC08-420C-922A-D8A9B7E3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FCF-8125-423A-AD40-2607B38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D69-C3A3-4DD9-B1A3-730C8D3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FEB-B8C0-4850-BF99-9095E57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7A98-2F14-4F2E-90AA-88E951B5D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858960"/>
            <a:ext cx="576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第三章   二次根式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2924280"/>
            <a:ext cx="56167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§3.2</a:t>
            </a: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二次根式的乘除</a:t>
            </a:r>
            <a:r>
              <a:rPr b="0" lang="en-US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(4)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68360" y="1197000"/>
          <a:ext cx="8888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88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187280" y="2421000"/>
          <a:ext cx="100836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21000"/>
                    <a:ext cx="1008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76720" y="2349360"/>
          <a:ext cx="10080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349360"/>
                    <a:ext cx="1008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364000" y="2349360"/>
          <a:ext cx="1033560" cy="78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2349360"/>
                    <a:ext cx="10335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236000" y="2349360"/>
          <a:ext cx="1081080" cy="80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6000" y="2349360"/>
                    <a:ext cx="1081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57800" y="475200"/>
            <a:ext cx="34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下列二次根式中，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34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是同类二次根式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60720" y="249156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79400" y="2491560"/>
            <a:ext cx="12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82720" y="2491560"/>
            <a:ext cx="13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134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250920" y="3213000"/>
            <a:ext cx="54007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1640" y="1557360"/>
                <a:ext cx="3457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19640" y="1484280"/>
                <a:ext cx="3456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4400" y="5486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计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81280" y="17722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99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08000" y="2637000"/>
                <a:ext cx="53280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4365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76360" y="3933720"/>
                <a:ext cx="76676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93080" y="4770360"/>
            <a:ext cx="180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24000" y="260280"/>
                <a:ext cx="1800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284720" y="260280"/>
                <a:ext cx="158256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948360" y="189000"/>
                <a:ext cx="15242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26600" y="548640"/>
            <a:ext cx="17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98440" y="76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7520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8440" y="169956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56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76360" y="1916280"/>
                <a:ext cx="55436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3429000"/>
                <a:ext cx="5616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68360" y="4797360"/>
                <a:ext cx="7848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747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11280" y="1773360"/>
          <a:ext cx="217008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21700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84360" y="2781360"/>
          <a:ext cx="151272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5127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42920" y="3933720"/>
                <a:ext cx="237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1640" y="4724280"/>
                <a:ext cx="25192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95280" y="112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化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19152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≥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39080" y="3067920"/>
            <a:ext cx="32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结果是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40759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立的条件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494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立的条件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04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400536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76720" y="1628640"/>
                <a:ext cx="1800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284720" y="2565360"/>
                <a:ext cx="1224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084720" y="3860640"/>
                <a:ext cx="1473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4724280"/>
                <a:ext cx="1440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948360" y="260280"/>
            <a:ext cx="2195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995640" y="404640"/>
          <a:ext cx="128268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404640"/>
                    <a:ext cx="12826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012000" y="404640"/>
          <a:ext cx="1800000" cy="6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04640"/>
                    <a:ext cx="18000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4000" y="4752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若最简二次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440" y="475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6960" y="1483560"/>
            <a:ext cx="43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是同类二次根式，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2492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题意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03720" y="2060640"/>
                <a:ext cx="35733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971640" y="3500280"/>
                <a:ext cx="468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方程得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700360" y="4724280"/>
                <a:ext cx="244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796000" y="3645000"/>
            <a:ext cx="303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859280" y="189000"/>
          <a:ext cx="2808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89000"/>
                    <a:ext cx="2808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79280" y="1484280"/>
                <a:ext cx="213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250920" y="4039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为实数，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33240" y="4752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1556280"/>
            <a:ext cx="22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题意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71640" y="2421000"/>
                <a:ext cx="36734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≥</m:t>
                    </m:r>
                    <m:r>
                      <m:t xml:space="preserve">0,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771640" y="3141720"/>
                <a:ext cx="4321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或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843280" y="3860640"/>
                <a:ext cx="51800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43280" y="4365720"/>
                <a:ext cx="2519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9280" y="5445000"/>
                <a:ext cx="85694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63640" y="333360"/>
                <a:ext cx="1440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258920" y="1989000"/>
                <a:ext cx="1008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916360" y="1916280"/>
                <a:ext cx="158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219640" y="1628640"/>
                <a:ext cx="728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659640" y="1989000"/>
                <a:ext cx="8650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59280" y="2852640"/>
                <a:ext cx="542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258920" y="3789360"/>
                <a:ext cx="863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203640" y="3789360"/>
                <a:ext cx="934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76720" y="3789360"/>
                <a:ext cx="936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948360" y="3645000"/>
                <a:ext cx="100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95280" y="4039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56840" y="112464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下列根式是最简二次根式的是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09840" y="198828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5120" y="198828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37840" y="191520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8519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下列二次根式中，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04920" y="2851920"/>
            <a:ext cx="301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能合并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5840" y="378864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25840" y="378864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99280" y="378864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1989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404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292720" y="189000"/>
                <a:ext cx="925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7020000" y="1125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10108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31748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908000" y="333360"/>
          <a:ext cx="30956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33360"/>
                    <a:ext cx="3095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012000" y="404640"/>
          <a:ext cx="182700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04640"/>
                    <a:ext cx="18270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39640" y="4752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96520" y="4752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，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4840" y="1195920"/>
            <a:ext cx="10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77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332000" y="1357200"/>
                <a:ext cx="5545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332000" y="2637000"/>
                <a:ext cx="56163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971640" y="3933720"/>
                <a:ext cx="7343640" cy="22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10320" y="332640"/>
            <a:ext cx="40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为实数，化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051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阅读下面的解答过程，请判断是否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若不正确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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请写出正确的解答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9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11280" y="2637000"/>
                <a:ext cx="2232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16360" y="2637000"/>
                <a:ext cx="5327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4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72000" y="189000"/>
                <a:ext cx="2521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68360" y="378936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题意知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&lt;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0" y="4437000"/>
                <a:ext cx="2844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700360" y="4508640"/>
                <a:ext cx="644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508720" y="4508640"/>
            <a:ext cx="3635280" cy="234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5543640" cy="4365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900000" y="1700280"/>
            <a:ext cx="6624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再 见！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843920"/>
            <a:ext cx="11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练习巩固二次根式的乘、除法法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140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根据式子的特点，灵活运用乘积、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算术平方根的性质和分母有理化等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行二次根式的乘、除法运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叫二次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0920" y="2205000"/>
                <a:ext cx="8572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式子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叫做二次根式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042920" y="3357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基本性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72360" y="228600"/>
            <a:ext cx="2466720" cy="207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11120" y="371520"/>
            <a:ext cx="21812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480" y="422100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=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940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988920" y="5157720"/>
                <a:ext cx="1217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60560" y="4005360"/>
                <a:ext cx="15462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4572000" y="5875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2720" y="54435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53006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1640" y="5373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4292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lick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97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3.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二次根式的乘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9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算术平方根的积等于各个被开方数积的算术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57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积的算术平方根等于积中各因式的算术平方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1120" y="371520"/>
            <a:ext cx="21812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9640" y="3429000"/>
            <a:ext cx="6408360" cy="1080720"/>
            <a:chOff x="539640" y="3429000"/>
            <a:chExt cx="6408360" cy="108072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98320" y="3429000"/>
                  <a:ext cx="1470600" cy="10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1892160" y="3429000"/>
                  <a:ext cx="2693520" cy="10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539640" y="3429000"/>
              <a:ext cx="6408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4655160" y="3692880"/>
                  <a:ext cx="22341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" name=""/>
          <p:cNvGrpSpPr/>
          <p:nvPr/>
        </p:nvGrpSpPr>
        <p:grpSpPr>
          <a:xfrm>
            <a:off x="611280" y="1989000"/>
            <a:ext cx="6624720" cy="1006200"/>
            <a:chOff x="611280" y="1989000"/>
            <a:chExt cx="6624720" cy="1006200"/>
          </a:xfrm>
        </p:grpSpPr>
        <p:sp>
          <p:nvSpPr>
            <p:cNvPr id="70" name=""/>
            <p:cNvSpPr/>
            <p:nvPr/>
          </p:nvSpPr>
          <p:spPr>
            <a:xfrm>
              <a:off x="611280" y="1989000"/>
              <a:ext cx="6624720" cy="9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604240" y="1989000"/>
                  <a:ext cx="1525320" cy="92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611280" y="2072160"/>
                  <a:ext cx="2110680" cy="92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b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" name=""/>
          <p:cNvSpPr/>
          <p:nvPr/>
        </p:nvSpPr>
        <p:spPr>
          <a:xfrm>
            <a:off x="4067280" y="2133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≥0,b≥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9079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4.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二次根式的除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2428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11120" y="371520"/>
            <a:ext cx="21812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773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≥0,b&gt;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84360" y="1557360"/>
                <a:ext cx="24476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79280" y="2852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两个二次根式相除，等于把被开方数相除，作为商的被开方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26920" y="3716280"/>
                <a:ext cx="2448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708360" y="3933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≥0,b&gt;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商的算术平方根等于被除式的算术平方根除以除式的算术平方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2000" y="4581360"/>
            <a:ext cx="3132000" cy="227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197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5.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最简二次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11120" y="371520"/>
            <a:ext cx="2252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284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6.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同类二次根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98900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开方数不含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19840" y="267984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开方数不含能开得尽方的因数或因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577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化成最简二次根式后，被开方数相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7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9440" y="1197000"/>
                <a:ext cx="36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4000" y="2349360"/>
                <a:ext cx="37512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ra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5092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0320" y="4221000"/>
                <a:ext cx="3771720" cy="158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995640" y="1125360"/>
                <a:ext cx="3889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211640" y="2276640"/>
                <a:ext cx="388944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924360" y="4221000"/>
                <a:ext cx="4319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0920" y="1341360"/>
                <a:ext cx="1293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71640" y="1413000"/>
                <a:ext cx="19497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12000" y="1413000"/>
                <a:ext cx="22381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280" y="2637000"/>
                <a:ext cx="20145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c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0720" y="2708280"/>
                <a:ext cx="2496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4365720"/>
                <a:ext cx="151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16360" y="4221000"/>
                <a:ext cx="136836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2000" y="4149720"/>
                <a:ext cx="13744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4360" y="5976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化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1413000"/>
            <a:ext cx="7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47640" y="1268280"/>
                <a:ext cx="1224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16360" y="119700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8172360" y="1484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195640" y="2565360"/>
                <a:ext cx="2089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948360" y="278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9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6360" y="4221000"/>
                <a:ext cx="9349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84720" y="4149720"/>
                <a:ext cx="12240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451640" y="4076640"/>
                <a:ext cx="1224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4360" y="1341360"/>
          <a:ext cx="136836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13683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1280" y="2924280"/>
          <a:ext cx="111744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924280"/>
                    <a:ext cx="11174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11280" y="4724280"/>
          <a:ext cx="1224000" cy="14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724280"/>
                    <a:ext cx="12240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50920" y="5961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．分母有理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1341360"/>
                <a:ext cx="4248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2924280"/>
                <a:ext cx="43927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4797360"/>
                <a:ext cx="3168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372360" y="4005360"/>
            <a:ext cx="25556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8:16:21Z</dcterms:created>
  <dc:creator>htt</dc:creator>
  <dc:description/>
  <dc:language>en-US</dc:language>
  <cp:lastModifiedBy>丁宁</cp:lastModifiedBy>
  <dcterms:modified xsi:type="dcterms:W3CDTF">2010-08-23T09:19:08Z</dcterms:modified>
  <cp:revision>71</cp:revision>
  <dc:subject/>
  <dc:title>幻灯片 1</dc:title>
</cp:coreProperties>
</file>