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D99-A19A-4488-9A95-846FAB73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EFE-F354-4270-8993-2F9E8B5D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8BF-6866-4ED6-8EEB-789C9A13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C3F-86B7-4EF4-9676-E832EB25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5191-C6CF-43B4-A828-4653AE15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41C7-913C-4D8A-8071-4AF9AD9B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A4C6-9CAC-44C7-9E49-F869D610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AE95-D4E1-4597-9302-220A15F3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248D-290F-417D-A44A-978D09C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A53A-715D-49B8-88FA-C188B911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ED0A-85B0-455D-943E-17890604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617-DC12-40DF-851E-DF7818BD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A3FC-244D-4D97-BA6B-953F06C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B0DC-BF59-4FD4-BF89-0BCEB15B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84CA-30D5-418E-AF60-D94D6991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F661-A86D-4F05-8D6D-6800E2C0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BC32-41F9-4624-9772-853B3E78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169-705B-4693-9DEA-74A0F94F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E91-8A46-46C7-AEC4-09698E9D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A31-F44E-42AB-8EF9-5A8EFFE4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1A6-8DDD-4D70-9BAA-FFADC55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B34-C777-4CEE-A033-9A3BC9F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D2A-2936-4679-907F-7CAD89D1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46E-EB0D-4F82-818B-85F12EC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D839-5C77-4848-A5B0-F5286971382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6E1-604D-4C33-90A4-6BC0395C107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Comic Sans MS"/>
                <a:ea typeface="楷体_GB2312"/>
              </a:rPr>
              <a:t>初中数学九年级上册</a:t>
            </a:r>
            <a:br>
              <a:rPr sz="4400"/>
            </a:b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（</a:t>
            </a:r>
            <a:r>
              <a:rPr b="1" lang="zh-CN" sz="44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苏科版</a:t>
            </a:r>
            <a:r>
              <a:rPr b="1" lang="zh-CN" sz="4400" spc="-1" strike="noStrike">
                <a:solidFill>
                  <a:srgbClr val="00b200"/>
                </a:solidFill>
                <a:latin typeface="Comic Sans MS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95640" y="2923920"/>
            <a:ext cx="51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3.1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二次根式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4360" y="765000"/>
            <a:ext cx="7705080" cy="4927680"/>
            <a:chOff x="684360" y="765000"/>
            <a:chExt cx="7705080" cy="4927680"/>
          </a:xfrm>
        </p:grpSpPr>
        <p:grpSp>
          <p:nvGrpSpPr>
            <p:cNvPr id="300" name=""/>
            <p:cNvGrpSpPr/>
            <p:nvPr/>
          </p:nvGrpSpPr>
          <p:grpSpPr>
            <a:xfrm>
              <a:off x="684360" y="1628640"/>
              <a:ext cx="7705080" cy="923760"/>
              <a:chOff x="684360" y="1628640"/>
              <a:chExt cx="7705080" cy="923760"/>
            </a:xfrm>
          </p:grpSpPr>
          <mc:AlternateContent>
            <mc:Choice xmlns:a14="http://schemas.microsoft.com/office/drawing/2010/main" Requires="a14">
              <p:sp>
                <p:nvSpPr>
                  <p:cNvPr id="301" name=""/>
                  <p:cNvSpPr txBox="1"/>
                  <p:nvPr/>
                </p:nvSpPr>
                <p:spPr>
                  <a:xfrm>
                    <a:off x="684360" y="1699920"/>
                    <a:ext cx="1726920" cy="69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844360" y="1628640"/>
                    <a:ext cx="2447640" cy="92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3" name=""/>
                  <p:cNvSpPr txBox="1"/>
                  <p:nvPr/>
                </p:nvSpPr>
                <p:spPr>
                  <a:xfrm>
                    <a:off x="5797080" y="1628640"/>
                    <a:ext cx="1942920" cy="715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4" name=""/>
              <p:cNvSpPr/>
              <p:nvPr/>
            </p:nvSpPr>
            <p:spPr>
              <a:xfrm>
                <a:off x="2412720" y="227628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149440" y="220464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69080" y="2204640"/>
                <a:ext cx="72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84360" y="2852640"/>
              <a:ext cx="7705080" cy="766440"/>
              <a:chOff x="684360" y="2852640"/>
              <a:chExt cx="7705080" cy="766440"/>
            </a:xfrm>
          </p:grpSpPr>
          <mc:AlternateContent>
            <mc:Choice xmlns:a14="http://schemas.microsoft.com/office/drawing/2010/main" Requires="a14">
              <p:sp>
                <p:nvSpPr>
                  <p:cNvPr id="308" name=""/>
                  <p:cNvSpPr txBox="1"/>
                  <p:nvPr/>
                </p:nvSpPr>
                <p:spPr>
                  <a:xfrm>
                    <a:off x="684360" y="2923920"/>
                    <a:ext cx="2464920" cy="69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4357440" y="2852640"/>
                    <a:ext cx="2623680" cy="74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"/>
              <p:cNvSpPr/>
              <p:nvPr/>
            </p:nvSpPr>
            <p:spPr>
              <a:xfrm>
                <a:off x="3204720" y="35002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949800" y="3428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84360" y="3931920"/>
              <a:ext cx="6119640" cy="696960"/>
              <a:chOff x="684360" y="3931920"/>
              <a:chExt cx="6119640" cy="696960"/>
            </a:xfrm>
          </p:grpSpPr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84360" y="3931920"/>
                    <a:ext cx="2447640" cy="69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4" name=""/>
                  <p:cNvSpPr txBox="1"/>
                  <p:nvPr/>
                </p:nvSpPr>
                <p:spPr>
                  <a:xfrm>
                    <a:off x="5508720" y="4076280"/>
                    <a:ext cx="1295280" cy="52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5" name=""/>
              <p:cNvSpPr/>
              <p:nvPr/>
            </p:nvSpPr>
            <p:spPr>
              <a:xfrm>
                <a:off x="3203640" y="450828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84360" y="5013000"/>
              <a:ext cx="6048360" cy="679680"/>
              <a:chOff x="684360" y="5013000"/>
              <a:chExt cx="6048360" cy="679680"/>
            </a:xfrm>
          </p:grpSpPr>
          <mc:AlternateContent>
            <mc:Choice xmlns:a14="http://schemas.microsoft.com/office/drawing/2010/main" Requires="a14">
              <p:sp>
                <p:nvSpPr>
                  <p:cNvPr id="317" name=""/>
                  <p:cNvSpPr txBox="1"/>
                  <p:nvPr/>
                </p:nvSpPr>
                <p:spPr>
                  <a:xfrm>
                    <a:off x="684360" y="5013000"/>
                    <a:ext cx="3024000" cy="67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8" name=""/>
                  <p:cNvSpPr txBox="1"/>
                  <p:nvPr/>
                </p:nvSpPr>
                <p:spPr>
                  <a:xfrm>
                    <a:off x="5508720" y="5084640"/>
                    <a:ext cx="1224000" cy="49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9" name=""/>
              <p:cNvSpPr/>
              <p:nvPr/>
            </p:nvSpPr>
            <p:spPr>
              <a:xfrm>
                <a:off x="3708360" y="5516280"/>
                <a:ext cx="180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84360" y="765000"/>
              <a:ext cx="28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b200"/>
                  </a:solidFill>
                  <a:latin typeface="黑体"/>
                  <a:ea typeface="黑体"/>
                </a:rPr>
                <a:t>1.</a:t>
              </a:r>
              <a:r>
                <a:rPr b="0" lang="zh-CN" sz="4000" spc="-1" strike="noStrike">
                  <a:solidFill>
                    <a:srgbClr val="00b200"/>
                  </a:solidFill>
                  <a:latin typeface="黑体"/>
                  <a:ea typeface="黑体"/>
                </a:rPr>
                <a:t>快速抢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268360" y="1773360"/>
                <a:ext cx="719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7740720" y="1197000"/>
                <a:ext cx="557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7093080" y="2766960"/>
                <a:ext cx="1366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708360" y="3860640"/>
                <a:ext cx="11764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278320" y="1125360"/>
                <a:ext cx="4460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708360" y="5013360"/>
                <a:ext cx="12254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203640" y="3021120"/>
                <a:ext cx="1008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324000" y="115920"/>
            <a:ext cx="1915920" cy="836640"/>
            <a:chOff x="324000" y="115920"/>
            <a:chExt cx="1915920" cy="836640"/>
          </a:xfrm>
        </p:grpSpPr>
        <p:grpSp>
          <p:nvGrpSpPr>
            <p:cNvPr id="329" name=""/>
            <p:cNvGrpSpPr/>
            <p:nvPr/>
          </p:nvGrpSpPr>
          <p:grpSpPr>
            <a:xfrm>
              <a:off x="324000" y="115920"/>
              <a:ext cx="1915920" cy="836640"/>
              <a:chOff x="324000" y="115920"/>
              <a:chExt cx="1915920" cy="836640"/>
            </a:xfrm>
          </p:grpSpPr>
          <p:sp>
            <p:nvSpPr>
              <p:cNvPr id="330" name=""/>
              <p:cNvSpPr/>
              <p:nvPr/>
            </p:nvSpPr>
            <p:spPr>
              <a:xfrm>
                <a:off x="324000" y="241200"/>
                <a:ext cx="187200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45960" y="115920"/>
                <a:ext cx="189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95280" y="35100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26920" y="1015920"/>
            <a:ext cx="6194520" cy="4861080"/>
            <a:chOff x="826920" y="1015920"/>
            <a:chExt cx="6194520" cy="4861080"/>
          </a:xfrm>
        </p:grpSpPr>
        <p:sp>
          <p:nvSpPr>
            <p:cNvPr id="338" name=""/>
            <p:cNvSpPr/>
            <p:nvPr/>
          </p:nvSpPr>
          <p:spPr>
            <a:xfrm>
              <a:off x="826920" y="101592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2.</a:t>
              </a:r>
              <a:r>
                <a:rPr b="0" lang="zh-CN" sz="4000" spc="-1" strike="noStrike">
                  <a:solidFill>
                    <a:srgbClr val="ff0000"/>
                  </a:solidFill>
                  <a:latin typeface="Arial"/>
                </a:rPr>
                <a:t>化简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2124000" y="2095560"/>
                  <a:ext cx="3456000" cy="68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124000" y="2960640"/>
                  <a:ext cx="345780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+</m:t>
                      </m:r>
                      <m:r>
                        <m:t xml:space="preserve">(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124000" y="4040280"/>
                  <a:ext cx="489744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e>
                      </m:rad>
                      <m:r>
                        <m:t xml:space="preserve">(</m:t>
                      </m:r>
                      <m:r>
                        <m:t xml:space="preserve">m</m:t>
                      </m:r>
                      <m:r>
                        <m:t xml:space="preserve">&lt;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050920" y="5119560"/>
                  <a:ext cx="40323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"/>
          <p:cNvGrpSpPr/>
          <p:nvPr/>
        </p:nvGrpSpPr>
        <p:grpSpPr>
          <a:xfrm>
            <a:off x="423720" y="144360"/>
            <a:ext cx="1916280" cy="836640"/>
            <a:chOff x="423720" y="144360"/>
            <a:chExt cx="1916280" cy="836640"/>
          </a:xfrm>
        </p:grpSpPr>
        <p:grpSp>
          <p:nvGrpSpPr>
            <p:cNvPr id="344" name=""/>
            <p:cNvGrpSpPr/>
            <p:nvPr/>
          </p:nvGrpSpPr>
          <p:grpSpPr>
            <a:xfrm>
              <a:off x="423720" y="144360"/>
              <a:ext cx="1916280" cy="836640"/>
              <a:chOff x="423720" y="144360"/>
              <a:chExt cx="1916280" cy="836640"/>
            </a:xfrm>
          </p:grpSpPr>
          <p:sp>
            <p:nvSpPr>
              <p:cNvPr id="345" name=""/>
              <p:cNvSpPr/>
              <p:nvPr/>
            </p:nvSpPr>
            <p:spPr>
              <a:xfrm>
                <a:off x="423720" y="26964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5680" y="14436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495360" y="37944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187280" y="1052640"/>
            <a:ext cx="6121440" cy="4221000"/>
            <a:chOff x="1187280" y="1052640"/>
            <a:chExt cx="6121440" cy="4221000"/>
          </a:xfrm>
        </p:grpSpPr>
        <p:sp>
          <p:nvSpPr>
            <p:cNvPr id="353" name=""/>
            <p:cNvSpPr/>
            <p:nvPr/>
          </p:nvSpPr>
          <p:spPr>
            <a:xfrm>
              <a:off x="1187280" y="1052640"/>
              <a:ext cx="18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200"/>
                  </a:solidFill>
                  <a:latin typeface="Arial"/>
                </a:rPr>
                <a:t>答案：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1979640" y="2205000"/>
                  <a:ext cx="223200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5435640" y="2349360"/>
                  <a:ext cx="1873080" cy="11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050920" y="4149720"/>
                  <a:ext cx="273708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5580000" y="4221000"/>
                  <a:ext cx="172728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a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"/>
          <p:cNvGrpSpPr/>
          <p:nvPr/>
        </p:nvGrpSpPr>
        <p:grpSpPr>
          <a:xfrm>
            <a:off x="395280" y="260280"/>
            <a:ext cx="1916280" cy="836640"/>
            <a:chOff x="395280" y="260280"/>
            <a:chExt cx="1916280" cy="836640"/>
          </a:xfrm>
        </p:grpSpPr>
        <p:grpSp>
          <p:nvGrpSpPr>
            <p:cNvPr id="359" name=""/>
            <p:cNvGrpSpPr/>
            <p:nvPr/>
          </p:nvGrpSpPr>
          <p:grpSpPr>
            <a:xfrm>
              <a:off x="395280" y="260280"/>
              <a:ext cx="1916280" cy="836640"/>
              <a:chOff x="395280" y="260280"/>
              <a:chExt cx="1916280" cy="836640"/>
            </a:xfrm>
          </p:grpSpPr>
          <p:sp>
            <p:nvSpPr>
              <p:cNvPr id="360" name=""/>
              <p:cNvSpPr/>
              <p:nvPr/>
            </p:nvSpPr>
            <p:spPr>
              <a:xfrm>
                <a:off x="395280" y="38556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17240" y="26028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66920" y="49536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39640" y="1197000"/>
            <a:ext cx="8533080" cy="825120"/>
            <a:chOff x="539640" y="1197000"/>
            <a:chExt cx="8533080" cy="825120"/>
          </a:xfrm>
        </p:grpSpPr>
        <p:sp>
          <p:nvSpPr>
            <p:cNvPr id="369" name=""/>
            <p:cNvSpPr/>
            <p:nvPr/>
          </p:nvSpPr>
          <p:spPr>
            <a:xfrm>
              <a:off x="539640" y="1197000"/>
              <a:ext cx="853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若                     则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的取值范围是 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．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1332000" y="1414440"/>
              <a:ext cx="2303280" cy="530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4211640" y="1486080"/>
                  <a:ext cx="3729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2" name=""/>
          <p:cNvGrpSpPr/>
          <p:nvPr/>
        </p:nvGrpSpPr>
        <p:grpSpPr>
          <a:xfrm>
            <a:off x="539640" y="3716280"/>
            <a:ext cx="8351640" cy="606960"/>
            <a:chOff x="539640" y="3716280"/>
            <a:chExt cx="8351640" cy="606960"/>
          </a:xfrm>
        </p:grpSpPr>
        <p:sp>
          <p:nvSpPr>
            <p:cNvPr id="373" name=""/>
            <p:cNvSpPr/>
            <p:nvPr/>
          </p:nvSpPr>
          <p:spPr>
            <a:xfrm>
              <a:off x="539640" y="3741840"/>
              <a:ext cx="83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已知：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化简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                      = 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1979280" y="3846600"/>
                  <a:ext cx="12970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4330440" y="3716280"/>
                  <a:ext cx="251928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6" name=""/>
          <p:cNvSpPr/>
          <p:nvPr/>
        </p:nvSpPr>
        <p:spPr>
          <a:xfrm>
            <a:off x="7451640" y="3591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48000" y="5516640"/>
            <a:ext cx="158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93080" y="1268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≤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95280" y="189000"/>
            <a:ext cx="1916280" cy="836640"/>
            <a:chOff x="395280" y="189000"/>
            <a:chExt cx="1916280" cy="836640"/>
          </a:xfrm>
        </p:grpSpPr>
        <p:grpSp>
          <p:nvGrpSpPr>
            <p:cNvPr id="380" name=""/>
            <p:cNvGrpSpPr/>
            <p:nvPr/>
          </p:nvGrpSpPr>
          <p:grpSpPr>
            <a:xfrm>
              <a:off x="395280" y="189000"/>
              <a:ext cx="1916280" cy="836640"/>
              <a:chOff x="395280" y="189000"/>
              <a:chExt cx="1916280" cy="836640"/>
            </a:xfrm>
          </p:grpSpPr>
          <p:sp>
            <p:nvSpPr>
              <p:cNvPr id="381" name=""/>
              <p:cNvSpPr/>
              <p:nvPr/>
            </p:nvSpPr>
            <p:spPr>
              <a:xfrm>
                <a:off x="395280" y="31428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7240" y="18900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66920" y="42408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23720" y="2413080"/>
                <a:ext cx="8082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法一：利用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61880" y="3946680"/>
                <a:ext cx="78613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法二：利用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,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8" name=""/>
          <p:cNvGrpSpPr/>
          <p:nvPr/>
        </p:nvGrpSpPr>
        <p:grpSpPr>
          <a:xfrm>
            <a:off x="539640" y="1197000"/>
            <a:ext cx="8533080" cy="825120"/>
            <a:chOff x="539640" y="1197000"/>
            <a:chExt cx="8533080" cy="825120"/>
          </a:xfrm>
        </p:grpSpPr>
        <p:sp>
          <p:nvSpPr>
            <p:cNvPr id="389" name=""/>
            <p:cNvSpPr/>
            <p:nvPr/>
          </p:nvSpPr>
          <p:spPr>
            <a:xfrm>
              <a:off x="539640" y="1197000"/>
              <a:ext cx="853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若                     则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的取值范围是 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．</a:t>
              </a: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1332000" y="1414440"/>
              <a:ext cx="2303280" cy="530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4211640" y="1486080"/>
                  <a:ext cx="3729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2" name=""/>
          <p:cNvSpPr/>
          <p:nvPr/>
        </p:nvSpPr>
        <p:spPr>
          <a:xfrm>
            <a:off x="7093080" y="1268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≤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95280" y="189000"/>
            <a:ext cx="1916280" cy="836640"/>
            <a:chOff x="395280" y="189000"/>
            <a:chExt cx="1916280" cy="836640"/>
          </a:xfrm>
        </p:grpSpPr>
        <p:grpSp>
          <p:nvGrpSpPr>
            <p:cNvPr id="394" name=""/>
            <p:cNvGrpSpPr/>
            <p:nvPr/>
          </p:nvGrpSpPr>
          <p:grpSpPr>
            <a:xfrm>
              <a:off x="395280" y="189000"/>
              <a:ext cx="1916280" cy="836640"/>
              <a:chOff x="395280" y="189000"/>
              <a:chExt cx="1916280" cy="836640"/>
            </a:xfrm>
          </p:grpSpPr>
          <p:sp>
            <p:nvSpPr>
              <p:cNvPr id="395" name=""/>
              <p:cNvSpPr/>
              <p:nvPr/>
            </p:nvSpPr>
            <p:spPr>
              <a:xfrm>
                <a:off x="395280" y="31428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7240" y="18900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66920" y="42408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539640" y="1125360"/>
            <a:ext cx="8351640" cy="606960"/>
            <a:chOff x="539640" y="1125360"/>
            <a:chExt cx="8351640" cy="606960"/>
          </a:xfrm>
        </p:grpSpPr>
        <p:sp>
          <p:nvSpPr>
            <p:cNvPr id="399" name=""/>
            <p:cNvSpPr/>
            <p:nvPr/>
          </p:nvSpPr>
          <p:spPr>
            <a:xfrm>
              <a:off x="539640" y="1150920"/>
              <a:ext cx="83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已知：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化简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                      = 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979280" y="1255680"/>
                  <a:ext cx="12970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4330440" y="1125360"/>
                  <a:ext cx="251928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2" name=""/>
          <p:cNvSpPr/>
          <p:nvPr/>
        </p:nvSpPr>
        <p:spPr>
          <a:xfrm>
            <a:off x="7451640" y="85896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39640" y="1995480"/>
                <a:ext cx="3961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r>
                      <m:t xml:space="preserve">∵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547640" y="3112920"/>
                <a:ext cx="54738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,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547640" y="4133880"/>
                <a:ext cx="691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9" name=""/>
          <p:cNvGrpSpPr/>
          <p:nvPr/>
        </p:nvGrpSpPr>
        <p:grpSpPr>
          <a:xfrm>
            <a:off x="423720" y="216000"/>
            <a:ext cx="1916280" cy="836640"/>
            <a:chOff x="423720" y="216000"/>
            <a:chExt cx="1916280" cy="836640"/>
          </a:xfrm>
        </p:grpSpPr>
        <p:grpSp>
          <p:nvGrpSpPr>
            <p:cNvPr id="410" name=""/>
            <p:cNvGrpSpPr/>
            <p:nvPr/>
          </p:nvGrpSpPr>
          <p:grpSpPr>
            <a:xfrm>
              <a:off x="423720" y="216000"/>
              <a:ext cx="1916280" cy="836640"/>
              <a:chOff x="423720" y="216000"/>
              <a:chExt cx="1916280" cy="836640"/>
            </a:xfrm>
          </p:grpSpPr>
          <p:sp>
            <p:nvSpPr>
              <p:cNvPr id="411" name=""/>
              <p:cNvSpPr/>
              <p:nvPr/>
            </p:nvSpPr>
            <p:spPr>
              <a:xfrm>
                <a:off x="423720" y="34128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5680" y="21600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495360" y="45108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展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836960" y="2798640"/>
            <a:ext cx="127080" cy="2541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836960" y="2798640"/>
            <a:ext cx="127080" cy="254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0" y="765000"/>
            <a:ext cx="9144000" cy="2526120"/>
            <a:chOff x="0" y="765000"/>
            <a:chExt cx="9144000" cy="2526120"/>
          </a:xfrm>
        </p:grpSpPr>
        <p:sp>
          <p:nvSpPr>
            <p:cNvPr id="419" name=""/>
            <p:cNvSpPr/>
            <p:nvPr/>
          </p:nvSpPr>
          <p:spPr>
            <a:xfrm>
              <a:off x="468360" y="765000"/>
              <a:ext cx="792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如图所示为实数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在数轴上的位置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化简：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32907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826920" y="1773360"/>
                  <a:ext cx="33847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+</m:t>
                      </m:r>
                      <m:r>
                        <m:t xml:space="preserve">(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422" name="P1" descr=""/>
            <p:cNvPicPr/>
            <p:nvPr/>
          </p:nvPicPr>
          <p:blipFill>
            <a:blip r:embed="rId3"/>
            <a:stretch/>
          </p:blipFill>
          <p:spPr>
            <a:xfrm>
              <a:off x="4643280" y="1700280"/>
              <a:ext cx="3600720" cy="91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"/>
          <p:cNvGrpSpPr/>
          <p:nvPr/>
        </p:nvGrpSpPr>
        <p:grpSpPr>
          <a:xfrm>
            <a:off x="684360" y="2879640"/>
            <a:ext cx="7691400" cy="2925720"/>
            <a:chOff x="684360" y="2879640"/>
            <a:chExt cx="7691400" cy="292572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684360" y="2879640"/>
                  <a:ext cx="656424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解：由数轴得，</m:t>
                      </m:r>
                      <m:r>
                        <m:t xml:space="preserve">1</m:t>
                      </m:r>
                      <m:r>
                        <m:t xml:space="preserve">&lt;</m:t>
                      </m:r>
                      <m:r>
                        <m:t xml:space="preserve">p</m:t>
                      </m:r>
                      <m:r>
                        <m:t xml:space="preserve">&l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635120" y="3905280"/>
                  <a:ext cx="552924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&lt;</m:t>
                      </m:r>
                      <m:r>
                        <m:t xml:space="preserve">0,2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1630440" y="4871880"/>
                  <a:ext cx="674532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r>
                        <m:rPr>
                          <m:lit/>
                          <m:nor/>
                        </m:rPr>
                        <m:t xml:space="preserve">原式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95280" y="260280"/>
            <a:ext cx="1916280" cy="836640"/>
            <a:chOff x="395280" y="260280"/>
            <a:chExt cx="1916280" cy="836640"/>
          </a:xfrm>
        </p:grpSpPr>
        <p:grpSp>
          <p:nvGrpSpPr>
            <p:cNvPr id="428" name=""/>
            <p:cNvGrpSpPr/>
            <p:nvPr/>
          </p:nvGrpSpPr>
          <p:grpSpPr>
            <a:xfrm>
              <a:off x="395280" y="260280"/>
              <a:ext cx="1916280" cy="836640"/>
              <a:chOff x="395280" y="260280"/>
              <a:chExt cx="1916280" cy="836640"/>
            </a:xfrm>
          </p:grpSpPr>
          <p:sp>
            <p:nvSpPr>
              <p:cNvPr id="429" name=""/>
              <p:cNvSpPr/>
              <p:nvPr/>
            </p:nvSpPr>
            <p:spPr>
              <a:xfrm>
                <a:off x="395280" y="38556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17240" y="26028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66920" y="49536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拓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95280" y="1197000"/>
            <a:ext cx="8207280" cy="1739880"/>
            <a:chOff x="395280" y="1197000"/>
            <a:chExt cx="8207280" cy="1739880"/>
          </a:xfrm>
        </p:grpSpPr>
        <p:sp>
          <p:nvSpPr>
            <p:cNvPr id="435" name=""/>
            <p:cNvSpPr/>
            <p:nvPr/>
          </p:nvSpPr>
          <p:spPr>
            <a:xfrm>
              <a:off x="395280" y="1197000"/>
              <a:ext cx="8207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已知，三角形的三边长分别为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zh-CN" sz="32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i="1" lang="zh-CN" sz="32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，且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&gt;c,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2050920" y="1844640"/>
                  <a:ext cx="3095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7" name=""/>
          <p:cNvGrpSpPr/>
          <p:nvPr/>
        </p:nvGrpSpPr>
        <p:grpSpPr>
          <a:xfrm>
            <a:off x="466560" y="3573360"/>
            <a:ext cx="8569440" cy="916920"/>
            <a:chOff x="466560" y="3573360"/>
            <a:chExt cx="8569440" cy="916920"/>
          </a:xfrm>
        </p:grpSpPr>
        <p:sp>
          <p:nvSpPr>
            <p:cNvPr id="438" name=""/>
            <p:cNvSpPr/>
            <p:nvPr/>
          </p:nvSpPr>
          <p:spPr>
            <a:xfrm>
              <a:off x="466560" y="3573360"/>
              <a:ext cx="856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当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时，等式                          成立．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4516560" y="3860640"/>
                  <a:ext cx="29509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580000" y="1844640"/>
                <a:ext cx="1368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619280" y="3355920"/>
                <a:ext cx="102564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423720" y="260280"/>
            <a:ext cx="1916280" cy="836640"/>
            <a:chOff x="423720" y="260280"/>
            <a:chExt cx="1916280" cy="836640"/>
          </a:xfrm>
        </p:grpSpPr>
        <p:grpSp>
          <p:nvGrpSpPr>
            <p:cNvPr id="444" name=""/>
            <p:cNvGrpSpPr/>
            <p:nvPr/>
          </p:nvGrpSpPr>
          <p:grpSpPr>
            <a:xfrm>
              <a:off x="423720" y="260280"/>
              <a:ext cx="1916280" cy="836640"/>
              <a:chOff x="423720" y="260280"/>
              <a:chExt cx="1916280" cy="836640"/>
            </a:xfrm>
          </p:grpSpPr>
          <p:sp>
            <p:nvSpPr>
              <p:cNvPr id="445" name=""/>
              <p:cNvSpPr/>
              <p:nvPr/>
            </p:nvSpPr>
            <p:spPr>
              <a:xfrm>
                <a:off x="423720" y="38556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45680" y="26028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95360" y="49536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拓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79440" y="1217520"/>
            <a:ext cx="7661160" cy="1708920"/>
            <a:chOff x="379440" y="1217520"/>
            <a:chExt cx="7661160" cy="1708920"/>
          </a:xfrm>
        </p:grpSpPr>
        <p:sp>
          <p:nvSpPr>
            <p:cNvPr id="450" name=""/>
            <p:cNvSpPr/>
            <p:nvPr/>
          </p:nvSpPr>
          <p:spPr>
            <a:xfrm>
              <a:off x="606600" y="2009520"/>
              <a:ext cx="712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则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的取值范围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379440" y="1217520"/>
                  <a:ext cx="766116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若化简：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e>
                      </m:d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的结果是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780000" y="2176560"/>
                <a:ext cx="18381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423720" y="216000"/>
            <a:ext cx="1916280" cy="836640"/>
            <a:chOff x="423720" y="216000"/>
            <a:chExt cx="1916280" cy="836640"/>
          </a:xfrm>
        </p:grpSpPr>
        <p:grpSp>
          <p:nvGrpSpPr>
            <p:cNvPr id="454" name=""/>
            <p:cNvGrpSpPr/>
            <p:nvPr/>
          </p:nvGrpSpPr>
          <p:grpSpPr>
            <a:xfrm>
              <a:off x="423720" y="216000"/>
              <a:ext cx="1916280" cy="836640"/>
              <a:chOff x="423720" y="216000"/>
              <a:chExt cx="1916280" cy="836640"/>
            </a:xfrm>
          </p:grpSpPr>
          <p:sp>
            <p:nvSpPr>
              <p:cNvPr id="455" name=""/>
              <p:cNvSpPr/>
              <p:nvPr/>
            </p:nvSpPr>
            <p:spPr>
              <a:xfrm>
                <a:off x="423720" y="34128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45680" y="21600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495360" y="45108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拓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826920" y="909720"/>
            <a:ext cx="6553080" cy="1726920"/>
            <a:chOff x="826920" y="909720"/>
            <a:chExt cx="6553080" cy="1726920"/>
          </a:xfrm>
        </p:grpSpPr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1251000" y="1657800"/>
                  <a:ext cx="6129000" cy="97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num>
                        <m:den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当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时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"/>
            <p:cNvSpPr/>
            <p:nvPr/>
          </p:nvSpPr>
          <p:spPr>
            <a:xfrm>
              <a:off x="826920" y="909720"/>
              <a:ext cx="443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先化简，再求值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547640" y="3284640"/>
                <a:ext cx="4262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5" name=""/>
          <p:cNvGrpSpPr/>
          <p:nvPr/>
        </p:nvGrpSpPr>
        <p:grpSpPr>
          <a:xfrm>
            <a:off x="1158840" y="2590920"/>
            <a:ext cx="5284800" cy="554040"/>
            <a:chOff x="1158840" y="2590920"/>
            <a:chExt cx="5284800" cy="554040"/>
          </a:xfrm>
        </p:grpSpPr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1158840" y="2611440"/>
                  <a:ext cx="22035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解</m:t>
                      </m:r>
                      <m:r>
                        <m:t xml:space="preserve">∵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811680" y="2590920"/>
                  <a:ext cx="26319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627280" y="4292640"/>
                <a:ext cx="28321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676600" y="5294160"/>
                <a:ext cx="10317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649600" y="5805360"/>
                <a:ext cx="1274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471" name=""/>
          <p:cNvGrpSpPr/>
          <p:nvPr/>
        </p:nvGrpSpPr>
        <p:grpSpPr>
          <a:xfrm>
            <a:off x="495360" y="216000"/>
            <a:ext cx="1915920" cy="836640"/>
            <a:chOff x="495360" y="216000"/>
            <a:chExt cx="1915920" cy="836640"/>
          </a:xfrm>
        </p:grpSpPr>
        <p:grpSp>
          <p:nvGrpSpPr>
            <p:cNvPr id="472" name=""/>
            <p:cNvGrpSpPr/>
            <p:nvPr/>
          </p:nvGrpSpPr>
          <p:grpSpPr>
            <a:xfrm>
              <a:off x="495360" y="216000"/>
              <a:ext cx="1915920" cy="836640"/>
              <a:chOff x="495360" y="216000"/>
              <a:chExt cx="1915920" cy="836640"/>
            </a:xfrm>
          </p:grpSpPr>
          <p:sp>
            <p:nvSpPr>
              <p:cNvPr id="473" name=""/>
              <p:cNvSpPr/>
              <p:nvPr/>
            </p:nvSpPr>
            <p:spPr>
              <a:xfrm>
                <a:off x="495360" y="341280"/>
                <a:ext cx="187200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7320" y="216000"/>
                <a:ext cx="189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566640" y="45108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拓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25909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573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48428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观察</a:t>
            </a:r>
            <a:r>
              <a:rPr b="0" lang="zh-CN" sz="3600" spc="-1" strike="noStrike">
                <a:solidFill>
                  <a:srgbClr val="924abe"/>
                </a:solidFill>
                <a:latin typeface="Arial"/>
              </a:rPr>
              <a:t>下列各式的特点，找出各式的共同规律，并用表达式表示你发现的一般规律</a:t>
            </a:r>
            <a:r>
              <a:rPr b="0" lang="en-US" sz="3600" spc="-1" strike="noStrike">
                <a:solidFill>
                  <a:srgbClr val="924abe"/>
                </a:solidFill>
                <a:latin typeface="Arial"/>
              </a:rPr>
              <a:t>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6920" y="3500280"/>
            <a:ext cx="6984720" cy="865080"/>
            <a:chOff x="826920" y="3500280"/>
            <a:chExt cx="6984720" cy="86508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826920" y="3519360"/>
                  <a:ext cx="153468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224880" y="3500280"/>
                  <a:ext cx="141984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,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457600" y="3501720"/>
                  <a:ext cx="1488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,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2361600" y="4238640"/>
              <a:ext cx="9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7480" y="4238640"/>
              <a:ext cx="9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91120" y="4238640"/>
              <a:ext cx="9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84360" y="4581360"/>
            <a:ext cx="6983280" cy="758880"/>
            <a:chOff x="684360" y="4581360"/>
            <a:chExt cx="6983280" cy="75888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684360" y="4581360"/>
                  <a:ext cx="165564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203640" y="4581360"/>
                  <a:ext cx="158436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,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25920" y="4621320"/>
                  <a:ext cx="166716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,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2340000" y="5157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88000" y="51577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0000" y="51577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348000" y="5373720"/>
            <a:ext cx="2232000" cy="820800"/>
            <a:chOff x="3348000" y="5373720"/>
            <a:chExt cx="2232000" cy="820800"/>
          </a:xfrm>
        </p:grpSpPr>
        <p:sp>
          <p:nvSpPr>
            <p:cNvPr id="176" name=""/>
            <p:cNvSpPr/>
            <p:nvPr/>
          </p:nvSpPr>
          <p:spPr>
            <a:xfrm>
              <a:off x="4716360" y="6021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348000" y="5373720"/>
                  <a:ext cx="136836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702000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27280" y="364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4508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50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54514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360" y="289080"/>
            <a:ext cx="1915920" cy="835920"/>
            <a:chOff x="495360" y="289080"/>
            <a:chExt cx="1915920" cy="835920"/>
          </a:xfrm>
        </p:grpSpPr>
        <p:grpSp>
          <p:nvGrpSpPr>
            <p:cNvPr id="186" name=""/>
            <p:cNvGrpSpPr/>
            <p:nvPr/>
          </p:nvGrpSpPr>
          <p:grpSpPr>
            <a:xfrm>
              <a:off x="495360" y="289080"/>
              <a:ext cx="1915920" cy="835920"/>
              <a:chOff x="495360" y="289080"/>
              <a:chExt cx="1915920" cy="835920"/>
            </a:xfrm>
          </p:grpSpPr>
          <p:sp>
            <p:nvSpPr>
              <p:cNvPr id="187" name=""/>
              <p:cNvSpPr/>
              <p:nvPr/>
            </p:nvSpPr>
            <p:spPr>
              <a:xfrm>
                <a:off x="495360" y="414000"/>
                <a:ext cx="1872000" cy="711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7320" y="289080"/>
                <a:ext cx="189396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566640" y="52380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50920" y="1700280"/>
            <a:ext cx="867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．本节课你学到了哪些知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．本节课中你最大的收获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95280" y="260280"/>
            <a:ext cx="1916280" cy="836640"/>
            <a:chOff x="395280" y="260280"/>
            <a:chExt cx="1916280" cy="836640"/>
          </a:xfrm>
        </p:grpSpPr>
        <p:grpSp>
          <p:nvGrpSpPr>
            <p:cNvPr id="478" name=""/>
            <p:cNvGrpSpPr/>
            <p:nvPr/>
          </p:nvGrpSpPr>
          <p:grpSpPr>
            <a:xfrm>
              <a:off x="395280" y="260280"/>
              <a:ext cx="1916280" cy="836640"/>
              <a:chOff x="395280" y="260280"/>
              <a:chExt cx="1916280" cy="836640"/>
            </a:xfrm>
          </p:grpSpPr>
          <p:sp>
            <p:nvSpPr>
              <p:cNvPr id="479" name=""/>
              <p:cNvSpPr/>
              <p:nvPr/>
            </p:nvSpPr>
            <p:spPr>
              <a:xfrm>
                <a:off x="395280" y="38556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17240" y="26028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466920" y="49536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评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878040" y="3819600"/>
            <a:ext cx="7439040" cy="1815120"/>
            <a:chOff x="878040" y="3819600"/>
            <a:chExt cx="7439040" cy="1815120"/>
          </a:xfrm>
        </p:grpSpPr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878040" y="3933720"/>
                  <a:ext cx="4362120" cy="14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4" name=""/>
            <p:cNvSpPr/>
            <p:nvPr/>
          </p:nvSpPr>
          <p:spPr>
            <a:xfrm>
              <a:off x="5148360" y="4076640"/>
              <a:ext cx="144360" cy="1297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16560" y="3860640"/>
              <a:ext cx="739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GulimChe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45280" y="4870440"/>
              <a:ext cx="73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7640" y="3819600"/>
              <a:ext cx="201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a≥0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00720" y="4870440"/>
              <a:ext cx="201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a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＜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0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619280" y="1236600"/>
            <a:ext cx="59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二次根式的两条性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755640" y="2276640"/>
                <a:ext cx="410364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395280" y="189000"/>
            <a:ext cx="1916280" cy="836640"/>
            <a:chOff x="395280" y="189000"/>
            <a:chExt cx="1916280" cy="836640"/>
          </a:xfrm>
        </p:grpSpPr>
        <p:grpSp>
          <p:nvGrpSpPr>
            <p:cNvPr id="492" name=""/>
            <p:cNvGrpSpPr/>
            <p:nvPr/>
          </p:nvGrpSpPr>
          <p:grpSpPr>
            <a:xfrm>
              <a:off x="395280" y="189000"/>
              <a:ext cx="1916280" cy="836640"/>
              <a:chOff x="395280" y="189000"/>
              <a:chExt cx="1916280" cy="836640"/>
            </a:xfrm>
          </p:grpSpPr>
          <p:sp>
            <p:nvSpPr>
              <p:cNvPr id="493" name=""/>
              <p:cNvSpPr/>
              <p:nvPr/>
            </p:nvSpPr>
            <p:spPr>
              <a:xfrm>
                <a:off x="395280" y="31428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7240" y="18900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466920" y="42408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987640" y="1341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03dff"/>
                </a:solidFill>
                <a:latin typeface="Arial"/>
              </a:rPr>
              <a:t>作业布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547640" y="3213000"/>
            <a:ext cx="64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课本：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页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2340000" y="692280"/>
            <a:ext cx="4432320" cy="33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08640" y="3301920"/>
            <a:ext cx="126720" cy="254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0746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规律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92360" y="2257560"/>
            <a:ext cx="5153040" cy="955440"/>
            <a:chOff x="1692360" y="2257560"/>
            <a:chExt cx="5153040" cy="955440"/>
          </a:xfrm>
        </p:grpSpPr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788000" y="2257560"/>
                  <a:ext cx="205740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>
              <a:off x="1692360" y="2401920"/>
              <a:ext cx="345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当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≥0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时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92360" y="3645000"/>
            <a:ext cx="5545080" cy="949320"/>
            <a:chOff x="1692360" y="3645000"/>
            <a:chExt cx="5545080" cy="94932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861080" y="3645000"/>
                  <a:ext cx="237636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1692360" y="3802320"/>
              <a:ext cx="331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当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＜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0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时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68360" y="260280"/>
            <a:ext cx="1915920" cy="836640"/>
            <a:chOff x="468360" y="260280"/>
            <a:chExt cx="1915920" cy="836640"/>
          </a:xfrm>
        </p:grpSpPr>
        <p:grpSp>
          <p:nvGrpSpPr>
            <p:cNvPr id="199" name=""/>
            <p:cNvGrpSpPr/>
            <p:nvPr/>
          </p:nvGrpSpPr>
          <p:grpSpPr>
            <a:xfrm>
              <a:off x="468360" y="260280"/>
              <a:ext cx="1915920" cy="836640"/>
              <a:chOff x="468360" y="260280"/>
              <a:chExt cx="1915920" cy="836640"/>
            </a:xfrm>
          </p:grpSpPr>
          <p:sp>
            <p:nvSpPr>
              <p:cNvPr id="200" name=""/>
              <p:cNvSpPr/>
              <p:nvPr/>
            </p:nvSpPr>
            <p:spPr>
              <a:xfrm>
                <a:off x="468360" y="385560"/>
                <a:ext cx="187200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90320" y="260280"/>
                <a:ext cx="189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539640" y="4953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042920" y="1341360"/>
            <a:ext cx="6985080" cy="3067920"/>
            <a:chOff x="1042920" y="1341360"/>
            <a:chExt cx="6985080" cy="306792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1258920" y="2708280"/>
                  <a:ext cx="3600360" cy="14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4857840" y="2995560"/>
              <a:ext cx="144360" cy="1297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19640" y="2708280"/>
              <a:ext cx="739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GulimChe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6560" y="3645000"/>
              <a:ext cx="739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38920" y="270828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a≥0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12000" y="364500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a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＜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0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42920" y="1341360"/>
              <a:ext cx="24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.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归纳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95280" y="189000"/>
            <a:ext cx="1916280" cy="836640"/>
            <a:chOff x="395280" y="189000"/>
            <a:chExt cx="1916280" cy="836640"/>
          </a:xfrm>
        </p:grpSpPr>
        <p:grpSp>
          <p:nvGrpSpPr>
            <p:cNvPr id="212" name=""/>
            <p:cNvGrpSpPr/>
            <p:nvPr/>
          </p:nvGrpSpPr>
          <p:grpSpPr>
            <a:xfrm>
              <a:off x="395280" y="189000"/>
              <a:ext cx="1916280" cy="836640"/>
              <a:chOff x="395280" y="189000"/>
              <a:chExt cx="1916280" cy="836640"/>
            </a:xfrm>
          </p:grpSpPr>
          <p:sp>
            <p:nvSpPr>
              <p:cNvPr id="213" name=""/>
              <p:cNvSpPr/>
              <p:nvPr/>
            </p:nvSpPr>
            <p:spPr>
              <a:xfrm>
                <a:off x="395280" y="31428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7240" y="18900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466920" y="42408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9840" y="4581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6720" y="779400"/>
            <a:ext cx="184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11280" y="2637000"/>
                <a:ext cx="817236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与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有区别吗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9" name=""/>
          <p:cNvGrpSpPr/>
          <p:nvPr/>
        </p:nvGrpSpPr>
        <p:grpSpPr>
          <a:xfrm>
            <a:off x="5580000" y="4581360"/>
            <a:ext cx="2448000" cy="1922760"/>
            <a:chOff x="5580000" y="4581360"/>
            <a:chExt cx="2448000" cy="192276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5580000" y="458136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020000" y="4581360"/>
              <a:ext cx="1008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5280" y="115920"/>
            <a:ext cx="1916280" cy="836640"/>
            <a:chOff x="395280" y="115920"/>
            <a:chExt cx="1916280" cy="836640"/>
          </a:xfrm>
        </p:grpSpPr>
        <p:grpSp>
          <p:nvGrpSpPr>
            <p:cNvPr id="223" name=""/>
            <p:cNvGrpSpPr/>
            <p:nvPr/>
          </p:nvGrpSpPr>
          <p:grpSpPr>
            <a:xfrm>
              <a:off x="395280" y="115920"/>
              <a:ext cx="1916280" cy="836640"/>
              <a:chOff x="395280" y="115920"/>
              <a:chExt cx="1916280" cy="836640"/>
            </a:xfrm>
          </p:grpSpPr>
          <p:sp>
            <p:nvSpPr>
              <p:cNvPr id="224" name=""/>
              <p:cNvSpPr/>
              <p:nvPr/>
            </p:nvSpPr>
            <p:spPr>
              <a:xfrm>
                <a:off x="395280" y="24120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7240" y="11592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66920" y="35100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9640" y="10494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运算顺序来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11280" y="1616040"/>
            <a:ext cx="8029080" cy="876240"/>
            <a:chOff x="611280" y="1616040"/>
            <a:chExt cx="8029080" cy="87624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611280" y="1616040"/>
                  <a:ext cx="128880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a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4643280" y="1616040"/>
                  <a:ext cx="1079280" cy="80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2133360" y="1758960"/>
              <a:ext cx="195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先开方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,</a:t>
              </a: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后平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80000" y="1758960"/>
              <a:ext cx="30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先平方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,</a:t>
              </a: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后开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0920" y="24177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取值范围来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55640" y="3005280"/>
            <a:ext cx="7280280" cy="855360"/>
            <a:chOff x="755640" y="3005280"/>
            <a:chExt cx="7280280" cy="85536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755640" y="3005280"/>
                  <a:ext cx="1258920" cy="85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a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36" name=""/>
            <p:cNvGrpSpPr/>
            <p:nvPr/>
          </p:nvGrpSpPr>
          <p:grpSpPr>
            <a:xfrm>
              <a:off x="3961440" y="3076560"/>
              <a:ext cx="1766520" cy="778320"/>
              <a:chOff x="3961440" y="3076560"/>
              <a:chExt cx="1766520" cy="778320"/>
            </a:xfrm>
          </p:grpSpPr>
          <mc:AlternateContent>
            <mc:Choice xmlns:a14="http://schemas.microsoft.com/office/drawing/2010/main" Requires="a14">
              <p:sp>
                <p:nvSpPr>
                  <p:cNvPr id="237" name=""/>
                  <p:cNvSpPr txBox="1"/>
                  <p:nvPr/>
                </p:nvSpPr>
                <p:spPr>
                  <a:xfrm>
                    <a:off x="3961440" y="3076560"/>
                    <a:ext cx="111384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8" name=""/>
              <p:cNvSpPr/>
              <p:nvPr/>
            </p:nvSpPr>
            <p:spPr>
              <a:xfrm>
                <a:off x="4001760" y="3212280"/>
                <a:ext cx="172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        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268720" y="3220920"/>
              <a:ext cx="100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a≥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92720" y="314964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a</a:t>
              </a:r>
              <a:r>
                <a:rPr b="1" lang="zh-CN" sz="32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取任何实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32680" y="3929040"/>
            <a:ext cx="27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运算结果来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77880" y="4506840"/>
            <a:ext cx="8215200" cy="1516320"/>
            <a:chOff x="677880" y="4506840"/>
            <a:chExt cx="8215200" cy="1516320"/>
          </a:xfrm>
        </p:grpSpPr>
        <p:sp>
          <p:nvSpPr>
            <p:cNvPr id="243" name=""/>
            <p:cNvSpPr/>
            <p:nvPr/>
          </p:nvSpPr>
          <p:spPr>
            <a:xfrm>
              <a:off x="2009520" y="479412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=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77880" y="4506840"/>
              <a:ext cx="8215200" cy="1516320"/>
              <a:chOff x="677880" y="4506840"/>
              <a:chExt cx="8215200" cy="1516320"/>
            </a:xfrm>
          </p:grpSpPr>
          <mc:AlternateContent>
            <mc:Choice xmlns:a14="http://schemas.microsoft.com/office/drawing/2010/main" Requires="a14">
              <p:sp>
                <p:nvSpPr>
                  <p:cNvPr id="245" name=""/>
                  <p:cNvSpPr txBox="1"/>
                  <p:nvPr/>
                </p:nvSpPr>
                <p:spPr>
                  <a:xfrm>
                    <a:off x="677880" y="4578120"/>
                    <a:ext cx="1432080" cy="974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46" name=""/>
              <p:cNvGrpSpPr/>
              <p:nvPr/>
            </p:nvGrpSpPr>
            <p:grpSpPr>
              <a:xfrm>
                <a:off x="3054240" y="4506840"/>
                <a:ext cx="5838840" cy="1516320"/>
                <a:chOff x="3054240" y="4506840"/>
                <a:chExt cx="5838840" cy="15163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149880" y="4506840"/>
                  <a:ext cx="2743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a  (a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≥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0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48" name=""/>
                    <p:cNvSpPr txBox="1"/>
                    <p:nvPr/>
                  </p:nvSpPr>
                  <p:spPr>
                    <a:xfrm>
                      <a:off x="3054240" y="4722840"/>
                      <a:ext cx="1079280" cy="877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49" name=""/>
                <p:cNvSpPr/>
                <p:nvPr/>
              </p:nvSpPr>
              <p:spPr>
                <a:xfrm>
                  <a:off x="6149880" y="5441760"/>
                  <a:ext cx="2743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-a  (a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＜</a:t>
                  </a: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0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430600" y="5010120"/>
                  <a:ext cx="432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=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078240" y="4865760"/>
                  <a:ext cx="71640" cy="1081080"/>
                </a:xfrm>
                <a:custGeom>
                  <a:avLst/>
                  <a:gdLst>
                    <a:gd name="textAreaLeft" fmla="*/ 45720 w 71640"/>
                    <a:gd name="textAreaRight" fmla="*/ 72000 w 71640"/>
                    <a:gd name="textAreaTop" fmla="*/ 28080 h 1081080"/>
                    <a:gd name="textAreaBottom" fmla="*/ 1053000 h 10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060800" y="4940280"/>
                  <a:ext cx="2016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=∣a∣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468360" y="260280"/>
            <a:ext cx="1915920" cy="836640"/>
            <a:chOff x="468360" y="260280"/>
            <a:chExt cx="1915920" cy="836640"/>
          </a:xfrm>
        </p:grpSpPr>
        <p:grpSp>
          <p:nvGrpSpPr>
            <p:cNvPr id="254" name=""/>
            <p:cNvGrpSpPr/>
            <p:nvPr/>
          </p:nvGrpSpPr>
          <p:grpSpPr>
            <a:xfrm>
              <a:off x="468360" y="260280"/>
              <a:ext cx="1915920" cy="836640"/>
              <a:chOff x="468360" y="260280"/>
              <a:chExt cx="1915920" cy="836640"/>
            </a:xfrm>
          </p:grpSpPr>
          <p:sp>
            <p:nvSpPr>
              <p:cNvPr id="255" name=""/>
              <p:cNvSpPr/>
              <p:nvPr/>
            </p:nvSpPr>
            <p:spPr>
              <a:xfrm>
                <a:off x="468360" y="385560"/>
                <a:ext cx="187200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0320" y="260280"/>
                <a:ext cx="189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39640" y="49536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39840" y="4581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36720" y="779400"/>
            <a:ext cx="184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11280" y="1168560"/>
            <a:ext cx="6626160" cy="4996800"/>
            <a:chOff x="611280" y="1168560"/>
            <a:chExt cx="6626160" cy="4996800"/>
          </a:xfrm>
        </p:grpSpPr>
        <p:sp>
          <p:nvSpPr>
            <p:cNvPr id="264" name=""/>
            <p:cNvSpPr/>
            <p:nvPr/>
          </p:nvSpPr>
          <p:spPr>
            <a:xfrm>
              <a:off x="611280" y="116856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：计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2627280" y="1960560"/>
                  <a:ext cx="1657440" cy="107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2627280" y="3471840"/>
                  <a:ext cx="3168720" cy="113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700360" y="5056200"/>
                  <a:ext cx="4537080" cy="110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8" name=""/>
          <p:cNvGrpSpPr/>
          <p:nvPr/>
        </p:nvGrpSpPr>
        <p:grpSpPr>
          <a:xfrm>
            <a:off x="324000" y="115920"/>
            <a:ext cx="1915920" cy="836640"/>
            <a:chOff x="324000" y="115920"/>
            <a:chExt cx="1915920" cy="836640"/>
          </a:xfrm>
        </p:grpSpPr>
        <p:grpSp>
          <p:nvGrpSpPr>
            <p:cNvPr id="269" name=""/>
            <p:cNvGrpSpPr/>
            <p:nvPr/>
          </p:nvGrpSpPr>
          <p:grpSpPr>
            <a:xfrm>
              <a:off x="324000" y="115920"/>
              <a:ext cx="1915920" cy="836640"/>
              <a:chOff x="324000" y="115920"/>
              <a:chExt cx="1915920" cy="836640"/>
            </a:xfrm>
          </p:grpSpPr>
          <p:sp>
            <p:nvSpPr>
              <p:cNvPr id="270" name=""/>
              <p:cNvSpPr/>
              <p:nvPr/>
            </p:nvSpPr>
            <p:spPr>
              <a:xfrm>
                <a:off x="324000" y="241200"/>
                <a:ext cx="187200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5960" y="115920"/>
                <a:ext cx="189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95280" y="351000"/>
              <a:ext cx="174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71640" y="9079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979640" y="765000"/>
                <a:ext cx="44197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049480" y="2276640"/>
                <a:ext cx="4467240" cy="11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2179800" y="3716280"/>
            <a:ext cx="5921280" cy="3241800"/>
            <a:chOff x="2179800" y="3716280"/>
            <a:chExt cx="5921280" cy="3241800"/>
          </a:xfrm>
        </p:grpSpPr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2179800" y="3716280"/>
                  <a:ext cx="5200560" cy="171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</m:d>
                          <m:r>
                            <m:t xml:space="preserve">∵</m:t>
                          </m:r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∴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916360" y="4576680"/>
                  <a:ext cx="5184720" cy="238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∴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395280" y="189000"/>
            <a:ext cx="1916280" cy="836640"/>
            <a:chOff x="395280" y="189000"/>
            <a:chExt cx="1916280" cy="836640"/>
          </a:xfrm>
        </p:grpSpPr>
        <p:grpSp>
          <p:nvGrpSpPr>
            <p:cNvPr id="280" name=""/>
            <p:cNvGrpSpPr/>
            <p:nvPr/>
          </p:nvGrpSpPr>
          <p:grpSpPr>
            <a:xfrm>
              <a:off x="395280" y="189000"/>
              <a:ext cx="1916280" cy="836640"/>
              <a:chOff x="395280" y="189000"/>
              <a:chExt cx="1916280" cy="836640"/>
            </a:xfrm>
          </p:grpSpPr>
          <p:sp>
            <p:nvSpPr>
              <p:cNvPr id="281" name=""/>
              <p:cNvSpPr/>
              <p:nvPr/>
            </p:nvSpPr>
            <p:spPr>
              <a:xfrm>
                <a:off x="395280" y="31428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7240" y="18900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66920" y="42408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4360" y="256536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03dff"/>
                </a:solidFill>
                <a:latin typeface="Arial"/>
              </a:rPr>
              <a:t>练习：课本</a:t>
            </a:r>
            <a:r>
              <a:rPr b="0" lang="en-US" sz="5400" spc="-1" strike="noStrike">
                <a:solidFill>
                  <a:srgbClr val="703dff"/>
                </a:solidFill>
                <a:latin typeface="Arial"/>
              </a:rPr>
              <a:t>60</a:t>
            </a:r>
            <a:r>
              <a:rPr b="0" lang="zh-CN" sz="5400" spc="-1" strike="noStrike">
                <a:solidFill>
                  <a:srgbClr val="703dff"/>
                </a:solidFill>
                <a:latin typeface="Arial"/>
              </a:rPr>
              <a:t>页练习</a:t>
            </a:r>
            <a:r>
              <a:rPr b="0" lang="en-US" sz="5400" spc="-1" strike="noStrike">
                <a:solidFill>
                  <a:srgbClr val="703dff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703dff"/>
                </a:solidFill>
                <a:latin typeface="Arial"/>
              </a:rPr>
              <a:t>、</a:t>
            </a:r>
            <a:r>
              <a:rPr b="0" lang="en-US" sz="5400" spc="-1" strike="noStrike">
                <a:solidFill>
                  <a:srgbClr val="703d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95280" y="115920"/>
            <a:ext cx="1916280" cy="836640"/>
            <a:chOff x="395280" y="115920"/>
            <a:chExt cx="1916280" cy="836640"/>
          </a:xfrm>
        </p:grpSpPr>
        <p:grpSp>
          <p:nvGrpSpPr>
            <p:cNvPr id="286" name=""/>
            <p:cNvGrpSpPr/>
            <p:nvPr/>
          </p:nvGrpSpPr>
          <p:grpSpPr>
            <a:xfrm>
              <a:off x="395280" y="115920"/>
              <a:ext cx="1916280" cy="836640"/>
              <a:chOff x="395280" y="115920"/>
              <a:chExt cx="1916280" cy="836640"/>
            </a:xfrm>
          </p:grpSpPr>
          <p:sp>
            <p:nvSpPr>
              <p:cNvPr id="287" name=""/>
              <p:cNvSpPr/>
              <p:nvPr/>
            </p:nvSpPr>
            <p:spPr>
              <a:xfrm>
                <a:off x="395280" y="241200"/>
                <a:ext cx="1872360" cy="7113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17240" y="115920"/>
                <a:ext cx="189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66920" y="351000"/>
              <a:ext cx="17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自主合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毛云峰</dc:creator>
  <dc:description/>
  <cp:keywords/>
  <dc:language>en-US</dc:language>
  <cp:lastModifiedBy>User</cp:lastModifiedBy>
  <cp:lastPrinted>1899-12-30T00:00:00Z</cp:lastPrinted>
  <dcterms:modified xsi:type="dcterms:W3CDTF">2013-09-21T01:10:06Z</dcterms:modified>
  <cp:revision>1462</cp:revision>
  <dc:subject/>
  <dc:title>九年级3.1二次根式第二课时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