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0307-A817-4110-912A-124E0C1F5C3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709E-BA19-44C6-861A-0B043DD04CC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CADD-CBB6-479D-8DE0-5E125835319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5299-400A-440B-BD53-804BC7B5E4C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7226-9A0F-4056-9415-610AEEFDDEE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4375-BF8C-467B-B07A-6F7CD373089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E6D9-4DC4-4B82-B657-4A4876576D7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2D52-31DA-49DA-831E-0CDC6EEABB0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458E-0CE7-41F7-84FC-F339B24B6F3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C718-224B-404E-A68E-E08C7FB925E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474D-983F-481A-A745-B8DDEC18E69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13B1-6E25-402D-AF66-02CBAE22086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0D10-3241-4562-B1A9-2F70C23AB01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2B83-86CF-45A1-B313-B99802FCF17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A9D4-D00A-4B84-A35D-4B311C8F1CF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1F36-C544-424D-B2E1-9B1CEE85B3F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5E6B-F597-4125-8010-87E56DDC486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57BA-3C2C-44B9-B1FE-683457BEE73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929A-DDB3-4BF4-8882-512F4FEEA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0883-4099-476F-8133-F15A4DA9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DEE4-D824-462A-AA88-7007038CF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DBC7-CAE1-4C8D-AF81-CA2D1E7A0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3047-94EE-4F8E-97CA-F38FD8F2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1C9F-65F0-4108-B787-EB7AAFC0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E0DB-3048-4A01-BFF1-48B110DF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D04C-D484-44C3-A3F7-BCEE8914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1905-B176-4CC4-991B-15FD8F26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C767-86F5-43B1-8F29-24AFBB11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359A-92C5-4A90-BFFE-2FB829DD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47F2-7E85-4D22-8190-48C8A648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6717-085D-457F-903A-A4EC25193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slide" Target="slide7.xml"/><Relationship Id="rId3" Type="http://schemas.openxmlformats.org/officeDocument/2006/relationships/image" Target="../media/image4.wmf"/><Relationship Id="rId4" Type="http://schemas.openxmlformats.org/officeDocument/2006/relationships/package" Target="../embeddings/oleObject2.xlsx"/><Relationship Id="rId5" Type="http://schemas.openxmlformats.org/officeDocument/2006/relationships/slide" Target="slide5.xml"/><Relationship Id="rId6" Type="http://schemas.openxmlformats.org/officeDocument/2006/relationships/image" Target="../media/image5.wmf"/><Relationship Id="rId7" Type="http://schemas.openxmlformats.org/officeDocument/2006/relationships/package" Target="../embeddings/oleObject3.xlsx"/><Relationship Id="rId8" Type="http://schemas.openxmlformats.org/officeDocument/2006/relationships/slide" Target="slide4.xml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7"/>
          <p:cNvSpPr/>
          <p:nvPr/>
        </p:nvSpPr>
        <p:spPr>
          <a:xfrm>
            <a:off x="214200" y="1860480"/>
            <a:ext cx="892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cc"/>
                </a:solidFill>
                <a:latin typeface="黑体"/>
                <a:ea typeface="黑体"/>
              </a:rPr>
              <a:t>7.2 </a:t>
            </a:r>
            <a:r>
              <a:rPr b="1" lang="zh-CN" sz="6000" spc="-1" strike="noStrike">
                <a:solidFill>
                  <a:srgbClr val="0033cc"/>
                </a:solidFill>
                <a:latin typeface="黑体"/>
                <a:ea typeface="黑体"/>
              </a:rPr>
              <a:t>统计表、统计图的选用</a:t>
            </a:r>
            <a:r>
              <a:rPr b="1" lang="en-US" sz="6000" spc="-1" strike="noStrike">
                <a:solidFill>
                  <a:srgbClr val="0033cc"/>
                </a:solidFill>
                <a:latin typeface="黑体"/>
                <a:ea typeface="黑体"/>
              </a:rPr>
              <a:t>(2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357120" y="444600"/>
            <a:ext cx="8072640" cy="5715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2"/>
          <p:cNvGraphicFramePr/>
          <p:nvPr/>
        </p:nvGraphicFramePr>
        <p:xfrm>
          <a:off x="0" y="12600"/>
          <a:ext cx="9144000" cy="6845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00"/>
                    <a:ext cx="9144000" cy="68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 Box 3"/>
          <p:cNvSpPr/>
          <p:nvPr/>
        </p:nvSpPr>
        <p:spPr>
          <a:xfrm>
            <a:off x="519840" y="1143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586520" y="3541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3643920" y="20178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5625000" y="20178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7606440" y="3008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Object 1024"/>
          <p:cNvGraphicFramePr/>
          <p:nvPr/>
        </p:nvGraphicFramePr>
        <p:xfrm>
          <a:off x="0" y="457200"/>
          <a:ext cx="9144000" cy="593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9144000" cy="59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Text Box 3"/>
          <p:cNvSpPr/>
          <p:nvPr/>
        </p:nvSpPr>
        <p:spPr>
          <a:xfrm>
            <a:off x="457200" y="1143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亿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026360" y="35712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能力提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533520" y="129528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表分别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届奥运会金牌榜和中国历届奥运会金牌获得数。你准备采用哪种统计图来反映表中所反映的数据？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85800" y="2743200"/>
          <a:ext cx="8001000" cy="1422360"/>
        </p:xfrm>
        <a:graphic>
          <a:graphicData uri="http://schemas.openxmlformats.org/drawingml/2006/table">
            <a:tbl>
              <a:tblPr/>
              <a:tblGrid>
                <a:gridCol w="1144440"/>
                <a:gridCol w="1141560"/>
                <a:gridCol w="1144440"/>
                <a:gridCol w="1140120"/>
                <a:gridCol w="1285560"/>
                <a:gridCol w="1000440"/>
                <a:gridCol w="1144440"/>
              </a:tblGrid>
              <a:tr h="736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国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  <a:ea typeface="隶书"/>
                        </a:rPr>
                        <a:t>美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  <a:ea typeface="隶书"/>
                        </a:rPr>
                        <a:t>中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  <a:ea typeface="隶书"/>
                        </a:rPr>
                        <a:t>俄罗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  <a:ea typeface="隶书"/>
                        </a:rPr>
                        <a:t>澳大利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  <a:ea typeface="隶书"/>
                        </a:rPr>
                        <a:t>日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  <a:ea typeface="隶书"/>
                        </a:rPr>
                        <a:t>其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金牌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09" name="Text Box 50"/>
          <p:cNvSpPr/>
          <p:nvPr/>
        </p:nvSpPr>
        <p:spPr>
          <a:xfrm>
            <a:off x="1467360" y="471492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扇形统计图或用条形统计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026"/>
          <p:cNvSpPr/>
          <p:nvPr/>
        </p:nvSpPr>
        <p:spPr>
          <a:xfrm>
            <a:off x="142920" y="326880"/>
            <a:ext cx="877896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、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下列问题中选用哪种统计图较恰当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）为了反映某个月股市涨跌变化情况，有关人员抽取该月的数据作统计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（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）为了解市民对“随地吐痰就要重罚”的态度（赞成、基本赞成、无所谓、反对）某新闻机构对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1000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位市民做了调查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）某公司为了反映该公司产品销售数量，将全年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个月的销售情况制作成一张统计图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（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）护士每隔几小时给病人量一次体温，以了解病人的体温变化情况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）某校老师中初级职称占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%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，中级职称占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，高级职称占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5%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（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）某市实施科教兴市战略，大力发展教育事业，近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10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年来对教育的投入如下（单位：亿元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1995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年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0.94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　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1996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年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1.50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　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1997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年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1.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1998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年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2.03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　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1999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年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2.10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　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2000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年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2.50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　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2001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年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3.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2002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年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3.19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　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2003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年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3.30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　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2004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年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3.6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27"/>
          <p:cNvSpPr/>
          <p:nvPr/>
        </p:nvSpPr>
        <p:spPr>
          <a:xfrm>
            <a:off x="654480" y="5334120"/>
            <a:ext cx="22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解答 （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）折线统计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28"/>
          <p:cNvSpPr/>
          <p:nvPr/>
        </p:nvSpPr>
        <p:spPr>
          <a:xfrm>
            <a:off x="4302720" y="5334120"/>
            <a:ext cx="397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）条形统计图或扇形统计图（后者最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29"/>
          <p:cNvSpPr/>
          <p:nvPr/>
        </p:nvSpPr>
        <p:spPr>
          <a:xfrm>
            <a:off x="1215000" y="5754600"/>
            <a:ext cx="17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）条形统计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30"/>
          <p:cNvSpPr/>
          <p:nvPr/>
        </p:nvSpPr>
        <p:spPr>
          <a:xfrm>
            <a:off x="3577320" y="5754600"/>
            <a:ext cx="17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）折线统计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31"/>
          <p:cNvSpPr/>
          <p:nvPr/>
        </p:nvSpPr>
        <p:spPr>
          <a:xfrm>
            <a:off x="1215000" y="6211800"/>
            <a:ext cx="17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）扇形统计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32"/>
          <p:cNvSpPr/>
          <p:nvPr/>
        </p:nvSpPr>
        <p:spPr>
          <a:xfrm>
            <a:off x="3947760" y="6211800"/>
            <a:ext cx="28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）条形统计图或折线统计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026"/>
          <p:cNvSpPr/>
          <p:nvPr/>
        </p:nvSpPr>
        <p:spPr>
          <a:xfrm>
            <a:off x="0" y="71280"/>
            <a:ext cx="892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3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图，是某校七年级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班一次数学考试成绩的系统形图，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示小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大于等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，其余关推）由图可知：此次共有＿＿＿＿人参加考试；人数最多的在＿＿＿＿＿分数段，若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以上为优秀，那么本次考试的优秀率为＿＿＿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1024"/>
          <p:cNvGraphicFramePr/>
          <p:nvPr/>
        </p:nvGraphicFramePr>
        <p:xfrm>
          <a:off x="304920" y="2286000"/>
          <a:ext cx="8839080" cy="390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0"/>
                    <a:ext cx="8839080" cy="39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Text Box 1028"/>
          <p:cNvSpPr/>
          <p:nvPr/>
        </p:nvSpPr>
        <p:spPr>
          <a:xfrm>
            <a:off x="1431000" y="954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29"/>
          <p:cNvSpPr/>
          <p:nvPr/>
        </p:nvSpPr>
        <p:spPr>
          <a:xfrm>
            <a:off x="6348960" y="95400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70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－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30"/>
          <p:cNvSpPr/>
          <p:nvPr/>
        </p:nvSpPr>
        <p:spPr>
          <a:xfrm>
            <a:off x="6717240" y="12952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37.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79280" y="260280"/>
            <a:ext cx="842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某报社为了了解读者对一报纸四个版面的喜欢程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进行了一次问卷调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要求读者选出自己最喜欢的一个版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并将结果绘成了如下统计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请说出你从条形图中读出的信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并补全扇形统计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.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要求第二版与第三版相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2"/>
          <p:cNvGraphicFramePr/>
          <p:nvPr/>
        </p:nvGraphicFramePr>
        <p:xfrm>
          <a:off x="0" y="2781360"/>
          <a:ext cx="5470560" cy="378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81360"/>
                    <a:ext cx="5470560" cy="37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" name="Picture 4" descr=""/>
          <p:cNvPicPr/>
          <p:nvPr/>
        </p:nvPicPr>
        <p:blipFill>
          <a:blip r:embed="rId3"/>
          <a:stretch/>
        </p:blipFill>
        <p:spPr>
          <a:xfrm>
            <a:off x="5508720" y="2781360"/>
            <a:ext cx="3317760" cy="3292560"/>
          </a:xfrm>
          <a:prstGeom prst="rect">
            <a:avLst/>
          </a:prstGeom>
          <a:ln w="0">
            <a:noFill/>
          </a:ln>
        </p:spPr>
      </p:pic>
      <p:sp>
        <p:nvSpPr>
          <p:cNvPr id="127" name="Line 5"/>
          <p:cNvSpPr/>
          <p:nvPr/>
        </p:nvSpPr>
        <p:spPr>
          <a:xfrm flipH="1">
            <a:off x="7164000" y="3213000"/>
            <a:ext cx="863640" cy="122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7740720" y="3357720"/>
            <a:ext cx="12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华文新魏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新魏"/>
              </a:rPr>
              <a:t>第二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6156360" y="3429000"/>
            <a:ext cx="12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华文新魏"/>
              </a:rPr>
              <a:t>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新魏"/>
              </a:rPr>
              <a:t>第一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914400" y="3124080"/>
            <a:ext cx="765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通过本节课的学习你有什么收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3000240" y="1143000"/>
            <a:ext cx="236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小   结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714240" y="4357800"/>
            <a:ext cx="765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作业：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P17    1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914400" y="1676520"/>
          <a:ext cx="7924680" cy="4064040"/>
        </p:xfrm>
        <a:graphic>
          <a:graphicData uri="http://schemas.openxmlformats.org/drawingml/2006/table">
            <a:tbl>
              <a:tblPr/>
              <a:tblGrid>
                <a:gridCol w="2108160"/>
                <a:gridCol w="1263600"/>
                <a:gridCol w="1181160"/>
                <a:gridCol w="1095480"/>
                <a:gridCol w="1181160"/>
                <a:gridCol w="1095120"/>
              </a:tblGrid>
              <a:tr h="812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普查          学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大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高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初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小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其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第二次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1964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年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3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6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83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52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第三次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1982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年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7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78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52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94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第四次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1990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年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4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0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33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70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01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第五次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2000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年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6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1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9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57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5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50" name="Text Box 46"/>
          <p:cNvSpPr/>
          <p:nvPr/>
        </p:nvSpPr>
        <p:spPr>
          <a:xfrm>
            <a:off x="1981080" y="5335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7"/>
          <p:cNvSpPr/>
          <p:nvPr/>
        </p:nvSpPr>
        <p:spPr>
          <a:xfrm>
            <a:off x="1219320" y="76212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万人中受教育程度的人数统计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8"/>
          <p:cNvSpPr/>
          <p:nvPr/>
        </p:nvSpPr>
        <p:spPr>
          <a:xfrm>
            <a:off x="1066680" y="1676520"/>
            <a:ext cx="19051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1024"/>
          <p:cNvGraphicFramePr/>
          <p:nvPr/>
        </p:nvGraphicFramePr>
        <p:xfrm>
          <a:off x="0" y="0"/>
          <a:ext cx="914400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 Box 3"/>
          <p:cNvSpPr/>
          <p:nvPr/>
        </p:nvSpPr>
        <p:spPr>
          <a:xfrm>
            <a:off x="1828800" y="51814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数据来源：第五次人口普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685800" y="1676520"/>
          <a:ext cx="8305920" cy="4064040"/>
        </p:xfrm>
        <a:graphic>
          <a:graphicData uri="http://schemas.openxmlformats.org/drawingml/2006/table">
            <a:tbl>
              <a:tblPr/>
              <a:tblGrid>
                <a:gridCol w="2208240"/>
                <a:gridCol w="1325520"/>
                <a:gridCol w="1238400"/>
                <a:gridCol w="1147680"/>
                <a:gridCol w="1236600"/>
                <a:gridCol w="1149480"/>
              </a:tblGrid>
              <a:tr h="812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普查          学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大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高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初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小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其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第二次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1964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年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3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6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83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52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第三次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1982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年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7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78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52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94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第四次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1990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年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0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33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70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01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第五次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2000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年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6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11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39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57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55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7" name="Text Box 46"/>
          <p:cNvSpPr/>
          <p:nvPr/>
        </p:nvSpPr>
        <p:spPr>
          <a:xfrm>
            <a:off x="1981080" y="5335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7"/>
          <p:cNvSpPr/>
          <p:nvPr/>
        </p:nvSpPr>
        <p:spPr>
          <a:xfrm>
            <a:off x="1219320" y="76212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万人中受教育程度的人数统计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48"/>
          <p:cNvSpPr/>
          <p:nvPr/>
        </p:nvSpPr>
        <p:spPr>
          <a:xfrm>
            <a:off x="1066680" y="1676520"/>
            <a:ext cx="19051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1024"/>
          <p:cNvGraphicFramePr/>
          <p:nvPr/>
        </p:nvGraphicFramePr>
        <p:xfrm>
          <a:off x="1066680" y="1066680"/>
          <a:ext cx="739152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066680"/>
                    <a:ext cx="73915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Text Box 3"/>
          <p:cNvSpPr/>
          <p:nvPr/>
        </p:nvSpPr>
        <p:spPr>
          <a:xfrm>
            <a:off x="1295280" y="38088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万人中具有大学教育程度人数统计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3562200" y="617220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数据来源：中国国家统计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104560" y="114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7819560" y="5334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066680" y="1676520"/>
          <a:ext cx="7772400" cy="4064040"/>
        </p:xfrm>
        <a:graphic>
          <a:graphicData uri="http://schemas.openxmlformats.org/drawingml/2006/table">
            <a:tbl>
              <a:tblPr/>
              <a:tblGrid>
                <a:gridCol w="2067120"/>
                <a:gridCol w="1239840"/>
                <a:gridCol w="1158840"/>
                <a:gridCol w="1074600"/>
                <a:gridCol w="1157400"/>
                <a:gridCol w="1074600"/>
              </a:tblGrid>
              <a:tr h="812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普查          学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大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高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初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小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其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第二次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1964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年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3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6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83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52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第三次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1982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年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7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78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52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94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第四次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1990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年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4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0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33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70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01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第五次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2000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年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6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1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9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57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5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67" name="Text Box 46"/>
          <p:cNvSpPr/>
          <p:nvPr/>
        </p:nvSpPr>
        <p:spPr>
          <a:xfrm>
            <a:off x="1981080" y="5335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7"/>
          <p:cNvSpPr/>
          <p:nvPr/>
        </p:nvSpPr>
        <p:spPr>
          <a:xfrm>
            <a:off x="1219320" y="76212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万人中受教育程度的人数统计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8"/>
          <p:cNvSpPr/>
          <p:nvPr/>
        </p:nvSpPr>
        <p:spPr>
          <a:xfrm>
            <a:off x="1066680" y="1676520"/>
            <a:ext cx="19051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1024"/>
          <p:cNvGraphicFramePr/>
          <p:nvPr/>
        </p:nvGraphicFramePr>
        <p:xfrm>
          <a:off x="0" y="0"/>
          <a:ext cx="8458200" cy="635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458200" cy="63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Text Box 3"/>
          <p:cNvSpPr/>
          <p:nvPr/>
        </p:nvSpPr>
        <p:spPr>
          <a:xfrm>
            <a:off x="2819520" y="61722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数据来源：第五次人口普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685800" y="1371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7986240" y="5105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教育程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1024"/>
          <p:cNvGraphicFramePr/>
          <p:nvPr/>
        </p:nvGraphicFramePr>
        <p:xfrm>
          <a:off x="4800600" y="0"/>
          <a:ext cx="4343400" cy="326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Object 1024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0"/>
                    <a:ext cx="4343400" cy="32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1025"/>
          <p:cNvGraphicFramePr/>
          <p:nvPr/>
        </p:nvGraphicFramePr>
        <p:xfrm>
          <a:off x="0" y="3497400"/>
          <a:ext cx="4724280" cy="33606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78" name="Object 1025" descr="">
                    <a:hlinkClick r:id="rId5" action="ppaction://hlinksldjump"/>
                  </p:cNvPr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497400"/>
                    <a:ext cx="4724280" cy="33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Rectangle 4"/>
          <p:cNvSpPr/>
          <p:nvPr/>
        </p:nvSpPr>
        <p:spPr>
          <a:xfrm>
            <a:off x="1153080" y="3276720"/>
            <a:ext cx="2316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每</a:t>
            </a: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万人中具有大学教育程度人数分布统计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5992200" y="609480"/>
            <a:ext cx="2341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2000</a:t>
            </a: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年每</a:t>
            </a: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万人中受教育程度人数统计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1026"/>
          <p:cNvGraphicFramePr/>
          <p:nvPr/>
        </p:nvGraphicFramePr>
        <p:xfrm>
          <a:off x="0" y="0"/>
          <a:ext cx="4800600" cy="32004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82" name="Object 1026" descr="">
                    <a:hlinkClick r:id="rId8" action="ppaction://hlinksldjump"/>
                  </p:cNvPr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0"/>
                    <a:ext cx="480060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Rectangle 7"/>
          <p:cNvSpPr/>
          <p:nvPr/>
        </p:nvSpPr>
        <p:spPr>
          <a:xfrm>
            <a:off x="1186560" y="609480"/>
            <a:ext cx="2554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2000</a:t>
            </a: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年每</a:t>
            </a: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万人中受教育程度人数分布统计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876920" y="3352680"/>
            <a:ext cx="4267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问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你能从哪幅图中看出每</a:t>
            </a:r>
            <a:r>
              <a:rPr b="1" lang="en-US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万人中具有大学文化程度人数的变化趋势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4876920" y="496872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000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年每</a:t>
            </a:r>
            <a:r>
              <a:rPr b="1" lang="en-US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万人中具有初中文化程度的人数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4876920" y="579132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000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年每</a:t>
            </a:r>
            <a:r>
              <a:rPr b="1" lang="en-US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万人中具有初中文化程度人数约占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228600" y="8380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我们学过哪些统计图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114200" y="1981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条形统计图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114200" y="31719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折线统计图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114200" y="44197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扇形统计图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191120" y="8380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三种图各自的特点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4052160" y="19810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能清楚地表现每个项目的具体数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3908160" y="320040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能清楚地反映事物的变化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2971800" y="441972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能清楚地表示出各部分在总体中所占的百分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2:56:20Z</dcterms:created>
  <dc:creator/>
  <dc:description/>
  <dc:language>en-US</dc:language>
  <cp:lastModifiedBy/>
  <dcterms:modified xsi:type="dcterms:W3CDTF">2014-02-20T02:56:30Z</dcterms:modified>
  <cp:revision>1</cp:revision>
  <dc:subject/>
  <dc:title/>
</cp:coreProperties>
</file>