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1.png" ContentType="image/png"/>
  <Override PartName="/ppt/media/image19.png" ContentType="image/png"/>
  <Override PartName="/ppt/media/image1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18.wmf" ContentType="image/x-wmf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D32-F41D-4ED1-9EE2-F82D4C21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75B-CAAB-477A-90D5-B96FE08A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0AA-DACE-48E1-811E-3ED17644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2015-3C78-488B-99FD-49952BBF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D0C-EDEE-4903-A908-2D0EC88D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21BA-BE24-4DC9-B0CC-615FED84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C38C-3768-4013-937A-559044ED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2922-0C9A-40B1-8B13-B2C369B6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88B4-E204-4919-B5D1-654055DA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8A81-B801-468B-8A9E-82E8568F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EDB-1C1C-4B2E-8717-E698F6CA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73B0-8C6E-420D-98DF-A57D6443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84A9-E2E0-484B-A3E2-D92B850A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6609-A92E-459E-AA1C-D3572830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D0AE-C5B4-4FF1-ABDB-C4AA7DAE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CB60-72A7-4810-8F95-FD90E8A3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33B7-62F3-45CF-B42A-BD37DD5E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A450-E799-4EBD-B71B-2A72B329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FACB3-484A-4FC9-B211-77C77829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64462-DCA7-4289-A286-6238E500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DF2B4-7427-4382-BAFC-62F69302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E24-FB7A-465A-92E4-14F23B71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344AD-BED4-42B9-969B-38F34E2C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275D3-17DE-41DD-AF96-1CF4B96E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511F2-80A6-4F48-86A3-DCFA96FD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58FE8-EB7A-475D-8490-243D33F0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EC826-7391-4495-8093-D4247611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5EB42-E577-4EEB-B60F-F557C86D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D0A0B-8ED1-4287-A2A4-723221EA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52E4D-6BAA-4D17-B940-64FD2C2B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C81DA-20F6-4667-A943-21AA3416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3D806-056A-441A-B3E8-00439F49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591-AE89-4AAD-85D6-526F0929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48855-DBBC-41C6-B420-F35D5EA2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FCE46-7970-4A4C-B88E-C6A7C0A5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4FF25-7EE9-47B9-A0E2-98AD0965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C33B8-4E84-4018-A7AC-3D0A657B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66EF4-584B-4CE5-B192-174AB6A8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9A693-B844-44BE-B204-94D0B9DF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A0415-7C59-46F3-BF59-E33359B0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70386-D893-4B33-860E-C2A7EFD8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B6722-3172-46D0-BFC7-03EC18CF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72B38-5797-448D-A270-64D32E83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4C1-03EC-4D4C-B3F4-92E4CAD7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76FA6-F84F-4D83-B9C9-395C84D5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2112-E8D5-4B2F-A417-4FB21F82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E69-2399-4C9E-BE49-DEC56007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12B-8D11-4D7E-9DBD-0BE05CAC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4282-8A9E-495A-8519-FAC327125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3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" name="Object 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7"/>
          <p:cNvGraphicFramePr/>
          <p:nvPr/>
        </p:nvGraphicFramePr>
        <p:xfrm>
          <a:off x="3492360" y="2276640"/>
          <a:ext cx="5632560" cy="23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2276640"/>
                    <a:ext cx="5632560" cy="23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" name=""/>
          <p:cNvGrpSpPr/>
          <p:nvPr/>
        </p:nvGrpSpPr>
        <p:grpSpPr>
          <a:xfrm>
            <a:off x="5221440" y="3821040"/>
            <a:ext cx="3670920" cy="680760"/>
            <a:chOff x="5221440" y="3821040"/>
            <a:chExt cx="3670920" cy="680760"/>
          </a:xfrm>
        </p:grpSpPr>
        <p:pic>
          <p:nvPicPr>
            <p:cNvPr id="46" name="Picture 40" descr="校名"/>
            <p:cNvPicPr/>
            <p:nvPr/>
          </p:nvPicPr>
          <p:blipFill>
            <a:blip r:embed="rId7"/>
            <a:stretch/>
          </p:blipFill>
          <p:spPr>
            <a:xfrm>
              <a:off x="6040440" y="3823560"/>
              <a:ext cx="2851920" cy="32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1" descr="校徽-高清版"/>
            <p:cNvPicPr/>
            <p:nvPr/>
          </p:nvPicPr>
          <p:blipFill>
            <a:blip r:embed="rId8"/>
            <a:stretch/>
          </p:blipFill>
          <p:spPr>
            <a:xfrm>
              <a:off x="5221440" y="3821040"/>
              <a:ext cx="558720" cy="68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Object 42" descr=""/>
            <p:cNvPicPr/>
            <p:nvPr/>
          </p:nvPicPr>
          <p:blipFill>
            <a:blip r:embed="rId9"/>
            <a:stretch/>
          </p:blipFill>
          <p:spPr>
            <a:xfrm>
              <a:off x="6743520" y="4237920"/>
              <a:ext cx="1402560" cy="22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44" descr="http://192.168.1.3/images/stories/editorupload/cnfilead1bbb5442152ff232e014315256277a.jpg"/>
          <p:cNvPicPr/>
          <p:nvPr/>
        </p:nvPicPr>
        <p:blipFill>
          <a:blip r:embed="rId10">
            <a:lum bright="40000"/>
          </a:blip>
          <a:srcRect l="15000" t="14992" r="0" b="31669"/>
          <a:stretch/>
        </p:blipFill>
        <p:spPr>
          <a:xfrm>
            <a:off x="0" y="2276640"/>
            <a:ext cx="4876920" cy="230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图片1"/>
          <p:cNvPicPr/>
          <p:nvPr/>
        </p:nvPicPr>
        <p:blipFill>
          <a:blip r:embed="rId11"/>
          <a:stretch/>
        </p:blipFill>
        <p:spPr>
          <a:xfrm>
            <a:off x="5330880" y="4829040"/>
            <a:ext cx="3705120" cy="1192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46F0-DE2B-4287-A2C7-E6E413864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8A5F-7BD2-4215-AB37-D071A6DAC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8346-F586-4298-9364-D4CC3AD0C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Object 3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Object 3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37"/>
          <p:cNvGraphicFramePr/>
          <p:nvPr/>
        </p:nvGraphicFramePr>
        <p:xfrm>
          <a:off x="3492360" y="2276640"/>
          <a:ext cx="5632560" cy="23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5" name="Object 3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360" y="2276640"/>
                    <a:ext cx="5632560" cy="23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"/>
          <p:cNvGrpSpPr/>
          <p:nvPr/>
        </p:nvGrpSpPr>
        <p:grpSpPr>
          <a:xfrm>
            <a:off x="5221440" y="3821040"/>
            <a:ext cx="3670920" cy="680760"/>
            <a:chOff x="5221440" y="3821040"/>
            <a:chExt cx="3670920" cy="680760"/>
          </a:xfrm>
        </p:grpSpPr>
        <p:pic>
          <p:nvPicPr>
            <p:cNvPr id="217" name="Picture 40" descr="校名"/>
            <p:cNvPicPr/>
            <p:nvPr/>
          </p:nvPicPr>
          <p:blipFill>
            <a:blip r:embed="rId6"/>
            <a:stretch/>
          </p:blipFill>
          <p:spPr>
            <a:xfrm>
              <a:off x="6040440" y="3823560"/>
              <a:ext cx="2851920" cy="32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1" descr="校徽-高清版"/>
            <p:cNvPicPr/>
            <p:nvPr/>
          </p:nvPicPr>
          <p:blipFill>
            <a:blip r:embed="rId7"/>
            <a:stretch/>
          </p:blipFill>
          <p:spPr>
            <a:xfrm>
              <a:off x="5221440" y="3821040"/>
              <a:ext cx="558720" cy="680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9" name="Object 42"/>
            <p:cNvGraphicFramePr/>
            <p:nvPr/>
          </p:nvGraphicFramePr>
          <p:xfrm>
            <a:off x="6743520" y="4237920"/>
            <a:ext cx="1402560" cy="229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20" name="Object 42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743520" y="4237920"/>
                      <a:ext cx="1402560" cy="22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21" name="Picture 44" descr="http://192.168.1.3/images/stories/editorupload/cnfilead1bbb5442152ff232e014315256277a.jpg"/>
          <p:cNvPicPr/>
          <p:nvPr/>
        </p:nvPicPr>
        <p:blipFill>
          <a:blip r:embed="rId10">
            <a:lum bright="40000"/>
          </a:blip>
          <a:srcRect l="15000" t="14992" r="0" b="31669"/>
          <a:stretch/>
        </p:blipFill>
        <p:spPr>
          <a:xfrm>
            <a:off x="0" y="2276640"/>
            <a:ext cx="4876920" cy="230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9" descr="图片1"/>
          <p:cNvPicPr/>
          <p:nvPr/>
        </p:nvPicPr>
        <p:blipFill>
          <a:blip r:embed="rId11"/>
          <a:stretch/>
        </p:blipFill>
        <p:spPr>
          <a:xfrm>
            <a:off x="5330880" y="4829040"/>
            <a:ext cx="3705120" cy="119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15.jpe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324000" y="4724280"/>
            <a:ext cx="56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师附中新城初中    郑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1187280" y="620640"/>
            <a:ext cx="64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6.1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　函  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ShockwaveFlash1"/>
          <p:cNvGraphicFramePr/>
          <p:nvPr/>
        </p:nvGraphicFramePr>
        <p:xfrm>
          <a:off x="396720" y="1700280"/>
          <a:ext cx="2880000" cy="28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720" y="1700280"/>
                    <a:ext cx="2880000" cy="288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3637080" y="314172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4"/>
          <a:stretch/>
        </p:blipFill>
        <p:spPr>
          <a:xfrm>
            <a:off x="5487840" y="1989000"/>
            <a:ext cx="2324160" cy="22860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3"/>
          <p:cNvSpPr/>
          <p:nvPr/>
        </p:nvSpPr>
        <p:spPr>
          <a:xfrm>
            <a:off x="157320" y="84240"/>
            <a:ext cx="153504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问题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ShockwaveFlash1"/>
          <p:cNvGraphicFramePr/>
          <p:nvPr/>
        </p:nvGraphicFramePr>
        <p:xfrm>
          <a:off x="539640" y="4653000"/>
          <a:ext cx="2519640" cy="22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4653000"/>
                    <a:ext cx="2519640" cy="2233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2" name="Rectangle 2"/>
          <p:cNvSpPr/>
          <p:nvPr/>
        </p:nvSpPr>
        <p:spPr>
          <a:xfrm>
            <a:off x="4176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4095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77208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43578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43578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5057640" y="2060640"/>
            <a:ext cx="4086360" cy="23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"/>
          <p:cNvGraphicFramePr/>
          <p:nvPr/>
        </p:nvGraphicFramePr>
        <p:xfrm>
          <a:off x="179280" y="549360"/>
          <a:ext cx="8820000" cy="971640"/>
        </p:xfrm>
        <a:graphic>
          <a:graphicData uri="http://schemas.openxmlformats.org/drawingml/2006/table">
            <a:tbl>
              <a:tblPr/>
              <a:tblGrid>
                <a:gridCol w="2089080"/>
                <a:gridCol w="1150920"/>
                <a:gridCol w="1081080"/>
                <a:gridCol w="1150920"/>
                <a:gridCol w="1152720"/>
                <a:gridCol w="1081080"/>
                <a:gridCol w="111420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r>
                        <a:rPr b="0" lang="zh-CN" sz="2400" spc="-1" strike="noStrike" baseline="30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年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数</a:t>
                      </a:r>
                      <a:r>
                        <a:rPr b="0" lang="zh-CN" sz="2400" spc="-1" strike="noStrike" baseline="30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人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Text Box 13"/>
          <p:cNvSpPr/>
          <p:nvPr/>
        </p:nvSpPr>
        <p:spPr>
          <a:xfrm>
            <a:off x="250920" y="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问题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3"/>
          <p:cNvSpPr/>
          <p:nvPr/>
        </p:nvSpPr>
        <p:spPr>
          <a:xfrm>
            <a:off x="5003640" y="155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问题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5"/>
          <a:stretch/>
        </p:blipFill>
        <p:spPr>
          <a:xfrm>
            <a:off x="468360" y="1844640"/>
            <a:ext cx="4319640" cy="249732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13"/>
          <p:cNvSpPr/>
          <p:nvPr/>
        </p:nvSpPr>
        <p:spPr>
          <a:xfrm>
            <a:off x="250920" y="14590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问题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76720" y="4437000"/>
            <a:ext cx="7056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上述问题有什么共同特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3"/>
          <p:cNvSpPr/>
          <p:nvPr/>
        </p:nvSpPr>
        <p:spPr>
          <a:xfrm>
            <a:off x="250920" y="4221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问题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324000" y="907920"/>
            <a:ext cx="79930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函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地，在一个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变化过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的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两个变量</a:t>
            </a:r>
            <a:r>
              <a:rPr b="0" lang="zh-CN" sz="3200" spc="-1" strike="noStrike" baseline="50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如果对于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每一个值，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都有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唯一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与它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对应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我们称 </a:t>
            </a: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y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是 </a:t>
            </a: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x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的函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x</a:t>
            </a:r>
            <a:r>
              <a:rPr b="0" i="1" lang="en-US" sz="3200" spc="-1" strike="noStrike" baseline="30000">
                <a:solidFill>
                  <a:srgbClr val="0033cc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是自变量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228600" y="152280"/>
            <a:ext cx="131904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概念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4176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4095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377208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43578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8"/>
          <p:cNvSpPr/>
          <p:nvPr/>
        </p:nvSpPr>
        <p:spPr>
          <a:xfrm>
            <a:off x="43578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324000" y="1197000"/>
          <a:ext cx="8496000" cy="911160"/>
        </p:xfrm>
        <a:graphic>
          <a:graphicData uri="http://schemas.openxmlformats.org/drawingml/2006/table">
            <a:tbl>
              <a:tblPr/>
              <a:tblGrid>
                <a:gridCol w="2012760"/>
                <a:gridCol w="1108080"/>
                <a:gridCol w="1041120"/>
                <a:gridCol w="1108080"/>
                <a:gridCol w="1111320"/>
                <a:gridCol w="1041480"/>
                <a:gridCol w="1073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r>
                        <a:rPr b="0" lang="zh-CN" sz="2400" spc="-1" strike="noStrike" baseline="30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年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数</a:t>
                      </a:r>
                      <a:r>
                        <a:rPr b="0" lang="zh-CN" sz="2400" spc="-1" strike="noStrike" baseline="30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人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Text Box 13"/>
          <p:cNvSpPr/>
          <p:nvPr/>
        </p:nvSpPr>
        <p:spPr>
          <a:xfrm>
            <a:off x="108000" y="115920"/>
            <a:ext cx="143964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再认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4"/>
          <p:cNvSpPr/>
          <p:nvPr/>
        </p:nvSpPr>
        <p:spPr>
          <a:xfrm>
            <a:off x="395280" y="2997360"/>
            <a:ext cx="8137440" cy="162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在这个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变化过程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中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有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两个变量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对于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每一个值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都有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唯一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值与它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应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所以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是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函数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是自变量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4176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4095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377208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43578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108000" y="115920"/>
            <a:ext cx="151128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再认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ShockwaveFlash1"/>
          <p:cNvGraphicFramePr/>
          <p:nvPr/>
        </p:nvGraphicFramePr>
        <p:xfrm>
          <a:off x="69840" y="907920"/>
          <a:ext cx="2519280" cy="23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840" y="907920"/>
                    <a:ext cx="2519280" cy="2376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5" name="Rectangle 24"/>
          <p:cNvSpPr/>
          <p:nvPr/>
        </p:nvSpPr>
        <p:spPr>
          <a:xfrm>
            <a:off x="2556000" y="1052640"/>
            <a:ext cx="6840360" cy="21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在这个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变化过程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中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有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两个变量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对于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每一个值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都有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唯一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值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它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应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所以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是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函数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是自变量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54040" y="3265560"/>
          <a:ext cx="1368360" cy="6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4040" y="3265560"/>
                    <a:ext cx="13683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8" name=""/>
          <p:cNvGrpSpPr/>
          <p:nvPr/>
        </p:nvGrpSpPr>
        <p:grpSpPr>
          <a:xfrm>
            <a:off x="142920" y="3860640"/>
            <a:ext cx="3743280" cy="2659320"/>
            <a:chOff x="142920" y="3860640"/>
            <a:chExt cx="3743280" cy="2659320"/>
          </a:xfrm>
        </p:grpSpPr>
        <p:pic>
          <p:nvPicPr>
            <p:cNvPr id="519" name="" descr=""/>
            <p:cNvPicPr/>
            <p:nvPr/>
          </p:nvPicPr>
          <p:blipFill>
            <a:blip r:embed="rId6"/>
            <a:stretch/>
          </p:blipFill>
          <p:spPr>
            <a:xfrm>
              <a:off x="142920" y="3860640"/>
              <a:ext cx="3743280" cy="2111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20" name=""/>
            <p:cNvGraphicFramePr/>
            <p:nvPr/>
          </p:nvGraphicFramePr>
          <p:xfrm>
            <a:off x="503280" y="6021360"/>
            <a:ext cx="1567080" cy="498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2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3280" y="6021360"/>
                      <a:ext cx="156708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22" name="Rectangle 2"/>
          <p:cNvSpPr/>
          <p:nvPr/>
        </p:nvSpPr>
        <p:spPr>
          <a:xfrm>
            <a:off x="4716360" y="4581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7920000" cy="457992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13"/>
          <p:cNvSpPr/>
          <p:nvPr/>
        </p:nvSpPr>
        <p:spPr>
          <a:xfrm>
            <a:off x="108000" y="115920"/>
            <a:ext cx="143964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再认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2050920" y="98100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30e96"/>
                </a:solidFill>
                <a:latin typeface="Arial"/>
                <a:ea typeface="黑体"/>
              </a:rPr>
              <a:t>气象站测得南京某日气温变化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"/>
          <p:cNvSpPr/>
          <p:nvPr/>
        </p:nvSpPr>
        <p:spPr>
          <a:xfrm>
            <a:off x="0" y="1050840"/>
            <a:ext cx="11304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一根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铁丝围成一个长方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当长方形的宽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0.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，长为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当长方形的宽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0.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，长为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这个长方形的长是宽的函数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3">
            <a:hlinkClick r:id="rId2" action="ppaction://hlinksldjump"/>
          </p:cNvPr>
          <p:cNvSpPr/>
          <p:nvPr/>
        </p:nvSpPr>
        <p:spPr>
          <a:xfrm>
            <a:off x="228600" y="152280"/>
            <a:ext cx="103032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例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4"/>
          <p:cNvSpPr/>
          <p:nvPr/>
        </p:nvSpPr>
        <p:spPr>
          <a:xfrm>
            <a:off x="179280" y="3716280"/>
            <a:ext cx="8640720" cy="228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：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设当长方形的宽为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时，长为</a:t>
            </a:r>
            <a:r>
              <a:rPr b="0" lang="zh-CN" sz="2800" spc="-1" strike="noStrike" baseline="30000">
                <a:solidFill>
                  <a:srgbClr val="0033cc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y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在这个变化过程中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有两个变量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对于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　　每一个值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都有唯一的值与它对应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所以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是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zh-CN" sz="2800" spc="-1" strike="noStrike" baseline="30000">
                <a:solidFill>
                  <a:srgbClr val="0033cc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baseline="30000">
                <a:solidFill>
                  <a:srgbClr val="0033cc"/>
                </a:solidFill>
                <a:latin typeface="Times New Roman"/>
              </a:rPr>
              <a:t>　　　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函数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是自变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395280" y="836640"/>
            <a:ext cx="561672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按图示的运算程序，输入一个实数</a:t>
            </a:r>
            <a:r>
              <a:rPr b="0" lang="zh-CN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便可以输出一个相应的实数</a:t>
            </a:r>
            <a:r>
              <a:rPr b="0" lang="zh-CN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8"/>
          <p:cNvSpPr/>
          <p:nvPr/>
        </p:nvSpPr>
        <p:spPr>
          <a:xfrm>
            <a:off x="611280" y="285264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zh-CN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函数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6084720" y="1160640"/>
            <a:ext cx="2590920" cy="4500000"/>
            <a:chOff x="6084720" y="1160640"/>
            <a:chExt cx="2590920" cy="4500000"/>
          </a:xfrm>
        </p:grpSpPr>
        <p:sp>
          <p:nvSpPr>
            <p:cNvPr id="532" name="Line 4"/>
            <p:cNvSpPr/>
            <p:nvPr/>
          </p:nvSpPr>
          <p:spPr>
            <a:xfrm>
              <a:off x="7381800" y="1773000"/>
              <a:ext cx="0" cy="414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5"/>
            <p:cNvSpPr/>
            <p:nvPr/>
          </p:nvSpPr>
          <p:spPr>
            <a:xfrm>
              <a:off x="6852960" y="2259000"/>
              <a:ext cx="1042920" cy="485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6"/>
            <p:cNvSpPr/>
            <p:nvPr/>
          </p:nvSpPr>
          <p:spPr>
            <a:xfrm>
              <a:off x="7387920" y="2781000"/>
              <a:ext cx="0" cy="442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7"/>
            <p:cNvSpPr/>
            <p:nvPr/>
          </p:nvSpPr>
          <p:spPr>
            <a:xfrm>
              <a:off x="6876720" y="3267000"/>
              <a:ext cx="1019160" cy="4694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8"/>
            <p:cNvSpPr/>
            <p:nvPr/>
          </p:nvSpPr>
          <p:spPr>
            <a:xfrm>
              <a:off x="7400880" y="3741480"/>
              <a:ext cx="0" cy="428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9"/>
            <p:cNvSpPr/>
            <p:nvPr/>
          </p:nvSpPr>
          <p:spPr>
            <a:xfrm>
              <a:off x="6895800" y="4209840"/>
              <a:ext cx="1020960" cy="4424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0"/>
            <p:cNvSpPr/>
            <p:nvPr/>
          </p:nvSpPr>
          <p:spPr>
            <a:xfrm>
              <a:off x="7412040" y="4668480"/>
              <a:ext cx="0" cy="41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11"/>
            <p:cNvSpPr/>
            <p:nvPr/>
          </p:nvSpPr>
          <p:spPr>
            <a:xfrm>
              <a:off x="6084720" y="5121000"/>
              <a:ext cx="2590920" cy="53964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输出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2"/>
            <p:cNvSpPr/>
            <p:nvPr/>
          </p:nvSpPr>
          <p:spPr>
            <a:xfrm>
              <a:off x="6995880" y="2205000"/>
              <a:ext cx="12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3"/>
            <p:cNvSpPr/>
            <p:nvPr/>
          </p:nvSpPr>
          <p:spPr>
            <a:xfrm>
              <a:off x="6900840" y="3213000"/>
              <a:ext cx="134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×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4"/>
            <p:cNvSpPr/>
            <p:nvPr/>
          </p:nvSpPr>
          <p:spPr>
            <a:xfrm>
              <a:off x="6924600" y="4133520"/>
              <a:ext cx="15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11"/>
            <p:cNvSpPr/>
            <p:nvPr/>
          </p:nvSpPr>
          <p:spPr>
            <a:xfrm>
              <a:off x="6084720" y="1160640"/>
              <a:ext cx="2590920" cy="53928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输入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6588000" y="1917720"/>
            <a:ext cx="1656000" cy="28954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3">
            <a:hlinkClick r:id="rId2" action="ppaction://hlinksldjump"/>
          </p:cNvPr>
          <p:cNvSpPr/>
          <p:nvPr/>
        </p:nvSpPr>
        <p:spPr>
          <a:xfrm>
            <a:off x="228600" y="152280"/>
            <a:ext cx="146376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124000" y="2565360"/>
            <a:ext cx="54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5"/>
          <p:cNvSpPr/>
          <p:nvPr/>
        </p:nvSpPr>
        <p:spPr>
          <a:xfrm>
            <a:off x="324000" y="1197000"/>
            <a:ext cx="842472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请举一个存在函数关系的例子，说给你的同桌听，并相互判断一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说的对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228600" y="152280"/>
            <a:ext cx="146376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说一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47"/>
          <p:cNvSpPr/>
          <p:nvPr/>
        </p:nvSpPr>
        <p:spPr>
          <a:xfrm>
            <a:off x="-17812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5"/>
          <p:cNvSpPr/>
          <p:nvPr/>
        </p:nvSpPr>
        <p:spPr>
          <a:xfrm>
            <a:off x="177840" y="836640"/>
            <a:ext cx="86421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线段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是线段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一个定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垂直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射线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上有一个动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不重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分别连接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B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4284720" y="2836800"/>
            <a:ext cx="4032360" cy="3473280"/>
            <a:chOff x="4284720" y="2836800"/>
            <a:chExt cx="4032360" cy="3473280"/>
          </a:xfrm>
        </p:grpSpPr>
        <p:grpSp>
          <p:nvGrpSpPr>
            <p:cNvPr id="552" name=""/>
            <p:cNvGrpSpPr/>
            <p:nvPr/>
          </p:nvGrpSpPr>
          <p:grpSpPr>
            <a:xfrm>
              <a:off x="4284720" y="2836800"/>
              <a:ext cx="4032360" cy="3473280"/>
              <a:chOff x="4284720" y="2836800"/>
              <a:chExt cx="4032360" cy="347328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4645080" y="3124080"/>
                <a:ext cx="3024000" cy="2736720"/>
                <a:chOff x="4645080" y="3124080"/>
                <a:chExt cx="3024000" cy="2736720"/>
              </a:xfrm>
            </p:grpSpPr>
            <p:sp>
              <p:nvSpPr>
                <p:cNvPr id="554" name="Line 7"/>
                <p:cNvSpPr/>
                <p:nvPr/>
              </p:nvSpPr>
              <p:spPr>
                <a:xfrm>
                  <a:off x="4646520" y="5860800"/>
                  <a:ext cx="3022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Line 8"/>
                <p:cNvSpPr/>
                <p:nvPr/>
              </p:nvSpPr>
              <p:spPr>
                <a:xfrm>
                  <a:off x="6493320" y="3124080"/>
                  <a:ext cx="0" cy="2736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Line 9"/>
                <p:cNvSpPr/>
                <p:nvPr/>
              </p:nvSpPr>
              <p:spPr>
                <a:xfrm flipV="1">
                  <a:off x="4645080" y="3807000"/>
                  <a:ext cx="1848240" cy="205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0"/>
                <p:cNvSpPr/>
                <p:nvPr/>
              </p:nvSpPr>
              <p:spPr>
                <a:xfrm>
                  <a:off x="6493320" y="3807000"/>
                  <a:ext cx="1175760" cy="205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11"/>
              <p:cNvSpPr/>
              <p:nvPr/>
            </p:nvSpPr>
            <p:spPr>
              <a:xfrm>
                <a:off x="4284720" y="571644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12"/>
              <p:cNvSpPr/>
              <p:nvPr/>
            </p:nvSpPr>
            <p:spPr>
              <a:xfrm>
                <a:off x="7669440" y="57895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13"/>
              <p:cNvSpPr/>
              <p:nvPr/>
            </p:nvSpPr>
            <p:spPr>
              <a:xfrm>
                <a:off x="6516720" y="35575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14"/>
              <p:cNvSpPr/>
              <p:nvPr/>
            </p:nvSpPr>
            <p:spPr>
              <a:xfrm>
                <a:off x="6300720" y="5789520"/>
                <a:ext cx="648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15"/>
              <p:cNvSpPr/>
              <p:nvPr/>
            </p:nvSpPr>
            <p:spPr>
              <a:xfrm>
                <a:off x="6445440" y="28368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16"/>
            <p:cNvSpPr/>
            <p:nvPr/>
          </p:nvSpPr>
          <p:spPr>
            <a:xfrm flipV="1">
              <a:off x="6302520" y="47815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8"/>
            <p:cNvSpPr/>
            <p:nvPr/>
          </p:nvSpPr>
          <p:spPr>
            <a:xfrm>
              <a:off x="6500880" y="568332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9"/>
            <p:cNvSpPr/>
            <p:nvPr/>
          </p:nvSpPr>
          <p:spPr>
            <a:xfrm>
              <a:off x="6645240" y="5683320"/>
              <a:ext cx="1800" cy="176040"/>
            </a:xfrm>
            <a:custGeom>
              <a:avLst/>
              <a:gdLst/>
              <a:ahLst/>
              <a:rect l="l" t="t" r="r" b="b"/>
              <a:pathLst>
                <a:path w="1" h="111">
                  <a:moveTo>
                    <a:pt x="0" y="0"/>
                  </a:moveTo>
                  <a:lnTo>
                    <a:pt x="0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 Box 13"/>
          <p:cNvSpPr/>
          <p:nvPr/>
        </p:nvSpPr>
        <p:spPr>
          <a:xfrm>
            <a:off x="250920" y="285264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你能结合上面的背景提出问题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228600" y="152280"/>
            <a:ext cx="189540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畅所欲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4176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4095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42148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77208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43578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3564000" y="981000"/>
            <a:ext cx="129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3"/>
          <p:cNvSpPr/>
          <p:nvPr/>
        </p:nvSpPr>
        <p:spPr>
          <a:xfrm>
            <a:off x="179280" y="285264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课后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95280" y="3860640"/>
            <a:ext cx="69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学评价手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函数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228600" y="152280"/>
            <a:ext cx="225576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小结与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WordArt 4" descr=""/>
          <p:cNvPicPr/>
          <p:nvPr/>
        </p:nvPicPr>
        <p:blipFill>
          <a:blip r:embed="rId2"/>
          <a:stretch/>
        </p:blipFill>
        <p:spPr>
          <a:xfrm>
            <a:off x="2268360" y="2421000"/>
            <a:ext cx="4104000" cy="122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ShockwaveFlash1"/>
          <p:cNvGraphicFramePr/>
          <p:nvPr/>
        </p:nvGraphicFramePr>
        <p:xfrm>
          <a:off x="971640" y="836640"/>
          <a:ext cx="712944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836640"/>
                    <a:ext cx="7129440" cy="5183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9" name="Text Box 13"/>
          <p:cNvSpPr/>
          <p:nvPr/>
        </p:nvSpPr>
        <p:spPr>
          <a:xfrm>
            <a:off x="324000" y="115920"/>
            <a:ext cx="115236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观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58680" y="59500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加油过程中，涉及到哪些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4095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42148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43578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395280" y="1440000"/>
            <a:ext cx="81374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加完油，汽车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km/h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速度从甲地匀速驶往乙地，在汽车行驶过程中，涉及到哪些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228600" y="152280"/>
            <a:ext cx="153504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说一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9"/>
          <p:cNvSpPr/>
          <p:nvPr/>
        </p:nvSpPr>
        <p:spPr>
          <a:xfrm>
            <a:off x="468360" y="1628640"/>
            <a:ext cx="8229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常量   变量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某一变化过程中，数值保持不变的量叫做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常量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可以取不同数值的量叫做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变量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228600" y="152280"/>
            <a:ext cx="137160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概念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228600" y="981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表是近几年我校入学人数统计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79280" y="1844640"/>
          <a:ext cx="8825040" cy="971640"/>
        </p:xfrm>
        <a:graphic>
          <a:graphicData uri="http://schemas.openxmlformats.org/drawingml/2006/table">
            <a:tbl>
              <a:tblPr/>
              <a:tblGrid>
                <a:gridCol w="2232000"/>
                <a:gridCol w="1152720"/>
                <a:gridCol w="1152360"/>
                <a:gridCol w="1079640"/>
                <a:gridCol w="1081080"/>
                <a:gridCol w="1008000"/>
                <a:gridCol w="11192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间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年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数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人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Rectangle 2"/>
          <p:cNvSpPr/>
          <p:nvPr/>
        </p:nvSpPr>
        <p:spPr>
          <a:xfrm>
            <a:off x="0" y="31417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这个变化过程中，哪些量是变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0" y="37162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你能描述这两个变量之间的关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4"/>
          <p:cNvSpPr/>
          <p:nvPr/>
        </p:nvSpPr>
        <p:spPr>
          <a:xfrm>
            <a:off x="468360" y="4365720"/>
            <a:ext cx="8496360" cy="21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在这个变化过程中，有两个变量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随着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变化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也变化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当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确定时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也随着确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当</a:t>
            </a:r>
            <a:r>
              <a:rPr b="0" lang="zh-CN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取定一个值时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也有一个值和它对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228600" y="152280"/>
            <a:ext cx="153504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问题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7"/>
          <p:cNvSpPr/>
          <p:nvPr/>
        </p:nvSpPr>
        <p:spPr>
          <a:xfrm>
            <a:off x="684360" y="5229360"/>
            <a:ext cx="8929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请你仿照问题一描述图中气温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℃</a:t>
            </a:r>
            <a:r>
              <a:rPr b="0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）和时间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）的关系</a:t>
            </a:r>
            <a:r>
              <a:rPr b="0" lang="en-US" sz="2300" spc="-1" strike="noStrike">
                <a:solidFill>
                  <a:srgbClr val="001413"/>
                </a:solidFill>
                <a:latin typeface="黑体"/>
                <a:ea typeface="黑体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7920000" cy="4579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0"/>
          <p:cNvSpPr/>
          <p:nvPr/>
        </p:nvSpPr>
        <p:spPr>
          <a:xfrm>
            <a:off x="2050920" y="69228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30e96"/>
                </a:solidFill>
                <a:latin typeface="Arial"/>
                <a:ea typeface="黑体"/>
              </a:rPr>
              <a:t>气象站测得南京某日气温变化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995720" y="2149200"/>
            <a:ext cx="0" cy="1655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16000" y="2157480"/>
            <a:ext cx="38876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27280" y="335772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764480" y="383688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091880" y="4397400"/>
            <a:ext cx="57636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32000" y="2997360"/>
            <a:ext cx="64764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79640" y="2997360"/>
            <a:ext cx="504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06800" y="3849840"/>
            <a:ext cx="0" cy="288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115640" y="4116240"/>
            <a:ext cx="10796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84360" y="2997360"/>
            <a:ext cx="5749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16000" y="3284640"/>
            <a:ext cx="22320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321000" y="3295800"/>
            <a:ext cx="0" cy="504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59280" y="2997360"/>
            <a:ext cx="5745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879720" y="2985840"/>
            <a:ext cx="0" cy="863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16000" y="2990880"/>
            <a:ext cx="2735280" cy="64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35280" y="2708280"/>
            <a:ext cx="505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140360" y="2708280"/>
            <a:ext cx="576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27640" y="2431800"/>
            <a:ext cx="11160" cy="1368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116000" y="2420640"/>
            <a:ext cx="3311640" cy="111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16360" y="2708280"/>
            <a:ext cx="57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92720" y="2700360"/>
            <a:ext cx="57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541840" y="2420640"/>
            <a:ext cx="0" cy="1390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16000" y="2436840"/>
            <a:ext cx="4392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107040" y="2997360"/>
            <a:ext cx="0" cy="8143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16000" y="2997360"/>
            <a:ext cx="4968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96000" y="2708280"/>
            <a:ext cx="57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51640" y="2708280"/>
            <a:ext cx="57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468360" y="4508640"/>
            <a:ext cx="8496360" cy="21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在这个变化过程中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有两个变量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随着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变化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也变化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当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确定时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也随着确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当</a:t>
            </a:r>
            <a:r>
              <a:rPr b="0" lang="zh-CN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取定一个值时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也有一个值和它对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659640" y="3573360"/>
            <a:ext cx="0" cy="2383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16000" y="3557520"/>
            <a:ext cx="5543640" cy="7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372360" y="2781360"/>
            <a:ext cx="576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059600" y="337356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948360" y="2997360"/>
            <a:ext cx="576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24720" y="2997360"/>
            <a:ext cx="576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16000" y="4389480"/>
            <a:ext cx="6624720" cy="9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157320" y="84240"/>
            <a:ext cx="153504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问题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52760" y="3838680"/>
            <a:ext cx="0" cy="576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4176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40957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377208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43578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700200" y="765720"/>
            <a:ext cx="1617480" cy="1020960"/>
            <a:chOff x="700200" y="765720"/>
            <a:chExt cx="1617480" cy="1020960"/>
          </a:xfrm>
        </p:grpSpPr>
        <p:grpSp>
          <p:nvGrpSpPr>
            <p:cNvPr id="332" name=""/>
            <p:cNvGrpSpPr/>
            <p:nvPr/>
          </p:nvGrpSpPr>
          <p:grpSpPr>
            <a:xfrm>
              <a:off x="1276560" y="765720"/>
              <a:ext cx="515880" cy="261000"/>
              <a:chOff x="1276560" y="765720"/>
              <a:chExt cx="515880" cy="261000"/>
            </a:xfrm>
          </p:grpSpPr>
          <p:sp>
            <p:nvSpPr>
              <p:cNvPr id="333" name="Line 10"/>
              <p:cNvSpPr/>
              <p:nvPr/>
            </p:nvSpPr>
            <p:spPr>
              <a:xfrm>
                <a:off x="1276560" y="765720"/>
                <a:ext cx="424800" cy="20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11"/>
              <p:cNvSpPr/>
              <p:nvPr/>
            </p:nvSpPr>
            <p:spPr>
              <a:xfrm flipV="1" rot="1515000">
                <a:off x="1698840" y="952560"/>
                <a:ext cx="84600" cy="5868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801800" y="1040400"/>
              <a:ext cx="515880" cy="261000"/>
              <a:chOff x="1801800" y="1040400"/>
              <a:chExt cx="515880" cy="261000"/>
            </a:xfrm>
          </p:grpSpPr>
          <p:sp>
            <p:nvSpPr>
              <p:cNvPr id="336" name="Line 13"/>
              <p:cNvSpPr/>
              <p:nvPr/>
            </p:nvSpPr>
            <p:spPr>
              <a:xfrm>
                <a:off x="1801800" y="1040400"/>
                <a:ext cx="424800" cy="20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14"/>
              <p:cNvSpPr/>
              <p:nvPr/>
            </p:nvSpPr>
            <p:spPr>
              <a:xfrm flipV="1" rot="1515000">
                <a:off x="2224080" y="1227240"/>
                <a:ext cx="84600" cy="5868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1225800" y="1040400"/>
              <a:ext cx="515520" cy="261000"/>
              <a:chOff x="1225800" y="1040400"/>
              <a:chExt cx="515520" cy="261000"/>
            </a:xfrm>
          </p:grpSpPr>
          <p:sp>
            <p:nvSpPr>
              <p:cNvPr id="339" name="Line 16"/>
              <p:cNvSpPr/>
              <p:nvPr/>
            </p:nvSpPr>
            <p:spPr>
              <a:xfrm flipH="1">
                <a:off x="1316520" y="1040400"/>
                <a:ext cx="424800" cy="20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17"/>
              <p:cNvSpPr/>
              <p:nvPr/>
            </p:nvSpPr>
            <p:spPr>
              <a:xfrm flipH="1" flipV="1" rot="20085000">
                <a:off x="1234080" y="1226520"/>
                <a:ext cx="84600" cy="5904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1225440" y="1295280"/>
              <a:ext cx="515880" cy="261360"/>
              <a:chOff x="1225440" y="1295280"/>
              <a:chExt cx="515880" cy="261360"/>
            </a:xfrm>
          </p:grpSpPr>
          <p:sp>
            <p:nvSpPr>
              <p:cNvPr id="342" name="Line 19"/>
              <p:cNvSpPr/>
              <p:nvPr/>
            </p:nvSpPr>
            <p:spPr>
              <a:xfrm flipH="1" flipV="1">
                <a:off x="1316520" y="1356480"/>
                <a:ext cx="424800" cy="20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20"/>
              <p:cNvSpPr/>
              <p:nvPr/>
            </p:nvSpPr>
            <p:spPr>
              <a:xfrm flipH="1" rot="1515000">
                <a:off x="1233360" y="1310400"/>
                <a:ext cx="84600" cy="5940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1262160" y="1525680"/>
              <a:ext cx="515520" cy="261000"/>
              <a:chOff x="1262160" y="1525680"/>
              <a:chExt cx="515520" cy="261000"/>
            </a:xfrm>
          </p:grpSpPr>
          <p:sp>
            <p:nvSpPr>
              <p:cNvPr id="345" name="Line 22"/>
              <p:cNvSpPr/>
              <p:nvPr/>
            </p:nvSpPr>
            <p:spPr>
              <a:xfrm flipV="1">
                <a:off x="1262160" y="1586520"/>
                <a:ext cx="424800" cy="20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23"/>
              <p:cNvSpPr/>
              <p:nvPr/>
            </p:nvSpPr>
            <p:spPr>
              <a:xfrm rot="20085000">
                <a:off x="1684440" y="1540800"/>
                <a:ext cx="84600" cy="5904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1795680" y="1295280"/>
              <a:ext cx="515880" cy="261360"/>
              <a:chOff x="1795680" y="1295280"/>
              <a:chExt cx="515880" cy="261360"/>
            </a:xfrm>
          </p:grpSpPr>
          <p:sp>
            <p:nvSpPr>
              <p:cNvPr id="348" name="Line 25"/>
              <p:cNvSpPr/>
              <p:nvPr/>
            </p:nvSpPr>
            <p:spPr>
              <a:xfrm flipV="1">
                <a:off x="1795680" y="1356480"/>
                <a:ext cx="424800" cy="20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26"/>
              <p:cNvSpPr/>
              <p:nvPr/>
            </p:nvSpPr>
            <p:spPr>
              <a:xfrm rot="20085000">
                <a:off x="2217960" y="1310400"/>
                <a:ext cx="84600" cy="5940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700200" y="1038960"/>
              <a:ext cx="515880" cy="261360"/>
              <a:chOff x="700200" y="1038960"/>
              <a:chExt cx="515880" cy="261360"/>
            </a:xfrm>
          </p:grpSpPr>
          <p:sp>
            <p:nvSpPr>
              <p:cNvPr id="351" name="Line 28"/>
              <p:cNvSpPr/>
              <p:nvPr/>
            </p:nvSpPr>
            <p:spPr>
              <a:xfrm>
                <a:off x="700200" y="1038960"/>
                <a:ext cx="424800" cy="20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29"/>
              <p:cNvSpPr/>
              <p:nvPr/>
            </p:nvSpPr>
            <p:spPr>
              <a:xfrm flipV="1" rot="1515000">
                <a:off x="1122480" y="1225440"/>
                <a:ext cx="84600" cy="5904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00200" y="1295280"/>
              <a:ext cx="515880" cy="261360"/>
              <a:chOff x="700200" y="1295280"/>
              <a:chExt cx="515880" cy="261360"/>
            </a:xfrm>
          </p:grpSpPr>
          <p:sp>
            <p:nvSpPr>
              <p:cNvPr id="354" name="Line 31"/>
              <p:cNvSpPr/>
              <p:nvPr/>
            </p:nvSpPr>
            <p:spPr>
              <a:xfrm flipV="1">
                <a:off x="700200" y="1356480"/>
                <a:ext cx="424800" cy="20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32"/>
              <p:cNvSpPr/>
              <p:nvPr/>
            </p:nvSpPr>
            <p:spPr>
              <a:xfrm rot="20085000">
                <a:off x="1122480" y="1310400"/>
                <a:ext cx="84600" cy="5940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700200" y="1989720"/>
            <a:ext cx="2682720" cy="1020960"/>
            <a:chOff x="700200" y="1989720"/>
            <a:chExt cx="2682720" cy="1020960"/>
          </a:xfrm>
        </p:grpSpPr>
        <p:grpSp>
          <p:nvGrpSpPr>
            <p:cNvPr id="357" name=""/>
            <p:cNvGrpSpPr/>
            <p:nvPr/>
          </p:nvGrpSpPr>
          <p:grpSpPr>
            <a:xfrm>
              <a:off x="2290680" y="1989720"/>
              <a:ext cx="1092240" cy="1020960"/>
              <a:chOff x="2290680" y="1989720"/>
              <a:chExt cx="1092240" cy="102096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2341800" y="1989720"/>
                <a:ext cx="515880" cy="261000"/>
                <a:chOff x="2341800" y="1989720"/>
                <a:chExt cx="515880" cy="261000"/>
              </a:xfrm>
            </p:grpSpPr>
            <p:sp>
              <p:nvSpPr>
                <p:cNvPr id="359" name="Line 36"/>
                <p:cNvSpPr/>
                <p:nvPr/>
              </p:nvSpPr>
              <p:spPr>
                <a:xfrm>
                  <a:off x="2341800" y="198972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Oval 37"/>
                <p:cNvSpPr/>
                <p:nvPr/>
              </p:nvSpPr>
              <p:spPr>
                <a:xfrm flipV="1" rot="1515000">
                  <a:off x="2764080" y="2176560"/>
                  <a:ext cx="84600" cy="5868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867040" y="2264400"/>
                <a:ext cx="515880" cy="261000"/>
                <a:chOff x="2867040" y="2264400"/>
                <a:chExt cx="515880" cy="261000"/>
              </a:xfrm>
            </p:grpSpPr>
            <p:sp>
              <p:nvSpPr>
                <p:cNvPr id="362" name="Line 39"/>
                <p:cNvSpPr/>
                <p:nvPr/>
              </p:nvSpPr>
              <p:spPr>
                <a:xfrm>
                  <a:off x="2867040" y="226440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40"/>
                <p:cNvSpPr/>
                <p:nvPr/>
              </p:nvSpPr>
              <p:spPr>
                <a:xfrm flipV="1" rot="1515000">
                  <a:off x="3289320" y="2451240"/>
                  <a:ext cx="84600" cy="5868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2291040" y="2264400"/>
                <a:ext cx="515520" cy="261000"/>
                <a:chOff x="2291040" y="2264400"/>
                <a:chExt cx="515520" cy="261000"/>
              </a:xfrm>
            </p:grpSpPr>
            <p:sp>
              <p:nvSpPr>
                <p:cNvPr id="365" name="Line 42"/>
                <p:cNvSpPr/>
                <p:nvPr/>
              </p:nvSpPr>
              <p:spPr>
                <a:xfrm flipH="1">
                  <a:off x="2381760" y="226440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Oval 43"/>
                <p:cNvSpPr/>
                <p:nvPr/>
              </p:nvSpPr>
              <p:spPr>
                <a:xfrm flipH="1" flipV="1" rot="20085000">
                  <a:off x="2299320" y="245052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290680" y="2519280"/>
                <a:ext cx="515880" cy="261360"/>
                <a:chOff x="2290680" y="2519280"/>
                <a:chExt cx="515880" cy="261360"/>
              </a:xfrm>
            </p:grpSpPr>
            <p:sp>
              <p:nvSpPr>
                <p:cNvPr id="368" name="Line 45"/>
                <p:cNvSpPr/>
                <p:nvPr/>
              </p:nvSpPr>
              <p:spPr>
                <a:xfrm flipH="1" flipV="1">
                  <a:off x="2381760" y="2580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Oval 46"/>
                <p:cNvSpPr/>
                <p:nvPr/>
              </p:nvSpPr>
              <p:spPr>
                <a:xfrm flipH="1" rot="1515000">
                  <a:off x="2298600" y="2534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2327400" y="2749680"/>
                <a:ext cx="515520" cy="261000"/>
                <a:chOff x="2327400" y="2749680"/>
                <a:chExt cx="515520" cy="261000"/>
              </a:xfrm>
            </p:grpSpPr>
            <p:sp>
              <p:nvSpPr>
                <p:cNvPr id="371" name="Line 48"/>
                <p:cNvSpPr/>
                <p:nvPr/>
              </p:nvSpPr>
              <p:spPr>
                <a:xfrm flipV="1">
                  <a:off x="2327400" y="281052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49"/>
                <p:cNvSpPr/>
                <p:nvPr/>
              </p:nvSpPr>
              <p:spPr>
                <a:xfrm rot="20085000">
                  <a:off x="2749680" y="276480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2860920" y="2519280"/>
                <a:ext cx="515880" cy="261360"/>
                <a:chOff x="2860920" y="2519280"/>
                <a:chExt cx="515880" cy="261360"/>
              </a:xfrm>
            </p:grpSpPr>
            <p:sp>
              <p:nvSpPr>
                <p:cNvPr id="374" name="Line 51"/>
                <p:cNvSpPr/>
                <p:nvPr/>
              </p:nvSpPr>
              <p:spPr>
                <a:xfrm flipV="1">
                  <a:off x="2860920" y="2580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Oval 52"/>
                <p:cNvSpPr/>
                <p:nvPr/>
              </p:nvSpPr>
              <p:spPr>
                <a:xfrm rot="20085000">
                  <a:off x="3283200" y="2534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700200" y="1989720"/>
              <a:ext cx="1617480" cy="1020960"/>
              <a:chOff x="700200" y="1989720"/>
              <a:chExt cx="1617480" cy="102096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1276560" y="1989720"/>
                <a:ext cx="515880" cy="261000"/>
                <a:chOff x="1276560" y="1989720"/>
                <a:chExt cx="515880" cy="261000"/>
              </a:xfrm>
            </p:grpSpPr>
            <p:sp>
              <p:nvSpPr>
                <p:cNvPr id="378" name="Line 55"/>
                <p:cNvSpPr/>
                <p:nvPr/>
              </p:nvSpPr>
              <p:spPr>
                <a:xfrm>
                  <a:off x="1276560" y="198972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Oval 56"/>
                <p:cNvSpPr/>
                <p:nvPr/>
              </p:nvSpPr>
              <p:spPr>
                <a:xfrm flipV="1" rot="1515000">
                  <a:off x="1698840" y="2176560"/>
                  <a:ext cx="84600" cy="5868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801800" y="2264400"/>
                <a:ext cx="515880" cy="261000"/>
                <a:chOff x="1801800" y="2264400"/>
                <a:chExt cx="515880" cy="261000"/>
              </a:xfrm>
            </p:grpSpPr>
            <p:sp>
              <p:nvSpPr>
                <p:cNvPr id="381" name="Line 58"/>
                <p:cNvSpPr/>
                <p:nvPr/>
              </p:nvSpPr>
              <p:spPr>
                <a:xfrm>
                  <a:off x="1801800" y="226440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Oval 59"/>
                <p:cNvSpPr/>
                <p:nvPr/>
              </p:nvSpPr>
              <p:spPr>
                <a:xfrm flipV="1" rot="1515000">
                  <a:off x="2224080" y="2451240"/>
                  <a:ext cx="84600" cy="5868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1225800" y="2264400"/>
                <a:ext cx="515520" cy="261000"/>
                <a:chOff x="1225800" y="2264400"/>
                <a:chExt cx="515520" cy="261000"/>
              </a:xfrm>
            </p:grpSpPr>
            <p:sp>
              <p:nvSpPr>
                <p:cNvPr id="384" name="Line 61"/>
                <p:cNvSpPr/>
                <p:nvPr/>
              </p:nvSpPr>
              <p:spPr>
                <a:xfrm flipH="1">
                  <a:off x="1316520" y="226440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Oval 62"/>
                <p:cNvSpPr/>
                <p:nvPr/>
              </p:nvSpPr>
              <p:spPr>
                <a:xfrm flipH="1" flipV="1" rot="20085000">
                  <a:off x="1234080" y="245052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1225440" y="2519280"/>
                <a:ext cx="515880" cy="261360"/>
                <a:chOff x="1225440" y="2519280"/>
                <a:chExt cx="515880" cy="261360"/>
              </a:xfrm>
            </p:grpSpPr>
            <p:sp>
              <p:nvSpPr>
                <p:cNvPr id="387" name="Line 64"/>
                <p:cNvSpPr/>
                <p:nvPr/>
              </p:nvSpPr>
              <p:spPr>
                <a:xfrm flipH="1" flipV="1">
                  <a:off x="1316520" y="2580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65"/>
                <p:cNvSpPr/>
                <p:nvPr/>
              </p:nvSpPr>
              <p:spPr>
                <a:xfrm flipH="1" rot="1515000">
                  <a:off x="1233360" y="2534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1262160" y="2749680"/>
                <a:ext cx="515520" cy="261000"/>
                <a:chOff x="1262160" y="2749680"/>
                <a:chExt cx="515520" cy="261000"/>
              </a:xfrm>
            </p:grpSpPr>
            <p:sp>
              <p:nvSpPr>
                <p:cNvPr id="390" name="Line 67"/>
                <p:cNvSpPr/>
                <p:nvPr/>
              </p:nvSpPr>
              <p:spPr>
                <a:xfrm flipV="1">
                  <a:off x="1262160" y="281052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68"/>
                <p:cNvSpPr/>
                <p:nvPr/>
              </p:nvSpPr>
              <p:spPr>
                <a:xfrm rot="20085000">
                  <a:off x="1684440" y="276480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1795680" y="2519280"/>
                <a:ext cx="515880" cy="261360"/>
                <a:chOff x="1795680" y="2519280"/>
                <a:chExt cx="515880" cy="261360"/>
              </a:xfrm>
            </p:grpSpPr>
            <p:sp>
              <p:nvSpPr>
                <p:cNvPr id="393" name="Line 70"/>
                <p:cNvSpPr/>
                <p:nvPr/>
              </p:nvSpPr>
              <p:spPr>
                <a:xfrm flipV="1">
                  <a:off x="1795680" y="2580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71"/>
                <p:cNvSpPr/>
                <p:nvPr/>
              </p:nvSpPr>
              <p:spPr>
                <a:xfrm rot="20085000">
                  <a:off x="2217960" y="2534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00200" y="2262960"/>
                <a:ext cx="515880" cy="261360"/>
                <a:chOff x="700200" y="2262960"/>
                <a:chExt cx="515880" cy="261360"/>
              </a:xfrm>
            </p:grpSpPr>
            <p:sp>
              <p:nvSpPr>
                <p:cNvPr id="396" name="Line 73"/>
                <p:cNvSpPr/>
                <p:nvPr/>
              </p:nvSpPr>
              <p:spPr>
                <a:xfrm>
                  <a:off x="700200" y="226296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74"/>
                <p:cNvSpPr/>
                <p:nvPr/>
              </p:nvSpPr>
              <p:spPr>
                <a:xfrm flipV="1" rot="1515000">
                  <a:off x="1122480" y="244944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700200" y="2519280"/>
                <a:ext cx="515880" cy="261360"/>
                <a:chOff x="700200" y="2519280"/>
                <a:chExt cx="515880" cy="261360"/>
              </a:xfrm>
            </p:grpSpPr>
            <p:sp>
              <p:nvSpPr>
                <p:cNvPr id="399" name="Line 76"/>
                <p:cNvSpPr/>
                <p:nvPr/>
              </p:nvSpPr>
              <p:spPr>
                <a:xfrm flipV="1">
                  <a:off x="700200" y="2580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77"/>
                <p:cNvSpPr/>
                <p:nvPr/>
              </p:nvSpPr>
              <p:spPr>
                <a:xfrm rot="20085000">
                  <a:off x="1122480" y="2534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1" name=""/>
          <p:cNvGrpSpPr/>
          <p:nvPr/>
        </p:nvGrpSpPr>
        <p:grpSpPr>
          <a:xfrm>
            <a:off x="700200" y="3213720"/>
            <a:ext cx="3763800" cy="1020960"/>
            <a:chOff x="700200" y="3213720"/>
            <a:chExt cx="3763800" cy="1020960"/>
          </a:xfrm>
        </p:grpSpPr>
        <p:grpSp>
          <p:nvGrpSpPr>
            <p:cNvPr id="402" name=""/>
            <p:cNvGrpSpPr/>
            <p:nvPr/>
          </p:nvGrpSpPr>
          <p:grpSpPr>
            <a:xfrm>
              <a:off x="700200" y="3213720"/>
              <a:ext cx="1617480" cy="1020960"/>
              <a:chOff x="700200" y="3213720"/>
              <a:chExt cx="1617480" cy="102096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1276560" y="3213720"/>
                <a:ext cx="515880" cy="261000"/>
                <a:chOff x="1276560" y="3213720"/>
                <a:chExt cx="515880" cy="261000"/>
              </a:xfrm>
            </p:grpSpPr>
            <p:sp>
              <p:nvSpPr>
                <p:cNvPr id="404" name="Line 81"/>
                <p:cNvSpPr/>
                <p:nvPr/>
              </p:nvSpPr>
              <p:spPr>
                <a:xfrm>
                  <a:off x="1276560" y="321372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Oval 82"/>
                <p:cNvSpPr/>
                <p:nvPr/>
              </p:nvSpPr>
              <p:spPr>
                <a:xfrm flipV="1" rot="1515000">
                  <a:off x="1698840" y="3400560"/>
                  <a:ext cx="84600" cy="5868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1801800" y="3488400"/>
                <a:ext cx="515880" cy="261000"/>
                <a:chOff x="1801800" y="3488400"/>
                <a:chExt cx="515880" cy="261000"/>
              </a:xfrm>
            </p:grpSpPr>
            <p:sp>
              <p:nvSpPr>
                <p:cNvPr id="407" name="Line 84"/>
                <p:cNvSpPr/>
                <p:nvPr/>
              </p:nvSpPr>
              <p:spPr>
                <a:xfrm>
                  <a:off x="1801800" y="348840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85"/>
                <p:cNvSpPr/>
                <p:nvPr/>
              </p:nvSpPr>
              <p:spPr>
                <a:xfrm flipV="1" rot="1515000">
                  <a:off x="2224080" y="3675240"/>
                  <a:ext cx="84600" cy="5868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225800" y="3488400"/>
                <a:ext cx="515520" cy="261000"/>
                <a:chOff x="1225800" y="3488400"/>
                <a:chExt cx="515520" cy="261000"/>
              </a:xfrm>
            </p:grpSpPr>
            <p:sp>
              <p:nvSpPr>
                <p:cNvPr id="410" name="Line 87"/>
                <p:cNvSpPr/>
                <p:nvPr/>
              </p:nvSpPr>
              <p:spPr>
                <a:xfrm flipH="1">
                  <a:off x="1316520" y="348840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Oval 88"/>
                <p:cNvSpPr/>
                <p:nvPr/>
              </p:nvSpPr>
              <p:spPr>
                <a:xfrm flipH="1" flipV="1" rot="20085000">
                  <a:off x="1234080" y="367452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225440" y="3743280"/>
                <a:ext cx="515880" cy="261360"/>
                <a:chOff x="1225440" y="3743280"/>
                <a:chExt cx="515880" cy="261360"/>
              </a:xfrm>
            </p:grpSpPr>
            <p:sp>
              <p:nvSpPr>
                <p:cNvPr id="413" name="Line 90"/>
                <p:cNvSpPr/>
                <p:nvPr/>
              </p:nvSpPr>
              <p:spPr>
                <a:xfrm flipH="1" flipV="1">
                  <a:off x="1316520" y="3804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91"/>
                <p:cNvSpPr/>
                <p:nvPr/>
              </p:nvSpPr>
              <p:spPr>
                <a:xfrm flipH="1" rot="1515000">
                  <a:off x="1233360" y="3758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262160" y="3973680"/>
                <a:ext cx="515520" cy="261000"/>
                <a:chOff x="1262160" y="3973680"/>
                <a:chExt cx="515520" cy="261000"/>
              </a:xfrm>
            </p:grpSpPr>
            <p:sp>
              <p:nvSpPr>
                <p:cNvPr id="416" name="Line 93"/>
                <p:cNvSpPr/>
                <p:nvPr/>
              </p:nvSpPr>
              <p:spPr>
                <a:xfrm flipV="1">
                  <a:off x="1262160" y="403452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94"/>
                <p:cNvSpPr/>
                <p:nvPr/>
              </p:nvSpPr>
              <p:spPr>
                <a:xfrm rot="20085000">
                  <a:off x="1684440" y="398880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795680" y="3743280"/>
                <a:ext cx="515880" cy="261360"/>
                <a:chOff x="1795680" y="3743280"/>
                <a:chExt cx="515880" cy="261360"/>
              </a:xfrm>
            </p:grpSpPr>
            <p:sp>
              <p:nvSpPr>
                <p:cNvPr id="419" name="Line 96"/>
                <p:cNvSpPr/>
                <p:nvPr/>
              </p:nvSpPr>
              <p:spPr>
                <a:xfrm flipV="1">
                  <a:off x="1795680" y="3804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97"/>
                <p:cNvSpPr/>
                <p:nvPr/>
              </p:nvSpPr>
              <p:spPr>
                <a:xfrm rot="20085000">
                  <a:off x="2217960" y="3758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700200" y="3486960"/>
                <a:ext cx="515880" cy="261360"/>
                <a:chOff x="700200" y="3486960"/>
                <a:chExt cx="515880" cy="261360"/>
              </a:xfrm>
            </p:grpSpPr>
            <p:sp>
              <p:nvSpPr>
                <p:cNvPr id="422" name="Line 99"/>
                <p:cNvSpPr/>
                <p:nvPr/>
              </p:nvSpPr>
              <p:spPr>
                <a:xfrm>
                  <a:off x="700200" y="348696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Oval 100"/>
                <p:cNvSpPr/>
                <p:nvPr/>
              </p:nvSpPr>
              <p:spPr>
                <a:xfrm flipV="1" rot="1515000">
                  <a:off x="1122480" y="367344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700200" y="3743280"/>
                <a:ext cx="515880" cy="261360"/>
                <a:chOff x="700200" y="3743280"/>
                <a:chExt cx="515880" cy="261360"/>
              </a:xfrm>
            </p:grpSpPr>
            <p:sp>
              <p:nvSpPr>
                <p:cNvPr id="425" name="Line 102"/>
                <p:cNvSpPr/>
                <p:nvPr/>
              </p:nvSpPr>
              <p:spPr>
                <a:xfrm flipV="1">
                  <a:off x="700200" y="3804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103"/>
                <p:cNvSpPr/>
                <p:nvPr/>
              </p:nvSpPr>
              <p:spPr>
                <a:xfrm rot="20085000">
                  <a:off x="1122480" y="3758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7" name=""/>
            <p:cNvGrpSpPr/>
            <p:nvPr/>
          </p:nvGrpSpPr>
          <p:grpSpPr>
            <a:xfrm>
              <a:off x="3371760" y="3213720"/>
              <a:ext cx="1092240" cy="1020960"/>
              <a:chOff x="3371760" y="3213720"/>
              <a:chExt cx="1092240" cy="10209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3422880" y="3213720"/>
                <a:ext cx="515880" cy="261000"/>
                <a:chOff x="3422880" y="3213720"/>
                <a:chExt cx="515880" cy="261000"/>
              </a:xfrm>
            </p:grpSpPr>
            <p:sp>
              <p:nvSpPr>
                <p:cNvPr id="429" name="Line 106"/>
                <p:cNvSpPr/>
                <p:nvPr/>
              </p:nvSpPr>
              <p:spPr>
                <a:xfrm>
                  <a:off x="3422880" y="321372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107"/>
                <p:cNvSpPr/>
                <p:nvPr/>
              </p:nvSpPr>
              <p:spPr>
                <a:xfrm flipV="1" rot="1515000">
                  <a:off x="3845160" y="3400560"/>
                  <a:ext cx="84600" cy="5868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3948120" y="3488400"/>
                <a:ext cx="515880" cy="261000"/>
                <a:chOff x="3948120" y="3488400"/>
                <a:chExt cx="515880" cy="261000"/>
              </a:xfrm>
            </p:grpSpPr>
            <p:sp>
              <p:nvSpPr>
                <p:cNvPr id="432" name="Line 109"/>
                <p:cNvSpPr/>
                <p:nvPr/>
              </p:nvSpPr>
              <p:spPr>
                <a:xfrm>
                  <a:off x="3948120" y="348840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110"/>
                <p:cNvSpPr/>
                <p:nvPr/>
              </p:nvSpPr>
              <p:spPr>
                <a:xfrm flipV="1" rot="1515000">
                  <a:off x="4370400" y="3675240"/>
                  <a:ext cx="84600" cy="5868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3372120" y="3488400"/>
                <a:ext cx="515520" cy="261000"/>
                <a:chOff x="3372120" y="3488400"/>
                <a:chExt cx="515520" cy="261000"/>
              </a:xfrm>
            </p:grpSpPr>
            <p:sp>
              <p:nvSpPr>
                <p:cNvPr id="435" name="Line 112"/>
                <p:cNvSpPr/>
                <p:nvPr/>
              </p:nvSpPr>
              <p:spPr>
                <a:xfrm flipH="1">
                  <a:off x="3462840" y="348840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113"/>
                <p:cNvSpPr/>
                <p:nvPr/>
              </p:nvSpPr>
              <p:spPr>
                <a:xfrm flipH="1" flipV="1" rot="20085000">
                  <a:off x="3380400" y="367452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3371760" y="3743280"/>
                <a:ext cx="515880" cy="261360"/>
                <a:chOff x="3371760" y="3743280"/>
                <a:chExt cx="515880" cy="261360"/>
              </a:xfrm>
            </p:grpSpPr>
            <p:sp>
              <p:nvSpPr>
                <p:cNvPr id="438" name="Line 115"/>
                <p:cNvSpPr/>
                <p:nvPr/>
              </p:nvSpPr>
              <p:spPr>
                <a:xfrm flipH="1" flipV="1">
                  <a:off x="3462840" y="3804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116"/>
                <p:cNvSpPr/>
                <p:nvPr/>
              </p:nvSpPr>
              <p:spPr>
                <a:xfrm flipH="1" rot="1515000">
                  <a:off x="3379680" y="3758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3408480" y="3973680"/>
                <a:ext cx="515520" cy="261000"/>
                <a:chOff x="3408480" y="3973680"/>
                <a:chExt cx="515520" cy="261000"/>
              </a:xfrm>
            </p:grpSpPr>
            <p:sp>
              <p:nvSpPr>
                <p:cNvPr id="441" name="Line 118"/>
                <p:cNvSpPr/>
                <p:nvPr/>
              </p:nvSpPr>
              <p:spPr>
                <a:xfrm flipV="1">
                  <a:off x="3408480" y="403452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119"/>
                <p:cNvSpPr/>
                <p:nvPr/>
              </p:nvSpPr>
              <p:spPr>
                <a:xfrm rot="20085000">
                  <a:off x="3830760" y="398880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3942000" y="3743280"/>
                <a:ext cx="515880" cy="261360"/>
                <a:chOff x="3942000" y="3743280"/>
                <a:chExt cx="515880" cy="261360"/>
              </a:xfrm>
            </p:grpSpPr>
            <p:sp>
              <p:nvSpPr>
                <p:cNvPr id="444" name="Line 121"/>
                <p:cNvSpPr/>
                <p:nvPr/>
              </p:nvSpPr>
              <p:spPr>
                <a:xfrm flipV="1">
                  <a:off x="3942000" y="3804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122"/>
                <p:cNvSpPr/>
                <p:nvPr/>
              </p:nvSpPr>
              <p:spPr>
                <a:xfrm rot="20085000">
                  <a:off x="4364280" y="3758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6" name=""/>
            <p:cNvGrpSpPr/>
            <p:nvPr/>
          </p:nvGrpSpPr>
          <p:grpSpPr>
            <a:xfrm>
              <a:off x="2290680" y="3213720"/>
              <a:ext cx="1092240" cy="1020960"/>
              <a:chOff x="2290680" y="3213720"/>
              <a:chExt cx="1092240" cy="102096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2341800" y="3213720"/>
                <a:ext cx="515880" cy="261000"/>
                <a:chOff x="2341800" y="3213720"/>
                <a:chExt cx="515880" cy="261000"/>
              </a:xfrm>
            </p:grpSpPr>
            <p:sp>
              <p:nvSpPr>
                <p:cNvPr id="448" name="Line 125"/>
                <p:cNvSpPr/>
                <p:nvPr/>
              </p:nvSpPr>
              <p:spPr>
                <a:xfrm>
                  <a:off x="2341800" y="321372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126"/>
                <p:cNvSpPr/>
                <p:nvPr/>
              </p:nvSpPr>
              <p:spPr>
                <a:xfrm flipV="1" rot="1515000">
                  <a:off x="2764080" y="3400560"/>
                  <a:ext cx="84600" cy="5868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2867040" y="3488400"/>
                <a:ext cx="515880" cy="261000"/>
                <a:chOff x="2867040" y="3488400"/>
                <a:chExt cx="515880" cy="261000"/>
              </a:xfrm>
            </p:grpSpPr>
            <p:sp>
              <p:nvSpPr>
                <p:cNvPr id="451" name="Line 128"/>
                <p:cNvSpPr/>
                <p:nvPr/>
              </p:nvSpPr>
              <p:spPr>
                <a:xfrm>
                  <a:off x="2867040" y="348840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Oval 129"/>
                <p:cNvSpPr/>
                <p:nvPr/>
              </p:nvSpPr>
              <p:spPr>
                <a:xfrm flipV="1" rot="1515000">
                  <a:off x="3289320" y="3675240"/>
                  <a:ext cx="84600" cy="5868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2291040" y="3488400"/>
                <a:ext cx="515520" cy="261000"/>
                <a:chOff x="2291040" y="3488400"/>
                <a:chExt cx="515520" cy="261000"/>
              </a:xfrm>
            </p:grpSpPr>
            <p:sp>
              <p:nvSpPr>
                <p:cNvPr id="454" name="Line 131"/>
                <p:cNvSpPr/>
                <p:nvPr/>
              </p:nvSpPr>
              <p:spPr>
                <a:xfrm flipH="1">
                  <a:off x="2381760" y="348840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132"/>
                <p:cNvSpPr/>
                <p:nvPr/>
              </p:nvSpPr>
              <p:spPr>
                <a:xfrm flipH="1" flipV="1" rot="20085000">
                  <a:off x="2299320" y="367452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290680" y="3743280"/>
                <a:ext cx="515880" cy="261360"/>
                <a:chOff x="2290680" y="3743280"/>
                <a:chExt cx="515880" cy="261360"/>
              </a:xfrm>
            </p:grpSpPr>
            <p:sp>
              <p:nvSpPr>
                <p:cNvPr id="457" name="Line 134"/>
                <p:cNvSpPr/>
                <p:nvPr/>
              </p:nvSpPr>
              <p:spPr>
                <a:xfrm flipH="1" flipV="1">
                  <a:off x="2381760" y="3804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Oval 135"/>
                <p:cNvSpPr/>
                <p:nvPr/>
              </p:nvSpPr>
              <p:spPr>
                <a:xfrm flipH="1" rot="1515000">
                  <a:off x="2298600" y="3758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2327400" y="3973680"/>
                <a:ext cx="515520" cy="261000"/>
                <a:chOff x="2327400" y="3973680"/>
                <a:chExt cx="515520" cy="261000"/>
              </a:xfrm>
            </p:grpSpPr>
            <p:sp>
              <p:nvSpPr>
                <p:cNvPr id="460" name="Line 137"/>
                <p:cNvSpPr/>
                <p:nvPr/>
              </p:nvSpPr>
              <p:spPr>
                <a:xfrm flipV="1">
                  <a:off x="2327400" y="403452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Oval 138"/>
                <p:cNvSpPr/>
                <p:nvPr/>
              </p:nvSpPr>
              <p:spPr>
                <a:xfrm rot="20085000">
                  <a:off x="2749680" y="3988800"/>
                  <a:ext cx="84600" cy="5904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2860920" y="3743280"/>
                <a:ext cx="515880" cy="261360"/>
                <a:chOff x="2860920" y="3743280"/>
                <a:chExt cx="515880" cy="261360"/>
              </a:xfrm>
            </p:grpSpPr>
            <p:sp>
              <p:nvSpPr>
                <p:cNvPr id="463" name="Line 140"/>
                <p:cNvSpPr/>
                <p:nvPr/>
              </p:nvSpPr>
              <p:spPr>
                <a:xfrm flipV="1">
                  <a:off x="2860920" y="3804480"/>
                  <a:ext cx="424800" cy="20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141"/>
                <p:cNvSpPr/>
                <p:nvPr/>
              </p:nvSpPr>
              <p:spPr>
                <a:xfrm rot="20085000">
                  <a:off x="3283200" y="3758400"/>
                  <a:ext cx="84600" cy="59400"/>
                </a:xfrm>
                <a:prstGeom prst="ellipse">
                  <a:avLst/>
                </a:prstGeom>
                <a:solidFill>
                  <a:srgbClr val="ff3300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65" name=""/>
          <p:cNvSpPr/>
          <p:nvPr/>
        </p:nvSpPr>
        <p:spPr>
          <a:xfrm>
            <a:off x="1116000" y="400536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"/>
          <p:cNvSpPr/>
          <p:nvPr/>
        </p:nvSpPr>
        <p:spPr>
          <a:xfrm>
            <a:off x="4572000" y="1916280"/>
            <a:ext cx="7056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能描述这两个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关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4"/>
          <p:cNvSpPr/>
          <p:nvPr/>
        </p:nvSpPr>
        <p:spPr>
          <a:xfrm>
            <a:off x="539640" y="4437000"/>
            <a:ext cx="8280360" cy="21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在这个变化过程中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有两个变量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随着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变化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也变化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当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确定时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也随着确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当</a:t>
            </a:r>
            <a:r>
              <a:rPr b="0" lang="zh-CN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取定一个值时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也有一个值和它对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157320" y="84240"/>
            <a:ext cx="153504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问题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ShockwaveFlash1"/>
          <p:cNvGraphicFramePr/>
          <p:nvPr/>
        </p:nvGraphicFramePr>
        <p:xfrm>
          <a:off x="468360" y="1557360"/>
          <a:ext cx="2879640" cy="28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557360"/>
                    <a:ext cx="2879640" cy="2881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324000" y="765000"/>
            <a:ext cx="860400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滴激起的波纹可以看成是一个不断向外扩展的圆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4"/>
          <p:cNvSpPr/>
          <p:nvPr/>
        </p:nvSpPr>
        <p:spPr>
          <a:xfrm>
            <a:off x="395280" y="4525920"/>
            <a:ext cx="8496360" cy="21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在这个变化过程中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有两个变量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随着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的变化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也变化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当</a:t>
            </a:r>
            <a:r>
              <a:rPr b="0" lang="zh-CN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确定时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也随着确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当</a:t>
            </a:r>
            <a:r>
              <a:rPr b="0" lang="zh-CN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取定一个值时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也有一个值和它对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157320" y="84240"/>
            <a:ext cx="153504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问题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284720" y="263700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能获得哪些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3:56:33Z</dcterms:created>
  <dc:creator>吕晓阳</dc:creator>
  <dc:description/>
  <cp:keywords/>
  <dc:language>en-US</dc:language>
  <cp:lastModifiedBy>user</cp:lastModifiedBy>
  <cp:lastPrinted>1899-12-30T00:00:00Z</cp:lastPrinted>
  <dcterms:modified xsi:type="dcterms:W3CDTF">2013-10-23T09:50:04Z</dcterms:modified>
  <cp:revision>86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