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12.png" ContentType="image/png"/>
  <Override PartName="/ppt/media/image7.png" ContentType="image/png"/>
  <Override PartName="/ppt/media/image1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8.png" ContentType="image/png"/>
  <Override PartName="/ppt/media/image13.gif" ContentType="image/gif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3CC2-C538-437F-98F7-D2D51EE69AF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19E-F042-40CD-9E4F-11B528E6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3CB-B4C0-48F1-9CA1-6A87F5AF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308D-7314-42DD-8648-BE0914EA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ED9-7D82-4FE2-A9AE-E4EF67D0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0D98-45CB-43AA-9FA5-6B7AD3B4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039-7E70-4C2D-B23F-C7B61CD0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17C3-BBAB-4185-BB2B-F730BB71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FDB-E13F-4CB7-A208-490B07BC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B22-CB44-435E-A539-92E7D38B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55C-3550-42CB-880A-5571D861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A57-8B43-4CD9-8CCB-2FAA81EB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AF30-8676-4D96-904F-5BF14AF2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6AD7-9283-474C-97A5-684DFBDC50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C:\Documents and Settings\Administrator\&#26700;&#38754;\&#35838;&#20214;\33.swf" TargetMode="Externa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817236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459640" y="6453360"/>
            <a:ext cx="684360" cy="404640"/>
          </a:xfrm>
          <a:prstGeom prst="irregularSeal1">
            <a:avLst/>
          </a:prstGeom>
          <a:solidFill>
            <a:srgbClr val="969696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5130000" y="1143360"/>
            <a:ext cx="4392720" cy="363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InflateDeflate">
              <a:avLst>
                <a:gd name="adj" fmla="val 28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变化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95280" y="836640"/>
            <a:ext cx="2592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工作人员根据水库的水位变化与水库蓄水量变化情况而制作的表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79280" y="4049640"/>
          <a:ext cx="8785080" cy="1035000"/>
        </p:xfrm>
        <a:graphic>
          <a:graphicData uri="http://schemas.openxmlformats.org/drawingml/2006/table">
            <a:tbl>
              <a:tblPr/>
              <a:tblGrid>
                <a:gridCol w="1871640"/>
                <a:gridCol w="1584360"/>
                <a:gridCol w="1584360"/>
                <a:gridCol w="1511280"/>
                <a:gridCol w="1584360"/>
                <a:gridCol w="64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位</a:t>
                      </a: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蓄水量</a:t>
                      </a: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zh-CN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×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9×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8×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3×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348000" y="981000"/>
            <a:ext cx="5472000" cy="3024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"/>
          <p:cNvSpPr/>
          <p:nvPr/>
        </p:nvSpPr>
        <p:spPr>
          <a:xfrm>
            <a:off x="2771640" y="189000"/>
            <a:ext cx="289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活动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5310000"/>
            <a:ext cx="70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看表格回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这个变化过程中有几个变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627228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量之间的对应关系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66840" y="5807160"/>
            <a:ext cx="16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个变量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780000" y="3716280"/>
            <a:ext cx="2160360" cy="2376720"/>
            <a:chOff x="3780000" y="3716280"/>
            <a:chExt cx="2160360" cy="2376720"/>
          </a:xfrm>
        </p:grpSpPr>
        <p:sp>
          <p:nvSpPr>
            <p:cNvPr id="192" name=""/>
            <p:cNvSpPr/>
            <p:nvPr/>
          </p:nvSpPr>
          <p:spPr>
            <a:xfrm>
              <a:off x="3780000" y="3716280"/>
              <a:ext cx="2160360" cy="2376720"/>
            </a:xfrm>
            <a:prstGeom prst="wedgeRectCallout">
              <a:avLst>
                <a:gd name="adj1" fmla="val -43518"/>
                <a:gd name="adj2" fmla="val 70000"/>
              </a:avLst>
            </a:prstGeom>
            <a:solidFill>
              <a:srgbClr val="e7f4f5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82120" y="3862440"/>
              <a:ext cx="138780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对于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的每一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确定的值，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都有唯一的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它对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  <p:sndAc>
      <p:stSnd>
        <p:snd r:embed="rId2" name="type.wav"/>
      </p:stSnd>
    </p:sndAc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979640" y="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97440" y="2492280"/>
            <a:ext cx="4246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搭“小鱼”的条数</a:t>
            </a:r>
            <a:r>
              <a:rPr b="1" i="1" lang="zh-CN" sz="1800" spc="-1" strike="noStrike">
                <a:solidFill>
                  <a:srgbClr val="3333ff"/>
                </a:solidFill>
                <a:latin typeface="Times New Roman"/>
              </a:rPr>
              <a:t>n   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火柴棒的根数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12536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如图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，根据搭“小鱼”的条数的变化与所需火柴棒根数的变化的情况，填写右表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4391280" cy="39589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"/>
          <p:cNvSpPr/>
          <p:nvPr/>
        </p:nvSpPr>
        <p:spPr>
          <a:xfrm>
            <a:off x="2987640" y="1890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活动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19280" y="6238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如图</a:t>
            </a:r>
            <a:r>
              <a:rPr b="1" lang="zh-CN" sz="18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859280" y="2349360"/>
          <a:ext cx="4067280" cy="4032360"/>
        </p:xfrm>
        <a:graphic>
          <a:graphicData uri="http://schemas.openxmlformats.org/drawingml/2006/table">
            <a:tbl>
              <a:tblPr/>
              <a:tblGrid>
                <a:gridCol w="1944720"/>
                <a:gridCol w="212256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 rot="5400000">
            <a:off x="5482800" y="54669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7534440" y="55040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67640" y="2924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78720" y="3573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076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96360" y="4653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51640" y="5805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24720" y="5877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2" name="chimes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79280" y="184464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两个变量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对于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每一个值，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都有唯一的值与它对应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20" y="3500280"/>
            <a:ext cx="92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两个变量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对于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每一个确定的值，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都有唯一的值与它对应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9280" y="50133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两个变量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对于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每一个的值，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都有唯一的值与它对应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9280" y="1268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变化过程（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29242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变化过程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75920" y="3016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活动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4508640"/>
            <a:ext cx="25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变化过程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0920" y="981000"/>
            <a:ext cx="3035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共同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1280" y="3789000"/>
            <a:ext cx="755964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对于一个变量的每一个值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另一个变量都有唯一的值与它对应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03280" y="21337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个变化过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03280" y="30463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两个相关变量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2771640" y="189000"/>
            <a:ext cx="289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活动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19080" y="30240"/>
            <a:ext cx="9105840" cy="6781680"/>
          </a:xfrm>
          <a:prstGeom prst="roundRect">
            <a:avLst>
              <a:gd name="adj" fmla="val 6884"/>
            </a:avLst>
          </a:prstGeom>
          <a:solidFill>
            <a:srgbClr val="ffffff"/>
          </a:solidFill>
          <a:ln w="15228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641520" y="333360"/>
            <a:ext cx="539640" cy="539640"/>
          </a:xfrm>
          <a:prstGeom prst="ellipse">
            <a:avLst/>
          </a:prstGeom>
          <a:solidFill>
            <a:srgbClr val="ff00ff">
              <a:alpha val="72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468360" y="620640"/>
            <a:ext cx="539640" cy="540000"/>
          </a:xfrm>
          <a:prstGeom prst="ellipse">
            <a:avLst/>
          </a:prstGeom>
          <a:solidFill>
            <a:srgbClr val="ffcc00">
              <a:alpha val="9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250920" y="303120"/>
            <a:ext cx="539640" cy="540000"/>
          </a:xfrm>
          <a:prstGeom prst="ellipse">
            <a:avLst/>
          </a:prstGeom>
          <a:solidFill>
            <a:srgbClr val="00cc00">
              <a:alpha val="96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8640720" y="6273720"/>
            <a:ext cx="179280" cy="179640"/>
          </a:xfrm>
          <a:prstGeom prst="ellipse">
            <a:avLst/>
          </a:prstGeom>
          <a:solidFill>
            <a:srgbClr val="ff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8467560" y="6410160"/>
            <a:ext cx="179640" cy="17964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8424720" y="6202440"/>
            <a:ext cx="179640" cy="17928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7"/>
          <p:cNvSpPr/>
          <p:nvPr/>
        </p:nvSpPr>
        <p:spPr>
          <a:xfrm>
            <a:off x="395280" y="1197000"/>
            <a:ext cx="586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函数定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1916280"/>
            <a:ext cx="8569080" cy="184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般地，在一个变化过程中的两个变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如果对于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每一个值，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都有唯一的值与它对应，那么我们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函数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自变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2781360"/>
            <a:ext cx="3527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42920" y="3645000"/>
            <a:ext cx="2305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4360" y="3645000"/>
            <a:ext cx="1548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4508640"/>
            <a:ext cx="8136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5280" y="5373720"/>
            <a:ext cx="18003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3276720" y="5493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活动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79280" y="226224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两个变量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对于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t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每一个值，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s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都有唯一的值与它对应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0" y="3917880"/>
            <a:ext cx="92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两个变量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对于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每一个确定的值，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都有唯一的值与它对应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9280" y="543096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两个变量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对于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每一个的值，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都有唯一的值与它对应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9280" y="16858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变化过程（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33415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变化过程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75920" y="3016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活动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4925880"/>
            <a:ext cx="25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变化过程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11640" y="29098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是自变量，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是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的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11640" y="449424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是自变量，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是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h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的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40360" y="59342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是自变量，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是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的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67280" y="126828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1125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  <a:ea typeface="华文行楷"/>
              </a:rPr>
              <a:t>请说出下列变化过程中的自变量和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1970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行楷"/>
              </a:rPr>
              <a:t>先判断下列变化过程中有无函数关系，若有请说出其中自变量和函数</a:t>
            </a: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51640" y="2060640"/>
            <a:ext cx="24476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变  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35640" y="981000"/>
            <a:ext cx="2449440" cy="1179720"/>
          </a:xfrm>
          <a:prstGeom prst="wedgeRectCallout">
            <a:avLst>
              <a:gd name="adj1" fmla="val -40342"/>
              <a:gd name="adj2" fmla="val 117296"/>
            </a:avLst>
          </a:prstGeom>
          <a:solidFill>
            <a:srgbClr val="e7f4f5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00360" y="519912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弹簧的原长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9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32360" y="519912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弹簧的长度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y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砝码的质量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059280" y="3333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活动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637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变化过程（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9895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变化过程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51991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变化过程（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2060640"/>
            <a:ext cx="28098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常  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6237360"/>
            <a:ext cx="122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92720" y="27082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门票总费用、进去的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11280" y="27082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门票的价格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元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09600" y="4040280"/>
            <a:ext cx="1026360" cy="45972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周长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80720" y="4041720"/>
            <a:ext cx="320760" cy="45972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长、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213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门票的价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门票总费用随进去的人数的变化而变化，进去的人数为自变量，门票总费用为进去的人数的函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-73080" y="4508640"/>
            <a:ext cx="93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方形的周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方形的长随宽的变化而变化，宽为自变量，长为宽的函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580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弹簧的原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c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弹簧的长度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随所挂砝码的质量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变化而变化，砝码的质量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自变量，弹簧的长度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砝码的质量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函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24360" y="2492280"/>
            <a:ext cx="3419640" cy="720720"/>
          </a:xfrm>
          <a:prstGeom prst="wedgeRectCallout">
            <a:avLst>
              <a:gd name="adj1" fmla="val -43731"/>
              <a:gd name="adj2" fmla="val 225990"/>
            </a:avLst>
          </a:prstGeom>
          <a:solidFill>
            <a:srgbClr val="e7f4f5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5759280" y="2492280"/>
          <a:ext cx="3384360" cy="730440"/>
        </p:xfrm>
        <a:graphic>
          <a:graphicData uri="http://schemas.openxmlformats.org/drawingml/2006/table">
            <a:tbl>
              <a:tblPr/>
              <a:tblGrid>
                <a:gridCol w="1008000"/>
                <a:gridCol w="630360"/>
                <a:gridCol w="533160"/>
                <a:gridCol w="544680"/>
                <a:gridCol w="668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宽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长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7953480" y="2924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448400" y="2924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00760" y="2924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35640" y="98100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个人进去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需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100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元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;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35640" y="1341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个人进去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需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150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元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35640" y="1701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个人进去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需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250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元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5640" y="3284640"/>
            <a:ext cx="3708360" cy="1224000"/>
          </a:xfrm>
          <a:prstGeom prst="wedgeRectCallout">
            <a:avLst>
              <a:gd name="adj1" fmla="val -26541"/>
              <a:gd name="adj2" fmla="val 133268"/>
            </a:avLst>
          </a:prstGeom>
          <a:solidFill>
            <a:srgbClr val="e7f4f5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398920" y="3213000"/>
          <a:ext cx="3744720" cy="1279800"/>
        </p:xfrm>
        <a:graphic>
          <a:graphicData uri="http://schemas.openxmlformats.org/drawingml/2006/table">
            <a:tbl>
              <a:tblPr/>
              <a:tblGrid>
                <a:gridCol w="985680"/>
                <a:gridCol w="598680"/>
                <a:gridCol w="720720"/>
                <a:gridCol w="720720"/>
                <a:gridCol w="718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砝码质量</a:t>
                      </a:r>
                      <a:r>
                        <a:rPr b="0" i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弹簧长</a:t>
                      </a:r>
                      <a:r>
                        <a:rPr b="0" i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8" descr=""/>
          <p:cNvPicPr/>
          <p:nvPr/>
        </p:nvPicPr>
        <p:blipFill>
          <a:blip r:embed="rId1"/>
          <a:stretch/>
        </p:blipFill>
        <p:spPr>
          <a:xfrm>
            <a:off x="1476360" y="3068640"/>
            <a:ext cx="1317600" cy="247968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9"/>
          <p:cNvSpPr/>
          <p:nvPr/>
        </p:nvSpPr>
        <p:spPr>
          <a:xfrm>
            <a:off x="3492360" y="1916280"/>
            <a:ext cx="5256360" cy="3457440"/>
          </a:xfrm>
          <a:prstGeom prst="cloudCallout">
            <a:avLst>
              <a:gd name="adj1" fmla="val -65342"/>
              <a:gd name="adj2" fmla="val 2998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4067280" y="2492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请你举出一些身边函数的实例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并指出其中的自变量与函数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2700360" y="5493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活动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3645000"/>
            <a:ext cx="94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这个表格是否表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函数？为什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539640" y="4292640"/>
          <a:ext cx="5397480" cy="1093680"/>
        </p:xfrm>
        <a:graphic>
          <a:graphicData uri="http://schemas.openxmlformats.org/drawingml/2006/table">
            <a:tbl>
              <a:tblPr/>
              <a:tblGrid>
                <a:gridCol w="1008000"/>
                <a:gridCol w="1152360"/>
                <a:gridCol w="1150920"/>
                <a:gridCol w="1089000"/>
                <a:gridCol w="997200"/>
              </a:tblGrid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Text Box 2"/>
          <p:cNvSpPr/>
          <p:nvPr/>
        </p:nvSpPr>
        <p:spPr>
          <a:xfrm>
            <a:off x="2700360" y="26028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活动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96560" y="793080"/>
            <a:ext cx="5036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按如下的运算程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→×5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输入一个实数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便可输出一个相应的实数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函数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35280" y="4890960"/>
            <a:ext cx="647640" cy="459720"/>
          </a:xfrm>
          <a:prstGeom prst="rect">
            <a:avLst/>
          </a:prstGeom>
          <a:solidFill>
            <a:srgbClr val="e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71640" y="1484280"/>
            <a:ext cx="936360" cy="4320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68360" y="1484280"/>
            <a:ext cx="574920" cy="4320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484280"/>
            <a:ext cx="504720" cy="4320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067280" y="1484280"/>
            <a:ext cx="576000" cy="4320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932360" y="1484280"/>
            <a:ext cx="1008000" cy="4320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56360" y="602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40360" y="5950080"/>
            <a:ext cx="28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71640" y="486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16360" y="4916520"/>
            <a:ext cx="647640" cy="459720"/>
          </a:xfrm>
          <a:prstGeom prst="rect">
            <a:avLst/>
          </a:prstGeom>
          <a:solidFill>
            <a:srgbClr val="e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11280" y="1557360"/>
            <a:ext cx="55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课堂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00000" y="2492280"/>
            <a:ext cx="7561440" cy="3888000"/>
          </a:xfrm>
          <a:prstGeom prst="cloudCallout">
            <a:avLst>
              <a:gd name="adj1" fmla="val -51615"/>
              <a:gd name="adj2" fmla="val 436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反思我们的学习过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有哪些收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有什么疑问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3419640" y="5493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活动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35033" b="0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835280" y="429264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.1 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函 数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(1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"/>
          <p:cNvSpPr/>
          <p:nvPr/>
        </p:nvSpPr>
        <p:spPr>
          <a:xfrm>
            <a:off x="1908000" y="1844640"/>
            <a:ext cx="4824720" cy="231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Cambria"/>
                <a:ea typeface="楷体_GB2312"/>
              </a:rPr>
              <a:t>初中数学八年级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Cambria"/>
                <a:ea typeface="隶书"/>
              </a:rPr>
              <a:t>（苏科版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Cambria"/>
                <a:ea typeface="楷体_GB2312"/>
              </a:rPr>
              <a:t>第六章  一次函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rcRect l="0" t="29528" r="0" b="0"/>
          <a:stretch/>
        </p:blipFill>
        <p:spPr>
          <a:xfrm>
            <a:off x="0" y="0"/>
            <a:ext cx="9396360" cy="7029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356000" y="981000"/>
            <a:ext cx="525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中处处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常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变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揭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变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的关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9640" y="549360"/>
            <a:ext cx="2880000" cy="2881080"/>
            <a:chOff x="539640" y="549360"/>
            <a:chExt cx="2880000" cy="2881080"/>
          </a:xfrm>
        </p:grpSpPr>
        <p:sp>
          <p:nvSpPr>
            <p:cNvPr id="301" name=""/>
            <p:cNvSpPr/>
            <p:nvPr/>
          </p:nvSpPr>
          <p:spPr>
            <a:xfrm>
              <a:off x="539640" y="3142440"/>
              <a:ext cx="28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654840" y="549360"/>
              <a:ext cx="2764800" cy="2881080"/>
              <a:chOff x="654840" y="549360"/>
              <a:chExt cx="2764800" cy="288108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654840" y="549360"/>
                <a:ext cx="2764800" cy="2881080"/>
                <a:chOff x="654840" y="549360"/>
                <a:chExt cx="2764800" cy="2881080"/>
              </a:xfrm>
            </p:grpSpPr>
            <p:grpSp>
              <p:nvGrpSpPr>
                <p:cNvPr id="304" name=""/>
                <p:cNvGrpSpPr/>
                <p:nvPr/>
              </p:nvGrpSpPr>
              <p:grpSpPr>
                <a:xfrm>
                  <a:off x="654840" y="549360"/>
                  <a:ext cx="2764800" cy="2881080"/>
                  <a:chOff x="654840" y="549360"/>
                  <a:chExt cx="2764800" cy="2881080"/>
                </a:xfrm>
              </p:grpSpPr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654840" y="549360"/>
                    <a:ext cx="2764800" cy="2881080"/>
                    <a:chOff x="654840" y="549360"/>
                    <a:chExt cx="2764800" cy="2881080"/>
                  </a:xfrm>
                </p:grpSpPr>
                <p:grpSp>
                  <p:nvGrpSpPr>
                    <p:cNvPr id="306" name=""/>
                    <p:cNvGrpSpPr/>
                    <p:nvPr/>
                  </p:nvGrpSpPr>
                  <p:grpSpPr>
                    <a:xfrm>
                      <a:off x="654840" y="549360"/>
                      <a:ext cx="2764800" cy="2881080"/>
                      <a:chOff x="654840" y="549360"/>
                      <a:chExt cx="2764800" cy="2881080"/>
                    </a:xfrm>
                  </p:grpSpPr>
                  <p:grpSp>
                    <p:nvGrpSpPr>
                      <p:cNvPr id="307" name=""/>
                      <p:cNvGrpSpPr/>
                      <p:nvPr/>
                    </p:nvGrpSpPr>
                    <p:grpSpPr>
                      <a:xfrm>
                        <a:off x="654840" y="549360"/>
                        <a:ext cx="2764800" cy="2784240"/>
                        <a:chOff x="654840" y="549360"/>
                        <a:chExt cx="2764800" cy="2784240"/>
                      </a:xfrm>
                    </p:grpSpPr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>
                          <a:off x="1691640" y="1605600"/>
                          <a:ext cx="921600" cy="383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just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</a:t>
                          </a:r>
                          <a:r>
                            <a:rPr b="1" lang="zh-CN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y=kx+b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09" name=""/>
                        <p:cNvGrpSpPr/>
                        <p:nvPr/>
                      </p:nvGrpSpPr>
                      <p:grpSpPr>
                        <a:xfrm>
                          <a:off x="654840" y="549360"/>
                          <a:ext cx="2764800" cy="2784240"/>
                          <a:chOff x="654840" y="549360"/>
                          <a:chExt cx="2764800" cy="2784240"/>
                        </a:xfrm>
                      </p:grpSpPr>
                      <p:sp>
                        <p:nvSpPr>
                          <p:cNvPr id="310" name=""/>
                          <p:cNvSpPr/>
                          <p:nvPr/>
                        </p:nvSpPr>
                        <p:spPr>
                          <a:xfrm>
                            <a:off x="654840" y="2566080"/>
                            <a:ext cx="230040" cy="2880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311" name=""/>
                          <p:cNvGrpSpPr/>
                          <p:nvPr/>
                        </p:nvGrpSpPr>
                        <p:grpSpPr>
                          <a:xfrm>
                            <a:off x="654840" y="549360"/>
                            <a:ext cx="2764800" cy="2784240"/>
                            <a:chOff x="654840" y="549360"/>
                            <a:chExt cx="2764800" cy="2784240"/>
                          </a:xfrm>
                        </p:grpSpPr>
                        <p:sp>
                          <p:nvSpPr>
                            <p:cNvPr id="312" name=""/>
                            <p:cNvSpPr/>
                            <p:nvPr/>
                          </p:nvSpPr>
                          <p:spPr>
                            <a:xfrm>
                              <a:off x="654840" y="2085840"/>
                              <a:ext cx="230040" cy="2880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313" name=""/>
                            <p:cNvGrpSpPr/>
                            <p:nvPr/>
                          </p:nvGrpSpPr>
                          <p:grpSpPr>
                            <a:xfrm>
                              <a:off x="654840" y="549360"/>
                              <a:ext cx="2764800" cy="2784240"/>
                              <a:chOff x="654840" y="549360"/>
                              <a:chExt cx="2764800" cy="2784240"/>
                            </a:xfrm>
                          </p:grpSpPr>
                          <p:grpSp>
                            <p:nvGrpSpPr>
                              <p:cNvPr id="314" name=""/>
                              <p:cNvGrpSpPr/>
                              <p:nvPr/>
                            </p:nvGrpSpPr>
                            <p:grpSpPr>
                              <a:xfrm>
                                <a:off x="654840" y="644760"/>
                                <a:ext cx="2764800" cy="2688840"/>
                                <a:chOff x="654840" y="644760"/>
                                <a:chExt cx="2764800" cy="2688840"/>
                              </a:xfrm>
                            </p:grpSpPr>
                            <p:grpSp>
                              <p:nvGrpSpPr>
                                <p:cNvPr id="315" name=""/>
                                <p:cNvGrpSpPr/>
                                <p:nvPr/>
                              </p:nvGrpSpPr>
                              <p:grpSpPr>
                                <a:xfrm>
                                  <a:off x="654840" y="644760"/>
                                  <a:ext cx="2764800" cy="2688840"/>
                                  <a:chOff x="654840" y="644760"/>
                                  <a:chExt cx="2764800" cy="2688840"/>
                                </a:xfrm>
                              </p:grpSpPr>
                              <p:sp>
                                <p:nvSpPr>
                                  <p:cNvPr id="316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884880" y="644760"/>
                                    <a:ext cx="0" cy="268884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  <a:tailEnd len="med" type="triangle" w="med"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17" name=""/>
                                  <p:cNvSpPr/>
                                  <p:nvPr/>
                                </p:nvSpPr>
                                <p:spPr>
                                  <a:xfrm>
                                    <a:off x="884880" y="2757960"/>
                                    <a:ext cx="115200" cy="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18" name=""/>
                                  <p:cNvSpPr/>
                                  <p:nvPr/>
                                </p:nvSpPr>
                                <p:spPr>
                                  <a:xfrm>
                                    <a:off x="884880" y="2277720"/>
                                    <a:ext cx="115200" cy="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19" name=""/>
                                  <p:cNvSpPr/>
                                  <p:nvPr/>
                                </p:nvSpPr>
                                <p:spPr>
                                  <a:xfrm>
                                    <a:off x="884880" y="1797480"/>
                                    <a:ext cx="115200" cy="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20" name=""/>
                                  <p:cNvSpPr/>
                                  <p:nvPr/>
                                </p:nvSpPr>
                                <p:spPr>
                                  <a:xfrm>
                                    <a:off x="884880" y="1317240"/>
                                    <a:ext cx="115200" cy="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21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1345680" y="3045960"/>
                                    <a:ext cx="0" cy="95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22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1806840" y="3045960"/>
                                    <a:ext cx="0" cy="95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23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2267640" y="3045960"/>
                                    <a:ext cx="0" cy="95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24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2728440" y="3045960"/>
                                    <a:ext cx="0" cy="9576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25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54840" y="1509120"/>
                                    <a:ext cx="2764800" cy="124848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326" name=""/>
                                <p:cNvSpPr/>
                                <p:nvPr/>
                              </p:nvSpPr>
                              <p:spPr>
                                <a:xfrm>
                                  <a:off x="654840" y="1701360"/>
                                  <a:ext cx="230040" cy="28800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just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1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3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327" name=""/>
                              <p:cNvSpPr/>
                              <p:nvPr/>
                            </p:nvSpPr>
                            <p:spPr>
                              <a:xfrm>
                                <a:off x="654840" y="549360"/>
                                <a:ext cx="230040" cy="2880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just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12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y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654840" y="3142440"/>
                        <a:ext cx="230040" cy="288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0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1230840" y="3142440"/>
                      <a:ext cx="230040" cy="288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0" name=""/>
                  <p:cNvSpPr/>
                  <p:nvPr/>
                </p:nvSpPr>
                <p:spPr>
                  <a:xfrm>
                    <a:off x="1691640" y="3142440"/>
                    <a:ext cx="230040" cy="28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"/>
                <p:cNvSpPr/>
                <p:nvPr/>
              </p:nvSpPr>
              <p:spPr>
                <a:xfrm>
                  <a:off x="2152440" y="3142440"/>
                  <a:ext cx="230040" cy="28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3189240" y="3142440"/>
                <a:ext cx="230400" cy="28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395280" y="638172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1835280" y="1557360"/>
            <a:ext cx="3692160" cy="1401120"/>
            <a:chOff x="1835280" y="1557360"/>
            <a:chExt cx="3692160" cy="1401120"/>
          </a:xfrm>
        </p:grpSpPr>
        <p:sp>
          <p:nvSpPr>
            <p:cNvPr id="335" name=""/>
            <p:cNvSpPr txBox="1"/>
            <p:nvPr/>
          </p:nvSpPr>
          <p:spPr>
            <a:xfrm>
              <a:off x="4155120" y="1557360"/>
              <a:ext cx="1372320" cy="68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79000"/>
                      </a:srgbClr>
                    </a:outerShdw>
                  </a:effectLst>
                  <a:latin typeface="黑体"/>
                </a:rPr>
                <a:t>函数</a:t>
              </a:r>
              <a:endParaRPr b="0" lang="en-US" sz="54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1835280" y="1939320"/>
              <a:ext cx="1821600" cy="101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79000"/>
                      </a:srgbClr>
                    </a:outerShdw>
                  </a:effectLst>
                  <a:latin typeface="宋体"/>
                </a:rPr>
                <a:t> </a:t>
              </a:r>
              <a:endParaRPr b="0" lang="en-US" sz="18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03 0.45949 L -0.00104 0.00277 E">
                                      <p:cBhvr>
                                        <p:cTn id="521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523" dur="5000" fill="hold"/>
                                        <p:tgtEl>
                                          <p:spTgt spid="33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457200" y="228600"/>
            <a:ext cx="8686440" cy="7467480"/>
            <a:chOff x="457200" y="228600"/>
            <a:chExt cx="8686440" cy="7467480"/>
          </a:xfrm>
        </p:grpSpPr>
        <p:pic>
          <p:nvPicPr>
            <p:cNvPr id="338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 flipH="1">
              <a:off x="5714640" y="4267080"/>
              <a:ext cx="34290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457200" y="228600"/>
              <a:ext cx="8229600" cy="6019920"/>
            </a:xfrm>
            <a:prstGeom prst="cloudCallout">
              <a:avLst>
                <a:gd name="adj1" fmla="val -23879"/>
                <a:gd name="adj2" fmla="val -1162"/>
              </a:avLst>
            </a:prstGeom>
            <a:noFill/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1209"/>
                  </a:solidFill>
                  <a:latin typeface="宋体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1828800" y="91440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隶书"/>
                <a:ea typeface="隶书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76360" y="198900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隶书"/>
              </a:rPr>
              <a:t>1.</a:t>
            </a:r>
            <a:r>
              <a:rPr b="0" lang="zh-CN" sz="4000" spc="-1" strike="noStrike">
                <a:solidFill>
                  <a:srgbClr val="800080"/>
                </a:solidFill>
                <a:latin typeface="隶书"/>
                <a:ea typeface="隶书"/>
              </a:rPr>
              <a:t>阅读课本第</a:t>
            </a:r>
            <a:r>
              <a:rPr b="1" lang="zh-CN" sz="3600" spc="-1" strike="noStrike">
                <a:solidFill>
                  <a:srgbClr val="800080"/>
                </a:solidFill>
                <a:latin typeface="隶书"/>
                <a:ea typeface="隶书"/>
              </a:rPr>
              <a:t>136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黑体"/>
              </a:rPr>
              <a:t>~</a:t>
            </a:r>
            <a:r>
              <a:rPr b="1" lang="zh-CN" sz="3600" spc="-1" strike="noStrike">
                <a:solidFill>
                  <a:srgbClr val="800080"/>
                </a:solidFill>
                <a:latin typeface="隶书"/>
                <a:ea typeface="隶书"/>
              </a:rPr>
              <a:t>137</a:t>
            </a:r>
            <a:r>
              <a:rPr b="0" lang="zh-CN" sz="4000" spc="-1" strike="noStrike">
                <a:solidFill>
                  <a:srgbClr val="800080"/>
                </a:solidFill>
                <a:latin typeface="隶书"/>
                <a:ea typeface="隶书"/>
              </a:rPr>
              <a:t>页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  <a:ea typeface="黑体"/>
              </a:rPr>
              <a:t>,      </a:t>
            </a:r>
            <a:r>
              <a:rPr b="0" lang="zh-CN" sz="4000" spc="-1" strike="noStrike">
                <a:solidFill>
                  <a:srgbClr val="800080"/>
                </a:solidFill>
                <a:latin typeface="隶书"/>
                <a:ea typeface="隶书"/>
              </a:rPr>
              <a:t>并完成第</a:t>
            </a:r>
            <a:r>
              <a:rPr b="1" lang="zh-CN" sz="3600" spc="-1" strike="noStrike">
                <a:solidFill>
                  <a:srgbClr val="800080"/>
                </a:solidFill>
                <a:latin typeface="隶书"/>
                <a:ea typeface="隶书"/>
              </a:rPr>
              <a:t>137</a:t>
            </a:r>
            <a:r>
              <a:rPr b="1" lang="zh-CN" sz="4000" spc="-1" strike="noStrike">
                <a:solidFill>
                  <a:srgbClr val="800080"/>
                </a:solidFill>
                <a:latin typeface="隶书"/>
                <a:ea typeface="隶书"/>
              </a:rPr>
              <a:t>页</a:t>
            </a:r>
            <a:r>
              <a:rPr b="1" lang="zh-CN" sz="3600" spc="-1" strike="noStrike">
                <a:solidFill>
                  <a:srgbClr val="80008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800080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80008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800080"/>
                </a:solidFill>
                <a:latin typeface="隶书"/>
                <a:ea typeface="隶书"/>
              </a:rPr>
              <a:t>题</a:t>
            </a:r>
            <a:r>
              <a:rPr b="0" lang="zh-CN" sz="4000" spc="-1" strike="noStrike">
                <a:solidFill>
                  <a:srgbClr val="800080"/>
                </a:solidFill>
                <a:latin typeface="隶书"/>
                <a:ea typeface="隶书"/>
              </a:rPr>
              <a:t>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539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92360" y="3500280"/>
            <a:ext cx="835164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80008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800080"/>
                </a:solidFill>
                <a:latin typeface="隶书"/>
                <a:ea typeface="隶书"/>
              </a:rPr>
              <a:t>列举你熟知的生活中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隶书"/>
                <a:ea typeface="隶书"/>
              </a:rPr>
              <a:t>在函数关系的实例三则</a:t>
            </a:r>
            <a:r>
              <a:rPr b="0" lang="zh-CN" sz="4000" spc="-1" strike="noStrike">
                <a:solidFill>
                  <a:srgbClr val="800080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55640" y="4653000"/>
            <a:ext cx="5472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谢谢大家！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627280" y="1890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活动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98100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某公园门票的价格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7733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人进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2276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人进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28526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人进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5640" y="1700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2205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2781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486900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门票总费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与进去的人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436572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门票的价格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元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236000" y="907920"/>
            <a:ext cx="1908000" cy="5616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468360" y="3933720"/>
            <a:ext cx="82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在这变化的过程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没有变化的量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               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变化的量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95280" y="1773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把一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长的铁丝围成一个长方形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）填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403280" y="2997360"/>
          <a:ext cx="5024520" cy="1035000"/>
        </p:xfrm>
        <a:graphic>
          <a:graphicData uri="http://schemas.openxmlformats.org/drawingml/2006/table">
            <a:tbl>
              <a:tblPr/>
              <a:tblGrid>
                <a:gridCol w="1497240"/>
                <a:gridCol w="934920"/>
                <a:gridCol w="792000"/>
                <a:gridCol w="808200"/>
                <a:gridCol w="992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宽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长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3"/>
          <p:cNvSpPr/>
          <p:nvPr/>
        </p:nvSpPr>
        <p:spPr>
          <a:xfrm>
            <a:off x="539640" y="4365720"/>
            <a:ext cx="8244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在这变化的过程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没有变化的量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               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变化的量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2627280" y="62064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活动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68480" y="4819680"/>
            <a:ext cx="1190880" cy="5205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周长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12080" y="5300640"/>
            <a:ext cx="343800" cy="5205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长、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3500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0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51280" y="3500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87640" y="3500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8064360" cy="4105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2771640" y="189000"/>
            <a:ext cx="289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活动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981000"/>
            <a:ext cx="43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826920" y="5661000"/>
          <a:ext cx="7655040" cy="1035000"/>
        </p:xfrm>
        <a:graphic>
          <a:graphicData uri="http://schemas.openxmlformats.org/drawingml/2006/table">
            <a:tbl>
              <a:tblPr/>
              <a:tblGrid>
                <a:gridCol w="1872000"/>
                <a:gridCol w="1584000"/>
                <a:gridCol w="1440000"/>
                <a:gridCol w="1441440"/>
                <a:gridCol w="131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砝码质量</a:t>
                      </a:r>
                      <a:r>
                        <a:rPr b="0" i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弹簧长</a:t>
                      </a:r>
                      <a:r>
                        <a:rPr b="0" i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971640" y="51577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填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14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67720" y="6218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70000" y="6237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09640" y="6237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06720" y="6218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23360" cy="2447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"/>
          <p:cNvSpPr/>
          <p:nvPr/>
        </p:nvSpPr>
        <p:spPr>
          <a:xfrm>
            <a:off x="2771640" y="189000"/>
            <a:ext cx="289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活动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981000"/>
            <a:ext cx="43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900000" y="4149720"/>
          <a:ext cx="7654680" cy="1035000"/>
        </p:xfrm>
        <a:graphic>
          <a:graphicData uri="http://schemas.openxmlformats.org/drawingml/2006/table">
            <a:tbl>
              <a:tblPr/>
              <a:tblGrid>
                <a:gridCol w="1871640"/>
                <a:gridCol w="1584360"/>
                <a:gridCol w="1439640"/>
                <a:gridCol w="1441440"/>
                <a:gridCol w="131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砝码质量</a:t>
                      </a:r>
                      <a:r>
                        <a:rPr b="0" i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弹簧长</a:t>
                      </a:r>
                      <a:r>
                        <a:rPr b="0" i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755640" y="3573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填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157720"/>
            <a:ext cx="8569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这个变化的过程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没变化的量是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变化的量是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09040" y="6400800"/>
            <a:ext cx="18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弹簧的长度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砝码的质量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08520" y="5897520"/>
            <a:ext cx="17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弹簧的原长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9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44360" y="1989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没有变化的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4160" y="191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化的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4581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弹簧的原长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9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32360" y="458136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弹簧的长度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y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砝码的质量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2916360" y="62064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活动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637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变化过程（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500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变化过程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581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变化过程（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1989000"/>
            <a:ext cx="281016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常  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1989000"/>
            <a:ext cx="2448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变  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51280" y="6237360"/>
            <a:ext cx="122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92720" y="27082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门票总费用、进去的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27082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门票的价格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元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09600" y="3551400"/>
            <a:ext cx="1026360" cy="45972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周长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80720" y="3552840"/>
            <a:ext cx="320760" cy="45972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长、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19080" y="30240"/>
            <a:ext cx="9105840" cy="6781680"/>
          </a:xfrm>
          <a:prstGeom prst="roundRect">
            <a:avLst>
              <a:gd name="adj" fmla="val 6884"/>
            </a:avLst>
          </a:prstGeom>
          <a:solidFill>
            <a:srgbClr val="ffffff"/>
          </a:solidFill>
          <a:ln w="15228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641520" y="333360"/>
            <a:ext cx="539640" cy="539640"/>
          </a:xfrm>
          <a:prstGeom prst="ellipse">
            <a:avLst/>
          </a:prstGeom>
          <a:solidFill>
            <a:srgbClr val="ff00ff">
              <a:alpha val="72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68360" y="620640"/>
            <a:ext cx="539640" cy="540000"/>
          </a:xfrm>
          <a:prstGeom prst="ellipse">
            <a:avLst/>
          </a:prstGeom>
          <a:solidFill>
            <a:srgbClr val="ffcc00">
              <a:alpha val="9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250920" y="303120"/>
            <a:ext cx="539640" cy="540000"/>
          </a:xfrm>
          <a:prstGeom prst="ellipse">
            <a:avLst/>
          </a:prstGeom>
          <a:solidFill>
            <a:srgbClr val="00cc00">
              <a:alpha val="96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7"/>
          <p:cNvSpPr/>
          <p:nvPr/>
        </p:nvSpPr>
        <p:spPr>
          <a:xfrm>
            <a:off x="8640720" y="6273720"/>
            <a:ext cx="179280" cy="179640"/>
          </a:xfrm>
          <a:prstGeom prst="ellipse">
            <a:avLst/>
          </a:prstGeom>
          <a:solidFill>
            <a:srgbClr val="ff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8467560" y="6410160"/>
            <a:ext cx="179640" cy="17964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8424720" y="6202440"/>
            <a:ext cx="179640" cy="17928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611280" y="2492280"/>
            <a:ext cx="82818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在某一变化过程中，数值保持不变的量叫做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常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可以取不同数值的量叫做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变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684360" y="17002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常量与变量的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1979640" y="4365720"/>
            <a:ext cx="2362320" cy="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1332000" y="5300640"/>
            <a:ext cx="3657600" cy="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3059280" y="62064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活动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2268360" y="3429000"/>
            <a:ext cx="3456000" cy="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组合 22"/>
          <p:cNvGrpSpPr/>
          <p:nvPr/>
        </p:nvGrpSpPr>
        <p:grpSpPr>
          <a:xfrm>
            <a:off x="8016840" y="5538960"/>
            <a:ext cx="1001880" cy="1319040"/>
            <a:chOff x="8016840" y="5538960"/>
            <a:chExt cx="1001880" cy="1319040"/>
          </a:xfrm>
        </p:grpSpPr>
        <p:sp>
          <p:nvSpPr>
            <p:cNvPr id="123" name="矩形 21"/>
            <p:cNvSpPr/>
            <p:nvPr/>
          </p:nvSpPr>
          <p:spPr>
            <a:xfrm>
              <a:off x="8016840" y="5572080"/>
              <a:ext cx="857520" cy="128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20"/>
            <p:cNvSpPr/>
            <p:nvPr/>
          </p:nvSpPr>
          <p:spPr>
            <a:xfrm>
              <a:off x="8472240" y="55389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Times New Roman"/>
                </a:rPr>
                <a:t>千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4"/>
          <p:cNvSpPr/>
          <p:nvPr/>
        </p:nvSpPr>
        <p:spPr>
          <a:xfrm>
            <a:off x="-92160" y="96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11280" y="90792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一辆汽车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千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时的速度匀速行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2484360" y="3141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4"/>
              <p:cNvSpPr txBox="1"/>
              <p:nvPr/>
            </p:nvSpPr>
            <p:spPr>
              <a:xfrm>
                <a:off x="5867280" y="2637000"/>
                <a:ext cx="2970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9" name="Picture 8" descr=""/>
          <p:cNvPicPr/>
          <p:nvPr/>
        </p:nvPicPr>
        <p:blipFill>
          <a:blip r:embed="rId1"/>
          <a:stretch/>
        </p:blipFill>
        <p:spPr>
          <a:xfrm>
            <a:off x="324000" y="5373720"/>
            <a:ext cx="8488080" cy="2556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3"/>
          <p:cNvSpPr/>
          <p:nvPr/>
        </p:nvSpPr>
        <p:spPr>
          <a:xfrm>
            <a:off x="359640" y="550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4"/>
          <p:cNvSpPr/>
          <p:nvPr/>
        </p:nvSpPr>
        <p:spPr>
          <a:xfrm>
            <a:off x="1629720" y="55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5"/>
          <p:cNvSpPr/>
          <p:nvPr/>
        </p:nvSpPr>
        <p:spPr>
          <a:xfrm>
            <a:off x="2888280" y="5500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4188600" y="5500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5474520" y="5500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6817680" y="5500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47520" y="4968720"/>
            <a:ext cx="809640" cy="588960"/>
          </a:xfrm>
          <a:prstGeom prst="rect">
            <a:avLst/>
          </a:prstGeom>
          <a:ln w="0">
            <a:noFill/>
          </a:ln>
        </p:spPr>
      </p:pic>
      <p:grpSp>
        <p:nvGrpSpPr>
          <p:cNvPr id="137" name="组合 29"/>
          <p:cNvGrpSpPr/>
          <p:nvPr/>
        </p:nvGrpSpPr>
        <p:grpSpPr>
          <a:xfrm>
            <a:off x="142920" y="4429080"/>
            <a:ext cx="1071360" cy="571680"/>
            <a:chOff x="142920" y="4429080"/>
            <a:chExt cx="1071360" cy="571680"/>
          </a:xfrm>
        </p:grpSpPr>
        <p:pic>
          <p:nvPicPr>
            <p:cNvPr id="138" name="Picture 35" descr=""/>
            <p:cNvPicPr/>
            <p:nvPr/>
          </p:nvPicPr>
          <p:blipFill>
            <a:blip r:embed="rId3"/>
            <a:stretch/>
          </p:blipFill>
          <p:spPr>
            <a:xfrm>
              <a:off x="142920" y="4429080"/>
              <a:ext cx="107136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28"/>
            <p:cNvSpPr/>
            <p:nvPr/>
          </p:nvSpPr>
          <p:spPr>
            <a:xfrm>
              <a:off x="385560" y="4518720"/>
              <a:ext cx="5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zh-CN" sz="1400" spc="-1" strike="noStrike">
                  <a:solidFill>
                    <a:srgbClr val="ff0000"/>
                  </a:solidFill>
                  <a:latin typeface="Times New Roman"/>
                </a:rPr>
                <a:t>小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2" descr=""/>
          <p:cNvPicPr/>
          <p:nvPr/>
        </p:nvPicPr>
        <p:blipFill>
          <a:blip r:embed="rId4"/>
          <a:stretch/>
        </p:blipFill>
        <p:spPr>
          <a:xfrm>
            <a:off x="1333440" y="4981680"/>
            <a:ext cx="809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34"/>
          <p:cNvGrpSpPr/>
          <p:nvPr/>
        </p:nvGrpSpPr>
        <p:grpSpPr>
          <a:xfrm>
            <a:off x="1357200" y="4429080"/>
            <a:ext cx="1071720" cy="571680"/>
            <a:chOff x="1357200" y="4429080"/>
            <a:chExt cx="1071720" cy="571680"/>
          </a:xfrm>
        </p:grpSpPr>
        <p:pic>
          <p:nvPicPr>
            <p:cNvPr id="142" name="Picture 35" descr=""/>
            <p:cNvPicPr/>
            <p:nvPr/>
          </p:nvPicPr>
          <p:blipFill>
            <a:blip r:embed="rId5"/>
            <a:stretch/>
          </p:blipFill>
          <p:spPr>
            <a:xfrm>
              <a:off x="1357200" y="4429080"/>
              <a:ext cx="10717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Box 33"/>
            <p:cNvSpPr/>
            <p:nvPr/>
          </p:nvSpPr>
          <p:spPr>
            <a:xfrm>
              <a:off x="1605240" y="45187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zh-CN" sz="1400" spc="-1" strike="noStrike">
                  <a:solidFill>
                    <a:srgbClr val="ff0000"/>
                  </a:solidFill>
                  <a:latin typeface="Times New Roman"/>
                </a:rPr>
                <a:t>小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34"/>
          <p:cNvSpPr/>
          <p:nvPr/>
        </p:nvSpPr>
        <p:spPr>
          <a:xfrm>
            <a:off x="3648240" y="3200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45"/>
          <p:cNvGrpSpPr/>
          <p:nvPr/>
        </p:nvGrpSpPr>
        <p:grpSpPr>
          <a:xfrm>
            <a:off x="2122560" y="5527800"/>
            <a:ext cx="571320" cy="734760"/>
            <a:chOff x="2122560" y="5527800"/>
            <a:chExt cx="571320" cy="734760"/>
          </a:xfrm>
        </p:grpSpPr>
        <p:sp>
          <p:nvSpPr>
            <p:cNvPr id="146" name="直接连接符 37"/>
            <p:cNvSpPr/>
            <p:nvPr/>
          </p:nvSpPr>
          <p:spPr>
            <a:xfrm flipH="1">
              <a:off x="2363760" y="5527800"/>
              <a:ext cx="1440" cy="284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35"/>
            <p:cNvSpPr/>
            <p:nvPr/>
          </p:nvSpPr>
          <p:spPr>
            <a:xfrm>
              <a:off x="2122560" y="580284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35"/>
          <p:cNvSpPr/>
          <p:nvPr/>
        </p:nvSpPr>
        <p:spPr>
          <a:xfrm>
            <a:off x="4668840" y="3192480"/>
            <a:ext cx="8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44"/>
          <p:cNvGrpSpPr/>
          <p:nvPr/>
        </p:nvGrpSpPr>
        <p:grpSpPr>
          <a:xfrm>
            <a:off x="1955880" y="4429080"/>
            <a:ext cx="1071360" cy="571680"/>
            <a:chOff x="1955880" y="4429080"/>
            <a:chExt cx="1071360" cy="571680"/>
          </a:xfrm>
        </p:grpSpPr>
        <p:pic>
          <p:nvPicPr>
            <p:cNvPr id="150" name="Picture 35" descr=""/>
            <p:cNvPicPr/>
            <p:nvPr/>
          </p:nvPicPr>
          <p:blipFill>
            <a:blip r:embed="rId6"/>
            <a:stretch/>
          </p:blipFill>
          <p:spPr>
            <a:xfrm>
              <a:off x="1955880" y="4429080"/>
              <a:ext cx="107136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43"/>
            <p:cNvSpPr/>
            <p:nvPr/>
          </p:nvSpPr>
          <p:spPr>
            <a:xfrm>
              <a:off x="2163240" y="4532400"/>
              <a:ext cx="6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Times New Roman"/>
                </a:rPr>
                <a:t>1.5</a:t>
              </a:r>
              <a:r>
                <a:rPr b="1" lang="zh-CN" sz="1400" spc="-1" strike="noStrike">
                  <a:solidFill>
                    <a:srgbClr val="ff0000"/>
                  </a:solidFill>
                  <a:latin typeface="Times New Roman"/>
                </a:rPr>
                <a:t>小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2" descr=""/>
          <p:cNvPicPr/>
          <p:nvPr/>
        </p:nvPicPr>
        <p:blipFill>
          <a:blip r:embed="rId7"/>
          <a:stretch/>
        </p:blipFill>
        <p:spPr>
          <a:xfrm>
            <a:off x="2000160" y="4981680"/>
            <a:ext cx="809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3" name="组合 59"/>
          <p:cNvGrpSpPr/>
          <p:nvPr/>
        </p:nvGrpSpPr>
        <p:grpSpPr>
          <a:xfrm>
            <a:off x="4468680" y="5524560"/>
            <a:ext cx="728640" cy="734760"/>
            <a:chOff x="4468680" y="5524560"/>
            <a:chExt cx="728640" cy="734760"/>
          </a:xfrm>
        </p:grpSpPr>
        <p:sp>
          <p:nvSpPr>
            <p:cNvPr id="154" name="直接连接符 48"/>
            <p:cNvSpPr/>
            <p:nvPr/>
          </p:nvSpPr>
          <p:spPr>
            <a:xfrm flipH="1">
              <a:off x="4778280" y="5524560"/>
              <a:ext cx="1440" cy="284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35"/>
            <p:cNvSpPr/>
            <p:nvPr/>
          </p:nvSpPr>
          <p:spPr>
            <a:xfrm>
              <a:off x="4468680" y="5799600"/>
              <a:ext cx="7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58"/>
          <p:cNvGrpSpPr/>
          <p:nvPr/>
        </p:nvGrpSpPr>
        <p:grpSpPr>
          <a:xfrm>
            <a:off x="4414680" y="4429080"/>
            <a:ext cx="1071720" cy="571680"/>
            <a:chOff x="4414680" y="4429080"/>
            <a:chExt cx="1071720" cy="571680"/>
          </a:xfrm>
        </p:grpSpPr>
        <p:pic>
          <p:nvPicPr>
            <p:cNvPr id="157" name="Picture 35" descr=""/>
            <p:cNvPicPr/>
            <p:nvPr/>
          </p:nvPicPr>
          <p:blipFill>
            <a:blip r:embed="rId8"/>
            <a:stretch/>
          </p:blipFill>
          <p:spPr>
            <a:xfrm>
              <a:off x="4414680" y="4429080"/>
              <a:ext cx="10717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Box 52"/>
            <p:cNvSpPr/>
            <p:nvPr/>
          </p:nvSpPr>
          <p:spPr>
            <a:xfrm>
              <a:off x="4619880" y="4532400"/>
              <a:ext cx="6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zh-CN" sz="1400" spc="-1" strike="noStrike">
                  <a:solidFill>
                    <a:srgbClr val="ff0000"/>
                  </a:solidFill>
                  <a:latin typeface="Times New Roman"/>
                </a:rPr>
                <a:t>小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组合 57"/>
            <p:cNvGrpSpPr/>
            <p:nvPr/>
          </p:nvGrpSpPr>
          <p:grpSpPr>
            <a:xfrm>
              <a:off x="4523760" y="4429080"/>
              <a:ext cx="659880" cy="570600"/>
              <a:chOff x="4523760" y="4429080"/>
              <a:chExt cx="659880" cy="570600"/>
            </a:xfrm>
          </p:grpSpPr>
          <p:sp>
            <p:nvSpPr>
              <p:cNvPr id="160" name="Text Box 35"/>
              <p:cNvSpPr/>
              <p:nvPr/>
            </p:nvSpPr>
            <p:spPr>
              <a:xfrm>
                <a:off x="4523760" y="4429080"/>
                <a:ext cx="57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35"/>
              <p:cNvSpPr/>
              <p:nvPr/>
            </p:nvSpPr>
            <p:spPr>
              <a:xfrm>
                <a:off x="4611960" y="4631400"/>
                <a:ext cx="57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直接连接符 56"/>
              <p:cNvSpPr/>
              <p:nvPr/>
            </p:nvSpPr>
            <p:spPr>
              <a:xfrm>
                <a:off x="4667040" y="4726080"/>
                <a:ext cx="21420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Text Box 36"/>
          <p:cNvSpPr/>
          <p:nvPr/>
        </p:nvSpPr>
        <p:spPr>
          <a:xfrm>
            <a:off x="5689440" y="321300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9"/>
          <a:stretch/>
        </p:blipFill>
        <p:spPr>
          <a:xfrm>
            <a:off x="4432320" y="4981680"/>
            <a:ext cx="809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5" name="组合 62"/>
          <p:cNvGrpSpPr/>
          <p:nvPr/>
        </p:nvGrpSpPr>
        <p:grpSpPr>
          <a:xfrm>
            <a:off x="6595920" y="4429080"/>
            <a:ext cx="1071720" cy="571680"/>
            <a:chOff x="6595920" y="4429080"/>
            <a:chExt cx="1071720" cy="571680"/>
          </a:xfrm>
        </p:grpSpPr>
        <p:pic>
          <p:nvPicPr>
            <p:cNvPr id="166" name="Picture 35" descr=""/>
            <p:cNvPicPr/>
            <p:nvPr/>
          </p:nvPicPr>
          <p:blipFill>
            <a:blip r:embed="rId10"/>
            <a:stretch/>
          </p:blipFill>
          <p:spPr>
            <a:xfrm>
              <a:off x="6595920" y="4429080"/>
              <a:ext cx="10717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64"/>
            <p:cNvSpPr/>
            <p:nvPr/>
          </p:nvSpPr>
          <p:spPr>
            <a:xfrm>
              <a:off x="6871320" y="453240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zh-CN" sz="1400" spc="-1" strike="noStrike">
                  <a:solidFill>
                    <a:srgbClr val="ff0000"/>
                  </a:solidFill>
                  <a:latin typeface="Times New Roman"/>
                </a:rPr>
                <a:t>小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37"/>
          <p:cNvSpPr/>
          <p:nvPr/>
        </p:nvSpPr>
        <p:spPr>
          <a:xfrm>
            <a:off x="6723000" y="3213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6400" y="169920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这个变化过程中有几个变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3348000" y="1890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活动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16000" y="2637000"/>
          <a:ext cx="7561440" cy="1035000"/>
        </p:xfrm>
        <a:graphic>
          <a:graphicData uri="http://schemas.openxmlformats.org/drawingml/2006/table">
            <a:tbl>
              <a:tblPr/>
              <a:tblGrid>
                <a:gridCol w="1152360"/>
                <a:gridCol w="1086120"/>
                <a:gridCol w="1065240"/>
                <a:gridCol w="1062000"/>
                <a:gridCol w="1065240"/>
                <a:gridCol w="1065240"/>
                <a:gridCol w="1065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小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  <a:ea typeface="Times New Roman"/>
                        </a:rPr>
                        <a:t>千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971640" y="94284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41402"/>
                </a:solidFill>
                <a:latin typeface="Arial"/>
              </a:rPr>
              <a:t>                                                                                </a:t>
            </a:r>
            <a:r>
              <a:rPr b="1" lang="zh-CN" sz="2400" spc="-1" strike="noStrike">
                <a:solidFill>
                  <a:srgbClr val="141402"/>
                </a:solidFill>
                <a:latin typeface="宋体"/>
              </a:rPr>
              <a:t>行驶的路程为</a:t>
            </a:r>
            <a:r>
              <a:rPr b="1" i="1" lang="zh-CN" sz="2400" spc="-1" strike="noStrike">
                <a:solidFill>
                  <a:srgbClr val="141402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141402"/>
                </a:solidFill>
                <a:latin typeface="宋体"/>
              </a:rPr>
              <a:t>千米，行驶时间为</a:t>
            </a:r>
            <a:r>
              <a:rPr b="1" i="1" lang="zh-CN" sz="2400" spc="-1" strike="noStrike">
                <a:solidFill>
                  <a:srgbClr val="141402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141402"/>
                </a:solidFill>
                <a:latin typeface="宋体"/>
              </a:rPr>
              <a:t>小时</a:t>
            </a:r>
            <a:r>
              <a:rPr b="1" lang="zh-CN" sz="2400" spc="-1" strike="noStrike">
                <a:solidFill>
                  <a:srgbClr val="141402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2133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填写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3860640"/>
            <a:ext cx="59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变量之间的对应关系是怎样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71640" y="2997360"/>
            <a:ext cx="71640" cy="287280"/>
          </a:xfrm>
          <a:prstGeom prst="downArrow">
            <a:avLst>
              <a:gd name="adj1" fmla="val 50000"/>
              <a:gd name="adj2" fmla="val 100251"/>
            </a:avLst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2997360"/>
            <a:ext cx="71280" cy="287280"/>
          </a:xfrm>
          <a:prstGeom prst="downArrow">
            <a:avLst>
              <a:gd name="adj1" fmla="val 50000"/>
              <a:gd name="adj2" fmla="val 100758"/>
            </a:avLst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2987640"/>
            <a:ext cx="71280" cy="287280"/>
          </a:xfrm>
          <a:prstGeom prst="downArrow">
            <a:avLst>
              <a:gd name="adj1" fmla="val 50000"/>
              <a:gd name="adj2" fmla="val 100758"/>
            </a:avLst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0360" y="3068640"/>
            <a:ext cx="71640" cy="287280"/>
          </a:xfrm>
          <a:prstGeom prst="downArrow">
            <a:avLst>
              <a:gd name="adj1" fmla="val 50000"/>
              <a:gd name="adj2" fmla="val 100251"/>
            </a:avLst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20000" y="2997360"/>
            <a:ext cx="71280" cy="287280"/>
          </a:xfrm>
          <a:prstGeom prst="downArrow">
            <a:avLst>
              <a:gd name="adj1" fmla="val 50000"/>
              <a:gd name="adj2" fmla="val 100758"/>
            </a:avLst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156360" y="3860640"/>
            <a:ext cx="2556000" cy="1295640"/>
            <a:chOff x="6156360" y="3860640"/>
            <a:chExt cx="2556000" cy="1295640"/>
          </a:xfrm>
        </p:grpSpPr>
        <p:sp>
          <p:nvSpPr>
            <p:cNvPr id="181" name=""/>
            <p:cNvSpPr/>
            <p:nvPr/>
          </p:nvSpPr>
          <p:spPr>
            <a:xfrm>
              <a:off x="6156360" y="3860640"/>
              <a:ext cx="2556000" cy="1295640"/>
            </a:xfrm>
            <a:prstGeom prst="wedgeRoundRectCallout">
              <a:avLst>
                <a:gd name="adj1" fmla="val -71365"/>
                <a:gd name="adj2" fmla="val -22916"/>
                <a:gd name="adj3" fmla="val 16667"/>
              </a:avLst>
            </a:prstGeom>
            <a:solidFill>
              <a:srgbClr val="e7f4f5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29440" y="3932280"/>
              <a:ext cx="2305080" cy="459720"/>
            </a:xfrm>
            <a:prstGeom prst="rect">
              <a:avLst/>
            </a:prstGeom>
            <a:solidFill>
              <a:srgbClr val="e7f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对于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的每一个值，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都有唯一的值与它对应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156360" y="1413000"/>
            <a:ext cx="2303280" cy="1079280"/>
          </a:xfrm>
          <a:prstGeom prst="cloudCallout">
            <a:avLst>
              <a:gd name="adj1" fmla="val -81425"/>
              <a:gd name="adj2" fmla="val 0"/>
            </a:avLst>
          </a:prstGeom>
          <a:solidFill>
            <a:srgbClr val="e7f4f5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个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24884E-006 L 0.14323 -1.24884E-006 E">
                                      <p:cBhvr>
                                        <p:cTn id="19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-0.00208 L 0.07622 -0.00208 E">
                                      <p:cBhvr>
                                        <p:cTn id="21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4884E-006 L 0.2651 -1.24884E-006 E">
                                      <p:cBhvr>
                                        <p:cTn id="233" dur="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2.65495E-006 L 0.23785 -2.65495E-006 E">
                                      <p:cBhvr>
                                        <p:cTn id="255" dur="5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13:06:49Z</dcterms:created>
  <dc:creator>USER</dc:creator>
  <dc:description/>
  <dc:language>en-US</dc:language>
  <cp:lastModifiedBy>USER</cp:lastModifiedBy>
  <dcterms:modified xsi:type="dcterms:W3CDTF">2013-10-23T05:56:24Z</dcterms:modified>
  <cp:revision>62</cp:revision>
  <dc:subject/>
  <dc:title>幻灯片 1</dc:title>
</cp:coreProperties>
</file>