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6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AE9-2F1D-41BB-9687-5D83E435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12D-D3AA-449F-A607-E366DC50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B38-628A-4BE2-9404-D9881C06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A77-9C0F-4D46-8CA8-21DFA256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41A-57BD-4F46-999D-0D91D073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1D6-5C58-4C45-BBE5-DFB7663C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E68-873E-4C33-849D-1E707E0B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939-CCDA-41A0-99AB-8A29C6D3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376-FCCB-4117-8AAF-BFEEFD4F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831-B89F-4361-9333-6FCAAE0A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C9A-2900-4AEA-862E-A579FF5F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DC2-9DE6-4E40-BE75-4BC66BEB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9F51-45D2-4D22-993F-1391F4B0FC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2000" y="2924280"/>
            <a:ext cx="7273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全等三角形的判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08360" y="522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中学数学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4743360"/>
            <a:ext cx="9234360" cy="2114640"/>
            <a:chOff x="0" y="4743360"/>
            <a:chExt cx="9234360" cy="2114640"/>
          </a:xfrm>
        </p:grpSpPr>
        <p:graphicFrame>
          <p:nvGraphicFramePr>
            <p:cNvPr id="45" name=""/>
            <p:cNvGraphicFramePr/>
            <p:nvPr/>
          </p:nvGraphicFramePr>
          <p:xfrm>
            <a:off x="0" y="4743360"/>
            <a:ext cx="3405960" cy="2114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743360"/>
                      <a:ext cx="340596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6959520" y="5178960"/>
              <a:ext cx="2274840" cy="1531080"/>
              <a:chOff x="6959520" y="5178960"/>
              <a:chExt cx="2274840" cy="1531080"/>
            </a:xfrm>
          </p:grpSpPr>
          <p:sp>
            <p:nvSpPr>
              <p:cNvPr id="48" name=""/>
              <p:cNvSpPr/>
              <p:nvPr/>
            </p:nvSpPr>
            <p:spPr>
              <a:xfrm rot="20940000">
                <a:off x="6998400" y="6033960"/>
                <a:ext cx="475200" cy="456840"/>
              </a:xfrm>
              <a:prstGeom prst="star5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1717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86720" y="5564160"/>
                <a:ext cx="435240" cy="418680"/>
              </a:xfrm>
              <a:prstGeom prst="star5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1717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8435520" y="5275080"/>
                <a:ext cx="633240" cy="609480"/>
              </a:xfrm>
              <a:prstGeom prst="star5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1717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7480" y="5732280"/>
                <a:ext cx="435240" cy="419040"/>
              </a:xfrm>
              <a:prstGeom prst="star5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320000">
                <a:off x="8510040" y="5563800"/>
                <a:ext cx="633240" cy="609120"/>
              </a:xfrm>
              <a:prstGeom prst="star5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20940000">
                <a:off x="7087320" y="6211800"/>
                <a:ext cx="475200" cy="456840"/>
              </a:xfrm>
              <a:prstGeom prst="star5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2627280" y="206064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新　授　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4581360"/>
            <a:ext cx="2087640" cy="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414972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1251000" y="1133640"/>
          <a:ext cx="8001000" cy="4944960"/>
        </p:xfrm>
        <a:graphic>
          <a:graphicData uri="http://schemas.openxmlformats.org/drawingml/2006/table">
            <a:tbl>
              <a:tblPr/>
              <a:tblGrid>
                <a:gridCol w="1268640"/>
                <a:gridCol w="4065480"/>
                <a:gridCol w="2666880"/>
              </a:tblGrid>
              <a:tr h="657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等三角形的判定方法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边边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边对应相等的两个三角形全等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边角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两边和它们的夹角对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相等的两个三角形全等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边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两角和它们的夹边对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相等的两个三角形全等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"/>
          <p:cNvSpPr/>
          <p:nvPr/>
        </p:nvSpPr>
        <p:spPr>
          <a:xfrm>
            <a:off x="7201080" y="263700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43640" y="306864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416720" y="3068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43640" y="3068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488000" y="2637000"/>
            <a:ext cx="215640" cy="7128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488000" y="2708280"/>
            <a:ext cx="215640" cy="7128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7488000" y="2781360"/>
            <a:ext cx="215640" cy="7128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201080" y="263700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16720" y="3068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43640" y="3068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488000" y="2781360"/>
            <a:ext cx="215640" cy="7128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01080" y="263700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16720" y="3068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43640" y="3068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488000" y="2781360"/>
            <a:ext cx="215640" cy="7128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7488000" y="2781360"/>
            <a:ext cx="215640" cy="7128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488000" y="2781360"/>
            <a:ext cx="215640" cy="7128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985080" y="2276640"/>
            <a:ext cx="717840" cy="935640"/>
            <a:chOff x="6985080" y="2276640"/>
            <a:chExt cx="717840" cy="935640"/>
          </a:xfrm>
        </p:grpSpPr>
        <p:grpSp>
          <p:nvGrpSpPr>
            <p:cNvPr id="409" name=""/>
            <p:cNvGrpSpPr/>
            <p:nvPr/>
          </p:nvGrpSpPr>
          <p:grpSpPr>
            <a:xfrm>
              <a:off x="6985080" y="2276640"/>
              <a:ext cx="702720" cy="863280"/>
              <a:chOff x="6985080" y="2276640"/>
              <a:chExt cx="702720" cy="86328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6985080" y="2276640"/>
                <a:ext cx="576000" cy="8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13520" y="3139920"/>
                <a:ext cx="64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5240" y="2276640"/>
                <a:ext cx="142560" cy="8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200720" y="2636640"/>
              <a:ext cx="502200" cy="575640"/>
              <a:chOff x="7200720" y="2636640"/>
              <a:chExt cx="502200" cy="57564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7487280" y="2636640"/>
                <a:ext cx="215640" cy="7092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7487280" y="2707560"/>
                <a:ext cx="215640" cy="7128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00720" y="2636640"/>
                <a:ext cx="1425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16360" y="3067920"/>
                <a:ext cx="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43280" y="3067920"/>
                <a:ext cx="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487280" y="2780640"/>
                <a:ext cx="215640" cy="7128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8209080" y="2205000"/>
            <a:ext cx="717840" cy="936720"/>
            <a:chOff x="8209080" y="2205000"/>
            <a:chExt cx="717840" cy="936720"/>
          </a:xfrm>
        </p:grpSpPr>
        <p:grpSp>
          <p:nvGrpSpPr>
            <p:cNvPr id="421" name=""/>
            <p:cNvGrpSpPr/>
            <p:nvPr/>
          </p:nvGrpSpPr>
          <p:grpSpPr>
            <a:xfrm>
              <a:off x="8209080" y="2205000"/>
              <a:ext cx="702720" cy="863640"/>
              <a:chOff x="8209080" y="2205000"/>
              <a:chExt cx="702720" cy="863640"/>
            </a:xfrm>
          </p:grpSpPr>
          <p:sp>
            <p:nvSpPr>
              <p:cNvPr id="422" name=""/>
              <p:cNvSpPr/>
              <p:nvPr/>
            </p:nvSpPr>
            <p:spPr>
              <a:xfrm flipH="1">
                <a:off x="8209080" y="2205000"/>
                <a:ext cx="57600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237520" y="3068640"/>
                <a:ext cx="64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769240" y="2205000"/>
                <a:ext cx="14256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8424720" y="2565360"/>
              <a:ext cx="502200" cy="576360"/>
              <a:chOff x="8424720" y="2565360"/>
              <a:chExt cx="502200" cy="57636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8711280" y="2565360"/>
                <a:ext cx="215640" cy="7128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8711280" y="2636640"/>
                <a:ext cx="215640" cy="7164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424720" y="2565360"/>
                <a:ext cx="1425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640360" y="2997000"/>
                <a:ext cx="0" cy="144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567280" y="2997000"/>
                <a:ext cx="0" cy="144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8711280" y="2709720"/>
                <a:ext cx="215640" cy="7164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6985080" y="393228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28000" y="4292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201080" y="4292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41080" y="4221000"/>
            <a:ext cx="141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85080" y="393228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201080" y="4292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41080" y="4221000"/>
            <a:ext cx="141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28000" y="4292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985080" y="393228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41080" y="4221000"/>
            <a:ext cx="141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128000" y="4292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85080" y="393228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41080" y="4221000"/>
            <a:ext cx="141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28000" y="4292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85080" y="393228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41080" y="4221000"/>
            <a:ext cx="141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840360" y="3500280"/>
            <a:ext cx="702720" cy="1009080"/>
            <a:chOff x="6840360" y="3500280"/>
            <a:chExt cx="702720" cy="1009080"/>
          </a:xfrm>
        </p:grpSpPr>
        <p:grpSp>
          <p:nvGrpSpPr>
            <p:cNvPr id="449" name=""/>
            <p:cNvGrpSpPr/>
            <p:nvPr/>
          </p:nvGrpSpPr>
          <p:grpSpPr>
            <a:xfrm>
              <a:off x="6840360" y="3500280"/>
              <a:ext cx="702720" cy="863640"/>
              <a:chOff x="6840360" y="3500280"/>
              <a:chExt cx="702720" cy="863640"/>
            </a:xfrm>
          </p:grpSpPr>
          <p:sp>
            <p:nvSpPr>
              <p:cNvPr id="450" name=""/>
              <p:cNvSpPr/>
              <p:nvPr/>
            </p:nvSpPr>
            <p:spPr>
              <a:xfrm flipH="1">
                <a:off x="6840360" y="3500280"/>
                <a:ext cx="57600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68800" y="4363920"/>
                <a:ext cx="64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400520" y="3500280"/>
                <a:ext cx="14256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7200720" y="4292280"/>
              <a:ext cx="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4292280"/>
              <a:ext cx="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84720" y="3931920"/>
              <a:ext cx="142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40360" y="4221000"/>
              <a:ext cx="14256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8209080" y="3500280"/>
            <a:ext cx="702720" cy="1009080"/>
            <a:chOff x="8209080" y="3500280"/>
            <a:chExt cx="702720" cy="1009080"/>
          </a:xfrm>
        </p:grpSpPr>
        <p:grpSp>
          <p:nvGrpSpPr>
            <p:cNvPr id="458" name=""/>
            <p:cNvGrpSpPr/>
            <p:nvPr/>
          </p:nvGrpSpPr>
          <p:grpSpPr>
            <a:xfrm>
              <a:off x="8209080" y="3500280"/>
              <a:ext cx="702720" cy="863640"/>
              <a:chOff x="8209080" y="3500280"/>
              <a:chExt cx="702720" cy="863640"/>
            </a:xfrm>
          </p:grpSpPr>
          <p:sp>
            <p:nvSpPr>
              <p:cNvPr id="459" name=""/>
              <p:cNvSpPr/>
              <p:nvPr/>
            </p:nvSpPr>
            <p:spPr>
              <a:xfrm flipH="1">
                <a:off x="8209080" y="3500280"/>
                <a:ext cx="57600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37520" y="4363920"/>
                <a:ext cx="64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769240" y="3500280"/>
                <a:ext cx="14256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8569440" y="4292280"/>
              <a:ext cx="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96360" y="4292280"/>
              <a:ext cx="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53440" y="3931920"/>
              <a:ext cx="142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209080" y="4221000"/>
              <a:ext cx="14256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767640" y="4940280"/>
            <a:ext cx="718560" cy="1080000"/>
            <a:chOff x="6767640" y="4940280"/>
            <a:chExt cx="718560" cy="1080000"/>
          </a:xfrm>
        </p:grpSpPr>
        <p:grpSp>
          <p:nvGrpSpPr>
            <p:cNvPr id="467" name=""/>
            <p:cNvGrpSpPr/>
            <p:nvPr/>
          </p:nvGrpSpPr>
          <p:grpSpPr>
            <a:xfrm>
              <a:off x="6768720" y="4940280"/>
              <a:ext cx="703800" cy="863280"/>
              <a:chOff x="6768720" y="4940280"/>
              <a:chExt cx="703800" cy="86328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6768720" y="4940280"/>
                <a:ext cx="576360" cy="8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797880" y="580356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29600" y="4940280"/>
                <a:ext cx="142920" cy="8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6767640" y="5589360"/>
              <a:ext cx="2887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0800000">
              <a:off x="7201080" y="5086440"/>
              <a:ext cx="285120" cy="14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85080" y="5300280"/>
              <a:ext cx="142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8134560" y="4940280"/>
            <a:ext cx="717840" cy="1080000"/>
            <a:chOff x="8134560" y="4940280"/>
            <a:chExt cx="717840" cy="1080000"/>
          </a:xfrm>
        </p:grpSpPr>
        <p:grpSp>
          <p:nvGrpSpPr>
            <p:cNvPr id="475" name=""/>
            <p:cNvGrpSpPr/>
            <p:nvPr/>
          </p:nvGrpSpPr>
          <p:grpSpPr>
            <a:xfrm>
              <a:off x="8136000" y="4940280"/>
              <a:ext cx="702720" cy="863280"/>
              <a:chOff x="8136000" y="4940280"/>
              <a:chExt cx="702720" cy="863280"/>
            </a:xfrm>
          </p:grpSpPr>
          <p:sp>
            <p:nvSpPr>
              <p:cNvPr id="476" name=""/>
              <p:cNvSpPr/>
              <p:nvPr/>
            </p:nvSpPr>
            <p:spPr>
              <a:xfrm flipH="1">
                <a:off x="8136000" y="4940280"/>
                <a:ext cx="576000" cy="8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164440" y="5803560"/>
                <a:ext cx="64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696160" y="4940280"/>
                <a:ext cx="142560" cy="8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8134560" y="5589360"/>
              <a:ext cx="2880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0800000">
              <a:off x="8568000" y="5086440"/>
              <a:ext cx="284400" cy="14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51640" y="5300280"/>
              <a:ext cx="1425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116000" y="-100080"/>
            <a:ext cx="399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隶书"/>
              </a:rPr>
              <a:t>收获与感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1619280" y="3284640"/>
            <a:ext cx="699912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行楷"/>
              </a:rPr>
              <a:t>还有没有其它证明三角形全等的方法？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  <p:sp>
        <p:nvSpPr>
          <p:cNvPr id="485" name=""/>
          <p:cNvSpPr/>
          <p:nvPr/>
        </p:nvSpPr>
        <p:spPr>
          <a:xfrm>
            <a:off x="1116000" y="-100080"/>
            <a:ext cx="399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隶书"/>
              </a:rPr>
              <a:t>收获与感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5292720" y="3643200"/>
            <a:ext cx="3352680" cy="2881440"/>
            <a:chOff x="5292720" y="3643200"/>
            <a:chExt cx="3352680" cy="2881440"/>
          </a:xfrm>
        </p:grpSpPr>
        <p:sp>
          <p:nvSpPr>
            <p:cNvPr id="487" name=""/>
            <p:cNvSpPr/>
            <p:nvPr/>
          </p:nvSpPr>
          <p:spPr>
            <a:xfrm>
              <a:off x="5292720" y="3643200"/>
              <a:ext cx="3352680" cy="1219320"/>
            </a:xfrm>
            <a:prstGeom prst="cloudCallout">
              <a:avLst>
                <a:gd name="adj1" fmla="val -42615"/>
                <a:gd name="adj2" fmla="val 67708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5880" y="3857760"/>
              <a:ext cx="23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怎么办？可以帮帮我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5902200" y="5000760"/>
              <a:ext cx="232092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0" name=""/>
          <p:cNvGrpSpPr/>
          <p:nvPr/>
        </p:nvGrpSpPr>
        <p:grpSpPr>
          <a:xfrm>
            <a:off x="2916360" y="3627360"/>
            <a:ext cx="1008000" cy="2681280"/>
            <a:chOff x="2916360" y="3627360"/>
            <a:chExt cx="1008000" cy="2681280"/>
          </a:xfrm>
        </p:grpSpPr>
        <p:sp>
          <p:nvSpPr>
            <p:cNvPr id="491" name=""/>
            <p:cNvSpPr/>
            <p:nvPr/>
          </p:nvSpPr>
          <p:spPr>
            <a:xfrm>
              <a:off x="3924360" y="3627360"/>
              <a:ext cx="0" cy="268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060000" y="3627360"/>
              <a:ext cx="864000" cy="95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988000" y="5989320"/>
              <a:ext cx="935640" cy="3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16360" y="4584960"/>
              <a:ext cx="504000" cy="1472400"/>
            </a:xfrm>
            <a:custGeom>
              <a:avLst/>
              <a:gdLst/>
              <a:ahLst/>
              <a:rect l="l" t="t" r="r" b="b"/>
              <a:pathLst>
                <a:path w="336" h="1107">
                  <a:moveTo>
                    <a:pt x="101" y="0"/>
                  </a:moveTo>
                  <a:cubicBezTo>
                    <a:pt x="102" y="0"/>
                    <a:pt x="195" y="19"/>
                    <a:pt x="203" y="23"/>
                  </a:cubicBezTo>
                  <a:cubicBezTo>
                    <a:pt x="227" y="35"/>
                    <a:pt x="271" y="68"/>
                    <a:pt x="271" y="68"/>
                  </a:cubicBezTo>
                  <a:cubicBezTo>
                    <a:pt x="321" y="145"/>
                    <a:pt x="271" y="216"/>
                    <a:pt x="203" y="260"/>
                  </a:cubicBezTo>
                  <a:cubicBezTo>
                    <a:pt x="210" y="275"/>
                    <a:pt x="213" y="293"/>
                    <a:pt x="225" y="305"/>
                  </a:cubicBezTo>
                  <a:cubicBezTo>
                    <a:pt x="336" y="416"/>
                    <a:pt x="220" y="249"/>
                    <a:pt x="293" y="362"/>
                  </a:cubicBezTo>
                  <a:cubicBezTo>
                    <a:pt x="234" y="381"/>
                    <a:pt x="184" y="414"/>
                    <a:pt x="124" y="430"/>
                  </a:cubicBezTo>
                  <a:cubicBezTo>
                    <a:pt x="46" y="482"/>
                    <a:pt x="82" y="467"/>
                    <a:pt x="22" y="486"/>
                  </a:cubicBezTo>
                  <a:cubicBezTo>
                    <a:pt x="51" y="496"/>
                    <a:pt x="84" y="496"/>
                    <a:pt x="112" y="509"/>
                  </a:cubicBezTo>
                  <a:cubicBezTo>
                    <a:pt x="137" y="520"/>
                    <a:pt x="180" y="554"/>
                    <a:pt x="180" y="554"/>
                  </a:cubicBezTo>
                  <a:cubicBezTo>
                    <a:pt x="208" y="595"/>
                    <a:pt x="241" y="617"/>
                    <a:pt x="282" y="644"/>
                  </a:cubicBezTo>
                  <a:cubicBezTo>
                    <a:pt x="265" y="712"/>
                    <a:pt x="276" y="674"/>
                    <a:pt x="248" y="757"/>
                  </a:cubicBezTo>
                  <a:cubicBezTo>
                    <a:pt x="239" y="783"/>
                    <a:pt x="203" y="787"/>
                    <a:pt x="180" y="802"/>
                  </a:cubicBezTo>
                  <a:cubicBezTo>
                    <a:pt x="170" y="809"/>
                    <a:pt x="157" y="809"/>
                    <a:pt x="146" y="814"/>
                  </a:cubicBezTo>
                  <a:cubicBezTo>
                    <a:pt x="93" y="837"/>
                    <a:pt x="57" y="862"/>
                    <a:pt x="0" y="881"/>
                  </a:cubicBezTo>
                  <a:cubicBezTo>
                    <a:pt x="4" y="892"/>
                    <a:pt x="4" y="906"/>
                    <a:pt x="11" y="915"/>
                  </a:cubicBezTo>
                  <a:cubicBezTo>
                    <a:pt x="19" y="926"/>
                    <a:pt x="38" y="926"/>
                    <a:pt x="45" y="938"/>
                  </a:cubicBezTo>
                  <a:cubicBezTo>
                    <a:pt x="58" y="962"/>
                    <a:pt x="60" y="991"/>
                    <a:pt x="67" y="1017"/>
                  </a:cubicBezTo>
                  <a:cubicBezTo>
                    <a:pt x="62" y="1040"/>
                    <a:pt x="38" y="1107"/>
                    <a:pt x="90" y="1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92000" y="1487520"/>
            <a:ext cx="896472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一张教学用的三角形硬纸板不小心被撕坏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如图，你能制作一张与原来同样大小的新教具？能恢复原来三角形的原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820520" y="3405600"/>
            <a:ext cx="2373120" cy="3263040"/>
            <a:chOff x="1820520" y="3405600"/>
            <a:chExt cx="2373120" cy="3263040"/>
          </a:xfrm>
        </p:grpSpPr>
        <p:sp>
          <p:nvSpPr>
            <p:cNvPr id="497" name=""/>
            <p:cNvSpPr/>
            <p:nvPr/>
          </p:nvSpPr>
          <p:spPr>
            <a:xfrm rot="300000">
              <a:off x="1842480" y="5406840"/>
              <a:ext cx="32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2947320" y="3644640"/>
              <a:ext cx="977400" cy="2563200"/>
              <a:chOff x="2947320" y="3644640"/>
              <a:chExt cx="977400" cy="2563200"/>
            </a:xfrm>
          </p:grpSpPr>
          <p:sp>
            <p:nvSpPr>
              <p:cNvPr id="499" name=""/>
              <p:cNvSpPr/>
              <p:nvPr/>
            </p:nvSpPr>
            <p:spPr>
              <a:xfrm flipV="1">
                <a:off x="3092760" y="3644640"/>
                <a:ext cx="766440" cy="82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859560" y="3645000"/>
                <a:ext cx="65160" cy="256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 flipV="1">
                <a:off x="3251520" y="5963040"/>
                <a:ext cx="673200" cy="2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300000">
                <a:off x="3012480" y="4482000"/>
                <a:ext cx="460080" cy="1518840"/>
              </a:xfrm>
              <a:custGeom>
                <a:avLst/>
                <a:gdLst/>
                <a:ahLst/>
                <a:rect l="l" t="t" r="r" b="b"/>
                <a:pathLst>
                  <a:path w="766" h="1975">
                    <a:moveTo>
                      <a:pt x="73" y="0"/>
                    </a:moveTo>
                    <a:cubicBezTo>
                      <a:pt x="174" y="68"/>
                      <a:pt x="116" y="38"/>
                      <a:pt x="249" y="82"/>
                    </a:cubicBezTo>
                    <a:cubicBezTo>
                      <a:pt x="266" y="88"/>
                      <a:pt x="279" y="103"/>
                      <a:pt x="296" y="106"/>
                    </a:cubicBezTo>
                    <a:cubicBezTo>
                      <a:pt x="374" y="119"/>
                      <a:pt x="531" y="129"/>
                      <a:pt x="531" y="129"/>
                    </a:cubicBezTo>
                    <a:cubicBezTo>
                      <a:pt x="432" y="163"/>
                      <a:pt x="354" y="236"/>
                      <a:pt x="261" y="282"/>
                    </a:cubicBezTo>
                    <a:cubicBezTo>
                      <a:pt x="225" y="354"/>
                      <a:pt x="188" y="425"/>
                      <a:pt x="120" y="470"/>
                    </a:cubicBezTo>
                    <a:cubicBezTo>
                      <a:pt x="116" y="482"/>
                      <a:pt x="115" y="495"/>
                      <a:pt x="108" y="505"/>
                    </a:cubicBezTo>
                    <a:cubicBezTo>
                      <a:pt x="99" y="519"/>
                      <a:pt x="70" y="525"/>
                      <a:pt x="73" y="541"/>
                    </a:cubicBezTo>
                    <a:cubicBezTo>
                      <a:pt x="76" y="558"/>
                      <a:pt x="103" y="559"/>
                      <a:pt x="120" y="564"/>
                    </a:cubicBezTo>
                    <a:cubicBezTo>
                      <a:pt x="166" y="579"/>
                      <a:pt x="261" y="600"/>
                      <a:pt x="261" y="600"/>
                    </a:cubicBezTo>
                    <a:cubicBezTo>
                      <a:pt x="249" y="694"/>
                      <a:pt x="237" y="757"/>
                      <a:pt x="155" y="811"/>
                    </a:cubicBezTo>
                    <a:cubicBezTo>
                      <a:pt x="288" y="838"/>
                      <a:pt x="421" y="835"/>
                      <a:pt x="555" y="858"/>
                    </a:cubicBezTo>
                    <a:cubicBezTo>
                      <a:pt x="575" y="917"/>
                      <a:pt x="590" y="993"/>
                      <a:pt x="625" y="1046"/>
                    </a:cubicBezTo>
                    <a:cubicBezTo>
                      <a:pt x="510" y="1075"/>
                      <a:pt x="407" y="1115"/>
                      <a:pt x="296" y="1152"/>
                    </a:cubicBezTo>
                    <a:cubicBezTo>
                      <a:pt x="265" y="1162"/>
                      <a:pt x="231" y="1162"/>
                      <a:pt x="202" y="1176"/>
                    </a:cubicBezTo>
                    <a:cubicBezTo>
                      <a:pt x="94" y="1230"/>
                      <a:pt x="142" y="1215"/>
                      <a:pt x="61" y="1234"/>
                    </a:cubicBezTo>
                    <a:cubicBezTo>
                      <a:pt x="45" y="1242"/>
                      <a:pt x="18" y="1241"/>
                      <a:pt x="14" y="1258"/>
                    </a:cubicBezTo>
                    <a:cubicBezTo>
                      <a:pt x="0" y="1316"/>
                      <a:pt x="107" y="1400"/>
                      <a:pt x="132" y="1411"/>
                    </a:cubicBezTo>
                    <a:cubicBezTo>
                      <a:pt x="175" y="1431"/>
                      <a:pt x="226" y="1426"/>
                      <a:pt x="273" y="1434"/>
                    </a:cubicBezTo>
                    <a:cubicBezTo>
                      <a:pt x="296" y="1438"/>
                      <a:pt x="343" y="1446"/>
                      <a:pt x="343" y="1446"/>
                    </a:cubicBezTo>
                    <a:cubicBezTo>
                      <a:pt x="355" y="1454"/>
                      <a:pt x="378" y="1455"/>
                      <a:pt x="379" y="1469"/>
                    </a:cubicBezTo>
                    <a:cubicBezTo>
                      <a:pt x="386" y="1547"/>
                      <a:pt x="352" y="1597"/>
                      <a:pt x="296" y="1634"/>
                    </a:cubicBezTo>
                    <a:cubicBezTo>
                      <a:pt x="447" y="1683"/>
                      <a:pt x="305" y="1644"/>
                      <a:pt x="578" y="1669"/>
                    </a:cubicBezTo>
                    <a:cubicBezTo>
                      <a:pt x="641" y="1675"/>
                      <a:pt x="705" y="1702"/>
                      <a:pt x="766" y="1716"/>
                    </a:cubicBezTo>
                    <a:cubicBezTo>
                      <a:pt x="716" y="1733"/>
                      <a:pt x="665" y="1739"/>
                      <a:pt x="614" y="1752"/>
                    </a:cubicBezTo>
                    <a:cubicBezTo>
                      <a:pt x="602" y="1760"/>
                      <a:pt x="587" y="1764"/>
                      <a:pt x="578" y="1775"/>
                    </a:cubicBezTo>
                    <a:cubicBezTo>
                      <a:pt x="559" y="1796"/>
                      <a:pt x="531" y="1846"/>
                      <a:pt x="531" y="1846"/>
                    </a:cubicBezTo>
                    <a:cubicBezTo>
                      <a:pt x="523" y="1869"/>
                      <a:pt x="518" y="1894"/>
                      <a:pt x="508" y="1916"/>
                    </a:cubicBezTo>
                    <a:cubicBezTo>
                      <a:pt x="496" y="1943"/>
                      <a:pt x="459" y="1975"/>
                      <a:pt x="508" y="1928"/>
                    </a:cubicBezTo>
                    <a:lnTo>
                      <a:pt x="550" y="187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 flipH="1">
              <a:off x="2066040" y="4466160"/>
              <a:ext cx="1015560" cy="102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066040" y="5489280"/>
              <a:ext cx="117396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300000">
              <a:off x="3855240" y="6135120"/>
              <a:ext cx="31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300000">
              <a:off x="3131640" y="6035760"/>
              <a:ext cx="31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300000">
              <a:off x="3713400" y="3418200"/>
              <a:ext cx="31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300000">
              <a:off x="2685240" y="4141440"/>
              <a:ext cx="32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116000" y="-2700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隶书"/>
              </a:rPr>
              <a:t>应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403280" y="907560"/>
            <a:ext cx="7740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=BC,AB⊥BC,AD ⊥D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E ⊥D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DB=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603240" y="2971800"/>
            <a:ext cx="4093560" cy="3125160"/>
            <a:chOff x="3603240" y="2971800"/>
            <a:chExt cx="4093560" cy="3125160"/>
          </a:xfrm>
        </p:grpSpPr>
        <p:sp>
          <p:nvSpPr>
            <p:cNvPr id="512" name=""/>
            <p:cNvSpPr/>
            <p:nvPr/>
          </p:nvSpPr>
          <p:spPr>
            <a:xfrm>
              <a:off x="3800520" y="3295800"/>
              <a:ext cx="1440" cy="24508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00520" y="5746680"/>
              <a:ext cx="1281240" cy="1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00520" y="3295800"/>
              <a:ext cx="1281240" cy="24508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65040" y="5494320"/>
              <a:ext cx="4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81760" y="5746680"/>
              <a:ext cx="2450880" cy="1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32640" y="4467240"/>
              <a:ext cx="1800" cy="1279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081760" y="4467240"/>
              <a:ext cx="2450880" cy="1279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13400" y="5494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97720" y="4430880"/>
              <a:ext cx="88920" cy="903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96640" y="4106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65600" y="3259080"/>
              <a:ext cx="90360" cy="907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03240" y="2971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765600" y="5711760"/>
              <a:ext cx="90360" cy="88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91440" y="5837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45040" y="5711760"/>
              <a:ext cx="90360" cy="88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27400" y="58374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97720" y="5711760"/>
              <a:ext cx="88920" cy="88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51360" y="57834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456000" y="4479840"/>
            <a:ext cx="5688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谢谢合作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再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18440" y="329076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47040" y="5195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5760" y="141300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什么是全等三角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09600" y="2205000"/>
            <a:ext cx="8209080" cy="79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判定两个三角形全等要具备什么条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2757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09600" y="306864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边边边</a:t>
            </a: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应相等的两个三角形全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77080" y="3973680"/>
            <a:ext cx="5158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边角边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有两边和它们夹角对应相等的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个三角形全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-2700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隶书"/>
              </a:rPr>
              <a:t>回顾与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58920" y="69228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已知△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是任意一个三角形，画△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DE =AB , ∠D = ∠A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 ∠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E = ∠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87160" y="2513160"/>
            <a:ext cx="1523880" cy="1523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87520" y="4037040"/>
            <a:ext cx="228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11400" y="2513160"/>
            <a:ext cx="762120" cy="1523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06640" y="2131920"/>
            <a:ext cx="3124080" cy="2212560"/>
            <a:chOff x="1106640" y="2131920"/>
            <a:chExt cx="3124080" cy="2212560"/>
          </a:xfrm>
        </p:grpSpPr>
        <p:sp>
          <p:nvSpPr>
            <p:cNvPr id="70" name=""/>
            <p:cNvSpPr/>
            <p:nvPr/>
          </p:nvSpPr>
          <p:spPr>
            <a:xfrm>
              <a:off x="1106640" y="3884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83160" y="2131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73520" y="3884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87520" y="4037040"/>
            <a:ext cx="228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63840" y="4037040"/>
            <a:ext cx="228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11400" y="4037040"/>
            <a:ext cx="228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78440" y="4037040"/>
            <a:ext cx="228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02320" y="4037040"/>
            <a:ext cx="228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93040" y="4037040"/>
            <a:ext cx="228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87160" y="2513160"/>
            <a:ext cx="2286360" cy="1523880"/>
            <a:chOff x="1487160" y="2513160"/>
            <a:chExt cx="2286360" cy="1523880"/>
          </a:xfrm>
        </p:grpSpPr>
        <p:sp>
          <p:nvSpPr>
            <p:cNvPr id="80" name=""/>
            <p:cNvSpPr/>
            <p:nvPr/>
          </p:nvSpPr>
          <p:spPr>
            <a:xfrm>
              <a:off x="148752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487160" y="2513160"/>
              <a:ext cx="1523880" cy="1523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487520" y="1979280"/>
            <a:ext cx="2286000" cy="2057760"/>
            <a:chOff x="1487520" y="1979280"/>
            <a:chExt cx="2286000" cy="2057760"/>
          </a:xfrm>
        </p:grpSpPr>
        <p:sp>
          <p:nvSpPr>
            <p:cNvPr id="83" name=""/>
            <p:cNvSpPr/>
            <p:nvPr/>
          </p:nvSpPr>
          <p:spPr>
            <a:xfrm>
              <a:off x="148752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48752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49640" y="1979280"/>
            <a:ext cx="2286000" cy="2057760"/>
            <a:chOff x="2249640" y="1979280"/>
            <a:chExt cx="2286000" cy="2057760"/>
          </a:xfrm>
        </p:grpSpPr>
        <p:sp>
          <p:nvSpPr>
            <p:cNvPr id="86" name=""/>
            <p:cNvSpPr/>
            <p:nvPr/>
          </p:nvSpPr>
          <p:spPr>
            <a:xfrm>
              <a:off x="224964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24964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554200" y="1979280"/>
            <a:ext cx="2286000" cy="2057760"/>
            <a:chOff x="2554200" y="1979280"/>
            <a:chExt cx="2286000" cy="2057760"/>
          </a:xfrm>
        </p:grpSpPr>
        <p:sp>
          <p:nvSpPr>
            <p:cNvPr id="89" name=""/>
            <p:cNvSpPr/>
            <p:nvPr/>
          </p:nvSpPr>
          <p:spPr>
            <a:xfrm>
              <a:off x="25542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55420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782800" y="1979280"/>
            <a:ext cx="2286000" cy="2057760"/>
            <a:chOff x="2782800" y="1979280"/>
            <a:chExt cx="2286000" cy="2057760"/>
          </a:xfrm>
        </p:grpSpPr>
        <p:sp>
          <p:nvSpPr>
            <p:cNvPr id="92" name=""/>
            <p:cNvSpPr/>
            <p:nvPr/>
          </p:nvSpPr>
          <p:spPr>
            <a:xfrm>
              <a:off x="27828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78280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87720" y="1979280"/>
            <a:ext cx="2286000" cy="2057760"/>
            <a:chOff x="3087720" y="1979280"/>
            <a:chExt cx="2286000" cy="2057760"/>
          </a:xfrm>
        </p:grpSpPr>
        <p:sp>
          <p:nvSpPr>
            <p:cNvPr id="95" name=""/>
            <p:cNvSpPr/>
            <p:nvPr/>
          </p:nvSpPr>
          <p:spPr>
            <a:xfrm>
              <a:off x="308772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08772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392640" y="1979280"/>
            <a:ext cx="2286000" cy="2057760"/>
            <a:chOff x="3392640" y="1979280"/>
            <a:chExt cx="2286000" cy="2057760"/>
          </a:xfrm>
        </p:grpSpPr>
        <p:sp>
          <p:nvSpPr>
            <p:cNvPr id="98" name=""/>
            <p:cNvSpPr/>
            <p:nvPr/>
          </p:nvSpPr>
          <p:spPr>
            <a:xfrm>
              <a:off x="339264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39264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516720" y="1979280"/>
            <a:ext cx="2286000" cy="2057760"/>
            <a:chOff x="6516720" y="1979280"/>
            <a:chExt cx="2286000" cy="2057760"/>
          </a:xfrm>
        </p:grpSpPr>
        <p:sp>
          <p:nvSpPr>
            <p:cNvPr id="101" name=""/>
            <p:cNvSpPr/>
            <p:nvPr/>
          </p:nvSpPr>
          <p:spPr>
            <a:xfrm>
              <a:off x="651672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51672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487520" y="2513160"/>
            <a:ext cx="2286000" cy="1523880"/>
            <a:chOff x="1487520" y="2513160"/>
            <a:chExt cx="2286000" cy="1523880"/>
          </a:xfrm>
        </p:grpSpPr>
        <p:sp>
          <p:nvSpPr>
            <p:cNvPr id="104" name=""/>
            <p:cNvSpPr/>
            <p:nvPr/>
          </p:nvSpPr>
          <p:spPr>
            <a:xfrm>
              <a:off x="3011400" y="2513160"/>
              <a:ext cx="762120" cy="1523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8752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487520" y="1979280"/>
            <a:ext cx="2286000" cy="2057760"/>
            <a:chOff x="1487520" y="1979280"/>
            <a:chExt cx="2286000" cy="2057760"/>
          </a:xfrm>
        </p:grpSpPr>
        <p:sp>
          <p:nvSpPr>
            <p:cNvPr id="107" name=""/>
            <p:cNvSpPr/>
            <p:nvPr/>
          </p:nvSpPr>
          <p:spPr>
            <a:xfrm>
              <a:off x="148752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278280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68400" y="1979280"/>
            <a:ext cx="2286000" cy="2057760"/>
            <a:chOff x="1868400" y="1979280"/>
            <a:chExt cx="2286000" cy="2057760"/>
          </a:xfrm>
        </p:grpSpPr>
        <p:sp>
          <p:nvSpPr>
            <p:cNvPr id="110" name=""/>
            <p:cNvSpPr/>
            <p:nvPr/>
          </p:nvSpPr>
          <p:spPr>
            <a:xfrm>
              <a:off x="18684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316368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325600" y="1979280"/>
            <a:ext cx="2286000" cy="2057760"/>
            <a:chOff x="2325600" y="1979280"/>
            <a:chExt cx="2286000" cy="2057760"/>
          </a:xfrm>
        </p:grpSpPr>
        <p:sp>
          <p:nvSpPr>
            <p:cNvPr id="113" name=""/>
            <p:cNvSpPr/>
            <p:nvPr/>
          </p:nvSpPr>
          <p:spPr>
            <a:xfrm>
              <a:off x="23256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362088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782800" y="1979280"/>
            <a:ext cx="2286000" cy="2057760"/>
            <a:chOff x="2782800" y="1979280"/>
            <a:chExt cx="2286000" cy="2057760"/>
          </a:xfrm>
        </p:grpSpPr>
        <p:sp>
          <p:nvSpPr>
            <p:cNvPr id="116" name=""/>
            <p:cNvSpPr/>
            <p:nvPr/>
          </p:nvSpPr>
          <p:spPr>
            <a:xfrm>
              <a:off x="27828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07808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93040" y="1979280"/>
            <a:ext cx="2286000" cy="2057760"/>
            <a:chOff x="6593040" y="1979280"/>
            <a:chExt cx="2286000" cy="2057760"/>
          </a:xfrm>
        </p:grpSpPr>
        <p:sp>
          <p:nvSpPr>
            <p:cNvPr id="119" name=""/>
            <p:cNvSpPr/>
            <p:nvPr/>
          </p:nvSpPr>
          <p:spPr>
            <a:xfrm>
              <a:off x="659304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88832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88120" y="1674720"/>
            <a:ext cx="3505320" cy="2822040"/>
            <a:chOff x="6288120" y="1674720"/>
            <a:chExt cx="3505320" cy="2822040"/>
          </a:xfrm>
        </p:grpSpPr>
        <p:sp>
          <p:nvSpPr>
            <p:cNvPr id="122" name=""/>
            <p:cNvSpPr/>
            <p:nvPr/>
          </p:nvSpPr>
          <p:spPr>
            <a:xfrm>
              <a:off x="8574120" y="16747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88120" y="40370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0440" y="4037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888320" y="159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516360" y="2436840"/>
            <a:ext cx="2361960" cy="1599840"/>
            <a:chOff x="6516360" y="2436840"/>
            <a:chExt cx="2361960" cy="1599840"/>
          </a:xfrm>
        </p:grpSpPr>
        <p:grpSp>
          <p:nvGrpSpPr>
            <p:cNvPr id="127" name=""/>
            <p:cNvGrpSpPr/>
            <p:nvPr/>
          </p:nvGrpSpPr>
          <p:grpSpPr>
            <a:xfrm>
              <a:off x="6516360" y="2436840"/>
              <a:ext cx="2361960" cy="1599480"/>
              <a:chOff x="6516360" y="2436840"/>
              <a:chExt cx="2361960" cy="159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651672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651636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flipH="1" flipV="1">
              <a:off x="809100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287760" y="2436840"/>
            <a:ext cx="2361960" cy="1599840"/>
            <a:chOff x="6287760" y="2436840"/>
            <a:chExt cx="2361960" cy="1599840"/>
          </a:xfrm>
        </p:grpSpPr>
        <p:grpSp>
          <p:nvGrpSpPr>
            <p:cNvPr id="132" name=""/>
            <p:cNvGrpSpPr/>
            <p:nvPr/>
          </p:nvGrpSpPr>
          <p:grpSpPr>
            <a:xfrm>
              <a:off x="6287760" y="2436840"/>
              <a:ext cx="2361960" cy="1599480"/>
              <a:chOff x="6287760" y="2436840"/>
              <a:chExt cx="2361960" cy="1599480"/>
            </a:xfrm>
          </p:grpSpPr>
          <p:sp>
            <p:nvSpPr>
              <p:cNvPr id="133" name=""/>
              <p:cNvSpPr/>
              <p:nvPr/>
            </p:nvSpPr>
            <p:spPr>
              <a:xfrm>
                <a:off x="628812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628776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 flipV="1">
              <a:off x="786240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715760" y="2436840"/>
            <a:ext cx="2361960" cy="1599840"/>
            <a:chOff x="1715760" y="2436840"/>
            <a:chExt cx="2361960" cy="1599840"/>
          </a:xfrm>
        </p:grpSpPr>
        <p:grpSp>
          <p:nvGrpSpPr>
            <p:cNvPr id="137" name=""/>
            <p:cNvGrpSpPr/>
            <p:nvPr/>
          </p:nvGrpSpPr>
          <p:grpSpPr>
            <a:xfrm>
              <a:off x="1715760" y="2436840"/>
              <a:ext cx="2361960" cy="1599480"/>
              <a:chOff x="1715760" y="2436840"/>
              <a:chExt cx="2361960" cy="159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171612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71576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flipV="1">
              <a:off x="329040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487160" y="2512800"/>
            <a:ext cx="2286360" cy="1524240"/>
            <a:chOff x="1487160" y="2512800"/>
            <a:chExt cx="2286360" cy="1524240"/>
          </a:xfrm>
        </p:grpSpPr>
        <p:grpSp>
          <p:nvGrpSpPr>
            <p:cNvPr id="142" name=""/>
            <p:cNvGrpSpPr/>
            <p:nvPr/>
          </p:nvGrpSpPr>
          <p:grpSpPr>
            <a:xfrm>
              <a:off x="1487160" y="2513160"/>
              <a:ext cx="2286360" cy="1523880"/>
              <a:chOff x="1487160" y="2513160"/>
              <a:chExt cx="2286360" cy="1523880"/>
            </a:xfrm>
          </p:grpSpPr>
          <p:sp>
            <p:nvSpPr>
              <p:cNvPr id="143" name=""/>
              <p:cNvSpPr/>
              <p:nvPr/>
            </p:nvSpPr>
            <p:spPr>
              <a:xfrm>
                <a:off x="1487520" y="4037040"/>
                <a:ext cx="22860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1487160" y="2513160"/>
                <a:ext cx="1523880" cy="15238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H="1" flipV="1">
              <a:off x="3011040" y="2512800"/>
              <a:ext cx="762120" cy="1523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332000" y="4221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画法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 1.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画线段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= A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70120" y="4745160"/>
            <a:ext cx="81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同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别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顶点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E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,∠N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交于点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,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△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79640" y="630864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由画图过程 你能否总结出判定三角形全等的方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97200" y="1979280"/>
            <a:ext cx="2286000" cy="2057760"/>
            <a:chOff x="3697200" y="1979280"/>
            <a:chExt cx="2286000" cy="2057760"/>
          </a:xfrm>
        </p:grpSpPr>
        <p:sp>
          <p:nvSpPr>
            <p:cNvPr id="150" name=""/>
            <p:cNvSpPr/>
            <p:nvPr/>
          </p:nvSpPr>
          <p:spPr>
            <a:xfrm>
              <a:off x="36972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69720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002120" y="1979280"/>
            <a:ext cx="2286000" cy="2057760"/>
            <a:chOff x="4002120" y="1979280"/>
            <a:chExt cx="2286000" cy="2057760"/>
          </a:xfrm>
        </p:grpSpPr>
        <p:sp>
          <p:nvSpPr>
            <p:cNvPr id="153" name=""/>
            <p:cNvSpPr/>
            <p:nvPr/>
          </p:nvSpPr>
          <p:spPr>
            <a:xfrm>
              <a:off x="400212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00212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30720" y="1979280"/>
            <a:ext cx="2286000" cy="2057760"/>
            <a:chOff x="4230720" y="1979280"/>
            <a:chExt cx="2286000" cy="2057760"/>
          </a:xfrm>
        </p:grpSpPr>
        <p:sp>
          <p:nvSpPr>
            <p:cNvPr id="156" name=""/>
            <p:cNvSpPr/>
            <p:nvPr/>
          </p:nvSpPr>
          <p:spPr>
            <a:xfrm>
              <a:off x="423072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3072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535640" y="1979280"/>
            <a:ext cx="2286000" cy="2057760"/>
            <a:chOff x="4535640" y="1979280"/>
            <a:chExt cx="2286000" cy="2057760"/>
          </a:xfrm>
        </p:grpSpPr>
        <p:sp>
          <p:nvSpPr>
            <p:cNvPr id="159" name=""/>
            <p:cNvSpPr/>
            <p:nvPr/>
          </p:nvSpPr>
          <p:spPr>
            <a:xfrm>
              <a:off x="453564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53564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40200" y="1979280"/>
            <a:ext cx="2286000" cy="2057760"/>
            <a:chOff x="4840200" y="1979280"/>
            <a:chExt cx="2286000" cy="2057760"/>
          </a:xfrm>
        </p:grpSpPr>
        <p:sp>
          <p:nvSpPr>
            <p:cNvPr id="162" name=""/>
            <p:cNvSpPr/>
            <p:nvPr/>
          </p:nvSpPr>
          <p:spPr>
            <a:xfrm>
              <a:off x="48402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84020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145120" y="1979280"/>
            <a:ext cx="2286000" cy="2057760"/>
            <a:chOff x="5145120" y="1979280"/>
            <a:chExt cx="2286000" cy="2057760"/>
          </a:xfrm>
        </p:grpSpPr>
        <p:sp>
          <p:nvSpPr>
            <p:cNvPr id="165" name=""/>
            <p:cNvSpPr/>
            <p:nvPr/>
          </p:nvSpPr>
          <p:spPr>
            <a:xfrm>
              <a:off x="514512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14512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450040" y="1979280"/>
            <a:ext cx="2286000" cy="2057760"/>
            <a:chOff x="5450040" y="1979280"/>
            <a:chExt cx="2286000" cy="2057760"/>
          </a:xfrm>
        </p:grpSpPr>
        <p:sp>
          <p:nvSpPr>
            <p:cNvPr id="168" name=""/>
            <p:cNvSpPr/>
            <p:nvPr/>
          </p:nvSpPr>
          <p:spPr>
            <a:xfrm>
              <a:off x="545004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45004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754600" y="1979280"/>
            <a:ext cx="2286000" cy="2057760"/>
            <a:chOff x="5754600" y="1979280"/>
            <a:chExt cx="2286000" cy="2057760"/>
          </a:xfrm>
        </p:grpSpPr>
        <p:sp>
          <p:nvSpPr>
            <p:cNvPr id="171" name=""/>
            <p:cNvSpPr/>
            <p:nvPr/>
          </p:nvSpPr>
          <p:spPr>
            <a:xfrm>
              <a:off x="57546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75460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83200" y="1979280"/>
            <a:ext cx="2286000" cy="2057760"/>
            <a:chOff x="5983200" y="1979280"/>
            <a:chExt cx="2286000" cy="2057760"/>
          </a:xfrm>
        </p:grpSpPr>
        <p:sp>
          <p:nvSpPr>
            <p:cNvPr id="174" name=""/>
            <p:cNvSpPr/>
            <p:nvPr/>
          </p:nvSpPr>
          <p:spPr>
            <a:xfrm>
              <a:off x="59832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98320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211800" y="1979280"/>
            <a:ext cx="2286000" cy="2057760"/>
            <a:chOff x="6211800" y="1979280"/>
            <a:chExt cx="2286000" cy="2057760"/>
          </a:xfrm>
        </p:grpSpPr>
        <p:sp>
          <p:nvSpPr>
            <p:cNvPr id="177" name=""/>
            <p:cNvSpPr/>
            <p:nvPr/>
          </p:nvSpPr>
          <p:spPr>
            <a:xfrm>
              <a:off x="62118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211800" y="1979280"/>
              <a:ext cx="205740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240000" y="1979280"/>
            <a:ext cx="2286000" cy="2057760"/>
            <a:chOff x="3240000" y="1979280"/>
            <a:chExt cx="2286000" cy="2057760"/>
          </a:xfrm>
        </p:grpSpPr>
        <p:sp>
          <p:nvSpPr>
            <p:cNvPr id="180" name=""/>
            <p:cNvSpPr/>
            <p:nvPr/>
          </p:nvSpPr>
          <p:spPr>
            <a:xfrm>
              <a:off x="32400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453528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697200" y="1979280"/>
            <a:ext cx="2286000" cy="2057760"/>
            <a:chOff x="3697200" y="1979280"/>
            <a:chExt cx="2286000" cy="2057760"/>
          </a:xfrm>
        </p:grpSpPr>
        <p:sp>
          <p:nvSpPr>
            <p:cNvPr id="183" name=""/>
            <p:cNvSpPr/>
            <p:nvPr/>
          </p:nvSpPr>
          <p:spPr>
            <a:xfrm>
              <a:off x="369720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99248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078440" y="1979280"/>
            <a:ext cx="2286000" cy="2057760"/>
            <a:chOff x="4078440" y="1979280"/>
            <a:chExt cx="2286000" cy="2057760"/>
          </a:xfrm>
        </p:grpSpPr>
        <p:sp>
          <p:nvSpPr>
            <p:cNvPr id="186" name=""/>
            <p:cNvSpPr/>
            <p:nvPr/>
          </p:nvSpPr>
          <p:spPr>
            <a:xfrm>
              <a:off x="407844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537372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535640" y="1979280"/>
            <a:ext cx="2286000" cy="2057760"/>
            <a:chOff x="4535640" y="1979280"/>
            <a:chExt cx="2286000" cy="2057760"/>
          </a:xfrm>
        </p:grpSpPr>
        <p:sp>
          <p:nvSpPr>
            <p:cNvPr id="189" name=""/>
            <p:cNvSpPr/>
            <p:nvPr/>
          </p:nvSpPr>
          <p:spPr>
            <a:xfrm>
              <a:off x="453564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83092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992840" y="1979280"/>
            <a:ext cx="2286000" cy="2057760"/>
            <a:chOff x="4992840" y="1979280"/>
            <a:chExt cx="2286000" cy="2057760"/>
          </a:xfrm>
        </p:grpSpPr>
        <p:sp>
          <p:nvSpPr>
            <p:cNvPr id="192" name=""/>
            <p:cNvSpPr/>
            <p:nvPr/>
          </p:nvSpPr>
          <p:spPr>
            <a:xfrm>
              <a:off x="499284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628812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450040" y="1979280"/>
            <a:ext cx="2286000" cy="2057760"/>
            <a:chOff x="5450040" y="1979280"/>
            <a:chExt cx="2286000" cy="2057760"/>
          </a:xfrm>
        </p:grpSpPr>
        <p:sp>
          <p:nvSpPr>
            <p:cNvPr id="195" name=""/>
            <p:cNvSpPr/>
            <p:nvPr/>
          </p:nvSpPr>
          <p:spPr>
            <a:xfrm>
              <a:off x="545004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674532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830920" y="1979280"/>
            <a:ext cx="2286000" cy="2057760"/>
            <a:chOff x="5830920" y="1979280"/>
            <a:chExt cx="2286000" cy="2057760"/>
          </a:xfrm>
        </p:grpSpPr>
        <p:sp>
          <p:nvSpPr>
            <p:cNvPr id="198" name=""/>
            <p:cNvSpPr/>
            <p:nvPr/>
          </p:nvSpPr>
          <p:spPr>
            <a:xfrm>
              <a:off x="583092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12620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35840" y="1979280"/>
            <a:ext cx="2286000" cy="2057760"/>
            <a:chOff x="6135840" y="1979280"/>
            <a:chExt cx="2286000" cy="2057760"/>
          </a:xfrm>
        </p:grpSpPr>
        <p:sp>
          <p:nvSpPr>
            <p:cNvPr id="201" name=""/>
            <p:cNvSpPr/>
            <p:nvPr/>
          </p:nvSpPr>
          <p:spPr>
            <a:xfrm>
              <a:off x="613584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743112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364440" y="1979280"/>
            <a:ext cx="2286000" cy="2057760"/>
            <a:chOff x="6364440" y="1979280"/>
            <a:chExt cx="2286000" cy="2057760"/>
          </a:xfrm>
        </p:grpSpPr>
        <p:sp>
          <p:nvSpPr>
            <p:cNvPr id="204" name=""/>
            <p:cNvSpPr/>
            <p:nvPr/>
          </p:nvSpPr>
          <p:spPr>
            <a:xfrm>
              <a:off x="6364440" y="4037040"/>
              <a:ext cx="2286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7659720" y="1979280"/>
              <a:ext cx="990720" cy="2057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73360" y="2436840"/>
            <a:ext cx="2361960" cy="1599840"/>
            <a:chOff x="5373360" y="2436840"/>
            <a:chExt cx="2361960" cy="1599840"/>
          </a:xfrm>
        </p:grpSpPr>
        <p:grpSp>
          <p:nvGrpSpPr>
            <p:cNvPr id="207" name=""/>
            <p:cNvGrpSpPr/>
            <p:nvPr/>
          </p:nvGrpSpPr>
          <p:grpSpPr>
            <a:xfrm>
              <a:off x="5373360" y="2436840"/>
              <a:ext cx="2361960" cy="1599480"/>
              <a:chOff x="5373360" y="2436840"/>
              <a:chExt cx="2361960" cy="1599480"/>
            </a:xfrm>
          </p:grpSpPr>
          <p:sp>
            <p:nvSpPr>
              <p:cNvPr id="208" name=""/>
              <p:cNvSpPr/>
              <p:nvPr/>
            </p:nvSpPr>
            <p:spPr>
              <a:xfrm>
                <a:off x="537372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537336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H="1" flipV="1">
              <a:off x="694800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916160" y="2436840"/>
            <a:ext cx="2361960" cy="1599840"/>
            <a:chOff x="4916160" y="2436840"/>
            <a:chExt cx="2361960" cy="1599840"/>
          </a:xfrm>
        </p:grpSpPr>
        <p:grpSp>
          <p:nvGrpSpPr>
            <p:cNvPr id="212" name=""/>
            <p:cNvGrpSpPr/>
            <p:nvPr/>
          </p:nvGrpSpPr>
          <p:grpSpPr>
            <a:xfrm>
              <a:off x="4916160" y="2436840"/>
              <a:ext cx="2361960" cy="1599480"/>
              <a:chOff x="4916160" y="2436840"/>
              <a:chExt cx="2361960" cy="1599480"/>
            </a:xfrm>
          </p:grpSpPr>
          <p:sp>
            <p:nvSpPr>
              <p:cNvPr id="213" name=""/>
              <p:cNvSpPr/>
              <p:nvPr/>
            </p:nvSpPr>
            <p:spPr>
              <a:xfrm>
                <a:off x="491652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491616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H="1" flipV="1">
              <a:off x="649080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382640" y="2436840"/>
            <a:ext cx="2361960" cy="1599840"/>
            <a:chOff x="4382640" y="2436840"/>
            <a:chExt cx="2361960" cy="1599840"/>
          </a:xfrm>
        </p:grpSpPr>
        <p:grpSp>
          <p:nvGrpSpPr>
            <p:cNvPr id="217" name=""/>
            <p:cNvGrpSpPr/>
            <p:nvPr/>
          </p:nvGrpSpPr>
          <p:grpSpPr>
            <a:xfrm>
              <a:off x="4382640" y="2436840"/>
              <a:ext cx="2361960" cy="1599480"/>
              <a:chOff x="4382640" y="2436840"/>
              <a:chExt cx="2361960" cy="1599480"/>
            </a:xfrm>
          </p:grpSpPr>
          <p:sp>
            <p:nvSpPr>
              <p:cNvPr id="218" name=""/>
              <p:cNvSpPr/>
              <p:nvPr/>
            </p:nvSpPr>
            <p:spPr>
              <a:xfrm>
                <a:off x="438300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38264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H="1" flipV="1">
              <a:off x="595728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925440" y="2436840"/>
            <a:ext cx="2361960" cy="1599840"/>
            <a:chOff x="3925440" y="2436840"/>
            <a:chExt cx="2361960" cy="1599840"/>
          </a:xfrm>
        </p:grpSpPr>
        <p:grpSp>
          <p:nvGrpSpPr>
            <p:cNvPr id="222" name=""/>
            <p:cNvGrpSpPr/>
            <p:nvPr/>
          </p:nvGrpSpPr>
          <p:grpSpPr>
            <a:xfrm>
              <a:off x="3925440" y="2436840"/>
              <a:ext cx="2361960" cy="1599480"/>
              <a:chOff x="3925440" y="2436840"/>
              <a:chExt cx="2361960" cy="1599480"/>
            </a:xfrm>
          </p:grpSpPr>
          <p:sp>
            <p:nvSpPr>
              <p:cNvPr id="223" name=""/>
              <p:cNvSpPr/>
              <p:nvPr/>
            </p:nvSpPr>
            <p:spPr>
              <a:xfrm>
                <a:off x="392580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392544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 flipH="1" flipV="1">
              <a:off x="550008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468240" y="2436840"/>
            <a:ext cx="2361960" cy="1599840"/>
            <a:chOff x="3468240" y="2436840"/>
            <a:chExt cx="2361960" cy="1599840"/>
          </a:xfrm>
        </p:grpSpPr>
        <p:grpSp>
          <p:nvGrpSpPr>
            <p:cNvPr id="227" name=""/>
            <p:cNvGrpSpPr/>
            <p:nvPr/>
          </p:nvGrpSpPr>
          <p:grpSpPr>
            <a:xfrm>
              <a:off x="3468240" y="2436840"/>
              <a:ext cx="2361960" cy="1599480"/>
              <a:chOff x="3468240" y="2436840"/>
              <a:chExt cx="2361960" cy="1599480"/>
            </a:xfrm>
          </p:grpSpPr>
          <p:sp>
            <p:nvSpPr>
              <p:cNvPr id="228" name=""/>
              <p:cNvSpPr/>
              <p:nvPr/>
            </p:nvSpPr>
            <p:spPr>
              <a:xfrm>
                <a:off x="346860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46824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H="1" flipV="1">
              <a:off x="504288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011040" y="2436840"/>
            <a:ext cx="2361960" cy="1599840"/>
            <a:chOff x="3011040" y="2436840"/>
            <a:chExt cx="2361960" cy="1599840"/>
          </a:xfrm>
        </p:grpSpPr>
        <p:grpSp>
          <p:nvGrpSpPr>
            <p:cNvPr id="232" name=""/>
            <p:cNvGrpSpPr/>
            <p:nvPr/>
          </p:nvGrpSpPr>
          <p:grpSpPr>
            <a:xfrm>
              <a:off x="3011040" y="2436840"/>
              <a:ext cx="2361960" cy="1599480"/>
              <a:chOff x="3011040" y="2436840"/>
              <a:chExt cx="2361960" cy="1599480"/>
            </a:xfrm>
          </p:grpSpPr>
          <p:sp>
            <p:nvSpPr>
              <p:cNvPr id="233" name=""/>
              <p:cNvSpPr/>
              <p:nvPr/>
            </p:nvSpPr>
            <p:spPr>
              <a:xfrm>
                <a:off x="301140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301104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H="1" flipV="1">
              <a:off x="458568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53840" y="2436840"/>
            <a:ext cx="2361960" cy="1599840"/>
            <a:chOff x="2553840" y="2436840"/>
            <a:chExt cx="2361960" cy="1599840"/>
          </a:xfrm>
        </p:grpSpPr>
        <p:grpSp>
          <p:nvGrpSpPr>
            <p:cNvPr id="237" name=""/>
            <p:cNvGrpSpPr/>
            <p:nvPr/>
          </p:nvGrpSpPr>
          <p:grpSpPr>
            <a:xfrm>
              <a:off x="2553840" y="2436840"/>
              <a:ext cx="2361960" cy="1599480"/>
              <a:chOff x="2553840" y="2436840"/>
              <a:chExt cx="2361960" cy="1599480"/>
            </a:xfrm>
          </p:grpSpPr>
          <p:sp>
            <p:nvSpPr>
              <p:cNvPr id="238" name=""/>
              <p:cNvSpPr/>
              <p:nvPr/>
            </p:nvSpPr>
            <p:spPr>
              <a:xfrm>
                <a:off x="255420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55384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flipH="1" flipV="1">
              <a:off x="412848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096640" y="2436840"/>
            <a:ext cx="2361960" cy="1599840"/>
            <a:chOff x="2096640" y="2436840"/>
            <a:chExt cx="2361960" cy="1599840"/>
          </a:xfrm>
        </p:grpSpPr>
        <p:grpSp>
          <p:nvGrpSpPr>
            <p:cNvPr id="242" name=""/>
            <p:cNvGrpSpPr/>
            <p:nvPr/>
          </p:nvGrpSpPr>
          <p:grpSpPr>
            <a:xfrm>
              <a:off x="2096640" y="2436840"/>
              <a:ext cx="2361960" cy="1599480"/>
              <a:chOff x="2096640" y="2436840"/>
              <a:chExt cx="2361960" cy="159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209700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09664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flipH="1" flipV="1">
              <a:off x="367128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059160" y="2436840"/>
            <a:ext cx="2361960" cy="1599840"/>
            <a:chOff x="6059160" y="2436840"/>
            <a:chExt cx="2361960" cy="1599840"/>
          </a:xfrm>
        </p:grpSpPr>
        <p:grpSp>
          <p:nvGrpSpPr>
            <p:cNvPr id="247" name=""/>
            <p:cNvGrpSpPr/>
            <p:nvPr/>
          </p:nvGrpSpPr>
          <p:grpSpPr>
            <a:xfrm>
              <a:off x="6059160" y="2436840"/>
              <a:ext cx="2361960" cy="1599480"/>
              <a:chOff x="6059160" y="2436840"/>
              <a:chExt cx="2361960" cy="1599480"/>
            </a:xfrm>
          </p:grpSpPr>
          <p:sp>
            <p:nvSpPr>
              <p:cNvPr id="248" name=""/>
              <p:cNvSpPr/>
              <p:nvPr/>
            </p:nvSpPr>
            <p:spPr>
              <a:xfrm>
                <a:off x="605952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05916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H="1" flipV="1">
              <a:off x="763380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754240" y="2436840"/>
            <a:ext cx="2361960" cy="1599840"/>
            <a:chOff x="5754240" y="2436840"/>
            <a:chExt cx="2361960" cy="1599840"/>
          </a:xfrm>
        </p:grpSpPr>
        <p:grpSp>
          <p:nvGrpSpPr>
            <p:cNvPr id="252" name=""/>
            <p:cNvGrpSpPr/>
            <p:nvPr/>
          </p:nvGrpSpPr>
          <p:grpSpPr>
            <a:xfrm>
              <a:off x="5754240" y="2436840"/>
              <a:ext cx="2361960" cy="1599480"/>
              <a:chOff x="5754240" y="2436840"/>
              <a:chExt cx="2361960" cy="1599480"/>
            </a:xfrm>
          </p:grpSpPr>
          <p:sp>
            <p:nvSpPr>
              <p:cNvPr id="253" name=""/>
              <p:cNvSpPr/>
              <p:nvPr/>
            </p:nvSpPr>
            <p:spPr>
              <a:xfrm>
                <a:off x="575460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75424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 flipV="1">
              <a:off x="732888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73360" y="2436840"/>
            <a:ext cx="2361960" cy="1599840"/>
            <a:chOff x="5373360" y="2436840"/>
            <a:chExt cx="2361960" cy="1599840"/>
          </a:xfrm>
        </p:grpSpPr>
        <p:grpSp>
          <p:nvGrpSpPr>
            <p:cNvPr id="257" name=""/>
            <p:cNvGrpSpPr/>
            <p:nvPr/>
          </p:nvGrpSpPr>
          <p:grpSpPr>
            <a:xfrm>
              <a:off x="5373360" y="2436840"/>
              <a:ext cx="2361960" cy="1599480"/>
              <a:chOff x="5373360" y="2436840"/>
              <a:chExt cx="2361960" cy="159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5373720" y="4036320"/>
                <a:ext cx="23616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373360" y="2436840"/>
                <a:ext cx="1574280" cy="15994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 flipH="1" flipV="1">
              <a:off x="6948000" y="2436840"/>
              <a:ext cx="787320" cy="1599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9031320" y="6932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461440" y="1287360"/>
            <a:ext cx="647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101080" y="200808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6000" y="-10008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隶书"/>
              </a:rPr>
              <a:t>探究与发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5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03280" y="907920"/>
            <a:ext cx="797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=DE, ∠A= ∠D, ∠B= ∠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124000" y="2060640"/>
            <a:ext cx="2484000" cy="1896480"/>
            <a:chOff x="2124000" y="2060640"/>
            <a:chExt cx="2484000" cy="1896480"/>
          </a:xfrm>
        </p:grpSpPr>
        <p:grpSp>
          <p:nvGrpSpPr>
            <p:cNvPr id="267" name=""/>
            <p:cNvGrpSpPr/>
            <p:nvPr/>
          </p:nvGrpSpPr>
          <p:grpSpPr>
            <a:xfrm>
              <a:off x="2266560" y="2420640"/>
              <a:ext cx="1944360" cy="1152360"/>
              <a:chOff x="2266560" y="2420640"/>
              <a:chExt cx="1944360" cy="1152360"/>
            </a:xfrm>
          </p:grpSpPr>
          <p:sp>
            <p:nvSpPr>
              <p:cNvPr id="268" name=""/>
              <p:cNvSpPr/>
              <p:nvPr/>
            </p:nvSpPr>
            <p:spPr>
              <a:xfrm flipH="1">
                <a:off x="2266560" y="2420640"/>
                <a:ext cx="1512720" cy="1152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66560" y="3573000"/>
                <a:ext cx="1944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79280" y="2420640"/>
                <a:ext cx="431280" cy="1152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527280" y="2060640"/>
              <a:ext cx="504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24000" y="3500280"/>
              <a:ext cx="504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03280" y="3428640"/>
              <a:ext cx="504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366920" y="436572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角边角公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角和它们的夹边对应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的两个三角形全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(A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-17136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隶书"/>
              </a:rPr>
              <a:t>探究与发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435640" y="2060640"/>
            <a:ext cx="2484000" cy="1896480"/>
            <a:chOff x="5435640" y="2060640"/>
            <a:chExt cx="2484000" cy="1896480"/>
          </a:xfrm>
        </p:grpSpPr>
        <p:grpSp>
          <p:nvGrpSpPr>
            <p:cNvPr id="277" name=""/>
            <p:cNvGrpSpPr/>
            <p:nvPr/>
          </p:nvGrpSpPr>
          <p:grpSpPr>
            <a:xfrm>
              <a:off x="5578200" y="2420640"/>
              <a:ext cx="1944360" cy="1152360"/>
              <a:chOff x="5578200" y="2420640"/>
              <a:chExt cx="1944360" cy="115236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5578200" y="2420640"/>
                <a:ext cx="1512720" cy="1152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78200" y="3573000"/>
                <a:ext cx="1944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90920" y="2420640"/>
                <a:ext cx="431280" cy="1152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6838920" y="2060640"/>
              <a:ext cx="504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35640" y="3500280"/>
              <a:ext cx="504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14920" y="3428640"/>
              <a:ext cx="504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276720" y="3429000"/>
            <a:ext cx="142920" cy="289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59640" y="3429000"/>
            <a:ext cx="142920" cy="289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7280" y="3357720"/>
            <a:ext cx="73080" cy="215640"/>
          </a:xfrm>
          <a:custGeom>
            <a:avLst/>
            <a:gdLst/>
            <a:ahLst/>
            <a:rect l="l" t="t" r="r" b="b"/>
            <a:pathLst>
              <a:path w="46" h="136">
                <a:moveTo>
                  <a:pt x="0" y="0"/>
                </a:moveTo>
                <a:cubicBezTo>
                  <a:pt x="19" y="56"/>
                  <a:pt x="38" y="113"/>
                  <a:pt x="46" y="13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3284640"/>
            <a:ext cx="73080" cy="215640"/>
          </a:xfrm>
          <a:custGeom>
            <a:avLst/>
            <a:gdLst/>
            <a:ahLst/>
            <a:rect l="l" t="t" r="r" b="b"/>
            <a:pathLst>
              <a:path w="46" h="136">
                <a:moveTo>
                  <a:pt x="0" y="0"/>
                </a:moveTo>
                <a:cubicBezTo>
                  <a:pt x="19" y="56"/>
                  <a:pt x="38" y="113"/>
                  <a:pt x="46" y="13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00600" y="3284640"/>
            <a:ext cx="166680" cy="288720"/>
          </a:xfrm>
          <a:custGeom>
            <a:avLst/>
            <a:gdLst/>
            <a:ahLst/>
            <a:rect l="l" t="t" r="r" b="b"/>
            <a:pathLst>
              <a:path w="105" h="182">
                <a:moveTo>
                  <a:pt x="105" y="0"/>
                </a:moveTo>
                <a:cubicBezTo>
                  <a:pt x="67" y="30"/>
                  <a:pt x="30" y="61"/>
                  <a:pt x="15" y="91"/>
                </a:cubicBezTo>
                <a:cubicBezTo>
                  <a:pt x="0" y="121"/>
                  <a:pt x="7" y="151"/>
                  <a:pt x="15" y="182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3284640"/>
            <a:ext cx="166680" cy="288720"/>
          </a:xfrm>
          <a:custGeom>
            <a:avLst/>
            <a:gdLst/>
            <a:ahLst/>
            <a:rect l="l" t="t" r="r" b="b"/>
            <a:pathLst>
              <a:path w="105" h="182">
                <a:moveTo>
                  <a:pt x="105" y="0"/>
                </a:moveTo>
                <a:cubicBezTo>
                  <a:pt x="67" y="30"/>
                  <a:pt x="30" y="61"/>
                  <a:pt x="15" y="91"/>
                </a:cubicBezTo>
                <a:cubicBezTo>
                  <a:pt x="0" y="121"/>
                  <a:pt x="7" y="151"/>
                  <a:pt x="15" y="182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2627280" y="3860640"/>
            <a:ext cx="6408720" cy="2806200"/>
            <a:chOff x="2627280" y="3860640"/>
            <a:chExt cx="6408720" cy="2806200"/>
          </a:xfrm>
        </p:grpSpPr>
        <p:sp>
          <p:nvSpPr>
            <p:cNvPr id="291" name=""/>
            <p:cNvSpPr/>
            <p:nvPr/>
          </p:nvSpPr>
          <p:spPr>
            <a:xfrm>
              <a:off x="2627280" y="3860640"/>
              <a:ext cx="640872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　在△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和△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△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BC≌△DE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075120" y="4365720"/>
              <a:ext cx="3434760" cy="2237040"/>
              <a:chOff x="3075120" y="4365720"/>
              <a:chExt cx="3434760" cy="223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4500720" y="4653000"/>
                <a:ext cx="215640" cy="129708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33480 h 1297080"/>
                  <a:gd name="textAreaBottom" fmla="*/ 1263600 h 129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08080" y="4365720"/>
                <a:ext cx="1785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∠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A= ∠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921200" y="4941720"/>
                <a:ext cx="1543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B=D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70360" y="5516640"/>
                <a:ext cx="1739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∠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B= ∠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75120" y="6021360"/>
                <a:ext cx="41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∴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1258920" y="836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几何语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-5868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隶书"/>
              </a:rPr>
              <a:t>探究与发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124000" y="2060640"/>
            <a:ext cx="2484000" cy="1896480"/>
            <a:chOff x="2124000" y="2060640"/>
            <a:chExt cx="2484000" cy="1896480"/>
          </a:xfrm>
        </p:grpSpPr>
        <p:grpSp>
          <p:nvGrpSpPr>
            <p:cNvPr id="301" name=""/>
            <p:cNvGrpSpPr/>
            <p:nvPr/>
          </p:nvGrpSpPr>
          <p:grpSpPr>
            <a:xfrm>
              <a:off x="2266560" y="2420640"/>
              <a:ext cx="1944360" cy="1152360"/>
              <a:chOff x="2266560" y="2420640"/>
              <a:chExt cx="1944360" cy="1152360"/>
            </a:xfrm>
          </p:grpSpPr>
          <p:sp>
            <p:nvSpPr>
              <p:cNvPr id="302" name=""/>
              <p:cNvSpPr/>
              <p:nvPr/>
            </p:nvSpPr>
            <p:spPr>
              <a:xfrm flipH="1">
                <a:off x="2266560" y="2420640"/>
                <a:ext cx="1512720" cy="1152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66560" y="3573000"/>
                <a:ext cx="1944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79280" y="2420640"/>
                <a:ext cx="431280" cy="1152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3527280" y="2060640"/>
              <a:ext cx="504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24000" y="3500280"/>
              <a:ext cx="504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03280" y="3428640"/>
              <a:ext cx="504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219640" y="1989000"/>
            <a:ext cx="2663640" cy="1756440"/>
            <a:chOff x="5219640" y="1989000"/>
            <a:chExt cx="2663640" cy="1756440"/>
          </a:xfrm>
        </p:grpSpPr>
        <p:sp>
          <p:nvSpPr>
            <p:cNvPr id="309" name=""/>
            <p:cNvSpPr/>
            <p:nvPr/>
          </p:nvSpPr>
          <p:spPr>
            <a:xfrm>
              <a:off x="7378560" y="3285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19640" y="3285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04000" y="1989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578560" y="2349360"/>
              <a:ext cx="1944360" cy="1152360"/>
              <a:chOff x="5578560" y="2349360"/>
              <a:chExt cx="1944360" cy="1152360"/>
            </a:xfrm>
          </p:grpSpPr>
          <p:sp>
            <p:nvSpPr>
              <p:cNvPr id="313" name=""/>
              <p:cNvSpPr/>
              <p:nvPr/>
            </p:nvSpPr>
            <p:spPr>
              <a:xfrm flipH="1">
                <a:off x="5578560" y="2349360"/>
                <a:ext cx="1512720" cy="1152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78560" y="3501720"/>
                <a:ext cx="1944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091280" y="2349360"/>
                <a:ext cx="431280" cy="1152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332000" y="83664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例已知：如图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,F,C,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同一条直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FB=CE,AB∥ED,AC∥F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求证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B=DE,AC=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158160" y="1916280"/>
            <a:ext cx="2605680" cy="3173040"/>
            <a:chOff x="6158160" y="1916280"/>
            <a:chExt cx="2605680" cy="3173040"/>
          </a:xfrm>
        </p:grpSpPr>
        <p:sp>
          <p:nvSpPr>
            <p:cNvPr id="318" name=""/>
            <p:cNvSpPr/>
            <p:nvPr/>
          </p:nvSpPr>
          <p:spPr>
            <a:xfrm>
              <a:off x="6500520" y="2435400"/>
              <a:ext cx="1294920" cy="1066680"/>
            </a:xfrm>
            <a:prstGeom prst="triangle">
              <a:avLst>
                <a:gd name="adj" fmla="val 22167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338600" y="3501360"/>
              <a:ext cx="1218960" cy="1066680"/>
            </a:xfrm>
            <a:prstGeom prst="triangle">
              <a:avLst>
                <a:gd name="adj" fmla="val 81995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79200" y="4568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22000" y="2968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58160" y="3425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94840" y="1916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46960" y="29685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99400" y="34401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116000" y="2349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∵FB=CE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7240" y="234936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C=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08000" y="285264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=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58480" y="3357720"/>
            <a:ext cx="37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∥ED,AC∥FD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80280" y="378936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∴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∠E,∠ACB=∠D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79640" y="422100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66440" y="4437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35560" y="5033880"/>
            <a:ext cx="21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=EF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7760" y="4649760"/>
            <a:ext cx="23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∠E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09920" y="5465880"/>
            <a:ext cx="33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B=∠DFE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70400" y="5877000"/>
            <a:ext cx="41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∴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≌△DEF(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68480" y="6308640"/>
            <a:ext cx="28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DE,AC=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87280" y="-10008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隶书"/>
              </a:rPr>
              <a:t>理解与应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75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75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476360" y="189000"/>
            <a:ext cx="72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 ∠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,  ∠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AD =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40560" y="4287960"/>
            <a:ext cx="2690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37320" y="3063960"/>
            <a:ext cx="2152440" cy="1216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37320" y="4282920"/>
            <a:ext cx="2076480" cy="1203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30760" y="3084480"/>
            <a:ext cx="461880" cy="1203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7430760" y="4287960"/>
            <a:ext cx="385560" cy="1203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10520" y="4152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1884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44240" y="544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86680" y="4229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18240" y="4089240"/>
            <a:ext cx="87480" cy="198720"/>
          </a:xfrm>
          <a:custGeom>
            <a:avLst/>
            <a:gdLst/>
            <a:ahLst/>
            <a:rect l="l" t="t" r="r" b="b"/>
            <a:pathLst>
              <a:path w="63" h="129">
                <a:moveTo>
                  <a:pt x="0" y="0"/>
                </a:moveTo>
                <a:cubicBezTo>
                  <a:pt x="12" y="4"/>
                  <a:pt x="28" y="1"/>
                  <a:pt x="35" y="11"/>
                </a:cubicBezTo>
                <a:cubicBezTo>
                  <a:pt x="63" y="53"/>
                  <a:pt x="41" y="92"/>
                  <a:pt x="23" y="129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2038800">
            <a:off x="7510320" y="4280040"/>
            <a:ext cx="76320" cy="201600"/>
          </a:xfrm>
          <a:custGeom>
            <a:avLst/>
            <a:gdLst/>
            <a:ahLst/>
            <a:rect l="l" t="t" r="r" b="b"/>
            <a:pathLst>
              <a:path w="63" h="129">
                <a:moveTo>
                  <a:pt x="0" y="0"/>
                </a:moveTo>
                <a:cubicBezTo>
                  <a:pt x="12" y="4"/>
                  <a:pt x="28" y="1"/>
                  <a:pt x="35" y="11"/>
                </a:cubicBezTo>
                <a:cubicBezTo>
                  <a:pt x="63" y="53"/>
                  <a:pt x="41" y="92"/>
                  <a:pt x="23" y="129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90880" y="3948120"/>
            <a:ext cx="3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91600" y="4203720"/>
            <a:ext cx="3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89600" y="4100400"/>
            <a:ext cx="405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32480" y="39862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89600" y="4253040"/>
            <a:ext cx="405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66"/>
                </a:solidFill>
                <a:latin typeface="Times New Roman"/>
              </a:rPr>
              <a:t>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43320" y="394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43320" y="4178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847000" y="12175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7280" y="-1317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隶书"/>
              </a:rPr>
              <a:t>巩固与提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603800" y="2132640"/>
            <a:ext cx="43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证明：在△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D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和△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CE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5880" y="2852640"/>
            <a:ext cx="416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B=∠C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（已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AB=AC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（已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=∠A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公共角）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7280" y="3068640"/>
            <a:ext cx="289080" cy="1368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8"/>
                </a:lnTo>
                <a:cubicBezTo>
                  <a:pt x="10800" y="9448"/>
                  <a:pt x="5400" y="10348"/>
                  <a:pt x="0" y="10348"/>
                </a:cubicBezTo>
                <a:cubicBezTo>
                  <a:pt x="5400" y="10348"/>
                  <a:pt x="10800" y="11248"/>
                  <a:pt x="10800" y="1214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39080" y="4797000"/>
            <a:ext cx="56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ABD≌△ACE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ASA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-36360" y="691920"/>
            <a:ext cx="11017080" cy="3602880"/>
            <a:chOff x="-36360" y="691920"/>
            <a:chExt cx="11017080" cy="3602880"/>
          </a:xfrm>
        </p:grpSpPr>
        <p:sp>
          <p:nvSpPr>
            <p:cNvPr id="365" name=""/>
            <p:cNvSpPr/>
            <p:nvPr/>
          </p:nvSpPr>
          <p:spPr>
            <a:xfrm>
              <a:off x="-36360" y="691920"/>
              <a:ext cx="1101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已知：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B=AC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∠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=∠C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求证：△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BD≌△A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795640" y="1470600"/>
              <a:ext cx="3133080" cy="2358720"/>
              <a:chOff x="5795640" y="1470600"/>
              <a:chExt cx="3133080" cy="235872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5802480" y="1470600"/>
                <a:ext cx="3106800" cy="2358720"/>
                <a:chOff x="5802480" y="1470600"/>
                <a:chExt cx="3106800" cy="2358720"/>
              </a:xfrm>
            </p:grpSpPr>
            <p:sp>
              <p:nvSpPr>
                <p:cNvPr id="368" name=""/>
                <p:cNvSpPr/>
                <p:nvPr/>
              </p:nvSpPr>
              <p:spPr>
                <a:xfrm flipV="1">
                  <a:off x="5802480" y="1470960"/>
                  <a:ext cx="1655640" cy="227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58120" y="1470600"/>
                  <a:ext cx="1451160" cy="235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 flipV="1">
                <a:off x="5795640" y="2628720"/>
                <a:ext cx="2325600" cy="111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flipV="1">
                <a:off x="6647040" y="2613600"/>
                <a:ext cx="2281680" cy="120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7272360" y="908280"/>
              <a:ext cx="28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08360" y="364176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15120" y="22194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77080" y="37134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56360" y="220536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64680" y="26028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5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90792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B E C F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同一直线上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 ∥DE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C∥DF, BE=CF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 △ABC≌ △D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3733920" cy="2388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187280" y="44370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证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B ∥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16320" y="3635280"/>
            <a:ext cx="31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932360" y="4291560"/>
            <a:ext cx="3251160" cy="1556280"/>
            <a:chOff x="4932360" y="4291560"/>
            <a:chExt cx="3251160" cy="1556280"/>
          </a:xfrm>
        </p:grpSpPr>
        <p:sp>
          <p:nvSpPr>
            <p:cNvPr id="383" name=""/>
            <p:cNvSpPr/>
            <p:nvPr/>
          </p:nvSpPr>
          <p:spPr>
            <a:xfrm>
              <a:off x="4932360" y="4291560"/>
              <a:ext cx="3251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=∠DE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E=C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=∠ACB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48360" y="4581360"/>
              <a:ext cx="288720" cy="10353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27000 h 1035360"/>
                <a:gd name="textAreaBottom" fmla="*/ 1008360 h 10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994640" y="2349360"/>
            <a:ext cx="355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∵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BE=CF   EC=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∴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59280" y="6041880"/>
            <a:ext cx="45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≌ △ 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47640" y="50846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=∠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92360" y="55166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C∥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60930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F=∠A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10:17Z</dcterms:created>
  <dc:creator/>
  <dc:description/>
  <dc:language>en-US</dc:language>
  <cp:lastModifiedBy>郑绍泉</cp:lastModifiedBy>
  <dcterms:modified xsi:type="dcterms:W3CDTF">2012-05-09T08:06:46Z</dcterms:modified>
  <cp:revision>2</cp:revision>
  <dc:subject/>
  <dc:title>幻灯片 1</dc:title>
</cp:coreProperties>
</file>