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cashreg.wav" ContentType="audio/x-wav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AF5-79C7-489E-8D40-B6C3C689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236-BC94-447F-A914-9A257DB4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D71-2C92-4511-AADB-1361D1FF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07C-7500-45BF-AC09-D537EF94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26A-5AC8-4D41-8160-30572AC2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DE5-9484-4DF5-A943-EAA8AE2B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9377-97FA-40BC-ACA8-D0D85035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2EF-3963-4A10-87BB-E16E19AA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0C5-62C7-4F1C-B0C8-5786AF6D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9CF-3204-4A83-849D-F55FBF40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FE4-F343-4DB9-9118-0E74072D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420-BC6C-47CA-B7D8-A853F4F4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286C-ED1B-4AB5-9ADA-67AAFBB831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4560" y="1628640"/>
            <a:ext cx="7315200" cy="916920"/>
          </a:xfrm>
          <a:prstGeom prst="rect">
            <a:avLst/>
          </a:prstGeom>
          <a:solidFill>
            <a:srgbClr val="ff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cc33"/>
                </a:solidFill>
                <a:latin typeface="Times New Roman"/>
                <a:ea typeface="黑体"/>
              </a:rPr>
              <a:t>11.2 </a:t>
            </a:r>
            <a:r>
              <a:rPr b="1" lang="zh-CN" sz="5400" spc="-1" strike="noStrike">
                <a:solidFill>
                  <a:srgbClr val="33cc33"/>
                </a:solidFill>
                <a:latin typeface="Times New Roman"/>
                <a:ea typeface="黑体"/>
              </a:rPr>
              <a:t>三角形全等的条件</a:t>
            </a:r>
            <a:r>
              <a:rPr b="1" lang="zh-CN" sz="5400" spc="-1" strike="noStrike">
                <a:solidFill>
                  <a:srgbClr val="33cc33"/>
                </a:solidFill>
                <a:latin typeface="Times New Roman"/>
                <a:ea typeface="黑体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49400" y="3645000"/>
            <a:ext cx="2260440" cy="1942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50880" y="2708280"/>
            <a:ext cx="804240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42920" y="457200"/>
            <a:ext cx="7720200" cy="5996160"/>
          </a:xfrm>
          <a:prstGeom prst="rect">
            <a:avLst/>
          </a:prstGeom>
          <a:noFill/>
          <a:ln cap="rnd" w="73080">
            <a:solidFill>
              <a:srgbClr val="33cc33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692280"/>
            <a:ext cx="497520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按照三角形“边、角” 元素进行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76240" y="2276640"/>
            <a:ext cx="5622120" cy="1467720"/>
            <a:chOff x="876240" y="2276640"/>
            <a:chExt cx="5622120" cy="1467720"/>
          </a:xfrm>
        </p:grpSpPr>
        <p:sp>
          <p:nvSpPr>
            <p:cNvPr id="223" name=""/>
            <p:cNvSpPr/>
            <p:nvPr/>
          </p:nvSpPr>
          <p:spPr>
            <a:xfrm>
              <a:off x="876240" y="2762280"/>
              <a:ext cx="284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30"/>
                  </a:solidFill>
                  <a:latin typeface="黑体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000030"/>
                  </a:solidFill>
                  <a:latin typeface="黑体"/>
                  <a:ea typeface="黑体"/>
                </a:rPr>
                <a:t>两个条件</a:t>
              </a:r>
              <a:r>
                <a:rPr b="1" lang="en-US" sz="2400" spc="-1" strike="noStrike">
                  <a:solidFill>
                    <a:srgbClr val="00003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77520" y="3284640"/>
              <a:ext cx="22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30"/>
                  </a:solidFill>
                  <a:latin typeface="Arial"/>
                  <a:ea typeface="黑体"/>
                </a:rPr>
                <a:t>一角一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77520" y="2853000"/>
              <a:ext cx="109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30"/>
                  </a:solidFill>
                  <a:latin typeface="Arial"/>
                  <a:ea typeface="黑体"/>
                </a:rPr>
                <a:t>两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77520" y="2349720"/>
              <a:ext cx="7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30"/>
                  </a:solidFill>
                  <a:latin typeface="Arial"/>
                  <a:ea typeface="黑体"/>
                </a:rPr>
                <a:t>两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72120" y="2276640"/>
              <a:ext cx="682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30"/>
                  </a:solidFill>
                  <a:latin typeface="MS PMincho"/>
                  <a:ea typeface="MS PMincho"/>
                </a:rPr>
                <a:t>{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753920" y="1341360"/>
            <a:ext cx="3216240" cy="1034280"/>
            <a:chOff x="1753920" y="1341360"/>
            <a:chExt cx="3216240" cy="1034280"/>
          </a:xfrm>
        </p:grpSpPr>
        <p:sp>
          <p:nvSpPr>
            <p:cNvPr id="229" name=""/>
            <p:cNvSpPr/>
            <p:nvPr/>
          </p:nvSpPr>
          <p:spPr>
            <a:xfrm>
              <a:off x="1753920" y="1609560"/>
              <a:ext cx="95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30"/>
                  </a:solidFill>
                  <a:latin typeface="黑体"/>
                  <a:ea typeface="黑体"/>
                </a:rPr>
                <a:t>   </a:t>
              </a:r>
              <a:r>
                <a:rPr b="1" lang="zh-CN" sz="2400" spc="-1" strike="noStrike">
                  <a:solidFill>
                    <a:srgbClr val="000030"/>
                  </a:solidFill>
                  <a:latin typeface="黑体"/>
                  <a:ea typeface="黑体"/>
                </a:rPr>
                <a:t>一个条件</a:t>
              </a:r>
              <a:r>
                <a:rPr b="1" lang="en-US" sz="2400" spc="-1" strike="noStrike">
                  <a:solidFill>
                    <a:srgbClr val="00003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61600" y="1341360"/>
              <a:ext cx="34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30"/>
                  </a:solidFill>
                  <a:latin typeface="MS PMincho"/>
                  <a:ea typeface="MS PMincho"/>
                </a:rPr>
                <a:t>{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5480" y="1341360"/>
              <a:ext cx="108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30"/>
                  </a:solidFill>
                  <a:latin typeface="Arial"/>
                  <a:ea typeface="黑体"/>
                </a:rPr>
                <a:t>一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5480" y="191592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30"/>
                  </a:solidFill>
                  <a:latin typeface="Arial"/>
                  <a:ea typeface="黑体"/>
                </a:rPr>
                <a:t>一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314360" y="3716280"/>
            <a:ext cx="4786200" cy="1808640"/>
            <a:chOff x="1314360" y="3716280"/>
            <a:chExt cx="4786200" cy="1808640"/>
          </a:xfrm>
        </p:grpSpPr>
        <p:sp>
          <p:nvSpPr>
            <p:cNvPr id="234" name=""/>
            <p:cNvSpPr/>
            <p:nvPr/>
          </p:nvSpPr>
          <p:spPr>
            <a:xfrm>
              <a:off x="1314360" y="433584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30"/>
                  </a:solidFill>
                  <a:latin typeface="黑体"/>
                  <a:ea typeface="黑体"/>
                </a:rPr>
                <a:t>  </a:t>
              </a:r>
              <a:r>
                <a:rPr b="1" lang="zh-CN" sz="2400" spc="-1" strike="noStrike">
                  <a:solidFill>
                    <a:srgbClr val="000030"/>
                  </a:solidFill>
                  <a:latin typeface="黑体"/>
                  <a:ea typeface="黑体"/>
                </a:rPr>
                <a:t>三个条件</a:t>
              </a:r>
              <a:r>
                <a:rPr b="1" lang="en-US" sz="2400" spc="-1" strike="noStrike">
                  <a:solidFill>
                    <a:srgbClr val="00003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92960" y="506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30"/>
                  </a:solidFill>
                  <a:latin typeface="Arial"/>
                  <a:ea typeface="黑体"/>
                </a:rPr>
                <a:t>两边一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84360" y="4639680"/>
              <a:ext cx="181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30"/>
                  </a:solidFill>
                  <a:latin typeface="Arial"/>
                  <a:ea typeface="黑体"/>
                </a:rPr>
                <a:t>两角一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84360" y="421380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30"/>
                  </a:solidFill>
                  <a:latin typeface="Arial"/>
                  <a:ea typeface="黑体"/>
                </a:rPr>
                <a:t>三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79040" y="3788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30"/>
                  </a:solidFill>
                  <a:latin typeface="Arial"/>
                  <a:ea typeface="黑体"/>
                </a:rPr>
                <a:t>三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77280" y="3716280"/>
              <a:ext cx="1018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30"/>
                  </a:solidFill>
                  <a:latin typeface="幼圆"/>
                  <a:ea typeface="幼圆"/>
                </a:rPr>
                <a:t>{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17520" y="658800"/>
            <a:ext cx="528480" cy="176220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496280" y="4581360"/>
            <a:ext cx="1082520" cy="15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17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9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6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125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任意画出一个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画一个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=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=B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F=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好的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等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81080" y="115920"/>
            <a:ext cx="172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行楷"/>
              </a:rPr>
              <a:t>探究一</a:t>
            </a:r>
            <a:endParaRPr b="0" lang="en-US" sz="2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4" name=""/>
          <p:cNvSpPr/>
          <p:nvPr/>
        </p:nvSpPr>
        <p:spPr>
          <a:xfrm>
            <a:off x="181080" y="5083200"/>
            <a:ext cx="20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739960" y="3644640"/>
            <a:ext cx="71928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60680" y="3645000"/>
            <a:ext cx="129708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未知"/>
          <p:cNvSpPr/>
          <p:nvPr/>
        </p:nvSpPr>
        <p:spPr>
          <a:xfrm rot="20965800">
            <a:off x="3344400" y="3486240"/>
            <a:ext cx="43344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272" y="0"/>
                </a:moveTo>
                <a:cubicBezTo>
                  <a:pt x="204" y="23"/>
                  <a:pt x="136" y="46"/>
                  <a:pt x="91" y="91"/>
                </a:cubicBezTo>
                <a:cubicBezTo>
                  <a:pt x="46" y="136"/>
                  <a:pt x="15" y="242"/>
                  <a:pt x="0" y="2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未知"/>
          <p:cNvSpPr/>
          <p:nvPr/>
        </p:nvSpPr>
        <p:spPr>
          <a:xfrm>
            <a:off x="3273480" y="3571920"/>
            <a:ext cx="431640" cy="288720"/>
          </a:xfrm>
          <a:custGeom>
            <a:avLst/>
            <a:gdLst/>
            <a:ahLst/>
            <a:rect l="l" t="t" r="r" b="b"/>
            <a:pathLst>
              <a:path w="272" h="182">
                <a:moveTo>
                  <a:pt x="0" y="0"/>
                </a:moveTo>
                <a:cubicBezTo>
                  <a:pt x="45" y="8"/>
                  <a:pt x="91" y="16"/>
                  <a:pt x="136" y="46"/>
                </a:cubicBezTo>
                <a:cubicBezTo>
                  <a:pt x="181" y="76"/>
                  <a:pt x="226" y="129"/>
                  <a:pt x="272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389400" y="3284640"/>
            <a:ext cx="185760" cy="2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D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4920" y="3355920"/>
            <a:ext cx="2273400" cy="1952640"/>
            <a:chOff x="34920" y="3355920"/>
            <a:chExt cx="2273400" cy="1952640"/>
          </a:xfrm>
        </p:grpSpPr>
        <p:sp>
          <p:nvSpPr>
            <p:cNvPr id="251" name=""/>
            <p:cNvSpPr/>
            <p:nvPr/>
          </p:nvSpPr>
          <p:spPr>
            <a:xfrm flipV="1">
              <a:off x="179280" y="3643200"/>
              <a:ext cx="71928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560" y="3643200"/>
              <a:ext cx="129708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826920" y="3355920"/>
              <a:ext cx="185760" cy="22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34920" y="5083200"/>
              <a:ext cx="185760" cy="22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2122560" y="5083200"/>
              <a:ext cx="185760" cy="22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627280" y="5084640"/>
            <a:ext cx="2387520" cy="235080"/>
            <a:chOff x="2627280" y="5084640"/>
            <a:chExt cx="2387520" cy="235080"/>
          </a:xfrm>
        </p:grpSpPr>
        <p:sp>
          <p:nvSpPr>
            <p:cNvPr id="257" name=""/>
            <p:cNvSpPr/>
            <p:nvPr/>
          </p:nvSpPr>
          <p:spPr>
            <a:xfrm>
              <a:off x="2739960" y="509400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2627280" y="5084640"/>
              <a:ext cx="185760" cy="22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829040" y="5094000"/>
              <a:ext cx="185760" cy="22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F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788000" y="2852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画线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F=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88000" y="350028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分别以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为圆心，线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为半径画弧，两弧交于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3280" y="544500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连接线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F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就是所求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3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31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79800" y="476280"/>
            <a:ext cx="39877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边边边公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828800"/>
            <a:ext cx="847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有三边对应相等的两个三角形全等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可以简写成 </a:t>
            </a:r>
            <a:r>
              <a:rPr b="1" lang="en-US" sz="4000" spc="-1" strike="noStrike" u="sng">
                <a:solidFill>
                  <a:srgbClr val="003399"/>
                </a:solidFill>
                <a:uFillTx/>
                <a:latin typeface="黑体"/>
                <a:ea typeface="黑体"/>
              </a:rPr>
              <a:t>“边边边”</a:t>
            </a:r>
            <a:r>
              <a:rPr b="1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  或“ </a:t>
            </a:r>
            <a:r>
              <a:rPr b="1" lang="en-US" sz="6000" spc="-1" strike="noStrike" u="sng">
                <a:solidFill>
                  <a:srgbClr val="003399"/>
                </a:solidFill>
                <a:uFillTx/>
                <a:latin typeface="黑体"/>
                <a:ea typeface="黑体"/>
              </a:rPr>
              <a:t>SSS</a:t>
            </a:r>
            <a:r>
              <a:rPr b="1" lang="en-US" sz="4000" spc="-1" strike="noStrike" u="sng">
                <a:solidFill>
                  <a:srgbClr val="003399"/>
                </a:solidFill>
                <a:uFillTx/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”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3080" y="378936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S</a:t>
            </a:r>
            <a:r>
              <a:rPr b="1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—— </a:t>
            </a: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647720" y="1052640"/>
            <a:ext cx="6624000" cy="1828080"/>
            <a:chOff x="1647720" y="1052640"/>
            <a:chExt cx="6624000" cy="1828080"/>
          </a:xfrm>
        </p:grpSpPr>
        <p:grpSp>
          <p:nvGrpSpPr>
            <p:cNvPr id="267" name=""/>
            <p:cNvGrpSpPr/>
            <p:nvPr/>
          </p:nvGrpSpPr>
          <p:grpSpPr>
            <a:xfrm>
              <a:off x="1647720" y="1123920"/>
              <a:ext cx="3120840" cy="1756800"/>
              <a:chOff x="1647720" y="1123920"/>
              <a:chExt cx="3120840" cy="1756800"/>
            </a:xfrm>
          </p:grpSpPr>
          <p:sp>
            <p:nvSpPr>
              <p:cNvPr id="268" name=""/>
              <p:cNvSpPr/>
              <p:nvPr/>
            </p:nvSpPr>
            <p:spPr>
              <a:xfrm flipH="1">
                <a:off x="1969920" y="1493640"/>
                <a:ext cx="605160" cy="109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66320" y="2577960"/>
                <a:ext cx="196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71480" y="1484280"/>
                <a:ext cx="1360440" cy="10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47920" y="1123920"/>
                <a:ext cx="57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47720" y="2421000"/>
                <a:ext cx="4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940200" y="2421000"/>
                <a:ext cx="82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150880" y="1052640"/>
              <a:ext cx="3120840" cy="1756800"/>
              <a:chOff x="5150880" y="1052640"/>
              <a:chExt cx="3120840" cy="1756800"/>
            </a:xfrm>
          </p:grpSpPr>
          <p:sp>
            <p:nvSpPr>
              <p:cNvPr id="275" name=""/>
              <p:cNvSpPr/>
              <p:nvPr/>
            </p:nvSpPr>
            <p:spPr>
              <a:xfrm flipH="1">
                <a:off x="5473080" y="1422360"/>
                <a:ext cx="605160" cy="109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9480" y="2506680"/>
                <a:ext cx="196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74640" y="1413000"/>
                <a:ext cx="1360440" cy="10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51080" y="1052640"/>
                <a:ext cx="57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50880" y="2349720"/>
                <a:ext cx="4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43360" y="2349720"/>
                <a:ext cx="82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1856160" y="35002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B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=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45000" y="5010120"/>
            <a:ext cx="15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=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9480" y="4292640"/>
            <a:ext cx="1314360" cy="1068840"/>
          </a:xfrm>
          <a:prstGeom prst="rect">
            <a:avLst/>
          </a:prstGeom>
          <a:solidFill>
            <a:srgbClr val="ff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SS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12840" y="1981080"/>
            <a:ext cx="228600" cy="15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1852560"/>
            <a:ext cx="304920" cy="15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047760" y="17827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123720" y="185904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552720" y="170028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629040" y="177624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46852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246852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246852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23860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23860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3860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47760" y="476280"/>
            <a:ext cx="28684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规范书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682800" y="4221000"/>
            <a:ext cx="4247640" cy="642600"/>
            <a:chOff x="3682800" y="4221000"/>
            <a:chExt cx="4247640" cy="642600"/>
          </a:xfrm>
        </p:grpSpPr>
        <p:grpSp>
          <p:nvGrpSpPr>
            <p:cNvPr id="298" name=""/>
            <p:cNvGrpSpPr/>
            <p:nvPr/>
          </p:nvGrpSpPr>
          <p:grpSpPr>
            <a:xfrm>
              <a:off x="4173480" y="4221000"/>
              <a:ext cx="3756960" cy="642600"/>
              <a:chOff x="4173480" y="4221000"/>
              <a:chExt cx="3756960" cy="642600"/>
            </a:xfrm>
          </p:grpSpPr>
          <p:sp>
            <p:nvSpPr>
              <p:cNvPr id="299" name=""/>
              <p:cNvSpPr/>
              <p:nvPr/>
            </p:nvSpPr>
            <p:spPr>
              <a:xfrm>
                <a:off x="4480920" y="4221000"/>
                <a:ext cx="3449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c0000"/>
                    </a:solidFill>
                    <a:latin typeface="Arial"/>
                  </a:rPr>
                  <a:t>ABC </a:t>
                </a:r>
                <a:r>
                  <a:rPr b="1" lang="en-US" sz="3600" spc="-1" strike="noStrike">
                    <a:solidFill>
                      <a:srgbClr val="cc0000"/>
                    </a:solidFill>
                    <a:latin typeface="宋体"/>
                  </a:rPr>
                  <a:t>≌</a:t>
                </a:r>
                <a:r>
                  <a:rPr b="1" lang="en-US" sz="3600" spc="-1" strike="noStrike">
                    <a:solidFill>
                      <a:srgbClr val="cc0000"/>
                    </a:solidFill>
                    <a:latin typeface="Arial"/>
                  </a:rPr>
                  <a:t>     EFG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204240" y="4357440"/>
                <a:ext cx="229680" cy="362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73480" y="4357440"/>
                <a:ext cx="229680" cy="362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682800" y="4221000"/>
              <a:ext cx="4640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7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845360" y="428940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C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=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019160" y="3645000"/>
            <a:ext cx="761760" cy="1655280"/>
            <a:chOff x="1019160" y="3645000"/>
            <a:chExt cx="761760" cy="1655280"/>
          </a:xfrm>
        </p:grpSpPr>
        <p:sp>
          <p:nvSpPr>
            <p:cNvPr id="305" name=""/>
            <p:cNvSpPr/>
            <p:nvPr/>
          </p:nvSpPr>
          <p:spPr>
            <a:xfrm>
              <a:off x="1618920" y="3645000"/>
              <a:ext cx="162000" cy="1655280"/>
            </a:xfrm>
            <a:custGeom>
              <a:avLst/>
              <a:gdLst>
                <a:gd name="textAreaLeft" fmla="*/ 103680 w 162000"/>
                <a:gd name="textAreaRight" fmla="*/ 162360 w 16200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19160" y="4165920"/>
              <a:ext cx="427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08080">
                  <a:alpha val="7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35000" y="2871720"/>
            <a:ext cx="3346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EF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071800" y="620640"/>
            <a:ext cx="7086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已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AC=AD ,BC=BD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△ACB ≌ △A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28954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39800" y="2019960"/>
            <a:ext cx="2274840" cy="14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142320" y="3463560"/>
            <a:ext cx="2269800" cy="1467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34732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486040" y="2025720"/>
            <a:ext cx="68580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501520" y="3466800"/>
            <a:ext cx="655200" cy="146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3168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1880" y="2940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15685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4921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2209680"/>
            <a:ext cx="3647880" cy="2874960"/>
          </a:xfrm>
          <a:prstGeom prst="wedgeRoundRectCallout">
            <a:avLst>
              <a:gd name="adj1" fmla="val 74828"/>
              <a:gd name="adj2" fmla="val -86722"/>
              <a:gd name="adj3" fmla="val 16667"/>
            </a:avLst>
          </a:prstGeom>
          <a:solidFill>
            <a:srgbClr val="ffff00">
              <a:alpha val="50000"/>
            </a:srgbClr>
          </a:solidFill>
          <a:ln w="158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说明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△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ACB ≌ △AD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两个条件够吗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还要什么条件呢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05360" y="1197000"/>
            <a:ext cx="304812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4120" y="260280"/>
            <a:ext cx="12193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例题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72960" y="471600"/>
            <a:ext cx="529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△AB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一个钢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AB = AC ,A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连结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支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△ABD ≌ △AC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397200" y="1988640"/>
            <a:ext cx="2295720" cy="1162080"/>
            <a:chOff x="6397200" y="1988640"/>
            <a:chExt cx="2295720" cy="1162080"/>
          </a:xfrm>
        </p:grpSpPr>
        <p:sp>
          <p:nvSpPr>
            <p:cNvPr id="324" name=""/>
            <p:cNvSpPr/>
            <p:nvPr/>
          </p:nvSpPr>
          <p:spPr>
            <a:xfrm>
              <a:off x="6397560" y="3150720"/>
              <a:ext cx="22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7544880" y="1988640"/>
              <a:ext cx="0" cy="11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397200" y="1989000"/>
              <a:ext cx="1147320" cy="11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4880" y="1989000"/>
              <a:ext cx="1148040" cy="116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432920" y="14842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717400" y="29955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30400" y="32004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78960" y="29955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6280" y="192420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证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14400" y="2549520"/>
            <a:ext cx="28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△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D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和△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C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3025800"/>
            <a:ext cx="164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 = A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81120" y="4672080"/>
            <a:ext cx="38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∴  △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D ≌ △A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3198960"/>
            <a:ext cx="92160" cy="1382400"/>
          </a:xfrm>
          <a:custGeom>
            <a:avLst/>
            <a:gdLst>
              <a:gd name="textAreaLeft" fmla="*/ 59040 w 92160"/>
              <a:gd name="textAreaRight" fmla="*/ 92520 w 92160"/>
              <a:gd name="textAreaTop" fmla="*/ 36000 h 1382400"/>
              <a:gd name="textAreaBottom" fmla="*/ 1346400 h 138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62200" y="3003480"/>
            <a:ext cx="11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已知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28440" y="3440160"/>
            <a:ext cx="13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公共边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2200" y="3897360"/>
            <a:ext cx="11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已证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3500280"/>
            <a:ext cx="15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D =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98840" y="3989520"/>
            <a:ext cx="156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B = 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12680" y="4653000"/>
            <a:ext cx="13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 SS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04800" y="1987560"/>
            <a:ext cx="41536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∵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中点  ，∴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D=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3132000" y="2779560"/>
            <a:ext cx="2021400" cy="1427400"/>
            <a:chOff x="3132000" y="2779560"/>
            <a:chExt cx="2021400" cy="1427400"/>
          </a:xfrm>
        </p:grpSpPr>
        <p:sp>
          <p:nvSpPr>
            <p:cNvPr id="345" name=""/>
            <p:cNvSpPr/>
            <p:nvPr/>
          </p:nvSpPr>
          <p:spPr>
            <a:xfrm>
              <a:off x="3132000" y="3931920"/>
              <a:ext cx="3268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5433200">
              <a:off x="4817880" y="3875040"/>
              <a:ext cx="31896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604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604653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7240" y="3716280"/>
              <a:ext cx="2728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458880" y="2779560"/>
              <a:ext cx="1542960" cy="1295280"/>
              <a:chOff x="3458880" y="2779560"/>
              <a:chExt cx="1542960" cy="129528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3458880" y="2779560"/>
                <a:ext cx="50328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58880" y="407484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63600" y="2797200"/>
                <a:ext cx="1038240" cy="127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3595680" y="2421000"/>
            <a:ext cx="2198520" cy="1654200"/>
            <a:chOff x="3595680" y="2421000"/>
            <a:chExt cx="2198520" cy="1654200"/>
          </a:xfrm>
        </p:grpSpPr>
        <p:sp>
          <p:nvSpPr>
            <p:cNvPr id="353" name=""/>
            <p:cNvSpPr/>
            <p:nvPr/>
          </p:nvSpPr>
          <p:spPr>
            <a:xfrm>
              <a:off x="5467320" y="2421000"/>
              <a:ext cx="3268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06960" y="3789360"/>
              <a:ext cx="3268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42600">
              <a:off x="3790800" y="2629440"/>
              <a:ext cx="31896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604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604653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70240" y="2708280"/>
              <a:ext cx="417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954600" y="2779920"/>
              <a:ext cx="1512720" cy="1295280"/>
              <a:chOff x="3954600" y="2779920"/>
              <a:chExt cx="1512720" cy="1295280"/>
            </a:xfrm>
          </p:grpSpPr>
          <p:sp>
            <p:nvSpPr>
              <p:cNvPr id="358" name=""/>
              <p:cNvSpPr/>
              <p:nvPr/>
            </p:nvSpPr>
            <p:spPr>
              <a:xfrm>
                <a:off x="3969000" y="2794320"/>
                <a:ext cx="1038240" cy="127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54600" y="277992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5035320" y="2779920"/>
                <a:ext cx="43164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3595680" y="2448000"/>
              <a:ext cx="3268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360600" y="112068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动 态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15840" y="692280"/>
            <a:ext cx="19926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4624E-007 L 0.05504 0.08601 E">
                                      <p:cBhvr>
                                        <p:cTn id="46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846440" y="4653000"/>
            <a:ext cx="68040" cy="863640"/>
          </a:xfrm>
          <a:custGeom>
            <a:avLst/>
            <a:gdLst>
              <a:gd name="textAreaLeft" fmla="*/ 43560 w 68040"/>
              <a:gd name="textAreaRight" fmla="*/ 68400 w 680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164360" y="3357720"/>
            <a:ext cx="792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79600" y="4638600"/>
            <a:ext cx="18288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7480" y="54792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C=F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=FB,BC=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≌△F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14560" y="2850480"/>
            <a:ext cx="592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证明：∵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=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+DB=FB+B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等式性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=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DE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64080" y="4506840"/>
            <a:ext cx="3377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C=FE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已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C=DE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已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B=FD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已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∴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≌△F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449360" y="4540320"/>
            <a:ext cx="360" cy="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00760" y="459108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求证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=∠E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如何证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0880" y="4762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2828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35600" y="4581360"/>
            <a:ext cx="3070440" cy="1169280"/>
          </a:xfrm>
          <a:prstGeom prst="rect">
            <a:avLst/>
          </a:prstGeom>
          <a:noFill/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8850240" y="6553080"/>
            <a:ext cx="282600" cy="30492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5969160" y="1700280"/>
            <a:ext cx="2923560" cy="1945440"/>
            <a:chOff x="5969160" y="1700280"/>
            <a:chExt cx="2923560" cy="1945440"/>
          </a:xfrm>
        </p:grpSpPr>
        <p:sp>
          <p:nvSpPr>
            <p:cNvPr id="377" name=""/>
            <p:cNvSpPr/>
            <p:nvPr/>
          </p:nvSpPr>
          <p:spPr>
            <a:xfrm>
              <a:off x="6234840" y="1885680"/>
              <a:ext cx="1595160" cy="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34840" y="1885680"/>
              <a:ext cx="443160" cy="277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78000" y="2163600"/>
              <a:ext cx="1327680" cy="8330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78000" y="2163600"/>
              <a:ext cx="265320" cy="1112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43320" y="3276720"/>
              <a:ext cx="1505880" cy="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006040" y="2997000"/>
              <a:ext cx="443160" cy="27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30360" y="1885680"/>
              <a:ext cx="175680" cy="11109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69160" y="1700280"/>
              <a:ext cx="3553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18200" y="1700280"/>
              <a:ext cx="35496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89800" y="3090960"/>
              <a:ext cx="35532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10520" y="2163600"/>
              <a:ext cx="35496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94240" y="2719080"/>
              <a:ext cx="35496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37760" y="3274560"/>
              <a:ext cx="35496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342987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3132000" y="2779560"/>
            <a:ext cx="2021400" cy="1427400"/>
            <a:chOff x="3132000" y="2779560"/>
            <a:chExt cx="2021400" cy="1427400"/>
          </a:xfrm>
        </p:grpSpPr>
        <p:sp>
          <p:nvSpPr>
            <p:cNvPr id="391" name=""/>
            <p:cNvSpPr/>
            <p:nvPr/>
          </p:nvSpPr>
          <p:spPr>
            <a:xfrm>
              <a:off x="3132000" y="3931920"/>
              <a:ext cx="3268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5433200">
              <a:off x="4817880" y="3875040"/>
              <a:ext cx="31896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604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604653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67240" y="3716280"/>
              <a:ext cx="2728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3458880" y="2779560"/>
              <a:ext cx="1542960" cy="1295280"/>
              <a:chOff x="3458880" y="2779560"/>
              <a:chExt cx="1542960" cy="129528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3458880" y="2779560"/>
                <a:ext cx="50328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58880" y="407484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963600" y="2797200"/>
                <a:ext cx="1038240" cy="127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3595680" y="2421000"/>
            <a:ext cx="2198520" cy="1654200"/>
            <a:chOff x="3595680" y="2421000"/>
            <a:chExt cx="2198520" cy="1654200"/>
          </a:xfrm>
        </p:grpSpPr>
        <p:sp>
          <p:nvSpPr>
            <p:cNvPr id="399" name=""/>
            <p:cNvSpPr/>
            <p:nvPr/>
          </p:nvSpPr>
          <p:spPr>
            <a:xfrm>
              <a:off x="5467320" y="2421000"/>
              <a:ext cx="3268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6960" y="3789360"/>
              <a:ext cx="3268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5442600">
              <a:off x="3790800" y="2629440"/>
              <a:ext cx="31896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604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604653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70240" y="2708280"/>
              <a:ext cx="4176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3954600" y="2779920"/>
              <a:ext cx="1512720" cy="1295280"/>
              <a:chOff x="3954600" y="2779920"/>
              <a:chExt cx="1512720" cy="1295280"/>
            </a:xfrm>
          </p:grpSpPr>
          <p:sp>
            <p:nvSpPr>
              <p:cNvPr id="404" name=""/>
              <p:cNvSpPr/>
              <p:nvPr/>
            </p:nvSpPr>
            <p:spPr>
              <a:xfrm>
                <a:off x="3969000" y="2794320"/>
                <a:ext cx="1038240" cy="127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54600" y="277992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035320" y="2779920"/>
                <a:ext cx="43164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595680" y="2448000"/>
              <a:ext cx="3268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360600" y="112068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动 态 演 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4076640"/>
            <a:ext cx="43200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836640"/>
            <a:ext cx="15951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变式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0.15764 0.25417 E">
                                      <p:cBhvr>
                                        <p:cTn id="52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915840" y="5965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练习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同一条直线上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C=D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E=D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E=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41497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5840" y="1699560"/>
            <a:ext cx="73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证：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≌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= 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203640" y="2160720"/>
            <a:ext cx="2703600" cy="2347920"/>
            <a:chOff x="3203640" y="2160720"/>
            <a:chExt cx="2703600" cy="2347920"/>
          </a:xfrm>
        </p:grpSpPr>
        <p:grpSp>
          <p:nvGrpSpPr>
            <p:cNvPr id="415" name=""/>
            <p:cNvGrpSpPr/>
            <p:nvPr/>
          </p:nvGrpSpPr>
          <p:grpSpPr>
            <a:xfrm>
              <a:off x="3203640" y="2160720"/>
              <a:ext cx="2703600" cy="2347920"/>
              <a:chOff x="3203640" y="2160720"/>
              <a:chExt cx="2703600" cy="2347920"/>
            </a:xfrm>
          </p:grpSpPr>
          <p:sp>
            <p:nvSpPr>
              <p:cNvPr id="416" name=""/>
              <p:cNvSpPr/>
              <p:nvPr/>
            </p:nvSpPr>
            <p:spPr>
              <a:xfrm>
                <a:off x="4035600" y="3313080"/>
                <a:ext cx="32688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203640" y="2160720"/>
                <a:ext cx="3268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4520" y="2952720"/>
                <a:ext cx="327240" cy="2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546880" y="2997360"/>
                <a:ext cx="3268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580000" y="4248360"/>
                <a:ext cx="32724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203640" y="3284640"/>
                <a:ext cx="32688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483000" y="3349800"/>
                <a:ext cx="1409760" cy="0"/>
              </a:xfrm>
              <a:prstGeom prst="line">
                <a:avLst/>
              </a:prstGeom>
              <a:ln w="414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168800" y="3349800"/>
                <a:ext cx="1411200" cy="0"/>
              </a:xfrm>
              <a:prstGeom prst="line">
                <a:avLst/>
              </a:prstGeom>
              <a:ln w="442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17920" y="2376720"/>
                <a:ext cx="0" cy="97308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517920" y="3349800"/>
                <a:ext cx="650880" cy="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3517920" y="2376360"/>
                <a:ext cx="650880" cy="97308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5543640" y="3349440"/>
                <a:ext cx="0" cy="97164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4892760" y="3349800"/>
                <a:ext cx="650880" cy="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92760" y="3349800"/>
                <a:ext cx="650880" cy="93348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3492720" y="3168720"/>
              <a:ext cx="142560" cy="0"/>
            </a:xfrm>
            <a:prstGeom prst="line">
              <a:avLst/>
            </a:prstGeom>
            <a:ln w="41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5280" y="3168720"/>
              <a:ext cx="0" cy="142920"/>
            </a:xfrm>
            <a:prstGeom prst="line">
              <a:avLst/>
            </a:prstGeom>
            <a:ln w="41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64360" y="3384720"/>
              <a:ext cx="0" cy="144360"/>
            </a:xfrm>
            <a:prstGeom prst="line">
              <a:avLst/>
            </a:prstGeom>
            <a:ln w="41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364360" y="3529080"/>
              <a:ext cx="215640" cy="0"/>
            </a:xfrm>
            <a:prstGeom prst="line">
              <a:avLst/>
            </a:prstGeom>
            <a:ln w="414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8886960" y="6553080"/>
            <a:ext cx="282600" cy="304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-182520" y="981000"/>
            <a:ext cx="1033560" cy="1941480"/>
          </a:xfrm>
          <a:prstGeom prst="rect">
            <a:avLst/>
          </a:prstGeom>
          <a:solidFill>
            <a:srgbClr val="99cc00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应用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342987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95480" y="189000"/>
            <a:ext cx="7864200" cy="6140520"/>
          </a:xfrm>
          <a:prstGeom prst="rect">
            <a:avLst/>
          </a:prstGeom>
          <a:noFill/>
          <a:ln cap="rnd" w="73080">
            <a:solidFill>
              <a:srgbClr val="33cc33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5720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7520" y="620640"/>
            <a:ext cx="528480" cy="1656000"/>
          </a:xfrm>
          <a:prstGeom prst="rect">
            <a:avLst/>
          </a:prstGeom>
          <a:solidFill>
            <a:srgbClr val="99cc00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65200" y="177984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的两个三角形，请同学们判断这两个三角形是否全   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43280" y="2924280"/>
            <a:ext cx="3529080" cy="1695960"/>
            <a:chOff x="4643280" y="2924280"/>
            <a:chExt cx="3529080" cy="1695960"/>
          </a:xfrm>
        </p:grpSpPr>
        <p:sp>
          <p:nvSpPr>
            <p:cNvPr id="49" name=""/>
            <p:cNvSpPr/>
            <p:nvPr/>
          </p:nvSpPr>
          <p:spPr>
            <a:xfrm flipH="1">
              <a:off x="5007960" y="3294000"/>
              <a:ext cx="684360" cy="109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03640" y="4378320"/>
              <a:ext cx="222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88000" y="3284640"/>
              <a:ext cx="1538280" cy="10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35280" y="292428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643280" y="4221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35640" y="422136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176480" y="2997360"/>
            <a:ext cx="3528360" cy="1695960"/>
            <a:chOff x="1176480" y="2997360"/>
            <a:chExt cx="3528360" cy="1695960"/>
          </a:xfrm>
        </p:grpSpPr>
        <p:sp>
          <p:nvSpPr>
            <p:cNvPr id="56" name=""/>
            <p:cNvSpPr/>
            <p:nvPr/>
          </p:nvSpPr>
          <p:spPr>
            <a:xfrm flipH="1">
              <a:off x="1536480" y="3357720"/>
              <a:ext cx="684000" cy="10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36480" y="4451400"/>
              <a:ext cx="222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20840" y="3357720"/>
              <a:ext cx="1537920" cy="109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68120" y="29973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76480" y="42944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68480" y="429444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648600" y="5342760"/>
            <a:ext cx="27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怎样才能画一个三角形与老师画的△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全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7600" y="475200"/>
            <a:ext cx="27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探索三角形全等的条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514160" y="3357720"/>
            <a:ext cx="2221200" cy="1093680"/>
            <a:chOff x="1514160" y="3357720"/>
            <a:chExt cx="2221200" cy="1093680"/>
          </a:xfrm>
        </p:grpSpPr>
        <p:sp>
          <p:nvSpPr>
            <p:cNvPr id="65" name=""/>
            <p:cNvSpPr/>
            <p:nvPr/>
          </p:nvSpPr>
          <p:spPr>
            <a:xfrm flipH="1">
              <a:off x="1514160" y="3357720"/>
              <a:ext cx="683640" cy="1093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14520" y="4451400"/>
              <a:ext cx="22208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98160" y="3357720"/>
              <a:ext cx="1536840" cy="1093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049400" y="4797360"/>
            <a:ext cx="66945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三边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对应相等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三角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对应相等的两个三角形全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2600" y="2421000"/>
            <a:ext cx="4392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完全重合的两个三角形全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1114560" y="3140280"/>
            <a:ext cx="7574040" cy="2889000"/>
            <a:chOff x="1114560" y="3140280"/>
            <a:chExt cx="7574040" cy="2889000"/>
          </a:xfrm>
        </p:grpSpPr>
        <p:sp>
          <p:nvSpPr>
            <p:cNvPr id="437" name=""/>
            <p:cNvSpPr/>
            <p:nvPr/>
          </p:nvSpPr>
          <p:spPr>
            <a:xfrm>
              <a:off x="1114560" y="3140280"/>
              <a:ext cx="697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．四边形</a:t>
              </a: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ABCD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中，</a:t>
              </a: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AB=CD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AD=BC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。△</a:t>
              </a: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ABC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和△</a:t>
              </a: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CDA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是否全等？∠</a:t>
              </a: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BAD=∠DCB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吗？说明理由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672440" y="4149000"/>
              <a:ext cx="4016160" cy="1880280"/>
              <a:chOff x="4672440" y="4149000"/>
              <a:chExt cx="4016160" cy="1880280"/>
            </a:xfrm>
          </p:grpSpPr>
          <p:sp>
            <p:nvSpPr>
              <p:cNvPr id="439" name=""/>
              <p:cNvSpPr/>
              <p:nvPr/>
            </p:nvSpPr>
            <p:spPr>
              <a:xfrm>
                <a:off x="5082480" y="4437000"/>
                <a:ext cx="3216960" cy="1332000"/>
              </a:xfrm>
              <a:prstGeom prst="parallelogram">
                <a:avLst>
                  <a:gd name="adj" fmla="val 60378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79920" y="41490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66400" y="56602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r>
                  <a:rPr b="1" lang="en-US" sz="18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215200" y="422028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r>
                  <a:rPr b="0" lang="en-US" sz="18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905080" y="4437000"/>
                <a:ext cx="1573560" cy="12970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672440" y="5661000"/>
                <a:ext cx="47808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5" name=""/>
          <p:cNvGrpSpPr/>
          <p:nvPr/>
        </p:nvGrpSpPr>
        <p:grpSpPr>
          <a:xfrm>
            <a:off x="1114560" y="260280"/>
            <a:ext cx="7444080" cy="3393360"/>
            <a:chOff x="1114560" y="260280"/>
            <a:chExt cx="7444080" cy="3393360"/>
          </a:xfrm>
        </p:grpSpPr>
        <p:sp>
          <p:nvSpPr>
            <p:cNvPr id="446" name=""/>
            <p:cNvSpPr/>
            <p:nvPr/>
          </p:nvSpPr>
          <p:spPr>
            <a:xfrm>
              <a:off x="1114560" y="580320"/>
              <a:ext cx="563976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7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．如图，</a:t>
              </a: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AB=AC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BD=CD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H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是</a:t>
              </a:r>
              <a:r>
                <a:rPr b="1" lang="en-US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BC</a:t>
              </a:r>
              <a:r>
                <a:rPr b="1" lang="zh-CN" sz="24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的中点，指出图中全等三角形，它们全等的条件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197960" y="260280"/>
              <a:ext cx="4360680" cy="3393360"/>
              <a:chOff x="4197960" y="260280"/>
              <a:chExt cx="4360680" cy="339336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679080" y="547560"/>
                <a:ext cx="1879560" cy="2103480"/>
                <a:chOff x="6679080" y="547560"/>
                <a:chExt cx="1879560" cy="2103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679080" y="547560"/>
                  <a:ext cx="1879560" cy="2090880"/>
                </a:xfrm>
                <a:prstGeom prst="triangle">
                  <a:avLst>
                    <a:gd name="adj" fmla="val 47708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580520" y="618840"/>
                  <a:ext cx="16200" cy="203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6679080" y="1627200"/>
                  <a:ext cx="905040" cy="10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580520" y="1627200"/>
                  <a:ext cx="977760" cy="10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3" name=""/>
              <p:cNvSpPr/>
              <p:nvPr/>
            </p:nvSpPr>
            <p:spPr>
              <a:xfrm>
                <a:off x="4197960" y="1730880"/>
                <a:ext cx="4348080" cy="19227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                            </a:t>
                </a: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  <a:ea typeface="Times New Roman"/>
                  </a:rPr>
                  <a:t>B         H      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80160" y="13143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79080" y="26028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"/>
          <p:cNvSpPr/>
          <p:nvPr/>
        </p:nvSpPr>
        <p:spPr>
          <a:xfrm>
            <a:off x="971640" y="260280"/>
            <a:ext cx="7921440" cy="6337440"/>
          </a:xfrm>
          <a:prstGeom prst="rect">
            <a:avLst/>
          </a:prstGeom>
          <a:noFill/>
          <a:ln cap="rnd" w="85680">
            <a:solidFill>
              <a:srgbClr val="ff33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-182520" y="981000"/>
            <a:ext cx="1033560" cy="1941480"/>
          </a:xfrm>
          <a:prstGeom prst="rect">
            <a:avLst/>
          </a:prstGeom>
          <a:solidFill>
            <a:srgbClr val="99cc00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应用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-675000" y="124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聪明题      你会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4120" y="1484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已知如图四边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平行四边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求证：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 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36960" y="3068640"/>
            <a:ext cx="3324240" cy="1511280"/>
          </a:xfrm>
          <a:prstGeom prst="parallelogram">
            <a:avLst>
              <a:gd name="adj" fmla="val 5499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368960" y="441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920" y="278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38720" y="2683440"/>
            <a:ext cx="5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18520" y="4411800"/>
            <a:ext cx="477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313000" y="5950080"/>
            <a:ext cx="139392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2360" y="4869000"/>
            <a:ext cx="8088480" cy="1252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分析：要证两个角等或两条线段等，常需要先证这两角或两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所在的两个三角形全等。而构造两个全等三角形，连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公共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是最常见的辅助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35800" y="3068640"/>
            <a:ext cx="1726920" cy="15127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18840" y="2852640"/>
            <a:ext cx="535680" cy="520560"/>
          </a:xfrm>
          <a:prstGeom prst="rect">
            <a:avLst/>
          </a:prstGeom>
          <a:solidFill>
            <a:srgbClr val="ffff00"/>
          </a:solidFill>
          <a:ln w="1584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一想：还有其他的方法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836960" y="3068640"/>
            <a:ext cx="3324240" cy="1512720"/>
          </a:xfrm>
          <a:prstGeom prst="line">
            <a:avLst/>
          </a:prstGeom>
          <a:ln w="572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7763040" y="333360"/>
            <a:ext cx="1081080" cy="15508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182600" y="3902400"/>
            <a:ext cx="3189240" cy="2044800"/>
          </a:xfrm>
          <a:prstGeom prst="irregularSeal2">
            <a:avLst/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这就是转化思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 rot="5400000">
            <a:off x="6064200" y="363240"/>
            <a:ext cx="83520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>
                    <a:alpha val="85000"/>
                  </a:srgbClr>
                </a:solidFill>
                <a:latin typeface="宋体"/>
              </a:rPr>
              <a:t>？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cc">
                  <a:alpha val="85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77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770" fill="hold"/>
                                        <p:tgtEl>
                                          <p:spTgt spid="4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41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一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如图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=AC,DB=DC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明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 =∠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立的理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411880" y="2205000"/>
            <a:ext cx="1419120" cy="266400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31000" y="2205000"/>
            <a:ext cx="1420920" cy="266400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437080" y="4076280"/>
            <a:ext cx="1393920" cy="79236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31000" y="4076640"/>
            <a:ext cx="1397160" cy="792360"/>
          </a:xfrm>
          <a:prstGeom prst="line">
            <a:avLst/>
          </a:prstGeom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67320" y="1773360"/>
            <a:ext cx="373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970520" y="4772160"/>
            <a:ext cx="3729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59920" y="4843440"/>
            <a:ext cx="3744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7840" y="4221000"/>
            <a:ext cx="3733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69160" y="3284640"/>
            <a:ext cx="398160" cy="358560"/>
          </a:xfrm>
          <a:prstGeom prst="line">
            <a:avLst/>
          </a:prstGeom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297560" y="3212640"/>
            <a:ext cx="331920" cy="360360"/>
          </a:xfrm>
          <a:prstGeom prst="line">
            <a:avLst/>
          </a:prstGeom>
          <a:ln w="540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969160" y="4292640"/>
            <a:ext cx="398160" cy="28872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033960" y="4221000"/>
            <a:ext cx="200160" cy="50328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7297560" y="4292640"/>
            <a:ext cx="331920" cy="28872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29680" y="4149720"/>
            <a:ext cx="66600" cy="574560"/>
          </a:xfrm>
          <a:prstGeom prst="line">
            <a:avLst/>
          </a:prstGeom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31000" y="2205000"/>
            <a:ext cx="0" cy="1871640"/>
          </a:xfrm>
          <a:prstGeom prst="line">
            <a:avLst/>
          </a:prstGeom>
          <a:ln w="63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33280" y="2492280"/>
            <a:ext cx="29739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△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和△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C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06320" y="2997360"/>
            <a:ext cx="25549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B=AC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65200" y="3573360"/>
            <a:ext cx="277344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B=DC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已知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4078440"/>
            <a:ext cx="3124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D=AD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公共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14360" y="2997360"/>
            <a:ext cx="66600" cy="1511280"/>
          </a:xfrm>
          <a:custGeom>
            <a:avLst/>
            <a:gdLst>
              <a:gd name="textAreaLeft" fmla="*/ 42480 w 66600"/>
              <a:gd name="textAreaRight" fmla="*/ 66960 w 666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84080" y="4653000"/>
            <a:ext cx="3988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∴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BD≌△ACD  (S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12880" y="2060640"/>
            <a:ext cx="16272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连接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50880" y="5229360"/>
            <a:ext cx="60483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∴ 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 =∠C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全等三角形的对应角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82600" y="2565720"/>
            <a:ext cx="3521160" cy="2044800"/>
          </a:xfrm>
          <a:prstGeom prst="irregularSeal2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你会用转化思想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1752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边边边公理：有三边对应相等的两个三角形全等         简写成“边边边”（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SSS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17520" y="1844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.</a:t>
            </a:r>
            <a:r>
              <a:rPr b="1" i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边边边公理的发现过程所用到的数学方法（包括画    图、猜想、分析、归纳等</a:t>
            </a:r>
            <a:r>
              <a:rPr b="1" i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7520" y="292428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边边边公理的应用中所用到的数学方法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证明线段（或角相等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转 化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证明线段（或角）所在的两个三角形全等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4581360"/>
            <a:ext cx="6324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用结论说明两个三角形全等需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17520" y="51577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说明两个三角形全等所需的条件应按对应边的顺序书写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结论中所出现的边必须在所证明的两个三角形中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38640" y="407664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0720" y="189000"/>
            <a:ext cx="1263960" cy="581400"/>
          </a:xfrm>
          <a:prstGeom prst="rect">
            <a:avLst/>
          </a:prstGeom>
          <a:solidFill>
            <a:srgbClr val="ffff00">
              <a:alpha val="73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Times New Roman"/>
                <a:ea typeface="黑体"/>
              </a:rPr>
              <a:t>归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一个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1676520"/>
            <a:ext cx="55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3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30"/>
                </a:solidFill>
                <a:latin typeface="Arial"/>
                <a:ea typeface="黑体"/>
              </a:rPr>
              <a:t>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条边</a:t>
            </a:r>
            <a:r>
              <a:rPr b="1" lang="zh-CN" sz="3200" spc="-1" strike="noStrike">
                <a:solidFill>
                  <a:srgbClr val="000030"/>
                </a:solidFill>
                <a:latin typeface="Arial"/>
                <a:ea typeface="黑体"/>
              </a:rPr>
              <a:t>对应相等的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666880" y="2971440"/>
            <a:ext cx="2437920" cy="2819520"/>
            <a:chOff x="2666880" y="2971440"/>
            <a:chExt cx="2437920" cy="2819520"/>
          </a:xfrm>
        </p:grpSpPr>
        <p:grpSp>
          <p:nvGrpSpPr>
            <p:cNvPr id="73" name=""/>
            <p:cNvGrpSpPr/>
            <p:nvPr/>
          </p:nvGrpSpPr>
          <p:grpSpPr>
            <a:xfrm>
              <a:off x="2666880" y="2971440"/>
              <a:ext cx="2437920" cy="2817360"/>
              <a:chOff x="2666880" y="2971440"/>
              <a:chExt cx="2437920" cy="2817360"/>
            </a:xfrm>
          </p:grpSpPr>
          <p:sp>
            <p:nvSpPr>
              <p:cNvPr id="74" name=""/>
              <p:cNvSpPr/>
              <p:nvPr/>
            </p:nvSpPr>
            <p:spPr>
              <a:xfrm flipV="1">
                <a:off x="5104800" y="2971440"/>
                <a:ext cx="0" cy="281700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2666880" y="2971800"/>
                <a:ext cx="2437920" cy="281700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666880" y="5790960"/>
              <a:ext cx="2436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666880" y="3505320"/>
            <a:ext cx="4267080" cy="2286000"/>
            <a:chOff x="2666880" y="3505320"/>
            <a:chExt cx="4267080" cy="2286000"/>
          </a:xfrm>
        </p:grpSpPr>
        <p:sp>
          <p:nvSpPr>
            <p:cNvPr id="78" name=""/>
            <p:cNvSpPr/>
            <p:nvPr/>
          </p:nvSpPr>
          <p:spPr>
            <a:xfrm>
              <a:off x="2666880" y="5791320"/>
              <a:ext cx="2396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666880" y="3505320"/>
              <a:ext cx="4267080" cy="22860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067000" y="3505320"/>
              <a:ext cx="1866960" cy="22860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630520" y="3657600"/>
            <a:ext cx="2474640" cy="2133360"/>
            <a:chOff x="2630520" y="3657600"/>
            <a:chExt cx="2474640" cy="2133360"/>
          </a:xfrm>
        </p:grpSpPr>
        <p:sp>
          <p:nvSpPr>
            <p:cNvPr id="82" name=""/>
            <p:cNvSpPr/>
            <p:nvPr/>
          </p:nvSpPr>
          <p:spPr>
            <a:xfrm>
              <a:off x="2630520" y="5790960"/>
              <a:ext cx="2474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630520" y="3657600"/>
              <a:ext cx="1314000" cy="2133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520" y="3657600"/>
              <a:ext cx="1160640" cy="21333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607000" y="2333520"/>
            <a:ext cx="24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一定全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30520" y="5791320"/>
            <a:ext cx="239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9400" y="692280"/>
            <a:ext cx="2259000" cy="703440"/>
          </a:xfrm>
          <a:prstGeom prst="rect">
            <a:avLst/>
          </a:prstGeom>
          <a:solidFill>
            <a:srgbClr val="ffff00">
              <a:alpha val="73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探究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360" y="1704960"/>
            <a:ext cx="546120" cy="1795320"/>
          </a:xfrm>
          <a:prstGeom prst="rect">
            <a:avLst/>
          </a:prstGeom>
          <a:solidFill>
            <a:srgbClr val="99cc00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探索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877160" y="4581360"/>
            <a:ext cx="1082520" cy="15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06880" y="762120"/>
            <a:ext cx="31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3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30"/>
                </a:solidFill>
                <a:latin typeface="Arial"/>
                <a:ea typeface="黑体"/>
              </a:rPr>
              <a:t>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一个角</a:t>
            </a:r>
            <a:r>
              <a:rPr b="1" lang="zh-CN" sz="3200" spc="-1" strike="noStrike">
                <a:solidFill>
                  <a:srgbClr val="000030"/>
                </a:solidFill>
                <a:latin typeface="Arial"/>
                <a:ea typeface="黑体"/>
              </a:rPr>
              <a:t>对应相等的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52480" y="3581280"/>
            <a:ext cx="2361960" cy="1675800"/>
            <a:chOff x="1752480" y="3581280"/>
            <a:chExt cx="2361960" cy="1675800"/>
          </a:xfrm>
        </p:grpSpPr>
        <p:sp>
          <p:nvSpPr>
            <p:cNvPr id="92" name=""/>
            <p:cNvSpPr/>
            <p:nvPr/>
          </p:nvSpPr>
          <p:spPr>
            <a:xfrm flipH="1">
              <a:off x="1752480" y="3581280"/>
              <a:ext cx="1527840" cy="167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21960" y="5257080"/>
              <a:ext cx="2292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80320" y="3581280"/>
              <a:ext cx="833760" cy="167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752120" y="1676520"/>
            <a:ext cx="3200040" cy="3580200"/>
            <a:chOff x="1752120" y="1676520"/>
            <a:chExt cx="3200040" cy="3580200"/>
          </a:xfrm>
        </p:grpSpPr>
        <p:sp>
          <p:nvSpPr>
            <p:cNvPr id="96" name=""/>
            <p:cNvSpPr/>
            <p:nvPr/>
          </p:nvSpPr>
          <p:spPr>
            <a:xfrm flipH="1">
              <a:off x="1752120" y="1727640"/>
              <a:ext cx="3200040" cy="3529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2480" y="5256720"/>
              <a:ext cx="2045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798000" y="1676520"/>
              <a:ext cx="1154160" cy="35802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752120" y="2286000"/>
            <a:ext cx="2742840" cy="2971080"/>
            <a:chOff x="1752120" y="2286000"/>
            <a:chExt cx="2742840" cy="2971080"/>
          </a:xfrm>
        </p:grpSpPr>
        <p:sp>
          <p:nvSpPr>
            <p:cNvPr id="100" name=""/>
            <p:cNvSpPr/>
            <p:nvPr/>
          </p:nvSpPr>
          <p:spPr>
            <a:xfrm flipH="1">
              <a:off x="1752120" y="2286000"/>
              <a:ext cx="2742840" cy="297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52480" y="5257080"/>
              <a:ext cx="2741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495680" y="2286000"/>
            <a:ext cx="0" cy="29718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859040"/>
            <a:ext cx="254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一定全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5840" y="5513400"/>
            <a:ext cx="20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74840" y="55864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能保证三角形全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763040" y="4653000"/>
            <a:ext cx="10810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9400" y="1484280"/>
            <a:ext cx="73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8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38"/>
                </a:solidFill>
                <a:latin typeface="黑体"/>
                <a:ea typeface="黑体"/>
              </a:rPr>
              <a:t>、按照下面给出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个条件</a:t>
            </a:r>
            <a:r>
              <a:rPr b="1" lang="zh-CN" sz="3200" spc="-1" strike="noStrike">
                <a:solidFill>
                  <a:srgbClr val="000038"/>
                </a:solidFill>
                <a:latin typeface="黑体"/>
                <a:ea typeface="黑体"/>
              </a:rPr>
              <a:t>画出三角形</a:t>
            </a:r>
            <a:r>
              <a:rPr b="1" lang="en-US" sz="3200" spc="-1" strike="noStrike">
                <a:solidFill>
                  <a:srgbClr val="000038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38"/>
                </a:solidFill>
                <a:latin typeface="黑体"/>
                <a:ea typeface="黑体"/>
              </a:rPr>
              <a:t>并将完成的三角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4120" y="2780280"/>
            <a:ext cx="79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角形的一个角为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0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条边为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9400" y="620640"/>
            <a:ext cx="2392200" cy="703440"/>
          </a:xfrm>
          <a:prstGeom prst="rect">
            <a:avLst/>
          </a:prstGeom>
          <a:solidFill>
            <a:srgbClr val="ffff00">
              <a:alpha val="73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探究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0120" y="3500280"/>
            <a:ext cx="59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角形的两条边分别是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cm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0880" y="4437000"/>
            <a:ext cx="77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角形的两个角分别是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0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0880" y="835560"/>
            <a:ext cx="79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角形的一个角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条边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09680" y="2895120"/>
            <a:ext cx="4800600" cy="2438640"/>
            <a:chOff x="2209680" y="2895120"/>
            <a:chExt cx="4800600" cy="2438640"/>
          </a:xfrm>
        </p:grpSpPr>
        <p:grpSp>
          <p:nvGrpSpPr>
            <p:cNvPr id="114" name=""/>
            <p:cNvGrpSpPr/>
            <p:nvPr/>
          </p:nvGrpSpPr>
          <p:grpSpPr>
            <a:xfrm>
              <a:off x="2209680" y="2895480"/>
              <a:ext cx="4800600" cy="2438280"/>
              <a:chOff x="2209680" y="2895480"/>
              <a:chExt cx="4800600" cy="2438280"/>
            </a:xfrm>
          </p:grpSpPr>
          <p:sp>
            <p:nvSpPr>
              <p:cNvPr id="115" name=""/>
              <p:cNvSpPr/>
              <p:nvPr/>
            </p:nvSpPr>
            <p:spPr>
              <a:xfrm flipH="1">
                <a:off x="2246040" y="2895480"/>
                <a:ext cx="4764240" cy="24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5333760"/>
                <a:ext cx="29908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55760" y="4643280"/>
                <a:ext cx="107964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5257800" y="2895120"/>
              <a:ext cx="175248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86000" y="4419720"/>
            <a:ext cx="2971800" cy="914400"/>
            <a:chOff x="2286000" y="4419720"/>
            <a:chExt cx="2971800" cy="914400"/>
          </a:xfrm>
        </p:grpSpPr>
        <p:sp>
          <p:nvSpPr>
            <p:cNvPr id="120" name=""/>
            <p:cNvSpPr/>
            <p:nvPr/>
          </p:nvSpPr>
          <p:spPr>
            <a:xfrm flipH="1">
              <a:off x="2287080" y="4419720"/>
              <a:ext cx="17528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5334120"/>
              <a:ext cx="2971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32360" y="4419720"/>
              <a:ext cx="11491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86000" y="3816360"/>
            <a:ext cx="2971440" cy="1976040"/>
            <a:chOff x="2286000" y="3816360"/>
            <a:chExt cx="2971440" cy="1976040"/>
          </a:xfrm>
        </p:grpSpPr>
        <p:sp>
          <p:nvSpPr>
            <p:cNvPr id="124" name=""/>
            <p:cNvSpPr/>
            <p:nvPr/>
          </p:nvSpPr>
          <p:spPr>
            <a:xfrm flipH="1">
              <a:off x="2286000" y="3816360"/>
              <a:ext cx="2971440" cy="152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5332680"/>
              <a:ext cx="2971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50200" y="5032080"/>
              <a:ext cx="210240" cy="6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6720" y="4841280"/>
              <a:ext cx="104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</a:rPr>
                <a:t>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10280" y="5332680"/>
              <a:ext cx="132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255640" y="3816360"/>
              <a:ext cx="1800" cy="151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581120" y="17733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一定全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763040" y="4653000"/>
            <a:ext cx="1081080" cy="15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985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角形的两条边分别是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70320" y="19162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不一定全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614320" y="3032640"/>
            <a:ext cx="3939480" cy="1668240"/>
            <a:chOff x="2614320" y="3032640"/>
            <a:chExt cx="3939480" cy="1668240"/>
          </a:xfrm>
        </p:grpSpPr>
        <p:sp>
          <p:nvSpPr>
            <p:cNvPr id="135" name=""/>
            <p:cNvSpPr/>
            <p:nvPr/>
          </p:nvSpPr>
          <p:spPr>
            <a:xfrm>
              <a:off x="2624040" y="3074040"/>
              <a:ext cx="1089360" cy="1606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733200" y="4686120"/>
              <a:ext cx="2820600" cy="14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14320" y="3032640"/>
              <a:ext cx="3858480" cy="160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718080" y="2816280"/>
            <a:ext cx="2832120" cy="1880640"/>
            <a:chOff x="3718080" y="2816280"/>
            <a:chExt cx="2832120" cy="1880640"/>
          </a:xfrm>
        </p:grpSpPr>
        <p:grpSp>
          <p:nvGrpSpPr>
            <p:cNvPr id="139" name=""/>
            <p:cNvGrpSpPr/>
            <p:nvPr/>
          </p:nvGrpSpPr>
          <p:grpSpPr>
            <a:xfrm>
              <a:off x="3718080" y="2816280"/>
              <a:ext cx="2832120" cy="1880640"/>
              <a:chOff x="3718080" y="2816280"/>
              <a:chExt cx="2832120" cy="1880640"/>
            </a:xfrm>
          </p:grpSpPr>
          <p:sp>
            <p:nvSpPr>
              <p:cNvPr id="140" name=""/>
              <p:cNvSpPr/>
              <p:nvPr/>
            </p:nvSpPr>
            <p:spPr>
              <a:xfrm flipH="1" flipV="1">
                <a:off x="3718080" y="2816280"/>
                <a:ext cx="29520" cy="183024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31760" y="4669560"/>
                <a:ext cx="2818440" cy="273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758760" y="2828520"/>
              <a:ext cx="2784960" cy="184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40400" y="2932560"/>
            <a:ext cx="2817720" cy="2198880"/>
            <a:chOff x="3740400" y="2932560"/>
            <a:chExt cx="2817720" cy="2198880"/>
          </a:xfrm>
        </p:grpSpPr>
        <p:sp>
          <p:nvSpPr>
            <p:cNvPr id="144" name=""/>
            <p:cNvSpPr/>
            <p:nvPr/>
          </p:nvSpPr>
          <p:spPr>
            <a:xfrm rot="19429800">
              <a:off x="3734280" y="327276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746160" y="3038760"/>
              <a:ext cx="964440" cy="16160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4080" y="4669200"/>
              <a:ext cx="2799720" cy="324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1547800">
              <a:off x="4691160" y="472428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640" y="3093840"/>
              <a:ext cx="1833480" cy="16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763040" y="4581360"/>
            <a:ext cx="108108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5840" y="907920"/>
            <a:ext cx="77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角形的两个角分别是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752120" y="2487600"/>
            <a:ext cx="4343400" cy="2183400"/>
            <a:chOff x="1752120" y="2487600"/>
            <a:chExt cx="4343400" cy="2183400"/>
          </a:xfrm>
        </p:grpSpPr>
        <p:grpSp>
          <p:nvGrpSpPr>
            <p:cNvPr id="152" name=""/>
            <p:cNvGrpSpPr/>
            <p:nvPr/>
          </p:nvGrpSpPr>
          <p:grpSpPr>
            <a:xfrm>
              <a:off x="1752120" y="2487600"/>
              <a:ext cx="4267440" cy="2008080"/>
              <a:chOff x="1752120" y="2487600"/>
              <a:chExt cx="4267440" cy="200808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1752120" y="2487600"/>
                <a:ext cx="3218040" cy="20080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1763640" y="2514600"/>
                <a:ext cx="4255920" cy="1981080"/>
                <a:chOff x="1763640" y="2514600"/>
                <a:chExt cx="4255920" cy="1981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763640" y="4495680"/>
                  <a:ext cx="425592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52880" y="2514600"/>
                  <a:ext cx="1066680" cy="19810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2036520" y="4129200"/>
              <a:ext cx="4059000" cy="541800"/>
              <a:chOff x="2036520" y="4129200"/>
              <a:chExt cx="4059000" cy="541800"/>
            </a:xfrm>
          </p:grpSpPr>
          <p:sp>
            <p:nvSpPr>
              <p:cNvPr id="158" name=""/>
              <p:cNvSpPr/>
              <p:nvPr/>
            </p:nvSpPr>
            <p:spPr>
              <a:xfrm>
                <a:off x="2199600" y="4129200"/>
                <a:ext cx="80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0</a:t>
                </a:r>
                <a:r>
                  <a:rPr b="0" lang="en-US" sz="1800" spc="-1" strike="noStrike" baseline="30000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91200" y="4129200"/>
                <a:ext cx="90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30000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29040" y="4200120"/>
                <a:ext cx="106200" cy="271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036520" y="4271760"/>
                <a:ext cx="174960" cy="39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1324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132497"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1746000" y="2971800"/>
            <a:ext cx="3283200" cy="1690560"/>
            <a:chOff x="1746000" y="2971800"/>
            <a:chExt cx="3283200" cy="1690560"/>
          </a:xfrm>
        </p:grpSpPr>
        <p:sp>
          <p:nvSpPr>
            <p:cNvPr id="163" name=""/>
            <p:cNvSpPr/>
            <p:nvPr/>
          </p:nvSpPr>
          <p:spPr>
            <a:xfrm flipH="1">
              <a:off x="1746000" y="2971800"/>
              <a:ext cx="2444760" cy="1523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52840" y="4495680"/>
              <a:ext cx="3276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1120" y="2971800"/>
              <a:ext cx="838080" cy="1523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073240" y="4129200"/>
              <a:ext cx="2796840" cy="533160"/>
              <a:chOff x="2073240" y="4129200"/>
              <a:chExt cx="2796840" cy="533160"/>
            </a:xfrm>
          </p:grpSpPr>
          <p:sp>
            <p:nvSpPr>
              <p:cNvPr id="167" name=""/>
              <p:cNvSpPr/>
              <p:nvPr/>
            </p:nvSpPr>
            <p:spPr>
              <a:xfrm>
                <a:off x="2185920" y="4129200"/>
                <a:ext cx="55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0</a:t>
                </a:r>
                <a:r>
                  <a:rPr b="0" lang="en-US" sz="1800" spc="-1" strike="noStrike" baseline="30000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46920" y="412920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30000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17720" y="4199040"/>
                <a:ext cx="73080" cy="26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73240" y="4269600"/>
                <a:ext cx="120960" cy="39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1324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132497"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1752480" y="3352680"/>
            <a:ext cx="2514600" cy="1298520"/>
            <a:chOff x="1752480" y="3352680"/>
            <a:chExt cx="2514600" cy="1298520"/>
          </a:xfrm>
        </p:grpSpPr>
        <p:sp>
          <p:nvSpPr>
            <p:cNvPr id="172" name=""/>
            <p:cNvSpPr/>
            <p:nvPr/>
          </p:nvSpPr>
          <p:spPr>
            <a:xfrm>
              <a:off x="3543120" y="41004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763280" y="3352680"/>
              <a:ext cx="1817640" cy="1135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495680"/>
              <a:ext cx="25146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1280" y="3352680"/>
              <a:ext cx="685800" cy="1143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70080" y="4254480"/>
              <a:ext cx="144720" cy="23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1280" y="4321080"/>
              <a:ext cx="14544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97080" y="41115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r>
                <a:rPr b="0" lang="en-US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03880" y="162864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不一定全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60680" y="4869000"/>
            <a:ext cx="14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66"/>
                </a:solidFill>
                <a:latin typeface="Times New Roman"/>
                <a:ea typeface="黑体"/>
              </a:rPr>
              <a:t>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8480" y="4724280"/>
            <a:ext cx="3198240" cy="1191240"/>
          </a:xfrm>
          <a:prstGeom prst="rect">
            <a:avLst/>
          </a:prstGeom>
          <a:solidFill>
            <a:srgbClr val="ff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有两个条件对应相等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保证三角形全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943760" y="4653000"/>
            <a:ext cx="1081080" cy="15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90720" y="1157400"/>
            <a:ext cx="7467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已知三角形的三个角分别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993040" y="2541600"/>
            <a:ext cx="2144520" cy="1493640"/>
            <a:chOff x="2993040" y="2541600"/>
            <a:chExt cx="2144520" cy="1493640"/>
          </a:xfrm>
        </p:grpSpPr>
        <p:sp>
          <p:nvSpPr>
            <p:cNvPr id="185" name=""/>
            <p:cNvSpPr/>
            <p:nvPr/>
          </p:nvSpPr>
          <p:spPr>
            <a:xfrm rot="19897200">
              <a:off x="3054240" y="3528360"/>
              <a:ext cx="5540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7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0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9897200">
              <a:off x="3681360" y="3184200"/>
              <a:ext cx="5540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7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0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9897200">
              <a:off x="4521600" y="2649240"/>
              <a:ext cx="5540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7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0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009880" y="4952880"/>
            <a:ext cx="67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个内角对应相等的三角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一定      全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52480" y="3352680"/>
            <a:ext cx="2514600" cy="1298520"/>
            <a:chOff x="1752480" y="3352680"/>
            <a:chExt cx="2514600" cy="1298520"/>
          </a:xfrm>
        </p:grpSpPr>
        <p:sp>
          <p:nvSpPr>
            <p:cNvPr id="190" name=""/>
            <p:cNvSpPr/>
            <p:nvPr/>
          </p:nvSpPr>
          <p:spPr>
            <a:xfrm>
              <a:off x="3543120" y="41004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0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763280" y="3352680"/>
              <a:ext cx="1817640" cy="11350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2480" y="4495680"/>
              <a:ext cx="25146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1280" y="3352680"/>
              <a:ext cx="685800" cy="1143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70080" y="4254480"/>
              <a:ext cx="144720" cy="23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1280" y="4321080"/>
              <a:ext cx="14544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97080" y="41115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746000" y="2971800"/>
            <a:ext cx="3283200" cy="1691280"/>
            <a:chOff x="1746000" y="2971800"/>
            <a:chExt cx="3283200" cy="1691280"/>
          </a:xfrm>
        </p:grpSpPr>
        <p:sp>
          <p:nvSpPr>
            <p:cNvPr id="198" name=""/>
            <p:cNvSpPr/>
            <p:nvPr/>
          </p:nvSpPr>
          <p:spPr>
            <a:xfrm flipH="1">
              <a:off x="1746000" y="2971800"/>
              <a:ext cx="2444760" cy="1523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840" y="4495680"/>
              <a:ext cx="3276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91120" y="2971800"/>
              <a:ext cx="838080" cy="1523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070000" y="4129200"/>
              <a:ext cx="2958840" cy="533880"/>
              <a:chOff x="2070000" y="4129200"/>
              <a:chExt cx="2958840" cy="533880"/>
            </a:xfrm>
          </p:grpSpPr>
          <p:sp>
            <p:nvSpPr>
              <p:cNvPr id="202" name=""/>
              <p:cNvSpPr/>
              <p:nvPr/>
            </p:nvSpPr>
            <p:spPr>
              <a:xfrm>
                <a:off x="2188800" y="4129200"/>
                <a:ext cx="58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0</a:t>
                </a:r>
                <a:r>
                  <a:rPr b="1" lang="en-US" sz="2000" spc="-1" strike="noStrike" baseline="30000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1120" y="412920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60</a:t>
                </a:r>
                <a:r>
                  <a:rPr b="1" lang="en-US" sz="2000" spc="-1" strike="noStrike" baseline="30000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61720" y="4199040"/>
                <a:ext cx="77400" cy="267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070000" y="4269600"/>
                <a:ext cx="12744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1324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132497"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1752120" y="2487600"/>
            <a:ext cx="4343400" cy="2184480"/>
            <a:chOff x="1752120" y="2487600"/>
            <a:chExt cx="4343400" cy="2184480"/>
          </a:xfrm>
        </p:grpSpPr>
        <p:grpSp>
          <p:nvGrpSpPr>
            <p:cNvPr id="207" name=""/>
            <p:cNvGrpSpPr/>
            <p:nvPr/>
          </p:nvGrpSpPr>
          <p:grpSpPr>
            <a:xfrm>
              <a:off x="1752120" y="2487600"/>
              <a:ext cx="4267440" cy="2008080"/>
              <a:chOff x="1752120" y="2487600"/>
              <a:chExt cx="4267440" cy="200808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1752120" y="2487600"/>
                <a:ext cx="3218040" cy="200808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1763640" y="2514600"/>
                <a:ext cx="4255920" cy="1981080"/>
                <a:chOff x="1763640" y="2514600"/>
                <a:chExt cx="4255920" cy="1981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763640" y="4495680"/>
                  <a:ext cx="4255920" cy="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952880" y="2514600"/>
                  <a:ext cx="1066680" cy="19810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2036520" y="4129200"/>
              <a:ext cx="4059000" cy="542880"/>
              <a:chOff x="2036520" y="4129200"/>
              <a:chExt cx="4059000" cy="5428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99600" y="4129200"/>
                <a:ext cx="80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0</a:t>
                </a:r>
                <a:r>
                  <a:rPr b="1" lang="en-US" sz="2000" spc="-1" strike="noStrike" baseline="30000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91200" y="4129200"/>
                <a:ext cx="90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60</a:t>
                </a:r>
                <a:r>
                  <a:rPr b="1" lang="en-US" sz="2000" spc="-1" strike="noStrike" baseline="30000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29040" y="4200480"/>
                <a:ext cx="106200" cy="271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036520" y="4272120"/>
                <a:ext cx="174960" cy="39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1324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132497"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1182600" y="404640"/>
            <a:ext cx="2524320" cy="703440"/>
          </a:xfrm>
          <a:prstGeom prst="rect">
            <a:avLst/>
          </a:prstGeom>
          <a:solidFill>
            <a:srgbClr val="ffff00">
              <a:alpha val="73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黑体"/>
              </a:rPr>
              <a:t>探究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73480" y="476280"/>
            <a:ext cx="32925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三个条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49240" y="4892760"/>
            <a:ext cx="1094040" cy="642600"/>
          </a:xfrm>
          <a:prstGeom prst="rect">
            <a:avLst/>
          </a:prstGeom>
          <a:solidFill>
            <a:srgbClr val="ffff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48Z</dcterms:created>
  <dc:creator/>
  <dc:description/>
  <dc:language>en-US</dc:language>
  <cp:lastModifiedBy>USER</cp:lastModifiedBy>
  <dcterms:modified xsi:type="dcterms:W3CDTF">2012-02-15T05:13:27Z</dcterms:modified>
  <cp:revision>2</cp:revision>
  <dc:subject/>
  <dc:title/>
</cp:coreProperties>
</file>