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C19-C794-43C4-ABF9-DA2152F8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FDA-760E-461E-B379-2A63DF79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120-440B-4E61-A29E-D7211E43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A75-B43D-43BE-A58F-0EE0370C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D4D9-55C8-4ED7-A457-32FB5263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D672-CA25-405D-8340-A83C1ED5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47EF-9BA6-43F9-BB96-F779AA03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7EFB-5CA3-4AA0-80AF-8982AA0C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873D-C77F-4C08-9E2D-9E0AC059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E91A-890C-4543-AC84-35DA5A02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C926-833B-47CB-9356-CE624380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949-780B-4315-A3E9-30E9343C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AA75-DE5E-4B47-B27A-A89E5FD5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9B90-C0C4-4D2C-97F3-EAAD8B7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AEF4-2B9F-4B80-B4CE-0CC4A40C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A7C4-FCA6-4A18-9E39-982B9838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7F9D-E379-41E2-B62F-B755D5DE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309-FBA4-43E7-B004-C9C0488B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032-AF17-4C22-B54E-540180F4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451-61F6-439F-8E74-11021585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148-4020-46CB-9BA9-5C418838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87B-23BA-43CF-8A1D-725F6D1F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A05-D68A-47F9-AA28-487D832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6F4-2999-4D42-A959-0EF71551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C120-7CBE-4447-858A-C1608F61A9D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DE1C-BC90-411B-A67A-9F7B64D8A3D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1510920"/>
            <a:ext cx="85345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第七课时 幂的运算 小结与思考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连云港市海州实验中学  王 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53388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学习本章需关注的几个问题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457200" y="1066680"/>
            <a:ext cx="11734920" cy="2827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83080" y="4299120"/>
            <a:ext cx="19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◆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上述各式子中的底数字母不仅仅表示一个数、一个字母，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还可以表示一个单项式，甚至还可以表示一个多项式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换句话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将底数看作是一个“整体”即可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81240" y="4267080"/>
            <a:ext cx="9677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◆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注意上述各式的逆向应用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如计算，可先逆用同底数幂的乘法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则将写成，再逆用积的乘方法则计算，由此不难得到结果为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457200" y="1066680"/>
            <a:ext cx="1173492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4038480"/>
            <a:ext cx="8763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◆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通过对式子的变形，进一步领会转化的数学思想方法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如同底数幂的乘法就是将乘法运算转化为指数的加法运算，同底数幂的除法就是将除法运算转化为指数的减法运算，幂的乘方就是将乘方运算转化为指数的乘法运算等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457200" y="1066680"/>
            <a:ext cx="1173492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5960" y="4191120"/>
            <a:ext cx="8762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◆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在经历上述各个式子的推导过程中，进一步领悟“通过观察、猜想、验证与发现法则、规律”这一重要的数学研究的方法，学习并体会从特殊到一般的归纳推理的数学思想方法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457200" y="1066680"/>
            <a:ext cx="1173492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52480" y="1447920"/>
                <a:ext cx="2667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76520" y="2133720"/>
                <a:ext cx="2895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÷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76520" y="3276720"/>
                <a:ext cx="32004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76520" y="2666880"/>
                <a:ext cx="2361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3835440"/>
                <a:ext cx="2514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计算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1143000"/>
                <a:ext cx="3809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676520" y="2362320"/>
                <a:ext cx="4876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00200" y="3505320"/>
                <a:ext cx="54100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-228600" y="1709640"/>
          <a:ext cx="17297280" cy="11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709640"/>
                    <a:ext cx="172972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-1066680" y="2782800"/>
            <a:ext cx="16002000" cy="1255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-1066680" y="4038480"/>
            <a:ext cx="15620760" cy="1219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2560" y="914400"/>
            <a:ext cx="8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蒋卫明</cp:lastModifiedBy>
  <dcterms:modified xsi:type="dcterms:W3CDTF">2012-06-28T23:39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