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type.wav" ContentType="audio/x-wav"/>
  <Override PartName="/ppt/media/image17.wmf" ContentType="image/x-wmf"/>
  <Override PartName="/ppt/media/image15.jpeg" ContentType="image/jpeg"/>
  <Override PartName="/ppt/media/chimes.wav" ContentType="audio/x-wav"/>
  <Override PartName="/ppt/media/image16.jpeg" ContentType="image/jpeg"/>
  <Override PartName="/ppt/media/image6.jpeg" ContentType="image/jpeg"/>
  <Override PartName="/ppt/media/applause.wav" ContentType="audio/x-wav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4F8D0-F321-4F40-9B5A-63E45C011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603FE-772C-4F19-84BE-C1335EBFA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0785C-64AC-4833-8AD6-EAE5235B2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AEE46-38DC-4402-B0B2-60E20C01D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5444D-A325-4F0A-BD53-204570279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26012-F98C-484A-9653-DA1ADD6F8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A9ECD-B45C-4FE3-AC32-7F688164B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45F0D-D76A-404B-BD33-7AA5372EB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C530D-12D8-4871-B8AC-B281AE0E6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CCB00-46DA-4478-9A18-BD1A87CCA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C5304-E1E4-4EBA-AAAB-15E451C8C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B7800-E7B5-4F00-963F-2D1F0D470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110A7-3241-495F-9F08-5E500BA1088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7.wmf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applause.wav"/><Relationship Id="rId1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0"/>
            <a:ext cx="9753120" cy="6858000"/>
            <a:chOff x="0" y="0"/>
            <a:chExt cx="9753120" cy="6858000"/>
          </a:xfrm>
        </p:grpSpPr>
        <p:grpSp>
          <p:nvGrpSpPr>
            <p:cNvPr id="42" name=""/>
            <p:cNvGrpSpPr/>
            <p:nvPr/>
          </p:nvGrpSpPr>
          <p:grpSpPr>
            <a:xfrm>
              <a:off x="0" y="0"/>
              <a:ext cx="9753120" cy="6858000"/>
              <a:chOff x="0" y="0"/>
              <a:chExt cx="9753120" cy="6858000"/>
            </a:xfrm>
          </p:grpSpPr>
          <p:pic>
            <p:nvPicPr>
              <p:cNvPr id="43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0"/>
                <a:ext cx="917100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" name=""/>
              <p:cNvSpPr/>
              <p:nvPr/>
            </p:nvSpPr>
            <p:spPr>
              <a:xfrm>
                <a:off x="2380680" y="838080"/>
                <a:ext cx="7372440" cy="91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33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" name=""/>
            <p:cNvSpPr/>
            <p:nvPr/>
          </p:nvSpPr>
          <p:spPr>
            <a:xfrm>
              <a:off x="5410080" y="5759280"/>
              <a:ext cx="34290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丰富的图形世界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1295280" y="5410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75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25"/>
                            </p:stCondLst>
                            <p:childTnLst>
                              <p:par>
                                <p:cTn id="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" dur="1" fill="hold"/>
                                        <p:tgtEl>
                                          <p:spTgt spid="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animClr clrSpc="rgb">
                                <p:cBhvr>
                                  <p:cTn id="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议一议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在上面的图片中你能看到哪些常见的立体图形？哪些常见的平面图形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380880" y="838080"/>
            <a:ext cx="914400" cy="1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隶书"/>
                <a:ea typeface="隶书"/>
              </a:rPr>
              <a:t>我们生活在丰富的图形世界里，</a:t>
            </a:r>
            <a:br>
              <a:rPr sz="4000"/>
            </a:br>
            <a:r>
              <a:rPr b="0" lang="zh-CN" sz="4000" spc="-1" strike="noStrike">
                <a:solidFill>
                  <a:srgbClr val="ff0000"/>
                </a:solidFill>
                <a:latin typeface="隶书"/>
                <a:ea typeface="隶书"/>
              </a:rPr>
              <a:t>各种图形美化了我们的生活空间</a:t>
            </a:r>
            <a:r>
              <a:rPr b="0" lang="zh-CN" sz="4000" spc="-1" strike="noStrike">
                <a:solidFill>
                  <a:srgbClr val="0000cc"/>
                </a:solidFill>
                <a:latin typeface="隶书"/>
                <a:ea typeface="隶书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你能举一些我们生活中有关图形的例子吗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华文行楷"/>
                <a:ea typeface="华文行楷"/>
              </a:rPr>
              <a:t>练一练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cc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隶书"/>
                <a:ea typeface="隶书"/>
              </a:rPr>
              <a:t>	</a:t>
            </a:r>
            <a:r>
              <a:rPr b="1" lang="zh-CN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下面这些基本图形你熟悉吗？在括号里写出它们的名称</a:t>
            </a:r>
            <a:r>
              <a:rPr b="1" lang="zh-CN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:</a:t>
            </a:r>
            <a:br>
              <a:rPr sz="3200"/>
            </a:br>
            <a:r>
              <a:rPr b="1" lang="zh-CN" sz="3200" spc="-1" strike="noStrike">
                <a:solidFill>
                  <a:srgbClr val="0000cc"/>
                </a:solidFill>
                <a:latin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cc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隶书"/>
                <a:ea typeface="隶书"/>
              </a:rPr>
              <a:t>                                        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隶书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隶书"/>
              </a:rPr>
              <a:t>(   )   (     )   (      )  (       ) (      )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43280" y="2905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295280" y="5257800"/>
            <a:ext cx="48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隶书"/>
              </a:rPr>
              <a:t>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514600" y="52578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隶书"/>
              </a:rPr>
              <a:t>圆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038480" y="52578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隶书"/>
              </a:rPr>
              <a:t>圆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562720" y="524988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隶书"/>
              </a:rPr>
              <a:t>四棱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010280" y="52498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隶书"/>
              </a:rPr>
              <a:t>三棱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762120" y="3200400"/>
            <a:ext cx="7770600" cy="16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4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9" dur="5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4" dur="500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cc"/>
                </a:solidFill>
                <a:latin typeface="Times New Roman"/>
                <a:ea typeface="华文行楷"/>
              </a:rPr>
              <a:t>图片欣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37720" y="2285640"/>
            <a:ext cx="678204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0000cc"/>
              </a:solidFill>
              <a:latin typeface="隶书"/>
              <a:ea typeface="隶书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0" y="1197000"/>
            <a:ext cx="91440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0000"/>
              </a:solidFill>
              <a:latin typeface="Times New Roman"/>
              <a:ea typeface="华文行楷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19320" y="3657240"/>
            <a:ext cx="723888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0000"/>
              </a:solidFill>
              <a:latin typeface="Times New Roman"/>
              <a:ea typeface="华文行楷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0000"/>
              </a:solidFill>
              <a:latin typeface="Times New Roman"/>
              <a:ea typeface="华文行楷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cc"/>
              </a:solidFill>
              <a:latin typeface="隶书"/>
              <a:ea typeface="隶书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90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0000"/>
              </a:solidFill>
              <a:latin typeface="Times New Roman"/>
              <a:ea typeface="华文行楷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cc"/>
              </a:solidFill>
              <a:latin typeface="隶书"/>
              <a:ea typeface="隶书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0000"/>
              </a:solidFill>
              <a:latin typeface="Times New Roman"/>
              <a:ea typeface="华文行楷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cc"/>
              </a:solidFill>
              <a:latin typeface="隶书"/>
              <a:ea typeface="隶书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0000"/>
              </a:solidFill>
              <a:latin typeface="Times New Roman"/>
              <a:ea typeface="华文行楷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cc"/>
              </a:solidFill>
              <a:latin typeface="隶书"/>
              <a:ea typeface="隶书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0000"/>
              </a:solidFill>
              <a:latin typeface="Times New Roman"/>
              <a:ea typeface="华文行楷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4648320" y="0"/>
            <a:ext cx="4114800" cy="32004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304920" y="0"/>
            <a:ext cx="4267080" cy="32767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152280" y="3352680"/>
            <a:ext cx="4419720" cy="312444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05560" y="5638680"/>
            <a:ext cx="75960" cy="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9520" bIns="295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5"/>
          <a:stretch/>
        </p:blipFill>
        <p:spPr>
          <a:xfrm>
            <a:off x="4724280" y="3276720"/>
            <a:ext cx="406404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9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2T16:00:06Z</dcterms:created>
  <dc:creator>DIY</dc:creator>
  <dc:description/>
  <dc:language>en-US</dc:language>
  <cp:lastModifiedBy>微软用户</cp:lastModifiedBy>
  <dcterms:modified xsi:type="dcterms:W3CDTF">2012-08-08T06:23:06Z</dcterms:modified>
  <cp:revision>33</cp:revision>
  <dc:subject/>
  <dc:title>走进图形世界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6090000000000010250600207f7000400038000</vt:lpwstr>
  </property>
</Properties>
</file>