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wmf" ContentType="image/x-wmf"/>
  <Override PartName="/ppt/media/image14.png" ContentType="image/png"/>
  <Override PartName="/ppt/media/image8.wmf" ContentType="image/x-wmf"/>
  <Override PartName="/ppt/media/hammer.wav" ContentType="audio/x-wav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12.wmf" ContentType="image/x-wmf"/>
  <Override PartName="/ppt/media/image7.wmf" ContentType="image/x-wmf"/>
  <Override PartName="/ppt/media/coin.wav" ContentType="audio/x-wav"/>
  <Override PartName="/ppt/media/image20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3.wmf" ContentType="image/x-wmf"/>
  <Override PartName="/ppt/media/ricochet.wav" ContentType="audio/x-wav"/>
  <Override PartName="/ppt/media/chimes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C480-7AFC-49B5-AA01-49D3E958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DEF-479E-424F-A557-EC075011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D28-D4BB-45F4-880D-CF37BFF6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7B06-843C-4319-B3F7-B61B906C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AEE0-BFB6-4867-A872-82A66F73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501F-67AC-404F-ABFD-677E5914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2D0E-1405-4871-B203-60B2E612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7889-3696-4993-9FC5-97F3CAB5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08AA-94EF-47E3-9881-D9A1FA63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D6A6-7067-463C-A358-210F94D4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BAB6-C885-493E-8743-4F6641E3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E9A-B5EE-46F6-B38A-248C1AC0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4B0F-375E-4454-8B2A-195C80C5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90CA-CA81-47B1-934C-4FD903E4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BBDD-305E-46AA-BBA0-FBF574D5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5E75-CEEB-49CA-9C46-01969EA1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97B7-1249-40D6-A4FB-C8B2AD37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ABBE6-FF3A-423A-A920-D1192E61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2058E-E0E9-4158-945D-F4AC000D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F3EB5-0441-4816-A71F-6B31CEE6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4A49E-80ED-4BEC-A2FD-F71A01CD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00060-084E-4098-B482-F0F5934B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049-ABB0-46D8-B74C-10AFE613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6B49D-127F-441A-A6E3-8A29E05A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7D0EB-2F3C-4192-90C4-D4C7FC02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3F20E-019F-4A13-A4E7-2C63BE43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CF187-D588-4AAC-846B-234A62F2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F056F-F04E-441A-A774-E56F9AA7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901B8-3092-4BB7-8229-D89EA3EC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27B52-75CC-40CB-BBFF-29DE0457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5B1EF-68D3-4E78-A853-0E4C2197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EC4EC-AD58-4847-897A-1E3108F8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F25D6-1754-46D6-BF5D-26125B3E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354-A81F-45D0-894D-51F7945E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F90E5-0894-476B-8128-E9FBBD12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EDE0D-4961-46DA-8312-282FD160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E192E-F9A8-48B1-9B3C-5ACDF649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50CE6-34AE-4295-8BDC-B177D32D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F3631-1BF3-490E-8DF0-5635E673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CCDD0-47D8-4E21-9CDE-8F13DA76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4F823-7CA8-4363-BF9D-2ECA06B0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71448-200D-44D4-A5BC-D45CACCA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5A8CB-8EB7-45E0-B786-B10B1032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1BC-F2C1-4F6F-9148-E7BC0A8F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D5A-07A3-48B4-A54C-1D4CAD26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C1A-C344-4100-A5D6-9E6CCD88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686-48CD-4175-98D4-C042F367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EB6-9519-413F-A000-8523B171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C081-2B77-48A1-BC75-9AC019B7DC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CC3B-D089-4942-A8F4-DEE6ED21FA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未知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未知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8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98" name="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12" name="未知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13" name="未知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117" name="未知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135" name="未知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39" name="未知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7097-373F-4498-A901-886CD929483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9" name="未知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19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203" name="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222" name="未知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23" name="未知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25" name="未知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26" name="未知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28" name="未知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240" name="未知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ACF0-AFA6-461C-AE85-F375FD923B3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" Target="slide5.xml"/><Relationship Id="rId4" Type="http://schemas.openxmlformats.org/officeDocument/2006/relationships/audio" Target="../media/chimes.wav"/><Relationship Id="rId5" Type="http://schemas.openxmlformats.org/officeDocument/2006/relationships/audio" Target="../media/ricochet.wav"/><Relationship Id="rId6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audio" Target="../media/chimes.wav"/><Relationship Id="rId6" Type="http://schemas.openxmlformats.org/officeDocument/2006/relationships/audio" Target="../media/ricochet.wav"/><Relationship Id="rId7" Type="http://schemas.openxmlformats.org/officeDocument/2006/relationships/audio" Target="../media/hammer.wav"/><Relationship Id="rId8" Type="http://schemas.openxmlformats.org/officeDocument/2006/relationships/audio" Target="../media/coin.wav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3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2124000" y="765000"/>
            <a:ext cx="626436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57240">
                  <a:solidFill>
                    <a:srgbClr val="0000ff">
                      <a:alpha val="89000"/>
                    </a:srgbClr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余角、补角、对顶角（</a:t>
            </a:r>
            <a:r>
              <a:rPr b="1" lang="en-US" sz="2800" spc="1" strike="noStrike">
                <a:ln w="57240">
                  <a:solidFill>
                    <a:srgbClr val="0000ff">
                      <a:alpha val="89000"/>
                    </a:srgbClr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1</a:t>
            </a:r>
            <a:r>
              <a:rPr b="1" lang="zh-CN" sz="2800" spc="1" strike="noStrike">
                <a:ln w="57240">
                  <a:solidFill>
                    <a:srgbClr val="0000ff">
                      <a:alpha val="89000"/>
                    </a:srgbClr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）</a:t>
            </a:r>
            <a:endParaRPr b="1" lang="en-US" sz="2800" spc="1" strike="noStrike">
              <a:ln w="57240">
                <a:solidFill>
                  <a:srgbClr val="0000ff">
                    <a:alpha val="89000"/>
                  </a:srgbClr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293" name=""/>
          <p:cNvSpPr/>
          <p:nvPr/>
        </p:nvSpPr>
        <p:spPr>
          <a:xfrm>
            <a:off x="8728200" y="5362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801280" y="5162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88200" y="473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826920" y="1916280"/>
            <a:ext cx="6912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）若一个角为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度，则它的余角为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________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度，它的补角为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__________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度。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55640" y="22766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90-</a:t>
            </a:r>
            <a:r>
              <a:rPr b="1" i="1" lang="en-US" sz="32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35640" y="2349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80-</a:t>
            </a:r>
            <a:r>
              <a:rPr b="1" i="1" lang="en-US" sz="32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189000"/>
            <a:ext cx="9144000" cy="2837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8e4"/>
                </a:solidFill>
                <a:latin typeface="Times New Roman"/>
                <a:ea typeface="黑体"/>
              </a:rPr>
              <a:t>例⒈已知∠</a:t>
            </a:r>
            <a:r>
              <a:rPr b="1" lang="en-US" sz="6000" spc="-1" strike="noStrike">
                <a:solidFill>
                  <a:srgbClr val="0088e4"/>
                </a:solidFill>
                <a:latin typeface="Times New Roman"/>
                <a:ea typeface="黑体"/>
              </a:rPr>
              <a:t>α</a:t>
            </a:r>
            <a:r>
              <a:rPr b="1" lang="zh-CN" sz="6000" spc="-1" strike="noStrike">
                <a:solidFill>
                  <a:srgbClr val="0088e4"/>
                </a:solidFill>
                <a:latin typeface="Times New Roman"/>
                <a:ea typeface="黑体"/>
              </a:rPr>
              <a:t>与∠</a:t>
            </a:r>
            <a:r>
              <a:rPr b="1" lang="en-US" sz="6000" spc="-1" strike="noStrike">
                <a:solidFill>
                  <a:srgbClr val="0088e4"/>
                </a:solidFill>
                <a:latin typeface="Times New Roman"/>
                <a:ea typeface="黑体"/>
              </a:rPr>
              <a:t>β</a:t>
            </a:r>
            <a:r>
              <a:rPr b="1" lang="zh-CN" sz="6000" spc="-1" strike="noStrike">
                <a:solidFill>
                  <a:srgbClr val="0088e4"/>
                </a:solidFill>
                <a:latin typeface="Times New Roman"/>
                <a:ea typeface="黑体"/>
              </a:rPr>
              <a:t>互为补角，且∠</a:t>
            </a:r>
            <a:r>
              <a:rPr b="1" lang="en-US" sz="6000" spc="-1" strike="noStrike">
                <a:solidFill>
                  <a:srgbClr val="0088e4"/>
                </a:solidFill>
                <a:latin typeface="Times New Roman"/>
                <a:ea typeface="黑体"/>
              </a:rPr>
              <a:t>β</a:t>
            </a:r>
            <a:r>
              <a:rPr b="1" lang="zh-CN" sz="6000" spc="-1" strike="noStrike">
                <a:solidFill>
                  <a:srgbClr val="0088e4"/>
                </a:solidFill>
                <a:latin typeface="Times New Roman"/>
                <a:ea typeface="黑体"/>
              </a:rPr>
              <a:t>比∠</a:t>
            </a:r>
            <a:r>
              <a:rPr b="1" lang="en-US" sz="6000" spc="-1" strike="noStrike">
                <a:solidFill>
                  <a:srgbClr val="0088e4"/>
                </a:solidFill>
                <a:latin typeface="Times New Roman"/>
                <a:ea typeface="黑体"/>
              </a:rPr>
              <a:t>α</a:t>
            </a:r>
            <a:r>
              <a:rPr b="1" lang="zh-CN" sz="6000" spc="-1" strike="noStrike">
                <a:solidFill>
                  <a:srgbClr val="0088e4"/>
                </a:solidFill>
                <a:latin typeface="Times New Roman"/>
                <a:ea typeface="黑体"/>
              </a:rPr>
              <a:t>大</a:t>
            </a:r>
            <a:r>
              <a:rPr b="1" lang="en-US" sz="6000" spc="-1" strike="noStrike">
                <a:solidFill>
                  <a:srgbClr val="0088e4"/>
                </a:solidFill>
                <a:latin typeface="Times New Roman"/>
                <a:ea typeface="黑体"/>
              </a:rPr>
              <a:t>300.</a:t>
            </a:r>
            <a:r>
              <a:rPr b="1" lang="zh-CN" sz="6000" spc="-1" strike="noStrike">
                <a:solidFill>
                  <a:srgbClr val="0088e4"/>
                </a:solidFill>
                <a:latin typeface="Times New Roman"/>
                <a:ea typeface="黑体"/>
              </a:rPr>
              <a:t>求∠</a:t>
            </a:r>
            <a:r>
              <a:rPr b="1" lang="en-US" sz="6000" spc="-1" strike="noStrike">
                <a:solidFill>
                  <a:srgbClr val="0088e4"/>
                </a:solidFill>
                <a:latin typeface="Times New Roman"/>
                <a:ea typeface="黑体"/>
              </a:rPr>
              <a:t>α</a:t>
            </a:r>
            <a:r>
              <a:rPr b="1" lang="zh-CN" sz="6000" spc="-1" strike="noStrike">
                <a:solidFill>
                  <a:srgbClr val="0088e4"/>
                </a:solidFill>
                <a:latin typeface="Times New Roman"/>
                <a:ea typeface="黑体"/>
              </a:rPr>
              <a:t>与∠</a:t>
            </a:r>
            <a:r>
              <a:rPr b="1" lang="en-US" sz="6000" spc="-1" strike="noStrike">
                <a:solidFill>
                  <a:srgbClr val="0088e4"/>
                </a:solidFill>
                <a:latin typeface="Times New Roman"/>
                <a:ea typeface="黑体"/>
              </a:rPr>
              <a:t>β</a:t>
            </a:r>
            <a:r>
              <a:rPr b="1" lang="zh-CN" sz="6000" spc="-1" strike="noStrike">
                <a:solidFill>
                  <a:srgbClr val="0088e4"/>
                </a:solidFill>
                <a:latin typeface="Times New Roman"/>
                <a:ea typeface="黑体"/>
              </a:rPr>
              <a:t>的度数？</a:t>
            </a:r>
            <a:endParaRPr b="0" lang="en-US" sz="6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95280" y="1125360"/>
            <a:ext cx="828036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Arial"/>
              </a:rPr>
              <a:t>（３）一个角的补角是它余角的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1c1c1c"/>
                </a:solidFill>
                <a:latin typeface="Arial"/>
              </a:rPr>
              <a:t>倍，这个角是多少度？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1280" y="2565360"/>
            <a:ext cx="7924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解：设这个角为</a:t>
            </a:r>
            <a:r>
              <a:rPr b="0" i="1" lang="en-US" sz="32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度，则它的余角为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90-</a:t>
            </a:r>
            <a:r>
              <a:rPr b="0" i="1" lang="en-US" sz="32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）度，它的补角为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80-</a:t>
            </a:r>
            <a:r>
              <a:rPr b="0" i="1" lang="en-US" sz="32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）度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列方程：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90-</a:t>
            </a:r>
            <a:r>
              <a:rPr b="0" i="1" lang="en-US" sz="32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=180-</a:t>
            </a:r>
            <a:r>
              <a:rPr b="0" i="1" lang="en-US" sz="3200" spc="-1" strike="noStrike">
                <a:solidFill>
                  <a:srgbClr val="ff0000"/>
                </a:solidFill>
                <a:latin typeface="宋体"/>
              </a:rPr>
              <a:t>x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宋体"/>
              </a:rPr>
              <a:t>                </a:t>
            </a:r>
            <a:r>
              <a:rPr b="0" i="1" lang="en-US" sz="32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=45°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答：这个角为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5°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295280" y="7621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4360" y="1413000"/>
            <a:ext cx="64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观察与思考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9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580000" y="4005360"/>
            <a:ext cx="1800360" cy="1619280"/>
          </a:xfrm>
          <a:custGeom>
            <a:avLst/>
            <a:gdLst>
              <a:gd name="textAreaLeft" fmla="*/ 104760 w 1800360"/>
              <a:gd name="textAreaRight" fmla="*/ 1695600 w 1800360"/>
              <a:gd name="textAreaTop" fmla="*/ 104760 h 1619280"/>
              <a:gd name="textAreaBottom" fmla="*/ 1514520 h 1619280"/>
            </a:gdLst>
            <a:ahLst/>
            <a:rect l="textAreaLeft" t="textAreaTop" r="textAreaRight" b="textAreaBottom"/>
            <a:pathLst>
              <a:path w="24015" h="21600">
                <a:moveTo>
                  <a:pt x="0" y="0"/>
                </a:moveTo>
                <a:lnTo>
                  <a:pt x="24015" y="0"/>
                </a:lnTo>
                <a:lnTo>
                  <a:pt x="24015" y="21600"/>
                </a:lnTo>
                <a:lnTo>
                  <a:pt x="0" y="21600"/>
                </a:lnTo>
                <a:close/>
              </a:path>
              <a:path fill="lightenLess" w="24015" h="21600">
                <a:moveTo>
                  <a:pt x="0" y="0"/>
                </a:moveTo>
                <a:lnTo>
                  <a:pt x="24015" y="0"/>
                </a:lnTo>
                <a:lnTo>
                  <a:pt x="22615" y="1400"/>
                </a:lnTo>
                <a:lnTo>
                  <a:pt x="1400" y="1400"/>
                </a:lnTo>
                <a:close/>
              </a:path>
              <a:path fill="darken" w="24015" h="21600">
                <a:moveTo>
                  <a:pt x="24015" y="0"/>
                </a:moveTo>
                <a:lnTo>
                  <a:pt x="24015" y="21600"/>
                </a:lnTo>
                <a:lnTo>
                  <a:pt x="22615" y="20200"/>
                </a:lnTo>
                <a:lnTo>
                  <a:pt x="22615" y="1400"/>
                </a:lnTo>
                <a:close/>
              </a:path>
              <a:path fill="darkenLess" w="24015" h="21600">
                <a:moveTo>
                  <a:pt x="24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5" y="20200"/>
                </a:lnTo>
                <a:close/>
              </a:path>
              <a:path fill="lighten" w="24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15" h="21600">
                <a:moveTo>
                  <a:pt x="5001" y="3794"/>
                </a:moveTo>
                <a:lnTo>
                  <a:pt x="19014" y="10800"/>
                </a:lnTo>
                <a:lnTo>
                  <a:pt x="5001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79280" y="1268280"/>
            <a:ext cx="53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(1).∠ADC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与∠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BDC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有相等的关系，你能说明为什么吗？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580000" y="620640"/>
            <a:ext cx="3190680" cy="2307960"/>
            <a:chOff x="5580000" y="620640"/>
            <a:chExt cx="3190680" cy="2307960"/>
          </a:xfrm>
        </p:grpSpPr>
        <p:pic>
          <p:nvPicPr>
            <p:cNvPr id="457" name="" descr=""/>
            <p:cNvPicPr/>
            <p:nvPr/>
          </p:nvPicPr>
          <p:blipFill>
            <a:blip r:embed="rId2"/>
            <a:stretch/>
          </p:blipFill>
          <p:spPr>
            <a:xfrm>
              <a:off x="5580000" y="620640"/>
              <a:ext cx="319068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6923520" y="1058040"/>
              <a:ext cx="0" cy="262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23520" y="1320480"/>
              <a:ext cx="167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468360" y="314172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∵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D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0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 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D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0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∴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D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0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 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 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D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0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∵ 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 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∴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0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 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0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即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D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 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DC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68360" y="5445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等角（或同角）的余角相等。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58920" y="5661000"/>
            <a:ext cx="504720" cy="217440"/>
          </a:xfrm>
          <a:prstGeom prst="rightArrow">
            <a:avLst>
              <a:gd name="adj1" fmla="val 50000"/>
              <a:gd name="adj2" fmla="val 5803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26920" y="333360"/>
            <a:ext cx="4537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通过刚才的观察，如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那么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3" name="chimes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6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00000" y="836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类似的你能得到等角或同角的补角也相等吗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9640" y="26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试一试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4000" y="148428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如图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,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∠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∠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互补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,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∠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3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∠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互补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如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∠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1=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∠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3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那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∠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∠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相等吗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?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为什么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258920" y="2924280"/>
            <a:ext cx="6480000" cy="1569600"/>
            <a:chOff x="1258920" y="2924280"/>
            <a:chExt cx="6480000" cy="1569600"/>
          </a:xfrm>
        </p:grpSpPr>
        <p:sp>
          <p:nvSpPr>
            <p:cNvPr id="468" name=""/>
            <p:cNvSpPr/>
            <p:nvPr/>
          </p:nvSpPr>
          <p:spPr>
            <a:xfrm flipH="1">
              <a:off x="2411280" y="2924280"/>
              <a:ext cx="648000" cy="1221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58920" y="4146120"/>
              <a:ext cx="115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2914200" y="3010680"/>
              <a:ext cx="576360" cy="1135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14560" y="4146120"/>
              <a:ext cx="100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4858920" y="2924280"/>
              <a:ext cx="792360" cy="1221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59280" y="4146120"/>
              <a:ext cx="1079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99280" y="3010680"/>
              <a:ext cx="431640" cy="1049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30920" y="405972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2195640" y="3884400"/>
              <a:ext cx="573840" cy="52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915280" y="3798000"/>
              <a:ext cx="288000" cy="69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31280" y="3798000"/>
              <a:ext cx="288000" cy="69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44000" y="3798000"/>
              <a:ext cx="431280" cy="52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63640" y="3447360"/>
              <a:ext cx="5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2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03640" y="344736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146560" y="3534120"/>
              <a:ext cx="5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3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946920" y="336096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4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1258920" y="522936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6360" y="515772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等角（或同角）的补角相等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143000" y="7621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 rot="20808000">
            <a:off x="822240" y="1369800"/>
            <a:ext cx="6889680" cy="46670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755640" y="404640"/>
            <a:ext cx="7272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练一练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在下列图形中找出一组相等的角</a:t>
            </a:r>
            <a:r>
              <a:rPr b="1" lang="en-US" sz="3200" spc="-1" strike="noStrike">
                <a:solidFill>
                  <a:srgbClr val="1c1c1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你会用几何语言叙述为什么吗</a:t>
            </a:r>
            <a:r>
              <a:rPr b="1" lang="en-US" sz="3200" spc="-1" strike="noStrike">
                <a:solidFill>
                  <a:srgbClr val="1c1c1c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95280" y="62064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一副三角板本身就蕴含着相等和互余，用一副三角板还能构造出其它一些图形，其中蕴含着相等、互余或者是互补的角，请大家动手尝试，构造设计一些这样的图形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5280" y="189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知识应用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87640" y="4653000"/>
            <a:ext cx="2664000" cy="1512720"/>
          </a:xfrm>
          <a:custGeom>
            <a:avLst/>
            <a:gdLst>
              <a:gd name="textAreaLeft" fmla="*/ 97920 w 2664000"/>
              <a:gd name="textAreaRight" fmla="*/ 2566080 w 2664000"/>
              <a:gd name="textAreaTop" fmla="*/ 97920 h 1512720"/>
              <a:gd name="textAreaBottom" fmla="*/ 1414800 h 1512720"/>
            </a:gdLst>
            <a:ahLst/>
            <a:rect l="textAreaLeft" t="textAreaTop" r="textAreaRight" b="textAreaBottom"/>
            <a:pathLst>
              <a:path w="38035" h="21600">
                <a:moveTo>
                  <a:pt x="0" y="0"/>
                </a:moveTo>
                <a:lnTo>
                  <a:pt x="38035" y="0"/>
                </a:lnTo>
                <a:lnTo>
                  <a:pt x="38035" y="21600"/>
                </a:lnTo>
                <a:lnTo>
                  <a:pt x="0" y="21600"/>
                </a:lnTo>
                <a:close/>
              </a:path>
              <a:path fill="lightenLess" w="38035" h="21600">
                <a:moveTo>
                  <a:pt x="0" y="0"/>
                </a:moveTo>
                <a:lnTo>
                  <a:pt x="38035" y="0"/>
                </a:lnTo>
                <a:lnTo>
                  <a:pt x="36635" y="1400"/>
                </a:lnTo>
                <a:lnTo>
                  <a:pt x="1400" y="1400"/>
                </a:lnTo>
                <a:close/>
              </a:path>
              <a:path fill="darken" w="38035" h="21600">
                <a:moveTo>
                  <a:pt x="38035" y="0"/>
                </a:moveTo>
                <a:lnTo>
                  <a:pt x="38035" y="21600"/>
                </a:lnTo>
                <a:lnTo>
                  <a:pt x="36635" y="20200"/>
                </a:lnTo>
                <a:lnTo>
                  <a:pt x="36635" y="1400"/>
                </a:lnTo>
                <a:close/>
              </a:path>
              <a:path fill="darkenLess" w="38035" h="21600">
                <a:moveTo>
                  <a:pt x="3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635" y="20200"/>
                </a:lnTo>
                <a:close/>
              </a:path>
              <a:path fill="lighten" w="3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035" h="21600">
                <a:moveTo>
                  <a:pt x="12011" y="3794"/>
                </a:moveTo>
                <a:lnTo>
                  <a:pt x="26024" y="10800"/>
                </a:lnTo>
                <a:lnTo>
                  <a:pt x="12011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825480" y="749160"/>
            <a:ext cx="8245440" cy="4130640"/>
            <a:chOff x="825480" y="749160"/>
            <a:chExt cx="8245440" cy="4130640"/>
          </a:xfrm>
        </p:grpSpPr>
        <p:grpSp>
          <p:nvGrpSpPr>
            <p:cNvPr id="493" name=""/>
            <p:cNvGrpSpPr/>
            <p:nvPr/>
          </p:nvGrpSpPr>
          <p:grpSpPr>
            <a:xfrm>
              <a:off x="825480" y="1344600"/>
              <a:ext cx="5105520" cy="3138480"/>
              <a:chOff x="825480" y="1344600"/>
              <a:chExt cx="5105520" cy="3138480"/>
            </a:xfrm>
          </p:grpSpPr>
          <p:sp>
            <p:nvSpPr>
              <p:cNvPr id="494" name=""/>
              <p:cNvSpPr/>
              <p:nvPr/>
            </p:nvSpPr>
            <p:spPr>
              <a:xfrm>
                <a:off x="825480" y="1344600"/>
                <a:ext cx="5105520" cy="3138480"/>
              </a:xfrm>
              <a:prstGeom prst="rect">
                <a:avLst/>
              </a:prstGeom>
              <a:solidFill>
                <a:srgbClr val="00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993600" y="1496880"/>
                <a:ext cx="4708440" cy="2823840"/>
                <a:chOff x="993600" y="1496880"/>
                <a:chExt cx="4708440" cy="28238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993600" y="1496880"/>
                  <a:ext cx="559080" cy="5497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067200" y="1496880"/>
                  <a:ext cx="559080" cy="5497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142960" y="1496880"/>
                  <a:ext cx="559080" cy="5497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993600" y="3771000"/>
                  <a:ext cx="559080" cy="5497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067200" y="3771000"/>
                  <a:ext cx="559080" cy="5497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142960" y="3771000"/>
                  <a:ext cx="559080" cy="5497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232640" y="1731960"/>
                  <a:ext cx="4230000" cy="2351880"/>
                </a:xfrm>
                <a:prstGeom prst="rect">
                  <a:avLst/>
                </a:prstGeom>
                <a:solidFill>
                  <a:srgbClr val="00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"/>
            <p:cNvGrpSpPr/>
            <p:nvPr/>
          </p:nvGrpSpPr>
          <p:grpSpPr>
            <a:xfrm>
              <a:off x="6235560" y="749160"/>
              <a:ext cx="2835360" cy="4130640"/>
              <a:chOff x="6235560" y="749160"/>
              <a:chExt cx="2835360" cy="4130640"/>
            </a:xfrm>
          </p:grpSpPr>
          <p:pic>
            <p:nvPicPr>
              <p:cNvPr id="5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997680" y="2425680"/>
                <a:ext cx="2073240" cy="2454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5" name=""/>
              <p:cNvGrpSpPr/>
              <p:nvPr/>
            </p:nvGrpSpPr>
            <p:grpSpPr>
              <a:xfrm>
                <a:off x="6235560" y="749160"/>
                <a:ext cx="2514600" cy="1219320"/>
                <a:chOff x="6235560" y="749160"/>
                <a:chExt cx="2514600" cy="121932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6235560" y="749160"/>
                  <a:ext cx="2514600" cy="1219320"/>
                </a:xfrm>
                <a:prstGeom prst="cloudCallout">
                  <a:avLst>
                    <a:gd name="adj1" fmla="val -4546"/>
                    <a:gd name="adj2" fmla="val 100652"/>
                  </a:avLst>
                </a:prstGeom>
                <a:solidFill>
                  <a:srgbClr val="0068ae"/>
                </a:solidFill>
                <a:ln w="38160">
                  <a:solidFill>
                    <a:srgbClr val="0088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387840" y="1130040"/>
                  <a:ext cx="2301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  <a:ea typeface="华文行楷"/>
                    </a:rPr>
                    <a:t>数学小知识</a:t>
                  </a:r>
                  <a:endParaRPr b="0" lang="en-US" sz="28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08" name=""/>
          <p:cNvSpPr/>
          <p:nvPr/>
        </p:nvSpPr>
        <p:spPr>
          <a:xfrm>
            <a:off x="673200" y="5213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华文行楷"/>
                <a:ea typeface="华文行楷"/>
              </a:rPr>
              <a:t>打台球时</a:t>
            </a:r>
            <a:r>
              <a:rPr b="1" lang="zh-CN" sz="3600" spc="-1" strike="noStrike">
                <a:solidFill>
                  <a:srgbClr val="1c1c1c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1c1c1c"/>
                </a:solidFill>
                <a:latin typeface="华文行楷"/>
                <a:ea typeface="华文行楷"/>
              </a:rPr>
              <a:t>球的</a:t>
            </a: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反射角</a:t>
            </a:r>
            <a:r>
              <a:rPr b="1" lang="zh-CN" sz="3600" spc="-1" strike="noStrike">
                <a:solidFill>
                  <a:srgbClr val="1c1c1c"/>
                </a:solidFill>
                <a:latin typeface="华文行楷"/>
                <a:ea typeface="华文行楷"/>
              </a:rPr>
              <a:t>总是等于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入射角</a:t>
            </a:r>
            <a:r>
              <a:rPr b="1" lang="en-US" sz="3600" spc="-1" strike="noStrike">
                <a:solidFill>
                  <a:srgbClr val="0088e4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52640" y="1778040"/>
            <a:ext cx="0" cy="1295280"/>
          </a:xfrm>
          <a:prstGeom prst="line">
            <a:avLst/>
          </a:prstGeom>
          <a:ln w="38160">
            <a:solidFill>
              <a:srgbClr val="0068a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852280" y="1758600"/>
            <a:ext cx="1251360" cy="1413360"/>
            <a:chOff x="2852280" y="1758600"/>
            <a:chExt cx="1251360" cy="1413360"/>
          </a:xfrm>
        </p:grpSpPr>
        <p:sp>
          <p:nvSpPr>
            <p:cNvPr id="511" name=""/>
            <p:cNvSpPr/>
            <p:nvPr/>
          </p:nvSpPr>
          <p:spPr>
            <a:xfrm>
              <a:off x="3825720" y="2897280"/>
              <a:ext cx="277920" cy="274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09" idx="0"/>
            </p:cNvCxnSpPr>
            <p:nvPr/>
          </p:nvCxnSpPr>
          <p:spPr>
            <a:xfrm flipH="1" flipV="1">
              <a:off x="2852280" y="1758600"/>
              <a:ext cx="1015200" cy="1178640"/>
            </a:xfrm>
            <a:prstGeom prst="straightConnector1">
              <a:avLst/>
            </a:prstGeom>
            <a:ln w="57240">
              <a:solidFill>
                <a:srgbClr val="0068ae"/>
              </a:solidFill>
              <a:miter/>
            </a:ln>
          </p:spPr>
        </p:cxnSp>
      </p:grpSp>
      <p:cxnSp>
        <p:nvCxnSpPr>
          <p:cNvPr id="513" name=""/>
          <p:cNvCxnSpPr>
            <a:stCxn id="514" idx="7"/>
            <a:endCxn id="509" idx="0"/>
          </p:cNvCxnSpPr>
          <p:nvPr/>
        </p:nvCxnSpPr>
        <p:spPr>
          <a:xfrm flipV="1">
            <a:off x="1793520" y="1758960"/>
            <a:ext cx="1059480" cy="1202040"/>
          </a:xfrm>
          <a:prstGeom prst="straightConnector1">
            <a:avLst/>
          </a:prstGeom>
          <a:ln w="57240">
            <a:solidFill>
              <a:srgbClr val="0068ae"/>
            </a:solidFill>
            <a:miter/>
          </a:ln>
        </p:spPr>
      </p:cxnSp>
      <p:grpSp>
        <p:nvGrpSpPr>
          <p:cNvPr id="515" name=""/>
          <p:cNvGrpSpPr/>
          <p:nvPr/>
        </p:nvGrpSpPr>
        <p:grpSpPr>
          <a:xfrm>
            <a:off x="324000" y="2921040"/>
            <a:ext cx="1511280" cy="1742400"/>
            <a:chOff x="324000" y="2921040"/>
            <a:chExt cx="1511280" cy="1742400"/>
          </a:xfrm>
        </p:grpSpPr>
        <p:sp>
          <p:nvSpPr>
            <p:cNvPr id="514" name=""/>
            <p:cNvSpPr/>
            <p:nvPr/>
          </p:nvSpPr>
          <p:spPr>
            <a:xfrm>
              <a:off x="1557360" y="2921040"/>
              <a:ext cx="277920" cy="274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2400000">
              <a:off x="931680" y="2944080"/>
              <a:ext cx="76320" cy="1919160"/>
            </a:xfrm>
            <a:prstGeom prst="rect">
              <a:avLst/>
            </a:prstGeom>
            <a:solidFill>
              <a:srgbClr val="0068ae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371680" y="830880"/>
            <a:ext cx="1658880" cy="2497320"/>
            <a:chOff x="2371680" y="830880"/>
            <a:chExt cx="1658880" cy="2497320"/>
          </a:xfrm>
        </p:grpSpPr>
        <p:sp>
          <p:nvSpPr>
            <p:cNvPr id="518" name=""/>
            <p:cNvSpPr/>
            <p:nvPr/>
          </p:nvSpPr>
          <p:spPr>
            <a:xfrm>
              <a:off x="2371680" y="213696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8ae"/>
                  </a:solidFill>
                  <a:latin typeface="Verdana"/>
                </a:rPr>
                <a:t>入射角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08040" y="830880"/>
              <a:ext cx="1622520" cy="134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64" y="20301"/>
                  </a:moveTo>
                  <a:arcTo wR="10800" hR="10800" stAng="7103722" swAng="925505"/>
                  <a:lnTo>
                    <a:pt x="10800" y="10800"/>
                  </a:lnTo>
                  <a:close/>
                </a:path>
                <a:path fill="none" w="21600" h="21600">
                  <a:moveTo>
                    <a:pt x="5664" y="20301"/>
                  </a:moveTo>
                  <a:arcTo wR="10800" hR="10800" stAng="7103722" swAng="925505"/>
                </a:path>
              </a:pathLst>
            </a:custGeom>
            <a:noFill/>
            <a:ln w="6048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673640" y="823680"/>
            <a:ext cx="1621440" cy="2486520"/>
            <a:chOff x="1673640" y="823680"/>
            <a:chExt cx="1621440" cy="2486520"/>
          </a:xfrm>
        </p:grpSpPr>
        <p:sp>
          <p:nvSpPr>
            <p:cNvPr id="521" name=""/>
            <p:cNvSpPr/>
            <p:nvPr/>
          </p:nvSpPr>
          <p:spPr>
            <a:xfrm>
              <a:off x="2824200" y="211896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8ae"/>
                  </a:solidFill>
                  <a:latin typeface="Verdana"/>
                </a:rPr>
                <a:t>反射角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73640" y="823680"/>
              <a:ext cx="1621440" cy="134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92" y="18767"/>
                  </a:moveTo>
                  <a:arcTo wR="10800" hR="10800" stAng="2851911" swAng="8481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92" y="18767"/>
                  </a:moveTo>
                  <a:arcTo wR="10800" hR="10800" stAng="2851911" swAng="848135"/>
                </a:path>
              </a:pathLst>
            </a:custGeom>
            <a:noFill/>
            <a:ln w="6048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612160" y="1251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8ae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948360" y="6237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back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4" name="chimes.wav"/>
      </p:stSnd>
    </p:sndAc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73080" y="0"/>
            <a:ext cx="8820000" cy="57326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1979640" y="3254400"/>
            <a:ext cx="534960" cy="5349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5235480" y="38322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539640" y="5516640"/>
            <a:ext cx="849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以致用：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如果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1c1c1c"/>
                </a:solidFill>
                <a:latin typeface="宋体"/>
              </a:rPr>
              <a:t>5=40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Arial"/>
              </a:rPr>
              <a:t>°,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  <a:ea typeface="Arial"/>
              </a:rPr>
              <a:t>那么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  <a:ea typeface="Arial"/>
              </a:rPr>
              <a:t>应等于多少度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Arial"/>
              </a:rPr>
              <a:t>,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  <a:ea typeface="Arial"/>
              </a:rPr>
              <a:t>才能保证蓝色球准确入袋？请说明理由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00720" y="404640"/>
            <a:ext cx="0" cy="2087640"/>
          </a:xfrm>
          <a:prstGeom prst="line">
            <a:avLst/>
          </a:prstGeom>
          <a:ln w="414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6876720" y="2133720"/>
            <a:ext cx="1942920" cy="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5864040" y="981000"/>
            <a:ext cx="844560" cy="642600"/>
            <a:chOff x="5864040" y="981000"/>
            <a:chExt cx="844560" cy="642600"/>
          </a:xfrm>
        </p:grpSpPr>
        <p:sp>
          <p:nvSpPr>
            <p:cNvPr id="532" name=""/>
            <p:cNvSpPr/>
            <p:nvPr/>
          </p:nvSpPr>
          <p:spPr>
            <a:xfrm>
              <a:off x="5864040" y="981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02160" y="981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310160" y="1628640"/>
            <a:ext cx="435240" cy="1013040"/>
            <a:chOff x="7310160" y="1628640"/>
            <a:chExt cx="435240" cy="1013040"/>
          </a:xfrm>
        </p:grpSpPr>
        <p:sp>
          <p:nvSpPr>
            <p:cNvPr id="535" name=""/>
            <p:cNvSpPr/>
            <p:nvPr/>
          </p:nvSpPr>
          <p:spPr>
            <a:xfrm>
              <a:off x="7310160" y="1628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10160" y="2060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5364000" y="4221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40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5" name="chimes.wav"/>
      </p:stSnd>
    </p:sndAc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animMotion origin="layout" path="M 7.22222E-006 3.06358E-006 L 0.43629 -0.38058 L 0.64601 -0.20301 L 0.39028 0.04 E">
                                      <p:cBhvr>
                                        <p:cTn id="392" dur="5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animMotion origin="layout" path="M 2.5E-006 -2.36994E-006 L -0.13594 0.13526 E">
                                      <p:cBhvr>
                                        <p:cTn id="395" dur="3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教学目标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0" lang="zh-CN" sz="4800" spc="-1" strike="noStrike">
                <a:solidFill>
                  <a:srgbClr val="080808"/>
                </a:solidFill>
                <a:latin typeface="Arial"/>
              </a:rPr>
              <a:t>掌握并理解余角和补角概念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0" lang="zh-CN" sz="4800" spc="-1" strike="noStrike">
                <a:solidFill>
                  <a:srgbClr val="080808"/>
                </a:solidFill>
                <a:latin typeface="Arial"/>
              </a:rPr>
              <a:t>熟练掌握余角和补角性质，并且会用运性质求角的计算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2195640" y="5493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  <a:ea typeface="幼圆"/>
              </a:rPr>
              <a:t>今天我们学了什么？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1040" y="161604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）余角、补角的概念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9640" y="22255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余角、补角与两个角的大小有关系，与它们的位置没有关系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5280" y="3500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）余角、补角的性质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84360" y="429264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等角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或同角）的余角相等；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等角（或同角）的补角相等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7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上本作业：数学课本</a:t>
            </a: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P163  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习题</a:t>
            </a: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1 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、 </a:t>
            </a: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课外作业：复习本节所学内容做练习册对应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预习余角与补角</a:t>
            </a: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二</a:t>
            </a: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)---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方向角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42920" y="2349360"/>
            <a:ext cx="36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95480" y="18320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843280" y="1341360"/>
          <a:ext cx="1120680" cy="74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1341360"/>
                    <a:ext cx="11206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659640" y="1268280"/>
                <a:ext cx="8730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68360" y="1413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平角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1413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直角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55840" y="-214200"/>
            <a:ext cx="1843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92360" y="5013360"/>
            <a:ext cx="100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黑体"/>
              </a:rPr>
              <a:t>复习回顾</a:t>
            </a:r>
            <a:endParaRPr b="0" lang="en-US" sz="32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486900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∠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+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∠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=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∠</a:t>
            </a:r>
            <a:r>
              <a:rPr b="0" lang="en-US" sz="36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00360" y="486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AOB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472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=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6000" y="472428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∠</a:t>
            </a:r>
            <a:r>
              <a:rPr b="0" lang="zh-CN" sz="36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AOB-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∠1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141300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763640" y="2133720"/>
            <a:ext cx="4176720" cy="2442960"/>
            <a:chOff x="1763640" y="2133720"/>
            <a:chExt cx="4176720" cy="2442960"/>
          </a:xfrm>
        </p:grpSpPr>
        <p:sp>
          <p:nvSpPr>
            <p:cNvPr id="313" name=""/>
            <p:cNvSpPr/>
            <p:nvPr/>
          </p:nvSpPr>
          <p:spPr>
            <a:xfrm>
              <a:off x="1908000" y="3646440"/>
              <a:ext cx="2376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412720" y="2349720"/>
              <a:ext cx="1439640" cy="172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13080" y="4078440"/>
              <a:ext cx="273528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413080" y="3575160"/>
              <a:ext cx="3095640" cy="50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16000" y="2133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B</a:t>
              </a:r>
              <a:endParaRPr b="0" lang="en-US" sz="3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64000" y="39340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A</a:t>
              </a:r>
              <a:endParaRPr b="0" lang="en-US" sz="3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63640" y="37180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O</a:t>
              </a:r>
              <a:endParaRPr b="0" lang="en-US" sz="3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13440" y="3718080"/>
              <a:ext cx="5738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134160" y="3934080"/>
              <a:ext cx="14184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76360" y="32148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2</a:t>
              </a:r>
              <a:endParaRPr b="0" lang="en-US" sz="3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36720" y="37180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endParaRPr b="0" lang="en-US" sz="3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41800" y="3791160"/>
              <a:ext cx="57384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250920" y="2708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661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今天我们继续研究两角之间的关系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324000" y="4581000"/>
            <a:ext cx="854064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互余：如果两个角的和等于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90</a:t>
            </a:r>
            <a:r>
              <a:rPr b="1" lang="en-US" sz="3200" spc="-1" strike="noStrike" baseline="30000">
                <a:solidFill>
                  <a:srgbClr val="1c1c1c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（直角），我们就说这</a:t>
            </a:r>
            <a:r>
              <a:rPr b="1" lang="zh-CN" sz="3200" spc="-1" strike="noStrike" u="sng">
                <a:solidFill>
                  <a:srgbClr val="1c1c1c"/>
                </a:solidFill>
                <a:uFillTx/>
                <a:latin typeface="Arial"/>
              </a:rPr>
              <a:t>两个角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互为余角。把其中一个角称为另一个角的余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35280" y="476280"/>
            <a:ext cx="3600720" cy="2232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635280" y="1341000"/>
            <a:ext cx="2592360" cy="1366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2771640" y="2997360"/>
            <a:ext cx="4608360" cy="538200"/>
            <a:chOff x="2771640" y="2997360"/>
            <a:chExt cx="4608360" cy="538200"/>
          </a:xfrm>
        </p:grpSpPr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3934440" y="3114360"/>
                  <a:ext cx="457200" cy="40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2" name=""/>
            <p:cNvSpPr/>
            <p:nvPr/>
          </p:nvSpPr>
          <p:spPr>
            <a:xfrm>
              <a:off x="3135240" y="2997360"/>
              <a:ext cx="74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1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和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2771640" y="3114360"/>
                  <a:ext cx="457200" cy="40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4" name=""/>
            <p:cNvSpPr/>
            <p:nvPr/>
          </p:nvSpPr>
          <p:spPr>
            <a:xfrm>
              <a:off x="4291200" y="3015000"/>
              <a:ext cx="308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有什么关系？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348000" y="3716280"/>
            <a:ext cx="304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＋∠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90</a:t>
            </a:r>
            <a:r>
              <a:rPr b="1" lang="en-US" sz="2800" spc="-1" strike="noStrike" baseline="30000">
                <a:solidFill>
                  <a:srgbClr val="cc00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530880" y="2124360"/>
            <a:ext cx="628560" cy="807120"/>
            <a:chOff x="3530880" y="2124360"/>
            <a:chExt cx="628560" cy="807120"/>
          </a:xfrm>
        </p:grpSpPr>
        <p:sp>
          <p:nvSpPr>
            <p:cNvPr id="337" name=""/>
            <p:cNvSpPr/>
            <p:nvPr/>
          </p:nvSpPr>
          <p:spPr>
            <a:xfrm rot="18538200">
              <a:off x="3700080" y="2351160"/>
              <a:ext cx="28944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7761200">
              <a:off x="3698640" y="2144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819600" y="2306880"/>
            <a:ext cx="651600" cy="804960"/>
            <a:chOff x="3819600" y="2306880"/>
            <a:chExt cx="651600" cy="804960"/>
          </a:xfrm>
        </p:grpSpPr>
        <p:sp>
          <p:nvSpPr>
            <p:cNvPr id="340" name=""/>
            <p:cNvSpPr/>
            <p:nvPr/>
          </p:nvSpPr>
          <p:spPr>
            <a:xfrm rot="20604000">
              <a:off x="3895560" y="2508120"/>
              <a:ext cx="28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20458200">
              <a:off x="4068720" y="23490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324000" y="83664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这是同学们手中的三角板的模型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0024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如果     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30</a:t>
            </a:r>
            <a:r>
              <a:rPr b="1" lang="en-US" sz="2800" spc="-1" strike="noStrike" baseline="30000">
                <a:solidFill>
                  <a:srgbClr val="1c1c1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，     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25</a:t>
            </a:r>
            <a:r>
              <a:rPr b="1" lang="en-US" sz="2800" spc="-1" strike="noStrike" baseline="30000">
                <a:solidFill>
                  <a:srgbClr val="1c1c1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，     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35</a:t>
            </a:r>
            <a:r>
              <a:rPr b="1" lang="en-US" sz="2800" spc="-1" strike="noStrike" baseline="30000">
                <a:solidFill>
                  <a:srgbClr val="1c1c1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，那么它们互为余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630440" y="720720"/>
            <a:ext cx="4249800" cy="417600"/>
            <a:chOff x="1630440" y="720720"/>
            <a:chExt cx="4249800" cy="417600"/>
          </a:xfrm>
        </p:grpSpPr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3430800" y="720720"/>
                  <a:ext cx="36828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1630440" y="725400"/>
                  <a:ext cx="36828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446800" y="720720"/>
                  <a:ext cx="43344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8" name=""/>
          <p:cNvSpPr/>
          <p:nvPr/>
        </p:nvSpPr>
        <p:spPr>
          <a:xfrm>
            <a:off x="2050920" y="177336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4000" y="227664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互为余角只是对两个角而言的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19280" y="1628640"/>
            <a:ext cx="136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812000" y="2852640"/>
            <a:ext cx="1008000" cy="20163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6200000">
            <a:off x="7416720" y="4905360"/>
            <a:ext cx="1008000" cy="19447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581960" y="2995200"/>
            <a:ext cx="493560" cy="533160"/>
            <a:chOff x="7581960" y="2995200"/>
            <a:chExt cx="493560" cy="533160"/>
          </a:xfrm>
        </p:grpSpPr>
        <p:sp>
          <p:nvSpPr>
            <p:cNvPr id="354" name=""/>
            <p:cNvSpPr/>
            <p:nvPr/>
          </p:nvSpPr>
          <p:spPr>
            <a:xfrm flipV="1">
              <a:off x="7581960" y="2994840"/>
              <a:ext cx="3744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42520" y="30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 rot="10800000">
            <a:off x="8604720" y="5299560"/>
            <a:ext cx="57672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46144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5280" y="3500280"/>
            <a:ext cx="80024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两副直角三角板中，    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30</a:t>
            </a:r>
            <a:r>
              <a:rPr b="1" lang="en-US" sz="2800" spc="-1" strike="noStrike" baseline="30000">
                <a:solidFill>
                  <a:srgbClr val="1c1c1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，    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60</a:t>
            </a:r>
            <a:r>
              <a:rPr b="1" lang="en-US" sz="2800" spc="-1" strike="noStrike" baseline="30000">
                <a:solidFill>
                  <a:srgbClr val="1c1c1c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它们互为余角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132440" y="3500280"/>
            <a:ext cx="2094840" cy="355680"/>
            <a:chOff x="4132440" y="3500280"/>
            <a:chExt cx="2094840" cy="355680"/>
          </a:xfrm>
        </p:grpSpPr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5859360" y="3500280"/>
                  <a:ext cx="36792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1" name=""/>
                <p:cNvSpPr txBox="1"/>
                <p:nvPr/>
              </p:nvSpPr>
              <p:spPr>
                <a:xfrm>
                  <a:off x="4132440" y="3500280"/>
                  <a:ext cx="36792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2" name=""/>
          <p:cNvSpPr/>
          <p:nvPr/>
        </p:nvSpPr>
        <p:spPr>
          <a:xfrm>
            <a:off x="1547640" y="4437000"/>
            <a:ext cx="136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79640" y="458136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9640" y="522936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互为余角仅仅表明了两个角的数量关系，而与角的位置关系无关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48000" y="119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错）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76720" y="40053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对）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826560" y="501336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互补：如果两个角的和等于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180</a:t>
            </a:r>
            <a:r>
              <a:rPr b="1" lang="en-US" sz="2800" spc="-1" strike="noStrike" baseline="30000">
                <a:solidFill>
                  <a:srgbClr val="1c1c1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（平角），我们就说这两个角互为补角。把其中一个角称为另一个角的补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43280" y="1700280"/>
            <a:ext cx="3527280" cy="16574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203640" y="1701360"/>
            <a:ext cx="863640" cy="1871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515400" y="1258560"/>
            <a:ext cx="945360" cy="921960"/>
            <a:chOff x="3515400" y="1258560"/>
            <a:chExt cx="945360" cy="921960"/>
          </a:xfrm>
        </p:grpSpPr>
        <p:sp>
          <p:nvSpPr>
            <p:cNvPr id="371" name=""/>
            <p:cNvSpPr/>
            <p:nvPr/>
          </p:nvSpPr>
          <p:spPr>
            <a:xfrm flipH="1" rot="10571400">
              <a:off x="3538080" y="1282680"/>
              <a:ext cx="74736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5240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524060"/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27760" y="172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565800" y="1403640"/>
            <a:ext cx="509040" cy="827640"/>
            <a:chOff x="3565800" y="1403640"/>
            <a:chExt cx="509040" cy="827640"/>
          </a:xfrm>
        </p:grpSpPr>
        <p:sp>
          <p:nvSpPr>
            <p:cNvPr id="374" name=""/>
            <p:cNvSpPr/>
            <p:nvPr/>
          </p:nvSpPr>
          <p:spPr>
            <a:xfrm rot="10636200">
              <a:off x="3773160" y="1409760"/>
              <a:ext cx="28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65800" y="177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771640" y="3500280"/>
            <a:ext cx="3414240" cy="536400"/>
            <a:chOff x="2771640" y="3500280"/>
            <a:chExt cx="3414240" cy="536400"/>
          </a:xfrm>
        </p:grpSpPr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3766320" y="3603600"/>
                  <a:ext cx="39096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8" name=""/>
            <p:cNvSpPr/>
            <p:nvPr/>
          </p:nvSpPr>
          <p:spPr>
            <a:xfrm>
              <a:off x="3056400" y="35002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和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2771640" y="3611520"/>
                  <a:ext cx="390960" cy="3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"/>
            <p:cNvSpPr/>
            <p:nvPr/>
          </p:nvSpPr>
          <p:spPr>
            <a:xfrm>
              <a:off x="4461480" y="3516120"/>
              <a:ext cx="172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有什么关系？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327480" y="4299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4149720"/>
            <a:ext cx="30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＋∠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180</a:t>
            </a:r>
            <a:r>
              <a:rPr b="1" lang="en-US" sz="2800" spc="-1" strike="noStrike" baseline="30000">
                <a:solidFill>
                  <a:srgbClr val="cc00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95280" y="549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  <a:ea typeface="黑体"/>
              </a:rPr>
              <a:t>如图这是一个长方形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24360" y="119700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黑体"/>
              </a:rPr>
              <a:t>P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96720" y="40464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找朋友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图中给出的各角中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哪些互为余角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哪些互为补角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2592360" cy="594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3708360" y="1197000"/>
            <a:ext cx="2092320" cy="10238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6372360" y="981000"/>
            <a:ext cx="2092320" cy="14954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5"/>
          <a:stretch/>
        </p:blipFill>
        <p:spPr>
          <a:xfrm>
            <a:off x="826920" y="2997360"/>
            <a:ext cx="1800360" cy="1645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6"/>
          <a:stretch/>
        </p:blipFill>
        <p:spPr>
          <a:xfrm>
            <a:off x="3708360" y="2852640"/>
            <a:ext cx="1440000" cy="19465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7"/>
          <a:stretch/>
        </p:blipFill>
        <p:spPr>
          <a:xfrm>
            <a:off x="6227640" y="3213000"/>
            <a:ext cx="2070360" cy="11368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971640" y="4869000"/>
            <a:ext cx="2328840" cy="17208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4932360" y="5445000"/>
            <a:ext cx="2970360" cy="641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411280" y="15876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c1c1c"/>
                </a:solidFill>
                <a:latin typeface="Arial"/>
                <a:ea typeface="Arial"/>
              </a:rPr>
              <a:t>°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1574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20000" y="171936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58920" y="292428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284720" y="323208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93080" y="359100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95640" y="53737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16720" y="544500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0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7885080" y="5157720"/>
            <a:ext cx="952560" cy="12096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1692360" y="1197000"/>
            <a:ext cx="4048200" cy="6476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468360" y="506520"/>
            <a:ext cx="1439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1547640" y="1700280"/>
            <a:ext cx="2376720" cy="7491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95280" y="1268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若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96200" y="17287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92720" y="12654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则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177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互为补角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     (        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11280" y="2333520"/>
            <a:ext cx="69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互为余角、互为补角的两个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角一定有公共顶点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                 (        )        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93080" y="2637000"/>
            <a:ext cx="574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164360" y="2492280"/>
            <a:ext cx="36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372360" y="170028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宋体"/>
              </a:rPr>
              <a:t>×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372360" y="299736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宋体"/>
              </a:rPr>
              <a:t>×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5640" y="4724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定义中的“互为”是相互的意思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互为余角和互为补角是对两个角来说的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39640" y="3933720"/>
            <a:ext cx="129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8440">
                  <a:solidFill>
                    <a:srgbClr val="ff66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注意</a:t>
            </a:r>
            <a:r>
              <a:rPr b="1" lang="en-US" sz="2400" spc="1" strike="noStrike">
                <a:ln w="2844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:</a:t>
            </a:r>
            <a:endParaRPr b="1" lang="en-US" sz="2400" spc="1" strike="noStrike">
              <a:ln w="28440">
                <a:solidFill>
                  <a:srgbClr val="ff66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8360" y="47772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41400">
                  <a:solidFill>
                    <a:srgbClr val="0000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判断</a:t>
            </a:r>
            <a:r>
              <a:rPr b="1" lang="en-US" sz="2400" spc="1" strike="noStrike">
                <a:ln w="41400">
                  <a:solidFill>
                    <a:srgbClr val="0000ff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:</a:t>
            </a:r>
            <a:endParaRPr b="1" lang="en-US" sz="2400" spc="1" strike="noStrike">
              <a:ln w="41400">
                <a:solidFill>
                  <a:srgbClr val="0000ff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18" name=""/>
          <p:cNvSpPr/>
          <p:nvPr/>
        </p:nvSpPr>
        <p:spPr>
          <a:xfrm>
            <a:off x="971640" y="5877000"/>
            <a:ext cx="504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5640" y="573408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互为余角、互为补角的两个角不一定有公共顶点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1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c1c1c"/>
                </a:solidFill>
                <a:latin typeface="Arial"/>
              </a:rPr>
              <a:t>比一比，看谁填得快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57320" y="1628640"/>
          <a:ext cx="5206680" cy="4452840"/>
        </p:xfrm>
        <a:graphic>
          <a:graphicData uri="http://schemas.openxmlformats.org/drawingml/2006/table">
            <a:tbl>
              <a:tblPr/>
              <a:tblGrid>
                <a:gridCol w="1677600"/>
                <a:gridCol w="1800360"/>
                <a:gridCol w="17287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角</a:t>
                      </a:r>
                      <a:r>
                        <a:rPr b="0" lang="el-GR" sz="2800" spc="-1" strike="noStrike">
                          <a:solidFill>
                            <a:srgbClr val="1c1c1c"/>
                          </a:solidFill>
                          <a:latin typeface="GungsuhChe"/>
                          <a:ea typeface="GungsuhChe"/>
                        </a:rPr>
                        <a:t>α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1c1c1c"/>
                          </a:solidFill>
                          <a:latin typeface="GungsuhChe"/>
                          <a:ea typeface="GungsuhChe"/>
                        </a:rPr>
                        <a:t>α</a:t>
                      </a:r>
                      <a:r>
                        <a:rPr b="1" lang="zh-CN" sz="2800" spc="-1" strike="noStrike">
                          <a:solidFill>
                            <a:srgbClr val="1c1c1c"/>
                          </a:solidFill>
                          <a:latin typeface="宋体"/>
                        </a:rPr>
                        <a:t>的余角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1c1c1c"/>
                          </a:solidFill>
                          <a:latin typeface="GungsuhChe"/>
                          <a:ea typeface="GungsuhChe"/>
                        </a:rPr>
                        <a:t>α</a:t>
                      </a:r>
                      <a:r>
                        <a:rPr b="1" lang="zh-CN" sz="2800" spc="-1" strike="noStrike">
                          <a:solidFill>
                            <a:srgbClr val="1c1c1c"/>
                          </a:solidFill>
                          <a:latin typeface="宋体"/>
                        </a:rPr>
                        <a:t>的补角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2" name=""/>
          <p:cNvGrpSpPr/>
          <p:nvPr/>
        </p:nvGrpSpPr>
        <p:grpSpPr>
          <a:xfrm>
            <a:off x="330840" y="2276640"/>
            <a:ext cx="1432080" cy="3894120"/>
            <a:chOff x="330840" y="2276640"/>
            <a:chExt cx="1432080" cy="3894120"/>
          </a:xfrm>
        </p:grpSpPr>
        <p:sp>
          <p:nvSpPr>
            <p:cNvPr id="423" name=""/>
            <p:cNvSpPr/>
            <p:nvPr/>
          </p:nvSpPr>
          <p:spPr>
            <a:xfrm>
              <a:off x="619920" y="2276640"/>
              <a:ext cx="70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50</a:t>
              </a:r>
              <a:r>
                <a:rPr b="1" lang="en-US" sz="3200" spc="-1" strike="noStrike" baseline="30000">
                  <a:solidFill>
                    <a:srgbClr val="1c1c1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8480" y="2923920"/>
              <a:ext cx="70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67</a:t>
              </a:r>
              <a:r>
                <a:rPr b="1" lang="en-US" sz="3200" spc="-1" strike="noStrike" baseline="30000">
                  <a:solidFill>
                    <a:srgbClr val="1c1c1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2840" y="3573360"/>
              <a:ext cx="122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23</a:t>
              </a:r>
              <a:r>
                <a:rPr b="1" lang="en-US" sz="3200" spc="-1" strike="noStrike" baseline="30000">
                  <a:solidFill>
                    <a:srgbClr val="1c1c1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35</a:t>
              </a: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  <a:ea typeface="Times New Roman"/>
                </a:rPr>
                <a:t>'</a:t>
              </a:r>
              <a:endParaRPr b="0" lang="en-US" sz="3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9920" y="4221000"/>
              <a:ext cx="70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90</a:t>
              </a:r>
              <a:r>
                <a:rPr b="1" lang="en-US" sz="3200" spc="-1" strike="noStrike" baseline="30000">
                  <a:solidFill>
                    <a:srgbClr val="1c1c1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7920" y="4868640"/>
              <a:ext cx="91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135</a:t>
              </a:r>
              <a:r>
                <a:rPr b="1" lang="en-US" sz="3200" spc="-1" strike="noStrike" baseline="30000">
                  <a:solidFill>
                    <a:srgbClr val="1c1c1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0840" y="5589360"/>
              <a:ext cx="143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100</a:t>
              </a:r>
              <a:r>
                <a:rPr b="1" lang="en-US" sz="3200" spc="-1" strike="noStrike" baseline="30000">
                  <a:solidFill>
                    <a:srgbClr val="1c1c1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35</a:t>
              </a: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  <a:ea typeface="Times New Roman"/>
                </a:rPr>
                <a:t>'</a:t>
              </a:r>
              <a:endParaRPr b="0" lang="en-US" sz="3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2277000" y="22766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40</a:t>
            </a:r>
            <a:r>
              <a:rPr b="1" lang="en-US" sz="3200" spc="-1" strike="noStrike" baseline="30000">
                <a:solidFill>
                  <a:srgbClr val="1c1c1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75200" y="227664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130</a:t>
            </a:r>
            <a:r>
              <a:rPr b="1" lang="en-US" sz="3200" spc="-1" strike="noStrike" baseline="30000">
                <a:solidFill>
                  <a:srgbClr val="1c1c1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77000" y="299736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23</a:t>
            </a:r>
            <a:r>
              <a:rPr b="1" lang="en-US" sz="3200" spc="-1" strike="noStrike" baseline="30000">
                <a:solidFill>
                  <a:srgbClr val="1c1c1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148280" y="292428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113</a:t>
            </a:r>
            <a:r>
              <a:rPr b="1" lang="en-US" sz="3200" spc="-1" strike="noStrike" baseline="30000">
                <a:solidFill>
                  <a:srgbClr val="1c1c1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58480" y="3573360"/>
            <a:ext cx="12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66</a:t>
            </a:r>
            <a:r>
              <a:rPr b="1" lang="en-US" sz="3200" spc="-1" strike="noStrike" baseline="30000">
                <a:solidFill>
                  <a:srgbClr val="1c1c1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25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'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31200" y="357336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156</a:t>
            </a:r>
            <a:r>
              <a:rPr b="1" lang="en-US" sz="3200" spc="-1" strike="noStrike" baseline="30000">
                <a:solidFill>
                  <a:srgbClr val="1c1c1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25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'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68360" y="4410000"/>
            <a:ext cx="184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93360" y="42926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1c1c1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293360" y="49417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45</a:t>
            </a:r>
            <a:r>
              <a:rPr b="1" lang="en-US" sz="3200" spc="-1" strike="noStrike" baseline="30000">
                <a:solidFill>
                  <a:srgbClr val="1c1c1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84120" y="5589720"/>
            <a:ext cx="12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79</a:t>
            </a:r>
            <a:r>
              <a:rPr b="1" lang="en-US" sz="3200" spc="-1" strike="noStrike" baseline="30000">
                <a:solidFill>
                  <a:srgbClr val="1c1c1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25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'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373440" y="2852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锐角的补角是钝角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24360" y="422100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直角的补角是直角；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57440" y="5229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钝角的补角是锐角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08720" y="2492280"/>
            <a:ext cx="287280" cy="144144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35640" y="450864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35640" y="522936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4000" y="1052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dell</cp:lastModifiedBy>
  <cp:lastPrinted>1899-12-30T00:00:00Z</cp:lastPrinted>
  <dcterms:modified xsi:type="dcterms:W3CDTF">2013-01-06T04:45:00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