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20.wmf" ContentType="image/x-wmf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2942-37F6-4C23-9AFC-CE19929209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合例题和试一试总结反证法的基本步骤。指出提出假设，得出结论的反面是前提；推出矛盾是关键，必须从假设出发可以和已知条件或定义、定理、公理等矛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小结：用反证法证明命题时，当命题结论的反面不止一个时，必须将结论的反面的所有情况一一反驳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0D7-6DF3-4722-AB16-9F6432BA6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087F-2B04-4495-B87D-A43B2671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1CDF-7552-41FC-9766-356CE256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9AFB-61C9-4AD9-8989-1C947221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A3E4-30CC-491B-81E9-98C2E1C4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8341-041A-4420-A7A1-F07D3145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779D-0DCE-4C73-A84B-54ED8989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B921-0814-43A2-85E9-05EC6BD5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6F89-6389-4F97-B7CB-138E08D8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8824-9C59-4855-A1A2-F86EA906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B64C-BC41-4B3B-BC77-1AEF5499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8A9-030E-499D-99AA-B78B2E81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7D29-7E7E-44D6-8C2F-833C543E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845E-1BE7-4DFC-A7E9-22F30AE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397-599B-40F4-A745-30D6A377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137-6104-4C32-B25B-6DEAFFFD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A37-1ABE-4C9F-B8CF-5BCDC2FE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1867B-BEAD-4077-A9FE-3E9F2F7D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A299F-005E-4ED7-BC75-589A8074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4B7F-D045-490B-BCD5-C9AE510E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BFB3-576F-459E-A264-7D3E15C5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7C03-BB8A-4950-AD92-319733DF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B836-813F-4D66-ACBD-3ABF6BE3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AC131-5817-4F01-A053-827CBF28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87A1D-5EBF-4B3B-926E-A554E69D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C0662-DE4F-4BAB-B8F7-09532BC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9D59E-0D6A-4987-BA83-E6F75776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D299D-8CB4-40D0-8F59-0092190C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4756-6E91-489F-98AC-A4C096F78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7CB3E-06C5-4E2B-A950-04F1ED47D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B9861-0131-43E2-A86C-5972DD4F2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D0DF-3157-4786-9229-3B31FD37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FFAD-8C34-4D8D-B3E5-CBF973DC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705-0EAB-4C65-908C-4E7DA2E3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F50A1-2217-4B9F-9FFB-C194CD60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9EAF-B090-44F9-81D1-9B5AFBC1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75CC5-20E8-476A-8613-536876A8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01FB2-DE8B-4B02-83AC-701D56C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B12CD-0594-4052-919F-54B68143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C99B1-19A8-4664-839B-97379647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2E4DA-3C58-4740-A34C-E8C96834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BAE53-A477-43CA-85A0-DEFD5670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96CED-D521-4851-A7E0-64DFB1C3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4BF98-929B-4A31-BF0D-D60F2BA5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E0D-136B-4888-84C1-8273EB65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E98EF-17B5-4573-B450-186F3859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37A48-9FAC-47C2-9E2F-C760F315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3565A-59FE-424C-86BF-DAEFC577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2C245-F53E-4210-A3B1-42AE16E7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E44C6-B5B4-4BDC-9B89-F8E14AE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21ABC-8B41-4421-B465-C2749FB0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3BC3D-C025-4E13-8651-238B215B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22D38-4992-477C-9776-5E8F43F6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6789-9515-401C-AB1A-5B952E09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5517-FC04-4D6F-8DCE-49237F92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603B-1DD9-4FA1-B499-05BC214A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15D63-2E1C-4FB9-AB26-FC90AC5B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6F9-823A-4A13-AD44-4DF4C455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9870-485F-425C-8AFC-5A90051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01B8-1805-46AA-B052-7EEC2E74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AE7D-A3EA-488F-91DC-C398E14718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DB89-3EF5-4FB1-B4D8-589FECDA20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550B-555D-4A6A-B85E-3DF89D43B2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EC14-728E-4B30-B002-E7DF021FCF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3C12-1A84-4F0A-BB94-39EA9325B8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" Target="slide5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5292720" cy="38098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76720" y="1484280"/>
            <a:ext cx="377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从前有个聪明的孩子叫王戎。他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岁时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与小伙伴们外出游玩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看到路边的李树上结满了果子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小伙伴们纷纷去摘取果子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只有王戎站在原地不动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4076640"/>
            <a:ext cx="720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有人问王戎为什么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王戎回答说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:“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树在道边而多子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此必苦李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小伙伴摘取一个尝了一下果然是苦李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332000" y="5637240"/>
            <a:ext cx="705780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王戎是怎样知道李子是苦的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他运用了怎样的推理方法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64000" y="0"/>
            <a:ext cx="2808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故事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:</a:t>
            </a: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路边苦李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755640" y="1413000"/>
            <a:ext cx="756144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已知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如图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直线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zh-CN" sz="3200" spc="-1" strike="noStrike" baseline="-22000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∥l</a:t>
            </a:r>
            <a:r>
              <a:rPr b="1" lang="zh-CN" sz="3200" spc="-1" strike="noStrike" baseline="-20000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200" spc="-1" strike="noStrike" baseline="-20000">
                <a:solidFill>
                  <a:srgbClr val="ffffff"/>
                </a:solidFill>
                <a:latin typeface="Tahoma"/>
              </a:rPr>
              <a:t>，</a:t>
            </a:r>
            <a:r>
              <a:rPr b="1" lang="zh-CN" sz="4800" spc="-1" strike="noStrike" baseline="-20000">
                <a:solidFill>
                  <a:srgbClr val="ffffff"/>
                </a:solidFill>
                <a:latin typeface="Tahoma"/>
              </a:rPr>
              <a:t>直线</a:t>
            </a:r>
            <a:r>
              <a:rPr b="1" lang="zh-CN" sz="4800" spc="-1" strike="noStrike" baseline="-20000">
                <a:solidFill>
                  <a:srgbClr val="ffffff"/>
                </a:solidFill>
                <a:latin typeface="Tahoma"/>
              </a:rPr>
              <a:t>L</a:t>
            </a:r>
            <a:r>
              <a:rPr b="1" lang="zh-CN" sz="4800" spc="-1" strike="noStrike" baseline="-20000">
                <a:solidFill>
                  <a:srgbClr val="ffffff"/>
                </a:solidFill>
                <a:latin typeface="Tahoma"/>
              </a:rPr>
              <a:t>与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求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:∠1=∠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60840" y="4440240"/>
            <a:ext cx="2950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32120" y="5160960"/>
            <a:ext cx="2952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164120" y="3792600"/>
            <a:ext cx="1296720" cy="309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20200" y="4941720"/>
            <a:ext cx="374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en-US" sz="2400" spc="-1" strike="noStrike" baseline="-20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494320" y="3429000"/>
            <a:ext cx="3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3390600">
            <a:off x="4952520" y="4754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3455400">
            <a:off x="5193720" y="4021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388120" y="40798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19640" y="4797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95280" y="333360"/>
            <a:ext cx="25718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学以致用</a:t>
            </a: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: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0" name="">
            <a:hlinkClick r:id="" action="ppaction://hlinkshowjump?jump=lastslide"/>
          </p:cNvPr>
          <p:cNvSpPr/>
          <p:nvPr/>
        </p:nvSpPr>
        <p:spPr>
          <a:xfrm>
            <a:off x="8101080" y="6426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669000" y="4149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54880" y="184140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L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236000" y="184464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L2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相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457200" y="11430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0"/>
            <a:ext cx="2133720" cy="76428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试一试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395280" y="981000"/>
            <a:ext cx="6781680" cy="1810440"/>
            <a:chOff x="395280" y="981000"/>
            <a:chExt cx="6781680" cy="1810440"/>
          </a:xfrm>
        </p:grpSpPr>
        <p:sp>
          <p:nvSpPr>
            <p:cNvPr id="347" name=""/>
            <p:cNvSpPr/>
            <p:nvPr/>
          </p:nvSpPr>
          <p:spPr>
            <a:xfrm>
              <a:off x="395280" y="981000"/>
              <a:ext cx="678168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已知：如图，直线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a,b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被直线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c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所截，</a:t>
              </a:r>
              <a:br>
                <a:rPr sz="3200"/>
              </a:b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            ∠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1 ≠ ∠2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求证：</a:t>
              </a:r>
              <a:r>
                <a:rPr b="1" lang="zh-CN" sz="3200" spc="-1" strike="noStrike">
                  <a:solidFill>
                    <a:srgbClr val="000099"/>
                  </a:solidFill>
                  <a:latin typeface="Times New Roman"/>
                </a:rPr>
                <a:t>a∥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95120" y="2428560"/>
              <a:ext cx="228240" cy="151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230880" y="762120"/>
            <a:ext cx="2913120" cy="2919240"/>
            <a:chOff x="6230880" y="762120"/>
            <a:chExt cx="2913120" cy="2919240"/>
          </a:xfrm>
        </p:grpSpPr>
        <p:pic>
          <p:nvPicPr>
            <p:cNvPr id="350" name="" descr=""/>
            <p:cNvPicPr/>
            <p:nvPr/>
          </p:nvPicPr>
          <p:blipFill>
            <a:blip r:embed="rId2"/>
            <a:stretch/>
          </p:blipFill>
          <p:spPr>
            <a:xfrm>
              <a:off x="6230880" y="762120"/>
              <a:ext cx="2913120" cy="29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7450200" y="1828800"/>
              <a:ext cx="15228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40" y="60"/>
                    <a:pt x="80" y="120"/>
                    <a:pt x="96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45280" y="2743200"/>
              <a:ext cx="152280" cy="22860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40" y="60"/>
                    <a:pt x="80" y="120"/>
                    <a:pt x="96" y="14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547640" y="3786120"/>
            <a:ext cx="72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∴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=∠2 (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两直线平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同位角相等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4508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这与已知的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≠∠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矛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52293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∴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假设不成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315432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证明：假设结论不成立，则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a∥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619280" y="5877000"/>
            <a:ext cx="2895480" cy="581400"/>
            <a:chOff x="1619280" y="5877000"/>
            <a:chExt cx="2895480" cy="581400"/>
          </a:xfrm>
        </p:grpSpPr>
        <p:sp>
          <p:nvSpPr>
            <p:cNvPr id="358" name=""/>
            <p:cNvSpPr/>
            <p:nvPr/>
          </p:nvSpPr>
          <p:spPr>
            <a:xfrm>
              <a:off x="1619280" y="587700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∴</a:t>
              </a:r>
              <a:r>
                <a:rPr b="1" lang="en-US" sz="3200" spc="-1" strike="noStrike">
                  <a:solidFill>
                    <a:srgbClr val="000099"/>
                  </a:solidFill>
                  <a:latin typeface="Times New Roman"/>
                </a:rPr>
                <a:t>a∥b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381040" y="6105600"/>
              <a:ext cx="228240" cy="152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7315200" y="5029200"/>
            <a:ext cx="1817640" cy="17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457200" y="11430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907920"/>
            <a:ext cx="6480360" cy="5814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图，在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中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若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是直角，那么∠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定是锐角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0" y="2708280"/>
            <a:ext cx="1914480" cy="24271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398680" y="1159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隶书"/>
              </a:rPr>
              <a:t>你能用反证法证明以下命题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920" y="36360"/>
            <a:ext cx="2376360" cy="70344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延伸拓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79280" y="21337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证明：假设结论不成立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则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87280" y="2637000"/>
            <a:ext cx="8234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这与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____________________________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矛盾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32000" y="4076640"/>
            <a:ext cx="8164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当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是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_____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时，则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这与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____________________________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矛盾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5040" y="2060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206064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钝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27240" y="26370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81760" y="27050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+ ∠C= 180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3357720"/>
            <a:ext cx="689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角形的三个内角和等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80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981160" y="4076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钝角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48360" y="407664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+ ∠C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＞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80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386080" y="47624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角形的三个内角和等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80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7740720" y="5365800"/>
            <a:ext cx="1320840" cy="14479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4">
            <a:lum contrast="72000"/>
          </a:blip>
          <a:stretch/>
        </p:blipFill>
        <p:spPr>
          <a:xfrm>
            <a:off x="0" y="5083200"/>
            <a:ext cx="1346040" cy="17748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258920" y="2852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当∠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时，则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54450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综上所述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假设不成立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258920" y="602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∴∠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一定是锐角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30200" y="2276640"/>
            <a:ext cx="871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先假设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命题不成立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从这样的假设出发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经过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推理得出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已知条件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矛盾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或者与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定义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公理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定理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等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矛盾</a:t>
            </a:r>
            <a:r>
              <a:rPr b="0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从而得出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假设命题不成立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是错误的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即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所求证的命题正确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02720" y="1752480"/>
            <a:ext cx="144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在证明一个命题时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人们有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877080" y="5373720"/>
            <a:ext cx="2266920" cy="14842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684360" y="765000"/>
            <a:ext cx="2781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证法定义</a:t>
            </a: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: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87" name=""/>
          <p:cNvSpPr/>
          <p:nvPr/>
        </p:nvSpPr>
        <p:spPr>
          <a:xfrm>
            <a:off x="2545920" y="5877000"/>
            <a:ext cx="23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这种证明方法叫做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反证法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11280" y="4460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ahoma"/>
              </a:rPr>
              <a:t>反证法的一般步骤</a:t>
            </a:r>
            <a:r>
              <a:rPr b="1" lang="zh-CN" sz="3200" spc="-1" strike="noStrike">
                <a:solidFill>
                  <a:srgbClr val="99cc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21747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假设命题结论不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6360" y="36878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假设不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11667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假设命题结论反面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67280" y="31827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与已知条件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矛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06388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假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195560" y="390384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推理得出的结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35280" y="43354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与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定理，定义，公理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矛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704000" y="20304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所证命题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2679840"/>
            <a:ext cx="720720" cy="1008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524720" y="2895480"/>
            <a:ext cx="1081080" cy="1224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35280" y="4119480"/>
            <a:ext cx="244944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684360" y="692280"/>
            <a:ext cx="434484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再见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730920" y="228600"/>
            <a:ext cx="2184480" cy="2263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00240" y="1600200"/>
            <a:ext cx="24098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假设</a:t>
            </a:r>
            <a:r>
              <a:rPr b="1" lang="zh-CN" sz="2400" spc="-1" strike="noStrike">
                <a:solidFill>
                  <a:srgbClr val="ea2100"/>
                </a:solidFill>
                <a:latin typeface="Arial"/>
              </a:rPr>
              <a:t>“李子甜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65320" y="2505240"/>
            <a:ext cx="26733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树在道边则李子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048200" y="2200320"/>
            <a:ext cx="365040" cy="231840"/>
          </a:xfrm>
          <a:prstGeom prst="rightArrow">
            <a:avLst>
              <a:gd name="adj1" fmla="val 50000"/>
              <a:gd name="adj2" fmla="val 393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0200" y="3495600"/>
            <a:ext cx="5562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与已知条件</a:t>
            </a:r>
            <a:r>
              <a:rPr b="1" lang="zh-CN" sz="2400" spc="-1" strike="noStrike">
                <a:solidFill>
                  <a:srgbClr val="ea2100"/>
                </a:solidFill>
                <a:latin typeface="Arial"/>
              </a:rPr>
              <a:t>“树在道边而多子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产生矛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4103280" y="3036600"/>
            <a:ext cx="342720" cy="289080"/>
          </a:xfrm>
          <a:prstGeom prst="rightArrow">
            <a:avLst>
              <a:gd name="adj1" fmla="val 50000"/>
              <a:gd name="adj2" fmla="val 296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5400000">
            <a:off x="4078080" y="4154400"/>
            <a:ext cx="415800" cy="266760"/>
          </a:xfrm>
          <a:prstGeom prst="rightArrow">
            <a:avLst>
              <a:gd name="adj1" fmla="val 50000"/>
              <a:gd name="adj2" fmla="val 389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4562640"/>
            <a:ext cx="334656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假设 </a:t>
            </a:r>
            <a:r>
              <a:rPr b="1" lang="zh-CN" sz="2400" spc="-1" strike="noStrike">
                <a:solidFill>
                  <a:srgbClr val="ea2100"/>
                </a:solidFill>
                <a:latin typeface="Arial"/>
              </a:rPr>
              <a:t>“李子甜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4162320" y="5229360"/>
            <a:ext cx="416160" cy="250560"/>
          </a:xfrm>
          <a:prstGeom prst="rightArrow">
            <a:avLst>
              <a:gd name="adj1" fmla="val 50000"/>
              <a:gd name="adj2" fmla="val 41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5715000"/>
            <a:ext cx="6705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所以</a:t>
            </a:r>
            <a:r>
              <a:rPr b="1" lang="zh-CN" sz="2400" spc="-1" strike="noStrike">
                <a:solidFill>
                  <a:srgbClr val="ea2100"/>
                </a:solidFill>
                <a:latin typeface="Verdana"/>
              </a:rPr>
              <a:t>“树在道边而多子</a:t>
            </a:r>
            <a:r>
              <a:rPr b="1" lang="zh-CN" sz="2400" spc="-1" strike="noStrike">
                <a:solidFill>
                  <a:srgbClr val="ea2100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ea2100"/>
                </a:solidFill>
                <a:latin typeface="Verdana"/>
              </a:rPr>
              <a:t>此必为苦李”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 是正确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5335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王戎推理方法是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11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6046920"/>
            <a:ext cx="9367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050920" y="2133720"/>
            <a:ext cx="5040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4.2.1</a:t>
            </a: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证法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过同一直线上的三点不能作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：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点在直线   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证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点不能作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：假设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点可以作一个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这个圆的圆心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么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既在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  上，又在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    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41280" cy="431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5796000" y="3716280"/>
            <a:ext cx="3348000" cy="29606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8532720" y="2924280"/>
            <a:ext cx="276480" cy="4762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5003640" y="3357720"/>
            <a:ext cx="390600" cy="371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900000" y="3645000"/>
            <a:ext cx="468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即点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为    与    的交点，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2411280" y="3716280"/>
            <a:ext cx="324000" cy="409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3059280" y="3716280"/>
            <a:ext cx="390240" cy="3715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971640" y="4076640"/>
            <a:ext cx="2057400" cy="6955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763640" y="4365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59280" y="4221000"/>
            <a:ext cx="230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132000" y="4149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这与我们以前学过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4653000"/>
            <a:ext cx="511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过一点有且只有一条直线与已知直线垂直”相矛盾。所以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过同一直线上的三点不能作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30200" y="2276640"/>
            <a:ext cx="871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先假设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命题不成立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从这样的假设出发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经过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推理得出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已知条件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矛盾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或者与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定义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公理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定理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矛盾</a:t>
            </a:r>
            <a:r>
              <a:rPr b="1" lang="zh-CN" sz="3200" spc="-1" strike="noStrike">
                <a:solidFill>
                  <a:srgbClr val="333399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从而得出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假设命题不成立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是错误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黑体"/>
              </a:rPr>
              <a:t>即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所求证的命题正确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206800" y="1700280"/>
            <a:ext cx="166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在证明一个命题时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</a:rPr>
              <a:t>人们有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77080" y="5373720"/>
            <a:ext cx="2266920" cy="14842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684360" y="765000"/>
            <a:ext cx="2781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证法定义</a:t>
            </a:r>
            <a:r>
              <a:rPr b="0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:</a:t>
            </a:r>
            <a:endParaRPr b="0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8" name=""/>
          <p:cNvSpPr/>
          <p:nvPr/>
        </p:nvSpPr>
        <p:spPr>
          <a:xfrm>
            <a:off x="1908000" y="5877000"/>
            <a:ext cx="51850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种证明方法叫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反证法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11280" y="4460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Tahoma"/>
              </a:rPr>
              <a:t>反证法的一般步骤</a:t>
            </a:r>
            <a:r>
              <a:rPr b="1" lang="zh-CN" sz="3200" spc="-1" strike="noStrike">
                <a:solidFill>
                  <a:srgbClr val="99cc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332000" y="1125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假设命题结论不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56360" y="36878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假设不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213372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假设命题结论反面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67280" y="31827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与已知条件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矛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063880"/>
            <a:ext cx="12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假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95560" y="390384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ahoma"/>
              </a:rPr>
              <a:t>推理得出的结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5280" y="433548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与</a:t>
            </a:r>
            <a:r>
              <a:rPr b="1" lang="zh-CN" sz="2400" spc="-1" strike="noStrike">
                <a:solidFill>
                  <a:srgbClr val="000066"/>
                </a:solidFill>
                <a:latin typeface="Tahoma"/>
              </a:rPr>
              <a:t>定理，定义，公理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矛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04000" y="20304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所证命题成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2679840"/>
            <a:ext cx="720720" cy="1008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524720" y="2895480"/>
            <a:ext cx="1081080" cy="1224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35280" y="4119480"/>
            <a:ext cx="2449440" cy="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68360" y="1484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　用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反证法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证明（填空）：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在三角形的内角中，至少有一个角大于或等于６０</a:t>
            </a: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242100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已知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：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如图，</a:t>
            </a:r>
            <a:r>
              <a:rPr b="0" lang="zh-CN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∠Ａ，∠Ｂ，∠Ｃ是△ＡＢＣ的内角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997360"/>
            <a:ext cx="71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求证： ∠Ａ，∠Ｂ，∠Ｃ中至少有一个角大于或等于６０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28760" y="3789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证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49720" y="3933720"/>
            <a:ext cx="338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假设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所求证的结论不成立，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∠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Ａ＿＿６０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， ∠Ｂ＿＿６０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，∠Ｃ＿＿６０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则　∠Ａ＋∠Ｂ＋∠Ｃ　＜　１８０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这于＿＿＿＿＿＿＿＿＿＿＿＿＿＿＿＿＿</a:t>
            </a: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矛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所以假设命题＿＿＿＿＿＿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所以，所求证的结论</a:t>
            </a: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成立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</a:rPr>
              <a:t>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5896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7496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862600" y="4149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ahoma"/>
              </a:rPr>
              <a:t>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36280" y="5121360"/>
            <a:ext cx="21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三角形的内角和等于１８０</a:t>
            </a: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46520" y="5734080"/>
            <a:ext cx="14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Tahoma"/>
              </a:rPr>
              <a:t>不成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381600">
            <a:off x="7092720" y="2997000"/>
            <a:ext cx="2050920" cy="914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075160" y="2708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ahoma"/>
              </a:rPr>
              <a:t>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07880" y="3716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ahoma"/>
              </a:rPr>
              <a:t>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777880" y="40053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ahoma"/>
              </a:rPr>
              <a:t>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11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1143000" cy="9907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692360" y="54936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华文新魏"/>
              </a:rPr>
              <a:t>试试看</a:t>
            </a:r>
            <a:r>
              <a:rPr b="1" lang="zh-CN" sz="3600" spc="-1" strike="noStrike">
                <a:solidFill>
                  <a:srgbClr val="0066ff"/>
                </a:solidFill>
                <a:latin typeface="幼圆"/>
                <a:ea typeface="华文新魏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1074600" y="0"/>
            <a:ext cx="22021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合作学习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8" name=""/>
          <p:cNvSpPr/>
          <p:nvPr/>
        </p:nvSpPr>
        <p:spPr>
          <a:xfrm>
            <a:off x="395280" y="90792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平面内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两条直线都和第三条直线平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这两条直线也互相平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0028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首先会选择哪一种证明方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21337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如果选择反证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怎样假设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结果和什么产生矛盾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263700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已知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如图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,l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2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314172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求证：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１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３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832360" y="2421000"/>
            <a:ext cx="2898720" cy="1454040"/>
            <a:chOff x="5832360" y="2421000"/>
            <a:chExt cx="2898720" cy="1454040"/>
          </a:xfrm>
        </p:grpSpPr>
        <p:sp>
          <p:nvSpPr>
            <p:cNvPr id="284" name=""/>
            <p:cNvSpPr/>
            <p:nvPr/>
          </p:nvSpPr>
          <p:spPr>
            <a:xfrm>
              <a:off x="5832360" y="3124080"/>
              <a:ext cx="23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26720" y="2849400"/>
              <a:ext cx="48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l</a:t>
              </a:r>
              <a:r>
                <a:rPr b="1" lang="zh-CN" sz="2800" spc="-1" strike="noStrike" baseline="-25000">
                  <a:solidFill>
                    <a:srgbClr val="ffffff"/>
                  </a:solidFill>
                  <a:latin typeface="Times New Roman"/>
                  <a:ea typeface="华文新魏"/>
                </a:rPr>
                <a:t>２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32360" y="2765520"/>
              <a:ext cx="23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26720" y="2421000"/>
              <a:ext cx="48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l</a:t>
              </a:r>
              <a:r>
                <a:rPr b="1" lang="zh-CN" sz="2800" spc="-1" strike="noStrike" baseline="-25000">
                  <a:solidFill>
                    <a:srgbClr val="ffffff"/>
                  </a:solidFill>
                  <a:latin typeface="Times New Roman"/>
                  <a:ea typeface="华文新魏"/>
                </a:rPr>
                <a:t>１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04000" y="3484440"/>
              <a:ext cx="23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42560" y="3295440"/>
              <a:ext cx="488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l</a:t>
              </a:r>
              <a:r>
                <a:rPr b="1" lang="zh-CN" sz="2800" spc="-1" strike="noStrike" baseline="-25000">
                  <a:solidFill>
                    <a:srgbClr val="ffffff"/>
                  </a:solidFill>
                  <a:latin typeface="Times New Roman"/>
                  <a:ea typeface="华文新魏"/>
                </a:rPr>
                <a:t>３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H="1" flipV="1">
            <a:off x="5111640" y="2477160"/>
            <a:ext cx="1584000" cy="100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40360" y="2765520"/>
            <a:ext cx="158328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835280" y="4221000"/>
            <a:ext cx="7056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∵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１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２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 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２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３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, 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则过点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p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就有两条直线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１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楷体_GB2312"/>
              </a:rPr>
              <a:t>、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３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都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２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平行，这与“经过直线外一点，有且只有一条直线平行于已知直线”矛盾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705120"/>
            <a:ext cx="842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证明：假设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不平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３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，则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１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３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相交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设交点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5080" y="3068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76360" y="566100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所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假设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不成立，所求证的结论成立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616572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即 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１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３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074600" y="0"/>
            <a:ext cx="22021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合作学习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" y="90792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求证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同一平面内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两条直线都和第三条          直线平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么这两条直线也互相平行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19640" y="115920"/>
            <a:ext cx="1584360" cy="576360"/>
          </a:xfrm>
          <a:prstGeom prst="wedgeRoundRectCallout">
            <a:avLst>
              <a:gd name="adj1" fmla="val -35569"/>
              <a:gd name="adj2" fmla="val 97106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定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170028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不用反证法证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4000" y="2133720"/>
            <a:ext cx="482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已知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如图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,l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2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4000" y="2622600"/>
            <a:ext cx="360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求证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: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1640" y="1916280"/>
            <a:ext cx="2842560" cy="1805040"/>
            <a:chOff x="5651640" y="1916280"/>
            <a:chExt cx="2842560" cy="1805040"/>
          </a:xfrm>
        </p:grpSpPr>
        <p:sp>
          <p:nvSpPr>
            <p:cNvPr id="304" name=""/>
            <p:cNvSpPr/>
            <p:nvPr/>
          </p:nvSpPr>
          <p:spPr>
            <a:xfrm>
              <a:off x="5651640" y="2276640"/>
              <a:ext cx="23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110800" y="191628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l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51640" y="2908440"/>
              <a:ext cx="23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10800" y="256536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l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  <a:ea typeface="华文新魏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6000" y="3500640"/>
              <a:ext cx="230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10800" y="3141720"/>
              <a:ext cx="383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l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  <a:ea typeface="华文新魏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 flipH="1">
            <a:off x="6300360" y="1484280"/>
            <a:ext cx="1079640" cy="24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21440" y="126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5440" y="2421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8360" y="4221000"/>
            <a:ext cx="8424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∵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 ,l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（已知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∴∠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2 =∠1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，∠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1 =∠3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两直线平行，同位角相等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24000" y="3125880"/>
            <a:ext cx="5197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证明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作直线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，分别与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直线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1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2 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交于于点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B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C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5229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∴∠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2 =∠3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（等式性质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587700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∴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∥l</a:t>
            </a:r>
            <a:r>
              <a:rPr b="1" lang="zh-CN" sz="2800" spc="-1" strike="noStrike" baseline="-25000">
                <a:solidFill>
                  <a:srgbClr val="333399"/>
                </a:solidFill>
                <a:latin typeface="Times New Roman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333399"/>
                </a:solidFill>
                <a:latin typeface="华文新魏"/>
                <a:ea typeface="华文新魏"/>
              </a:rPr>
              <a:t>同位角相等，两直线平行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949080" y="1844640"/>
            <a:ext cx="647280" cy="520560"/>
            <a:chOff x="6949080" y="1844640"/>
            <a:chExt cx="647280" cy="520560"/>
          </a:xfrm>
        </p:grpSpPr>
        <p:sp>
          <p:nvSpPr>
            <p:cNvPr id="318" name=""/>
            <p:cNvSpPr/>
            <p:nvPr/>
          </p:nvSpPr>
          <p:spPr>
            <a:xfrm>
              <a:off x="7237440" y="1844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49080" y="2090880"/>
              <a:ext cx="288000" cy="2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314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3146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731640" y="2492280"/>
            <a:ext cx="791640" cy="520560"/>
            <a:chOff x="6731640" y="2492280"/>
            <a:chExt cx="791640" cy="520560"/>
          </a:xfrm>
        </p:grpSpPr>
        <p:sp>
          <p:nvSpPr>
            <p:cNvPr id="321" name=""/>
            <p:cNvSpPr/>
            <p:nvPr/>
          </p:nvSpPr>
          <p:spPr>
            <a:xfrm>
              <a:off x="7020000" y="24922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31640" y="2708280"/>
              <a:ext cx="288000" cy="242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314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3146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443640" y="3068640"/>
            <a:ext cx="649440" cy="520560"/>
            <a:chOff x="6443640" y="3068640"/>
            <a:chExt cx="649440" cy="520560"/>
          </a:xfrm>
        </p:grpSpPr>
        <p:sp>
          <p:nvSpPr>
            <p:cNvPr id="324" name=""/>
            <p:cNvSpPr/>
            <p:nvPr/>
          </p:nvSpPr>
          <p:spPr>
            <a:xfrm>
              <a:off x="6734160" y="30686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华文新魏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43640" y="3314880"/>
              <a:ext cx="288720" cy="24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7314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731461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7021440" y="12682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86880" y="30686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90160" y="1773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0:58:31Z</dcterms:created>
  <dc:creator>aaaxk.com</dc:creator>
  <dc:description>http://www.aaaxk.com</dc:description>
  <cp:keywords>免费课件、免费试题、免费教案、免费论文</cp:keywords>
  <dc:language>en-US</dc:language>
  <cp:lastModifiedBy>微软用户</cp:lastModifiedBy>
  <dcterms:modified xsi:type="dcterms:W3CDTF">2012-02-14T08:46:49Z</dcterms:modified>
  <cp:revision>3</cp:revision>
  <dc:subject>教师助手，学生帮手，家长朋友，三星学科</dc:subject>
  <dc:title>三星学科，教育第三方，3edu教育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0f000000000001024140</vt:lpwstr>
  </property>
</Properties>
</file>