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8A3-A0A0-4BF5-B586-D8F65DF4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249-3583-4F54-B883-9D3AB117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0CD-8724-45E8-B945-63674333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DB5-DF32-4D1E-BF03-FDB85044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0AE-AF74-457A-B6EF-BF89BBF9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510-7426-4387-9C3E-0CC67B7C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2B4-636E-4CD1-8312-488996F8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744-5C85-4B56-8057-A259764B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A31-E4D6-4D19-9284-4C4C08A8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630-E191-4E4A-8AF6-8A97F42B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227-6239-4201-883B-3DE0097B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5B1-04EA-40EF-ADA1-47CBF684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FEAD-AC63-4921-AE70-B39043090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项式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 “乘法分配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是进行单项式乘多项式的依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用单项式乘多项式的法则进行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学指导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看课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并思考以下问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项式乘多项式的依据是什么？单项式乘多项式法则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“试一试”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单项式乘多项式的运算中，要注意哪几个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分钟后比谁能正确回答自学指导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学指导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看课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分钟后比谁能会做练习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检测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你有何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