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7C8B-4AED-40EA-80EB-7D807A448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8E0E-1C20-4727-B1B5-0958E615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D9D3-38EF-4119-8CC8-70E62A267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8BEB-BC6B-403B-84D5-57B94CE26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1C43-2128-4665-9D14-0644191E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C042-FD42-4C1B-8B70-7ACD7930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1A07-F6CD-4032-9801-94A211AA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BCB5-9B38-4930-9212-74A61E7E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DE22-0AF6-4EAA-A8FD-28355269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7996-DABA-416D-B1E1-3D3F2D2D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7507-817A-4B51-8E78-EC81A298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010D-922E-4B1E-B232-A72B1D73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F98B-52C2-4DD0-95D4-12DC794DBC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项式乘以多项式复习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复习目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掌握单项式乘以多项式的法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能够逆用法则进行计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学指导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认真复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69-P7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内容，背诵单项式乘以多项式的法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注意例题的解题格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我检测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填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68360" y="2276640"/>
                <a:ext cx="39592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计算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044720" y="2133720"/>
                <a:ext cx="38862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堂小结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节课你有何收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当堂检测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71.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6-01-06T22:59:32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