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6AA-DE4A-42FC-BA4E-B6E30519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29B-44CB-4720-823A-0636A0DC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C41-BB43-40F0-8E96-CB24393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CE4-1C80-45A9-B9BB-B0D00E22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04A-71AC-4064-AD7C-B8974519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F5C-7C72-46AA-BB61-1EBBBAAF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EA2-A889-4B78-BCD5-D34F67FA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ECC-299F-4EF8-B64E-E0829E4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552-C4CB-4E4F-A0F5-C18AD0C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AFE-8206-4712-B111-F232EEA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E11-67F2-4DDA-BB28-1E8A3CEF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031-6882-4CEF-B3DC-E94F20A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DF6-6A4B-41B5-88A4-FF44270DA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项式乘多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解多项式乘多项式的法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用多项式乘多项式的法则进行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学指导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并思考问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项式乘多项式的依据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项式乘多项式法则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后比谁能做出试一试中的计算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3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学指导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认真看课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分钟后比谁能会做练习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检测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检测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5080" y="2422440"/>
            <a:ext cx="634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840"/>
            <a:ext cx="914400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