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470-1F77-47A9-90EC-0899AB4D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792-6FF3-49F5-BAB2-3B1264C5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B92-586D-4B55-842E-F4D68A11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D86-FE22-4E18-8848-D9D0AC52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8BA-AC75-4679-B8D4-C639796F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9E6-8460-408B-BC9C-5B59B5FD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1B2-59D0-4474-A57A-6452FAE2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C9F-2878-4D56-AA5B-CCE6E39E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607-5C97-4468-BD8F-8E55A088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333-20CB-4BC7-BE95-98D27AF0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71F-E248-4BA8-ABCA-20B9D718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7AF-2318-43AE-A29C-E600D6EC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3157-A5E0-4C31-A843-59D2E68F08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4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乘法公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平方差公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60360" y="1486080"/>
            <a:ext cx="7488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能够推导平方差公式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能用平方差公式进行简单的计算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272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指导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分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数学实验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31680" y="1542960"/>
            <a:ext cx="9861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计算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-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利用多项式乘多项式的法则计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a+b) •(a-b )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差公式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差公式有何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分钟后比谁能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推导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并记住公式。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8000" y="1844640"/>
            <a:ext cx="495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我检测一：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一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H="1">
            <a:off x="4218840" y="3246480"/>
            <a:ext cx="56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76212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学指导二：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分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题目中的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是什么？在题目中标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差公式必须化成怎样的形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叫乘法公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分钟后比一比谁能正确作出检测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63920" y="22734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206360"/>
            <a:ext cx="56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我检测二：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一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01760" y="649440"/>
            <a:ext cx="20826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拓展提高</a:t>
            </a:r>
            <a:endParaRPr b="1" lang="en-US" sz="18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195640" y="1990800"/>
                <a:ext cx="237636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计算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195640" y="1917360"/>
            <a:ext cx="486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节课有何收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4960" y="40428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68360" y="1773000"/>
            <a:ext cx="3538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本习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