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ECF-64E6-4D53-8562-05B47089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8B3-6C90-468F-95AE-55BDDD37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043-2120-47B5-8931-A9EAC6FA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BDF-6B06-460B-851D-FF6ACC22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30B-5CEA-4ECB-AF22-B04467B6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62A-05E4-42F2-A6BC-252DE7E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403-CE08-4AF2-8AC4-56992FF3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C30-FCC5-4326-9A5F-D133712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D69-A7DC-49D1-ADAF-39DBB29E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728-9FBC-4715-BF05-AD4153E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238-CD49-46E2-9066-D37C9BF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C3B-F02A-40AC-B39E-EAF09EB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D89-F278-4351-AB88-345A61B35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06080"/>
            <a:ext cx="888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.5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用二元一次方程组解决问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680" y="135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历和体会列二元一次方程组解决实际问题的过程，体会数学的应用价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根据具体问题中的数量关系列出二元一次方程组并求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36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指导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6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961920"/>
            <a:ext cx="884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一中有哪些已知量、那些未知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旅游问题中旅客人数、个人费用、总费用之间满足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一中有哪几个相等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解这个方程组你有简单的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二元一次方程组解决实际问题的步骤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钟后比谁能仿照例题的格式解答检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检测一：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停车场的收费标准如下：中型汽车的收费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辆，小型汽车的收费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辆。现在停车场共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辆中、小型汽车，这些车共缴纳停车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0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元，中、小型汽车各有多少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二 ：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4400" spc="-1" strike="noStrike" baseline="-25000">
                <a:solidFill>
                  <a:srgbClr val="000000"/>
                </a:solidFill>
                <a:latin typeface="Arial"/>
              </a:rPr>
              <a:t>10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二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二中有哪两个相等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仔细看解题过程，与解方程组的过程一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分钟后比谁能快速准确的做出下面的检测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检测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丽在玩具厂勤工俭学，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狗玩具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猫玩具用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0min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狗玩具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小猫玩具用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56min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均做一只小狗玩具与一只小猫玩具各用多少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8280" y="307800"/>
            <a:ext cx="874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拓展提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两位数的十位数字与各位数字的和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如果把它的十位数字与各位数字互换那么所得的两位数比原数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求这个两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二元一次方程组解决实际问题的一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二元一次方程组解决实际问题的关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1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习题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