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C0C-7B19-42D5-94B9-8192BC55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E88-89ED-4509-8F16-4972E54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446-8535-42C0-B231-D4C506D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10D-3F31-4B1B-A036-23C2B292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663-2F86-4F20-984F-E43E3F17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0E4-7411-4041-9B8E-8568926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627-43D0-43C3-8021-C65FE834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89F-2DB8-4A0A-83C2-FC1DACF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4D0-4BFE-4F03-B9EB-27816C3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188-E7A4-47C0-8F5F-2220CD8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F59-A2E7-42F9-AFFD-1168A74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A2F-ADD5-4374-811D-FF312D7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62B-8D60-41E6-9EBF-BFD83BC33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.5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二元一次方组解决实际问题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借助表格分析问题中的数量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感受运用方程（组）解决问题的关键是寻找相等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一：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4800" spc="-1" strike="noStrike" baseline="-25000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    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怎样设未知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否用含未知数的代数式表示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已知量、未知量并填入表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相等关系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比谁能正确解答检测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检测一：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练一练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二：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课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页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     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收费标准是怎样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表格给我们提供了哪些信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未知数表示题目中的各个量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相等关系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钟后比谁能正确解答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9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页练一练第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题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检测二：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练一练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互相交流本节课的收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