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A18-9250-466B-9ED7-EA6270C1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919-180F-4A50-B995-B0AEE6B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1E5-5CB1-433A-A0B5-9060743F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4CB-83BF-45B9-81CE-FDBAFAD2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B19-88B5-4F6E-A613-A7428D3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F9F-EBA9-4AD0-9A28-A8481366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863-C834-40D6-8B5E-A646ABE1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862-F034-4204-9CD6-12B5335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227-5A31-4A97-8CEB-A68DB8A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22D-78EF-4AAD-8468-55B95B6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F32-8F16-4E00-ABF6-06CC04C6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3DE-12F3-4170-BA01-2EE7DDA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568C-8CC3-428A-B2A8-3FB18FA4F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.GSP" TargetMode="External"/><Relationship Id="rId2" Type="http://schemas.openxmlformats.org/officeDocument/2006/relationships/hyperlink" Target="file:///2.GSP" TargetMode="External"/><Relationship Id="rId3" Type="http://schemas.openxmlformats.org/officeDocument/2006/relationships/hyperlink" Target="file:///3.GSP" TargetMode="External"/><Relationship Id="rId4" Type="http://schemas.openxmlformats.org/officeDocument/2006/relationships/hyperlink" Target="file:///4.GSP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函数的综合运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33920" y="2209680"/>
            <a:ext cx="2209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例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例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例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储子昂</cp:lastModifiedBy>
  <dcterms:modified xsi:type="dcterms:W3CDTF">2000-11-21T08:01:09Z</dcterms:modified>
  <cp:revision>1</cp:revision>
  <dc:subject/>
  <dc:title>PowerPoint Presentation</dc:title>
</cp:coreProperties>
</file>