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  <p:custShowLst>
    <p:custShow name="自定义放映 1" id="0">
      <p:sldLst>
        <p:sld r:id="rId13"/>
      </p:sldLst>
    </p:custShow>
    <p:custShow name="自定义放映 2" id="1">
      <p:sldLst>
        <p:sld r:id="rId14"/>
      </p:sldLst>
    </p:custShow>
    <p:custShow name="自定义放映 3" id="2">
      <p:sldLst>
        <p:sld r:id="rId15"/>
      </p:sldLst>
    </p:custShow>
    <p:custShow name="自定义放映 4" id="3">
      <p:sldLst>
        <p:sld r:id="rId16"/>
      </p:sldLst>
    </p:custShow>
    <p:custShow name="自定义放映 5" id="4">
      <p:sldLst>
        <p:sld r:id="rId17"/>
      </p:sldLst>
    </p:custShow>
    <p:custShow name="自定义放映 6" id="5">
      <p:sldLst>
        <p:sld r:id="rId18"/>
      </p:sldLst>
    </p:custShow>
    <p:custShow name="自定义放映 7" id="6">
      <p:sldLst>
        <p:sld r:id="rId19"/>
      </p:sldLst>
    </p:custShow>
    <p:custShow name="自定义放映 9" id="7">
      <p:sldLst>
        <p:sld r:id="rId12"/>
      </p:sldLst>
    </p:custShow>
    <p:custShow name="自定义放映 10" id="8">
      <p:sldLst>
        <p:sld r:id="rId21"/>
      </p:sldLst>
    </p:custShow>
    <p:custShow name="自定义放映 11" id="9">
      <p:sldLst>
        <p:sld r:id="rId11"/>
      </p:sldLst>
    </p:custShow>
    <p:custShow name="自定义放映 12" id="10">
      <p:sldLst>
        <p:sld r:id="rId6"/>
        <p:sld r:id="rId7"/>
        <p:sld r:id="rId8"/>
        <p:sld r:id="rId9"/>
      </p:sldLst>
    </p:custShow>
    <p:custShow name="自定义放映 13" id="11">
      <p:sldLst>
        <p:sld r:id="rId10"/>
      </p:sldLst>
    </p:custShow>
    <p:custShow name="自定义放映 14" id="12">
      <p:sldLst>
        <p:sld r:id="rId5"/>
      </p:sldLst>
    </p:custShow>
    <p:custShow name="自定义放映 15" id="13">
      <p:sldLst>
        <p:sld r:id="rId12"/>
        <p:sld r:id="rId13"/>
        <p:sld r:id="rId14"/>
        <p:sld r:id="rId15"/>
        <p:sld r:id="rId16"/>
        <p:sld r:id="rId17"/>
        <p:sld r:id="rId18"/>
        <p:sld r:id="rId19"/>
      </p:sldLst>
    </p:custShow>
    <p:custShow name="自定义放映 8" id="14">
      <p:sldLst>
        <p:sld r:id="rId22"/>
        <p:sld r:id="rId23"/>
        <p:sld r:id="rId24"/>
        <p:sld r:id="rId25"/>
        <p:sld r:id="rId26"/>
        <p:sld r:id="rId27"/>
        <p:sld r:id="rId28"/>
        <p:sld r:id="rId29"/>
        <p:sld r:id="rId30"/>
        <p:sld r:id="rId31"/>
        <p:sld r:id="rId32"/>
        <p:sld r:id="rId33"/>
        <p:sld r:id="rId34"/>
        <p:sld r:id="rId35"/>
      </p:sldLst>
    </p:custShow>
    <p:custShow name="自定义放映 16" id="15">
      <p:sldLst>
        <p:sld r:id="rId3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936F5-5CFF-4DD1-8D35-AEDF1574E95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219320" y="15238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1143000" y="38862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制作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胡定坤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成都盐道街小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061A-289C-4EF1-9B84-7DE6833FA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A285-AF65-4E49-9197-AE6392706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3A34-F82F-401F-A87D-E30339F39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857E-8CB4-4F82-A1F6-4FE19AE97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AA72-2422-4B6A-98C8-B387A0235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B6B3-B1F1-411B-9087-30142B35D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489D-A934-431C-A438-3559C6884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77D5-30BF-4C72-B20B-63752973B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BF06-19BA-4838-A0E7-6D5D046E7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6EC4-2699-4981-BD86-78AB0572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8D57-D2A7-448B-B609-4F44AB6B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0052-73FE-46EE-8005-F39082A6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5c5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5341C-029E-4F18-BD60-6B258864D4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5c5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17528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imes New Roman"/>
                <a:ea typeface="隶书"/>
              </a:rPr>
              <a:t>成都市盐道街小学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165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00"/>
                </a:solidFill>
                <a:latin typeface="Times New Roman"/>
                <a:ea typeface="隶书"/>
              </a:rPr>
              <a:t>  </a:t>
            </a:r>
            <a:r>
              <a:rPr b="1" lang="zh-CN" sz="6600" spc="-1" strike="noStrike">
                <a:solidFill>
                  <a:srgbClr val="cc0000"/>
                </a:solidFill>
                <a:latin typeface="Times New Roman"/>
                <a:ea typeface="隶书"/>
              </a:rPr>
              <a:t>小学数学 第一册    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362320" y="3124080"/>
            <a:ext cx="43052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8</a:t>
            </a: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的认识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1" name=""/>
          <p:cNvSpPr/>
          <p:nvPr/>
        </p:nvSpPr>
        <p:spPr>
          <a:xfrm>
            <a:off x="7772400" y="228600"/>
            <a:ext cx="1066680" cy="12193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 rot="5400000">
            <a:off x="6203880" y="3625560"/>
            <a:ext cx="420372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隶书"/>
              </a:rPr>
              <a:t>成都市盐道街小学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3" name=""/>
          <p:cNvSpPr txBox="1"/>
          <p:nvPr/>
        </p:nvSpPr>
        <p:spPr>
          <a:xfrm rot="5400000">
            <a:off x="-1644480" y="3549600"/>
            <a:ext cx="420372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隶书"/>
              </a:rPr>
              <a:t>成都市盐道街小学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219320" y="3124080"/>
            <a:ext cx="43052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8</a:t>
            </a: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的认识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28600" y="3048120"/>
            <a:ext cx="4305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8</a:t>
            </a: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的认识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7620120" y="380880"/>
            <a:ext cx="1523880" cy="8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start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5c5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2209680" y="990720"/>
            <a:ext cx="762120" cy="838080"/>
            <a:chOff x="2209680" y="990720"/>
            <a:chExt cx="762120" cy="838080"/>
          </a:xfrm>
        </p:grpSpPr>
        <p:sp>
          <p:nvSpPr>
            <p:cNvPr id="155" name=""/>
            <p:cNvSpPr/>
            <p:nvPr/>
          </p:nvSpPr>
          <p:spPr>
            <a:xfrm>
              <a:off x="2209680" y="9907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209680" y="104652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371600" y="990720"/>
            <a:ext cx="762120" cy="838080"/>
            <a:chOff x="1371600" y="990720"/>
            <a:chExt cx="762120" cy="838080"/>
          </a:xfrm>
        </p:grpSpPr>
        <p:sp>
          <p:nvSpPr>
            <p:cNvPr id="158" name=""/>
            <p:cNvSpPr/>
            <p:nvPr/>
          </p:nvSpPr>
          <p:spPr>
            <a:xfrm>
              <a:off x="1371600" y="9907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371600" y="104652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457200" y="990720"/>
            <a:ext cx="762120" cy="838080"/>
            <a:chOff x="457200" y="990720"/>
            <a:chExt cx="762120" cy="838080"/>
          </a:xfrm>
        </p:grpSpPr>
        <p:sp>
          <p:nvSpPr>
            <p:cNvPr id="161" name=""/>
            <p:cNvSpPr/>
            <p:nvPr/>
          </p:nvSpPr>
          <p:spPr>
            <a:xfrm>
              <a:off x="457200" y="9907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" y="104652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124080" y="990720"/>
            <a:ext cx="762120" cy="838080"/>
            <a:chOff x="3124080" y="990720"/>
            <a:chExt cx="762120" cy="838080"/>
          </a:xfrm>
        </p:grpSpPr>
        <p:sp>
          <p:nvSpPr>
            <p:cNvPr id="164" name=""/>
            <p:cNvSpPr/>
            <p:nvPr/>
          </p:nvSpPr>
          <p:spPr>
            <a:xfrm>
              <a:off x="3124080" y="9907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24080" y="104652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3962520" y="990720"/>
            <a:ext cx="761760" cy="838080"/>
            <a:chOff x="3962520" y="990720"/>
            <a:chExt cx="761760" cy="838080"/>
          </a:xfrm>
        </p:grpSpPr>
        <p:sp>
          <p:nvSpPr>
            <p:cNvPr id="167" name=""/>
            <p:cNvSpPr/>
            <p:nvPr/>
          </p:nvSpPr>
          <p:spPr>
            <a:xfrm>
              <a:off x="3962520" y="990720"/>
              <a:ext cx="72396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962520" y="1046520"/>
              <a:ext cx="76176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6477120" y="990720"/>
            <a:ext cx="761760" cy="838080"/>
            <a:chOff x="6477120" y="990720"/>
            <a:chExt cx="761760" cy="838080"/>
          </a:xfrm>
        </p:grpSpPr>
        <p:sp>
          <p:nvSpPr>
            <p:cNvPr id="170" name=""/>
            <p:cNvSpPr/>
            <p:nvPr/>
          </p:nvSpPr>
          <p:spPr>
            <a:xfrm>
              <a:off x="6477120" y="990720"/>
              <a:ext cx="72396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77120" y="1046520"/>
              <a:ext cx="76176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4800600" y="990720"/>
            <a:ext cx="762120" cy="838080"/>
            <a:chOff x="4800600" y="990720"/>
            <a:chExt cx="762120" cy="838080"/>
          </a:xfrm>
        </p:grpSpPr>
        <p:sp>
          <p:nvSpPr>
            <p:cNvPr id="173" name=""/>
            <p:cNvSpPr/>
            <p:nvPr/>
          </p:nvSpPr>
          <p:spPr>
            <a:xfrm>
              <a:off x="4800600" y="9907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800600" y="104652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638680" y="990720"/>
            <a:ext cx="762120" cy="838080"/>
            <a:chOff x="5638680" y="990720"/>
            <a:chExt cx="762120" cy="838080"/>
          </a:xfrm>
        </p:grpSpPr>
        <p:sp>
          <p:nvSpPr>
            <p:cNvPr id="176" name=""/>
            <p:cNvSpPr/>
            <p:nvPr/>
          </p:nvSpPr>
          <p:spPr>
            <a:xfrm>
              <a:off x="5638680" y="9907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638680" y="104652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048120" y="1905120"/>
            <a:ext cx="2514600" cy="2057400"/>
            <a:chOff x="3048120" y="1905120"/>
            <a:chExt cx="2514600" cy="2057400"/>
          </a:xfrm>
        </p:grpSpPr>
        <p:sp>
          <p:nvSpPr>
            <p:cNvPr id="179" name=""/>
            <p:cNvSpPr txBox="1"/>
            <p:nvPr/>
          </p:nvSpPr>
          <p:spPr>
            <a:xfrm>
              <a:off x="4038840" y="1905120"/>
              <a:ext cx="53316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8</a:t>
              </a:r>
              <a:endPara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3048120" y="2819520"/>
              <a:ext cx="838080" cy="1066680"/>
            </a:xfrm>
            <a:prstGeom prst="line">
              <a:avLst/>
            </a:prstGeom>
            <a:ln w="540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648320" y="2819520"/>
              <a:ext cx="914400" cy="1143000"/>
            </a:xfrm>
            <a:prstGeom prst="line">
              <a:avLst/>
            </a:prstGeom>
            <a:ln w="540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 txBox="1"/>
          <p:nvPr/>
        </p:nvSpPr>
        <p:spPr>
          <a:xfrm>
            <a:off x="2666880" y="4038480"/>
            <a:ext cx="533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7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257800" y="4038480"/>
            <a:ext cx="495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1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352680" y="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数的组成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5" name=""/>
          <p:cNvSpPr/>
          <p:nvPr/>
        </p:nvSpPr>
        <p:spPr>
          <a:xfrm>
            <a:off x="8763120" y="0"/>
            <a:ext cx="380880" cy="6858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6705720" y="990720"/>
            <a:ext cx="761760" cy="838080"/>
            <a:chOff x="6705720" y="990720"/>
            <a:chExt cx="761760" cy="838080"/>
          </a:xfrm>
        </p:grpSpPr>
        <p:sp>
          <p:nvSpPr>
            <p:cNvPr id="187" name=""/>
            <p:cNvSpPr/>
            <p:nvPr/>
          </p:nvSpPr>
          <p:spPr>
            <a:xfrm>
              <a:off x="6705720" y="990720"/>
              <a:ext cx="72396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05720" y="1046520"/>
              <a:ext cx="76176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6934320" y="990720"/>
            <a:ext cx="761760" cy="838080"/>
            <a:chOff x="6934320" y="990720"/>
            <a:chExt cx="761760" cy="838080"/>
          </a:xfrm>
        </p:grpSpPr>
        <p:sp>
          <p:nvSpPr>
            <p:cNvPr id="190" name=""/>
            <p:cNvSpPr/>
            <p:nvPr/>
          </p:nvSpPr>
          <p:spPr>
            <a:xfrm>
              <a:off x="6934320" y="990720"/>
              <a:ext cx="72396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934320" y="1046520"/>
              <a:ext cx="76176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7162920" y="990720"/>
            <a:ext cx="761760" cy="838080"/>
            <a:chOff x="7162920" y="990720"/>
            <a:chExt cx="761760" cy="838080"/>
          </a:xfrm>
        </p:grpSpPr>
        <p:sp>
          <p:nvSpPr>
            <p:cNvPr id="193" name=""/>
            <p:cNvSpPr/>
            <p:nvPr/>
          </p:nvSpPr>
          <p:spPr>
            <a:xfrm>
              <a:off x="7162920" y="990720"/>
              <a:ext cx="72396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162920" y="1046520"/>
              <a:ext cx="76176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7467480" y="990720"/>
            <a:ext cx="762120" cy="838080"/>
            <a:chOff x="7467480" y="990720"/>
            <a:chExt cx="762120" cy="838080"/>
          </a:xfrm>
        </p:grpSpPr>
        <p:sp>
          <p:nvSpPr>
            <p:cNvPr id="196" name=""/>
            <p:cNvSpPr/>
            <p:nvPr/>
          </p:nvSpPr>
          <p:spPr>
            <a:xfrm>
              <a:off x="7467480" y="9907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467480" y="104652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8001000" y="990720"/>
            <a:ext cx="762120" cy="838080"/>
            <a:chOff x="8001000" y="990720"/>
            <a:chExt cx="762120" cy="838080"/>
          </a:xfrm>
        </p:grpSpPr>
        <p:sp>
          <p:nvSpPr>
            <p:cNvPr id="199" name=""/>
            <p:cNvSpPr/>
            <p:nvPr/>
          </p:nvSpPr>
          <p:spPr>
            <a:xfrm>
              <a:off x="8001000" y="9907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1000" y="104652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5c5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029200" y="3809880"/>
            <a:ext cx="533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1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7391520" y="3962520"/>
            <a:ext cx="495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7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4495680" y="685800"/>
            <a:ext cx="762120" cy="838080"/>
            <a:chOff x="4495680" y="685800"/>
            <a:chExt cx="762120" cy="838080"/>
          </a:xfrm>
        </p:grpSpPr>
        <p:sp>
          <p:nvSpPr>
            <p:cNvPr id="206" name=""/>
            <p:cNvSpPr/>
            <p:nvPr/>
          </p:nvSpPr>
          <p:spPr>
            <a:xfrm>
              <a:off x="4495680" y="68580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95680" y="74160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3657600" y="685800"/>
            <a:ext cx="762120" cy="838080"/>
            <a:chOff x="3657600" y="685800"/>
            <a:chExt cx="762120" cy="838080"/>
          </a:xfrm>
        </p:grpSpPr>
        <p:sp>
          <p:nvSpPr>
            <p:cNvPr id="209" name=""/>
            <p:cNvSpPr/>
            <p:nvPr/>
          </p:nvSpPr>
          <p:spPr>
            <a:xfrm>
              <a:off x="3657600" y="68580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57600" y="74160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2743200" y="685800"/>
            <a:ext cx="762120" cy="838080"/>
            <a:chOff x="2743200" y="685800"/>
            <a:chExt cx="762120" cy="838080"/>
          </a:xfrm>
        </p:grpSpPr>
        <p:sp>
          <p:nvSpPr>
            <p:cNvPr id="212" name=""/>
            <p:cNvSpPr/>
            <p:nvPr/>
          </p:nvSpPr>
          <p:spPr>
            <a:xfrm>
              <a:off x="2743200" y="68580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743200" y="74160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5410080" y="685800"/>
            <a:ext cx="762120" cy="838080"/>
            <a:chOff x="5410080" y="685800"/>
            <a:chExt cx="762120" cy="838080"/>
          </a:xfrm>
        </p:grpSpPr>
        <p:sp>
          <p:nvSpPr>
            <p:cNvPr id="215" name=""/>
            <p:cNvSpPr/>
            <p:nvPr/>
          </p:nvSpPr>
          <p:spPr>
            <a:xfrm>
              <a:off x="5410080" y="68580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410080" y="74160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248520" y="685800"/>
            <a:ext cx="761760" cy="838080"/>
            <a:chOff x="6248520" y="685800"/>
            <a:chExt cx="761760" cy="838080"/>
          </a:xfrm>
        </p:grpSpPr>
        <p:sp>
          <p:nvSpPr>
            <p:cNvPr id="218" name=""/>
            <p:cNvSpPr/>
            <p:nvPr/>
          </p:nvSpPr>
          <p:spPr>
            <a:xfrm>
              <a:off x="6248520" y="685800"/>
              <a:ext cx="72396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248520" y="741600"/>
              <a:ext cx="76176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086600" y="685800"/>
            <a:ext cx="762120" cy="838080"/>
            <a:chOff x="7086600" y="685800"/>
            <a:chExt cx="762120" cy="838080"/>
          </a:xfrm>
        </p:grpSpPr>
        <p:sp>
          <p:nvSpPr>
            <p:cNvPr id="221" name=""/>
            <p:cNvSpPr/>
            <p:nvPr/>
          </p:nvSpPr>
          <p:spPr>
            <a:xfrm>
              <a:off x="7086600" y="68580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086600" y="74160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924680" y="685800"/>
            <a:ext cx="762120" cy="838080"/>
            <a:chOff x="7924680" y="685800"/>
            <a:chExt cx="762120" cy="838080"/>
          </a:xfrm>
        </p:grpSpPr>
        <p:sp>
          <p:nvSpPr>
            <p:cNvPr id="224" name=""/>
            <p:cNvSpPr/>
            <p:nvPr/>
          </p:nvSpPr>
          <p:spPr>
            <a:xfrm>
              <a:off x="7924680" y="68580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924680" y="74160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914400" y="685800"/>
            <a:ext cx="762120" cy="838080"/>
            <a:chOff x="914400" y="685800"/>
            <a:chExt cx="762120" cy="838080"/>
          </a:xfrm>
        </p:grpSpPr>
        <p:sp>
          <p:nvSpPr>
            <p:cNvPr id="227" name=""/>
            <p:cNvSpPr/>
            <p:nvPr/>
          </p:nvSpPr>
          <p:spPr>
            <a:xfrm>
              <a:off x="914400" y="68580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914400" y="74160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8759880" y="0"/>
            <a:ext cx="380880" cy="6858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5257800" y="1752480"/>
            <a:ext cx="2514600" cy="2057400"/>
            <a:chOff x="5257800" y="1752480"/>
            <a:chExt cx="2514600" cy="2057400"/>
          </a:xfrm>
        </p:grpSpPr>
        <p:sp>
          <p:nvSpPr>
            <p:cNvPr id="231" name=""/>
            <p:cNvSpPr txBox="1"/>
            <p:nvPr/>
          </p:nvSpPr>
          <p:spPr>
            <a:xfrm>
              <a:off x="6248520" y="1752480"/>
              <a:ext cx="53316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8</a:t>
              </a:r>
              <a:endPara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5257800" y="2666880"/>
              <a:ext cx="838080" cy="1066680"/>
            </a:xfrm>
            <a:prstGeom prst="line">
              <a:avLst/>
            </a:prstGeom>
            <a:ln w="540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858000" y="2666880"/>
              <a:ext cx="914400" cy="1143000"/>
            </a:xfrm>
            <a:prstGeom prst="line">
              <a:avLst/>
            </a:prstGeom>
            <a:ln w="540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685800" y="1676520"/>
            <a:ext cx="2971800" cy="2895480"/>
            <a:chOff x="685800" y="1676520"/>
            <a:chExt cx="2971800" cy="2895480"/>
          </a:xfrm>
        </p:grpSpPr>
        <p:grpSp>
          <p:nvGrpSpPr>
            <p:cNvPr id="235" name=""/>
            <p:cNvGrpSpPr/>
            <p:nvPr/>
          </p:nvGrpSpPr>
          <p:grpSpPr>
            <a:xfrm>
              <a:off x="914400" y="1676520"/>
              <a:ext cx="2514600" cy="2057400"/>
              <a:chOff x="914400" y="1676520"/>
              <a:chExt cx="2514600" cy="2057400"/>
            </a:xfrm>
          </p:grpSpPr>
          <p:sp>
            <p:nvSpPr>
              <p:cNvPr id="236" name=""/>
              <p:cNvSpPr txBox="1"/>
              <p:nvPr/>
            </p:nvSpPr>
            <p:spPr>
              <a:xfrm>
                <a:off x="1905120" y="1676520"/>
                <a:ext cx="533160" cy="762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0">
                      <a:noFill/>
                    </a:ln>
                    <a:blipFill rotWithShape="0">
                      <a:blip r:embed="rId3"/>
                      <a:srcRect/>
                      <a:stretch/>
                    </a:blipFill>
                    <a:effectLst>
                      <a:outerShdw dist="17819" dir="2700000" blurRad="0" rotWithShape="0">
                        <a:srgbClr val="c0c0c0"/>
                      </a:outerShdw>
                    </a:effectLst>
                    <a:latin typeface="宋体"/>
                  </a:rPr>
                  <a:t>8</a:t>
                </a:r>
                <a:endParaRPr b="0" lang="en-US" sz="2400" spc="1" strike="noStrike">
                  <a:ln w="0">
                    <a:noFill/>
                  </a:ln>
                  <a:blipFill rotWithShape="0">
                    <a:blip r:embed="rId4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  <a:ea typeface="宋体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>
                <a:off x="914400" y="2590920"/>
                <a:ext cx="838080" cy="1066680"/>
              </a:xfrm>
              <a:prstGeom prst="line">
                <a:avLst/>
              </a:prstGeom>
              <a:ln w="540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514600" y="2590920"/>
                <a:ext cx="914400" cy="1143000"/>
              </a:xfrm>
              <a:prstGeom prst="line">
                <a:avLst/>
              </a:prstGeom>
              <a:ln w="540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 txBox="1"/>
            <p:nvPr/>
          </p:nvSpPr>
          <p:spPr>
            <a:xfrm>
              <a:off x="3124080" y="3886200"/>
              <a:ext cx="53352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1</a:t>
              </a:r>
              <a:endParaRPr b="0" lang="en-US" sz="24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240" name=""/>
            <p:cNvSpPr txBox="1"/>
            <p:nvPr/>
          </p:nvSpPr>
          <p:spPr>
            <a:xfrm>
              <a:off x="685800" y="3809880"/>
              <a:ext cx="49536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7</a:t>
              </a:r>
              <a:endParaRPr b="0" lang="en-US" sz="24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5c5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772400" cy="41148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914400" y="762120"/>
            <a:ext cx="762120" cy="838080"/>
            <a:chOff x="914400" y="762120"/>
            <a:chExt cx="762120" cy="838080"/>
          </a:xfrm>
        </p:grpSpPr>
        <p:sp>
          <p:nvSpPr>
            <p:cNvPr id="244" name=""/>
            <p:cNvSpPr/>
            <p:nvPr/>
          </p:nvSpPr>
          <p:spPr>
            <a:xfrm>
              <a:off x="914400" y="7621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914400" y="81792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1752480" y="762120"/>
            <a:ext cx="762120" cy="838080"/>
            <a:chOff x="1752480" y="762120"/>
            <a:chExt cx="762120" cy="838080"/>
          </a:xfrm>
        </p:grpSpPr>
        <p:sp>
          <p:nvSpPr>
            <p:cNvPr id="247" name=""/>
            <p:cNvSpPr/>
            <p:nvPr/>
          </p:nvSpPr>
          <p:spPr>
            <a:xfrm>
              <a:off x="1752480" y="7621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752480" y="81792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2514600" y="762120"/>
            <a:ext cx="762120" cy="838080"/>
            <a:chOff x="2514600" y="762120"/>
            <a:chExt cx="762120" cy="838080"/>
          </a:xfrm>
        </p:grpSpPr>
        <p:sp>
          <p:nvSpPr>
            <p:cNvPr id="250" name=""/>
            <p:cNvSpPr/>
            <p:nvPr/>
          </p:nvSpPr>
          <p:spPr>
            <a:xfrm>
              <a:off x="2514600" y="7621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514600" y="81792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3352680" y="762120"/>
            <a:ext cx="762120" cy="838080"/>
            <a:chOff x="3352680" y="762120"/>
            <a:chExt cx="762120" cy="838080"/>
          </a:xfrm>
        </p:grpSpPr>
        <p:sp>
          <p:nvSpPr>
            <p:cNvPr id="253" name=""/>
            <p:cNvSpPr/>
            <p:nvPr/>
          </p:nvSpPr>
          <p:spPr>
            <a:xfrm>
              <a:off x="3352680" y="7621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352680" y="81792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4114800" y="762120"/>
            <a:ext cx="762120" cy="838080"/>
            <a:chOff x="4114800" y="762120"/>
            <a:chExt cx="762120" cy="838080"/>
          </a:xfrm>
        </p:grpSpPr>
        <p:sp>
          <p:nvSpPr>
            <p:cNvPr id="256" name=""/>
            <p:cNvSpPr/>
            <p:nvPr/>
          </p:nvSpPr>
          <p:spPr>
            <a:xfrm>
              <a:off x="4114800" y="7621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14800" y="81792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952880" y="762120"/>
            <a:ext cx="762120" cy="838080"/>
            <a:chOff x="4952880" y="762120"/>
            <a:chExt cx="762120" cy="838080"/>
          </a:xfrm>
        </p:grpSpPr>
        <p:sp>
          <p:nvSpPr>
            <p:cNvPr id="259" name=""/>
            <p:cNvSpPr/>
            <p:nvPr/>
          </p:nvSpPr>
          <p:spPr>
            <a:xfrm>
              <a:off x="4952880" y="7621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52880" y="81792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8759880" y="0"/>
            <a:ext cx="380880" cy="6858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8381880" y="762120"/>
            <a:ext cx="762120" cy="838080"/>
            <a:chOff x="8381880" y="762120"/>
            <a:chExt cx="762120" cy="838080"/>
          </a:xfrm>
        </p:grpSpPr>
        <p:sp>
          <p:nvSpPr>
            <p:cNvPr id="263" name=""/>
            <p:cNvSpPr/>
            <p:nvPr/>
          </p:nvSpPr>
          <p:spPr>
            <a:xfrm>
              <a:off x="8381880" y="7621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381880" y="81792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5715000" y="762120"/>
            <a:ext cx="762120" cy="838080"/>
            <a:chOff x="5715000" y="762120"/>
            <a:chExt cx="762120" cy="838080"/>
          </a:xfrm>
        </p:grpSpPr>
        <p:sp>
          <p:nvSpPr>
            <p:cNvPr id="266" name=""/>
            <p:cNvSpPr/>
            <p:nvPr/>
          </p:nvSpPr>
          <p:spPr>
            <a:xfrm>
              <a:off x="5715000" y="7621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715000" y="81792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5943600" y="762120"/>
            <a:ext cx="762120" cy="838080"/>
            <a:chOff x="5943600" y="762120"/>
            <a:chExt cx="762120" cy="838080"/>
          </a:xfrm>
        </p:grpSpPr>
        <p:sp>
          <p:nvSpPr>
            <p:cNvPr id="269" name=""/>
            <p:cNvSpPr/>
            <p:nvPr/>
          </p:nvSpPr>
          <p:spPr>
            <a:xfrm>
              <a:off x="5943600" y="7621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943600" y="81792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6172200" y="762120"/>
            <a:ext cx="762120" cy="838080"/>
            <a:chOff x="6172200" y="762120"/>
            <a:chExt cx="762120" cy="838080"/>
          </a:xfrm>
        </p:grpSpPr>
        <p:sp>
          <p:nvSpPr>
            <p:cNvPr id="272" name=""/>
            <p:cNvSpPr/>
            <p:nvPr/>
          </p:nvSpPr>
          <p:spPr>
            <a:xfrm>
              <a:off x="6172200" y="7621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172200" y="81792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6477120" y="762120"/>
            <a:ext cx="761760" cy="838080"/>
            <a:chOff x="6477120" y="762120"/>
            <a:chExt cx="761760" cy="838080"/>
          </a:xfrm>
        </p:grpSpPr>
        <p:sp>
          <p:nvSpPr>
            <p:cNvPr id="275" name=""/>
            <p:cNvSpPr/>
            <p:nvPr/>
          </p:nvSpPr>
          <p:spPr>
            <a:xfrm>
              <a:off x="6477120" y="762120"/>
              <a:ext cx="72396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477120" y="817920"/>
              <a:ext cx="76176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6629400" y="762120"/>
            <a:ext cx="762120" cy="838080"/>
            <a:chOff x="6629400" y="762120"/>
            <a:chExt cx="762120" cy="838080"/>
          </a:xfrm>
        </p:grpSpPr>
        <p:sp>
          <p:nvSpPr>
            <p:cNvPr id="278" name=""/>
            <p:cNvSpPr/>
            <p:nvPr/>
          </p:nvSpPr>
          <p:spPr>
            <a:xfrm>
              <a:off x="6629400" y="7621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629400" y="81792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6858000" y="762120"/>
            <a:ext cx="762120" cy="838080"/>
            <a:chOff x="6858000" y="762120"/>
            <a:chExt cx="762120" cy="838080"/>
          </a:xfrm>
        </p:grpSpPr>
        <p:sp>
          <p:nvSpPr>
            <p:cNvPr id="281" name=""/>
            <p:cNvSpPr/>
            <p:nvPr/>
          </p:nvSpPr>
          <p:spPr>
            <a:xfrm>
              <a:off x="6858000" y="7621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858000" y="81792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7010280" y="762120"/>
            <a:ext cx="762120" cy="838080"/>
            <a:chOff x="7010280" y="762120"/>
            <a:chExt cx="762120" cy="838080"/>
          </a:xfrm>
        </p:grpSpPr>
        <p:sp>
          <p:nvSpPr>
            <p:cNvPr id="284" name=""/>
            <p:cNvSpPr/>
            <p:nvPr/>
          </p:nvSpPr>
          <p:spPr>
            <a:xfrm>
              <a:off x="7010280" y="7621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010280" y="81792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7162920" y="762120"/>
            <a:ext cx="761760" cy="838080"/>
            <a:chOff x="7162920" y="762120"/>
            <a:chExt cx="761760" cy="838080"/>
          </a:xfrm>
        </p:grpSpPr>
        <p:sp>
          <p:nvSpPr>
            <p:cNvPr id="287" name=""/>
            <p:cNvSpPr/>
            <p:nvPr/>
          </p:nvSpPr>
          <p:spPr>
            <a:xfrm>
              <a:off x="7162920" y="762120"/>
              <a:ext cx="72396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62920" y="817920"/>
              <a:ext cx="76176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7238880" y="762120"/>
            <a:ext cx="762120" cy="838080"/>
            <a:chOff x="7238880" y="762120"/>
            <a:chExt cx="762120" cy="838080"/>
          </a:xfrm>
        </p:grpSpPr>
        <p:sp>
          <p:nvSpPr>
            <p:cNvPr id="290" name=""/>
            <p:cNvSpPr/>
            <p:nvPr/>
          </p:nvSpPr>
          <p:spPr>
            <a:xfrm>
              <a:off x="7238880" y="7621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238880" y="81792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7543800" y="762120"/>
            <a:ext cx="762120" cy="838080"/>
            <a:chOff x="7543800" y="762120"/>
            <a:chExt cx="762120" cy="838080"/>
          </a:xfrm>
        </p:grpSpPr>
        <p:sp>
          <p:nvSpPr>
            <p:cNvPr id="293" name=""/>
            <p:cNvSpPr/>
            <p:nvPr/>
          </p:nvSpPr>
          <p:spPr>
            <a:xfrm>
              <a:off x="7543800" y="7621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43800" y="81792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 txBox="1"/>
          <p:nvPr/>
        </p:nvSpPr>
        <p:spPr>
          <a:xfrm>
            <a:off x="3048120" y="4724280"/>
            <a:ext cx="5331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6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5562720" y="4648320"/>
            <a:ext cx="609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2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3124080" y="1676520"/>
            <a:ext cx="2971800" cy="2895480"/>
            <a:chOff x="3124080" y="1676520"/>
            <a:chExt cx="2971800" cy="2895480"/>
          </a:xfrm>
        </p:grpSpPr>
        <p:grpSp>
          <p:nvGrpSpPr>
            <p:cNvPr id="298" name=""/>
            <p:cNvGrpSpPr/>
            <p:nvPr/>
          </p:nvGrpSpPr>
          <p:grpSpPr>
            <a:xfrm>
              <a:off x="3352680" y="1676520"/>
              <a:ext cx="2514600" cy="2057400"/>
              <a:chOff x="3352680" y="1676520"/>
              <a:chExt cx="2514600" cy="2057400"/>
            </a:xfrm>
          </p:grpSpPr>
          <p:sp>
            <p:nvSpPr>
              <p:cNvPr id="299" name=""/>
              <p:cNvSpPr txBox="1"/>
              <p:nvPr/>
            </p:nvSpPr>
            <p:spPr>
              <a:xfrm>
                <a:off x="4343400" y="1676520"/>
                <a:ext cx="533160" cy="762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0">
                      <a:noFill/>
                    </a:ln>
                    <a:blipFill rotWithShape="0">
                      <a:blip r:embed="rId1"/>
                      <a:srcRect/>
                      <a:stretch/>
                    </a:blipFill>
                    <a:effectLst>
                      <a:outerShdw dist="17819" dir="2700000" blurRad="0" rotWithShape="0">
                        <a:srgbClr val="c0c0c0"/>
                      </a:outerShdw>
                    </a:effectLst>
                    <a:latin typeface="宋体"/>
                  </a:rPr>
                  <a:t>8</a:t>
                </a:r>
                <a:endParaRPr b="0" lang="en-US" sz="2400" spc="1" strike="noStrike">
                  <a:ln w="0">
                    <a:noFill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  <a:ea typeface="宋体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H="1">
                <a:off x="3352680" y="2590920"/>
                <a:ext cx="838080" cy="1066680"/>
              </a:xfrm>
              <a:prstGeom prst="line">
                <a:avLst/>
              </a:prstGeom>
              <a:ln w="540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952880" y="2590920"/>
                <a:ext cx="914400" cy="1143000"/>
              </a:xfrm>
              <a:prstGeom prst="line">
                <a:avLst/>
              </a:prstGeom>
              <a:ln w="540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2" name=""/>
            <p:cNvSpPr txBox="1"/>
            <p:nvPr/>
          </p:nvSpPr>
          <p:spPr>
            <a:xfrm>
              <a:off x="5562360" y="3886200"/>
              <a:ext cx="53352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1</a:t>
              </a:r>
              <a:endParaRPr b="0" lang="en-US" sz="24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303" name=""/>
            <p:cNvSpPr txBox="1"/>
            <p:nvPr/>
          </p:nvSpPr>
          <p:spPr>
            <a:xfrm>
              <a:off x="3124080" y="3809880"/>
              <a:ext cx="49536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7</a:t>
              </a:r>
              <a:endParaRPr b="0" lang="en-US" sz="24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5c5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914400" y="762120"/>
            <a:ext cx="762120" cy="838080"/>
            <a:chOff x="914400" y="762120"/>
            <a:chExt cx="762120" cy="838080"/>
          </a:xfrm>
        </p:grpSpPr>
        <p:sp>
          <p:nvSpPr>
            <p:cNvPr id="307" name=""/>
            <p:cNvSpPr/>
            <p:nvPr/>
          </p:nvSpPr>
          <p:spPr>
            <a:xfrm>
              <a:off x="914400" y="7621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914400" y="81792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1752480" y="762120"/>
            <a:ext cx="762120" cy="838080"/>
            <a:chOff x="1752480" y="762120"/>
            <a:chExt cx="762120" cy="838080"/>
          </a:xfrm>
        </p:grpSpPr>
        <p:sp>
          <p:nvSpPr>
            <p:cNvPr id="310" name=""/>
            <p:cNvSpPr/>
            <p:nvPr/>
          </p:nvSpPr>
          <p:spPr>
            <a:xfrm>
              <a:off x="1752480" y="7621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752480" y="81792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5486400" y="762120"/>
            <a:ext cx="762120" cy="838080"/>
            <a:chOff x="5486400" y="762120"/>
            <a:chExt cx="762120" cy="838080"/>
          </a:xfrm>
        </p:grpSpPr>
        <p:sp>
          <p:nvSpPr>
            <p:cNvPr id="313" name=""/>
            <p:cNvSpPr/>
            <p:nvPr/>
          </p:nvSpPr>
          <p:spPr>
            <a:xfrm>
              <a:off x="5486400" y="7621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486400" y="81792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6324480" y="762120"/>
            <a:ext cx="762120" cy="838080"/>
            <a:chOff x="6324480" y="762120"/>
            <a:chExt cx="762120" cy="838080"/>
          </a:xfrm>
        </p:grpSpPr>
        <p:sp>
          <p:nvSpPr>
            <p:cNvPr id="316" name=""/>
            <p:cNvSpPr/>
            <p:nvPr/>
          </p:nvSpPr>
          <p:spPr>
            <a:xfrm>
              <a:off x="6324480" y="7621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324480" y="81792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7086600" y="762120"/>
            <a:ext cx="762120" cy="838080"/>
            <a:chOff x="7086600" y="762120"/>
            <a:chExt cx="762120" cy="838080"/>
          </a:xfrm>
        </p:grpSpPr>
        <p:sp>
          <p:nvSpPr>
            <p:cNvPr id="319" name=""/>
            <p:cNvSpPr/>
            <p:nvPr/>
          </p:nvSpPr>
          <p:spPr>
            <a:xfrm>
              <a:off x="7086600" y="7621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086600" y="81792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7924680" y="762120"/>
            <a:ext cx="762120" cy="838080"/>
            <a:chOff x="7924680" y="762120"/>
            <a:chExt cx="762120" cy="838080"/>
          </a:xfrm>
        </p:grpSpPr>
        <p:sp>
          <p:nvSpPr>
            <p:cNvPr id="322" name=""/>
            <p:cNvSpPr/>
            <p:nvPr/>
          </p:nvSpPr>
          <p:spPr>
            <a:xfrm>
              <a:off x="7924680" y="7621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924680" y="81792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809880" y="685800"/>
            <a:ext cx="762120" cy="838080"/>
            <a:chOff x="3809880" y="685800"/>
            <a:chExt cx="762120" cy="838080"/>
          </a:xfrm>
        </p:grpSpPr>
        <p:sp>
          <p:nvSpPr>
            <p:cNvPr id="325" name=""/>
            <p:cNvSpPr/>
            <p:nvPr/>
          </p:nvSpPr>
          <p:spPr>
            <a:xfrm>
              <a:off x="3809880" y="68580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809880" y="74160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4648320" y="762120"/>
            <a:ext cx="761760" cy="838080"/>
            <a:chOff x="4648320" y="762120"/>
            <a:chExt cx="761760" cy="838080"/>
          </a:xfrm>
        </p:grpSpPr>
        <p:sp>
          <p:nvSpPr>
            <p:cNvPr id="328" name=""/>
            <p:cNvSpPr/>
            <p:nvPr/>
          </p:nvSpPr>
          <p:spPr>
            <a:xfrm>
              <a:off x="4648320" y="762120"/>
              <a:ext cx="72396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648320" y="817920"/>
              <a:ext cx="76176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 txBox="1"/>
          <p:nvPr/>
        </p:nvSpPr>
        <p:spPr>
          <a:xfrm>
            <a:off x="5029200" y="472428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2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467480" y="4724280"/>
            <a:ext cx="533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6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32" name=""/>
          <p:cNvSpPr/>
          <p:nvPr/>
        </p:nvSpPr>
        <p:spPr>
          <a:xfrm>
            <a:off x="8759880" y="0"/>
            <a:ext cx="380880" cy="6858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5257800" y="1752480"/>
            <a:ext cx="2514600" cy="2057400"/>
            <a:chOff x="5257800" y="1752480"/>
            <a:chExt cx="2514600" cy="2057400"/>
          </a:xfrm>
        </p:grpSpPr>
        <p:sp>
          <p:nvSpPr>
            <p:cNvPr id="334" name=""/>
            <p:cNvSpPr txBox="1"/>
            <p:nvPr/>
          </p:nvSpPr>
          <p:spPr>
            <a:xfrm>
              <a:off x="6248520" y="1752480"/>
              <a:ext cx="53316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8</a:t>
              </a:r>
              <a:endPara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5257800" y="2666880"/>
              <a:ext cx="838080" cy="1066680"/>
            </a:xfrm>
            <a:prstGeom prst="line">
              <a:avLst/>
            </a:prstGeom>
            <a:ln w="540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858000" y="2666880"/>
              <a:ext cx="914400" cy="1143000"/>
            </a:xfrm>
            <a:prstGeom prst="line">
              <a:avLst/>
            </a:prstGeom>
            <a:ln w="540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685800" y="1676520"/>
            <a:ext cx="2971800" cy="3733560"/>
            <a:chOff x="685800" y="1676520"/>
            <a:chExt cx="2971800" cy="3733560"/>
          </a:xfrm>
        </p:grpSpPr>
        <p:sp>
          <p:nvSpPr>
            <p:cNvPr id="338" name=""/>
            <p:cNvSpPr txBox="1"/>
            <p:nvPr/>
          </p:nvSpPr>
          <p:spPr>
            <a:xfrm>
              <a:off x="1905120" y="1676520"/>
              <a:ext cx="53316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blipFill rotWithShape="0">
                    <a:blip r:embed="rId3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8</a:t>
              </a:r>
              <a:endPara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914400" y="2590920"/>
              <a:ext cx="838080" cy="1066680"/>
            </a:xfrm>
            <a:prstGeom prst="line">
              <a:avLst/>
            </a:prstGeom>
            <a:ln w="540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514600" y="2590920"/>
              <a:ext cx="914400" cy="1143000"/>
            </a:xfrm>
            <a:prstGeom prst="line">
              <a:avLst/>
            </a:prstGeom>
            <a:ln w="540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 txBox="1"/>
            <p:nvPr/>
          </p:nvSpPr>
          <p:spPr>
            <a:xfrm>
              <a:off x="3124080" y="3886200"/>
              <a:ext cx="53352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1</a:t>
              </a:r>
              <a:endParaRPr b="0" lang="en-US" sz="24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342" name=""/>
            <p:cNvSpPr txBox="1"/>
            <p:nvPr/>
          </p:nvSpPr>
          <p:spPr>
            <a:xfrm>
              <a:off x="685800" y="3809880"/>
              <a:ext cx="49536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7</a:t>
              </a:r>
              <a:endParaRPr b="0" lang="en-US" sz="24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343" name=""/>
            <p:cNvSpPr txBox="1"/>
            <p:nvPr/>
          </p:nvSpPr>
          <p:spPr>
            <a:xfrm>
              <a:off x="3124080" y="4724280"/>
              <a:ext cx="4572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2</a:t>
              </a:r>
              <a:endParaRPr b="0" lang="en-US" sz="24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344" name=""/>
            <p:cNvSpPr txBox="1"/>
            <p:nvPr/>
          </p:nvSpPr>
          <p:spPr>
            <a:xfrm>
              <a:off x="685800" y="4724280"/>
              <a:ext cx="53352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6</a:t>
              </a:r>
              <a:endParaRPr b="0" lang="en-US" sz="24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345" name=""/>
          <p:cNvSpPr txBox="1"/>
          <p:nvPr/>
        </p:nvSpPr>
        <p:spPr>
          <a:xfrm>
            <a:off x="7467480" y="3886200"/>
            <a:ext cx="495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7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5029200" y="3886200"/>
            <a:ext cx="533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1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5c5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2590920" y="685800"/>
            <a:ext cx="761760" cy="838080"/>
            <a:chOff x="2590920" y="685800"/>
            <a:chExt cx="761760" cy="838080"/>
          </a:xfrm>
        </p:grpSpPr>
        <p:sp>
          <p:nvSpPr>
            <p:cNvPr id="350" name=""/>
            <p:cNvSpPr/>
            <p:nvPr/>
          </p:nvSpPr>
          <p:spPr>
            <a:xfrm>
              <a:off x="2590920" y="685800"/>
              <a:ext cx="72396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590920" y="741600"/>
              <a:ext cx="76176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3429000" y="685800"/>
            <a:ext cx="762120" cy="838080"/>
            <a:chOff x="3429000" y="685800"/>
            <a:chExt cx="762120" cy="838080"/>
          </a:xfrm>
        </p:grpSpPr>
        <p:sp>
          <p:nvSpPr>
            <p:cNvPr id="353" name=""/>
            <p:cNvSpPr/>
            <p:nvPr/>
          </p:nvSpPr>
          <p:spPr>
            <a:xfrm>
              <a:off x="3429000" y="68580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29000" y="74160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4191120" y="685800"/>
            <a:ext cx="761760" cy="838080"/>
            <a:chOff x="4191120" y="685800"/>
            <a:chExt cx="761760" cy="838080"/>
          </a:xfrm>
        </p:grpSpPr>
        <p:sp>
          <p:nvSpPr>
            <p:cNvPr id="356" name=""/>
            <p:cNvSpPr/>
            <p:nvPr/>
          </p:nvSpPr>
          <p:spPr>
            <a:xfrm>
              <a:off x="4191120" y="685800"/>
              <a:ext cx="72396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191120" y="741600"/>
              <a:ext cx="76176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4952880" y="685800"/>
            <a:ext cx="762120" cy="838080"/>
            <a:chOff x="4952880" y="685800"/>
            <a:chExt cx="762120" cy="838080"/>
          </a:xfrm>
        </p:grpSpPr>
        <p:sp>
          <p:nvSpPr>
            <p:cNvPr id="359" name=""/>
            <p:cNvSpPr/>
            <p:nvPr/>
          </p:nvSpPr>
          <p:spPr>
            <a:xfrm>
              <a:off x="4952880" y="68580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952880" y="74160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914400" y="685800"/>
            <a:ext cx="762120" cy="838080"/>
            <a:chOff x="914400" y="685800"/>
            <a:chExt cx="762120" cy="838080"/>
          </a:xfrm>
        </p:grpSpPr>
        <p:sp>
          <p:nvSpPr>
            <p:cNvPr id="362" name=""/>
            <p:cNvSpPr/>
            <p:nvPr/>
          </p:nvSpPr>
          <p:spPr>
            <a:xfrm>
              <a:off x="914400" y="68580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914400" y="74160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1752480" y="685800"/>
            <a:ext cx="762120" cy="838080"/>
            <a:chOff x="1752480" y="685800"/>
            <a:chExt cx="762120" cy="838080"/>
          </a:xfrm>
        </p:grpSpPr>
        <p:sp>
          <p:nvSpPr>
            <p:cNvPr id="365" name=""/>
            <p:cNvSpPr/>
            <p:nvPr/>
          </p:nvSpPr>
          <p:spPr>
            <a:xfrm>
              <a:off x="1752480" y="68580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752480" y="74160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7315200" y="762120"/>
            <a:ext cx="762120" cy="838080"/>
            <a:chOff x="7315200" y="762120"/>
            <a:chExt cx="762120" cy="838080"/>
          </a:xfrm>
        </p:grpSpPr>
        <p:sp>
          <p:nvSpPr>
            <p:cNvPr id="368" name=""/>
            <p:cNvSpPr/>
            <p:nvPr/>
          </p:nvSpPr>
          <p:spPr>
            <a:xfrm>
              <a:off x="7315200" y="7621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315200" y="81792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8077320" y="762120"/>
            <a:ext cx="761760" cy="838080"/>
            <a:chOff x="8077320" y="762120"/>
            <a:chExt cx="761760" cy="838080"/>
          </a:xfrm>
        </p:grpSpPr>
        <p:sp>
          <p:nvSpPr>
            <p:cNvPr id="371" name=""/>
            <p:cNvSpPr/>
            <p:nvPr/>
          </p:nvSpPr>
          <p:spPr>
            <a:xfrm>
              <a:off x="8077320" y="762120"/>
              <a:ext cx="72396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077320" y="817920"/>
              <a:ext cx="76176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 txBox="1"/>
          <p:nvPr/>
        </p:nvSpPr>
        <p:spPr>
          <a:xfrm>
            <a:off x="5257800" y="548640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3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2819520" y="5486400"/>
            <a:ext cx="5331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5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75" name=""/>
          <p:cNvSpPr/>
          <p:nvPr/>
        </p:nvSpPr>
        <p:spPr>
          <a:xfrm>
            <a:off x="8759880" y="0"/>
            <a:ext cx="380880" cy="6858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5029200" y="685800"/>
            <a:ext cx="762120" cy="838080"/>
            <a:chOff x="5029200" y="685800"/>
            <a:chExt cx="762120" cy="838080"/>
          </a:xfrm>
        </p:grpSpPr>
        <p:sp>
          <p:nvSpPr>
            <p:cNvPr id="377" name=""/>
            <p:cNvSpPr/>
            <p:nvPr/>
          </p:nvSpPr>
          <p:spPr>
            <a:xfrm>
              <a:off x="5029200" y="68580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029200" y="74160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5257800" y="685800"/>
            <a:ext cx="762120" cy="838080"/>
            <a:chOff x="5257800" y="685800"/>
            <a:chExt cx="762120" cy="838080"/>
          </a:xfrm>
        </p:grpSpPr>
        <p:sp>
          <p:nvSpPr>
            <p:cNvPr id="380" name=""/>
            <p:cNvSpPr/>
            <p:nvPr/>
          </p:nvSpPr>
          <p:spPr>
            <a:xfrm>
              <a:off x="5257800" y="68580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257800" y="74160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5410080" y="685800"/>
            <a:ext cx="762120" cy="838080"/>
            <a:chOff x="5410080" y="685800"/>
            <a:chExt cx="762120" cy="838080"/>
          </a:xfrm>
        </p:grpSpPr>
        <p:sp>
          <p:nvSpPr>
            <p:cNvPr id="383" name=""/>
            <p:cNvSpPr/>
            <p:nvPr/>
          </p:nvSpPr>
          <p:spPr>
            <a:xfrm>
              <a:off x="5410080" y="68580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410080" y="74160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5486400" y="685800"/>
            <a:ext cx="762120" cy="838080"/>
            <a:chOff x="5486400" y="685800"/>
            <a:chExt cx="762120" cy="838080"/>
          </a:xfrm>
        </p:grpSpPr>
        <p:sp>
          <p:nvSpPr>
            <p:cNvPr id="386" name=""/>
            <p:cNvSpPr/>
            <p:nvPr/>
          </p:nvSpPr>
          <p:spPr>
            <a:xfrm>
              <a:off x="5486400" y="68580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486400" y="74160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5638680" y="685800"/>
            <a:ext cx="762120" cy="838080"/>
            <a:chOff x="5638680" y="685800"/>
            <a:chExt cx="762120" cy="838080"/>
          </a:xfrm>
        </p:grpSpPr>
        <p:sp>
          <p:nvSpPr>
            <p:cNvPr id="389" name=""/>
            <p:cNvSpPr/>
            <p:nvPr/>
          </p:nvSpPr>
          <p:spPr>
            <a:xfrm>
              <a:off x="5638680" y="68580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638680" y="74160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5791320" y="685800"/>
            <a:ext cx="761760" cy="838080"/>
            <a:chOff x="5791320" y="685800"/>
            <a:chExt cx="761760" cy="838080"/>
          </a:xfrm>
        </p:grpSpPr>
        <p:sp>
          <p:nvSpPr>
            <p:cNvPr id="392" name=""/>
            <p:cNvSpPr/>
            <p:nvPr/>
          </p:nvSpPr>
          <p:spPr>
            <a:xfrm>
              <a:off x="5791320" y="685800"/>
              <a:ext cx="72396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791320" y="741600"/>
              <a:ext cx="76176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5943600" y="685800"/>
            <a:ext cx="762120" cy="838080"/>
            <a:chOff x="5943600" y="685800"/>
            <a:chExt cx="762120" cy="838080"/>
          </a:xfrm>
        </p:grpSpPr>
        <p:sp>
          <p:nvSpPr>
            <p:cNvPr id="395" name=""/>
            <p:cNvSpPr/>
            <p:nvPr/>
          </p:nvSpPr>
          <p:spPr>
            <a:xfrm>
              <a:off x="5943600" y="68580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943600" y="74160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6095880" y="685800"/>
            <a:ext cx="762120" cy="838080"/>
            <a:chOff x="6095880" y="685800"/>
            <a:chExt cx="762120" cy="838080"/>
          </a:xfrm>
        </p:grpSpPr>
        <p:sp>
          <p:nvSpPr>
            <p:cNvPr id="398" name=""/>
            <p:cNvSpPr/>
            <p:nvPr/>
          </p:nvSpPr>
          <p:spPr>
            <a:xfrm>
              <a:off x="6095880" y="68580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095880" y="74160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6172200" y="685800"/>
            <a:ext cx="762120" cy="838080"/>
            <a:chOff x="6172200" y="685800"/>
            <a:chExt cx="762120" cy="838080"/>
          </a:xfrm>
        </p:grpSpPr>
        <p:sp>
          <p:nvSpPr>
            <p:cNvPr id="401" name=""/>
            <p:cNvSpPr/>
            <p:nvPr/>
          </p:nvSpPr>
          <p:spPr>
            <a:xfrm>
              <a:off x="6172200" y="68580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172200" y="74160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6324480" y="762120"/>
            <a:ext cx="762120" cy="838080"/>
            <a:chOff x="6324480" y="762120"/>
            <a:chExt cx="762120" cy="838080"/>
          </a:xfrm>
        </p:grpSpPr>
        <p:sp>
          <p:nvSpPr>
            <p:cNvPr id="404" name=""/>
            <p:cNvSpPr/>
            <p:nvPr/>
          </p:nvSpPr>
          <p:spPr>
            <a:xfrm>
              <a:off x="6324480" y="7621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324480" y="81792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6553080" y="762120"/>
            <a:ext cx="762120" cy="838080"/>
            <a:chOff x="6553080" y="762120"/>
            <a:chExt cx="762120" cy="838080"/>
          </a:xfrm>
        </p:grpSpPr>
        <p:sp>
          <p:nvSpPr>
            <p:cNvPr id="407" name=""/>
            <p:cNvSpPr/>
            <p:nvPr/>
          </p:nvSpPr>
          <p:spPr>
            <a:xfrm>
              <a:off x="6553080" y="7621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81792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2819520" y="1676520"/>
            <a:ext cx="2971800" cy="3733560"/>
            <a:chOff x="2819520" y="1676520"/>
            <a:chExt cx="2971800" cy="3733560"/>
          </a:xfrm>
        </p:grpSpPr>
        <p:sp>
          <p:nvSpPr>
            <p:cNvPr id="410" name=""/>
            <p:cNvSpPr txBox="1"/>
            <p:nvPr/>
          </p:nvSpPr>
          <p:spPr>
            <a:xfrm>
              <a:off x="4038840" y="1676520"/>
              <a:ext cx="53316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8</a:t>
              </a:r>
              <a:endPara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3048120" y="2590920"/>
              <a:ext cx="838080" cy="1066680"/>
            </a:xfrm>
            <a:prstGeom prst="line">
              <a:avLst/>
            </a:prstGeom>
            <a:ln w="540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648320" y="2590920"/>
              <a:ext cx="914400" cy="1143000"/>
            </a:xfrm>
            <a:prstGeom prst="line">
              <a:avLst/>
            </a:prstGeom>
            <a:ln w="540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 txBox="1"/>
            <p:nvPr/>
          </p:nvSpPr>
          <p:spPr>
            <a:xfrm>
              <a:off x="5257800" y="3886200"/>
              <a:ext cx="53352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1</a:t>
              </a:r>
              <a:endParaRPr b="0" lang="en-US" sz="24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14" name=""/>
            <p:cNvSpPr txBox="1"/>
            <p:nvPr/>
          </p:nvSpPr>
          <p:spPr>
            <a:xfrm>
              <a:off x="2819520" y="3809880"/>
              <a:ext cx="49536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7</a:t>
              </a:r>
              <a:endParaRPr b="0" lang="en-US" sz="24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15" name=""/>
            <p:cNvSpPr txBox="1"/>
            <p:nvPr/>
          </p:nvSpPr>
          <p:spPr>
            <a:xfrm>
              <a:off x="5257800" y="4724280"/>
              <a:ext cx="4572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2</a:t>
              </a:r>
              <a:endParaRPr b="0" lang="en-US" sz="24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16" name=""/>
            <p:cNvSpPr txBox="1"/>
            <p:nvPr/>
          </p:nvSpPr>
          <p:spPr>
            <a:xfrm>
              <a:off x="2819520" y="4724280"/>
              <a:ext cx="53352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6</a:t>
              </a:r>
              <a:endParaRPr b="0" lang="en-US" sz="24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5c5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838080" y="571500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5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276720" y="5715000"/>
            <a:ext cx="5331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3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400800" y="609480"/>
            <a:ext cx="762120" cy="838440"/>
            <a:chOff x="6400800" y="609480"/>
            <a:chExt cx="762120" cy="838440"/>
          </a:xfrm>
        </p:grpSpPr>
        <p:sp>
          <p:nvSpPr>
            <p:cNvPr id="422" name=""/>
            <p:cNvSpPr/>
            <p:nvPr/>
          </p:nvSpPr>
          <p:spPr>
            <a:xfrm>
              <a:off x="6400800" y="609480"/>
              <a:ext cx="724320" cy="8384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400800" y="665280"/>
              <a:ext cx="762120" cy="6706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7238880" y="609480"/>
            <a:ext cx="762120" cy="838440"/>
            <a:chOff x="7238880" y="609480"/>
            <a:chExt cx="762120" cy="838440"/>
          </a:xfrm>
        </p:grpSpPr>
        <p:sp>
          <p:nvSpPr>
            <p:cNvPr id="425" name=""/>
            <p:cNvSpPr/>
            <p:nvPr/>
          </p:nvSpPr>
          <p:spPr>
            <a:xfrm>
              <a:off x="7238880" y="609480"/>
              <a:ext cx="724320" cy="8384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238880" y="665280"/>
              <a:ext cx="762120" cy="6706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8001000" y="609480"/>
            <a:ext cx="762120" cy="838440"/>
            <a:chOff x="8001000" y="609480"/>
            <a:chExt cx="762120" cy="838440"/>
          </a:xfrm>
        </p:grpSpPr>
        <p:sp>
          <p:nvSpPr>
            <p:cNvPr id="428" name=""/>
            <p:cNvSpPr/>
            <p:nvPr/>
          </p:nvSpPr>
          <p:spPr>
            <a:xfrm>
              <a:off x="8001000" y="609480"/>
              <a:ext cx="724320" cy="8384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001000" y="665280"/>
              <a:ext cx="762120" cy="6706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838080" y="609480"/>
            <a:ext cx="762120" cy="838440"/>
            <a:chOff x="838080" y="609480"/>
            <a:chExt cx="762120" cy="838440"/>
          </a:xfrm>
        </p:grpSpPr>
        <p:sp>
          <p:nvSpPr>
            <p:cNvPr id="431" name=""/>
            <p:cNvSpPr/>
            <p:nvPr/>
          </p:nvSpPr>
          <p:spPr>
            <a:xfrm>
              <a:off x="838080" y="609480"/>
              <a:ext cx="724320" cy="8384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38080" y="665280"/>
              <a:ext cx="762120" cy="6706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4724280" y="609480"/>
            <a:ext cx="762120" cy="838440"/>
            <a:chOff x="4724280" y="609480"/>
            <a:chExt cx="762120" cy="838440"/>
          </a:xfrm>
        </p:grpSpPr>
        <p:sp>
          <p:nvSpPr>
            <p:cNvPr id="434" name=""/>
            <p:cNvSpPr/>
            <p:nvPr/>
          </p:nvSpPr>
          <p:spPr>
            <a:xfrm>
              <a:off x="4724280" y="609480"/>
              <a:ext cx="724320" cy="8384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724280" y="665280"/>
              <a:ext cx="762120" cy="6706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5562720" y="609480"/>
            <a:ext cx="761760" cy="838440"/>
            <a:chOff x="5562720" y="609480"/>
            <a:chExt cx="761760" cy="838440"/>
          </a:xfrm>
        </p:grpSpPr>
        <p:sp>
          <p:nvSpPr>
            <p:cNvPr id="437" name=""/>
            <p:cNvSpPr/>
            <p:nvPr/>
          </p:nvSpPr>
          <p:spPr>
            <a:xfrm>
              <a:off x="5562720" y="609480"/>
              <a:ext cx="723960" cy="8384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562720" y="665280"/>
              <a:ext cx="761760" cy="6706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1600200" y="609480"/>
            <a:ext cx="762120" cy="838440"/>
            <a:chOff x="1600200" y="609480"/>
            <a:chExt cx="762120" cy="838440"/>
          </a:xfrm>
        </p:grpSpPr>
        <p:sp>
          <p:nvSpPr>
            <p:cNvPr id="440" name=""/>
            <p:cNvSpPr/>
            <p:nvPr/>
          </p:nvSpPr>
          <p:spPr>
            <a:xfrm>
              <a:off x="1600200" y="609480"/>
              <a:ext cx="724320" cy="8384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600200" y="665280"/>
              <a:ext cx="762120" cy="6706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2362320" y="609480"/>
            <a:ext cx="761760" cy="838440"/>
            <a:chOff x="2362320" y="609480"/>
            <a:chExt cx="761760" cy="838440"/>
          </a:xfrm>
        </p:grpSpPr>
        <p:sp>
          <p:nvSpPr>
            <p:cNvPr id="443" name=""/>
            <p:cNvSpPr/>
            <p:nvPr/>
          </p:nvSpPr>
          <p:spPr>
            <a:xfrm>
              <a:off x="2362320" y="609480"/>
              <a:ext cx="723960" cy="8384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362320" y="665280"/>
              <a:ext cx="761760" cy="6706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5" name=""/>
          <p:cNvSpPr/>
          <p:nvPr/>
        </p:nvSpPr>
        <p:spPr>
          <a:xfrm>
            <a:off x="8759880" y="0"/>
            <a:ext cx="380880" cy="6858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5867280" y="1676520"/>
            <a:ext cx="5335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8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4876920" y="2590920"/>
            <a:ext cx="838080" cy="1066680"/>
          </a:xfrm>
          <a:prstGeom prst="line">
            <a:avLst/>
          </a:prstGeom>
          <a:ln w="540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477120" y="2590920"/>
            <a:ext cx="914400" cy="1143000"/>
          </a:xfrm>
          <a:prstGeom prst="line">
            <a:avLst/>
          </a:prstGeom>
          <a:ln w="540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4724280" y="3886200"/>
            <a:ext cx="533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1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7010280" y="3809880"/>
            <a:ext cx="495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7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724280" y="480060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2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7010280" y="4648320"/>
            <a:ext cx="533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6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838080" y="1828800"/>
            <a:ext cx="2971800" cy="3733560"/>
            <a:chOff x="838080" y="1828800"/>
            <a:chExt cx="2971800" cy="3733560"/>
          </a:xfrm>
        </p:grpSpPr>
        <p:sp>
          <p:nvSpPr>
            <p:cNvPr id="454" name=""/>
            <p:cNvSpPr txBox="1"/>
            <p:nvPr/>
          </p:nvSpPr>
          <p:spPr>
            <a:xfrm>
              <a:off x="2057400" y="1828800"/>
              <a:ext cx="53316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blipFill rotWithShape="0">
                    <a:blip r:embed="rId3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8</a:t>
              </a:r>
              <a:endPara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1066680" y="2743200"/>
              <a:ext cx="838080" cy="1066680"/>
            </a:xfrm>
            <a:prstGeom prst="line">
              <a:avLst/>
            </a:prstGeom>
            <a:ln w="540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666880" y="2743200"/>
              <a:ext cx="914400" cy="1143000"/>
            </a:xfrm>
            <a:prstGeom prst="line">
              <a:avLst/>
            </a:prstGeom>
            <a:ln w="540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 txBox="1"/>
            <p:nvPr/>
          </p:nvSpPr>
          <p:spPr>
            <a:xfrm>
              <a:off x="3276360" y="4038480"/>
              <a:ext cx="53352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1</a:t>
              </a:r>
              <a:endParaRPr b="0" lang="en-US" sz="24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58" name=""/>
            <p:cNvSpPr txBox="1"/>
            <p:nvPr/>
          </p:nvSpPr>
          <p:spPr>
            <a:xfrm>
              <a:off x="838080" y="3962160"/>
              <a:ext cx="49536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7</a:t>
              </a:r>
              <a:endParaRPr b="0" lang="en-US" sz="24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59" name=""/>
            <p:cNvSpPr txBox="1"/>
            <p:nvPr/>
          </p:nvSpPr>
          <p:spPr>
            <a:xfrm>
              <a:off x="3276360" y="4876560"/>
              <a:ext cx="4572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2</a:t>
              </a:r>
              <a:endParaRPr b="0" lang="en-US" sz="24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60" name=""/>
            <p:cNvSpPr txBox="1"/>
            <p:nvPr/>
          </p:nvSpPr>
          <p:spPr>
            <a:xfrm>
              <a:off x="838080" y="4876560"/>
              <a:ext cx="53352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6</a:t>
              </a:r>
              <a:endParaRPr b="0" lang="en-US" sz="24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461" name=""/>
          <p:cNvSpPr txBox="1"/>
          <p:nvPr/>
        </p:nvSpPr>
        <p:spPr>
          <a:xfrm>
            <a:off x="7162920" y="563868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5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648320" y="5638680"/>
            <a:ext cx="5331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3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5c5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2590920" y="380880"/>
            <a:ext cx="761760" cy="838440"/>
            <a:chOff x="2590920" y="380880"/>
            <a:chExt cx="761760" cy="838440"/>
          </a:xfrm>
        </p:grpSpPr>
        <p:sp>
          <p:nvSpPr>
            <p:cNvPr id="466" name=""/>
            <p:cNvSpPr/>
            <p:nvPr/>
          </p:nvSpPr>
          <p:spPr>
            <a:xfrm>
              <a:off x="2590920" y="380880"/>
              <a:ext cx="723960" cy="8384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590920" y="436680"/>
              <a:ext cx="761760" cy="6706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3429000" y="380880"/>
            <a:ext cx="762120" cy="838440"/>
            <a:chOff x="3429000" y="380880"/>
            <a:chExt cx="762120" cy="838440"/>
          </a:xfrm>
        </p:grpSpPr>
        <p:sp>
          <p:nvSpPr>
            <p:cNvPr id="469" name=""/>
            <p:cNvSpPr/>
            <p:nvPr/>
          </p:nvSpPr>
          <p:spPr>
            <a:xfrm>
              <a:off x="3429000" y="380880"/>
              <a:ext cx="724320" cy="8384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429000" y="436680"/>
              <a:ext cx="762120" cy="6706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4191120" y="380880"/>
            <a:ext cx="761760" cy="838440"/>
            <a:chOff x="4191120" y="380880"/>
            <a:chExt cx="761760" cy="838440"/>
          </a:xfrm>
        </p:grpSpPr>
        <p:sp>
          <p:nvSpPr>
            <p:cNvPr id="472" name=""/>
            <p:cNvSpPr/>
            <p:nvPr/>
          </p:nvSpPr>
          <p:spPr>
            <a:xfrm>
              <a:off x="4191120" y="380880"/>
              <a:ext cx="723960" cy="8384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91120" y="436680"/>
              <a:ext cx="761760" cy="6706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6324480" y="380880"/>
            <a:ext cx="762120" cy="838440"/>
            <a:chOff x="6324480" y="380880"/>
            <a:chExt cx="762120" cy="838440"/>
          </a:xfrm>
        </p:grpSpPr>
        <p:sp>
          <p:nvSpPr>
            <p:cNvPr id="475" name=""/>
            <p:cNvSpPr/>
            <p:nvPr/>
          </p:nvSpPr>
          <p:spPr>
            <a:xfrm>
              <a:off x="6324480" y="380880"/>
              <a:ext cx="724320" cy="8384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324480" y="436680"/>
              <a:ext cx="762120" cy="6706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914400" y="380880"/>
            <a:ext cx="762120" cy="838440"/>
            <a:chOff x="914400" y="380880"/>
            <a:chExt cx="762120" cy="838440"/>
          </a:xfrm>
        </p:grpSpPr>
        <p:sp>
          <p:nvSpPr>
            <p:cNvPr id="478" name=""/>
            <p:cNvSpPr/>
            <p:nvPr/>
          </p:nvSpPr>
          <p:spPr>
            <a:xfrm>
              <a:off x="914400" y="380880"/>
              <a:ext cx="724320" cy="8384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914400" y="436680"/>
              <a:ext cx="762120" cy="6706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1752480" y="380880"/>
            <a:ext cx="762120" cy="838440"/>
            <a:chOff x="1752480" y="380880"/>
            <a:chExt cx="762120" cy="838440"/>
          </a:xfrm>
        </p:grpSpPr>
        <p:sp>
          <p:nvSpPr>
            <p:cNvPr id="481" name=""/>
            <p:cNvSpPr/>
            <p:nvPr/>
          </p:nvSpPr>
          <p:spPr>
            <a:xfrm>
              <a:off x="1752480" y="380880"/>
              <a:ext cx="724320" cy="8384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752480" y="436680"/>
              <a:ext cx="762120" cy="6706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7086600" y="380880"/>
            <a:ext cx="762120" cy="838440"/>
            <a:chOff x="7086600" y="380880"/>
            <a:chExt cx="762120" cy="838440"/>
          </a:xfrm>
        </p:grpSpPr>
        <p:sp>
          <p:nvSpPr>
            <p:cNvPr id="484" name=""/>
            <p:cNvSpPr/>
            <p:nvPr/>
          </p:nvSpPr>
          <p:spPr>
            <a:xfrm>
              <a:off x="7086600" y="380880"/>
              <a:ext cx="724320" cy="8384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086600" y="436680"/>
              <a:ext cx="762120" cy="6706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7848720" y="380880"/>
            <a:ext cx="761760" cy="838440"/>
            <a:chOff x="7848720" y="380880"/>
            <a:chExt cx="761760" cy="838440"/>
          </a:xfrm>
        </p:grpSpPr>
        <p:sp>
          <p:nvSpPr>
            <p:cNvPr id="487" name=""/>
            <p:cNvSpPr/>
            <p:nvPr/>
          </p:nvSpPr>
          <p:spPr>
            <a:xfrm>
              <a:off x="7848720" y="380880"/>
              <a:ext cx="723960" cy="8384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848720" y="436680"/>
              <a:ext cx="761760" cy="6706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 txBox="1"/>
          <p:nvPr/>
        </p:nvSpPr>
        <p:spPr>
          <a:xfrm>
            <a:off x="2895480" y="6095880"/>
            <a:ext cx="6098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4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5257800" y="6095880"/>
            <a:ext cx="609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4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4343400" y="380880"/>
            <a:ext cx="762120" cy="838440"/>
            <a:chOff x="4343400" y="380880"/>
            <a:chExt cx="762120" cy="838440"/>
          </a:xfrm>
        </p:grpSpPr>
        <p:sp>
          <p:nvSpPr>
            <p:cNvPr id="492" name=""/>
            <p:cNvSpPr/>
            <p:nvPr/>
          </p:nvSpPr>
          <p:spPr>
            <a:xfrm>
              <a:off x="4343400" y="380880"/>
              <a:ext cx="724320" cy="8384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343400" y="436680"/>
              <a:ext cx="762120" cy="6706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4572000" y="457200"/>
            <a:ext cx="762120" cy="838080"/>
            <a:chOff x="4572000" y="457200"/>
            <a:chExt cx="762120" cy="838080"/>
          </a:xfrm>
        </p:grpSpPr>
        <p:sp>
          <p:nvSpPr>
            <p:cNvPr id="495" name=""/>
            <p:cNvSpPr/>
            <p:nvPr/>
          </p:nvSpPr>
          <p:spPr>
            <a:xfrm>
              <a:off x="4572000" y="45720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572000" y="51300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4724280" y="380880"/>
            <a:ext cx="762120" cy="838440"/>
            <a:chOff x="4724280" y="380880"/>
            <a:chExt cx="762120" cy="838440"/>
          </a:xfrm>
        </p:grpSpPr>
        <p:sp>
          <p:nvSpPr>
            <p:cNvPr id="498" name=""/>
            <p:cNvSpPr/>
            <p:nvPr/>
          </p:nvSpPr>
          <p:spPr>
            <a:xfrm>
              <a:off x="4724280" y="380880"/>
              <a:ext cx="724320" cy="8384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724280" y="436680"/>
              <a:ext cx="762120" cy="6706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4952880" y="380880"/>
            <a:ext cx="762120" cy="838440"/>
            <a:chOff x="4952880" y="380880"/>
            <a:chExt cx="762120" cy="838440"/>
          </a:xfrm>
        </p:grpSpPr>
        <p:sp>
          <p:nvSpPr>
            <p:cNvPr id="501" name=""/>
            <p:cNvSpPr/>
            <p:nvPr/>
          </p:nvSpPr>
          <p:spPr>
            <a:xfrm>
              <a:off x="4952880" y="380880"/>
              <a:ext cx="724320" cy="8384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952880" y="436680"/>
              <a:ext cx="762120" cy="6706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5029200" y="380880"/>
            <a:ext cx="762120" cy="838440"/>
            <a:chOff x="5029200" y="380880"/>
            <a:chExt cx="762120" cy="838440"/>
          </a:xfrm>
        </p:grpSpPr>
        <p:sp>
          <p:nvSpPr>
            <p:cNvPr id="504" name=""/>
            <p:cNvSpPr/>
            <p:nvPr/>
          </p:nvSpPr>
          <p:spPr>
            <a:xfrm>
              <a:off x="5029200" y="380880"/>
              <a:ext cx="724320" cy="8384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029200" y="436680"/>
              <a:ext cx="762120" cy="6706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5105520" y="380880"/>
            <a:ext cx="761760" cy="838440"/>
            <a:chOff x="5105520" y="380880"/>
            <a:chExt cx="761760" cy="838440"/>
          </a:xfrm>
        </p:grpSpPr>
        <p:sp>
          <p:nvSpPr>
            <p:cNvPr id="507" name=""/>
            <p:cNvSpPr/>
            <p:nvPr/>
          </p:nvSpPr>
          <p:spPr>
            <a:xfrm>
              <a:off x="5105520" y="380880"/>
              <a:ext cx="723960" cy="8384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105520" y="436680"/>
              <a:ext cx="761760" cy="6706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5181480" y="380880"/>
            <a:ext cx="762120" cy="838440"/>
            <a:chOff x="5181480" y="380880"/>
            <a:chExt cx="762120" cy="838440"/>
          </a:xfrm>
        </p:grpSpPr>
        <p:sp>
          <p:nvSpPr>
            <p:cNvPr id="510" name=""/>
            <p:cNvSpPr/>
            <p:nvPr/>
          </p:nvSpPr>
          <p:spPr>
            <a:xfrm>
              <a:off x="5181480" y="380880"/>
              <a:ext cx="724320" cy="8384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181480" y="436680"/>
              <a:ext cx="762120" cy="6706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5562720" y="380880"/>
            <a:ext cx="761760" cy="838440"/>
            <a:chOff x="5562720" y="380880"/>
            <a:chExt cx="761760" cy="838440"/>
          </a:xfrm>
        </p:grpSpPr>
        <p:sp>
          <p:nvSpPr>
            <p:cNvPr id="513" name=""/>
            <p:cNvSpPr/>
            <p:nvPr/>
          </p:nvSpPr>
          <p:spPr>
            <a:xfrm>
              <a:off x="5562720" y="380880"/>
              <a:ext cx="723960" cy="8384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562720" y="436680"/>
              <a:ext cx="761760" cy="6706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2895480" y="1295280"/>
            <a:ext cx="2971800" cy="3733560"/>
            <a:chOff x="2895480" y="1295280"/>
            <a:chExt cx="2971800" cy="3733560"/>
          </a:xfrm>
        </p:grpSpPr>
        <p:sp>
          <p:nvSpPr>
            <p:cNvPr id="516" name=""/>
            <p:cNvSpPr txBox="1"/>
            <p:nvPr/>
          </p:nvSpPr>
          <p:spPr>
            <a:xfrm>
              <a:off x="4114800" y="1295280"/>
              <a:ext cx="53316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8</a:t>
              </a:r>
              <a:endPara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>
              <a:off x="3124080" y="2209680"/>
              <a:ext cx="838080" cy="1066680"/>
            </a:xfrm>
            <a:prstGeom prst="line">
              <a:avLst/>
            </a:prstGeom>
            <a:ln w="540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724280" y="2209680"/>
              <a:ext cx="914400" cy="1143000"/>
            </a:xfrm>
            <a:prstGeom prst="line">
              <a:avLst/>
            </a:prstGeom>
            <a:ln w="540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 txBox="1"/>
            <p:nvPr/>
          </p:nvSpPr>
          <p:spPr>
            <a:xfrm>
              <a:off x="5333760" y="3504960"/>
              <a:ext cx="53352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1</a:t>
              </a:r>
              <a:endParaRPr b="0" lang="en-US" sz="24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520" name=""/>
            <p:cNvSpPr txBox="1"/>
            <p:nvPr/>
          </p:nvSpPr>
          <p:spPr>
            <a:xfrm>
              <a:off x="2895480" y="3428640"/>
              <a:ext cx="49536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7</a:t>
              </a:r>
              <a:endParaRPr b="0" lang="en-US" sz="24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521" name=""/>
            <p:cNvSpPr txBox="1"/>
            <p:nvPr/>
          </p:nvSpPr>
          <p:spPr>
            <a:xfrm>
              <a:off x="5333760" y="4343040"/>
              <a:ext cx="4572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2</a:t>
              </a:r>
              <a:endParaRPr b="0" lang="en-US" sz="24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522" name=""/>
            <p:cNvSpPr txBox="1"/>
            <p:nvPr/>
          </p:nvSpPr>
          <p:spPr>
            <a:xfrm>
              <a:off x="2895480" y="4343040"/>
              <a:ext cx="53352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6</a:t>
              </a:r>
              <a:endParaRPr b="0" lang="en-US" sz="24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523" name=""/>
          <p:cNvSpPr txBox="1"/>
          <p:nvPr/>
        </p:nvSpPr>
        <p:spPr>
          <a:xfrm>
            <a:off x="2971800" y="518148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5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5334120" y="5181480"/>
            <a:ext cx="5331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3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5c5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4876920" y="380880"/>
            <a:ext cx="3733560" cy="525780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762120" y="5638680"/>
            <a:ext cx="609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4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3276720" y="5562720"/>
            <a:ext cx="609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4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2133720" y="457200"/>
            <a:ext cx="5331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8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1143000" y="1371600"/>
            <a:ext cx="838080" cy="1066680"/>
          </a:xfrm>
          <a:prstGeom prst="line">
            <a:avLst/>
          </a:prstGeom>
          <a:ln w="540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743200" y="1371600"/>
            <a:ext cx="914400" cy="1143000"/>
          </a:xfrm>
          <a:prstGeom prst="line">
            <a:avLst/>
          </a:prstGeom>
          <a:ln w="540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3352680" y="2666880"/>
            <a:ext cx="533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1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914400" y="2590920"/>
            <a:ext cx="495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7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3352680" y="365760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2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914400" y="3657600"/>
            <a:ext cx="533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6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914400" y="464832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5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3352680" y="4572000"/>
            <a:ext cx="533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3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914400" y="2590920"/>
            <a:ext cx="495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7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914400" y="3657600"/>
            <a:ext cx="533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6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914400" y="464832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5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838080" y="5638680"/>
            <a:ext cx="6098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4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1" name=""/>
          <p:cNvSpPr/>
          <p:nvPr/>
        </p:nvSpPr>
        <p:spPr>
          <a:xfrm>
            <a:off x="4876920" y="380880"/>
            <a:ext cx="3733560" cy="52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876920" y="380880"/>
            <a:ext cx="3733560" cy="525780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952880" y="380880"/>
            <a:ext cx="3733920" cy="52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952880" y="380880"/>
            <a:ext cx="3733920" cy="525780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952880" y="380880"/>
            <a:ext cx="37339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5334120" y="380880"/>
            <a:ext cx="2971800" cy="4876920"/>
            <a:chOff x="5334120" y="380880"/>
            <a:chExt cx="2971800" cy="4876920"/>
          </a:xfrm>
        </p:grpSpPr>
        <p:sp>
          <p:nvSpPr>
            <p:cNvPr id="547" name=""/>
            <p:cNvSpPr txBox="1"/>
            <p:nvPr/>
          </p:nvSpPr>
          <p:spPr>
            <a:xfrm>
              <a:off x="6477120" y="380880"/>
              <a:ext cx="5335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blipFill rotWithShape="0">
                    <a:blip r:embed="rId3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8</a:t>
              </a:r>
              <a:endPara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>
              <a:off x="5486760" y="1295280"/>
              <a:ext cx="838080" cy="1066680"/>
            </a:xfrm>
            <a:prstGeom prst="line">
              <a:avLst/>
            </a:prstGeom>
            <a:ln w="540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086960" y="1295280"/>
              <a:ext cx="914400" cy="1143000"/>
            </a:xfrm>
            <a:prstGeom prst="line">
              <a:avLst/>
            </a:prstGeom>
            <a:ln w="540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 txBox="1"/>
            <p:nvPr/>
          </p:nvSpPr>
          <p:spPr>
            <a:xfrm>
              <a:off x="5334120" y="2590560"/>
              <a:ext cx="53352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1</a:t>
              </a:r>
              <a:endPara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551" name=""/>
            <p:cNvSpPr txBox="1"/>
            <p:nvPr/>
          </p:nvSpPr>
          <p:spPr>
            <a:xfrm>
              <a:off x="7696440" y="2590560"/>
              <a:ext cx="49536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7</a:t>
              </a:r>
              <a:endPara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552" name=""/>
            <p:cNvSpPr txBox="1"/>
            <p:nvPr/>
          </p:nvSpPr>
          <p:spPr>
            <a:xfrm>
              <a:off x="5334120" y="3504960"/>
              <a:ext cx="4572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2</a:t>
              </a:r>
              <a:endPara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553" name=""/>
            <p:cNvSpPr txBox="1"/>
            <p:nvPr/>
          </p:nvSpPr>
          <p:spPr>
            <a:xfrm>
              <a:off x="7696440" y="3581280"/>
              <a:ext cx="53352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6</a:t>
              </a:r>
              <a:endPara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554" name=""/>
            <p:cNvSpPr txBox="1"/>
            <p:nvPr/>
          </p:nvSpPr>
          <p:spPr>
            <a:xfrm>
              <a:off x="7848720" y="4572000"/>
              <a:ext cx="4572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5</a:t>
              </a:r>
              <a:endPara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555" name=""/>
            <p:cNvSpPr txBox="1"/>
            <p:nvPr/>
          </p:nvSpPr>
          <p:spPr>
            <a:xfrm>
              <a:off x="5334120" y="4572000"/>
              <a:ext cx="53352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3</a:t>
              </a:r>
              <a:endPara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5c5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1752480" y="3505320"/>
            <a:ext cx="5257800" cy="609480"/>
            <a:chOff x="1752480" y="3505320"/>
            <a:chExt cx="5257800" cy="609480"/>
          </a:xfrm>
        </p:grpSpPr>
        <p:sp>
          <p:nvSpPr>
            <p:cNvPr id="558" name=""/>
            <p:cNvSpPr/>
            <p:nvPr/>
          </p:nvSpPr>
          <p:spPr>
            <a:xfrm>
              <a:off x="6781680" y="3505320"/>
              <a:ext cx="76320" cy="60948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705720" y="3505320"/>
              <a:ext cx="304560" cy="609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791320" y="3505320"/>
              <a:ext cx="304560" cy="609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876920" y="3505320"/>
              <a:ext cx="304560" cy="609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962520" y="3505320"/>
              <a:ext cx="304560" cy="609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276720" y="3505320"/>
              <a:ext cx="304560" cy="609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666880" y="3505320"/>
              <a:ext cx="304920" cy="609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752480" y="3505320"/>
              <a:ext cx="228600" cy="609480"/>
            </a:xfrm>
            <a:prstGeom prst="ellipse">
              <a:avLst/>
            </a:prstGeom>
            <a:solidFill>
              <a:srgbClr val="ff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6" name=""/>
          <p:cNvSpPr/>
          <p:nvPr/>
        </p:nvSpPr>
        <p:spPr>
          <a:xfrm>
            <a:off x="1295280" y="4876920"/>
            <a:ext cx="4218120" cy="1571400"/>
          </a:xfrm>
          <a:custGeom>
            <a:avLst/>
            <a:gdLst/>
            <a:ahLst/>
            <a:rect l="l" t="t" r="r" b="b"/>
            <a:pathLst>
              <a:path w="2657" h="990">
                <a:moveTo>
                  <a:pt x="562" y="23"/>
                </a:moveTo>
                <a:cubicBezTo>
                  <a:pt x="1006" y="28"/>
                  <a:pt x="1388" y="10"/>
                  <a:pt x="1808" y="68"/>
                </a:cubicBezTo>
                <a:cubicBezTo>
                  <a:pt x="2091" y="56"/>
                  <a:pt x="2373" y="0"/>
                  <a:pt x="2657" y="0"/>
                </a:cubicBezTo>
                <a:lnTo>
                  <a:pt x="2160" y="990"/>
                </a:lnTo>
                <a:lnTo>
                  <a:pt x="0" y="894"/>
                </a:lnTo>
                <a:lnTo>
                  <a:pt x="562" y="23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973600" y="51055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000000"/>
                </a:solidFill>
                <a:latin typeface="Times New Roman"/>
              </a:rPr>
              <a:t>写一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2133720" y="525780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1905120" y="518148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5c5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4648320" y="1981080"/>
          <a:ext cx="22780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22780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4" name=""/>
          <p:cNvSpPr/>
          <p:nvPr/>
        </p:nvSpPr>
        <p:spPr>
          <a:xfrm>
            <a:off x="2362320" y="1981080"/>
            <a:ext cx="457200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648320" y="2057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64832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648320" y="4114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648320" y="5105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80060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638680" y="38862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477120" y="3886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4190760" y="3886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2362320" y="38862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572000" y="3809880"/>
            <a:ext cx="76320" cy="763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97180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657600" y="3886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5c5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" action="ppaction://hlinkshowjump?jump=previousslide"/>
          </p:cNvPr>
          <p:cNvSpPr/>
          <p:nvPr/>
        </p:nvSpPr>
        <p:spPr>
          <a:xfrm>
            <a:off x="0" y="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  <a:path fill="darken" w="21600" h="28789">
                <a:moveTo>
                  <a:pt x="3794" y="14394"/>
                </a:moveTo>
                <a:lnTo>
                  <a:pt x="17806" y="7388"/>
                </a:lnTo>
                <a:lnTo>
                  <a:pt x="17806" y="21401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457200" y="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  <a:path fill="darken" w="21600" h="28789">
                <a:moveTo>
                  <a:pt x="3794" y="7388"/>
                </a:moveTo>
                <a:lnTo>
                  <a:pt x="17806" y="14394"/>
                </a:lnTo>
                <a:lnTo>
                  <a:pt x="3794" y="21401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010280" y="1905120"/>
            <a:ext cx="76212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989" descr=""/>
          <p:cNvPicPr/>
          <p:nvPr/>
        </p:nvPicPr>
        <p:blipFill>
          <a:blip r:embed="rId1"/>
          <a:stretch/>
        </p:blipFill>
        <p:spPr>
          <a:xfrm>
            <a:off x="0" y="-1066680"/>
            <a:ext cx="9144000" cy="8982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3581280" y="1295280"/>
            <a:ext cx="1447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宋体"/>
              </a:rPr>
              <a:t>8</a:t>
            </a:r>
            <a:endParaRPr b="0" lang="en-US" sz="96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宋体"/>
              <a:ea typeface="宋体"/>
            </a:endParaRPr>
          </a:p>
        </p:txBody>
      </p:sp>
      <p:sp>
        <p:nvSpPr>
          <p:cNvPr id="64" name=""/>
          <p:cNvSpPr/>
          <p:nvPr/>
        </p:nvSpPr>
        <p:spPr>
          <a:xfrm>
            <a:off x="2209680" y="4800600"/>
            <a:ext cx="2819520" cy="1371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209680" y="4724280"/>
          <a:ext cx="2819520" cy="1409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09680" y="4724280"/>
                    <a:ext cx="2819520" cy="14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2209680" y="4800600"/>
            <a:ext cx="281952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209680" y="4800600"/>
          <a:ext cx="2819520" cy="1409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09680" y="4800600"/>
                    <a:ext cx="2819520" cy="14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hecke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5c5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2362320" y="1981080"/>
            <a:ext cx="4572000" cy="3962520"/>
            <a:chOff x="2362320" y="1981080"/>
            <a:chExt cx="4572000" cy="3962520"/>
          </a:xfrm>
        </p:grpSpPr>
        <p:sp>
          <p:nvSpPr>
            <p:cNvPr id="590" name=""/>
            <p:cNvSpPr/>
            <p:nvPr/>
          </p:nvSpPr>
          <p:spPr>
            <a:xfrm>
              <a:off x="2362320" y="1981080"/>
              <a:ext cx="4572000" cy="3962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648320" y="20574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648320" y="29718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648320" y="41148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648320" y="51055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800600" y="38862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638680" y="38862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477120" y="3886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>
              <a:off x="4190760" y="3886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>
              <a:off x="2362320" y="38862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572000" y="3809880"/>
              <a:ext cx="76320" cy="763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01" name=""/>
          <p:cNvGraphicFramePr/>
          <p:nvPr/>
        </p:nvGraphicFramePr>
        <p:xfrm>
          <a:off x="3733920" y="2057400"/>
          <a:ext cx="53316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2057400"/>
                    <a:ext cx="5331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3" name=""/>
          <p:cNvSpPr/>
          <p:nvPr/>
        </p:nvSpPr>
        <p:spPr>
          <a:xfrm>
            <a:off x="3657600" y="2057400"/>
            <a:ext cx="6094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4" name=""/>
          <p:cNvGraphicFramePr/>
          <p:nvPr/>
        </p:nvGraphicFramePr>
        <p:xfrm>
          <a:off x="3733920" y="2057400"/>
          <a:ext cx="53316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057400"/>
                    <a:ext cx="5331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6" name=""/>
          <p:cNvSpPr/>
          <p:nvPr/>
        </p:nvSpPr>
        <p:spPr>
          <a:xfrm>
            <a:off x="3657600" y="2057400"/>
            <a:ext cx="6094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648320" y="2133720"/>
            <a:ext cx="0" cy="3886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648320" y="2209680"/>
            <a:ext cx="0" cy="3886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648320" y="2209680"/>
            <a:ext cx="0" cy="3886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48320" y="2133720"/>
            <a:ext cx="0" cy="3886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648320" y="2057400"/>
            <a:ext cx="0" cy="3886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5c5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2362320" y="1981080"/>
            <a:ext cx="4572000" cy="3962520"/>
            <a:chOff x="2362320" y="1981080"/>
            <a:chExt cx="4572000" cy="3962520"/>
          </a:xfrm>
        </p:grpSpPr>
        <p:sp>
          <p:nvSpPr>
            <p:cNvPr id="615" name=""/>
            <p:cNvSpPr/>
            <p:nvPr/>
          </p:nvSpPr>
          <p:spPr>
            <a:xfrm>
              <a:off x="2362320" y="1981080"/>
              <a:ext cx="4572000" cy="3962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648320" y="20574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648320" y="29718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648320" y="41148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648320" y="51055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800600" y="38862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638680" y="38862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477120" y="3886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4190760" y="3886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2362320" y="38862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572000" y="3809880"/>
              <a:ext cx="76320" cy="763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26" name=""/>
          <p:cNvGraphicFramePr/>
          <p:nvPr/>
        </p:nvGraphicFramePr>
        <p:xfrm>
          <a:off x="3276720" y="1981080"/>
          <a:ext cx="981000" cy="5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981080"/>
                    <a:ext cx="9810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5c5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2362320" y="1981080"/>
            <a:ext cx="4572000" cy="3962520"/>
            <a:chOff x="2362320" y="1981080"/>
            <a:chExt cx="4572000" cy="3962520"/>
          </a:xfrm>
        </p:grpSpPr>
        <p:sp>
          <p:nvSpPr>
            <p:cNvPr id="631" name=""/>
            <p:cNvSpPr/>
            <p:nvPr/>
          </p:nvSpPr>
          <p:spPr>
            <a:xfrm>
              <a:off x="2362320" y="1981080"/>
              <a:ext cx="4572000" cy="3962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648320" y="20574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648320" y="29718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648320" y="41148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648320" y="51055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800600" y="38862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638680" y="38862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477120" y="3886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4190760" y="3886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2362320" y="38862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572000" y="3809880"/>
              <a:ext cx="76320" cy="763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42" name=""/>
          <p:cNvGraphicFramePr/>
          <p:nvPr/>
        </p:nvGraphicFramePr>
        <p:xfrm>
          <a:off x="2743200" y="1981080"/>
          <a:ext cx="1523880" cy="66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981080"/>
                    <a:ext cx="152388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5c5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2362320" y="1981080"/>
            <a:ext cx="4572000" cy="3962520"/>
            <a:chOff x="2362320" y="1981080"/>
            <a:chExt cx="4572000" cy="3962520"/>
          </a:xfrm>
        </p:grpSpPr>
        <p:sp>
          <p:nvSpPr>
            <p:cNvPr id="647" name=""/>
            <p:cNvSpPr/>
            <p:nvPr/>
          </p:nvSpPr>
          <p:spPr>
            <a:xfrm>
              <a:off x="2362320" y="1981080"/>
              <a:ext cx="4572000" cy="3962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648320" y="20574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648320" y="29718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648320" y="41148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648320" y="51055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800600" y="38862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638680" y="38862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477120" y="3886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4190760" y="3886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2362320" y="38862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572000" y="3809880"/>
              <a:ext cx="76320" cy="763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58" name=""/>
          <p:cNvGraphicFramePr/>
          <p:nvPr/>
        </p:nvGraphicFramePr>
        <p:xfrm>
          <a:off x="2438280" y="1981080"/>
          <a:ext cx="1809720" cy="131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81080"/>
                    <a:ext cx="1809720" cy="13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5c5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2362320" y="1981080"/>
            <a:ext cx="4572000" cy="3962520"/>
            <a:chOff x="2362320" y="1981080"/>
            <a:chExt cx="4572000" cy="3962520"/>
          </a:xfrm>
        </p:grpSpPr>
        <p:sp>
          <p:nvSpPr>
            <p:cNvPr id="663" name=""/>
            <p:cNvSpPr/>
            <p:nvPr/>
          </p:nvSpPr>
          <p:spPr>
            <a:xfrm>
              <a:off x="2362320" y="1981080"/>
              <a:ext cx="4572000" cy="3962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648320" y="20574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648320" y="29718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648320" y="41148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648320" y="51055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800600" y="38862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38680" y="38862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477120" y="3886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4190760" y="3886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2362320" y="38862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572000" y="3809880"/>
              <a:ext cx="76320" cy="763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74" name=""/>
          <p:cNvGraphicFramePr/>
          <p:nvPr/>
        </p:nvGraphicFramePr>
        <p:xfrm>
          <a:off x="2438280" y="1981080"/>
          <a:ext cx="1838520" cy="19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81080"/>
                    <a:ext cx="183852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5c5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2362320" y="1981080"/>
            <a:ext cx="4572000" cy="3962520"/>
            <a:chOff x="2362320" y="1981080"/>
            <a:chExt cx="4572000" cy="3962520"/>
          </a:xfrm>
        </p:grpSpPr>
        <p:sp>
          <p:nvSpPr>
            <p:cNvPr id="679" name=""/>
            <p:cNvSpPr/>
            <p:nvPr/>
          </p:nvSpPr>
          <p:spPr>
            <a:xfrm>
              <a:off x="2362320" y="1981080"/>
              <a:ext cx="4572000" cy="3962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648320" y="20574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648320" y="29718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648320" y="41148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648320" y="51055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800600" y="38862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638680" y="38862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477120" y="3886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>
              <a:off x="4190760" y="3886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>
              <a:off x="2362320" y="38862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572000" y="3809880"/>
              <a:ext cx="76320" cy="763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90" name=""/>
          <p:cNvGraphicFramePr/>
          <p:nvPr/>
        </p:nvGraphicFramePr>
        <p:xfrm>
          <a:off x="2438280" y="1981080"/>
          <a:ext cx="1847880" cy="22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81080"/>
                    <a:ext cx="1847880" cy="22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5c5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2362320" y="1981080"/>
            <a:ext cx="4572000" cy="3962520"/>
            <a:chOff x="2362320" y="1981080"/>
            <a:chExt cx="4572000" cy="3962520"/>
          </a:xfrm>
        </p:grpSpPr>
        <p:sp>
          <p:nvSpPr>
            <p:cNvPr id="695" name=""/>
            <p:cNvSpPr/>
            <p:nvPr/>
          </p:nvSpPr>
          <p:spPr>
            <a:xfrm>
              <a:off x="2362320" y="1981080"/>
              <a:ext cx="4572000" cy="3962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648320" y="20574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648320" y="29718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648320" y="41148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648320" y="51055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800600" y="38862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638680" y="38862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477120" y="3886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>
              <a:off x="4190760" y="3886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H="1">
              <a:off x="2362320" y="38862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572000" y="3809880"/>
              <a:ext cx="76320" cy="763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06" name=""/>
          <p:cNvGraphicFramePr/>
          <p:nvPr/>
        </p:nvGraphicFramePr>
        <p:xfrm>
          <a:off x="2514600" y="2057400"/>
          <a:ext cx="2114640" cy="32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057400"/>
                    <a:ext cx="2114640" cy="32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5c5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2362320" y="1981080"/>
            <a:ext cx="4572000" cy="3962520"/>
            <a:chOff x="2362320" y="1981080"/>
            <a:chExt cx="4572000" cy="3962520"/>
          </a:xfrm>
        </p:grpSpPr>
        <p:sp>
          <p:nvSpPr>
            <p:cNvPr id="711" name=""/>
            <p:cNvSpPr/>
            <p:nvPr/>
          </p:nvSpPr>
          <p:spPr>
            <a:xfrm>
              <a:off x="2362320" y="1981080"/>
              <a:ext cx="4572000" cy="3962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648320" y="20574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648320" y="29718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648320" y="41148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648320" y="51055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800600" y="38862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638680" y="38862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477120" y="3886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4190760" y="3886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2362320" y="38862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572000" y="3809880"/>
              <a:ext cx="76320" cy="763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22" name=""/>
          <p:cNvGraphicFramePr/>
          <p:nvPr/>
        </p:nvGraphicFramePr>
        <p:xfrm>
          <a:off x="2438280" y="1981080"/>
          <a:ext cx="2133720" cy="387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81080"/>
                    <a:ext cx="2133720" cy="38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5c5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2362320" y="1981080"/>
            <a:ext cx="4572000" cy="3962520"/>
            <a:chOff x="2362320" y="1981080"/>
            <a:chExt cx="4572000" cy="3962520"/>
          </a:xfrm>
        </p:grpSpPr>
        <p:sp>
          <p:nvSpPr>
            <p:cNvPr id="727" name=""/>
            <p:cNvSpPr/>
            <p:nvPr/>
          </p:nvSpPr>
          <p:spPr>
            <a:xfrm>
              <a:off x="2362320" y="1981080"/>
              <a:ext cx="4572000" cy="3962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648320" y="20574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648320" y="29718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648320" y="41148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648320" y="51055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800600" y="38862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638680" y="38862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477120" y="3886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>
              <a:off x="4190760" y="3886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>
              <a:off x="2362320" y="38862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572000" y="3809880"/>
              <a:ext cx="76320" cy="763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38" name=""/>
          <p:cNvGraphicFramePr/>
          <p:nvPr/>
        </p:nvGraphicFramePr>
        <p:xfrm>
          <a:off x="2362320" y="1981080"/>
          <a:ext cx="224784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981080"/>
                    <a:ext cx="224784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0" name=""/>
          <p:cNvGraphicFramePr/>
          <p:nvPr/>
        </p:nvGraphicFramePr>
        <p:xfrm>
          <a:off x="2362320" y="1981080"/>
          <a:ext cx="2247840" cy="388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1981080"/>
                    <a:ext cx="224784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2" name=""/>
          <p:cNvGraphicFramePr/>
          <p:nvPr/>
        </p:nvGraphicFramePr>
        <p:xfrm>
          <a:off x="3352680" y="685800"/>
          <a:ext cx="2248200" cy="3886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4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52680" y="685800"/>
                    <a:ext cx="2248200" cy="3886200"/>
                  </a:xfrm>
                  <a:prstGeom prst="rect">
                    <a:avLst/>
                  </a:prstGeom>
                  <a:ln w="76320">
                    <a:solidFill>
                      <a:srgbClr val="ff0000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744" name=""/>
          <p:cNvGraphicFramePr/>
          <p:nvPr/>
        </p:nvGraphicFramePr>
        <p:xfrm>
          <a:off x="3352680" y="685800"/>
          <a:ext cx="2248200" cy="3886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4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52680" y="685800"/>
                    <a:ext cx="2248200" cy="3886200"/>
                  </a:xfrm>
                  <a:prstGeom prst="rect">
                    <a:avLst/>
                  </a:prstGeom>
                  <a:ln w="76320">
                    <a:solidFill>
                      <a:srgbClr val="ffff00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5c5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2362320" y="1981080"/>
            <a:ext cx="4572000" cy="3962520"/>
            <a:chOff x="2362320" y="1981080"/>
            <a:chExt cx="4572000" cy="3962520"/>
          </a:xfrm>
        </p:grpSpPr>
        <p:sp>
          <p:nvSpPr>
            <p:cNvPr id="749" name=""/>
            <p:cNvSpPr/>
            <p:nvPr/>
          </p:nvSpPr>
          <p:spPr>
            <a:xfrm>
              <a:off x="2362320" y="1981080"/>
              <a:ext cx="4572000" cy="3962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648320" y="20574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648320" y="29718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648320" y="41148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648320" y="51055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800600" y="38862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638680" y="38862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477120" y="3886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>
              <a:off x="4190760" y="3886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2362320" y="38862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572000" y="3809880"/>
              <a:ext cx="76320" cy="763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60" name=""/>
          <p:cNvGraphicFramePr/>
          <p:nvPr/>
        </p:nvGraphicFramePr>
        <p:xfrm>
          <a:off x="2362320" y="1981080"/>
          <a:ext cx="2276280" cy="390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981080"/>
                    <a:ext cx="2276280" cy="390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5c5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3276720"/>
            <a:ext cx="990720" cy="990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962520" y="1523880"/>
            <a:ext cx="6188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8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4" name=""/>
          <p:cNvSpPr/>
          <p:nvPr/>
        </p:nvSpPr>
        <p:spPr>
          <a:xfrm>
            <a:off x="3352680" y="3276720"/>
            <a:ext cx="990720" cy="990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19720" y="3276720"/>
            <a:ext cx="990360" cy="990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638680" y="3276720"/>
            <a:ext cx="990720" cy="990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4419720"/>
            <a:ext cx="990720" cy="990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429000" y="4419720"/>
            <a:ext cx="990720" cy="990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95680" y="4419720"/>
            <a:ext cx="990720" cy="990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638680" y="4419720"/>
            <a:ext cx="990720" cy="990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5c5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2362320" y="1981080"/>
            <a:ext cx="4572000" cy="3962520"/>
            <a:chOff x="2362320" y="1981080"/>
            <a:chExt cx="4572000" cy="3962520"/>
          </a:xfrm>
        </p:grpSpPr>
        <p:sp>
          <p:nvSpPr>
            <p:cNvPr id="765" name=""/>
            <p:cNvSpPr/>
            <p:nvPr/>
          </p:nvSpPr>
          <p:spPr>
            <a:xfrm>
              <a:off x="2362320" y="1981080"/>
              <a:ext cx="4572000" cy="3962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648320" y="20574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648320" y="29718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648320" y="41148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648320" y="51055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800600" y="38862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638680" y="38862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477120" y="3886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>
              <a:off x="4190760" y="3886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2362320" y="38862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572000" y="3809880"/>
              <a:ext cx="76320" cy="763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76" name=""/>
          <p:cNvGraphicFramePr/>
          <p:nvPr/>
        </p:nvGraphicFramePr>
        <p:xfrm>
          <a:off x="2362320" y="2057400"/>
          <a:ext cx="2257200" cy="389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057400"/>
                    <a:ext cx="2257200" cy="38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5c5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2362320" y="1981080"/>
            <a:ext cx="4572000" cy="3962520"/>
            <a:chOff x="2362320" y="1981080"/>
            <a:chExt cx="4572000" cy="3962520"/>
          </a:xfrm>
        </p:grpSpPr>
        <p:sp>
          <p:nvSpPr>
            <p:cNvPr id="781" name=""/>
            <p:cNvSpPr/>
            <p:nvPr/>
          </p:nvSpPr>
          <p:spPr>
            <a:xfrm>
              <a:off x="2362320" y="1981080"/>
              <a:ext cx="4572000" cy="3962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648320" y="20574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648320" y="29718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648320" y="41148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648320" y="51055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800600" y="38862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638680" y="38862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77120" y="3886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>
              <a:off x="4190760" y="3886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H="1">
              <a:off x="2362320" y="38862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3809880"/>
              <a:ext cx="76320" cy="763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92" name=""/>
          <p:cNvGraphicFramePr/>
          <p:nvPr/>
        </p:nvGraphicFramePr>
        <p:xfrm>
          <a:off x="2362320" y="2057400"/>
          <a:ext cx="2276280" cy="385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057400"/>
                    <a:ext cx="2276280" cy="38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4" name=""/>
          <p:cNvSpPr/>
          <p:nvPr/>
        </p:nvSpPr>
        <p:spPr>
          <a:xfrm rot="4728000">
            <a:off x="4076280" y="2628720"/>
            <a:ext cx="457200" cy="380880"/>
          </a:xfrm>
          <a:prstGeom prst="leftArrow">
            <a:avLst>
              <a:gd name="adj1" fmla="val 50000"/>
              <a:gd name="adj2" fmla="val 3000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rot="4728000">
            <a:off x="4076280" y="2628720"/>
            <a:ext cx="457200" cy="380880"/>
          </a:xfrm>
          <a:prstGeom prst="left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4728000">
            <a:off x="4076280" y="2628720"/>
            <a:ext cx="457200" cy="380880"/>
          </a:xfrm>
          <a:prstGeom prst="leftArrow">
            <a:avLst>
              <a:gd name="adj1" fmla="val 50000"/>
              <a:gd name="adj2" fmla="val 3000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rot="4728000">
            <a:off x="4076280" y="2628720"/>
            <a:ext cx="457200" cy="380880"/>
          </a:xfrm>
          <a:prstGeom prst="left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4728000">
            <a:off x="4076280" y="2628720"/>
            <a:ext cx="457200" cy="380880"/>
          </a:xfrm>
          <a:prstGeom prst="leftArrow">
            <a:avLst>
              <a:gd name="adj1" fmla="val 50000"/>
              <a:gd name="adj2" fmla="val 3000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rot="4728000">
            <a:off x="4076280" y="2628720"/>
            <a:ext cx="457200" cy="380880"/>
          </a:xfrm>
          <a:prstGeom prst="left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rot="4728000">
            <a:off x="4076280" y="2628720"/>
            <a:ext cx="457200" cy="380880"/>
          </a:xfrm>
          <a:prstGeom prst="leftArrow">
            <a:avLst>
              <a:gd name="adj1" fmla="val 50000"/>
              <a:gd name="adj2" fmla="val 3000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5c5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3" name=""/>
          <p:cNvGrpSpPr/>
          <p:nvPr/>
        </p:nvGrpSpPr>
        <p:grpSpPr>
          <a:xfrm>
            <a:off x="2362320" y="1981080"/>
            <a:ext cx="4572000" cy="3962520"/>
            <a:chOff x="2362320" y="1981080"/>
            <a:chExt cx="4572000" cy="3962520"/>
          </a:xfrm>
        </p:grpSpPr>
        <p:sp>
          <p:nvSpPr>
            <p:cNvPr id="804" name=""/>
            <p:cNvSpPr/>
            <p:nvPr/>
          </p:nvSpPr>
          <p:spPr>
            <a:xfrm>
              <a:off x="2362320" y="1981080"/>
              <a:ext cx="4572000" cy="3962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648320" y="20574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648320" y="29718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648320" y="41148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648320" y="51055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800600" y="38862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638680" y="38862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477120" y="3886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H="1">
              <a:off x="4190760" y="3886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2362320" y="38862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572000" y="3809880"/>
              <a:ext cx="76320" cy="763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15" name=""/>
          <p:cNvGraphicFramePr/>
          <p:nvPr/>
        </p:nvGraphicFramePr>
        <p:xfrm>
          <a:off x="2362320" y="2057400"/>
          <a:ext cx="2257200" cy="385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057400"/>
                    <a:ext cx="2257200" cy="38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5c5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"/>
          <p:cNvSpPr txBox="1"/>
          <p:nvPr/>
        </p:nvSpPr>
        <p:spPr>
          <a:xfrm>
            <a:off x="1752480" y="38088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8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18" name=""/>
          <p:cNvSpPr/>
          <p:nvPr/>
        </p:nvSpPr>
        <p:spPr>
          <a:xfrm flipH="1">
            <a:off x="990720" y="1295280"/>
            <a:ext cx="838080" cy="1067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133720" y="1295280"/>
            <a:ext cx="533160" cy="10670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533520" y="2438280"/>
            <a:ext cx="5331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4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21" name=""/>
          <p:cNvSpPr/>
          <p:nvPr/>
        </p:nvSpPr>
        <p:spPr>
          <a:xfrm>
            <a:off x="2286000" y="2362320"/>
            <a:ext cx="7621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>
            <a:off x="5486400" y="1295280"/>
            <a:ext cx="838080" cy="1067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629400" y="1295280"/>
            <a:ext cx="533520" cy="1067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5105520" y="2438280"/>
            <a:ext cx="5331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3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1523880" y="365760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8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26" name=""/>
          <p:cNvSpPr/>
          <p:nvPr/>
        </p:nvSpPr>
        <p:spPr>
          <a:xfrm flipH="1">
            <a:off x="762120" y="4572000"/>
            <a:ext cx="838080" cy="1066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905120" y="4572000"/>
            <a:ext cx="533160" cy="1066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2133720" y="5715000"/>
            <a:ext cx="5331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6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29" name=""/>
          <p:cNvSpPr/>
          <p:nvPr/>
        </p:nvSpPr>
        <p:spPr>
          <a:xfrm>
            <a:off x="457200" y="5638680"/>
            <a:ext cx="76212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095880" y="304920"/>
            <a:ext cx="7621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 txBox="1"/>
          <p:nvPr/>
        </p:nvSpPr>
        <p:spPr>
          <a:xfrm>
            <a:off x="6858000" y="2438280"/>
            <a:ext cx="5335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5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6248520" y="3733920"/>
            <a:ext cx="4572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8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33" name=""/>
          <p:cNvSpPr/>
          <p:nvPr/>
        </p:nvSpPr>
        <p:spPr>
          <a:xfrm flipH="1">
            <a:off x="5486400" y="4648320"/>
            <a:ext cx="838080" cy="1066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629400" y="4648320"/>
            <a:ext cx="533520" cy="1066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6858000" y="5791320"/>
            <a:ext cx="5335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7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36" name=""/>
          <p:cNvSpPr/>
          <p:nvPr/>
        </p:nvSpPr>
        <p:spPr>
          <a:xfrm>
            <a:off x="5181480" y="5715000"/>
            <a:ext cx="7621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 txBox="1"/>
          <p:nvPr/>
        </p:nvSpPr>
        <p:spPr>
          <a:xfrm>
            <a:off x="2362320" y="2362320"/>
            <a:ext cx="5331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4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6248520" y="38088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8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533520" y="5715000"/>
            <a:ext cx="5331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2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5334120" y="5791320"/>
            <a:ext cx="5331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1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5c5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3429000"/>
            <a:ext cx="990720" cy="9907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00200" y="3505320"/>
            <a:ext cx="990720" cy="990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90920" y="3505320"/>
            <a:ext cx="990360" cy="990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657600" y="3505320"/>
            <a:ext cx="990720" cy="990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24280" y="3505320"/>
            <a:ext cx="990720" cy="990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91320" y="3505320"/>
            <a:ext cx="990360" cy="990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0" y="3505320"/>
            <a:ext cx="990720" cy="990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924680" y="3505320"/>
            <a:ext cx="990720" cy="990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962520" y="1523880"/>
            <a:ext cx="6188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8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5c5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95480" y="2438280"/>
            <a:ext cx="990720" cy="9907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962520" y="914400"/>
            <a:ext cx="6188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8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5" name=""/>
          <p:cNvSpPr/>
          <p:nvPr/>
        </p:nvSpPr>
        <p:spPr>
          <a:xfrm>
            <a:off x="3962520" y="2438280"/>
            <a:ext cx="990360" cy="9907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9200" y="2438280"/>
            <a:ext cx="990720" cy="9907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95480" y="3581280"/>
            <a:ext cx="990720" cy="9907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038480" y="3581280"/>
            <a:ext cx="990720" cy="9907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105520" y="3657600"/>
            <a:ext cx="990360" cy="9907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95480" y="4724280"/>
            <a:ext cx="990720" cy="9907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38480" y="4724280"/>
            <a:ext cx="990720" cy="9907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5c5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38480" y="4800600"/>
            <a:ext cx="990720" cy="9907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962520" y="1143000"/>
            <a:ext cx="6188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8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6" name=""/>
          <p:cNvSpPr/>
          <p:nvPr/>
        </p:nvSpPr>
        <p:spPr>
          <a:xfrm>
            <a:off x="4952880" y="2895480"/>
            <a:ext cx="990720" cy="9907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3886200"/>
            <a:ext cx="990720" cy="9907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29000" y="3886200"/>
            <a:ext cx="990720" cy="9907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62520" y="2971800"/>
            <a:ext cx="990360" cy="9907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29200" y="4724280"/>
            <a:ext cx="990720" cy="9907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4800600"/>
            <a:ext cx="990360" cy="9907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71800" y="2971800"/>
            <a:ext cx="990720" cy="9907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43400" y="2590920"/>
            <a:ext cx="1676520" cy="1676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105520" y="4191120"/>
            <a:ext cx="1600200" cy="1676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952880" y="31240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宋体"/>
              </a:rPr>
              <a:t>分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638680" y="487692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宋体"/>
              </a:rPr>
              <a:t>写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9" name=""/>
          <p:cNvSpPr/>
          <p:nvPr/>
        </p:nvSpPr>
        <p:spPr>
          <a:xfrm>
            <a:off x="1676520" y="4267080"/>
            <a:ext cx="1676160" cy="1600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62320" y="2743200"/>
            <a:ext cx="1600200" cy="1600200"/>
          </a:xfrm>
          <a:prstGeom prst="ellipse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286000" y="47242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宋体"/>
              </a:rPr>
              <a:t>摆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819520" y="304812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宋体"/>
              </a:rPr>
              <a:t>拨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3" name=""/>
          <p:cNvSpPr/>
          <p:nvPr/>
        </p:nvSpPr>
        <p:spPr>
          <a:xfrm>
            <a:off x="3429000" y="1143000"/>
            <a:ext cx="1676520" cy="16765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114800" y="17524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主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5" name=""/>
          <p:cNvSpPr/>
          <p:nvPr/>
        </p:nvSpPr>
        <p:spPr>
          <a:xfrm>
            <a:off x="3429000" y="4191120"/>
            <a:ext cx="1600200" cy="167616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038480" y="4648320"/>
            <a:ext cx="3812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94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练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5c5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3732840"/>
            <a:ext cx="7010280" cy="360"/>
          </a:xfrm>
          <a:prstGeom prst="line">
            <a:avLst/>
          </a:prstGeom>
          <a:noFill/>
          <a:ln w="7632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019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62320" y="3200400"/>
            <a:ext cx="533160" cy="1066680"/>
          </a:xfrm>
          <a:prstGeom prst="ellipse">
            <a:avLst/>
          </a:prstGeom>
          <a:gradFill rotWithShape="0">
            <a:gsLst>
              <a:gs pos="0">
                <a:srgbClr val="350000"/>
              </a:gs>
              <a:gs pos="100000">
                <a:srgbClr val="cc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24080" y="3200400"/>
            <a:ext cx="533520" cy="1066680"/>
          </a:xfrm>
          <a:prstGeom prst="ellipse">
            <a:avLst/>
          </a:prstGeom>
          <a:gradFill rotWithShape="0">
            <a:gsLst>
              <a:gs pos="0">
                <a:srgbClr val="350000"/>
              </a:gs>
              <a:gs pos="100000">
                <a:srgbClr val="cc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76520" y="3200400"/>
            <a:ext cx="533160" cy="1066680"/>
          </a:xfrm>
          <a:prstGeom prst="ellipse">
            <a:avLst/>
          </a:prstGeom>
          <a:gradFill rotWithShape="0">
            <a:gsLst>
              <a:gs pos="0">
                <a:srgbClr val="350000"/>
              </a:gs>
              <a:gs pos="100000">
                <a:srgbClr val="cc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733920" y="3200400"/>
            <a:ext cx="533160" cy="1066680"/>
          </a:xfrm>
          <a:prstGeom prst="ellipse">
            <a:avLst/>
          </a:prstGeom>
          <a:gradFill rotWithShape="0">
            <a:gsLst>
              <a:gs pos="0">
                <a:srgbClr val="350000"/>
              </a:gs>
              <a:gs pos="100000">
                <a:srgbClr val="cc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19720" y="3200400"/>
            <a:ext cx="533160" cy="1066680"/>
          </a:xfrm>
          <a:prstGeom prst="ellipse">
            <a:avLst/>
          </a:prstGeom>
          <a:gradFill rotWithShape="0">
            <a:gsLst>
              <a:gs pos="0">
                <a:srgbClr val="350000"/>
              </a:gs>
              <a:gs pos="100000">
                <a:srgbClr val="cc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05520" y="3200400"/>
            <a:ext cx="533160" cy="1066680"/>
          </a:xfrm>
          <a:prstGeom prst="ellipse">
            <a:avLst/>
          </a:prstGeom>
          <a:gradFill rotWithShape="0">
            <a:gsLst>
              <a:gs pos="0">
                <a:srgbClr val="350000"/>
              </a:gs>
              <a:gs pos="100000">
                <a:srgbClr val="cc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3200400"/>
            <a:ext cx="533520" cy="1066680"/>
          </a:xfrm>
          <a:prstGeom prst="ellipse">
            <a:avLst/>
          </a:prstGeom>
          <a:gradFill rotWithShape="0">
            <a:gsLst>
              <a:gs pos="0">
                <a:srgbClr val="350000"/>
              </a:gs>
              <a:gs pos="100000">
                <a:srgbClr val="cc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0" y="3200400"/>
            <a:ext cx="533520" cy="1066680"/>
          </a:xfrm>
          <a:prstGeom prst="ellipse">
            <a:avLst/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0" y="5943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153280" y="3733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6172200"/>
            <a:ext cx="2819520" cy="457200"/>
          </a:xfrm>
          <a:prstGeom prst="rect">
            <a:avLst/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2133720"/>
            <a:ext cx="685800" cy="4343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1676520"/>
            <a:ext cx="731520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352680" y="4495680"/>
            <a:ext cx="13716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66cc"/>
                </a:solidFill>
                <a:latin typeface="宋体"/>
              </a:rPr>
              <a:t>7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solidFill>
                <a:srgbClr val="ff66cc"/>
              </a:solidFill>
              <a:latin typeface="宋体"/>
              <a:ea typeface="宋体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553080" y="4419720"/>
            <a:ext cx="129564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66cc"/>
                </a:solidFill>
                <a:latin typeface="宋体"/>
              </a:rPr>
              <a:t>8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solidFill>
                <a:srgbClr val="ff66cc"/>
              </a:solidFill>
              <a:latin typeface="宋体"/>
              <a:ea typeface="宋体"/>
            </a:endParaRPr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5c5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685800" y="4724280"/>
            <a:ext cx="533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1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362320" y="3505320"/>
            <a:ext cx="10666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2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5257800"/>
            <a:ext cx="1143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3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343400" y="3200400"/>
            <a:ext cx="10666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943600" y="4724280"/>
            <a:ext cx="8380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5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705720" y="3429000"/>
            <a:ext cx="685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693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6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7696080" y="4419720"/>
            <a:ext cx="9907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693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7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581280" y="533520"/>
            <a:ext cx="175284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8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2T05:55:34Z</dcterms:created>
  <dc:creator>YDJ</dc:creator>
  <dc:description/>
  <dc:language>en-US</dc:language>
  <cp:lastModifiedBy>ydj</cp:lastModifiedBy>
  <dcterms:modified xsi:type="dcterms:W3CDTF">1998-10-20T07:33:07Z</dcterms:modified>
  <cp:revision>31</cp:revision>
  <dc:subject/>
  <dc:title>制作人:胡定坤                                        盐道街小学</dc:title>
</cp:coreProperties>
</file>