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B39-3D4A-4AA4-98CC-28B2563D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2FA-DCE5-420D-83F1-041915BA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1D5-E1FF-4607-B7B8-CB180235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E46-CDFE-4723-8E26-8C0C1804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B63-EBFE-4F47-BD83-27928353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379-2611-4E21-837A-D3CF219E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924-2B4D-486F-BBBA-83E0824D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7CE-042A-4689-B682-816F9DC6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94D-02BF-4F2B-A1A4-318B9E81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4F8-33B5-4EA4-A80F-D5827B86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730-086B-42DA-9AE6-B08025F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1DD-638D-4D8D-93DD-B60A1C66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3167-6F23-472D-9E0E-041DCC7478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2952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905120"/>
            <a:ext cx="5335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295280" y="1905120"/>
            <a:ext cx="5335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3623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3716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12952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343400" y="182880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182880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286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22860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12952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858000" y="182880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1828800"/>
            <a:ext cx="60984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228600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24680" y="228600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290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294920" y="40384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0384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34340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42670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34290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267080" y="3962520"/>
            <a:ext cx="5335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962520"/>
            <a:ext cx="5335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4343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3434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34290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40384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162560" y="403848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43434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43434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3623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23623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9600" y="23623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34340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4419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4419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95280" y="1066680"/>
            <a:ext cx="63248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43828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57800" y="2666880"/>
            <a:ext cx="2286000" cy="990720"/>
            <a:chOff x="5257800" y="2666880"/>
            <a:chExt cx="2286000" cy="990720"/>
          </a:xfrm>
        </p:grpSpPr>
        <p:sp>
          <p:nvSpPr>
            <p:cNvPr id="242" name=""/>
            <p:cNvSpPr/>
            <p:nvPr/>
          </p:nvSpPr>
          <p:spPr>
            <a:xfrm>
              <a:off x="6629400" y="2743200"/>
              <a:ext cx="914400" cy="91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57800" y="2666880"/>
              <a:ext cx="914400" cy="91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41972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59436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47920" y="838080"/>
            <a:ext cx="55623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19051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3581280"/>
            <a:ext cx="55623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46483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205740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9907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9907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9907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9907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9907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1337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205740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838080"/>
            <a:ext cx="55623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4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4360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19051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3581280"/>
            <a:ext cx="55623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4360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46483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205740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990720"/>
            <a:ext cx="68580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66880" y="990720"/>
            <a:ext cx="68580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990720"/>
            <a:ext cx="68580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990720"/>
            <a:ext cx="68580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990720"/>
            <a:ext cx="68580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21337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205740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447920" y="838080"/>
            <a:ext cx="55623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28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838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19051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3581280"/>
            <a:ext cx="55623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46483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05740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600200" y="4800600"/>
            <a:ext cx="5181480" cy="761760"/>
            <a:chOff x="1600200" y="4800600"/>
            <a:chExt cx="5181480" cy="761760"/>
          </a:xfrm>
        </p:grpSpPr>
        <p:sp>
          <p:nvSpPr>
            <p:cNvPr id="312" name=""/>
            <p:cNvSpPr/>
            <p:nvPr/>
          </p:nvSpPr>
          <p:spPr>
            <a:xfrm>
              <a:off x="1600200" y="4800600"/>
              <a:ext cx="685800" cy="761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66880" y="4800600"/>
              <a:ext cx="685800" cy="761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33920" y="4800600"/>
              <a:ext cx="685800" cy="761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52880" y="4800600"/>
              <a:ext cx="685800" cy="761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5880" y="4800600"/>
              <a:ext cx="685800" cy="761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666880" y="21337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205740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72200" y="3733920"/>
            <a:ext cx="68580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7908840" y="63244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066680"/>
            <a:ext cx="63248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5280" y="243828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8148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3848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5780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86600" y="51055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5029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334120" y="2666880"/>
            <a:ext cx="2133360" cy="914400"/>
            <a:chOff x="5334120" y="2666880"/>
            <a:chExt cx="2133360" cy="914400"/>
          </a:xfrm>
        </p:grpSpPr>
        <p:sp>
          <p:nvSpPr>
            <p:cNvPr id="345" name=""/>
            <p:cNvSpPr/>
            <p:nvPr/>
          </p:nvSpPr>
          <p:spPr>
            <a:xfrm>
              <a:off x="6553080" y="2666880"/>
              <a:ext cx="914400" cy="91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34120" y="2666880"/>
              <a:ext cx="914400" cy="91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95280" y="1066680"/>
            <a:ext cx="63248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243828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0080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6688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3848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530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86600" y="51055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5029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1972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2408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5248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010280" y="0"/>
            <a:ext cx="2133360" cy="914400"/>
            <a:chOff x="7010280" y="0"/>
            <a:chExt cx="2133360" cy="914400"/>
          </a:xfrm>
        </p:grpSpPr>
        <p:sp>
          <p:nvSpPr>
            <p:cNvPr id="367" name=""/>
            <p:cNvSpPr/>
            <p:nvPr/>
          </p:nvSpPr>
          <p:spPr>
            <a:xfrm>
              <a:off x="8229240" y="0"/>
              <a:ext cx="914400" cy="91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10280" y="0"/>
              <a:ext cx="914400" cy="91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78487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523880" y="335268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95480" y="342900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106668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3880" y="228600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228600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106668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43800" y="198108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259092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121932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1680" y="259092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81680" y="1219320"/>
            <a:ext cx="914400" cy="790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76720" y="4876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6+5=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AN02097_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1095480" cy="1581120"/>
          </a:xfrm>
          <a:prstGeom prst="rect">
            <a:avLst/>
          </a:prstGeom>
          <a:ln w="0">
            <a:noFill/>
          </a:ln>
        </p:spPr>
      </p:pic>
      <p:pic>
        <p:nvPicPr>
          <p:cNvPr id="383" name="AN02097_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1095120" cy="1581120"/>
          </a:xfrm>
          <a:prstGeom prst="rect">
            <a:avLst/>
          </a:prstGeom>
          <a:ln w="0">
            <a:noFill/>
          </a:ln>
        </p:spPr>
      </p:pic>
      <p:pic>
        <p:nvPicPr>
          <p:cNvPr id="384" name="AN02097_" descr=""/>
          <p:cNvPicPr/>
          <p:nvPr/>
        </p:nvPicPr>
        <p:blipFill>
          <a:blip r:embed="rId3"/>
          <a:stretch/>
        </p:blipFill>
        <p:spPr>
          <a:xfrm>
            <a:off x="457200" y="2057400"/>
            <a:ext cx="1095480" cy="1581120"/>
          </a:xfrm>
          <a:prstGeom prst="rect">
            <a:avLst/>
          </a:prstGeom>
          <a:ln w="0">
            <a:noFill/>
          </a:ln>
        </p:spPr>
      </p:pic>
      <p:pic>
        <p:nvPicPr>
          <p:cNvPr id="385" name="AN02097_" descr=""/>
          <p:cNvPicPr/>
          <p:nvPr/>
        </p:nvPicPr>
        <p:blipFill>
          <a:blip r:embed="rId4"/>
          <a:stretch/>
        </p:blipFill>
        <p:spPr>
          <a:xfrm>
            <a:off x="1676520" y="380880"/>
            <a:ext cx="1095120" cy="1581120"/>
          </a:xfrm>
          <a:prstGeom prst="rect">
            <a:avLst/>
          </a:prstGeom>
          <a:ln w="0">
            <a:noFill/>
          </a:ln>
        </p:spPr>
      </p:pic>
      <p:pic>
        <p:nvPicPr>
          <p:cNvPr id="386" name="AN02097_" descr=""/>
          <p:cNvPicPr/>
          <p:nvPr/>
        </p:nvPicPr>
        <p:blipFill>
          <a:blip r:embed="rId5"/>
          <a:stretch/>
        </p:blipFill>
        <p:spPr>
          <a:xfrm>
            <a:off x="533520" y="380880"/>
            <a:ext cx="1095120" cy="1581120"/>
          </a:xfrm>
          <a:prstGeom prst="rect">
            <a:avLst/>
          </a:prstGeom>
          <a:ln w="0">
            <a:noFill/>
          </a:ln>
        </p:spPr>
      </p:pic>
      <p:pic>
        <p:nvPicPr>
          <p:cNvPr id="387" name="AN02097_" descr=""/>
          <p:cNvPicPr/>
          <p:nvPr/>
        </p:nvPicPr>
        <p:blipFill>
          <a:blip r:embed="rId6"/>
          <a:stretch/>
        </p:blipFill>
        <p:spPr>
          <a:xfrm>
            <a:off x="6629400" y="3886200"/>
            <a:ext cx="1095480" cy="1581120"/>
          </a:xfrm>
          <a:prstGeom prst="rect">
            <a:avLst/>
          </a:prstGeom>
          <a:ln w="0">
            <a:noFill/>
          </a:ln>
        </p:spPr>
      </p:pic>
      <p:pic>
        <p:nvPicPr>
          <p:cNvPr id="388" name="AN02097_" descr=""/>
          <p:cNvPicPr/>
          <p:nvPr/>
        </p:nvPicPr>
        <p:blipFill>
          <a:blip r:embed="rId7"/>
          <a:stretch/>
        </p:blipFill>
        <p:spPr>
          <a:xfrm>
            <a:off x="5181480" y="2286000"/>
            <a:ext cx="1095480" cy="1581120"/>
          </a:xfrm>
          <a:prstGeom prst="rect">
            <a:avLst/>
          </a:prstGeom>
          <a:ln w="0">
            <a:noFill/>
          </a:ln>
        </p:spPr>
      </p:pic>
      <p:pic>
        <p:nvPicPr>
          <p:cNvPr id="389" name="AN02097_" descr=""/>
          <p:cNvPicPr/>
          <p:nvPr/>
        </p:nvPicPr>
        <p:blipFill>
          <a:blip r:embed="rId8"/>
          <a:stretch/>
        </p:blipFill>
        <p:spPr>
          <a:xfrm>
            <a:off x="5181480" y="457200"/>
            <a:ext cx="1095480" cy="1581120"/>
          </a:xfrm>
          <a:prstGeom prst="rect">
            <a:avLst/>
          </a:prstGeom>
          <a:ln w="0">
            <a:noFill/>
          </a:ln>
        </p:spPr>
      </p:pic>
      <p:pic>
        <p:nvPicPr>
          <p:cNvPr id="390" name="AN02097_" descr=""/>
          <p:cNvPicPr/>
          <p:nvPr/>
        </p:nvPicPr>
        <p:blipFill>
          <a:blip r:embed="rId9"/>
          <a:stretch/>
        </p:blipFill>
        <p:spPr>
          <a:xfrm>
            <a:off x="6324480" y="2209680"/>
            <a:ext cx="1095480" cy="1581120"/>
          </a:xfrm>
          <a:prstGeom prst="rect">
            <a:avLst/>
          </a:prstGeom>
          <a:ln w="0">
            <a:noFill/>
          </a:ln>
        </p:spPr>
      </p:pic>
      <p:pic>
        <p:nvPicPr>
          <p:cNvPr id="391" name="AN02097_" descr=""/>
          <p:cNvPicPr/>
          <p:nvPr/>
        </p:nvPicPr>
        <p:blipFill>
          <a:blip r:embed="rId10"/>
          <a:stretch/>
        </p:blipFill>
        <p:spPr>
          <a:xfrm>
            <a:off x="6324480" y="380880"/>
            <a:ext cx="1095480" cy="1581120"/>
          </a:xfrm>
          <a:prstGeom prst="rect">
            <a:avLst/>
          </a:prstGeom>
          <a:ln w="0">
            <a:noFill/>
          </a:ln>
        </p:spPr>
      </p:pic>
      <p:pic>
        <p:nvPicPr>
          <p:cNvPr id="392" name="AN02097_" descr=""/>
          <p:cNvPicPr/>
          <p:nvPr/>
        </p:nvPicPr>
        <p:blipFill>
          <a:blip r:embed="rId11"/>
          <a:stretch/>
        </p:blipFill>
        <p:spPr>
          <a:xfrm>
            <a:off x="7391520" y="2133720"/>
            <a:ext cx="1095120" cy="1581120"/>
          </a:xfrm>
          <a:prstGeom prst="rect">
            <a:avLst/>
          </a:prstGeom>
          <a:ln w="0">
            <a:noFill/>
          </a:ln>
        </p:spPr>
      </p:pic>
      <p:pic>
        <p:nvPicPr>
          <p:cNvPr id="393" name="AN02097_" descr=""/>
          <p:cNvPicPr/>
          <p:nvPr/>
        </p:nvPicPr>
        <p:blipFill>
          <a:blip r:embed="rId12"/>
          <a:stretch/>
        </p:blipFill>
        <p:spPr>
          <a:xfrm>
            <a:off x="7391520" y="380880"/>
            <a:ext cx="1095120" cy="15811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895480" y="51055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5+7=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905120" y="220968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342900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42900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22096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91440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91440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3276720"/>
            <a:ext cx="990720" cy="9903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198108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8380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205740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3276720"/>
            <a:ext cx="990360" cy="9903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0120" y="205740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15200" y="838080"/>
            <a:ext cx="990720" cy="9907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43200" y="48769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6+7=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752480" y="12193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9+5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22096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+8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52480" y="31240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+6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52480" y="39625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+5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12193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2209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71800" y="3124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71800" y="3962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094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填（  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523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+(   )=10     8+(   )=10    7+(   )=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362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=10 – (   )     8=10 – (   )  7=10 – (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81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+(   )=10   5+(   )=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4956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=10 – (   )   5=10 – (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5238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43828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15238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23623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15238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2362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36576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4572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36576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45720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43000" y="129528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386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38680" y="12952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19320" y="3962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2819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2514600"/>
            <a:ext cx="685800" cy="396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029200" y="25146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733920" y="3446280"/>
            <a:ext cx="761760" cy="439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5029200" y="34290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13716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62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14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10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4792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1981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28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909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19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954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382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1932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2666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960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76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524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432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62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24480" y="5334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238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391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102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15200" y="1447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86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096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525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718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91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7057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43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523880" y="4191120"/>
            <a:ext cx="533520" cy="609480"/>
            <a:chOff x="1523880" y="4191120"/>
            <a:chExt cx="533520" cy="609480"/>
          </a:xfrm>
        </p:grpSpPr>
        <p:sp>
          <p:nvSpPr>
            <p:cNvPr id="489" name=""/>
            <p:cNvSpPr/>
            <p:nvPr/>
          </p:nvSpPr>
          <p:spPr>
            <a:xfrm>
              <a:off x="17524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238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0512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02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590920" y="4191120"/>
            <a:ext cx="685800" cy="761760"/>
            <a:chOff x="2590920" y="4191120"/>
            <a:chExt cx="685800" cy="761760"/>
          </a:xfrm>
        </p:grpSpPr>
        <p:sp>
          <p:nvSpPr>
            <p:cNvPr id="494" name=""/>
            <p:cNvSpPr/>
            <p:nvPr/>
          </p:nvSpPr>
          <p:spPr>
            <a:xfrm>
              <a:off x="27432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481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240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1952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909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18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666880" y="4191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7180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172200" y="4572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086600" y="4191120"/>
            <a:ext cx="685800" cy="838080"/>
            <a:chOff x="7086600" y="4191120"/>
            <a:chExt cx="685800" cy="838080"/>
          </a:xfrm>
        </p:grpSpPr>
        <p:sp>
          <p:nvSpPr>
            <p:cNvPr id="504" name=""/>
            <p:cNvSpPr/>
            <p:nvPr/>
          </p:nvSpPr>
          <p:spPr>
            <a:xfrm>
              <a:off x="7315200" y="4876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9152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6292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2012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152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866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54380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1520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86600" y="43434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6748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38880" y="4191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7913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816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960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6095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60958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10080" y="609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60958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19920" y="6095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00800" y="6095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34320" y="6095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143000" y="129528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386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638680" y="12952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9320" y="3962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43400" y="2819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33920" y="2514600"/>
            <a:ext cx="685800" cy="396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5029200" y="25146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733920" y="3446280"/>
            <a:ext cx="761760" cy="439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5029200" y="34290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13716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62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34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91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71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10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44792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71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1981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28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909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19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954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95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95280" y="2666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096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932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960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9132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524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432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248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162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24480" y="5334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152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91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0102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15200" y="1447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086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5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24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952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096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24080" y="525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95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718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791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43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523880" y="4191120"/>
            <a:ext cx="533520" cy="609480"/>
            <a:chOff x="1523880" y="4191120"/>
            <a:chExt cx="533520" cy="609480"/>
          </a:xfrm>
        </p:grpSpPr>
        <p:sp>
          <p:nvSpPr>
            <p:cNvPr id="597" name=""/>
            <p:cNvSpPr/>
            <p:nvPr/>
          </p:nvSpPr>
          <p:spPr>
            <a:xfrm>
              <a:off x="17524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238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90512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002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590920" y="4191120"/>
            <a:ext cx="685800" cy="761760"/>
            <a:chOff x="2590920" y="4191120"/>
            <a:chExt cx="685800" cy="761760"/>
          </a:xfrm>
        </p:grpSpPr>
        <p:sp>
          <p:nvSpPr>
            <p:cNvPr id="602" name=""/>
            <p:cNvSpPr/>
            <p:nvPr/>
          </p:nvSpPr>
          <p:spPr>
            <a:xfrm>
              <a:off x="27432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481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240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1952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909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718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66880" y="4191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180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943600" y="4191120"/>
            <a:ext cx="685800" cy="761760"/>
            <a:chOff x="5943600" y="4191120"/>
            <a:chExt cx="685800" cy="761760"/>
          </a:xfrm>
        </p:grpSpPr>
        <p:sp>
          <p:nvSpPr>
            <p:cNvPr id="611" name=""/>
            <p:cNvSpPr/>
            <p:nvPr/>
          </p:nvSpPr>
          <p:spPr>
            <a:xfrm>
              <a:off x="624852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1992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436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008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722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4360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7220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4267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852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00800" y="4267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7315200" y="4572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91320" y="5334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960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1028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143000" y="129528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638680" y="12952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219320" y="3962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43400" y="2819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733920" y="2514600"/>
            <a:ext cx="685800" cy="396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5029200" y="25146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733920" y="3446280"/>
            <a:ext cx="761760" cy="439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5029200" y="34290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95280" y="13716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62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91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14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71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010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1981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828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909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19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954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668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4382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295280" y="2666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240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096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960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7816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9132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76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32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248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162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24480" y="5334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52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238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0102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15200" y="1447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086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5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24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952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096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525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95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337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18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91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057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543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523880" y="4191120"/>
            <a:ext cx="533520" cy="609480"/>
            <a:chOff x="1523880" y="4191120"/>
            <a:chExt cx="533520" cy="609480"/>
          </a:xfrm>
        </p:grpSpPr>
        <p:sp>
          <p:nvSpPr>
            <p:cNvPr id="699" name=""/>
            <p:cNvSpPr/>
            <p:nvPr/>
          </p:nvSpPr>
          <p:spPr>
            <a:xfrm>
              <a:off x="17524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238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0512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002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2590920" y="4191120"/>
            <a:ext cx="685800" cy="761760"/>
            <a:chOff x="2590920" y="4191120"/>
            <a:chExt cx="685800" cy="761760"/>
          </a:xfrm>
        </p:grpSpPr>
        <p:sp>
          <p:nvSpPr>
            <p:cNvPr id="704" name=""/>
            <p:cNvSpPr/>
            <p:nvPr/>
          </p:nvSpPr>
          <p:spPr>
            <a:xfrm>
              <a:off x="27432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81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240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81952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909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718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66880" y="4191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7180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7086600" y="4191120"/>
            <a:ext cx="685800" cy="761760"/>
            <a:chOff x="7086600" y="4191120"/>
            <a:chExt cx="685800" cy="761760"/>
          </a:xfrm>
        </p:grpSpPr>
        <p:sp>
          <p:nvSpPr>
            <p:cNvPr id="713" name=""/>
            <p:cNvSpPr/>
            <p:nvPr/>
          </p:nvSpPr>
          <p:spPr>
            <a:xfrm>
              <a:off x="739152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674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3152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388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8660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520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8660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6748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62920" y="4267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019920" y="4343400"/>
            <a:ext cx="457200" cy="457200"/>
            <a:chOff x="6019920" y="4343400"/>
            <a:chExt cx="457200" cy="457200"/>
          </a:xfrm>
        </p:grpSpPr>
        <p:sp>
          <p:nvSpPr>
            <p:cNvPr id="724" name=""/>
            <p:cNvSpPr/>
            <p:nvPr/>
          </p:nvSpPr>
          <p:spPr>
            <a:xfrm>
              <a:off x="63244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19920" y="43434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867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8168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6960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23888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143000" y="129528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38680" y="12952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3962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43400" y="2819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33920" y="2514600"/>
            <a:ext cx="685800" cy="396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5029200" y="25146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3733920" y="3446280"/>
            <a:ext cx="761760" cy="439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5029200" y="34290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95280" y="13716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62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34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791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14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371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67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4792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371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523880" y="1981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909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819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8954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6668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4382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95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9092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21932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95280" y="2666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240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21932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960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7816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9132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6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7432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48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62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324480" y="5334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3152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391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102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315200" y="1447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86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95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324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952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2096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24080" y="525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95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1337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9718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91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057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523880" y="4191120"/>
            <a:ext cx="533520" cy="609480"/>
            <a:chOff x="1523880" y="4191120"/>
            <a:chExt cx="533520" cy="609480"/>
          </a:xfrm>
        </p:grpSpPr>
        <p:sp>
          <p:nvSpPr>
            <p:cNvPr id="802" name=""/>
            <p:cNvSpPr/>
            <p:nvPr/>
          </p:nvSpPr>
          <p:spPr>
            <a:xfrm>
              <a:off x="17524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238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90512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002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590920" y="4191120"/>
            <a:ext cx="685800" cy="761760"/>
            <a:chOff x="2590920" y="4191120"/>
            <a:chExt cx="685800" cy="761760"/>
          </a:xfrm>
        </p:grpSpPr>
        <p:sp>
          <p:nvSpPr>
            <p:cNvPr id="807" name=""/>
            <p:cNvSpPr/>
            <p:nvPr/>
          </p:nvSpPr>
          <p:spPr>
            <a:xfrm>
              <a:off x="27432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0481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240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1952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5909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9718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66880" y="4191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7315200" y="4267080"/>
            <a:ext cx="228600" cy="533520"/>
            <a:chOff x="7315200" y="4267080"/>
            <a:chExt cx="228600" cy="533520"/>
          </a:xfrm>
        </p:grpSpPr>
        <p:sp>
          <p:nvSpPr>
            <p:cNvPr id="816" name=""/>
            <p:cNvSpPr/>
            <p:nvPr/>
          </p:nvSpPr>
          <p:spPr>
            <a:xfrm>
              <a:off x="739152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15200" y="4267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5943600" y="4191120"/>
            <a:ext cx="685800" cy="761760"/>
            <a:chOff x="5943600" y="4191120"/>
            <a:chExt cx="685800" cy="761760"/>
          </a:xfrm>
        </p:grpSpPr>
        <p:sp>
          <p:nvSpPr>
            <p:cNvPr id="819" name=""/>
            <p:cNvSpPr/>
            <p:nvPr/>
          </p:nvSpPr>
          <p:spPr>
            <a:xfrm>
              <a:off x="624852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0080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1992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485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436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4771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48520" y="43434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800" y="4267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19920" y="43434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1722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791320" y="5334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7816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960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86600" y="6019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1143000" y="129528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386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638680" y="12952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19320" y="3962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343400" y="2819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733920" y="2514600"/>
            <a:ext cx="685800" cy="396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5029200" y="25146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733920" y="3446280"/>
            <a:ext cx="761760" cy="439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029200" y="34290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295280" y="13716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62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34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91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14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71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867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44792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371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23880" y="1981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28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5909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19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954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6668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4382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95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59092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1932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2666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240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2096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1932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6960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816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676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24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7432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248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162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24480" y="5334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3152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238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391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0102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315200" y="1447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086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095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324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952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2096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24080" y="525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295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1337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9718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91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7057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543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523880" y="4191120"/>
            <a:ext cx="533520" cy="609480"/>
            <a:chOff x="1523880" y="4191120"/>
            <a:chExt cx="533520" cy="609480"/>
          </a:xfrm>
        </p:grpSpPr>
        <p:sp>
          <p:nvSpPr>
            <p:cNvPr id="905" name=""/>
            <p:cNvSpPr/>
            <p:nvPr/>
          </p:nvSpPr>
          <p:spPr>
            <a:xfrm>
              <a:off x="17524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238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90512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002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2590920" y="4191120"/>
            <a:ext cx="685800" cy="761760"/>
            <a:chOff x="2590920" y="4191120"/>
            <a:chExt cx="685800" cy="761760"/>
          </a:xfrm>
        </p:grpSpPr>
        <p:sp>
          <p:nvSpPr>
            <p:cNvPr id="910" name=""/>
            <p:cNvSpPr/>
            <p:nvPr/>
          </p:nvSpPr>
          <p:spPr>
            <a:xfrm>
              <a:off x="27432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481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240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1952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5909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718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66880" y="4191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7180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943600" y="4267080"/>
            <a:ext cx="685800" cy="762120"/>
            <a:chOff x="5943600" y="4267080"/>
            <a:chExt cx="685800" cy="762120"/>
          </a:xfrm>
        </p:grpSpPr>
        <p:sp>
          <p:nvSpPr>
            <p:cNvPr id="919" name=""/>
            <p:cNvSpPr/>
            <p:nvPr/>
          </p:nvSpPr>
          <p:spPr>
            <a:xfrm>
              <a:off x="6172200" y="4876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0080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1722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4360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4771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17220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94360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2448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9588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7162920" y="4267080"/>
            <a:ext cx="457200" cy="533520"/>
            <a:chOff x="7162920" y="4267080"/>
            <a:chExt cx="457200" cy="533520"/>
          </a:xfrm>
        </p:grpSpPr>
        <p:sp>
          <p:nvSpPr>
            <p:cNvPr id="929" name=""/>
            <p:cNvSpPr/>
            <p:nvPr/>
          </p:nvSpPr>
          <p:spPr>
            <a:xfrm>
              <a:off x="7391520" y="4267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674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629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5867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7816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6960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624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1143000" y="129528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6386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638680" y="12952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219320" y="3962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43400" y="2819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33920" y="2514600"/>
            <a:ext cx="685800" cy="396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029200" y="25146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733920" y="3446280"/>
            <a:ext cx="761760" cy="439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5029200" y="34290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295280" y="13716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362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934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91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14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371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010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867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4792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371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523880" y="1981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828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5909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819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8954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6668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4382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895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9092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1932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95280" y="2666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240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2096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1932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6960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7816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132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676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7524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7432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248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162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324480" y="5334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152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238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91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315200" y="1447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86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5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324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2952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2096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124080" y="525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295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37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9718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791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543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523880" y="4191120"/>
            <a:ext cx="533520" cy="609480"/>
            <a:chOff x="1523880" y="4191120"/>
            <a:chExt cx="533520" cy="609480"/>
          </a:xfrm>
        </p:grpSpPr>
        <p:sp>
          <p:nvSpPr>
            <p:cNvPr id="1008" name=""/>
            <p:cNvSpPr/>
            <p:nvPr/>
          </p:nvSpPr>
          <p:spPr>
            <a:xfrm>
              <a:off x="17524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5238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0512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6002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2590920" y="4191120"/>
            <a:ext cx="685800" cy="761760"/>
            <a:chOff x="2590920" y="4191120"/>
            <a:chExt cx="685800" cy="761760"/>
          </a:xfrm>
        </p:grpSpPr>
        <p:sp>
          <p:nvSpPr>
            <p:cNvPr id="1013" name=""/>
            <p:cNvSpPr/>
            <p:nvPr/>
          </p:nvSpPr>
          <p:spPr>
            <a:xfrm>
              <a:off x="27432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0481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1240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1952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909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718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666880" y="4191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7180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162920" y="4267080"/>
            <a:ext cx="457200" cy="533520"/>
            <a:chOff x="7162920" y="4267080"/>
            <a:chExt cx="457200" cy="533520"/>
          </a:xfrm>
        </p:grpSpPr>
        <p:sp>
          <p:nvSpPr>
            <p:cNvPr id="1022" name=""/>
            <p:cNvSpPr/>
            <p:nvPr/>
          </p:nvSpPr>
          <p:spPr>
            <a:xfrm>
              <a:off x="739152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629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4674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3888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943600" y="4191120"/>
            <a:ext cx="685800" cy="685800"/>
            <a:chOff x="5943600" y="4191120"/>
            <a:chExt cx="685800" cy="685800"/>
          </a:xfrm>
        </p:grpSpPr>
        <p:sp>
          <p:nvSpPr>
            <p:cNvPr id="1027" name=""/>
            <p:cNvSpPr/>
            <p:nvPr/>
          </p:nvSpPr>
          <p:spPr>
            <a:xfrm>
              <a:off x="617220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40080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199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47712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485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43600" y="43434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1722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2448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57913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7816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6960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78168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143000" y="129528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6386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638680" y="12952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19320" y="3962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343400" y="2819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733920" y="2514600"/>
            <a:ext cx="685800" cy="396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5029200" y="25146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733920" y="3446280"/>
            <a:ext cx="761760" cy="439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5029200" y="34290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5280" y="13716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362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934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791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514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71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10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867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44792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71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523880" y="1981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828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909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819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954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6668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382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95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59092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21932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295280" y="2666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1240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2096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1932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960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7816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79132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7524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432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248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162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324480" y="5334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3152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391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0102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315200" y="1447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086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095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324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2952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096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124080" y="525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95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337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9718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791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7057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543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523880" y="4191120"/>
            <a:ext cx="533520" cy="609480"/>
            <a:chOff x="1523880" y="4191120"/>
            <a:chExt cx="533520" cy="609480"/>
          </a:xfrm>
        </p:grpSpPr>
        <p:sp>
          <p:nvSpPr>
            <p:cNvPr id="1111" name=""/>
            <p:cNvSpPr/>
            <p:nvPr/>
          </p:nvSpPr>
          <p:spPr>
            <a:xfrm>
              <a:off x="17524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5238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90512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6002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2590920" y="4191120"/>
            <a:ext cx="685800" cy="761760"/>
            <a:chOff x="2590920" y="4191120"/>
            <a:chExt cx="685800" cy="761760"/>
          </a:xfrm>
        </p:grpSpPr>
        <p:sp>
          <p:nvSpPr>
            <p:cNvPr id="1116" name=""/>
            <p:cNvSpPr/>
            <p:nvPr/>
          </p:nvSpPr>
          <p:spPr>
            <a:xfrm>
              <a:off x="27432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0481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81952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5909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9718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666880" y="4191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97180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7162920" y="4343400"/>
            <a:ext cx="533160" cy="533520"/>
            <a:chOff x="7162920" y="4343400"/>
            <a:chExt cx="533160" cy="533520"/>
          </a:xfrm>
        </p:grpSpPr>
        <p:sp>
          <p:nvSpPr>
            <p:cNvPr id="1125" name=""/>
            <p:cNvSpPr/>
            <p:nvPr/>
          </p:nvSpPr>
          <p:spPr>
            <a:xfrm>
              <a:off x="716292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9152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438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6292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91520" y="43434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943600" y="4267080"/>
            <a:ext cx="609480" cy="685800"/>
            <a:chOff x="5943600" y="4267080"/>
            <a:chExt cx="609480" cy="685800"/>
          </a:xfrm>
        </p:grpSpPr>
        <p:sp>
          <p:nvSpPr>
            <p:cNvPr id="1131" name=""/>
            <p:cNvSpPr/>
            <p:nvPr/>
          </p:nvSpPr>
          <p:spPr>
            <a:xfrm>
              <a:off x="601992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722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40080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4360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9588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32448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57913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81680" y="5334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69608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81680" y="624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1143000" y="129528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6386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638680" y="12952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219320" y="3962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343400" y="2819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733920" y="2514600"/>
            <a:ext cx="685800" cy="396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5029200" y="25146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3733920" y="3446280"/>
            <a:ext cx="761760" cy="4395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029200" y="3429000"/>
            <a:ext cx="533520" cy="5335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295280" y="13716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362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934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791320" y="137160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14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1600" y="4038480"/>
            <a:ext cx="838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10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867280" y="4114800"/>
            <a:ext cx="838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44792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71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523880" y="1981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828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909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819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8954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6668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438280" y="1828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95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9092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1932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295280" y="2666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543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629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715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1240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20968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219320" y="52578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6960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78168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791320" y="5334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76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90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7524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7432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2485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1629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324480" y="5334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3152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238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391520" y="2057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54380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010280" y="1752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315200" y="1447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086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58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324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943600" y="1523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2952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096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124080" y="525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295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37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9718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791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7057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543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1523880" y="4191120"/>
            <a:ext cx="533520" cy="609480"/>
            <a:chOff x="1523880" y="4191120"/>
            <a:chExt cx="533520" cy="609480"/>
          </a:xfrm>
        </p:grpSpPr>
        <p:sp>
          <p:nvSpPr>
            <p:cNvPr id="1214" name=""/>
            <p:cNvSpPr/>
            <p:nvPr/>
          </p:nvSpPr>
          <p:spPr>
            <a:xfrm>
              <a:off x="17524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523880" y="464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90512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002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2590920" y="4191120"/>
            <a:ext cx="685800" cy="761760"/>
            <a:chOff x="2590920" y="4191120"/>
            <a:chExt cx="685800" cy="761760"/>
          </a:xfrm>
        </p:grpSpPr>
        <p:sp>
          <p:nvSpPr>
            <p:cNvPr id="1219" name=""/>
            <p:cNvSpPr/>
            <p:nvPr/>
          </p:nvSpPr>
          <p:spPr>
            <a:xfrm>
              <a:off x="27432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04812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1240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81952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5909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71800" y="4191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666880" y="4191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71800" y="4800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7162920" y="4267080"/>
            <a:ext cx="533160" cy="609840"/>
            <a:chOff x="7162920" y="4267080"/>
            <a:chExt cx="533160" cy="609840"/>
          </a:xfrm>
        </p:grpSpPr>
        <p:sp>
          <p:nvSpPr>
            <p:cNvPr id="1228" name=""/>
            <p:cNvSpPr/>
            <p:nvPr/>
          </p:nvSpPr>
          <p:spPr>
            <a:xfrm>
              <a:off x="731520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4380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31520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4380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162920" y="43434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391520" y="4267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5943600" y="4267080"/>
            <a:ext cx="685800" cy="609840"/>
            <a:chOff x="5943600" y="4267080"/>
            <a:chExt cx="685800" cy="609840"/>
          </a:xfrm>
        </p:grpSpPr>
        <p:sp>
          <p:nvSpPr>
            <p:cNvPr id="1235" name=""/>
            <p:cNvSpPr/>
            <p:nvPr/>
          </p:nvSpPr>
          <p:spPr>
            <a:xfrm>
              <a:off x="6172200" y="4724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477120" y="44956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7220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43600" y="4419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32448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9588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57913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7816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9608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315200" y="6019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1219320"/>
          <a:ext cx="79250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792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5120" y="1523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590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59092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590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25909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1523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2590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2590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0292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5029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4876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4952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5120" y="1143000"/>
            <a:ext cx="7617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066680"/>
            <a:ext cx="7617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133720"/>
            <a:ext cx="76176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209680"/>
            <a:ext cx="7617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617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35268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35268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114300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74320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114300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274320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114300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48006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9+4=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486040" y="838080"/>
            <a:ext cx="1600200" cy="25909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09520" y="3429000"/>
            <a:ext cx="1676520" cy="9144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04920" y="4343400"/>
            <a:ext cx="350496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04920" y="609480"/>
            <a:ext cx="0" cy="37339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09480"/>
            <a:ext cx="678168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990720"/>
            <a:ext cx="762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152388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133720"/>
            <a:ext cx="762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20040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819520"/>
            <a:ext cx="762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335268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2209680"/>
            <a:ext cx="7617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990720"/>
            <a:ext cx="762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426708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35268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209680"/>
            <a:ext cx="7617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1066680"/>
            <a:ext cx="7617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3200400"/>
            <a:ext cx="7617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20968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106668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55627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8+7=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2819520"/>
            <a:ext cx="2209680" cy="1523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429000" y="609120"/>
            <a:ext cx="2362320" cy="22100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80520" y="609480"/>
            <a:ext cx="3048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609480"/>
            <a:ext cx="0" cy="38862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4495680"/>
            <a:ext cx="7467840" cy="9144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848360" y="4343400"/>
            <a:ext cx="152280" cy="10666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3880" y="29718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1219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2438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581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362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1430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809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25146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1219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3809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25146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12193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54100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7+6=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838080"/>
            <a:ext cx="0" cy="41911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4920" y="838080"/>
            <a:ext cx="640080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838080"/>
            <a:ext cx="0" cy="41148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952880"/>
            <a:ext cx="6400800" cy="763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8800" y="13716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2096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33526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3276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133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990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9907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22096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13716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518148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8+3=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1066680"/>
            <a:ext cx="3505320" cy="27432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56840" y="609480"/>
            <a:ext cx="4724280" cy="4572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609480"/>
            <a:ext cx="0" cy="39625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" y="3809520"/>
            <a:ext cx="8229600" cy="7621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1066680"/>
            <a:ext cx="63248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43828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6600" y="510552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502920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64008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64008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64771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95280" y="1066680"/>
            <a:ext cx="63248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243828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1066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2666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12952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715000" y="5029200"/>
            <a:ext cx="2286000" cy="990720"/>
            <a:chOff x="5715000" y="5029200"/>
            <a:chExt cx="2286000" cy="990720"/>
          </a:xfrm>
        </p:grpSpPr>
        <p:sp>
          <p:nvSpPr>
            <p:cNvPr id="222" name=""/>
            <p:cNvSpPr/>
            <p:nvPr/>
          </p:nvSpPr>
          <p:spPr>
            <a:xfrm>
              <a:off x="7086600" y="5105520"/>
              <a:ext cx="914400" cy="91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15000" y="5029200"/>
              <a:ext cx="914400" cy="91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41972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4952880"/>
            <a:ext cx="914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18:50:03Z</dcterms:created>
  <dc:creator>Xu Hong Ming</dc:creator>
  <dc:description/>
  <dc:language>en-US</dc:language>
  <cp:lastModifiedBy>Xu Hong Ming</cp:lastModifiedBy>
  <dcterms:modified xsi:type="dcterms:W3CDTF">2001-12-27T22:36:37Z</dcterms:modified>
  <cp:revision>55</cp:revision>
  <dc:subject/>
  <dc:title>PowerPoint 演示文稿</dc:title>
</cp:coreProperties>
</file>